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BB0-9D25-418B-96FE-6CCD351B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E2B-8576-4C33-9F83-93B84177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E73-988C-49FB-8089-529CFB5C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22A-9470-498C-BF13-C2642555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F064-1E6A-4E9E-8960-12045DC3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B8AA-EB0F-4D00-9DEB-C6AC8753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4B45-E679-4C0E-B78C-23A32987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5D19-EA2E-4E68-B7F3-D5DCBA27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8299-52C6-4D6E-BB3C-15FDE354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BF13-80A4-46B4-8FEC-783D5043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A05A-662D-4C1E-9A9B-3EA74B54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0B6-8D63-4BAD-A4DB-244DD49F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2C32-33EE-43C3-9AF8-90516C7F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3170-265C-4F2A-BCCB-0C82D730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348A-9F85-4675-BD50-7DB864A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61F3-A6B9-4386-A601-42F404DC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4E69-CE46-4E0F-B015-AC6BBD5A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C69-C527-4861-9049-A1F30E2D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E55-22DC-4356-BADF-C8E21B22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D82-0B01-4096-BFD9-7925F948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1C1-F00E-4EC8-9E7D-2C6F2CC4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E3D-A8DF-4D92-A58F-4A340632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FBE-7068-4C7F-B24C-C7A32F8C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DC8-36D2-410E-AB31-0ADF33EC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FFE4-0B83-43DE-ACA5-6EAE60025D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3F24-F54A-4212-AB7C-91214CBDB4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907920"/>
            <a:ext cx="8748720" cy="5445360"/>
          </a:xfrm>
          <a:prstGeom prst="rect">
            <a:avLst/>
          </a:prstGeom>
          <a:ln w="0">
            <a:noFill/>
          </a:ln>
        </p:spPr>
      </p:pic>
      <p:sp>
        <p:nvSpPr>
          <p:cNvPr id="90" name="Tytuł 1"/>
          <p:cNvSpPr/>
          <p:nvPr/>
        </p:nvSpPr>
        <p:spPr>
          <a:xfrm>
            <a:off x="75564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WODÓR (hydrogenium)</a:t>
            </a:r>
            <a:br>
              <a:rPr sz="4800"/>
            </a:br>
            <a:r>
              <a:rPr b="1" lang="pl-PL" sz="4800" spc="-1" strike="noStrike">
                <a:solidFill>
                  <a:srgbClr val="ffcc00"/>
                </a:solidFill>
                <a:latin typeface="Arial"/>
              </a:rPr>
              <a:t>najlżejszy z gazó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nokautimg1.pl/p-04-65-04656ff3a8c62865ef7313db3a0bbdfc500x500/tablica-uwaga-wodor.jpg"/>
          <p:cNvPicPr/>
          <p:nvPr/>
        </p:nvPicPr>
        <p:blipFill>
          <a:blip r:embed="rId2"/>
          <a:srcRect l="0" t="24191" r="0" b="24400"/>
          <a:stretch/>
        </p:blipFill>
        <p:spPr>
          <a:xfrm>
            <a:off x="1619280" y="2565360"/>
            <a:ext cx="59770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rostokąt 3"/>
          <p:cNvSpPr/>
          <p:nvPr/>
        </p:nvSpPr>
        <p:spPr>
          <a:xfrm>
            <a:off x="0" y="620640"/>
            <a:ext cx="91440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ja 1937r. na lotnisku marynarki wojennej USA -Lakehurst Field, w pobliżu Nowego Jorku, doszło do katastrofy największego na świecie, niemieckiego sterowc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„Hindenburg”. Wart 3 miliony 750 tys. $„statek przyszłości”, mieszczący 2 miliony m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rostokąt 4"/>
          <p:cNvSpPr/>
          <p:nvPr/>
        </p:nvSpPr>
        <p:spPr>
          <a:xfrm>
            <a:off x="254880" y="0"/>
            <a:ext cx="59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strożnie z wodorem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4.bp.blogspot.com/_S7cyAVhrW9U/TIDvfMdtWpI/AAAAAAAAAPs/n6bJfMJYMlE/s1600/170810top.jpg"/>
          <p:cNvPicPr/>
          <p:nvPr/>
        </p:nvPicPr>
        <p:blipFill>
          <a:blip r:embed="rId1"/>
          <a:srcRect l="8122" t="0" r="0" b="5516"/>
          <a:stretch/>
        </p:blipFill>
        <p:spPr>
          <a:xfrm>
            <a:off x="0" y="2671920"/>
            <a:ext cx="5724360" cy="418608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7"/>
          <p:cNvSpPr/>
          <p:nvPr/>
        </p:nvSpPr>
        <p:spPr>
          <a:xfrm>
            <a:off x="6084720" y="2276640"/>
            <a:ext cx="30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chodząc do lądowania, stanął w płomieniach. Była to najbardziej spektakularna katastrofa stulecia, która zamknęła erę sterowc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38836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www.astronomynow.com/news/n0908/26trifid/trifid.jpg"/>
          <p:cNvPicPr/>
          <p:nvPr/>
        </p:nvPicPr>
        <p:blipFill>
          <a:blip r:embed="rId1"/>
          <a:stretch/>
        </p:blipFill>
        <p:spPr>
          <a:xfrm>
            <a:off x="0" y="0"/>
            <a:ext cx="5364000" cy="690084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2"/>
          <p:cNvSpPr/>
          <p:nvPr/>
        </p:nvSpPr>
        <p:spPr>
          <a:xfrm>
            <a:off x="5435640" y="1773360"/>
            <a:ext cx="370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st najbardziej rozpowszechnionym pierwiastkiem we Wszechświec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omy wodoru stanowią 90% wszystkich atomów wszechświ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3"/>
          <p:cNvSpPr/>
          <p:nvPr/>
        </p:nvSpPr>
        <p:spPr>
          <a:xfrm>
            <a:off x="6230520" y="54936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odó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kąt 1"/>
          <p:cNvSpPr/>
          <p:nvPr/>
        </p:nvSpPr>
        <p:spPr>
          <a:xfrm>
            <a:off x="395280" y="1844640"/>
            <a:ext cx="87487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ór w skorupie ziemskiej stanow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4% masowe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stępuj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rodzie w stanie związanym, natomiast w stanie wolnym spotyka się go w małych ilościach w gazach wulkanicznych, a niekiedy i w gazie ziemnym. Ślady „wolnego” wodoru znajdują się też w pobliżu powierzchni Ziemi oraz w górnych warstwach atmosfery. Bardzo niewielkie ilości wodoru wydzielają się z niektórych gorących źróde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łówny źródłem wodoru jest woda i większość związków organiczn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 których skład wchodzą przede wszystkim węgiel i wodó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974880" y="765000"/>
            <a:ext cx="24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Na Ziem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2"/>
          <p:cNvSpPr/>
          <p:nvPr/>
        </p:nvSpPr>
        <p:spPr>
          <a:xfrm>
            <a:off x="395280" y="69228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ększych od 10 000 000 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, panujących w gwiazdach, zachodz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kcje termojądrow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W ich wyniku następuj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miana wodoru w he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a energia wydzielana w tych reakcjach jest głównym źródłem energii promienistej emitowanej przez Słoń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rostokąt 5"/>
          <p:cNvSpPr/>
          <p:nvPr/>
        </p:nvSpPr>
        <p:spPr>
          <a:xfrm>
            <a:off x="256320" y="0"/>
            <a:ext cx="42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alibri"/>
              </a:rPr>
              <a:t>W temperaturach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1"/>
          <p:cNvSpPr/>
          <p:nvPr/>
        </p:nvSpPr>
        <p:spPr>
          <a:xfrm>
            <a:off x="250920" y="907920"/>
            <a:ext cx="8893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warunkach normalnych jest gazem bezbarwn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wonnym i bez smak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łabo rozpuszczalnym w 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 o najmniejszej gęstości(14 razy mniejszej od gęstości powietrz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4"/>
          <p:cNvSpPr/>
          <p:nvPr/>
        </p:nvSpPr>
        <p:spPr>
          <a:xfrm>
            <a:off x="255600" y="0"/>
            <a:ext cx="745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fizy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19600" t="27219" r="17220" b="5704"/>
          <a:stretch/>
        </p:blipFill>
        <p:spPr>
          <a:xfrm>
            <a:off x="1116000" y="2546280"/>
            <a:ext cx="67690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rostokąt 1"/>
          <p:cNvSpPr/>
          <p:nvPr/>
        </p:nvSpPr>
        <p:spPr>
          <a:xfrm>
            <a:off x="395280" y="155736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won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niemetal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tlenem tworzy wod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azotem tworzy amo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chlorem chlorowodó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siarką siarkowodó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Łączy się z metalami tworząc wodor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rostokąt 2"/>
          <p:cNvSpPr/>
          <p:nvPr/>
        </p:nvSpPr>
        <p:spPr>
          <a:xfrm>
            <a:off x="474120" y="476280"/>
            <a:ext cx="80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łaściwości chemiczne wodor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2"/>
          <p:cNvSpPr/>
          <p:nvPr/>
        </p:nvSpPr>
        <p:spPr>
          <a:xfrm>
            <a:off x="1727280" y="981000"/>
            <a:ext cx="74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reakcji pomiędzy cynkiem Zn i kwasem solnym HC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3"/>
          <p:cNvSpPr/>
          <p:nvPr/>
        </p:nvSpPr>
        <p:spPr>
          <a:xfrm>
            <a:off x="3063960" y="260280"/>
            <a:ext cx="559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trzymywanie wod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rostokąt 2"/>
          <p:cNvSpPr/>
          <p:nvPr/>
        </p:nvSpPr>
        <p:spPr>
          <a:xfrm>
            <a:off x="574560" y="981000"/>
            <a:ext cx="8569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odoru z tlenem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lanie wodo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kcja wymaga zainicjowania i jest silnie egzotermiczna. Po ogrzaniu mieszaniny do temp. 180°C (tworzenie się pary wodnej) następuje z dostrzegalną szybkością, a w temperaturze wyższej niż 450°C reakcja przebiega wybuchow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uch jest szczególnie gwałtowny, jeżeli stosunek objętościowy wodoru do tlenu wynosi 2: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eszaninę taką nazywa się mieszaniną piorunującą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ybuch może być zapoczątkowany przez iskrę elektryczną lub zetknięcie z płomieniem. Czysty wodór (wypływający z palnika, temp. ok. 640°C) pali się niebieskim, słabo świecącym płomieni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3"/>
          <p:cNvSpPr/>
          <p:nvPr/>
        </p:nvSpPr>
        <p:spPr>
          <a:xfrm>
            <a:off x="254520" y="0"/>
            <a:ext cx="28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ekawostk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2:03:32Z</dcterms:created>
  <dc:creator>jkandyba</dc:creator>
  <dc:description/>
  <dc:language>en-US</dc:language>
  <cp:lastModifiedBy>Toshiba</cp:lastModifiedBy>
  <dcterms:modified xsi:type="dcterms:W3CDTF">2013-05-05T19:28:23Z</dcterms:modified>
  <cp:revision>34</cp:revision>
  <dc:subject/>
  <dc:title>Slajd 1</dc:title>
</cp:coreProperties>
</file>