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9E486-C0C2-4489-8C9D-A554136D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B5B87-ACF9-4C39-ABC2-4708DC68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9FF9A-934C-4F56-8198-007DAC9F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97AC2-DF90-43CB-B61B-692D59E6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1E122-8E2D-4413-AAD5-717D95B9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9A5F3-2BCD-4B3D-83EF-D5C3FD20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A3B9D-1EAA-4524-A439-F32E8A29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9B59E-2286-496E-B818-6A90AD6E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B1549-F43F-42B1-9B96-3E22F4B0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2C029-6B63-47CC-A99E-697E5E89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A971C-E247-479D-868A-887EF146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3D07B-D8A0-4A0F-9217-07113629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3D53-5545-4D44-AC57-3212B4A41355}" type="slidenum"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-1220760"/>
            <a:ext cx="8229600" cy="64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0" spc="-1" strike="noStrike" u="sng">
                <a:solidFill>
                  <a:srgbClr val="0066ff"/>
                </a:solidFill>
                <a:uFillTx/>
                <a:latin typeface="Times New Roman"/>
              </a:rPr>
              <a:t>BUDOWA </a:t>
            </a:r>
            <a:br>
              <a:rPr sz="14000"/>
            </a:br>
            <a:r>
              <a:rPr b="0" lang="pl-PL" sz="14000" spc="-1" strike="noStrike" u="sng">
                <a:solidFill>
                  <a:srgbClr val="0066ff"/>
                </a:solidFill>
                <a:uFillTx/>
                <a:latin typeface="Times New Roman"/>
              </a:rPr>
              <a:t>ATOMU</a:t>
            </a:r>
            <a:endParaRPr b="0" lang="en-US" sz="1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6095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wykonała: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mgr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Agnieszka Szaf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38080" y="1143000"/>
            <a:ext cx="7620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Atom w normalnym stanie jest elektrycznie obojętny, z czego wynika, że jądro zawiera całkowitą liczbę dodatnich ładunków elementarnych (protonów) równą liczbie ujemnych ładunków elementarnych (elektronów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82296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czbę dodatnich ładunków elementarnych (protonów) nazywamy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ą atomową – Z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 Jest ona charakterystyczna dla atomu danego pierwiastka chemicznego (liczba porządkow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układzie okresowym pierwiastków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masie całkowitej jądra decyduje łączna liczba nukleonów (protony i neutrony)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jądrze atomu danego pierwiastka chemicznego i równa jest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ie masowej A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04920"/>
            <a:ext cx="3810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dsumujmy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składniki atomu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ot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utr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elektron(y)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228600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2285280"/>
            <a:ext cx="291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kładniki jądra atomowego zwane nukleon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133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ążą po powłok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644360"/>
            <a:ext cx="31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1840 razy lżejszy od protonu i neutron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anie ilości  cząstek elementarnych w at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019920" y="1066680"/>
            <a:ext cx="1600200" cy="1447920"/>
            <a:chOff x="6019920" y="1066680"/>
            <a:chExt cx="1600200" cy="1447920"/>
          </a:xfrm>
        </p:grpSpPr>
        <p:sp>
          <p:nvSpPr>
            <p:cNvPr id="168" name=""/>
            <p:cNvSpPr txBox="1"/>
            <p:nvPr/>
          </p:nvSpPr>
          <p:spPr>
            <a:xfrm>
              <a:off x="6629400" y="1219320"/>
              <a:ext cx="9907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C</a:t>
              </a:r>
              <a:endParaRPr b="0" lang="en-US" sz="72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6019920" y="1066680"/>
              <a:ext cx="5526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A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6096240" y="1981080"/>
              <a:ext cx="4093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z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04920" y="30481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elektronów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(-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03848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protonów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(+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398556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ilość elektronów = ilości protonów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040" y="5068080"/>
            <a:ext cx="611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neutronów 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(0) = A -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8440" y="1216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mas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23598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 atom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144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800600" y="236196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93640" y="73980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5320" y="1674720"/>
            <a:ext cx="8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5120" y="1597680"/>
            <a:ext cx="74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2968560"/>
            <a:ext cx="440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 12 – 6 =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72320" y="1369800"/>
            <a:ext cx="136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" y="1292760"/>
            <a:ext cx="74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2968560"/>
            <a:ext cx="175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7280" y="36554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5000" y="2969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4400" y="4341240"/>
            <a:ext cx="30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23 – 11 = 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72680" y="1369800"/>
            <a:ext cx="125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292760"/>
            <a:ext cx="102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2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296856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480" y="2893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800" y="36554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3480" y="4264920"/>
            <a:ext cx="358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207 – 82 = 12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3040" y="13698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292760"/>
            <a:ext cx="102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2968560"/>
            <a:ext cx="190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5520" y="2969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480" y="36554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4264920"/>
            <a:ext cx="33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127 – 53 = 7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4536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rbity (powłoki elektronowe), po których krążą elektrony nazywamy kolejnymi literami alfabetu zaczynając od 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4038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7440" y="3884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3448080"/>
            <a:ext cx="1439640" cy="1440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27240" y="3672000"/>
            <a:ext cx="99072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70320" y="3087720"/>
            <a:ext cx="2158920" cy="215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97000" y="2722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35200" y="234324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68360" y="1952640"/>
            <a:ext cx="4318200" cy="4317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88920" y="1546200"/>
            <a:ext cx="5038920" cy="503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53360" y="393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180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40640" y="3884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5200" y="38847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2760" y="3884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7680" y="3884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8200" y="3884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9440" y="3884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122760"/>
            <a:ext cx="8381880" cy="59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Maksymalną ilość elektronów na powłokach elektronowych obliczamy ze wzoru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000000"/>
                </a:solidFill>
                <a:latin typeface="Times New Roman"/>
              </a:rPr>
              <a:t>2n</a:t>
            </a:r>
            <a:r>
              <a:rPr b="1" lang="pl-PL" sz="6600" spc="-1" strike="noStrike" baseline="30000">
                <a:solidFill>
                  <a:srgbClr val="000000"/>
                </a:solidFill>
                <a:latin typeface="Times New Roman"/>
              </a:rPr>
              <a:t>2   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n – numer powłoki elektronowe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66"/>
                </a:solidFill>
                <a:latin typeface="Tahoma"/>
              </a:rPr>
              <a:t>Spis treści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1.</a:t>
            </a:r>
            <a:r>
              <a:rPr b="0" lang="pl-PL" sz="3200" spc="-1" strike="noStrike">
                <a:solidFill>
                  <a:srgbClr val="ffcc99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Teoria atomistyczna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2. Budowa atomu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3. Obliczanie ilości cząstek elementarnych w atomie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4. Rozmieszczanie elektronów na powłokach elektronowych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5. Przykłady i ćwiczenia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3790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aksymalne upakowanie elektronów na poszczególnych powłokach elektronow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600200"/>
          <a:ext cx="6095880" cy="35607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łoka elektronow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symalna ilość elektronó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1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2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2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8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3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18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4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32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5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50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6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72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04920" y="8398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Numer okresu (od 1 do 7) </a:t>
            </a:r>
            <a:br>
              <a:rPr sz="4800"/>
            </a:b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w układzie okresowym mówi nam o ilości powłok elektronowych w atomie danego pierwiastka chemicznego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0880" y="75744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umer grupy lub numer grupy pomniejszony o 10 (dla grup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numerach od 13 do 18) mówi nam o liczbie elektronów walencyjnych tj. elektronów na najbardziej zewnętrznej powłoce elektronowej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684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węgl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4800" y="152208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5360" y="136368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6760" y="1294920"/>
            <a:ext cx="268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 12 – 6 =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9880" y="2818440"/>
            <a:ext cx="574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 okres – 2 powłoki elektronowe (K 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4 grupa – 4 elektrony walencyj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449388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0880" y="226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sod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79840" y="1064880"/>
            <a:ext cx="106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1960" y="9126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40800" y="837720"/>
            <a:ext cx="117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4280" y="2361240"/>
            <a:ext cx="614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3 okres – 3 powłoki elektronowe (K L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 grupa – 1 elektron walencyj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914280"/>
            <a:ext cx="108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  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8680" y="83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8680" y="1293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38080" y="167508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23 – 11 = 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66520" y="3352680"/>
            <a:ext cx="2514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6000" y="56372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1–(2+1)=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120" y="562788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62160" y="4403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0880" y="226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ołowi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0880" y="1064880"/>
            <a:ext cx="98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9080" y="876240"/>
            <a:ext cx="94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20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40800" y="837720"/>
            <a:ext cx="117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6080" y="2361240"/>
            <a:ext cx="73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6 okres – 6 powłok elektronowych (K L M N O 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4 grupa – 4 elektronów walen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3520" y="3274200"/>
            <a:ext cx="122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  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   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     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8680" y="83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8680" y="1293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6040" y="167508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207 – 82 = 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666520" y="3351960"/>
            <a:ext cx="251460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563724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82–(2+8+18+32+4)=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07480" y="563724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43280" y="5274720"/>
            <a:ext cx="8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226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jod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74680" y="1064880"/>
            <a:ext cx="47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4880" y="912600"/>
            <a:ext cx="94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40800" y="837720"/>
            <a:ext cx="117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5720" y="2361240"/>
            <a:ext cx="70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5 okres – 5 powłok elektronowych (K L M N 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7 grupa – 7 elektronów walen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3274200"/>
            <a:ext cx="108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 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  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8680" y="83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8680" y="1293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48800" y="16750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27 – 53 = 7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742840" y="3351960"/>
            <a:ext cx="24382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17720" y="578988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53–(2+8+18+7)=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5680" y="578988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798800"/>
            <a:ext cx="8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304920"/>
            <a:ext cx="3810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dsumujmy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składniki atomu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ot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utr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elektron(y)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228600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2285280"/>
            <a:ext cx="291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kładniki jądra atomowego zwane nukleon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41133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ążą po powłok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644360"/>
            <a:ext cx="31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1840 razy lżejszy od protonu i neutron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2590920"/>
            <a:ext cx="29718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35812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33720" y="38862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372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38098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36576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7339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38862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403848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41148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96252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87160" y="2819520"/>
            <a:ext cx="455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ądro atomowe (protony i neutro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i elektron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a walencyj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lektr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2819520"/>
            <a:ext cx="259092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048120"/>
            <a:ext cx="1981080" cy="1904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666880" y="304812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047760" y="46483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733920" y="38862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504960" y="38098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46483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51055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29718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9960" y="803160"/>
            <a:ext cx="72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odel budowy atomu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zykł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3047760" y="5410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2209680" y="525780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80808"/>
                </a:solidFill>
                <a:latin typeface="Times New Roman"/>
              </a:rPr>
              <a:t>Teoria atomistyczn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Verdana"/>
              </a:rPr>
              <a:t>W V wieku p.n.e starożytny filozof Demokryt głosił, że materia składa się z bardzo małych kulek – atomów, jednak swojej teorii nie mógł poprzeć dowodami eksperymentalnymi.</a:t>
            </a: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Verdana"/>
              </a:rPr>
              <a:t>Po dwudziestu wiekach dopiero Dalton </a:t>
            </a:r>
            <a:br>
              <a:rPr sz="2800"/>
            </a:br>
            <a:r>
              <a:rPr b="0" lang="pl-PL" sz="2800" spc="-1" strike="noStrike">
                <a:solidFill>
                  <a:srgbClr val="080808"/>
                </a:solidFill>
                <a:latin typeface="Verdana"/>
              </a:rPr>
              <a:t>(w 1805r) skonkretyzował zasadnicze założenia atomistycznej teorii:</a:t>
            </a: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82296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czbę dodatnich ładunków elementarnych (protonów) nazywamy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ą atomową – Z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 Jest ona charakterystyczna dla atomu danego pierwiastka chemicznego (liczba porządkow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układzie okresowym pierwiastków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masie całkowitej jądra decyduje łączna liczba nukleonów (protony i neutrony)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jądrze atomu danego pierwiastka chemicznego i równa jest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ie masowej A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838080" y="1143000"/>
            <a:ext cx="7620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Atom w normalnym stanie jest elektrycznie obojętny, z czego wynika, że jądro zawiera całkowitą liczbę dodatnich ładunków elementarnych (protonów) równą liczbie ujemnych ładunków elementarnych (elektronów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049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anie ilości  cząstek elementarnych w at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9920" y="1066680"/>
            <a:ext cx="1600200" cy="1447920"/>
            <a:chOff x="6019920" y="1066680"/>
            <a:chExt cx="1600200" cy="1447920"/>
          </a:xfrm>
        </p:grpSpPr>
        <p:sp>
          <p:nvSpPr>
            <p:cNvPr id="307" name=""/>
            <p:cNvSpPr txBox="1"/>
            <p:nvPr/>
          </p:nvSpPr>
          <p:spPr>
            <a:xfrm>
              <a:off x="6629400" y="1219320"/>
              <a:ext cx="9907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C</a:t>
              </a:r>
              <a:endParaRPr b="0" lang="en-US" sz="72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6019920" y="1066680"/>
              <a:ext cx="5526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A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6096240" y="1981080"/>
              <a:ext cx="4093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z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04920" y="30481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elektronów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(-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403848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protonów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(+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24280" y="398556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ilość elektronów = ilości protonów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040" y="5068080"/>
            <a:ext cx="611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neutronów 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(0) = A -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18440" y="1216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mas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5080" y="23598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 atom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144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00600" y="236196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04920" y="8398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Numer okresu (od 1 do 7) </a:t>
            </a:r>
            <a:br>
              <a:rPr sz="4800"/>
            </a:b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w układzie okresowym mówi nam o ilości powłok elektronowych w atomie danego pierwiastka chemicznego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0880" y="75744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umer grupy lub numer grupy pomniejszony o 10 (dla grup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numerach od 13 do 18) mówi nam o liczbie elektronów walencyjnych tj. elektronów na najbardziej zewnętrznej powłoce elektronowej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228600"/>
            <a:ext cx="83055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pierwiastki składają się z niezmiernie małych, niepodzielnych cząstek (atomów), które zachowują swoją indywidualność podczas przemian fizycznych </a:t>
            </a:r>
            <a:br>
              <a:rPr sz="2800"/>
            </a:b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i chemicznych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wszystkie atomy jednego pierwiastka są jednakow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atomy różnych pierwiastków różnią się wielkością, masą i właściwościam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c) chemiczne łączenie się pierwiastków jest łączeniem się poszczególnych atom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74320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04812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266688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304812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74320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304812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4956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495680"/>
            <a:ext cx="6858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4038480"/>
            <a:ext cx="1143000" cy="1143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495680"/>
            <a:ext cx="83844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4267080"/>
            <a:ext cx="990720" cy="91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3880" y="1295280"/>
            <a:ext cx="1067040" cy="10670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295280"/>
            <a:ext cx="457200" cy="457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2362320"/>
            <a:ext cx="457200" cy="457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1219320"/>
            <a:ext cx="457200" cy="457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274320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2514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2362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25146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2819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33526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2819520"/>
            <a:ext cx="7621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2590920"/>
            <a:ext cx="7621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048120"/>
            <a:ext cx="7621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733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4495680"/>
            <a:ext cx="9907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5720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5040" y="498600"/>
            <a:ext cx="8093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Atom składa się z jądra okrążanego przez jeden lub większą liczbę ujemnie naładowanych cząstek, zwanych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elektronami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Podstawowymi składnikami jądra są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ukleon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, czyli dodatnie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oton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i pozbawione ładunku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utron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803160"/>
            <a:ext cx="8001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Wokół jądra znajduje się przestrzeń,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w której poruszają się elektrony.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Jądro atomowe otoczone jest szeregiem powłok elektronowych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o wzrastającym promieniu. Promień powłoki jest w przybliżeniu 100 000 razy większy niż promień jądr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ahoma"/>
              </a:rPr>
              <a:t>Rodzaje cząstek elementarnych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3960" y="1941480"/>
          <a:ext cx="8229600" cy="2743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zw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ładun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k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/1840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2590920"/>
            <a:ext cx="29718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35812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8862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38098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36576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37339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38862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03848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41148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396252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87160" y="2819520"/>
            <a:ext cx="455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ądro atomowe (protony i neutro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i elektron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a walencyj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lektr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819520"/>
            <a:ext cx="259092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48120"/>
            <a:ext cx="1981080" cy="1904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666880" y="304812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047760" y="46483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733920" y="38862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04960" y="38098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46483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1055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29718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9960" y="803160"/>
            <a:ext cx="72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odel budowy atomu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zykł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047760" y="5410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2209680" y="525780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8:01:38Z</dcterms:created>
  <dc:creator>tacin</dc:creator>
  <dc:description/>
  <dc:language>en-US</dc:language>
  <cp:lastModifiedBy>Agnieszka Szafran</cp:lastModifiedBy>
  <dcterms:modified xsi:type="dcterms:W3CDTF">2003-11-26T19:18:52Z</dcterms:modified>
  <cp:revision>98</cp:revision>
  <dc:subject/>
  <dc:title>BUDOWA ATOMU</dc:title>
</cp:coreProperties>
</file>