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FCA-7D9D-4284-90D8-C13D1655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398-E40A-4230-9D37-EBA0BD3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702-57A5-4A66-B2FB-87131D66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3CE-353A-4D2F-821B-81488FCC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6584-A129-402E-A922-9E9E604D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0452-25EE-436E-9FB0-5EA9D59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32E8-580C-4453-811D-F06E566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453B-4648-4F92-959A-6C1B0BE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33A-5206-4BF2-A454-E62A97E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E164-0644-4DC1-A21C-23BDADB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881-2D06-468A-81ED-B021D44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148-B3AB-4780-B3C8-A5E4A4F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51E9-8A48-4DA6-9F87-4AB8C62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2B5C-522B-4673-8F2B-B994717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6A49-55F6-45E2-B97F-CC25969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71EC-7F88-427A-A5E8-8D75198E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501-4340-44F6-98D4-4F3C5750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BFA-5C5F-4952-ADF5-BFB1BCA5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322-E320-4AAA-824E-E6C6F8F4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4FA-5253-4B3A-A5F9-3088DD8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F22-ACC3-4BAE-B1C8-22D2BFD6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465-6DDC-41C1-9A23-EDD3815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9F7-C7C0-4B21-8DC5-B5B3257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768-B2E2-4722-8FB5-2AF5935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A6A-045B-4A6D-876E-F9D42F12A8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27B-61E9-435C-90BB-E6D47A627A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907920"/>
            <a:ext cx="8748720" cy="544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WODÓR (hydrogenium)</a:t>
            </a:r>
            <a:br>
              <a:rPr sz="4800"/>
            </a:b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najlżejszy z gazó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nokautimg1.pl/p-04-65-04656ff3a8c62865ef7313db3a0bbdfc500x500/tablica-uwaga-wodor.jpg"/>
          <p:cNvPicPr/>
          <p:nvPr/>
        </p:nvPicPr>
        <p:blipFill>
          <a:blip r:embed="rId2"/>
          <a:srcRect l="0" t="24191" r="0" b="24400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0" y="620640"/>
            <a:ext cx="91440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ja 1937r. na lotnisku marynarki wojennej USA -Lakehurst Field, w pobliżu Nowego Jorku, doszło do katastrofy największego na świecie, niemieckiego sterowc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Hindenburg”. Wart 3 miliony 750 tys. $„statek przyszłości”, mieszczący 2 miliony 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254880" y="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trożnie z wodore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4.bp.blogspot.com/_S7cyAVhrW9U/TIDvfMdtWpI/AAAAAAAAAPs/n6bJfMJYMlE/s1600/170810top.jpg"/>
          <p:cNvPicPr/>
          <p:nvPr/>
        </p:nvPicPr>
        <p:blipFill>
          <a:blip r:embed="rId1"/>
          <a:srcRect l="8122" t="0" r="0" b="5516"/>
          <a:stretch/>
        </p:blipFill>
        <p:spPr>
          <a:xfrm>
            <a:off x="0" y="2671920"/>
            <a:ext cx="5724360" cy="418608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6084720" y="2276640"/>
            <a:ext cx="30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hodząc do lądowania, stanął w płomieniach. Była to najbardziej spektakularna katastrofa stulecia, która zamknęła erę stero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88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astronomynow.com/news/n0908/26trifid/trifid.jpg"/>
          <p:cNvPicPr/>
          <p:nvPr/>
        </p:nvPicPr>
        <p:blipFill>
          <a:blip r:embed="rId1"/>
          <a:stretch/>
        </p:blipFill>
        <p:spPr>
          <a:xfrm>
            <a:off x="0" y="0"/>
            <a:ext cx="5364000" cy="690084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2"/>
          <p:cNvSpPr/>
          <p:nvPr/>
        </p:nvSpPr>
        <p:spPr>
          <a:xfrm>
            <a:off x="5435640" y="1773360"/>
            <a:ext cx="37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jbardziej rozpowszechnionym pierwiastkiem we Wszechświec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omy wodoru stanowią 90% wszystkich atomów wszechświ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6230520" y="549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odó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kąt 1"/>
          <p:cNvSpPr/>
          <p:nvPr/>
        </p:nvSpPr>
        <p:spPr>
          <a:xfrm>
            <a:off x="395280" y="1844640"/>
            <a:ext cx="874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ór w skorupie ziemskiej stanow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% mas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ępuj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rodzie w stanie związanym, natomiast w stanie wolnym spotyka się go w małych ilościach w gazach wulkanicznych, a niekiedy i w gazie ziemnym. Ślady „wolnego” wodoru znajdują się też w pobliżu powierzchni Ziemi oraz w górnych warstwach atmosfery. Bardzo niewielkie ilości wodoru wydzielają się z niektórych gorących źróde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łówny źródłem wodoru jest woda i większość związków organi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 których skład wchodzą przede wszystkim węgiel i wod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974880" y="76500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Na Ziem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2"/>
          <p:cNvSpPr/>
          <p:nvPr/>
        </p:nvSpPr>
        <p:spPr>
          <a:xfrm>
            <a:off x="395280" y="69228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ych od 10 000 00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, panujących w gwiazdach, za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e termojądr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W ich wyniku następuj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a wodoru w he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a energia wydzielana w tych reakcjach jest głównym źródłem energii promienistej emitowanej przez Słoń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kąt 5"/>
          <p:cNvSpPr/>
          <p:nvPr/>
        </p:nvSpPr>
        <p:spPr>
          <a:xfrm>
            <a:off x="256320" y="0"/>
            <a:ext cx="42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 temperaturac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1"/>
          <p:cNvSpPr/>
          <p:nvPr/>
        </p:nvSpPr>
        <p:spPr>
          <a:xfrm>
            <a:off x="250920" y="907920"/>
            <a:ext cx="8893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warunkach normalnych jest gazem bezbarwn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wonnym i bez sma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łabo rozpuszczalnym w 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 o najmniejszej gęstości(14 razy mniejszej od gęstości powietr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255600" y="0"/>
            <a:ext cx="74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fizy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19600" t="27219" r="17220" b="5704"/>
          <a:stretch/>
        </p:blipFill>
        <p:spPr>
          <a:xfrm>
            <a:off x="1116000" y="2546280"/>
            <a:ext cx="67690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ostokąt 1"/>
          <p:cNvSpPr/>
          <p:nvPr/>
        </p:nvSpPr>
        <p:spPr>
          <a:xfrm>
            <a:off x="395280" y="1557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wo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niemetal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tlenem tworzy wo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azotem tworzy a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chlorem chlorowodó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siarką siarkowodó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metalami tworząc wodo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2"/>
          <p:cNvSpPr/>
          <p:nvPr/>
        </p:nvSpPr>
        <p:spPr>
          <a:xfrm>
            <a:off x="474120" y="47628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chemi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2"/>
          <p:cNvSpPr/>
          <p:nvPr/>
        </p:nvSpPr>
        <p:spPr>
          <a:xfrm>
            <a:off x="1727280" y="98100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eakcji pomiędzy cynkiem Zn i kwasem solnym HC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3"/>
          <p:cNvSpPr/>
          <p:nvPr/>
        </p:nvSpPr>
        <p:spPr>
          <a:xfrm>
            <a:off x="3063960" y="26028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rzymywanie wod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rostokąt 2"/>
          <p:cNvSpPr/>
          <p:nvPr/>
        </p:nvSpPr>
        <p:spPr>
          <a:xfrm>
            <a:off x="574560" y="981000"/>
            <a:ext cx="8569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odoru z tlen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lanie wod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ymaga zainicjowania i jest silnie egzotermiczna. Po ogrzaniu mieszaniny do temp. 180°C (tworzenie się pary wodnej) następuje z dostrzegalną szybkością, a w temperaturze wyższej niż 450°C reakcja przebiega wybuchow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uch jest szczególnie gwałtowny, jeżeli stosunek objętościowy wodoru do tlenu wynosi 2: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eszaninę taką nazywa się mieszaniną piorunując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ybuch może być zapoczątkowany przez iskrę elektryczną lub zetknięcie z płomieniem. Czysty wodór (wypływający z palnika, temp. ok. 640°C) pali się niebieskim, słabo świecącym płomien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"/>
          <p:cNvSpPr/>
          <p:nvPr/>
        </p:nvSpPr>
        <p:spPr>
          <a:xfrm>
            <a:off x="254520" y="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ekawostk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2:03:32Z</dcterms:created>
  <dc:creator>jkandyba</dc:creator>
  <dc:description/>
  <dc:language>en-US</dc:language>
  <cp:lastModifiedBy>Toshiba</cp:lastModifiedBy>
  <dcterms:modified xsi:type="dcterms:W3CDTF">2013-05-05T19:28:23Z</dcterms:modified>
  <cp:revision>34</cp:revision>
  <dc:subject/>
  <dc:title>Slajd 1</dc:title>
</cp:coreProperties>
</file>