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185-8CF1-4609-B1F1-4BA48FB7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615-4041-430E-962B-BD46043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3CA-9E7E-4902-81A2-ECD16931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CA9-5EC0-43F8-8993-B28BE7D7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E2F-A38F-4646-91B2-E62EAACE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B06-1E68-4FA7-BDEA-5B8ADBE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C02-F6F5-4CB0-999E-DE74D02B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A48-1C96-4422-9F49-ACFC964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107-3D7A-4F90-BC67-0CAC670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EE4-E2CF-4B32-A2F5-4F988EF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8F2-A8E3-48B7-8812-B806834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382-ECF5-4B8B-A72F-08F25BE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4F7-CB2C-4300-8413-884CCF9D2E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lukoza jako przykład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ukru prost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az 4" descr="delecta-glukoza-100g-Full.jpg"/>
          <p:cNvPicPr/>
          <p:nvPr/>
        </p:nvPicPr>
        <p:blipFill>
          <a:blip r:embed="rId1"/>
          <a:stretch/>
        </p:blipFill>
        <p:spPr>
          <a:xfrm>
            <a:off x="2556000" y="2276640"/>
            <a:ext cx="4194000" cy="374472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4"/>
          <p:cNvSpPr/>
          <p:nvPr/>
        </p:nvSpPr>
        <p:spPr>
          <a:xfrm>
            <a:off x="900000" y="60930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pracowała: mgr Agnieszka Sz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słodzenia potraw dla niemowląt i osób na    dieci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łukania włosów – uelastycznia je i zapobiega rozdwajani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arwienia skór i bielenia baweł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witaminy 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o środek wzmacniający serce i w schorzeniach wątrob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nserwowania krw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alkoholu etyl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m.in. lodów, pieczywa, przetworów owocowych i sztucznego mi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jogurtów, kefirów i śmieta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luster i bombek choink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sorbitolu, środka słodząc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diabety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kwasu cytrynoweg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nadawania połysku tkaninom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400" spc="-1" strike="noStrike">
                <a:solidFill>
                  <a:srgbClr val="000000"/>
                </a:solidFill>
                <a:latin typeface="Calibri"/>
              </a:rPr>
              <a:t>GLUKOZA     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glukoza1.jpg"/>
          <p:cNvPicPr/>
          <p:nvPr/>
        </p:nvPicPr>
        <p:blipFill>
          <a:blip r:embed="rId1"/>
          <a:stretch/>
        </p:blipFill>
        <p:spPr>
          <a:xfrm>
            <a:off x="684360" y="1844640"/>
            <a:ext cx="31446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d_glukoza.gif"/>
          <p:cNvPicPr/>
          <p:nvPr/>
        </p:nvPicPr>
        <p:blipFill>
          <a:blip r:embed="rId2"/>
          <a:stretch/>
        </p:blipFill>
        <p:spPr>
          <a:xfrm>
            <a:off x="4716360" y="2852640"/>
            <a:ext cx="3224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jest związkiem chemicznym bardzo rozpowszechnionym w przyrodzie. Dużą ilość tej substancji zawiera sok winogron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czerwone_winogrona.jpg"/>
          <p:cNvPicPr/>
          <p:nvPr/>
        </p:nvPicPr>
        <p:blipFill>
          <a:blip r:embed="rId1"/>
          <a:stretch/>
        </p:blipFill>
        <p:spPr>
          <a:xfrm>
            <a:off x="826920" y="2565360"/>
            <a:ext cx="2592720" cy="388476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zielone_winogrona.jpg"/>
          <p:cNvPicPr/>
          <p:nvPr/>
        </p:nvPicPr>
        <p:blipFill>
          <a:blip r:embed="rId2"/>
          <a:stretch/>
        </p:blipFill>
        <p:spPr>
          <a:xfrm>
            <a:off x="3924360" y="2637000"/>
            <a:ext cx="243828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m935_winogrono.jpg"/>
          <p:cNvPicPr/>
          <p:nvPr/>
        </p:nvPicPr>
        <p:blipFill>
          <a:blip r:embed="rId3"/>
          <a:stretch/>
        </p:blipFill>
        <p:spPr>
          <a:xfrm>
            <a:off x="6012000" y="260280"/>
            <a:ext cx="284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ukoza powstaje w procesie fotosynte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ślinach zielonych, którego przebieg możn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osób uproszczony przedstawić za pomocą równania reakcji chemi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C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koza to podstawowe źródło energii dla wszystkich organizmów. Jest rozprowadzana przez krew do wszystkich komórek , gdzie ulega wieloetapowym przemianom. W wyniku utleniania glukozy, następuje wydzielenie dużej ilości energii.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zne utlenianie glukozy ma posta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→ 6C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 + energ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łaściwości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fizy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a st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tal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rozpuszcza się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od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che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nosachary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wo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odki s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romme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świeżo otrzymanego wodorotlenku miedzi (II) dodajemy roztwór glukoz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grzewamy w łaźni wod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6" descr="GCH_3C26_03Nd.jpg"/>
          <p:cNvPicPr/>
          <p:nvPr/>
        </p:nvPicPr>
        <p:blipFill>
          <a:blip r:embed="rId1"/>
          <a:stretch/>
        </p:blipFill>
        <p:spPr>
          <a:xfrm>
            <a:off x="5003640" y="3068640"/>
            <a:ext cx="3822840" cy="312732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324000" y="3284640"/>
            <a:ext cx="467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chwili ogrzewania niebieski osad wodorotlenku miedzi (II) zmienia barwę na ceglastoczerwoną – powstaje tlenek miedzi (I)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4"/>
          <p:cNvSpPr/>
          <p:nvPr/>
        </p:nvSpPr>
        <p:spPr>
          <a:xfrm>
            <a:off x="611280" y="2060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+ 2Cu(OH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→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kwas organiczny + 2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ollens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azotanu (V) srebra (I) dodajemy kilka kropli stężonego roztworu wodorotlenku sodu, a następnie roztwór amoniaku, aż do rozpuszczenia powstałego osadu. Na koniec dodajemy roztwór glukozy i wstawiamy do łaźni wodnej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czas ogrzewania na ściankach naczynia pojawia się srebro, czyli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ustro srebr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ymbol zastępczy zawartości 4" descr="P2260308.JPG"/>
          <p:cNvPicPr/>
          <p:nvPr/>
        </p:nvPicPr>
        <p:blipFill>
          <a:blip r:embed="rId1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4"/>
          <p:cNvSpPr/>
          <p:nvPr/>
        </p:nvSpPr>
        <p:spPr>
          <a:xfrm>
            <a:off x="539640" y="256536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→ 2 Ag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zytywny wynik prób Trommer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Tollensa dowodzi, że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lukoza ma właściwości redukujące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37:28Z</dcterms:created>
  <dc:creator>Aga</dc:creator>
  <dc:description/>
  <dc:language>en-US</dc:language>
  <cp:lastModifiedBy>Aga</cp:lastModifiedBy>
  <dcterms:modified xsi:type="dcterms:W3CDTF">2014-08-11T20:13:44Z</dcterms:modified>
  <cp:revision>20</cp:revision>
  <dc:subject/>
  <dc:title>Glukoza jako przykład cukru prostego</dc:title>
</cp:coreProperties>
</file>