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313-5E58-4B26-9B3D-55ADBC4A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84D-3961-4428-A2BD-1BFB437E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45D-0552-46CC-A9E3-5371B9A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D73-BC84-4AA2-8026-F4927386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4B06-2EB4-410E-8C65-3E272C33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E132-D3BD-4CB1-88B3-EA84C63E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C40-4EF2-44F8-9C52-FBF5D282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13C-2E55-4EE2-BA06-C021293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1297-B455-453C-AD0B-B748D879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686-06C1-420E-B716-A6073A5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726-F577-4912-823E-BC35551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C26-D28F-4D64-8F9C-2B5717F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2DCE-C584-4ACC-A29D-DD4919A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D73-CF11-4CF0-B8B0-A162BB0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225-716D-46DF-9468-D664EECD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CCFE-D014-4727-8486-9DC86BC7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DC2-1597-46DB-A85E-9C00DE08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431-80A4-4E4F-A18B-9FB7E85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C9A-4C04-4B9F-BE66-20B52188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C83-B433-42AF-BACD-045892B2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E45-BF48-464F-AC78-92231C91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21E-04F8-47D5-9F73-392E2BB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69E-4812-43A9-901A-D09864E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867-3A3B-40A4-95A3-EAEFDD86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991-7435-459D-9590-757BD4F904EB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AF25-F103-43BE-BCFA-3B079463D6D0}" type="slidenum">
              <a:rPr b="0" lang="pl-PL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Book Antiqua"/>
              </a:rPr>
              <a:t>KRYSZTAŁY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Symbol zastępczy zawartości 3" descr="http://www.teclaw.pl/pgokonek/publikacje/krysztaly_pliki/image017.jpg"/>
          <p:cNvPicPr/>
          <p:nvPr/>
        </p:nvPicPr>
        <p:blipFill>
          <a:blip r:embed="rId2"/>
          <a:stretch/>
        </p:blipFill>
        <p:spPr>
          <a:xfrm>
            <a:off x="1857240" y="1428840"/>
            <a:ext cx="4500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Symbol zastępczy zawartości 3" descr="http://www.teclaw.pl/pgokonek/publikacje/krysztaly_pliki/image018.jpg"/>
          <p:cNvPicPr/>
          <p:nvPr/>
        </p:nvPicPr>
        <p:blipFill>
          <a:blip r:embed="rId2"/>
          <a:stretch/>
        </p:blipFill>
        <p:spPr>
          <a:xfrm>
            <a:off x="2071800" y="3000240"/>
            <a:ext cx="514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Cukier spożywczy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trzymywany jest  z buraków cukrowych a jego zasadniczym składnikiem jest sacharoza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22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. Cukier spożywczy występuje w postaci małych, słodkich, przezroczystych kryształków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Obraz 3" descr="http://www.teclaw.pl/pgokonek/publikacje/krysztaly_pliki/image019.jpg"/>
          <p:cNvPicPr/>
          <p:nvPr/>
        </p:nvPicPr>
        <p:blipFill>
          <a:blip r:embed="rId2"/>
          <a:stretch/>
        </p:blipFill>
        <p:spPr>
          <a:xfrm>
            <a:off x="2786040" y="292896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Sól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Rysunek 10) o wzorze chemicznym</a:t>
            </a: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NaCl to chlorek sodu. Kryształy soli są przezroczyste, słone. Sól kuchenna otrzymywana jest z soli kamiennej wydobywanej w kopalniach.  Najsłynniejszą kopalnią soli w Polsce jest Kopalnia Soli w Wieliczce, w której można zobaczyć wiele rzeźb z soli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Obraz 3" descr="http://www.teclaw.pl/pgokonek/publikacje/krysztaly_pliki/image020.jpg"/>
          <p:cNvPicPr/>
          <p:nvPr/>
        </p:nvPicPr>
        <p:blipFill>
          <a:blip r:embed="rId2"/>
          <a:stretch/>
        </p:blipFill>
        <p:spPr>
          <a:xfrm>
            <a:off x="2714760" y="3429000"/>
            <a:ext cx="31431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Book Antiqua"/>
              </a:rPr>
              <a:t>Kwasek cytrynowy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 wzorze chemicznym C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(OH)(COOH)</a:t>
            </a:r>
            <a:r>
              <a:rPr b="0" lang="pl-PL" sz="20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otrzymywany jest syntetycznie. Tworzy drobne przezroczyste kryształki o kwaśnym smaku. Służy jako przyprawa do potraw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Obraz 3" descr="http://www.teclaw.pl/pgokonek/publikacje/krysztaly_pliki/image021.jpg"/>
          <p:cNvPicPr/>
          <p:nvPr/>
        </p:nvPicPr>
        <p:blipFill>
          <a:blip r:embed="rId2"/>
          <a:stretch/>
        </p:blipFill>
        <p:spPr>
          <a:xfrm>
            <a:off x="3071880" y="292896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Book Antiqua"/>
              </a:rPr>
              <a:t>Karat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jest jednostką masy używaną w jubilerstwie do pomiaru masy kamieni szlachetnych, w układzie SI karat oznaczany jest symbolem  ct 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1 karat = 0,2 g = 2 · 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Book Antiqua"/>
              </a:rPr>
              <a:t>-4 k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rostokąt 4"/>
          <p:cNvSpPr/>
          <p:nvPr/>
        </p:nvSpPr>
        <p:spPr>
          <a:xfrm>
            <a:off x="785880" y="5000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Ciało krystaliczne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ciało stałe, w którym cząsteczki atomy lub jony są ułożone w uporządkowany schemat powtarzający się we wszystkich trzech wymiarach przestrzennych. W objętości ciała cząsteczki zajmują ściśle określone miejsca, zwane węzłami sieci krystalicznej, i mogą jedynie drgać wokół tych położeń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il_fi" descr="http://www.chemia.dami.pl/liceum/liceum7/grafika3/reakcje9.gif"/>
          <p:cNvPicPr/>
          <p:nvPr/>
        </p:nvPicPr>
        <p:blipFill>
          <a:blip r:embed="rId1"/>
          <a:stretch/>
        </p:blipFill>
        <p:spPr>
          <a:xfrm>
            <a:off x="3000240" y="2071800"/>
            <a:ext cx="25243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Najcenniejsze kryształ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Rubin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jest minerałem</a:t>
            </a:r>
            <a:r>
              <a:rPr b="1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 wzorze chemicznym Al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Book Antiqua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 zwanym trójtlenkiem glinu. Jest odmianą korundu o czerwonej barwi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il_fi" descr="http://static.uroda.com/img/upload/000_BALMAIN_HAIR/Rubin.jpg"/>
          <p:cNvPicPr/>
          <p:nvPr/>
        </p:nvPicPr>
        <p:blipFill>
          <a:blip r:embed="rId1"/>
          <a:stretch/>
        </p:blipFill>
        <p:spPr>
          <a:xfrm>
            <a:off x="1071720" y="4429080"/>
            <a:ext cx="238284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Symbol zastępczy zawartości 5" descr="mineral.gif"/>
          <p:cNvPicPr/>
          <p:nvPr/>
        </p:nvPicPr>
        <p:blipFill>
          <a:blip r:embed="rId2"/>
          <a:stretch/>
        </p:blipFill>
        <p:spPr>
          <a:xfrm>
            <a:off x="1071720" y="107172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il_fi" descr="http://m.ocdn.eu/_m/5b9278a9adc5973359b68215878096d5,10,1.jpg"/>
          <p:cNvPicPr/>
          <p:nvPr/>
        </p:nvPicPr>
        <p:blipFill>
          <a:blip r:embed="rId2"/>
          <a:stretch/>
        </p:blipFill>
        <p:spPr>
          <a:xfrm>
            <a:off x="2143080" y="3429000"/>
            <a:ext cx="5000760" cy="304020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4"/>
          <p:cNvSpPr/>
          <p:nvPr/>
        </p:nvSpPr>
        <p:spPr>
          <a:xfrm>
            <a:off x="857160" y="135720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Book Antiqua"/>
              </a:rPr>
              <a:t>Szaf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– bardzo twardy minerał  z gromady tlenków – niebieska odmiana korondu. Jest minerałem rzadkim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Nazwa pochodzi od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Book Antiqua"/>
              </a:rPr>
              <a:t>stg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. 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σάπφειρος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heiros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, w starożytności oznaczała przede wszystkim lapis-lazuri. Grecka nazwa została zapewne przejęta z języków semickich (hebr.</a:t>
            </a:r>
            <a:r>
              <a:rPr b="0" i="1" lang="pl-PL" sz="1800" spc="-1" strike="noStrike">
                <a:solidFill>
                  <a:srgbClr val="ffffff"/>
                </a:solidFill>
                <a:latin typeface="Book Antiqua"/>
              </a:rPr>
              <a:t>sappir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ytuł 1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8377560" cy="1650960"/>
          </a:xfrm>
          <a:prstGeom prst="rect">
            <a:avLst/>
          </a:prstGeom>
          <a:ln w="0">
            <a:noFill/>
          </a:ln>
        </p:spPr>
      </p:pic>
      <p:pic>
        <p:nvPicPr>
          <p:cNvPr id="95" name="il_fi" descr="http://i2.pinger.pl/pgr210/7c4f7ae40006fe1a4c8489d8/diament.jpg"/>
          <p:cNvPicPr/>
          <p:nvPr/>
        </p:nvPicPr>
        <p:blipFill>
          <a:blip r:embed="rId2"/>
          <a:stretch/>
        </p:blipFill>
        <p:spPr>
          <a:xfrm>
            <a:off x="3009960" y="2330280"/>
            <a:ext cx="3124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ytuł 1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Można go rozpoznać po ostrych krawędziach i płaskich, gładkich powierzchniach. Kryształ jest ciałem stałym o regularnej budowie wewnętrznej, w której można wyróżnić  elementy symetrii: środki, osie, płaszczyzny. Atomy i cząsteczki  w kryształach są poukładane w równych odstępach. </a:t>
            </a:r>
            <a:r>
              <a:rPr b="0" lang="pl-PL" sz="2000" spc="-1" strike="noStrike" u="sng">
                <a:solidFill>
                  <a:srgbClr val="ffc000"/>
                </a:solidFill>
                <a:uFillTx/>
                <a:latin typeface="Book Antiqua"/>
              </a:rPr>
              <a:t>Jeżeli całe ciało stałe składa się z jednego dużego kryształu to mówimy o monokrysztale. Może też być zlepkiem wielu drobnych kryształów i wówczas mówimy o polikryształach.</a:t>
            </a:r>
            <a:r>
              <a:rPr b="0" lang="pl-PL" sz="2000" spc="-1" strike="noStrike">
                <a:solidFill>
                  <a:srgbClr val="ffffff"/>
                </a:solidFill>
                <a:latin typeface="Book Antiqua"/>
              </a:rPr>
              <a:t> Kryształ mogą tworzyć atomy jednego pierwiastka lub atomy różnych pierwiastków występujących w danym związku chemicznym. Przykładem kryształu utworzonego z jednakowych atomów węgla jest diament a przykładem kryształu utworzonego z różnych atomów tworzących związek chemiczny jest rubin. Większość naturalnych i sztucznie otrzymywanych substancji w stanie stałym zbudowana jest z kryształów. Ciało stałe mające nieuporządkowane atomy zwane  jest ciałem bezpostaciowym lub amorficznym. Ciałami bezpostaciowymi są: szkło, wosk, tworzywa sztuczne a także wspomniane wyżej: bursztyn, opal, aga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4"/>
          <p:cNvSpPr/>
          <p:nvPr/>
        </p:nvSpPr>
        <p:spPr>
          <a:xfrm>
            <a:off x="1000080" y="21420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Istnieje 14 typów komórek elementarnych. Wspólną cechą kryształów naturalnych i syntetycznych czyli specjalnie hodowanych jest ich jednakowa budowa wewnętrzna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Book Antiqua"/>
              </a:rPr>
              <a:t>Dla uproszczenia opisu  kryształów stosuje się sześć układów krystalograficznych a wśród nich 32 klasy krystalograficzne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Obraz 25" descr="http://www.teclaw.pl/pgokonek/publikacje/krysztaly_pliki/image006.jpg"/>
          <p:cNvPicPr/>
          <p:nvPr/>
        </p:nvPicPr>
        <p:blipFill>
          <a:blip r:embed="rId1"/>
          <a:stretch/>
        </p:blipFill>
        <p:spPr>
          <a:xfrm>
            <a:off x="1214280" y="1714680"/>
            <a:ext cx="876600" cy="1238040"/>
          </a:xfrm>
          <a:prstGeom prst="rect">
            <a:avLst/>
          </a:prstGeom>
          <a:ln w="0">
            <a:noFill/>
          </a:ln>
        </p:spPr>
      </p:pic>
      <p:pic>
        <p:nvPicPr>
          <p:cNvPr id="100" name="Obraz 26" descr="http://www.teclaw.pl/pgokonek/publikacje/krysztaly_pliki/image007.jpg"/>
          <p:cNvPicPr/>
          <p:nvPr/>
        </p:nvPicPr>
        <p:blipFill>
          <a:blip r:embed="rId2"/>
          <a:stretch/>
        </p:blipFill>
        <p:spPr>
          <a:xfrm>
            <a:off x="242892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1" name="Obraz 27" descr="http://www.teclaw.pl/pgokonek/publikacje/krysztaly_pliki/image008.jpg"/>
          <p:cNvPicPr/>
          <p:nvPr/>
        </p:nvPicPr>
        <p:blipFill>
          <a:blip r:embed="rId3"/>
          <a:stretch/>
        </p:blipFill>
        <p:spPr>
          <a:xfrm>
            <a:off x="3643200" y="1714680"/>
            <a:ext cx="876240" cy="1238040"/>
          </a:xfrm>
          <a:prstGeom prst="rect">
            <a:avLst/>
          </a:prstGeom>
          <a:ln w="0">
            <a:noFill/>
          </a:ln>
        </p:spPr>
      </p:pic>
      <p:pic>
        <p:nvPicPr>
          <p:cNvPr id="102" name="Obraz 28" descr="http://www.teclaw.pl/pgokonek/publikacje/krysztaly_pliki/image009.jpg"/>
          <p:cNvPicPr/>
          <p:nvPr/>
        </p:nvPicPr>
        <p:blipFill>
          <a:blip r:embed="rId4"/>
          <a:stretch/>
        </p:blipFill>
        <p:spPr>
          <a:xfrm>
            <a:off x="6215040" y="1857240"/>
            <a:ext cx="885960" cy="1238400"/>
          </a:xfrm>
          <a:prstGeom prst="rect">
            <a:avLst/>
          </a:prstGeom>
          <a:ln w="0">
            <a:noFill/>
          </a:ln>
        </p:spPr>
      </p:pic>
      <p:pic>
        <p:nvPicPr>
          <p:cNvPr id="103" name="Obraz 29" descr="http://www.teclaw.pl/pgokonek/publikacje/krysztaly_pliki/image010.jpg"/>
          <p:cNvPicPr/>
          <p:nvPr/>
        </p:nvPicPr>
        <p:blipFill>
          <a:blip r:embed="rId5"/>
          <a:stretch/>
        </p:blipFill>
        <p:spPr>
          <a:xfrm>
            <a:off x="4857840" y="1785960"/>
            <a:ext cx="876240" cy="123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520" y="169560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20" y="5410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il_fi" descr="http://zasoby1.open.agh.edu.pl/dydaktyka/chemia/a_e_chemia/2_stany_skupienia/img18/04_01_39.jpg"/>
          <p:cNvPicPr/>
          <p:nvPr/>
        </p:nvPicPr>
        <p:blipFill>
          <a:blip r:embed="rId6"/>
          <a:stretch/>
        </p:blipFill>
        <p:spPr>
          <a:xfrm>
            <a:off x="2286000" y="3143160"/>
            <a:ext cx="42386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ytuł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Symbol zastępczy zawartości 3" descr="http://www.teclaw.pl/pgokonek/publikacje/krysztaly_pliki/image016.jpg"/>
          <p:cNvPicPr/>
          <p:nvPr/>
        </p:nvPicPr>
        <p:blipFill>
          <a:blip r:embed="rId2"/>
          <a:stretch/>
        </p:blipFill>
        <p:spPr>
          <a:xfrm>
            <a:off x="2071800" y="1571760"/>
            <a:ext cx="4643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9:00:20Z</dcterms:created>
  <dc:creator>User</dc:creator>
  <dc:description/>
  <dc:language>en-US</dc:language>
  <cp:lastModifiedBy>User</cp:lastModifiedBy>
  <dcterms:modified xsi:type="dcterms:W3CDTF">2012-11-20T21:35:05Z</dcterms:modified>
  <cp:revision>30</cp:revision>
  <dc:subject/>
  <dc:title>Slajd 1</dc:title>
</cp:coreProperties>
</file>