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8.jpeg" ContentType="image/jpeg"/>
  <Override PartName="/ppt/media/laser.wav" ContentType="audio/x-wav"/>
  <Override PartName="/ppt/media/image4.jpeg" ContentType="image/jpeg"/>
  <Override PartName="/ppt/media/glass.wav" ContentType="audio/x-wav"/>
  <Override PartName="/ppt/media/carbrake.wav" ContentType="audio/x-wav"/>
  <Override PartName="/ppt/media/image3.jpeg" ContentType="image/jpeg"/>
  <Override PartName="/ppt/media/explode.wav" ContentType="audio/x-wav"/>
  <Override PartName="/ppt/media/camera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B81-8D52-4D1F-8849-4B4E3485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7FE-BD1E-4130-AC35-A99B184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304-4F2C-4E13-9728-61860F4D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9A8-1592-4C40-B137-3CA2FBA2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8F7-AC92-42D9-87EE-D7D2A5A5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3FF-C209-433B-82F4-185A796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B83-A61F-42F6-AD9F-EC28ABFD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C1F-D4F5-4085-8774-00E797F6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ECC-0FB5-426E-A32B-AF1DB733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C24-F2BF-47D7-872A-D5845F9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EE5-CE06-4B0D-A0C4-92CE60F6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FA8-78FB-4503-B59C-48676C7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5BE2-3082-4C8D-BE88-48C04AAE6FA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Opracowała: mgr Agnieszka Szaf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usimy znać również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zory chemicz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wstałych produktów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dczas tej rea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puśćmy, że użyjem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o reakcji kwasu chlorowodorowego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solnego) HCl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zasady sodowej Na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eraz musimy wiedzieć, co powstan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ma powstać sól i wo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patr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woda"/>
          <p:cNvPicPr/>
          <p:nvPr/>
        </p:nvPicPr>
        <p:blipFill>
          <a:blip r:embed="rId1"/>
          <a:stretch/>
        </p:blipFill>
        <p:spPr>
          <a:xfrm>
            <a:off x="5486400" y="4267080"/>
            <a:ext cx="2743200" cy="18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ROPELKAgetty2"/>
          <p:cNvPicPr/>
          <p:nvPr/>
        </p:nvPicPr>
        <p:blipFill>
          <a:blip r:embed="rId2"/>
          <a:stretch/>
        </p:blipFill>
        <p:spPr>
          <a:xfrm>
            <a:off x="4038480" y="2133720"/>
            <a:ext cx="2235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lniczka"/>
          <p:cNvPicPr/>
          <p:nvPr/>
        </p:nvPicPr>
        <p:blipFill>
          <a:blip r:embed="rId3"/>
          <a:stretch/>
        </p:blipFill>
        <p:spPr>
          <a:xfrm>
            <a:off x="380880" y="2666880"/>
            <a:ext cx="3581640" cy="27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NaCl +H</a:t>
            </a:r>
            <a:r>
              <a:rPr b="0" lang="pl-PL" sz="4400" spc="-1" strike="noStrike" baseline="-2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prawej i lewej stronie równania mamy tyle samo danych pierwiast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ównanie jest napisane popraw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nny przykła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22093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tym równaniu po lewej stronie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jest jeden atom potasu, po prawej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ą dwa, więc po lewej stronie trze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przed wzorem KOH wstawić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Teraz liczymy wodory po lewej stronie, są cztery a po prawej są dwa, więc musimy przed wzorem H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stawić też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etody otrzymywania s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est kilka metod otrzymywania soli, przybliżymy sobie jedną z n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Liczba innych pierwiastków zgadza się po obu stron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Teraz równanie jest </a:t>
            </a:r>
            <a:br>
              <a:rPr sz="4800"/>
            </a:br>
            <a:r>
              <a:rPr b="0" lang="pl-PL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pisane prawidłow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czy to nie jest pros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3886200" y="3124080"/>
          <a:ext cx="274464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274464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iłego pisania równań chemicznyc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życzę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809880" y="3048120"/>
          <a:ext cx="459576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59576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2057400" y="160020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41907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reakcje kwas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 zasadam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4760" y="22860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jedna z metod otrzymywania s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ólne równanie otrzymywania soli w reakcji zobojętniania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was + zasad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sól + w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amiętaj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by napisać poprawnie reakcję chemiczną musisz zna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ubstraty, które będą wchodziły w reakcj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dukty, które powstaną podczas tej reak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d04924_"/>
          <p:cNvPicPr/>
          <p:nvPr/>
        </p:nvPicPr>
        <p:blipFill>
          <a:blip r:embed="rId1"/>
          <a:stretch/>
        </p:blipFill>
        <p:spPr>
          <a:xfrm>
            <a:off x="5638680" y="2209680"/>
            <a:ext cx="305136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napisaniu poprawnie równania reakcji musisz dobrać współczynniki stechiometrycz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czyli liczby, które znajdują się przed wzorami związków chemicznych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równan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so01038_"/>
          <p:cNvPicPr/>
          <p:nvPr/>
        </p:nvPicPr>
        <p:blipFill>
          <a:blip r:embed="rId1"/>
          <a:stretch/>
        </p:blipFill>
        <p:spPr>
          <a:xfrm>
            <a:off x="685800" y="2971800"/>
            <a:ext cx="2967120" cy="29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rzeba dokładnie policzyć atomy pierwiastków po prawej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po lewej stronie równania, </a:t>
            </a: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si być ich tyle samo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pamiętając, że środek równania chemicznego to strzałk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21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Jeżeli ma reagować kwas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 zasadą to musimy znać wzory tych substancji chemicz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6:48:05Z</dcterms:created>
  <dc:creator>KPCEN</dc:creator>
  <dc:description/>
  <dc:language>en-US</dc:language>
  <cp:lastModifiedBy>Aga</cp:lastModifiedBy>
  <dcterms:modified xsi:type="dcterms:W3CDTF">2014-08-11T20:11:12Z</dcterms:modified>
  <cp:revision>21</cp:revision>
  <dc:subject/>
  <dc:title>Reakcje zobojętniania</dc:title>
</cp:coreProperties>
</file>