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BFD4A-A012-474F-8A09-6C68026B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D98B7-1AE5-4814-A3E2-21055A91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C296B-2504-4BED-A6F5-6B0773A5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A1DE0-8F42-478B-8AD1-F5E7155A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F9045-3663-4510-885E-A1D2D369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FBF00-7D40-4ECA-9F8C-E6973A9F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BF51E-EF18-4840-AA66-48302521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AE216-F3E5-4610-8D46-408DEC17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A54B1-9744-42B4-992D-E155F312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A66BB-5428-482F-B4CC-DB39A4AC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34DED-8235-45D5-A787-E59A7755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5E744-E2AC-4889-9793-070766EC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112B-BF99-40CC-AD91-8CE84780A71A}" type="slidenum"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-1220760"/>
            <a:ext cx="8229600" cy="64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0" spc="-1" strike="noStrike" u="sng">
                <a:solidFill>
                  <a:srgbClr val="0066ff"/>
                </a:solidFill>
                <a:uFillTx/>
                <a:latin typeface="Times New Roman"/>
              </a:rPr>
              <a:t>BUDOWA </a:t>
            </a:r>
            <a:br>
              <a:rPr sz="14000"/>
            </a:br>
            <a:r>
              <a:rPr b="0" lang="pl-PL" sz="14000" spc="-1" strike="noStrike" u="sng">
                <a:solidFill>
                  <a:srgbClr val="0066ff"/>
                </a:solidFill>
                <a:uFillTx/>
                <a:latin typeface="Times New Roman"/>
              </a:rPr>
              <a:t>ATOMU</a:t>
            </a:r>
            <a:endParaRPr b="0" lang="en-US" sz="1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6095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wykonała: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mgr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Agnieszka Szafr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38080" y="1143000"/>
            <a:ext cx="7620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Atom w normalnym stanie jest elektrycznie obojętny, z czego wynika, że jądro zawiera całkowitą liczbę dodatnich ładunków elementarnych (protonów) równą liczbie ujemnych ładunków elementarnych (elektronów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82296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iczbę dodatnich ładunków elementarnych (protonów) nazywamy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liczbą atomową – Z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 Jest ona charakterystyczna dla atomu danego pierwiastka chemicznego (liczba porządkow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układzie okresowym pierwiastków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masie całkowitej jądra decyduje łączna liczba nukleonów (protony i neutrony)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jądrze atomu danego pierwiastka chemicznego i równa jest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liczbie masowej A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304920"/>
            <a:ext cx="3810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dsumujmy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składniki atomu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roton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eutron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elektron(y)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228600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2285280"/>
            <a:ext cx="291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kładniki jądra atomowego zwane nukleon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41133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rążą po powłok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644360"/>
            <a:ext cx="31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1840 razy lżejszy od protonu i neutron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9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anie ilości  cząstek elementarnych w at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019920" y="1066680"/>
            <a:ext cx="1600200" cy="1447920"/>
            <a:chOff x="6019920" y="1066680"/>
            <a:chExt cx="1600200" cy="1447920"/>
          </a:xfrm>
        </p:grpSpPr>
        <p:sp>
          <p:nvSpPr>
            <p:cNvPr id="168" name=""/>
            <p:cNvSpPr txBox="1"/>
            <p:nvPr/>
          </p:nvSpPr>
          <p:spPr>
            <a:xfrm>
              <a:off x="6629400" y="1219320"/>
              <a:ext cx="9907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C</a:t>
              </a:r>
              <a:endParaRPr b="0" lang="en-US" sz="72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6019920" y="1066680"/>
              <a:ext cx="5526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A</a:t>
              </a:r>
              <a:endParaRPr b="0" lang="en-US" sz="24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6096240" y="1981080"/>
              <a:ext cx="4093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z</a:t>
              </a:r>
              <a:endParaRPr b="0" lang="en-US" sz="24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04920" y="304812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elektronów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(-) =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403848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protonów 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(+) =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398556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ilość elektronów = ilości protonów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040" y="5068080"/>
            <a:ext cx="611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neutronów  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(0) = A -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8440" y="12168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maso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23598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 atomo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1447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800600" y="236196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93640" y="739800"/>
            <a:ext cx="16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zykła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5320" y="1674720"/>
            <a:ext cx="85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5120" y="1597680"/>
            <a:ext cx="74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2968560"/>
            <a:ext cx="4402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 (-) = 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 (+) = 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 (0) = 12 – 6 = 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72320" y="1369800"/>
            <a:ext cx="136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" y="1292760"/>
            <a:ext cx="74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2968560"/>
            <a:ext cx="175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7280" y="36554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25000" y="29696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4400" y="4341240"/>
            <a:ext cx="30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23 – 11 = 1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372680" y="1369800"/>
            <a:ext cx="125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292760"/>
            <a:ext cx="102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2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2968560"/>
            <a:ext cx="2057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1480" y="2893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8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800" y="36554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8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3480" y="4264920"/>
            <a:ext cx="358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207 – 82 = 12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3040" y="136980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1292760"/>
            <a:ext cx="102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2968560"/>
            <a:ext cx="190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 (+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 (0) 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5520" y="29696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480" y="36554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4264920"/>
            <a:ext cx="33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Times New Roman"/>
              </a:rPr>
              <a:t>127 – 53 = 7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8600" y="4536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rbity (powłoki elektronowe), po których krążą elektrony nazywamy kolejnymi literami alfabetu zaczynając od 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40384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7440" y="38844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3448080"/>
            <a:ext cx="1439640" cy="1440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27240" y="3672000"/>
            <a:ext cx="99072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70320" y="3087720"/>
            <a:ext cx="2158920" cy="215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97000" y="2722680"/>
            <a:ext cx="2879640" cy="287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35200" y="2343240"/>
            <a:ext cx="3598920" cy="359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68360" y="1952640"/>
            <a:ext cx="4318200" cy="4317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88920" y="1546200"/>
            <a:ext cx="5038920" cy="5038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53360" y="393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18080" y="392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40640" y="3884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5200" y="38847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2760" y="3884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07680" y="3884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8200" y="3884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69440" y="3884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122760"/>
            <a:ext cx="8381880" cy="59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Maksymalną ilość elektronów na powłokach elektronowych obliczamy ze wzoru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000000"/>
                </a:solidFill>
                <a:latin typeface="Times New Roman"/>
              </a:rPr>
              <a:t>2n</a:t>
            </a:r>
            <a:r>
              <a:rPr b="1" lang="pl-PL" sz="6600" spc="-1" strike="noStrike" baseline="30000">
                <a:solidFill>
                  <a:srgbClr val="000000"/>
                </a:solidFill>
                <a:latin typeface="Times New Roman"/>
              </a:rPr>
              <a:t>2   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 baseline="30000">
                <a:solidFill>
                  <a:srgbClr val="000000"/>
                </a:solidFill>
                <a:latin typeface="Times New Roman"/>
              </a:rPr>
              <a:t>n – numer powłoki elektronowe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66"/>
                </a:solidFill>
                <a:latin typeface="Tahoma"/>
              </a:rPr>
              <a:t>Spis treści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1.</a:t>
            </a:r>
            <a:r>
              <a:rPr b="0" lang="pl-PL" sz="3200" spc="-1" strike="noStrike">
                <a:solidFill>
                  <a:srgbClr val="ffcc99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Teoria atomistyczna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2. Budowa atomu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3. Obliczanie ilości cząstek elementarnych w atomie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4. Rozmieszczanie elektronów na powłokach elektronowych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80808"/>
                </a:solidFill>
                <a:latin typeface="Times New Roman"/>
              </a:rPr>
              <a:t>5. Przykłady i ćwiczenia</a:t>
            </a: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200" y="3790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aksymalne upakowanie elektronów na poszczególnych powłokach elektronowy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0720" y="1600200"/>
          <a:ext cx="6095880" cy="35607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łoka elektronow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symalna ilość elektronó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1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2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2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8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3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18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4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32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5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50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*6</a:t>
                      </a:r>
                      <a:r>
                        <a:rPr b="0" lang="pl-PL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72)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04920" y="8398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Numer okresu (od 1 do 7) </a:t>
            </a:r>
            <a:br>
              <a:rPr sz="4800"/>
            </a:b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w układzie okresowym mówi nam o ilości powłok elektronowych w atomie danego pierwiastka chemicznego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0880" y="75744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umer grupy lub numer grupy pomniejszony o 10 (dla grup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 numerach od 13 do 18) mówi nam o liczbie elektronów walencyjnych tj. elektronów na najbardziej zewnętrznej powłoce elektronowej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684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zmieszczenie elektronów w atomie węgl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4800" y="152208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5360" y="136368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6760" y="1294920"/>
            <a:ext cx="268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 (+) =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 (-) =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 (0) = 12 – 6 =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9880" y="2818440"/>
            <a:ext cx="574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2 okres – 2 powłoki elektronowe (K 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4 grupa – 4 elektrony walencyj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449388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  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   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0880" y="226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zmieszczenie elektronów w atomie sod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79840" y="1064880"/>
            <a:ext cx="106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1960" y="91260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40800" y="837720"/>
            <a:ext cx="117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4280" y="2361240"/>
            <a:ext cx="614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3 okres – 3 powłoki elektronowe (K L 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 grupa – 1 elektron walencyj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3914280"/>
            <a:ext cx="108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  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   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  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58680" y="836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8680" y="1293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38080" y="1675080"/>
            <a:ext cx="19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23 – 11 = 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666520" y="3352680"/>
            <a:ext cx="2514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96000" y="56372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11–(2+1)=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120" y="562788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X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62160" y="4403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80880" y="226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zmieszczenie elektronów w atomie ołowi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0880" y="1064880"/>
            <a:ext cx="98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9080" y="876240"/>
            <a:ext cx="94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20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40800" y="837720"/>
            <a:ext cx="117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6080" y="2361240"/>
            <a:ext cx="73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6 okres – 6 powłok elektronowych (K L M N O 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4 grupa – 4 elektronów walencyj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3520" y="3274200"/>
            <a:ext cx="122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   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    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  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   3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     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8680" y="836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8680" y="1293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6040" y="167508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207 – 82 = 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666520" y="3351960"/>
            <a:ext cx="251460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563724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82–(2+8+18+32+4)=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07480" y="563724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X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43280" y="5274720"/>
            <a:ext cx="8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0880" y="226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ozmieszczenie elektronów w atomie jod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74680" y="1064880"/>
            <a:ext cx="47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4880" y="912600"/>
            <a:ext cx="94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40800" y="837720"/>
            <a:ext cx="117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 (+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 (-)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 (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5720" y="2361240"/>
            <a:ext cx="70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5 okres – 5 powłok elektronowych (K L M N 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17 grupa – 7 elektronów walencyjny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76520" y="3274200"/>
            <a:ext cx="1087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   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   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 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  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8680" y="836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8680" y="1293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48800" y="16750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127 – 53 = 7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742840" y="3351960"/>
            <a:ext cx="24382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17720" y="578988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53–(2+8+18+7)=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5680" y="578988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X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4798800"/>
            <a:ext cx="8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0880" y="304920"/>
            <a:ext cx="3810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dsumujmy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składniki atomu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roton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eutron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elektron(y) 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228600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2285280"/>
            <a:ext cx="291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kładniki jądra atomowego zwane nukleon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41133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krążą po powłok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4644360"/>
            <a:ext cx="31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1840 razy lżejszy od protonu i neutron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2590920"/>
            <a:ext cx="2971800" cy="2743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358128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33720" y="38862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3720" y="36576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380988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36576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37339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39625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38862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403848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7400" y="41148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8800" y="39625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396252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0" y="36576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87160" y="2819520"/>
            <a:ext cx="455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ądro atomowe (protony i neutron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łoki elektrono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łoka walencyj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lektro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2819520"/>
            <a:ext cx="2590920" cy="228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048120"/>
            <a:ext cx="1981080" cy="1904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666880" y="304812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047760" y="46483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733920" y="38862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504960" y="38098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3880" y="46483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81080" y="495288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51055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297180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32767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9960" y="803160"/>
            <a:ext cx="72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odel budowy atomu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rzykł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3047760" y="5410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2209680" y="5257800"/>
            <a:ext cx="1981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80808"/>
                </a:solidFill>
                <a:latin typeface="Times New Roman"/>
              </a:rPr>
              <a:t>Teoria atomistyczn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Verdana"/>
              </a:rPr>
              <a:t>W V wieku p.n.e starożytny filozof Demokryt głosił, że materia składa się z bardzo małych kulek – atomów, jednak swojej teorii nie mógł poprzeć dowodami eksperymentalnymi.</a:t>
            </a: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Verdana"/>
              </a:rPr>
              <a:t>Po dwudziestu wiekach dopiero Dalton </a:t>
            </a:r>
            <a:br>
              <a:rPr sz="2800"/>
            </a:br>
            <a:r>
              <a:rPr b="0" lang="pl-PL" sz="2800" spc="-1" strike="noStrike">
                <a:solidFill>
                  <a:srgbClr val="080808"/>
                </a:solidFill>
                <a:latin typeface="Verdana"/>
              </a:rPr>
              <a:t>(w 1805r) skonkretyzował zasadnicze założenia atomistycznej teorii:</a:t>
            </a: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04920" y="82296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iczbę dodatnich ładunków elementarnych (protonów) nazywamy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liczbą atomową – Z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 Jest ona charakterystyczna dla atomu danego pierwiastka chemicznego (liczba porządkow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układzie okresowym pierwiastków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masie całkowitej jądra decyduje łączna liczba nukleonów (protony i neutrony)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 jądrze atomu danego pierwiastka chemicznego i równa jest 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liczbie masowej A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838080" y="1143000"/>
            <a:ext cx="7620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Atom w normalnym stanie jest elektrycznie obojętny, z czego wynika, że jądro zawiera całkowitą liczbę dodatnich ładunków elementarnych (protonów) równą liczbie ujemnych ładunków elementarnych (elektronów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049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bliczanie ilości  cząstek elementarnych w at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019920" y="1066680"/>
            <a:ext cx="1600200" cy="1447920"/>
            <a:chOff x="6019920" y="1066680"/>
            <a:chExt cx="1600200" cy="1447920"/>
          </a:xfrm>
        </p:grpSpPr>
        <p:sp>
          <p:nvSpPr>
            <p:cNvPr id="307" name=""/>
            <p:cNvSpPr txBox="1"/>
            <p:nvPr/>
          </p:nvSpPr>
          <p:spPr>
            <a:xfrm>
              <a:off x="6629400" y="1219320"/>
              <a:ext cx="9907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C</a:t>
              </a:r>
              <a:endParaRPr b="0" lang="en-US" sz="72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6019920" y="1066680"/>
              <a:ext cx="5526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A</a:t>
              </a:r>
              <a:endParaRPr b="0" lang="en-US" sz="24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6096240" y="1981080"/>
              <a:ext cx="4093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solidFill>
                      <a:srgbClr val="008000"/>
                    </a:solidFill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Times New Roman"/>
                </a:rPr>
                <a:t>z</a:t>
              </a:r>
              <a:endParaRPr b="0" lang="en-US" sz="2400" spc="1" strike="noStrike">
                <a:ln w="0">
                  <a:solidFill>
                    <a:srgbClr val="008000"/>
                  </a:solidFill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304920" y="304812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elektronów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e(-) =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403848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protonów 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(+) =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24280" y="398556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ilość elektronów = ilości protonów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040" y="5068080"/>
            <a:ext cx="611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lość neutronów    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(0) = A - 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18440" y="12168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maso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5080" y="23598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liczba  atomow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1447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00600" y="236196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04920" y="839880"/>
            <a:ext cx="8534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Numer okresu (od 1 do 7) </a:t>
            </a:r>
            <a:br>
              <a:rPr sz="4800"/>
            </a:b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w układzie okresowym mówi nam o ilości powłok elektronowych w atomie danego pierwiastka chemicznego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0880" y="75744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Numer grupy lub numer grupy pomniejszony o 10 (dla grup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 numerach od 13 do 18) mówi nam o liczbie elektronów walencyjnych tj. elektronów na najbardziej zewnętrznej powłoce elektronowej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228600"/>
            <a:ext cx="83055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pierwiastki składają się z niezmiernie małych, niepodzielnych cząstek (atomów), które zachowują swoją indywidualność podczas przemian fizycznych </a:t>
            </a:r>
            <a:br>
              <a:rPr sz="2800"/>
            </a:b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i chemicznych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wszystkie atomy jednego pierwiastka są jednakow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8080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atomy różnych pierwiastków różnią się wielkością, masą i właściwościam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80808"/>
                </a:solidFill>
                <a:latin typeface="Times New Roman"/>
              </a:rPr>
              <a:t>c) chemiczne łączenie się pierwiastków jest łączeniem się poszczególnych atomó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274320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274320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04812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266688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304812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274320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3048120"/>
            <a:ext cx="457200" cy="4572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4956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495680"/>
            <a:ext cx="6858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4038480"/>
            <a:ext cx="1143000" cy="11430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403848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4495680"/>
            <a:ext cx="83844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4267080"/>
            <a:ext cx="990720" cy="91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3880" y="1295280"/>
            <a:ext cx="1067040" cy="10670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1295280"/>
            <a:ext cx="457200" cy="4572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2362320"/>
            <a:ext cx="457200" cy="4572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1219320"/>
            <a:ext cx="457200" cy="4572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2743200"/>
            <a:ext cx="761760" cy="762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25146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2362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25146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28195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33526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2819520"/>
            <a:ext cx="762120" cy="76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2590920"/>
            <a:ext cx="762120" cy="76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048120"/>
            <a:ext cx="762120" cy="76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733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4495680"/>
            <a:ext cx="9907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4724280"/>
            <a:ext cx="533520" cy="533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57200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65040" y="498600"/>
            <a:ext cx="8093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Atom składa się z jądra okrążanego przez jeden lub większą liczbę ujemnie naładowanych cząstek, zwanych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elektronami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Podstawowymi składnikami jądra są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ukleony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, czyli dodatnie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rotony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 i pozbawione ładunku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eutrony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803160"/>
            <a:ext cx="8001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Wokół jądra znajduje się przestrzeń,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w której poruszają się elektrony.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Jądro atomowe otoczone jest szeregiem powłok elektronowych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o wzrastającym promieniu. Promień powłoki jest w przybliżeniu 100 000 razy większy niż promień jądr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ahoma"/>
              </a:rPr>
              <a:t>Rodzaje cząstek elementarnych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3960" y="1941480"/>
          <a:ext cx="8229600" cy="2743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4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zw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ładun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s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k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/1840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2120" y="2590920"/>
            <a:ext cx="2971800" cy="2743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358128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38862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6576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380988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36576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37339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39625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38862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03848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411480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96252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396252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3657600"/>
            <a:ext cx="22860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87160" y="2819520"/>
            <a:ext cx="455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ądro atomowe (protony i neutron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łoki elektrono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łoka walencyj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lektro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819520"/>
            <a:ext cx="2590920" cy="228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048120"/>
            <a:ext cx="1981080" cy="1904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666880" y="304812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047760" y="46483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733920" y="38862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504960" y="38098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46483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495288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1055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297180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276720"/>
            <a:ext cx="228600" cy="2286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9960" y="803160"/>
            <a:ext cx="72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Model budowy atomu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(przykł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047760" y="5410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2209680" y="5257800"/>
            <a:ext cx="1981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8:01:38Z</dcterms:created>
  <dc:creator>tacin</dc:creator>
  <dc:description/>
  <dc:language>en-US</dc:language>
  <cp:lastModifiedBy>Agnieszka Szafran</cp:lastModifiedBy>
  <dcterms:modified xsi:type="dcterms:W3CDTF">2003-11-26T19:18:52Z</dcterms:modified>
  <cp:revision>98</cp:revision>
  <dc:subject/>
  <dc:title>BUDOWA ATOMU</dc:title>
</cp:coreProperties>
</file>