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C0F-A913-45CE-9B3C-48B21249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49D-8CE1-4C60-8062-8A9233EB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B92-BE2A-4C9B-BBCF-1EBDB25F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756-3FE6-412E-9779-2CD5F658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2EA-8410-4DD7-8BCE-F1F41E31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85B-A90C-4EE2-BF3E-77E1490A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B92-37FD-435D-93E8-2C4AD946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E93-FCE8-4FFB-BD4B-A5942097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4D2-CB7A-431D-AE6B-3BC6849B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E5D-83F5-4DB4-9071-3359606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399-CF2F-4561-80B6-77D25D0B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A5C-FE2E-480C-A21B-3AEDA577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B3AE-9867-4103-8042-225D442740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lukoza jako przykład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ukru prost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Obraz 4" descr="delecta-glukoza-100g-Full.jpg"/>
          <p:cNvPicPr/>
          <p:nvPr/>
        </p:nvPicPr>
        <p:blipFill>
          <a:blip r:embed="rId1"/>
          <a:stretch/>
        </p:blipFill>
        <p:spPr>
          <a:xfrm>
            <a:off x="2556000" y="2276640"/>
            <a:ext cx="4194000" cy="3744720"/>
          </a:xfrm>
          <a:prstGeom prst="rect">
            <a:avLst/>
          </a:prstGeom>
          <a:ln w="0">
            <a:noFill/>
          </a:ln>
        </p:spPr>
      </p:pic>
      <p:sp>
        <p:nvSpPr>
          <p:cNvPr id="44" name="pole tekstowe 4"/>
          <p:cNvSpPr/>
          <p:nvPr/>
        </p:nvSpPr>
        <p:spPr>
          <a:xfrm>
            <a:off x="900000" y="609300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pracowała: mgr Agnieszka Szaf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tosow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10920" y="1483920"/>
            <a:ext cx="784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słodzenia potraw dla niemowląt i osób na    dieci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łukania włosów – uelastycznia je i zapobiega rozdwajani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barwienia skór i bielenia bawełn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rodukcji witaminy C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o środek wzmacniający serce i w schorzeniach wątrob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konserwowania krw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produkcji alkoholu etyloweg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tosowanie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m.in. lodów, pieczywa, przetworów owocowych i sztucznego miod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jogurtów, kefirów i śmietan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luster i bombek choinkowy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sorbitolu, środka słodzącego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diabetyków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produkcji kwasu cytrynowego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 nadawania połysku tkaninom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5400" spc="-1" strike="noStrike">
                <a:solidFill>
                  <a:srgbClr val="000000"/>
                </a:solidFill>
                <a:latin typeface="Calibri"/>
              </a:rPr>
              <a:t>GLUKOZA     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5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5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3" descr="glukoza1.jpg"/>
          <p:cNvPicPr/>
          <p:nvPr/>
        </p:nvPicPr>
        <p:blipFill>
          <a:blip r:embed="rId1"/>
          <a:stretch/>
        </p:blipFill>
        <p:spPr>
          <a:xfrm>
            <a:off x="684360" y="1844640"/>
            <a:ext cx="314460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Obraz 4" descr="d_glukoza.gif"/>
          <p:cNvPicPr/>
          <p:nvPr/>
        </p:nvPicPr>
        <p:blipFill>
          <a:blip r:embed="rId2"/>
          <a:stretch/>
        </p:blipFill>
        <p:spPr>
          <a:xfrm>
            <a:off x="4716360" y="2852640"/>
            <a:ext cx="32241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lukoza jest związkiem chemicznym bardzo rozpowszechnionym w przyrodzie. Dużą ilość tej substancji zawiera sok winogron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Symbol zastępczy zawartości 3" descr="czerwone_winogrona.jpg"/>
          <p:cNvPicPr/>
          <p:nvPr/>
        </p:nvPicPr>
        <p:blipFill>
          <a:blip r:embed="rId1"/>
          <a:stretch/>
        </p:blipFill>
        <p:spPr>
          <a:xfrm>
            <a:off x="826920" y="2565360"/>
            <a:ext cx="2592720" cy="388476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zielone_winogrona.jpg"/>
          <p:cNvPicPr/>
          <p:nvPr/>
        </p:nvPicPr>
        <p:blipFill>
          <a:blip r:embed="rId2"/>
          <a:stretch/>
        </p:blipFill>
        <p:spPr>
          <a:xfrm>
            <a:off x="3924360" y="2637000"/>
            <a:ext cx="2438280" cy="367164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m935_winogrono.jpg"/>
          <p:cNvPicPr/>
          <p:nvPr/>
        </p:nvPicPr>
        <p:blipFill>
          <a:blip r:embed="rId3"/>
          <a:stretch/>
        </p:blipFill>
        <p:spPr>
          <a:xfrm>
            <a:off x="6012000" y="260280"/>
            <a:ext cx="2844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lukoza powstaje w procesie fotosyntezy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roślinach zielonych, którego przebieg możn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sposób uproszczony przedstawić za pomocą równania reakcji chemiczn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3284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6C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pl-PL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pl-PL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lukoza to podstawowe źródło energii dla wszystkich organizmów. Jest rozprowadzana przez krew do wszystkich komórek , gdzie ulega wieloetapowym przemianom. W wyniku utleniania glukozy, następuje wydzielenie dużej ilości energii.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iologiczne utlenianie glukozy ma postać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414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+ 6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→ 6CO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pl-PL" sz="3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800" spc="-1" strike="noStrike">
                <a:solidFill>
                  <a:srgbClr val="000000"/>
                </a:solidFill>
                <a:latin typeface="Calibri"/>
              </a:rPr>
              <a:t>O + energ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0000"/>
                </a:solidFill>
                <a:latin typeface="Calibri"/>
              </a:rPr>
              <a:t>Właściwości gluko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Właściwości fizy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ubstancja sta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rystali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barw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brze rozpuszcza się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wodz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Właściwości chemi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nosachary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ezwo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łodki sm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óba Trommer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do świeżo otrzymanego wodorotlenku miedzi (II) dodajemy roztwór glukoz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ogrzewamy w łaźni wodn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az 6" descr="GCH_3C26_03Nd.jpg"/>
          <p:cNvPicPr/>
          <p:nvPr/>
        </p:nvPicPr>
        <p:blipFill>
          <a:blip r:embed="rId1"/>
          <a:stretch/>
        </p:blipFill>
        <p:spPr>
          <a:xfrm>
            <a:off x="5003640" y="3068640"/>
            <a:ext cx="3822840" cy="312732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8"/>
          <p:cNvSpPr/>
          <p:nvPr/>
        </p:nvSpPr>
        <p:spPr>
          <a:xfrm>
            <a:off x="324000" y="3284640"/>
            <a:ext cx="4679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 chwili ogrzewania niebieski osad wodorotlenku miedzi (II) zmienia barwę na ceglastoczerwoną – powstaje tlenek miedzi (I) C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ole tekstowe 4"/>
          <p:cNvSpPr/>
          <p:nvPr/>
        </p:nvSpPr>
        <p:spPr>
          <a:xfrm>
            <a:off x="611280" y="206064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lukoza + 2Cu(OH)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→ Cu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 + kwas organiczny + 2H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óba Tollens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do azotanu (V) srebra (I) dodajemy kilka kropli stężonego roztworu wodorotlenku sodu, a następnie roztwór amoniaku, aż do rozpuszczenia powstałego osadu. Na koniec dodajemy roztwór glukozy i wstawiamy do łaźni wodnej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716280"/>
            <a:ext cx="403848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czas ogrzewania na ściankach naczynia pojawia się srebro, czyli tzw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lustro srebr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Symbol zastępczy zawartości 4" descr="P2260308.JPG"/>
          <p:cNvPicPr/>
          <p:nvPr/>
        </p:nvPicPr>
        <p:blipFill>
          <a:blip r:embed="rId1"/>
          <a:stretch/>
        </p:blipFill>
        <p:spPr>
          <a:xfrm>
            <a:off x="4716360" y="3500280"/>
            <a:ext cx="4127760" cy="30974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4"/>
          <p:cNvSpPr/>
          <p:nvPr/>
        </p:nvSpPr>
        <p:spPr>
          <a:xfrm>
            <a:off x="539640" y="2565360"/>
            <a:ext cx="820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g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+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→ 2 Ag + C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ozytywny wynik prób Trommera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i Tollensa dowodzi, że 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glukoza ma właściwości redukujące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0:37:28Z</dcterms:created>
  <dc:creator>Aga</dc:creator>
  <dc:description/>
  <dc:language>en-US</dc:language>
  <cp:lastModifiedBy>Aga</cp:lastModifiedBy>
  <dcterms:modified xsi:type="dcterms:W3CDTF">2014-08-11T20:13:44Z</dcterms:modified>
  <cp:revision>20</cp:revision>
  <dc:subject/>
  <dc:title>Glukoza jako przykład cukru prostego</dc:title>
</cp:coreProperties>
</file>