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682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06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13011-932E-4621-B7A5-C49746B4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E020C-1139-4DC5-804A-20B08EEC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263FF-EED0-42C6-AB37-6255AD01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AF8F3-DD9B-48ED-8837-832AC66B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8EC7D-99C6-4BB0-8EFE-2350242D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5EF4D-2AF6-4B85-956B-14DB2AE9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0603B-4199-49D6-88C4-D2C79E24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5C864-D6C1-4468-851A-DE96CE19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9E06E-3F0B-4E7C-8030-CEDC0D8C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51FE4-ACA7-44FB-AEAB-4939E781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9949F-FFF3-4291-9AEA-46EE5DAC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82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06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00FFB-BE46-4FCA-9E45-1D447908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746748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9E5D-6277-46CB-8754-5AC6B1167A02}" type="slidenum"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-1220760"/>
            <a:ext cx="8229600" cy="64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0" spc="-1" strike="noStrike" u="sng">
                <a:solidFill>
                  <a:srgbClr val="0066ff"/>
                </a:solidFill>
                <a:uFillTx/>
                <a:latin typeface="Times New Roman"/>
              </a:rPr>
              <a:t>BUDOWA </a:t>
            </a:r>
            <a:br>
              <a:rPr sz="14000"/>
            </a:br>
            <a:r>
              <a:rPr b="0" lang="pl-PL" sz="14000" spc="-1" strike="noStrike" u="sng">
                <a:solidFill>
                  <a:srgbClr val="0066ff"/>
                </a:solidFill>
                <a:uFillTx/>
                <a:latin typeface="Times New Roman"/>
              </a:rPr>
              <a:t>ATOMU</a:t>
            </a:r>
            <a:endParaRPr b="0" lang="en-US" sz="1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6095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wykonała: 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mgr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Agnieszka Szafr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38080" y="1143000"/>
            <a:ext cx="7620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Atom w normalnym stanie jest elektrycznie obojętny, z czego wynika, że jądro zawiera całkowitą liczbę dodatnich ładunków elementarnych (protonów) równą liczbie ujemnych ładunków elementarnych (elektronów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822960"/>
            <a:ext cx="8001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iczbę dodatnich ładunków elementarnych (protonów) nazywamy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liczbą atomową – Z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 Jest ona charakterystyczna dla atomu danego pierwiastka chemicznego (liczba porządkow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 układzie okresowym pierwiastków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 masie całkowitej jądra decyduje łączna liczba nukleonów (protony i neutrony)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 jądrze atomu danego pierwiastka chemicznego i równa jest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liczbie masowej A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0880" y="304920"/>
            <a:ext cx="38102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dsumujmy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składniki atomu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proton 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neutron 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elektron(y) 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228600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2285280"/>
            <a:ext cx="291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kładniki jądra atomowego zwane nukleon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41133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rążą po powłok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644360"/>
            <a:ext cx="31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1840 razy lżejszy od protonu i neutron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049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liczanie ilości  cząstek elementarnych w atom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019920" y="1066680"/>
            <a:ext cx="1600200" cy="1447920"/>
            <a:chOff x="6019920" y="1066680"/>
            <a:chExt cx="1600200" cy="1447920"/>
          </a:xfrm>
        </p:grpSpPr>
        <p:sp>
          <p:nvSpPr>
            <p:cNvPr id="168" name=""/>
            <p:cNvSpPr txBox="1"/>
            <p:nvPr/>
          </p:nvSpPr>
          <p:spPr>
            <a:xfrm>
              <a:off x="6629400" y="1219320"/>
              <a:ext cx="99072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1" strike="noStrike">
                  <a:ln w="0">
                    <a:solidFill>
                      <a:srgbClr val="008000"/>
                    </a:solidFill>
                  </a:ln>
                  <a:solidFill>
                    <a:srgbClr val="008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C</a:t>
              </a:r>
              <a:endParaRPr b="0" lang="en-US" sz="7200" spc="1" strike="noStrike">
                <a:ln w="0">
                  <a:solidFill>
                    <a:srgbClr val="008000"/>
                  </a:solidFill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6019920" y="1066680"/>
              <a:ext cx="5526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solidFill>
                      <a:srgbClr val="008000"/>
                    </a:solidFill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Times New Roman"/>
                </a:rPr>
                <a:t>A</a:t>
              </a:r>
              <a:endParaRPr b="0" lang="en-US" sz="2400" spc="1" strike="noStrike">
                <a:ln w="0">
                  <a:solidFill>
                    <a:srgbClr val="008000"/>
                  </a:solidFill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6096240" y="1981080"/>
              <a:ext cx="4093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solidFill>
                      <a:srgbClr val="008000"/>
                    </a:solidFill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Times New Roman"/>
                </a:rPr>
                <a:t>z</a:t>
              </a:r>
              <a:endParaRPr b="0" lang="en-US" sz="2400" spc="1" strike="noStrike">
                <a:ln w="0">
                  <a:solidFill>
                    <a:srgbClr val="008000"/>
                  </a:solidFill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04920" y="304812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lość elektronów 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e(-) = 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4038480"/>
            <a:ext cx="41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lość protonów  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(+) = 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398556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ilość elektronów = ilości protonów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040" y="5068080"/>
            <a:ext cx="611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lość neutronów   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(0) = A - 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18440" y="121680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czba masow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235980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czba  atomow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1447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800600" y="236196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93640" y="739800"/>
            <a:ext cx="16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5320" y="1674720"/>
            <a:ext cx="85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5120" y="1597680"/>
            <a:ext cx="74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2968560"/>
            <a:ext cx="4402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e (-) = 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 (+) = 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 (0) = 12 – 6 = 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372320" y="1369800"/>
            <a:ext cx="136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480" y="1292760"/>
            <a:ext cx="74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2968560"/>
            <a:ext cx="1752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e (-) 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 (+) 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 (0) 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7280" y="36554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25000" y="29696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4400" y="4341240"/>
            <a:ext cx="30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23 – 11 = 1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372680" y="1369800"/>
            <a:ext cx="125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1292760"/>
            <a:ext cx="102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2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296856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e (-) 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 (+) 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 (0) 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1480" y="2893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8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800" y="36554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8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3480" y="4264920"/>
            <a:ext cx="358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207 – 82 = 12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73040" y="136980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1292760"/>
            <a:ext cx="102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12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2968560"/>
            <a:ext cx="1905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e (-) 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 (+) 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 (0) 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5520" y="29696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1480" y="36554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4264920"/>
            <a:ext cx="330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127 – 53 = 7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28600" y="4536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rbity (powłoki elektronowe), po których krążą elektrony nazywamy kolejnymi literami alfabetu zaczynając od 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4038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7440" y="38844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3448080"/>
            <a:ext cx="1439640" cy="1440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27240" y="3672000"/>
            <a:ext cx="990720" cy="99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70320" y="3087720"/>
            <a:ext cx="2158920" cy="215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97000" y="27226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35200" y="2343240"/>
            <a:ext cx="3598920" cy="359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68360" y="1952640"/>
            <a:ext cx="4318200" cy="4317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88920" y="1546200"/>
            <a:ext cx="5038920" cy="503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53360" y="3932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18080" y="3927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40640" y="3884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5200" y="38847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02760" y="3884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07680" y="3884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88200" y="3884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69440" y="3884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122760"/>
            <a:ext cx="8381880" cy="59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Maksymalną ilość elektronów na powłokach elektronowych obliczamy ze wzoru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000000"/>
                </a:solidFill>
                <a:latin typeface="Times New Roman"/>
              </a:rPr>
              <a:t>2n</a:t>
            </a:r>
            <a:r>
              <a:rPr b="1" lang="pl-PL" sz="6600" spc="-1" strike="noStrike" baseline="30000">
                <a:solidFill>
                  <a:srgbClr val="000000"/>
                </a:solidFill>
                <a:latin typeface="Times New Roman"/>
              </a:rPr>
              <a:t>2    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 baseline="30000">
                <a:solidFill>
                  <a:srgbClr val="000000"/>
                </a:solidFill>
                <a:latin typeface="Times New Roman"/>
              </a:rPr>
              <a:t>n – numer powłoki elektronowej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66"/>
                </a:solidFill>
                <a:latin typeface="Tahoma"/>
              </a:rPr>
              <a:t>Spis treści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80808"/>
                </a:solidFill>
                <a:latin typeface="Times New Roman"/>
              </a:rPr>
              <a:t>1.</a:t>
            </a:r>
            <a:r>
              <a:rPr b="0" lang="pl-PL" sz="3200" spc="-1" strike="noStrike">
                <a:solidFill>
                  <a:srgbClr val="ffcc99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80808"/>
                </a:solidFill>
                <a:latin typeface="Times New Roman"/>
              </a:rPr>
              <a:t>Teoria atomistyczna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80808"/>
                </a:solidFill>
                <a:latin typeface="Times New Roman"/>
              </a:rPr>
              <a:t>2. Budowa atomu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80808"/>
                </a:solidFill>
                <a:latin typeface="Times New Roman"/>
              </a:rPr>
              <a:t>3. Obliczanie ilości cząstek elementarnych w atomie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80808"/>
                </a:solidFill>
                <a:latin typeface="Times New Roman"/>
              </a:rPr>
              <a:t>4. Rozmieszczanie elektronów na powłokach elektronowych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80808"/>
                </a:solidFill>
                <a:latin typeface="Times New Roman"/>
              </a:rPr>
              <a:t>5. Przykłady i ćwiczenia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3790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aksymalne upakowanie elektronów na poszczególnych powłokach elektronowy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90720" y="1600200"/>
          <a:ext cx="6095880" cy="35607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włoka elektronow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symalna ilość elektronó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*1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2)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*2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8)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*3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18)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*4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32)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*5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50)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*6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72)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04920" y="8398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Numer okresu (od 1 do 7) </a:t>
            </a:r>
            <a:br>
              <a:rPr sz="4800"/>
            </a:b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w układzie okresowym mówi nam o ilości powłok elektronowych w atomie danego pierwiastka chemicznego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0880" y="75744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umer grupy lub numer grupy pomniejszony o 10 (dla grup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 numerach od 13 do 18) mówi nam o liczbie elektronów walencyjnych tj. elektronów na najbardziej zewnętrznej powłoce elektronowej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200" y="6840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ozmieszczenie elektronów w atomie węgl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4800" y="152208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5360" y="136368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6760" y="1294920"/>
            <a:ext cx="268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 (+) = 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 (-) = 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 (0) = 12 – 6 = 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9880" y="2818440"/>
            <a:ext cx="574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2 okres – 2 powłoki elektronowe (K 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4 grupa – 4 elektrony walencyj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4493880"/>
            <a:ext cx="108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   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   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0880" y="226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ozmieszczenie elektronów w atomie sod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79840" y="1064880"/>
            <a:ext cx="106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1960" y="91260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40800" y="837720"/>
            <a:ext cx="117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 (+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 (-) =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 (0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4280" y="2361240"/>
            <a:ext cx="614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3 okres – 3 powłoki elektronowe (K L 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 grupa – 1 elektron walencyj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3914280"/>
            <a:ext cx="108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   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    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  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58680" y="836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58680" y="12938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38080" y="1675080"/>
            <a:ext cx="19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23 – 11 = 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666520" y="3352680"/>
            <a:ext cx="25146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96000" y="56372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11–(2+1)=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120" y="562788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X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62160" y="44035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80880" y="226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ozmieszczenie elektronów w atomie ołowi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20880" y="1064880"/>
            <a:ext cx="98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9080" y="876240"/>
            <a:ext cx="94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20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40800" y="837720"/>
            <a:ext cx="117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 (+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 (-) =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 (0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6080" y="2361240"/>
            <a:ext cx="73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6 okres – 6 powłok elektronowych (K L M N O 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4 grupa – 4 elektronów walencyjn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3520" y="3274200"/>
            <a:ext cx="122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    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    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  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N   3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     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8680" y="836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8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8680" y="12938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8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06040" y="1675080"/>
            <a:ext cx="23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207 – 82 = 1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666520" y="3351960"/>
            <a:ext cx="251460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14800" y="563724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82–(2+8+18+32+4)=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07480" y="563724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X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43280" y="5274720"/>
            <a:ext cx="8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0880" y="226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ozmieszczenie elektronów w atomie jod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74680" y="1064880"/>
            <a:ext cx="47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4880" y="912600"/>
            <a:ext cx="94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1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40800" y="837720"/>
            <a:ext cx="117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 (+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 (-) =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 (0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5720" y="2361240"/>
            <a:ext cx="70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5 okres – 5 powłok elektronowych (K L M N 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7 grupa – 7 elektronów walencyjn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76520" y="3274200"/>
            <a:ext cx="1087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   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   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 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N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   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58680" y="836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58680" y="12938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48800" y="16750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127 – 53 = 7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742840" y="3351960"/>
            <a:ext cx="243828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17720" y="578988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53–(2+8+18+7)=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5680" y="578988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X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4798800"/>
            <a:ext cx="8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0880" y="304920"/>
            <a:ext cx="38102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dsumujmy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składniki atomu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proton 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neutron 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elektron(y) 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228600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2285280"/>
            <a:ext cx="291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kładniki jądra atomowego zwane nukleon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41133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rążą po powłok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4644360"/>
            <a:ext cx="31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1840 razy lżejszy od protonu i neutron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2590920"/>
            <a:ext cx="2971800" cy="2743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358128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33720" y="388620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33720" y="365760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5120" y="380988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365760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373392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81080" y="396252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0" y="388620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403848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7400" y="411480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8800" y="396252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396252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0" y="365760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87160" y="2819520"/>
            <a:ext cx="4556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ądro atomowe (protony i neutron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włoki elektrono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włoka walencyj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lektro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4400" y="2819520"/>
            <a:ext cx="2590920" cy="228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3048120"/>
            <a:ext cx="1981080" cy="1904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666880" y="3048120"/>
            <a:ext cx="1524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047760" y="46483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3733920" y="38862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504960" y="38098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23880" y="46483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81080" y="495288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51055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297180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32767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9960" y="803160"/>
            <a:ext cx="72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Model budowy atomu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rzykł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3047760" y="5410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2209680" y="5257800"/>
            <a:ext cx="1981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80808"/>
                </a:solidFill>
                <a:latin typeface="Times New Roman"/>
              </a:rPr>
              <a:t>Teoria atomistyczn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80808"/>
                </a:solidFill>
                <a:latin typeface="Verdana"/>
              </a:rPr>
              <a:t>W V wieku p.n.e starożytny filozof Demokryt głosił, że materia składa się z bardzo małych kulek – atomów, jednak swojej teorii nie mógł poprzeć dowodami eksperymentalnymi.</a:t>
            </a:r>
            <a:endParaRPr b="0" lang="en-US" sz="2800" spc="-1" strike="noStrike">
              <a:solidFill>
                <a:srgbClr val="ffcc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80808"/>
                </a:solidFill>
                <a:latin typeface="Verdana"/>
              </a:rPr>
              <a:t>Po dwudziestu wiekach dopiero Dalton </a:t>
            </a:r>
            <a:br>
              <a:rPr sz="2800"/>
            </a:br>
            <a:r>
              <a:rPr b="0" lang="pl-PL" sz="2800" spc="-1" strike="noStrike">
                <a:solidFill>
                  <a:srgbClr val="080808"/>
                </a:solidFill>
                <a:latin typeface="Verdana"/>
              </a:rPr>
              <a:t>(w 1805r) skonkretyzował zasadnicze założenia atomistycznej teorii:</a:t>
            </a:r>
            <a:endParaRPr b="0" lang="en-US" sz="2800" spc="-1" strike="noStrike">
              <a:solidFill>
                <a:srgbClr val="ffcc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04920" y="822960"/>
            <a:ext cx="8001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iczbę dodatnich ładunków elementarnych (protonów) nazywamy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liczbą atomową – Z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 Jest ona charakterystyczna dla atomu danego pierwiastka chemicznego (liczba porządkow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 układzie okresowym pierwiastków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 masie całkowitej jądra decyduje łączna liczba nukleonów (protony i neutrony)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 jądrze atomu danego pierwiastka chemicznego i równa jest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liczbie masowej A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838080" y="1143000"/>
            <a:ext cx="7620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Atom w normalnym stanie jest elektrycznie obojętny, z czego wynika, że jądro zawiera całkowitą liczbę dodatnich ładunków elementarnych (protonów) równą liczbie ujemnych ładunków elementarnych (elektronów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049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liczanie ilości  cząstek elementarnych w atom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019920" y="1066680"/>
            <a:ext cx="1600200" cy="1447920"/>
            <a:chOff x="6019920" y="1066680"/>
            <a:chExt cx="1600200" cy="1447920"/>
          </a:xfrm>
        </p:grpSpPr>
        <p:sp>
          <p:nvSpPr>
            <p:cNvPr id="307" name=""/>
            <p:cNvSpPr txBox="1"/>
            <p:nvPr/>
          </p:nvSpPr>
          <p:spPr>
            <a:xfrm>
              <a:off x="6629400" y="1219320"/>
              <a:ext cx="99072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1" strike="noStrike">
                  <a:ln w="0">
                    <a:solidFill>
                      <a:srgbClr val="008000"/>
                    </a:solidFill>
                  </a:ln>
                  <a:solidFill>
                    <a:srgbClr val="008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C</a:t>
              </a:r>
              <a:endParaRPr b="0" lang="en-US" sz="7200" spc="1" strike="noStrike">
                <a:ln w="0">
                  <a:solidFill>
                    <a:srgbClr val="008000"/>
                  </a:solidFill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6019920" y="1066680"/>
              <a:ext cx="5526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solidFill>
                      <a:srgbClr val="008000"/>
                    </a:solidFill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Times New Roman"/>
                </a:rPr>
                <a:t>A</a:t>
              </a:r>
              <a:endParaRPr b="0" lang="en-US" sz="2400" spc="1" strike="noStrike">
                <a:ln w="0">
                  <a:solidFill>
                    <a:srgbClr val="008000"/>
                  </a:solidFill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6096240" y="1981080"/>
              <a:ext cx="4093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solidFill>
                      <a:srgbClr val="008000"/>
                    </a:solidFill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Times New Roman"/>
                </a:rPr>
                <a:t>z</a:t>
              </a:r>
              <a:endParaRPr b="0" lang="en-US" sz="2400" spc="1" strike="noStrike">
                <a:ln w="0">
                  <a:solidFill>
                    <a:srgbClr val="008000"/>
                  </a:solidFill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304920" y="304812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lość elektronów 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e(-) = 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4038480"/>
            <a:ext cx="41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lość protonów  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(+) = 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724280" y="398556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ilość elektronów = ilości protonów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040" y="5068080"/>
            <a:ext cx="611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lość neutronów   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(0) = A - 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18440" y="121680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czba masow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5080" y="235980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czba  atomow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1447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00600" y="236196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04920" y="8398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Numer okresu (od 1 do 7) </a:t>
            </a:r>
            <a:br>
              <a:rPr sz="4800"/>
            </a:b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w układzie okresowym mówi nam o ilości powłok elektronowych w atomie danego pierwiastka chemicznego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0880" y="75744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umer grupy lub numer grupy pomniejszony o 10 (dla grup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 numerach od 13 do 18) mówi nam o liczbie elektronów walencyjnych tj. elektronów na najbardziej zewnętrznej powłoce elektronowej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228600"/>
            <a:ext cx="830556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80808"/>
                </a:solidFill>
                <a:latin typeface="Times New Roman"/>
              </a:rPr>
              <a:t>pierwiastki składają się z niezmiernie małych, niepodzielnych cząstek (atomów), które zachowują swoją indywidualność podczas przemian fizycznych </a:t>
            </a:r>
            <a:br>
              <a:rPr sz="2800"/>
            </a:br>
            <a:r>
              <a:rPr b="0" lang="pl-PL" sz="2800" spc="-1" strike="noStrike">
                <a:solidFill>
                  <a:srgbClr val="080808"/>
                </a:solidFill>
                <a:latin typeface="Times New Roman"/>
              </a:rPr>
              <a:t>i chemicznych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80808"/>
                </a:solidFill>
                <a:latin typeface="Times New Roman"/>
              </a:rPr>
              <a:t>wszystkie atomy jednego pierwiastka są jednakow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080808"/>
                </a:solidFill>
                <a:latin typeface="Times New Roman"/>
              </a:rPr>
              <a:t>atomy różnych pierwiastków różnią się wielkością, masą i właściwościam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80808"/>
                </a:solidFill>
                <a:latin typeface="Times New Roman"/>
              </a:rPr>
              <a:t>c) chemiczne łączenie się pierwiastków jest łączeniem się poszczególnych atom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274320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274320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04812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266688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304812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274320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304812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449568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495680"/>
            <a:ext cx="68580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4038480"/>
            <a:ext cx="1143000" cy="11430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4495680"/>
            <a:ext cx="83844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4267080"/>
            <a:ext cx="990720" cy="91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3880" y="1295280"/>
            <a:ext cx="1067040" cy="10670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1295280"/>
            <a:ext cx="457200" cy="4572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2362320"/>
            <a:ext cx="457200" cy="4572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1219320"/>
            <a:ext cx="457200" cy="4572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274320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25146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8680" y="2362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25146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28195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33526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2819520"/>
            <a:ext cx="762120" cy="76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2590920"/>
            <a:ext cx="762120" cy="76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048120"/>
            <a:ext cx="762120" cy="76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7339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4495680"/>
            <a:ext cx="99072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4724280"/>
            <a:ext cx="533520" cy="533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457200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5040" y="498600"/>
            <a:ext cx="8093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Atom składa się z jądra okrążanego przez jeden lub większą liczbę ujemnie naładowanych cząstek, zwanych 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elektronami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Podstawowymi składnikami jądra są 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nukleony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, czyli dodatnie 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protony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i pozbawione ładunku 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neutrony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3520" y="803160"/>
            <a:ext cx="8001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Wokół jądra znajduje się przestrzeń,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w której poruszają się elektrony.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Jądro atomowe otoczone jest szeregiem powłok elektronowych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o wzrastającym promieniu. Promień powłoki jest w przybliżeniu 100 000 razy większy niż promień jądr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ahoma"/>
              </a:rPr>
              <a:t>Rodzaje cząstek elementarnych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3960" y="1941480"/>
          <a:ext cx="8229600" cy="2743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4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zw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ładune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s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u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k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/1840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2120" y="2590920"/>
            <a:ext cx="2971800" cy="2743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358128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388620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365760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380988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365760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373392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396252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388620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03848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411480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396252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396252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365760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87160" y="2819520"/>
            <a:ext cx="4556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ądro atomowe (protony i neutron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włoki elektrono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włoka walencyj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lektro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819520"/>
            <a:ext cx="2590920" cy="228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3048120"/>
            <a:ext cx="1981080" cy="1904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666880" y="3048120"/>
            <a:ext cx="1524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047760" y="46483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733920" y="38862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504960" y="38098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46483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495288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1055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297180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32767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9960" y="803160"/>
            <a:ext cx="72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Model budowy atomu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rzykł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047760" y="5410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2209680" y="5257800"/>
            <a:ext cx="1981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18:01:38Z</dcterms:created>
  <dc:creator>tacin</dc:creator>
  <dc:description/>
  <dc:language>en-US</dc:language>
  <cp:lastModifiedBy>Agnieszka Szafran</cp:lastModifiedBy>
  <dcterms:modified xsi:type="dcterms:W3CDTF">2003-11-26T19:18:52Z</dcterms:modified>
  <cp:revision>98</cp:revision>
  <dc:subject/>
  <dc:title>BUDOWA ATOMU</dc:title>
</cp:coreProperties>
</file>