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6.wmf" ContentType="image/x-wmf"/>
  <Override PartName="/ppt/media/image8.jpeg" ContentType="image/jpeg"/>
  <Override PartName="/ppt/media/laser.wav" ContentType="audio/x-wav"/>
  <Override PartName="/ppt/media/image4.jpeg" ContentType="image/jpeg"/>
  <Override PartName="/ppt/media/glass.wav" ContentType="audio/x-wav"/>
  <Override PartName="/ppt/media/carbrake.wav" ContentType="audio/x-wav"/>
  <Override PartName="/ppt/media/image3.jpeg" ContentType="image/jpeg"/>
  <Override PartName="/ppt/media/explode.wav" ContentType="audio/x-wav"/>
  <Override PartName="/ppt/media/camera.wav" ContentType="audio/x-wav"/>
  <Override PartName="/ppt/media/image1.wmf" ContentType="image/x-wmf"/>
  <Override PartName="/ppt/media/image2.wmf" ContentType="image/x-wmf"/>
  <Override PartName="/ppt/media/chimes.wav" ContentType="audio/x-wav"/>
  <Override PartName="/ppt/media/image7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7114E-5F92-4298-9131-E5EC364A8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9F529-6F8F-485E-B97B-F286A9E05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C98B2-08CC-4857-9A29-F72720873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1F3CE-62B3-422E-8461-CF990CFAA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4C0AD-8DFC-4DBA-9622-D22771808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6EFBB-16EA-47CF-8437-E5355539B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1CAFA-5E87-4075-B0EF-2B48DFF8D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EA95A-B888-493D-A2A0-889BA4F52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92F32-35D1-4260-B822-0DBEDF598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735EF-4573-4F8B-8F77-978A306D9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5FC39-9E25-496A-B900-6B48625E2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0A4A5-36F1-437D-9B30-A97E9A9A6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00"/>
            </a:gs>
            <a:gs pos="100000">
              <a:srgbClr val="cc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337EA-939A-42CF-A55A-3FF5B47C7EBE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glass.wav"/><Relationship Id="rId2" Type="http://schemas.openxmlformats.org/officeDocument/2006/relationships/audio" Target="../media/carbrake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Reakcje zobojętnian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648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3200" spc="-1" strike="noStrike">
                <a:solidFill>
                  <a:srgbClr val="000000"/>
                </a:solidFill>
                <a:latin typeface="Times New Roman"/>
              </a:rPr>
              <a:t>Opracowała: mgr Agnieszka Szafra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2120" y="1676160"/>
            <a:ext cx="7772400" cy="281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Musimy znać również </a:t>
            </a:r>
            <a:br>
              <a:rPr sz="4400"/>
            </a:b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wzory chemiczne </a:t>
            </a:r>
            <a:br>
              <a:rPr sz="4400"/>
            </a:b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powstałych produktów</a:t>
            </a:r>
            <a:br>
              <a:rPr sz="4400"/>
            </a:b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podczas tej reakcj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720" y="1523880"/>
            <a:ext cx="7162560" cy="327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Przypuśćmy, że użyjemy </a:t>
            </a:r>
            <a:br>
              <a:rPr sz="4400"/>
            </a:b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do reakcji kwasu chlorowodorowego </a:t>
            </a:r>
            <a:br>
              <a:rPr sz="4400"/>
            </a:b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(solnego) HCl </a:t>
            </a:r>
            <a:br>
              <a:rPr sz="4400"/>
            </a:b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i zasady sodowej NaO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HCl + NaOH </a:t>
            </a:r>
            <a:r>
              <a:rPr b="0" lang="pl-PL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Teraz musimy wiedzieć, co powstanie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29528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800" spc="-1" strike="noStrike">
                <a:solidFill>
                  <a:srgbClr val="000000"/>
                </a:solidFill>
                <a:latin typeface="Times New Roman"/>
              </a:rPr>
              <a:t>ma powstać sól i wod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500"/>
                            </p:stCondLst>
                            <p:childTnLst>
                              <p:par>
                                <p:cTn id="124" nodeType="afterEffect" fill="hold" presetClass="entr" presetID="12" presetSubtype="4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6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Popatrz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7" descr="woda"/>
          <p:cNvPicPr/>
          <p:nvPr/>
        </p:nvPicPr>
        <p:blipFill>
          <a:blip r:embed="rId1"/>
          <a:stretch/>
        </p:blipFill>
        <p:spPr>
          <a:xfrm>
            <a:off x="5486400" y="4267080"/>
            <a:ext cx="2743200" cy="18432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9" descr="KROPELKAgetty2"/>
          <p:cNvPicPr/>
          <p:nvPr/>
        </p:nvPicPr>
        <p:blipFill>
          <a:blip r:embed="rId2"/>
          <a:stretch/>
        </p:blipFill>
        <p:spPr>
          <a:xfrm>
            <a:off x="4038480" y="2133720"/>
            <a:ext cx="2235240" cy="22860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0" descr="solniczka"/>
          <p:cNvPicPr/>
          <p:nvPr/>
        </p:nvPicPr>
        <p:blipFill>
          <a:blip r:embed="rId3"/>
          <a:stretch/>
        </p:blipFill>
        <p:spPr>
          <a:xfrm>
            <a:off x="380880" y="2666880"/>
            <a:ext cx="3581640" cy="271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52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HCl + NaOH </a:t>
            </a:r>
            <a:r>
              <a:rPr b="0" lang="pl-PL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 NaCl +H</a:t>
            </a:r>
            <a:r>
              <a:rPr b="0" lang="pl-PL" sz="4400" spc="-1" strike="noStrike" baseline="-22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62120" y="99036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Po prawej i lewej stronie równania mamy tyle samo danych pierwiastkó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066320" y="3809520"/>
            <a:ext cx="71629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 u="sng">
                <a:solidFill>
                  <a:srgbClr val="000000"/>
                </a:solidFill>
                <a:uFillTx/>
                <a:latin typeface="Times New Roman"/>
              </a:rPr>
              <a:t>Równanie jest napisane poprawn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Inny przykład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5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pl-PL" sz="5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l-PL" sz="5400" spc="-1" strike="noStrike">
                <a:solidFill>
                  <a:srgbClr val="000000"/>
                </a:solidFill>
                <a:latin typeface="Times New Roman"/>
              </a:rPr>
              <a:t>S + KOH </a:t>
            </a:r>
            <a:r>
              <a:rPr b="0" lang="pl-PL" sz="5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pl-PL" sz="5400" spc="-1" strike="noStrike">
                <a:solidFill>
                  <a:srgbClr val="000000"/>
                </a:solidFill>
                <a:latin typeface="Times New Roman"/>
              </a:rPr>
              <a:t> K</a:t>
            </a:r>
            <a:r>
              <a:rPr b="0" lang="pl-PL" sz="5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l-PL" sz="5400" spc="-1" strike="noStrike">
                <a:solidFill>
                  <a:srgbClr val="000000"/>
                </a:solidFill>
                <a:latin typeface="Times New Roman"/>
              </a:rPr>
              <a:t>S + H</a:t>
            </a:r>
            <a:r>
              <a:rPr b="0" lang="pl-PL" sz="5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l-PL" sz="5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609120" y="2209320"/>
            <a:ext cx="807732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Times New Roman"/>
              </a:rPr>
              <a:t>W tym równaniu po lewej stronie </a:t>
            </a:r>
            <a:br>
              <a:rPr sz="3600"/>
            </a:br>
            <a:r>
              <a:rPr b="0" lang="pl-PL" sz="3600" spc="-1" strike="noStrike">
                <a:solidFill>
                  <a:srgbClr val="000000"/>
                </a:solidFill>
                <a:latin typeface="Times New Roman"/>
              </a:rPr>
              <a:t>jest jeden atom potasu, po prawej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Times New Roman"/>
              </a:rPr>
              <a:t>są dwa, więc po lewej stronie trzeba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Times New Roman"/>
              </a:rPr>
              <a:t>przed wzorem KOH wstawić 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5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pl-PL" sz="5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l-PL" sz="5400" spc="-1" strike="noStrike">
                <a:solidFill>
                  <a:srgbClr val="000000"/>
                </a:solidFill>
                <a:latin typeface="Times New Roman"/>
              </a:rPr>
              <a:t>S + 2KOH </a:t>
            </a:r>
            <a:r>
              <a:rPr b="0" lang="pl-PL" sz="5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pl-PL" sz="5400" spc="-1" strike="noStrike">
                <a:solidFill>
                  <a:srgbClr val="000000"/>
                </a:solidFill>
                <a:latin typeface="Times New Roman"/>
              </a:rPr>
              <a:t> K</a:t>
            </a:r>
            <a:r>
              <a:rPr b="0" lang="pl-PL" sz="5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l-PL" sz="5400" spc="-1" strike="noStrike">
                <a:solidFill>
                  <a:srgbClr val="000000"/>
                </a:solidFill>
                <a:latin typeface="Times New Roman"/>
              </a:rPr>
              <a:t>S + H</a:t>
            </a:r>
            <a:r>
              <a:rPr b="0" lang="pl-PL" sz="5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l-PL" sz="5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838080" y="2362320"/>
            <a:ext cx="746784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Times New Roman"/>
              </a:rPr>
              <a:t>Teraz liczymy wodory po lewej stronie, są cztery a po prawej są dwa, więc musimy przed wzorem H</a:t>
            </a:r>
            <a:r>
              <a:rPr b="0" lang="pl-PL" sz="4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l-PL" sz="4000" spc="-1" strike="noStrike">
                <a:solidFill>
                  <a:srgbClr val="000000"/>
                </a:solidFill>
                <a:latin typeface="Times New Roman"/>
              </a:rPr>
              <a:t>O wstawić też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Metody otrzymywania sol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380520" y="3352320"/>
            <a:ext cx="815364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Times New Roman"/>
              </a:rPr>
              <a:t>Jest kilka metod otrzymywania soli, przybliżymy sobie jedną z ni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80520" y="7617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5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pl-PL" sz="5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l-PL" sz="5400" spc="-1" strike="noStrike">
                <a:solidFill>
                  <a:srgbClr val="000000"/>
                </a:solidFill>
                <a:latin typeface="Times New Roman"/>
              </a:rPr>
              <a:t>S + 2KOH </a:t>
            </a:r>
            <a:r>
              <a:rPr b="0" lang="pl-PL" sz="5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pl-PL" sz="5400" spc="-1" strike="noStrike">
                <a:solidFill>
                  <a:srgbClr val="000000"/>
                </a:solidFill>
                <a:latin typeface="Times New Roman"/>
              </a:rPr>
              <a:t> K</a:t>
            </a:r>
            <a:r>
              <a:rPr b="0" lang="pl-PL" sz="5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l-PL" sz="5400" spc="-1" strike="noStrike">
                <a:solidFill>
                  <a:srgbClr val="000000"/>
                </a:solidFill>
                <a:latin typeface="Times New Roman"/>
              </a:rPr>
              <a:t>S + 2H</a:t>
            </a:r>
            <a:r>
              <a:rPr b="0" lang="pl-PL" sz="5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l-PL" sz="5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219320" y="2286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800" spc="-1" strike="noStrike">
                <a:solidFill>
                  <a:srgbClr val="000000"/>
                </a:solidFill>
                <a:latin typeface="Times New Roman"/>
              </a:rPr>
              <a:t>Liczba innych pierwiastków zgadza się po obu stronach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800" spc="-1" strike="noStrike">
                <a:solidFill>
                  <a:srgbClr val="000000"/>
                </a:solidFill>
                <a:latin typeface="Times New Roman"/>
              </a:rPr>
              <a:t>Teraz równanie jest </a:t>
            </a:r>
            <a:br>
              <a:rPr sz="4800"/>
            </a:br>
            <a:r>
              <a:rPr b="0" lang="pl-PL" sz="4800" spc="-1" strike="noStrike" u="sng">
                <a:solidFill>
                  <a:srgbClr val="000000"/>
                </a:solidFill>
                <a:uFillTx/>
                <a:latin typeface="Times New Roman"/>
              </a:rPr>
              <a:t>napisane prawidłowo !!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I czy to nie jest proste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1" name="Object 3"/>
          <p:cNvGraphicFramePr/>
          <p:nvPr/>
        </p:nvGraphicFramePr>
        <p:xfrm>
          <a:off x="3886200" y="3124080"/>
          <a:ext cx="2744640" cy="2508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86200" y="3124080"/>
                    <a:ext cx="2744640" cy="250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52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Miłego pisania równań chemicznych </a:t>
            </a:r>
            <a:r>
              <a:rPr b="0" lang="pl-PL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br>
              <a:rPr sz="4400"/>
            </a:b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życzę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Object 4"/>
          <p:cNvGraphicFramePr/>
          <p:nvPr/>
        </p:nvGraphicFramePr>
        <p:xfrm>
          <a:off x="3809880" y="3048120"/>
          <a:ext cx="4595760" cy="2604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9880" y="3048120"/>
                    <a:ext cx="4595760" cy="260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4" descr="1"/>
          <p:cNvPicPr/>
          <p:nvPr/>
        </p:nvPicPr>
        <p:blipFill>
          <a:blip r:embed="rId1"/>
          <a:stretch/>
        </p:blipFill>
        <p:spPr>
          <a:xfrm>
            <a:off x="2057400" y="1600200"/>
            <a:ext cx="4572000" cy="34178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 u="sng">
                <a:solidFill>
                  <a:srgbClr val="000000"/>
                </a:solidFill>
                <a:uFillTx/>
                <a:latin typeface="Times New Roman"/>
              </a:rPr>
              <a:t>Reakcje zobojętnian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904760" y="4190760"/>
            <a:ext cx="380988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To reakcje kwasów </a:t>
            </a:r>
            <a:br>
              <a:rPr sz="3200"/>
            </a:b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z zasadami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1904760" y="2286000"/>
            <a:ext cx="380988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To jedna z metod otrzymywania sol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152352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Ogólne równanie otrzymywania soli w reakcji zobojętniania:</a:t>
            </a:r>
            <a:br>
              <a:rPr sz="4400"/>
            </a:b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837720" y="3580920"/>
            <a:ext cx="723924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kwas + zasada </a:t>
            </a:r>
            <a:r>
              <a:rPr b="0" lang="pl-PL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 sól + wo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Pamiętaj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560" y="1905120"/>
            <a:ext cx="55623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Aby napisać poprawnie reakcję chemiczną musisz znać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substraty, które będą wchodziły w reakcj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produkty, które powstaną podczas tej reakcj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5" descr="bd04924_"/>
          <p:cNvPicPr/>
          <p:nvPr/>
        </p:nvPicPr>
        <p:blipFill>
          <a:blip r:embed="rId1"/>
          <a:stretch/>
        </p:blipFill>
        <p:spPr>
          <a:xfrm>
            <a:off x="5638680" y="2209680"/>
            <a:ext cx="3051360" cy="39625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Po napisaniu poprawnie równania reakcji musisz dobrać współczynniki stechiometryczn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114440" y="2971800"/>
            <a:ext cx="43434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l-PL" sz="3600" spc="-1" strike="noStrike">
                <a:solidFill>
                  <a:srgbClr val="000000"/>
                </a:solidFill>
                <a:latin typeface="Times New Roman"/>
              </a:rPr>
              <a:t>czyli liczby, które znajdują się przed wzorami związków chemicznych </a:t>
            </a:r>
            <a:br>
              <a:rPr sz="3600"/>
            </a:br>
            <a:r>
              <a:rPr b="0" lang="pl-PL" sz="3600" spc="-1" strike="noStrike">
                <a:solidFill>
                  <a:srgbClr val="000000"/>
                </a:solidFill>
                <a:latin typeface="Times New Roman"/>
              </a:rPr>
              <a:t>w równani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5" descr="so01038_"/>
          <p:cNvPicPr/>
          <p:nvPr/>
        </p:nvPicPr>
        <p:blipFill>
          <a:blip r:embed="rId1"/>
          <a:stretch/>
        </p:blipFill>
        <p:spPr>
          <a:xfrm>
            <a:off x="685800" y="2971800"/>
            <a:ext cx="2967120" cy="29829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7543800" cy="44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Trzeba dokładnie policzyć atomy pierwiastków po prawej </a:t>
            </a:r>
            <a:br>
              <a:rPr sz="4400"/>
            </a:b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i po lewej stronie równania, </a:t>
            </a:r>
            <a:r>
              <a:rPr b="1" lang="pl-PL" sz="4400" spc="-1" strike="noStrike" u="sng">
                <a:solidFill>
                  <a:srgbClr val="000000"/>
                </a:solidFill>
                <a:uFillTx/>
                <a:latin typeface="Times New Roman"/>
              </a:rPr>
              <a:t>musi być ich tyle samo</a:t>
            </a: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 pamiętając, że środek równania chemicznego to strzałka </a:t>
            </a:r>
            <a:r>
              <a:rPr b="0" lang="pl-PL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Times New Roman"/>
              </a:rPr>
              <a:t>Przykłady</a:t>
            </a: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4"/>
          <p:cNvSpPr/>
          <p:nvPr/>
        </p:nvSpPr>
        <p:spPr>
          <a:xfrm>
            <a:off x="92160" y="2771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371600"/>
            <a:ext cx="6781680" cy="373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Jeżeli ma reagować kwas </a:t>
            </a:r>
            <a:br>
              <a:rPr sz="4400"/>
            </a:b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z zasadą to musimy znać wzory tych substancji chemiczny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4T16:48:05Z</dcterms:created>
  <dc:creator>KPCEN</dc:creator>
  <dc:description/>
  <dc:language>en-US</dc:language>
  <cp:lastModifiedBy>Aga</cp:lastModifiedBy>
  <dcterms:modified xsi:type="dcterms:W3CDTF">2014-08-11T20:11:12Z</dcterms:modified>
  <cp:revision>21</cp:revision>
  <dc:subject/>
  <dc:title>Reakcje zobojętniania</dc:title>
</cp:coreProperties>
</file>