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9C7-36ED-4AE9-A2A2-7C24D20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5CF-7760-4875-8C96-E86088B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749-E144-41C1-9702-DE58B8A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E29-0C7C-4CAC-BC3B-5C8034E1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ED1-A6F1-46B8-87C9-56BB7F6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5A27-DB4C-422A-A455-7D919CA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3D8A-CD06-46F9-9D79-BC77B2D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756A-B133-42A2-A7BB-6CD0A41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7170-44A3-406E-A712-AE68A361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A647-FE9B-411C-A547-14E207F8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749-D3EA-46B3-858D-E3299EF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FBF-CCC5-4ADF-8183-5877EC4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6A1C-22A6-45A5-9BEC-BADC164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CA1-F6B7-463B-A8D6-0BA0C69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E802-5854-46CA-9747-4DAC789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E570-E5F3-4BF5-A8A5-A5DC76A8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DD0-A972-4241-87FA-4624A24F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120-0AD4-46F2-B97D-26CBD06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6C5-91A6-4C20-9E1C-7FBA397F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DAF-349A-4563-83C4-621C205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B5D-8275-4D6E-B4E8-8D9CB11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DC6-4F5D-4CED-9F43-021DB4C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8E5-98C3-4837-AABE-E8639B7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A90-4BEE-479B-B147-F2D6B03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7E2-0EF9-4F19-A1CE-E6799F67AC1D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0E2-5495-45E5-AFAC-AE59D56C030D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Book Antiqua"/>
              </a:rPr>
              <a:t>KRYSZTAŁY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Symbol zastępczy zawartości 3" descr="http://www.teclaw.pl/pgokonek/publikacje/krysztaly_pliki/image017.jpg"/>
          <p:cNvPicPr/>
          <p:nvPr/>
        </p:nvPicPr>
        <p:blipFill>
          <a:blip r:embed="rId2"/>
          <a:stretch/>
        </p:blipFill>
        <p:spPr>
          <a:xfrm>
            <a:off x="1857240" y="142884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Symbol zastępczy zawartości 3" descr="http://www.teclaw.pl/pgokonek/publikacje/krysztaly_pliki/image018.jpg"/>
          <p:cNvPicPr/>
          <p:nvPr/>
        </p:nvPicPr>
        <p:blipFill>
          <a:blip r:embed="rId2"/>
          <a:stretch/>
        </p:blipFill>
        <p:spPr>
          <a:xfrm>
            <a:off x="2071800" y="3000240"/>
            <a:ext cx="514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Cukier spożywczy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trzymywany jest  z buraków cukrowych a jego zasadniczym składnikiem jest sacharoza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 Cukier spożywczy występuje w postaci małych, słodkich, przezroczystych kryształ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Obraz 3" descr="http://www.teclaw.pl/pgokonek/publikacje/krysztaly_pliki/image019.jpg"/>
          <p:cNvPicPr/>
          <p:nvPr/>
        </p:nvPicPr>
        <p:blipFill>
          <a:blip r:embed="rId2"/>
          <a:stretch/>
        </p:blipFill>
        <p:spPr>
          <a:xfrm>
            <a:off x="2786040" y="292896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Sól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Rysunek 10) o wzorze chemicznym</a:t>
            </a: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Cl to chlorek sodu. Kryształy soli są przezroczyste, słone. Sól kuchenna otrzymywana jest z soli kamiennej wydobywanej w kopalniach.  Najsłynniejszą kopalnią soli w Polsce jest Kopalnia Soli w Wieliczce, w której można zobaczyć wiele rzeźb z sol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Obraz 3" descr="http://www.teclaw.pl/pgokonek/publikacje/krysztaly_pliki/image020.jpg"/>
          <p:cNvPicPr/>
          <p:nvPr/>
        </p:nvPicPr>
        <p:blipFill>
          <a:blip r:embed="rId2"/>
          <a:stretch/>
        </p:blipFill>
        <p:spPr>
          <a:xfrm>
            <a:off x="2714760" y="342900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Kwasek cytrynowy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 wzorze chemicznym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OH)(COOH)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trzymywany jest syntetycznie. Tworzy drobne przezroczyste kryształki o kwaśnym smaku. Służy jako przyprawa do potraw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Obraz 3" descr="http://www.teclaw.pl/pgokonek/publikacje/krysztaly_pliki/image021.jpg"/>
          <p:cNvPicPr/>
          <p:nvPr/>
        </p:nvPicPr>
        <p:blipFill>
          <a:blip r:embed="rId2"/>
          <a:stretch/>
        </p:blipFill>
        <p:spPr>
          <a:xfrm>
            <a:off x="3071880" y="29289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Book Antiqua"/>
              </a:rPr>
              <a:t>Karat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jest jednostką masy używaną w jubilerstwie do pomiaru masy kamieni szlachetnych, w układzie SI karat oznaczany jest symbolem  ct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1 karat = 0,2 g = 2 ·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Book Antiqua"/>
              </a:rPr>
              <a:t>-4 k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rostokąt 4"/>
          <p:cNvSpPr/>
          <p:nvPr/>
        </p:nvSpPr>
        <p:spPr>
          <a:xfrm>
            <a:off x="785880" y="5000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Ciało krystaliczne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ciało stałe, w którym cząsteczki atomy lub jony są ułożone w uporządkowany schemat powtarzający się we wszystkich trzech wymiarach przestrzennych. W objętości ciała cząsteczki zajmują ściśle określone miejsca, zwane węzłami sieci krystalicznej, i mogą jedynie drgać wokół tych położeń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il_fi" descr="http://www.chemia.dami.pl/liceum/liceum7/grafika3/reakcje9.gif"/>
          <p:cNvPicPr/>
          <p:nvPr/>
        </p:nvPicPr>
        <p:blipFill>
          <a:blip r:embed="rId1"/>
          <a:stretch/>
        </p:blipFill>
        <p:spPr>
          <a:xfrm>
            <a:off x="3000240" y="2071800"/>
            <a:ext cx="2524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Najcenniejsze kryształ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Rubin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jest minerałem</a:t>
            </a: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 wzorze chemicznym A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 zwanym trójtlenkiem glinu. Jest odmianą korundu o czerwonej barwi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il_fi" descr="http://static.uroda.com/img/upload/000_BALMAIN_HAIR/Rubin.jpg"/>
          <p:cNvPicPr/>
          <p:nvPr/>
        </p:nvPicPr>
        <p:blipFill>
          <a:blip r:embed="rId1"/>
          <a:stretch/>
        </p:blipFill>
        <p:spPr>
          <a:xfrm>
            <a:off x="1071720" y="4429080"/>
            <a:ext cx="238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Symbol zastępczy zawartości 5" descr="mineral.gif"/>
          <p:cNvPicPr/>
          <p:nvPr/>
        </p:nvPicPr>
        <p:blipFill>
          <a:blip r:embed="rId2"/>
          <a:stretch/>
        </p:blipFill>
        <p:spPr>
          <a:xfrm>
            <a:off x="1071720" y="107172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http://m.ocdn.eu/_m/5b9278a9adc5973359b68215878096d5,10,1.jpg"/>
          <p:cNvPicPr/>
          <p:nvPr/>
        </p:nvPicPr>
        <p:blipFill>
          <a:blip r:embed="rId2"/>
          <a:stretch/>
        </p:blipFill>
        <p:spPr>
          <a:xfrm>
            <a:off x="2143080" y="3429000"/>
            <a:ext cx="5000760" cy="304020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4"/>
          <p:cNvSpPr/>
          <p:nvPr/>
        </p:nvSpPr>
        <p:spPr>
          <a:xfrm>
            <a:off x="857160" y="135720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Szaf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bardzo twardy minerał  z gromady tlenków – niebieska odmiana korondu. Jest minerałem rzadkim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azwa pochodzi od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tg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. 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σάπφειρος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heiro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, w starożytności oznaczała przede wszystkim lapis-lazuri. Grecka nazwa została zapewne przejęta z języków semickich (hebr.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tuł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37756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il_fi" descr="http://i2.pinger.pl/pgr210/7c4f7ae40006fe1a4c8489d8/diament.jpg"/>
          <p:cNvPicPr/>
          <p:nvPr/>
        </p:nvPicPr>
        <p:blipFill>
          <a:blip r:embed="rId2"/>
          <a:stretch/>
        </p:blipFill>
        <p:spPr>
          <a:xfrm>
            <a:off x="3009960" y="2330280"/>
            <a:ext cx="3124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ożna go rozpoznać po ostrych krawędziach i płaskich, gładkich powierzchniach. Kryształ jest ciałem stałym o regularnej budowie wewnętrznej, w której można wyróżnić  elementy symetrii: środki, osie, płaszczyzny. Atomy i cząsteczki  w kryształach są poukładane w równych odstępach. </a:t>
            </a:r>
            <a:r>
              <a:rPr b="0" lang="pl-PL" sz="2000" spc="-1" strike="noStrike" u="sng">
                <a:solidFill>
                  <a:srgbClr val="ffc000"/>
                </a:solidFill>
                <a:uFillTx/>
                <a:latin typeface="Book Antiqua"/>
              </a:rPr>
              <a:t>Jeżeli całe ciało stałe składa się z jednego dużego kryształu to mówimy o monokrysztale. Może też być zlepkiem wielu drobnych kryształów i wówczas mówimy o polikryształach.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Kryształ mogą tworzyć atomy jednego pierwiastka lub atomy różnych pierwiastków występujących w danym związku chemicznym. Przykładem kryształu utworzonego z jednakowych atomów węgla jest diament a przykładem kryształu utworzonego z różnych atomów tworzących związek chemiczny jest rubin. Większość naturalnych i sztucznie otrzymywanych substancji w stanie stałym zbudowana jest z kryształów. Ciało stałe mające nieuporządkowane atomy zwane  jest ciałem bezpostaciowym lub amorficznym. Ciałami bezpostaciowymi są: szkło, wosk, tworzywa sztuczne a także wspomniane wyżej: bursztyn, opal, ag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4"/>
          <p:cNvSpPr/>
          <p:nvPr/>
        </p:nvSpPr>
        <p:spPr>
          <a:xfrm>
            <a:off x="1000080" y="21420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stnieje 14 typów komórek elementarnych. Wspólną cechą kryształów naturalnych i syntetycznych czyli specjalnie hodowanych jest ich jednakowa budowa wewnętrzna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la uproszczenia opisu  kryształów stosuje się sześć układów krystalograficznych a wśród nich 32 klasy krystalograficzne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az 25" descr="http://www.teclaw.pl/pgokonek/publikacje/krysztaly_pliki/image006.jpg"/>
          <p:cNvPicPr/>
          <p:nvPr/>
        </p:nvPicPr>
        <p:blipFill>
          <a:blip r:embed="rId1"/>
          <a:stretch/>
        </p:blipFill>
        <p:spPr>
          <a:xfrm>
            <a:off x="1214280" y="1714680"/>
            <a:ext cx="876600" cy="1238040"/>
          </a:xfrm>
          <a:prstGeom prst="rect">
            <a:avLst/>
          </a:prstGeom>
          <a:ln w="0">
            <a:noFill/>
          </a:ln>
        </p:spPr>
      </p:pic>
      <p:pic>
        <p:nvPicPr>
          <p:cNvPr id="100" name="Obraz 26" descr="http://www.teclaw.pl/pgokonek/publikacje/krysztaly_pliki/image007.jpg"/>
          <p:cNvPicPr/>
          <p:nvPr/>
        </p:nvPicPr>
        <p:blipFill>
          <a:blip r:embed="rId2"/>
          <a:stretch/>
        </p:blipFill>
        <p:spPr>
          <a:xfrm>
            <a:off x="242892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7" descr="http://www.teclaw.pl/pgokonek/publikacje/krysztaly_pliki/image008.jpg"/>
          <p:cNvPicPr/>
          <p:nvPr/>
        </p:nvPicPr>
        <p:blipFill>
          <a:blip r:embed="rId3"/>
          <a:stretch/>
        </p:blipFill>
        <p:spPr>
          <a:xfrm>
            <a:off x="364320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8" descr="http://www.teclaw.pl/pgokonek/publikacje/krysztaly_pliki/image009.jpg"/>
          <p:cNvPicPr/>
          <p:nvPr/>
        </p:nvPicPr>
        <p:blipFill>
          <a:blip r:embed="rId4"/>
          <a:stretch/>
        </p:blipFill>
        <p:spPr>
          <a:xfrm>
            <a:off x="6215040" y="1857240"/>
            <a:ext cx="88596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29" descr="http://www.teclaw.pl/pgokonek/publikacje/krysztaly_pliki/image010.jpg"/>
          <p:cNvPicPr/>
          <p:nvPr/>
        </p:nvPicPr>
        <p:blipFill>
          <a:blip r:embed="rId5"/>
          <a:stretch/>
        </p:blipFill>
        <p:spPr>
          <a:xfrm>
            <a:off x="4857840" y="1785960"/>
            <a:ext cx="87624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520" y="16956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20" y="5410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il_fi" descr="http://zasoby1.open.agh.edu.pl/dydaktyka/chemia/a_e_chemia/2_stany_skupienia/img18/04_01_39.jpg"/>
          <p:cNvPicPr/>
          <p:nvPr/>
        </p:nvPicPr>
        <p:blipFill>
          <a:blip r:embed="rId6"/>
          <a:stretch/>
        </p:blipFill>
        <p:spPr>
          <a:xfrm>
            <a:off x="2286000" y="3143160"/>
            <a:ext cx="4238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Symbol zastępczy zawartości 3" descr="http://www.teclaw.pl/pgokonek/publikacje/krysztaly_pliki/image016.jpg"/>
          <p:cNvPicPr/>
          <p:nvPr/>
        </p:nvPicPr>
        <p:blipFill>
          <a:blip r:embed="rId2"/>
          <a:stretch/>
        </p:blipFill>
        <p:spPr>
          <a:xfrm>
            <a:off x="2071800" y="157176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00:20Z</dcterms:created>
  <dc:creator>User</dc:creator>
  <dc:description/>
  <dc:language>en-US</dc:language>
  <cp:lastModifiedBy>User</cp:lastModifiedBy>
  <dcterms:modified xsi:type="dcterms:W3CDTF">2012-11-20T21:35:05Z</dcterms:modified>
  <cp:revision>30</cp:revision>
  <dc:subject/>
  <dc:title>Slajd 1</dc:title>
</cp:coreProperties>
</file>