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0C2-51C0-4342-AB33-5208ED11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9A5-160D-47E0-BFB6-91DAD0D5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722-FC3C-4556-90D3-0594D2BF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323-7321-46B0-8CCA-69CE60FC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E73A-C538-432E-8197-EE089CF3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5774-C608-4D73-B200-F6986BFA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4A91-A4FF-446B-B68B-586DBFD9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A441-7A2E-43FF-AF42-3C1D4A7D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A0F3-08E9-472B-BAB9-7A7A3063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4C8E-A6F5-4CD3-A286-D5060DAB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87EB-03BB-4584-ADC1-9A68ED04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420-5A1B-48A6-A4AC-38644C60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9384-FDE3-4A57-8E1A-C66CB0F4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5A10-73C8-45EF-8448-89B526C7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1827-5F51-43CE-ADDA-E6EDBEAB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2CAF-92BC-4F91-B708-A2DB3DD8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EFDE-E218-4EBB-BF7C-CBD88CF3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091-599A-4799-8C53-E5C9FF01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E9D-FE10-40EA-B72F-6068AAC1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FC1-1245-444E-8EC1-52C8E8E5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747-AC53-45C8-8FAC-A7263034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8EB-4DAA-4E76-B565-5BCF14D6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E21-54C5-4452-A2A8-65BDE1E9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0A7-B17D-4FE4-8EB6-09C859BD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05BF-FF78-4BCD-9535-65688CF1919D}" type="slidenum"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8E2E-25F6-410A-9238-A9067C982316}" type="slidenum"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Book Antiqua"/>
              </a:rPr>
              <a:t>KRYSZTAŁY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1" name="Symbol zastępczy zawartości 3" descr="http://www.teclaw.pl/pgokonek/publikacje/krysztaly_pliki/image017.jpg"/>
          <p:cNvPicPr/>
          <p:nvPr/>
        </p:nvPicPr>
        <p:blipFill>
          <a:blip r:embed="rId2"/>
          <a:stretch/>
        </p:blipFill>
        <p:spPr>
          <a:xfrm>
            <a:off x="1857240" y="1428840"/>
            <a:ext cx="45007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3" name="Symbol zastępczy zawartości 3" descr="http://www.teclaw.pl/pgokonek/publikacje/krysztaly_pliki/image018.jpg"/>
          <p:cNvPicPr/>
          <p:nvPr/>
        </p:nvPicPr>
        <p:blipFill>
          <a:blip r:embed="rId2"/>
          <a:stretch/>
        </p:blipFill>
        <p:spPr>
          <a:xfrm>
            <a:off x="2071800" y="3000240"/>
            <a:ext cx="5143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Cukier spożywczy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otrzymywany jest  z buraków cukrowych a jego zasadniczym składnikiem jest sacharoza C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22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11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. Cukier spożywczy występuje w postaci małych, słodkich, przezroczystych kryształków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Obraz 3" descr="http://www.teclaw.pl/pgokonek/publikacje/krysztaly_pliki/image019.jpg"/>
          <p:cNvPicPr/>
          <p:nvPr/>
        </p:nvPicPr>
        <p:blipFill>
          <a:blip r:embed="rId2"/>
          <a:stretch/>
        </p:blipFill>
        <p:spPr>
          <a:xfrm>
            <a:off x="2786040" y="2928960"/>
            <a:ext cx="37148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Sól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(Rysunek 10) o wzorze chemicznym</a:t>
            </a: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NaCl to chlorek sodu. Kryształy soli są przezroczyste, słone. Sól kuchenna otrzymywana jest z soli kamiennej wydobywanej w kopalniach.  Najsłynniejszą kopalnią soli w Polsce jest Kopalnia Soli w Wieliczce, w której można zobaczyć wiele rzeźb z soli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Obraz 3" descr="http://www.teclaw.pl/pgokonek/publikacje/krysztaly_pliki/image020.jpg"/>
          <p:cNvPicPr/>
          <p:nvPr/>
        </p:nvPicPr>
        <p:blipFill>
          <a:blip r:embed="rId2"/>
          <a:stretch/>
        </p:blipFill>
        <p:spPr>
          <a:xfrm>
            <a:off x="2714760" y="3429000"/>
            <a:ext cx="31431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Kwasek cytrynowy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 o wzorze chemicznym C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(OH)(COOH)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 otrzymywany jest syntetycznie. Tworzy drobne przezroczyste kryształki o kwaśnym smaku. Służy jako przyprawa do potraw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Obraz 3" descr="http://www.teclaw.pl/pgokonek/publikacje/krysztaly_pliki/image021.jpg"/>
          <p:cNvPicPr/>
          <p:nvPr/>
        </p:nvPicPr>
        <p:blipFill>
          <a:blip r:embed="rId2"/>
          <a:stretch/>
        </p:blipFill>
        <p:spPr>
          <a:xfrm>
            <a:off x="3071880" y="292896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001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Book Antiqua"/>
              </a:rPr>
              <a:t>Karat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jest jednostką masy używaną w jubilerstwie do pomiaru masy kamieni szlachetnych, w układzie SI karat oznaczany jest symbolem  ct 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1 karat = 0,2 g = 2 · 1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Book Antiqua"/>
              </a:rPr>
              <a:t>-4 k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rostokąt 4"/>
          <p:cNvSpPr/>
          <p:nvPr/>
        </p:nvSpPr>
        <p:spPr>
          <a:xfrm>
            <a:off x="785880" y="5000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Book Antiqua"/>
              </a:rPr>
              <a:t>Ciało krystaliczne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– ciało stałe, w którym cząsteczki atomy lub jony są ułożone w uporządkowany schemat powtarzający się we wszystkich trzech wymiarach przestrzennych. W objętości ciała cząsteczki zajmują ściśle określone miejsca, zwane węzłami sieci krystalicznej, i mogą jedynie drgać wokół tych położeń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5" name="il_fi" descr="http://www.chemia.dami.pl/liceum/liceum7/grafika3/reakcje9.gif"/>
          <p:cNvPicPr/>
          <p:nvPr/>
        </p:nvPicPr>
        <p:blipFill>
          <a:blip r:embed="rId1"/>
          <a:stretch/>
        </p:blipFill>
        <p:spPr>
          <a:xfrm>
            <a:off x="3000240" y="2071800"/>
            <a:ext cx="25243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 Antiqua"/>
              </a:rPr>
              <a:t>Najcenniejsze kryształ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 Antiqua"/>
              </a:rPr>
              <a:t>Rubin 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jest minerałem</a:t>
            </a:r>
            <a:r>
              <a:rPr b="1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o wzorze chemicznym Al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 zwanym trójtlenkiem glinu. Jest odmianą korundu o czerwonej barwi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il_fi" descr="http://static.uroda.com/img/upload/000_BALMAIN_HAIR/Rubin.jpg"/>
          <p:cNvPicPr/>
          <p:nvPr/>
        </p:nvPicPr>
        <p:blipFill>
          <a:blip r:embed="rId1"/>
          <a:stretch/>
        </p:blipFill>
        <p:spPr>
          <a:xfrm>
            <a:off x="1071720" y="4429080"/>
            <a:ext cx="23828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Symbol zastępczy zawartości 5" descr="mineral.gif"/>
          <p:cNvPicPr/>
          <p:nvPr/>
        </p:nvPicPr>
        <p:blipFill>
          <a:blip r:embed="rId2"/>
          <a:stretch/>
        </p:blipFill>
        <p:spPr>
          <a:xfrm>
            <a:off x="1071720" y="1071720"/>
            <a:ext cx="6858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il_fi" descr="http://m.ocdn.eu/_m/5b9278a9adc5973359b68215878096d5,10,1.jpg"/>
          <p:cNvPicPr/>
          <p:nvPr/>
        </p:nvPicPr>
        <p:blipFill>
          <a:blip r:embed="rId2"/>
          <a:stretch/>
        </p:blipFill>
        <p:spPr>
          <a:xfrm>
            <a:off x="2143080" y="3429000"/>
            <a:ext cx="5000760" cy="3040200"/>
          </a:xfrm>
          <a:prstGeom prst="rect">
            <a:avLst/>
          </a:prstGeom>
          <a:ln w="0">
            <a:noFill/>
          </a:ln>
        </p:spPr>
      </p:pic>
      <p:sp>
        <p:nvSpPr>
          <p:cNvPr id="93" name="Prostokąt 4"/>
          <p:cNvSpPr/>
          <p:nvPr/>
        </p:nvSpPr>
        <p:spPr>
          <a:xfrm>
            <a:off x="857160" y="1357200"/>
            <a:ext cx="700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Book Antiqua"/>
              </a:rPr>
              <a:t>Szafir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– bardzo twardy minerał  z gromady tlenków – niebieska odmiana korondu. Jest minerałem rzadkim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Nazwa pochodzi od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Book Antiqua"/>
              </a:rPr>
              <a:t>stgr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. </a:t>
            </a:r>
            <a:r>
              <a:rPr b="0" i="1" lang="pl-PL" sz="1800" spc="-1" strike="noStrike">
                <a:solidFill>
                  <a:srgbClr val="ffffff"/>
                </a:solidFill>
                <a:latin typeface="Book Antiqua"/>
              </a:rPr>
              <a:t>σάπφειρος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Book Antiqua"/>
              </a:rPr>
              <a:t>sappheiros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, w starożytności oznaczała przede wszystkim lapis-lazuri. Grecka nazwa została zapewne przejęta z języków semickich (hebr.</a:t>
            </a:r>
            <a:r>
              <a:rPr b="0" i="1" lang="pl-PL" sz="1800" spc="-1" strike="noStrike">
                <a:solidFill>
                  <a:srgbClr val="ffffff"/>
                </a:solidFill>
                <a:latin typeface="Book Antiqua"/>
              </a:rPr>
              <a:t>sappir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ytuł 1" descr=""/>
          <p:cNvPicPr/>
          <p:nvPr/>
        </p:nvPicPr>
        <p:blipFill>
          <a:blip r:embed="rId1"/>
          <a:stretch/>
        </p:blipFill>
        <p:spPr>
          <a:xfrm>
            <a:off x="633240" y="281160"/>
            <a:ext cx="8377560" cy="1650960"/>
          </a:xfrm>
          <a:prstGeom prst="rect">
            <a:avLst/>
          </a:prstGeom>
          <a:ln w="0">
            <a:noFill/>
          </a:ln>
        </p:spPr>
      </p:pic>
      <p:pic>
        <p:nvPicPr>
          <p:cNvPr id="95" name="il_fi" descr="http://i2.pinger.pl/pgr210/7c4f7ae40006fe1a4c8489d8/diament.jpg"/>
          <p:cNvPicPr/>
          <p:nvPr/>
        </p:nvPicPr>
        <p:blipFill>
          <a:blip r:embed="rId2"/>
          <a:stretch/>
        </p:blipFill>
        <p:spPr>
          <a:xfrm>
            <a:off x="3009960" y="2330280"/>
            <a:ext cx="31240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ytuł 1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317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Można go rozpoznać po ostrych krawędziach i płaskich, gładkich powierzchniach. Kryształ jest ciałem stałym o regularnej budowie wewnętrznej, w której można wyróżnić  elementy symetrii: środki, osie, płaszczyzny. Atomy i cząsteczki  w kryształach są poukładane w równych odstępach. </a:t>
            </a:r>
            <a:r>
              <a:rPr b="0" lang="pl-PL" sz="2000" spc="-1" strike="noStrike" u="sng">
                <a:solidFill>
                  <a:srgbClr val="ffc000"/>
                </a:solidFill>
                <a:uFillTx/>
                <a:latin typeface="Book Antiqua"/>
              </a:rPr>
              <a:t>Jeżeli całe ciało stałe składa się z jednego dużego kryształu to mówimy o monokrysztale. Może też być zlepkiem wielu drobnych kryształów i wówczas mówimy o polikryształach.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 Kryształ mogą tworzyć atomy jednego pierwiastka lub atomy różnych pierwiastków występujących w danym związku chemicznym. Przykładem kryształu utworzonego z jednakowych atomów węgla jest diament a przykładem kryształu utworzonego z różnych atomów tworzących związek chemiczny jest rubin. Większość naturalnych i sztucznie otrzymywanych substancji w stanie stałym zbudowana jest z kryształów. Ciało stałe mające nieuporządkowane atomy zwane  jest ciałem bezpostaciowym lub amorficznym. Ciałami bezpostaciowymi są: szkło, wosk, tworzywa sztuczne a także wspomniane wyżej: bursztyn, opal, aga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rostokąt 4"/>
          <p:cNvSpPr/>
          <p:nvPr/>
        </p:nvSpPr>
        <p:spPr>
          <a:xfrm>
            <a:off x="1000080" y="214200"/>
            <a:ext cx="742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Istnieje 14 typów komórek elementarnych. Wspólną cechą kryształów naturalnych i syntetycznych czyli specjalnie hodowanych jest ich jednakowa budowa wewnętrzna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Dla uproszczenia opisu  kryształów stosuje się sześć układów krystalograficznych a wśród nich 32 klasy krystalograficzne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Obraz 25" descr="http://www.teclaw.pl/pgokonek/publikacje/krysztaly_pliki/image006.jpg"/>
          <p:cNvPicPr/>
          <p:nvPr/>
        </p:nvPicPr>
        <p:blipFill>
          <a:blip r:embed="rId1"/>
          <a:stretch/>
        </p:blipFill>
        <p:spPr>
          <a:xfrm>
            <a:off x="1214280" y="1714680"/>
            <a:ext cx="876600" cy="1238040"/>
          </a:xfrm>
          <a:prstGeom prst="rect">
            <a:avLst/>
          </a:prstGeom>
          <a:ln w="0">
            <a:noFill/>
          </a:ln>
        </p:spPr>
      </p:pic>
      <p:pic>
        <p:nvPicPr>
          <p:cNvPr id="100" name="Obraz 26" descr="http://www.teclaw.pl/pgokonek/publikacje/krysztaly_pliki/image007.jpg"/>
          <p:cNvPicPr/>
          <p:nvPr/>
        </p:nvPicPr>
        <p:blipFill>
          <a:blip r:embed="rId2"/>
          <a:stretch/>
        </p:blipFill>
        <p:spPr>
          <a:xfrm>
            <a:off x="2428920" y="1714680"/>
            <a:ext cx="876240" cy="1238040"/>
          </a:xfrm>
          <a:prstGeom prst="rect">
            <a:avLst/>
          </a:prstGeom>
          <a:ln w="0">
            <a:noFill/>
          </a:ln>
        </p:spPr>
      </p:pic>
      <p:pic>
        <p:nvPicPr>
          <p:cNvPr id="101" name="Obraz 27" descr="http://www.teclaw.pl/pgokonek/publikacje/krysztaly_pliki/image008.jpg"/>
          <p:cNvPicPr/>
          <p:nvPr/>
        </p:nvPicPr>
        <p:blipFill>
          <a:blip r:embed="rId3"/>
          <a:stretch/>
        </p:blipFill>
        <p:spPr>
          <a:xfrm>
            <a:off x="3643200" y="1714680"/>
            <a:ext cx="876240" cy="1238040"/>
          </a:xfrm>
          <a:prstGeom prst="rect">
            <a:avLst/>
          </a:prstGeom>
          <a:ln w="0">
            <a:noFill/>
          </a:ln>
        </p:spPr>
      </p:pic>
      <p:pic>
        <p:nvPicPr>
          <p:cNvPr id="102" name="Obraz 28" descr="http://www.teclaw.pl/pgokonek/publikacje/krysztaly_pliki/image009.jpg"/>
          <p:cNvPicPr/>
          <p:nvPr/>
        </p:nvPicPr>
        <p:blipFill>
          <a:blip r:embed="rId4"/>
          <a:stretch/>
        </p:blipFill>
        <p:spPr>
          <a:xfrm>
            <a:off x="6215040" y="1857240"/>
            <a:ext cx="885960" cy="1238400"/>
          </a:xfrm>
          <a:prstGeom prst="rect">
            <a:avLst/>
          </a:prstGeom>
          <a:ln w="0">
            <a:noFill/>
          </a:ln>
        </p:spPr>
      </p:pic>
      <p:pic>
        <p:nvPicPr>
          <p:cNvPr id="103" name="Obraz 29" descr="http://www.teclaw.pl/pgokonek/publikacje/krysztaly_pliki/image010.jpg"/>
          <p:cNvPicPr/>
          <p:nvPr/>
        </p:nvPicPr>
        <p:blipFill>
          <a:blip r:embed="rId5"/>
          <a:stretch/>
        </p:blipFill>
        <p:spPr>
          <a:xfrm>
            <a:off x="4857840" y="1785960"/>
            <a:ext cx="876240" cy="1238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2520" y="169560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520" y="54100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il_fi" descr="http://zasoby1.open.agh.edu.pl/dydaktyka/chemia/a_e_chemia/2_stany_skupienia/img18/04_01_39.jpg"/>
          <p:cNvPicPr/>
          <p:nvPr/>
        </p:nvPicPr>
        <p:blipFill>
          <a:blip r:embed="rId6"/>
          <a:stretch/>
        </p:blipFill>
        <p:spPr>
          <a:xfrm>
            <a:off x="2286000" y="3143160"/>
            <a:ext cx="42386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9" name="Symbol zastępczy zawartości 3" descr="http://www.teclaw.pl/pgokonek/publikacje/krysztaly_pliki/image016.jpg"/>
          <p:cNvPicPr/>
          <p:nvPr/>
        </p:nvPicPr>
        <p:blipFill>
          <a:blip r:embed="rId2"/>
          <a:stretch/>
        </p:blipFill>
        <p:spPr>
          <a:xfrm>
            <a:off x="2071800" y="1571760"/>
            <a:ext cx="4643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9:00:20Z</dcterms:created>
  <dc:creator>User</dc:creator>
  <dc:description/>
  <dc:language>en-US</dc:language>
  <cp:lastModifiedBy>User</cp:lastModifiedBy>
  <dcterms:modified xsi:type="dcterms:W3CDTF">2012-11-20T21:35:05Z</dcterms:modified>
  <cp:revision>30</cp:revision>
  <dc:subject/>
  <dc:title>Slajd 1</dc:title>
</cp:coreProperties>
</file>