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2D47-1C50-4124-8ABC-A41CED627D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21E9-6131-468A-9ED0-813A2D76D6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778-913A-4538-86B1-8AC1798D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C6B-7C92-42DA-9CF3-694DC506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77A-B4E7-4C7D-8EAB-62521935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486-C048-408C-B7FB-45D6F806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A2C3-00B7-432D-B85D-2173BA42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E16C-8D04-4A5A-A09A-268C79E7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1C24-E94C-491E-82BD-44590A4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22CC-0F2F-403A-AEBB-31C0385F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61DC-1CE4-4F29-94FD-452EE8B0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4ADD-85E4-4BB0-A56D-1DD65978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83E1-78FF-499F-85D0-F20D779D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1E4-3617-415C-8BC9-1754EA5A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1F19-695B-4552-B7A5-5695B364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BC9B-A7BB-43B7-B7CC-83559CD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2A2C-527E-48A2-8109-828BD7D5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56CA-50C1-4C46-BF47-EB48376D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35BF-811E-4692-B032-444DB744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97E-60AC-46FD-8F1B-6FDFC58A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2FE-F366-44E3-9ECA-73F67D32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837-44B4-41A7-A11A-FA6046CE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E8D-D533-4233-8552-33E05C4B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F20-B51B-456C-8B36-37CEB0D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039-332A-472D-8655-5B837F31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C34-D66D-43D3-B758-71C195B0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3A49-A625-4BE1-B4C9-6ABD8E4690C2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303F-9AD4-451B-8DEB-DEE04DAAEDF0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ole tekstowe 1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8332920" cy="468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encrypted-tbn1.gstatic.com/images?q=tbn:ANd9GcSVRYlmgnr1d05-Gim7rK21-oSzp-4zFq1FglqTpu3XhFOhW6CGVw"/>
          <p:cNvPicPr/>
          <p:nvPr/>
        </p:nvPicPr>
        <p:blipFill>
          <a:blip r:embed="rId2"/>
          <a:stretch/>
        </p:blipFill>
        <p:spPr>
          <a:xfrm>
            <a:off x="4200480" y="3840120"/>
            <a:ext cx="3675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upload.wikimedia.org/wikipedia/commons/thumb/3/38/Bisection.svg/250px-Bisection.svg.png"/>
          <p:cNvPicPr/>
          <p:nvPr/>
        </p:nvPicPr>
        <p:blipFill>
          <a:blip r:embed="rId1"/>
          <a:stretch/>
        </p:blipFill>
        <p:spPr>
          <a:xfrm>
            <a:off x="1571760" y="3286080"/>
            <a:ext cx="5398920" cy="3110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285840" y="71424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usieczna kąta, to półprosta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oczątku w wierzchołku kąta, która dzieli ten kąt na dwa kąty przystają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447920" y="1219320"/>
            <a:ext cx="3961440" cy="4086720"/>
            <a:chOff x="1447920" y="1219320"/>
            <a:chExt cx="3961440" cy="4086720"/>
          </a:xfrm>
        </p:grpSpPr>
        <p:sp>
          <p:nvSpPr>
            <p:cNvPr id="107" name="Freeform 3"/>
            <p:cNvSpPr/>
            <p:nvPr/>
          </p:nvSpPr>
          <p:spPr>
            <a:xfrm>
              <a:off x="1890720" y="1683000"/>
              <a:ext cx="3505320" cy="32004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208" h="2016">
                  <a:moveTo>
                    <a:pt x="0" y="1392"/>
                  </a:moveTo>
                  <a:lnTo>
                    <a:pt x="2208" y="0"/>
                  </a:lnTo>
                  <a:lnTo>
                    <a:pt x="2160" y="2016"/>
                  </a:lnTo>
                  <a:lnTo>
                    <a:pt x="0" y="139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447920" y="1219320"/>
              <a:ext cx="3961440" cy="4086720"/>
              <a:chOff x="1447920" y="1219320"/>
              <a:chExt cx="3961440" cy="4086720"/>
            </a:xfrm>
          </p:grpSpPr>
          <p:grpSp>
            <p:nvGrpSpPr>
              <p:cNvPr id="109" name="Group 5"/>
              <p:cNvGrpSpPr/>
              <p:nvPr/>
            </p:nvGrpSpPr>
            <p:grpSpPr>
              <a:xfrm>
                <a:off x="1828800" y="1676520"/>
                <a:ext cx="3580560" cy="3195360"/>
                <a:chOff x="1828800" y="1676520"/>
                <a:chExt cx="3580560" cy="3195360"/>
              </a:xfrm>
            </p:grpSpPr>
            <p:grpSp>
              <p:nvGrpSpPr>
                <p:cNvPr id="110" name="Group 6"/>
                <p:cNvGrpSpPr/>
                <p:nvPr/>
              </p:nvGrpSpPr>
              <p:grpSpPr>
                <a:xfrm>
                  <a:off x="1904400" y="1676520"/>
                  <a:ext cx="3504960" cy="3195360"/>
                  <a:chOff x="1904400" y="1676520"/>
                  <a:chExt cx="3504960" cy="3195360"/>
                </a:xfrm>
              </p:grpSpPr>
              <p:sp>
                <p:nvSpPr>
                  <p:cNvPr id="111" name="Line 7"/>
                  <p:cNvSpPr/>
                  <p:nvPr/>
                </p:nvSpPr>
                <p:spPr>
                  <a:xfrm flipV="1">
                    <a:off x="1904400" y="1676520"/>
                    <a:ext cx="3504960" cy="220824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8"/>
                  <p:cNvSpPr/>
                  <p:nvPr/>
                </p:nvSpPr>
                <p:spPr>
                  <a:xfrm>
                    <a:off x="1904400" y="3884760"/>
                    <a:ext cx="3375000" cy="98712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Oval 9"/>
                <p:cNvSpPr/>
                <p:nvPr/>
              </p:nvSpPr>
              <p:spPr>
                <a:xfrm>
                  <a:off x="4952520" y="1828800"/>
                  <a:ext cx="15192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"/>
                <p:cNvSpPr/>
                <p:nvPr/>
              </p:nvSpPr>
              <p:spPr>
                <a:xfrm>
                  <a:off x="1828800" y="3810240"/>
                  <a:ext cx="151920" cy="15228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1"/>
                <p:cNvSpPr/>
                <p:nvPr/>
              </p:nvSpPr>
              <p:spPr>
                <a:xfrm>
                  <a:off x="4419000" y="4572000"/>
                  <a:ext cx="15228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12"/>
              <p:cNvSpPr/>
              <p:nvPr/>
            </p:nvSpPr>
            <p:spPr>
              <a:xfrm>
                <a:off x="1447920" y="3581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>
                <a:off x="4876560" y="12193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4267080" y="4724640"/>
                <a:ext cx="3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Oval 15"/>
          <p:cNvSpPr/>
          <p:nvPr/>
        </p:nvSpPr>
        <p:spPr>
          <a:xfrm>
            <a:off x="152280" y="2057400"/>
            <a:ext cx="3581640" cy="3581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3200400" y="2286000"/>
            <a:ext cx="1011240" cy="2858760"/>
            <a:chOff x="3200400" y="2286000"/>
            <a:chExt cx="1011240" cy="2858760"/>
          </a:xfrm>
        </p:grpSpPr>
        <p:sp>
          <p:nvSpPr>
            <p:cNvPr id="121" name="Oval 17"/>
            <p:cNvSpPr/>
            <p:nvPr/>
          </p:nvSpPr>
          <p:spPr>
            <a:xfrm>
              <a:off x="3352680" y="2819520"/>
              <a:ext cx="152280" cy="15228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3581280" y="4343400"/>
              <a:ext cx="152280" cy="15264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00400" y="2286000"/>
              <a:ext cx="650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B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429000" y="4496040"/>
              <a:ext cx="78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21"/>
          <p:cNvSpPr/>
          <p:nvPr/>
        </p:nvSpPr>
        <p:spPr>
          <a:xfrm>
            <a:off x="1600200" y="1066680"/>
            <a:ext cx="3651120" cy="36514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1828800" y="2590920"/>
            <a:ext cx="3651120" cy="365112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Konstrukcja dwusiecznej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8672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00"/>
                </a:solidFill>
                <a:latin typeface="Times New Roman"/>
              </a:rPr>
              <a:t>Opis konstru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1071720"/>
            <a:ext cx="33526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. Dany jest kąt 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. Zakreślamy okrąg o środku S  i dowolnym pro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 Otrzymujemy punkty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i 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zecięcia tego okręgu z ramionami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. Konstruujemy symetralną odcinka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 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. Część wspólna tej symetralnej i kąta ASB jest poszukiwaną dwusie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y 31"/>
          <p:cNvSpPr/>
          <p:nvPr/>
        </p:nvSpPr>
        <p:spPr>
          <a:xfrm flipV="1">
            <a:off x="214200" y="3214440"/>
            <a:ext cx="58579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y 33"/>
          <p:cNvSpPr/>
          <p:nvPr/>
        </p:nvSpPr>
        <p:spPr>
          <a:xfrm>
            <a:off x="3428280" y="2971800"/>
            <a:ext cx="228600" cy="1371600"/>
          </a:xfrm>
          <a:prstGeom prst="line">
            <a:avLst/>
          </a:prstGeom>
          <a:ln w="42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357120" y="50004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żdy punkt dwusiecznej kąta jest jednakowo oddalony od ramion tego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interklasa.pl/portal/dokumenty/geom6/geometria6/prezentacja/obrazki/ka10.gif"/>
          <p:cNvPicPr/>
          <p:nvPr/>
        </p:nvPicPr>
        <p:blipFill>
          <a:blip r:embed="rId1"/>
          <a:stretch/>
        </p:blipFill>
        <p:spPr>
          <a:xfrm>
            <a:off x="500040" y="2359080"/>
            <a:ext cx="7680240" cy="34257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3"/>
          <p:cNvSpPr/>
          <p:nvPr/>
        </p:nvSpPr>
        <p:spPr>
          <a:xfrm>
            <a:off x="71424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E| = |CD|, |FH| = |FG|, |KM| = |KL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rostokąt 1"/>
          <p:cNvSpPr/>
          <p:nvPr/>
        </p:nvSpPr>
        <p:spPr>
          <a:xfrm>
            <a:off x="357120" y="1000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dani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z kątów trójkąta prostokątnego ma miarę 7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wusieczna tego kąta dzieli trójkąt na dwa trójkąty. Oblicz miary kątów tych trój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2"/>
          <p:cNvSpPr/>
          <p:nvPr/>
        </p:nvSpPr>
        <p:spPr>
          <a:xfrm>
            <a:off x="357120" y="221472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wiązanie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ójkąt prostokątny podany w zada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dajspisac.pl/sites/default/files/dajs40.jpg"/>
          <p:cNvPicPr/>
          <p:nvPr/>
        </p:nvPicPr>
        <p:blipFill>
          <a:blip r:embed="rId1"/>
          <a:stretch/>
        </p:blipFill>
        <p:spPr>
          <a:xfrm>
            <a:off x="500040" y="2928960"/>
            <a:ext cx="5643720" cy="253368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4"/>
          <p:cNvSpPr/>
          <p:nvPr/>
        </p:nvSpPr>
        <p:spPr>
          <a:xfrm>
            <a:off x="85716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9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=7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=2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dajspisac.pl/sites/default/files/dajs41.jpg"/>
          <p:cNvPicPr/>
          <p:nvPr/>
        </p:nvPicPr>
        <p:blipFill>
          <a:blip r:embed="rId1"/>
          <a:stretch/>
        </p:blipFill>
        <p:spPr>
          <a:xfrm>
            <a:off x="2357280" y="785880"/>
            <a:ext cx="532296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2"/>
          <p:cNvSpPr/>
          <p:nvPr/>
        </p:nvSpPr>
        <p:spPr>
          <a:xfrm>
            <a:off x="214200" y="292896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- dwusieczna ką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B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=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α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B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D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6:42:16Z</dcterms:created>
  <dc:creator>zdzisiek</dc:creator>
  <dc:description/>
  <dc:language>en-US</dc:language>
  <cp:lastModifiedBy>Ania</cp:lastModifiedBy>
  <dcterms:modified xsi:type="dcterms:W3CDTF">2013-07-10T06:21:37Z</dcterms:modified>
  <cp:revision>15</cp:revision>
  <dc:subject/>
  <dc:title>Slajd 1</dc:title>
</cp:coreProperties>
</file>