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1013-13E6-4176-9D28-D5EEB637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01D3-ABF7-4F69-9F39-1A78962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89FA-65C7-4D82-92EA-E3B52C5B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855A-69AA-4CD6-B1F0-55BF8197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71D-E47B-48DD-8E3C-56558F69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2F70-6EEA-4EEA-B7D8-4C39198F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8CCB-BCB2-4BB1-ADBC-1777C967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6043-E666-42F8-9528-3AAF36F8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1F32-D9EE-4370-9E27-6FE8E4AB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564F-0E3B-4543-AFD0-8AB2530A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CFB-7000-44FD-B6ED-954E1D5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E028-C312-4A5E-A3E3-D6CB9235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358D-3FCC-4F45-9168-918A899E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C55D-D6D8-455F-A437-1D756DD9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23E0-8DB7-40F0-8232-3729E109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3871-B975-4107-90BC-AC0CC76C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AC1F-0166-4986-804D-1A973702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037D-B3FF-40AF-9660-21FB36E7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42A5D-54C2-4FC5-81EE-1D8DC0AB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924F-FE74-44AB-979F-EEEC659F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3AFF-733F-41A6-801B-AA8BEADF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D84D-F245-41C2-8CD0-93144479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71EE-BFFD-4AB7-BC09-273AAEB9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D8C5-D24B-4B8C-8C38-9FE3911C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B691-BF37-4BDF-A2DF-3B95A786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F318-37E2-4BC2-971A-6609929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5CC9-5A62-4D88-8A72-9894EF61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39E5-ACF8-4A14-9070-9B27B05E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C660-1DFF-4D75-9742-B09AF601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3AC9-7CC1-4810-993A-FAB1460B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1E1F-7A20-4210-9992-F7FC883D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BF4B-1A35-49E4-815C-E3C18579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4393-4ECA-46E0-94DF-218DC3B0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C4D9-0BF8-4552-BDEA-0DFD0266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EE9C-B567-438E-8345-66B4B6BB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2B86-0513-41AC-B3F7-28220790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518D-FBD0-4DE9-ACBE-CDD821E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D255C-41B3-4C35-8EE7-6FBDA23B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DB6E-F871-4CE3-BF33-F2DB719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D9D9-4D0D-4822-A6FF-B7136F9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2D36-2DC4-4C82-9A89-CC46CC96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0AB18-76CC-4375-8984-CB6ACFAC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E63E-B254-43C3-8003-2543AA4E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CAE3-6E7C-4F8F-9B63-C6B4839A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0A95-7A71-4B54-B41F-06353E8E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80CE-DAF3-4E92-BC6A-F5B2143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8441-6120-4B94-BBAE-65F8E99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DE87-1060-4816-AC62-935DE01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D692-FE11-4B26-912B-7E836FDDC3A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4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8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1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EE38-57B9-4408-994B-ED3D2344426D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2A8D-4E35-4932-A5A2-0AEBC1B45C77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9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2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C8D4-A686-49BC-949F-9A347B1C8B14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03640" y="115920"/>
            <a:ext cx="5324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Tahoma"/>
              </a:rPr>
              <a:t>Rzeźbiotwórcza rola fal morski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3" name="Picture 4" descr="fala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mierzeja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Mierzeja – 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budowana z piasku bariera wystająca ponad wodę. Oddziela zatokę od otwartego mor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Powstawanie mierz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0" y="2276640"/>
          <a:ext cx="911052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1052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ypy wybrzeż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wybrzeze_dalmatynskie"/>
          <p:cNvPicPr/>
          <p:nvPr/>
        </p:nvPicPr>
        <p:blipFill>
          <a:blip r:embed="rId1"/>
          <a:stretch/>
        </p:blipFill>
        <p:spPr>
          <a:xfrm>
            <a:off x="1692360" y="1413000"/>
            <a:ext cx="5545080" cy="4997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5708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dalmatyńs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rias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5" descr="wybrzeze_riasowe"/>
          <p:cNvPicPr/>
          <p:nvPr/>
        </p:nvPicPr>
        <p:blipFill>
          <a:blip r:embed="rId1"/>
          <a:stretch/>
        </p:blipFill>
        <p:spPr>
          <a:xfrm>
            <a:off x="2195640" y="1700280"/>
            <a:ext cx="4608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fiord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Picture 6" descr="wybrzeze_fiordowe"/>
          <p:cNvPicPr/>
          <p:nvPr/>
        </p:nvPicPr>
        <p:blipFill>
          <a:blip r:embed="rId1"/>
          <a:stretch/>
        </p:blipFill>
        <p:spPr>
          <a:xfrm>
            <a:off x="2411280" y="1916280"/>
            <a:ext cx="432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szkier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Picture 6" descr="wybrzeze_szkierowe"/>
          <p:cNvPicPr/>
          <p:nvPr/>
        </p:nvPicPr>
        <p:blipFill>
          <a:blip r:embed="rId1"/>
          <a:stretch/>
        </p:blipFill>
        <p:spPr>
          <a:xfrm>
            <a:off x="2411280" y="1916280"/>
            <a:ext cx="3951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mierzej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2523960" y="1770120"/>
          <a:ext cx="4096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1770120"/>
                    <a:ext cx="40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liman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Picture 6" descr="LIMAN"/>
          <p:cNvPicPr/>
          <p:nvPr/>
        </p:nvPicPr>
        <p:blipFill>
          <a:blip r:embed="rId1"/>
          <a:stretch/>
        </p:blipFill>
        <p:spPr>
          <a:xfrm>
            <a:off x="2195640" y="2492280"/>
            <a:ext cx="48369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Do zapamięt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Falowanie wody jest zazwyczaj wynikiem oddziaływania wiatru na jej powierzchn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trome urwisko powstałe w wyniku podcinania brzegu przez fale to kli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umulacyjna działalność fal prowadzi do powstania mierzei, plaż, jezior przybrzeżnych oraz do wyrównania linii wybrzeż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Fale morskie to bardzo silny żywioł. Powszechnie wiadomo, że duże sztormy mogą powodować ogromne straty. Ale również małe fale morskie nieustannie zmieniają rzeźbę powierzchni Zie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Jak powstaje fala morsk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erzenia wiatru w taflę wody wywołują drgania cząsteczek, powoduje to zmianę poziomu wody i powstanie fali. Im większa siła uderzenia tym fala wyżs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iły grawitacyjne Słońca i Księżyca powodują pływy morsk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5472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alowan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Picture 5" descr="images"/>
          <p:cNvPicPr/>
          <p:nvPr/>
        </p:nvPicPr>
        <p:blipFill>
          <a:blip r:embed="rId1"/>
          <a:stretch/>
        </p:blipFill>
        <p:spPr>
          <a:xfrm>
            <a:off x="3924360" y="2565360"/>
            <a:ext cx="4402080" cy="32990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6145200" y="616572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rzeg Bałtyk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Falowanie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to oscylacyjny ruch cząstek wody po orbitach kołowych lub eliptycznych. Najczęstszą przyczyną falowania jest tarcie wiatru o powierzchnię wod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220px-Wave_motion-i18n-mod"/>
          <p:cNvPicPr/>
          <p:nvPr/>
        </p:nvPicPr>
        <p:blipFill>
          <a:blip r:embed="rId1"/>
          <a:stretch/>
        </p:blipFill>
        <p:spPr>
          <a:xfrm>
            <a:off x="2340000" y="476280"/>
            <a:ext cx="4576680" cy="41608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250920" y="4941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1 – kierunek przemieszczania się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2 – grzbiet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3 – wklęśnięcie f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 - orbita kołow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 - orbita eliptycz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14716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ecff"/>
                </a:solidFill>
                <a:latin typeface="Arial"/>
              </a:rPr>
              <a:t>Co to jest Abrazja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39640" y="3357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Abrazja (erozja morska)-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        procesy niszczące brzeg morski przez wody morskie i oceaniczn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kli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Klif (faleza)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– urwisko na brzegu morza powstałe w wyniku podcinania brzegu przez f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220px-14klif9maly"/>
          <p:cNvPicPr/>
          <p:nvPr/>
        </p:nvPicPr>
        <p:blipFill>
          <a:blip r:embed="rId1"/>
          <a:stretch/>
        </p:blipFill>
        <p:spPr>
          <a:xfrm>
            <a:off x="2556000" y="765000"/>
            <a:ext cx="4027320" cy="48517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1506960" y="596412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lif w Orłowie (Gdyn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7:00:38Z</dcterms:created>
  <dc:creator>Mrozowicz</dc:creator>
  <dc:description/>
  <dc:language>en-US</dc:language>
  <cp:lastModifiedBy>q</cp:lastModifiedBy>
  <dcterms:modified xsi:type="dcterms:W3CDTF">2013-03-16T14:26:36Z</dcterms:modified>
  <cp:revision>6</cp:revision>
  <dc:subject/>
  <dc:title>Lądy i Wody</dc:title>
</cp:coreProperties>
</file>