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D337-48D9-4933-82A9-1B438242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2CBA2-797B-4C8C-9D25-E0D8D0C3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710E-92B1-4659-8C7D-E23883B1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E97A7-0640-4A65-BE9F-C42F7664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C6D0-14DA-4C0C-A48F-1AC008D6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CC55-8EC9-4D69-AB30-8F9AD3BA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41A3-9C65-4DDF-BDF4-4C6390F4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9E11-F34F-44C4-88CC-FEFEA0EC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DEA2-CFB9-4C85-B677-5D4AB844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AE6A-D12F-44DA-B670-63596AAC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617E-431A-4A43-9A59-A1371E0F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D756-5AE8-476A-99D4-8BF01048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B392-AB4F-4782-8B91-F30716F3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DA99-D460-45AA-8B9D-9997D6A6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3987-3A52-466C-9ED8-C7BA7844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05B7-12C9-4ABA-BF7B-155CED0C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6EA7-9F85-4575-B1A2-B58E1472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E791C-FE4D-4784-A7B2-BC9F5406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B993-7946-4932-A83F-3AA25794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474F-744B-49CE-8D3F-78E12B7C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E64A9-A22B-43B2-9222-6E201884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771E-7C23-4511-B582-4E4FE618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4068-3801-4E38-B714-45EEB12B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642C-656A-4B8C-AC22-497FB0DD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737D-349A-4265-A324-EA9D80AC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FD69D-2DEB-4833-98D3-221B34C8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6BC83-881B-44F1-A52B-D080D66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18C4-B18B-4A1A-8030-6DD59B99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6EE0-8E0A-4613-9D81-EAABBC65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35CA-2125-4413-AE60-499A2947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4C541-852B-497A-8F52-C8151A30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F2656-3BD9-4ADC-B772-2DB267CA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9CCD-6F5C-4006-8A67-291D8877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71C7-846D-48DF-A200-5DCA966D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ACD4F-F5C3-457D-B749-4CBA5449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AF46-A60A-4A10-BE8F-3F8CE990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07041-D139-4D04-83F5-0A993A27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506F2-9CE4-4FBA-A548-D6BBC14F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42F59-0C54-400E-A1AA-3C0659FB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32085-2FCB-499B-A393-09DEC366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B3A96-4610-4A7C-A4A4-6533E8D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DB72A-491B-454F-932E-86D1C9DA4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CD0A8-D50B-4732-818F-377D215B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9830-8D20-484B-886E-AD75ED59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87F7-EDEB-4A23-8155-33CE2ECD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92E00-47BF-40A3-9948-AF77068B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0B445-429A-4BA1-AEC7-CADCCEBC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EFF4-5E6C-4E57-BDB7-4326383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821D-9315-4128-8B40-200174C7313A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4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8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6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7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8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81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B664-E012-48C7-9B65-05B6BD07CDF6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23F8-C454-4EAE-BACF-FAD725FC7AF4}" type="slidenum">
              <a:rPr b="0" lang="pl-PL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5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8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9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22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33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4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5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6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7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8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39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0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29D7-18AF-4D57-85B8-73D04BDFBC98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03640" y="115920"/>
            <a:ext cx="5324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ffffcc"/>
                </a:solidFill>
                <a:latin typeface="Tahoma"/>
              </a:rPr>
              <a:t>Rzeźbiotwórcza rola fal morskich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83" name="Picture 4" descr="fala"/>
          <p:cNvPicPr/>
          <p:nvPr/>
        </p:nvPicPr>
        <p:blipFill>
          <a:blip r:embed="rId1"/>
          <a:stretch/>
        </p:blipFill>
        <p:spPr>
          <a:xfrm>
            <a:off x="179280" y="2133720"/>
            <a:ext cx="50403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Co to jest mierzeja 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636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Mierzeja – 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Zbudowana z piasku bariera wystająca ponad wodę. Oddziela zatokę od otwartego mor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Powstawanie mierze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2" name="Object 8"/>
          <p:cNvGraphicFramePr/>
          <p:nvPr/>
        </p:nvGraphicFramePr>
        <p:xfrm>
          <a:off x="0" y="2276640"/>
          <a:ext cx="9110520" cy="26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911052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Typy wybrzeż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5" descr="wybrzeze_dalmatynskie"/>
          <p:cNvPicPr/>
          <p:nvPr/>
        </p:nvPicPr>
        <p:blipFill>
          <a:blip r:embed="rId1"/>
          <a:stretch/>
        </p:blipFill>
        <p:spPr>
          <a:xfrm>
            <a:off x="1692360" y="1413000"/>
            <a:ext cx="5545080" cy="499716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5708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dalmatyńsk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rias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8" name="Picture 5" descr="wybrzeze_riasowe"/>
          <p:cNvPicPr/>
          <p:nvPr/>
        </p:nvPicPr>
        <p:blipFill>
          <a:blip r:embed="rId1"/>
          <a:stretch/>
        </p:blipFill>
        <p:spPr>
          <a:xfrm>
            <a:off x="2195640" y="1700280"/>
            <a:ext cx="460836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9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fiord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0" name="Picture 6" descr="wybrzeze_fiordowe"/>
          <p:cNvPicPr/>
          <p:nvPr/>
        </p:nvPicPr>
        <p:blipFill>
          <a:blip r:embed="rId1"/>
          <a:stretch/>
        </p:blipFill>
        <p:spPr>
          <a:xfrm>
            <a:off x="2411280" y="1916280"/>
            <a:ext cx="43214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szkier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2" name="Picture 6" descr="wybrzeze_szkierowe"/>
          <p:cNvPicPr/>
          <p:nvPr/>
        </p:nvPicPr>
        <p:blipFill>
          <a:blip r:embed="rId1"/>
          <a:stretch/>
        </p:blipFill>
        <p:spPr>
          <a:xfrm>
            <a:off x="2411280" y="1916280"/>
            <a:ext cx="3951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mierzej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15" name="Object 10"/>
          <p:cNvGraphicFramePr/>
          <p:nvPr/>
        </p:nvGraphicFramePr>
        <p:xfrm>
          <a:off x="2523960" y="1770120"/>
          <a:ext cx="40960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960" y="1770120"/>
                    <a:ext cx="40960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Wybrzeże limanow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8" name="Picture 6" descr="LIMAN"/>
          <p:cNvPicPr/>
          <p:nvPr/>
        </p:nvPicPr>
        <p:blipFill>
          <a:blip r:embed="rId1"/>
          <a:stretch/>
        </p:blipFill>
        <p:spPr>
          <a:xfrm>
            <a:off x="2195640" y="2492280"/>
            <a:ext cx="48369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2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Do zapamięta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Falowanie wody jest zazwyczaj wynikiem oddziaływania wiatru na jej powierzchni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Strome urwisko powstałe w wyniku podcinania brzegu przez fale to kli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Akumulacyjna działalność fal prowadzi do powstania mierzei, plaż, jezior przybrzeżnych oraz do wyrównania linii wybrzeż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6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Fale morskie to bardzo silny żywioł. Powszechnie wiadomo, że duże sztormy mogą powodować ogromne straty. Ale również małe fale morskie nieustannie zmieniają rzeźbę powierzchni Zie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Jak powstaje fala morsk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Uderzenia wiatru w taflę wody wywołują drgania cząsteczek, powoduje to zmianę poziomu wody i powstanie fali. Im większa siła uderzenia tym fala wyżs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Siły grawitacyjne Słońca i Księżyca powodują pływy morski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5472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Falowan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8" name="Picture 5" descr="images"/>
          <p:cNvPicPr/>
          <p:nvPr/>
        </p:nvPicPr>
        <p:blipFill>
          <a:blip r:embed="rId1"/>
          <a:stretch/>
        </p:blipFill>
        <p:spPr>
          <a:xfrm>
            <a:off x="3924360" y="2565360"/>
            <a:ext cx="4402080" cy="32990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6145200" y="616572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Brzeg Bałtyk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Falowanie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to oscylacyjny ruch cząstek wody po orbitach kołowych lub eliptycznych. Najczęstszą przyczyną falowania jest tarcie wiatru o powierzchnię wod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0" descr="220px-Wave_motion-i18n-mod"/>
          <p:cNvPicPr/>
          <p:nvPr/>
        </p:nvPicPr>
        <p:blipFill>
          <a:blip r:embed="rId1"/>
          <a:stretch/>
        </p:blipFill>
        <p:spPr>
          <a:xfrm>
            <a:off x="2340000" y="476280"/>
            <a:ext cx="4576680" cy="41608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1"/>
          <p:cNvSpPr/>
          <p:nvPr/>
        </p:nvSpPr>
        <p:spPr>
          <a:xfrm>
            <a:off x="250920" y="4941720"/>
            <a:ext cx="46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1 – kierunek przemieszczania się fali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2 – grzbiet fali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3 – wklęśnięcie fa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A - orbita kołow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B - orbita eliptyczn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14716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cecff"/>
                </a:solidFill>
                <a:latin typeface="Arial"/>
              </a:rPr>
              <a:t>Co to jest Abrazja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539640" y="335772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Verdana"/>
              </a:rPr>
              <a:t>Abrazja (erozja morska)-</a:t>
            </a:r>
            <a:r>
              <a:rPr b="0" lang="pl-PL" sz="2800" spc="-1" strike="noStrike">
                <a:solidFill>
                  <a:srgbClr val="ffffff"/>
                </a:solidFill>
                <a:latin typeface="Verdana"/>
              </a:rPr>
              <a:t>         procesy niszczące brzeg morski przez wody morskie i oceaniczne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cecff"/>
                </a:solidFill>
                <a:latin typeface="Arial"/>
              </a:rPr>
              <a:t>Co to jest klif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Verdana"/>
              </a:rPr>
              <a:t>Klif (faleza)</a:t>
            </a:r>
            <a:r>
              <a:rPr b="0" lang="pl-PL" sz="3200" spc="-1" strike="noStrike">
                <a:solidFill>
                  <a:srgbClr val="ffffff"/>
                </a:solidFill>
                <a:latin typeface="Verdana"/>
              </a:rPr>
              <a:t> – urwisko na brzegu morza powstałe w wyniku podcinania brzegu przez fa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40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220px-14klif9maly"/>
          <p:cNvPicPr/>
          <p:nvPr/>
        </p:nvPicPr>
        <p:blipFill>
          <a:blip r:embed="rId1"/>
          <a:stretch/>
        </p:blipFill>
        <p:spPr>
          <a:xfrm>
            <a:off x="2556000" y="765000"/>
            <a:ext cx="4027320" cy="48517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1506960" y="5964120"/>
            <a:ext cx="26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Verdana"/>
              </a:rPr>
              <a:t>Klif w Orłowie (Gdyn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7:00:38Z</dcterms:created>
  <dc:creator>Mrozowicz</dc:creator>
  <dc:description/>
  <dc:language>en-US</dc:language>
  <cp:lastModifiedBy>q</cp:lastModifiedBy>
  <dcterms:modified xsi:type="dcterms:W3CDTF">2013-03-16T14:26:36Z</dcterms:modified>
  <cp:revision>6</cp:revision>
  <dc:subject/>
  <dc:title>Lądy i Wody</dc:title>
</cp:coreProperties>
</file>