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AFC4-919E-4A9D-8CB8-EF7E6C25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3EFE-943C-46A3-9474-A7F29231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C4F3-D2E8-497A-AC4F-9E9F3A73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AC04-7275-405C-B00B-B0DF9698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7659-61C3-44C8-9D8B-38D0743C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627-BF13-4138-997F-6EAD691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EC3E-F422-46A2-857A-2A798120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10EE-61AA-4E52-9E87-FE1A73DB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2E1-AA07-4689-89AD-65A1661B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A132-9239-4D1E-B0A1-F623B98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12D-1329-4B98-82E8-AB92D846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DE98-F902-44AD-B935-FE65C6E7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938C-2D18-469F-A570-9055D05B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3FB1-0A6D-4162-90A9-C49033E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CF8D-2581-41BE-9390-51C70B6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7604-E38D-4035-95EE-3E8053A0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B88E-98F2-4FF8-832E-82788172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A304-127D-448D-84A8-FF546BEB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BDC7-1941-45B4-A2E3-510E26E9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045D-5D2D-43C8-A38C-0991B02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AA69-26A2-44BB-A455-AB246AA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DBAE-C782-47FE-9182-BFB48A01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E5C2-0A79-4D59-86F2-12C1951E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DE59-15A6-46C8-BEF1-B2AE032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A842-8150-43F0-BBED-E22713B2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99EE-9F7C-4C92-AA74-75FD2C5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900D-CF98-46D8-95A3-388A786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5AA5-D2B4-45A8-8622-69379EF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D40B-AADB-41FC-873D-C8D1045C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5814-A38B-4B2F-ABE5-E0874C87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83F4-5C24-4B89-BB12-FDF98028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D696-9223-46DA-A521-D4D8200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0D26-C4F0-4BF8-9C22-00AF95B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3502-B267-469A-A2F9-0469C879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7E41-4B5F-409F-B750-505A87E8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78D9-A68A-4F67-9AD2-EA27958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FFFB-1125-4C3A-80F8-151503D0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A8EA-F57C-4D0D-A5C1-F2A32B3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9251-F2FD-4A09-AFA6-E17A0CD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4CED-DE52-42A6-8558-4702136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61C7-65B3-470A-A441-E9FC7946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CECD-97C6-4358-987A-551A9CB9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22FD-037F-4EF7-85C2-D7FA10AB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A65D-8140-4290-814D-25BC6E89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46B6-6A10-4EBB-A1D4-1E70AEF0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4FCF-F668-419A-9D08-D62FBCB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A474-1B73-42E4-A31D-9E5F86B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D5DB-ECA5-4850-BFFC-E95930D2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0930-4C2F-4F08-B7B9-54AA2F2B36DC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4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8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1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3CE7-870B-4531-BF0E-E16A5E161979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4AD-FA7B-46A3-8CC6-2B8CF2B7BAD4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2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8B9-9EFA-4CF0-9D8E-2D5B26983FBF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03640" y="115920"/>
            <a:ext cx="5324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Tahoma"/>
              </a:rPr>
              <a:t>Rzeźbiotwórcza rola fal morski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fala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mierzeja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Mierzeja – 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budowana z piasku bariera wystająca ponad wodę. Oddziela zatokę od otwartego mor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Powstawanie mierz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0" y="2276640"/>
          <a:ext cx="911052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1052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ypy wybrzeż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wybrzeze_dalmatynskie"/>
          <p:cNvPicPr/>
          <p:nvPr/>
        </p:nvPicPr>
        <p:blipFill>
          <a:blip r:embed="rId1"/>
          <a:stretch/>
        </p:blipFill>
        <p:spPr>
          <a:xfrm>
            <a:off x="1692360" y="1413000"/>
            <a:ext cx="5545080" cy="4997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5708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dalmatyńs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rias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5" descr="wybrzeze_riasowe"/>
          <p:cNvPicPr/>
          <p:nvPr/>
        </p:nvPicPr>
        <p:blipFill>
          <a:blip r:embed="rId1"/>
          <a:stretch/>
        </p:blipFill>
        <p:spPr>
          <a:xfrm>
            <a:off x="2195640" y="1700280"/>
            <a:ext cx="4608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fiord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Picture 6" descr="wybrzeze_fiordowe"/>
          <p:cNvPicPr/>
          <p:nvPr/>
        </p:nvPicPr>
        <p:blipFill>
          <a:blip r:embed="rId1"/>
          <a:stretch/>
        </p:blipFill>
        <p:spPr>
          <a:xfrm>
            <a:off x="2411280" y="191628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szkier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6" descr="wybrzeze_szkierowe"/>
          <p:cNvPicPr/>
          <p:nvPr/>
        </p:nvPicPr>
        <p:blipFill>
          <a:blip r:embed="rId1"/>
          <a:stretch/>
        </p:blipFill>
        <p:spPr>
          <a:xfrm>
            <a:off x="2411280" y="1916280"/>
            <a:ext cx="3951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mierzej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2523960" y="1770120"/>
          <a:ext cx="40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70120"/>
                    <a:ext cx="40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liman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Picture 6" descr="LIMAN"/>
          <p:cNvPicPr/>
          <p:nvPr/>
        </p:nvPicPr>
        <p:blipFill>
          <a:blip r:embed="rId1"/>
          <a:stretch/>
        </p:blipFill>
        <p:spPr>
          <a:xfrm>
            <a:off x="2195640" y="2492280"/>
            <a:ext cx="48369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Do zapamięt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Falowanie wody jest zazwyczaj wynikiem oddziaływania wiatru na jej powierzchn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trome urwisko powstałe w wyniku podcinania brzegu przez fale to kli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umulacyjna działalność fal prowadzi do powstania mierzei, plaż, jezior przybrzeżnych oraz do wyrównania linii wybrzeż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Fale morskie to bardzo silny żywioł. Powszechnie wiadomo, że duże sztormy mogą powodować ogromne straty. Ale również małe fale morskie nieustannie zmieniają rzeźbę powierzchni Zie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Jak powstaje fala morsk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erzenia wiatru w taflę wody wywołują drgania cząsteczek, powoduje to zmianę poziomu wody i powstanie fali. Im większa siła uderzenia tym fala wyżs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iły grawitacyjne Słońca i Księżyca powodują pływy morsk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5472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alowan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5" descr="images"/>
          <p:cNvPicPr/>
          <p:nvPr/>
        </p:nvPicPr>
        <p:blipFill>
          <a:blip r:embed="rId1"/>
          <a:stretch/>
        </p:blipFill>
        <p:spPr>
          <a:xfrm>
            <a:off x="3924360" y="2565360"/>
            <a:ext cx="4402080" cy="3299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6145200" y="61657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rzeg Bałty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Falowanie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to oscylacyjny ruch cząstek wody po orbitach kołowych lub eliptycznych. Najczęstszą przyczyną falowania jest tarcie wiatru o powierzchnię wod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220px-Wave_motion-i18n-mod"/>
          <p:cNvPicPr/>
          <p:nvPr/>
        </p:nvPicPr>
        <p:blipFill>
          <a:blip r:embed="rId1"/>
          <a:stretch/>
        </p:blipFill>
        <p:spPr>
          <a:xfrm>
            <a:off x="2340000" y="476280"/>
            <a:ext cx="4576680" cy="4160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250920" y="4941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1 – kierunek przemieszczania się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2 – grzbiet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3 – wklęśnięcie f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 - orbita kołow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 - orbita eliptycz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7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ecff"/>
                </a:solidFill>
                <a:latin typeface="Arial"/>
              </a:rPr>
              <a:t>Co to jest Abrazja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3357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Abrazja (erozja morska)-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        procesy niszczące brzeg morski przez wody morskie i oceaniczn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kli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Klif (faleza)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– urwisko na brzegu morza powstałe w wyniku podcinania brzegu przez f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220px-14klif9maly"/>
          <p:cNvPicPr/>
          <p:nvPr/>
        </p:nvPicPr>
        <p:blipFill>
          <a:blip r:embed="rId1"/>
          <a:stretch/>
        </p:blipFill>
        <p:spPr>
          <a:xfrm>
            <a:off x="2556000" y="765000"/>
            <a:ext cx="4027320" cy="48517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1506960" y="596412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lif w Orłowie (Gdyn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0:38Z</dcterms:created>
  <dc:creator>Mrozowicz</dc:creator>
  <dc:description/>
  <dc:language>en-US</dc:language>
  <cp:lastModifiedBy>q</cp:lastModifiedBy>
  <dcterms:modified xsi:type="dcterms:W3CDTF">2013-03-16T14:26:36Z</dcterms:modified>
  <cp:revision>6</cp:revision>
  <dc:subject/>
  <dc:title>Lądy i Wody</dc:title>
</cp:coreProperties>
</file>