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71C-E1A2-4839-91D6-34A0F1DD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8D7-DF56-4A6C-BF6D-AD015593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975-E4E5-4AB0-937F-87BBC1F6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016-D274-4B66-930E-73F0BD31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925-5E3F-4128-8E18-480EB5DD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40C-29A7-45E4-8F92-74A91DDF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630-3A25-4ACE-A2EC-C880F423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EB9-E295-47D6-BDEA-8DA5772E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A7D-3055-4A61-8820-9747B49A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040-FD6F-42E8-A0FA-CFDC639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8F7-0AB5-43E1-BB20-D74E6E60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290-F991-4DAF-9A60-A0E2A03F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A2DE-7314-4C55-A097-0FC859FC1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aga.pl/tekst/54927-55-stopy_metali" TargetMode="External"/><Relationship Id="rId2" Type="http://schemas.openxmlformats.org/officeDocument/2006/relationships/hyperlink" Target="http://www.sciaga.pl/tekst/54927-55-stopy_metali" TargetMode="External"/><Relationship Id="rId3" Type="http://schemas.openxmlformats.org/officeDocument/2006/relationships/hyperlink" Target="http://www.sciaga.pl/tekst/54927-55-stopy_metali" TargetMode="External"/><Relationship Id="rId4" Type="http://schemas.openxmlformats.org/officeDocument/2006/relationships/hyperlink" Target="http://x02.szkolnictwo.pl/Metale_niemeta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01400"/>
            <a:ext cx="6993000" cy="61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top metali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9280" y="1197000"/>
            <a:ext cx="867564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st mieszaniną dwóch lub większej ilości metali lub metalu z innymi pierwiastkami niemetalicznymi, doprowadzoną do temperatury powyżej temperatury topnienia, a następnie schłodzon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y mają inne właściwości niż metale, z których one powsta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a topnienia stopów  jest na ogół niższa niż temperatura metali, z których je otrzymano. Mają również inną twardość, wytrzymałość i ciągliw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łoto i srebro jako pierwiastki są zbyt miękkie, aby służyły do wyrobu biżuterii. Dlatego stosuje się ich stopy z innymi metalami głównie z miedzi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916360" y="1052640"/>
            <a:ext cx="345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raluminium  to stop zawierający głównie glin, oraz dodatki stopowe: zwykle miedź (2.0-4.9 %), mangan (0.3-1.0 %), magnez (0.15-1.8 %), często także krzem, żelazo i inne w łącznej ilości ok. 6 do 8%, przeznaczony do przeróbki plastycznej. Zastosowanie: m.in. w lotnictwie do części konstruk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43200" y="52401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ąz jest stopem zawierającym miedź i cynę. Jest stosowany do odlewania dzwonów, pomników i rzeź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300720" y="4221000"/>
            <a:ext cx="24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iądz to stop miedzi i cynku. Ma zastosowanie przy wyrobie części maszyn, armatury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przedmiotów ozdob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590920" cy="173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333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zykłady zastosowań stopó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17528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54304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54560" y="991440"/>
            <a:ext cx="5689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l – stop żelaza z niewielką ilością węgla (około 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l obok żelaza i węgla zawiera zwykle również inne składniki np. chrom, nikiel, mangan, wolfram, miedź, molibden, tytan.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859280" y="3429000"/>
            <a:ext cx="3529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aroserie samochod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krycia dachu i elew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uszki do konser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nstrukcje budow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menty meb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atraki (elektrownie wiatro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atki i platformy morsk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93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ykłady zastosowań st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62064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d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 Monela zawiera 70% niklu i 30% miedzi. Oblicz ile niklu i miedzi potrzeba do otrzymania 250 g s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362320"/>
            <a:ext cx="777708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ane:                                                                                Szuka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70%                                                        m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30%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sa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stopu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=25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iąz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nikl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                   = 175g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miedz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                 =7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ź: Do otrzymania 250g stopu Monela potrzeba 175 g nikl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 75 g mied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600200" y="4724280"/>
                <a:ext cx="8859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5943600" y="4724280"/>
                <a:ext cx="86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ciaga.pl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tekst/54927-55-stopy_me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x02.szkolnictwo.pl/Metale_nieme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4:54Z</dcterms:created>
  <dc:creator>Toshiba</dc:creator>
  <dc:description/>
  <dc:language>en-US</dc:language>
  <cp:lastModifiedBy>Toshiba</cp:lastModifiedBy>
  <dcterms:modified xsi:type="dcterms:W3CDTF">2013-05-05T18:5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