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18E-0BB7-468E-A9D4-227E80D9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AB8-8079-4392-8303-9C793D7F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303-F5CB-44C5-A304-8BCC2AFB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5E5-F6E2-4225-A841-6F0116D4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F40-02CF-49B3-9B46-451DA64D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A89-8745-47DF-B9E1-9272184B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71B-6D22-4BAE-9B9A-DDE41E5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FC5-55B7-46E0-93FF-5F550D0D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D01-E679-4E29-B49B-9B25DEBB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D8B-DA0F-4A01-9D5E-77747A6F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A49-9710-4EB9-824E-1A478B4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595-3E83-4C85-A027-78B3F687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2D5E-AF53-4C4E-994C-ED56F092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aga.pl/tekst/54927-55-stopy_metali" TargetMode="External"/><Relationship Id="rId2" Type="http://schemas.openxmlformats.org/officeDocument/2006/relationships/hyperlink" Target="http://www.sciaga.pl/tekst/54927-55-stopy_metali" TargetMode="External"/><Relationship Id="rId3" Type="http://schemas.openxmlformats.org/officeDocument/2006/relationships/hyperlink" Target="http://www.sciaga.pl/tekst/54927-55-stopy_metali" TargetMode="External"/><Relationship Id="rId4" Type="http://schemas.openxmlformats.org/officeDocument/2006/relationships/hyperlink" Target="http://x02.szkolnictwo.pl/Metale_niemeta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01400"/>
            <a:ext cx="699300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top metal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97000"/>
            <a:ext cx="867564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t mieszaniną dwóch lub większej ilości metali lub metalu z innymi pierwiastkami niemetalicznymi, doprowadzoną do temperatury powyżej temperatury topnienia, a następnie schłodzo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y mają inne właściwości niż metale, z których one powsta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a topnienia stopów  jest na ogół niższa niż temperatura metali, z których je otrzymano. Mają również inną twardość, wytrzymałość i ciągliw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łoto i srebro jako pierwiastki są zbyt miękkie, aby służyły do wyrobu biżuterii. Dlatego stosuje się ich stopy z innymi metalami głównie z miedzi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105264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aluminium  to stop zawierający głównie glin, oraz dodatki stopowe: zwykle miedź (2.0-4.9 %), mangan (0.3-1.0 %), magnez (0.15-1.8 %), często także krzem, żelazo i inne w łącznej ilości ok. 6 do 8%, przeznaczony do przeróbki plastycznej. Zastosowanie: m.in. w lotnictwie do części konstruk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52401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ąz jest stopem zawierającym miedź i cynę. Jest stosowany do odlewania dzwonów, pomników i rzeź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21000"/>
            <a:ext cx="24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iądz to stop miedzi i cynku. Ma zastosowanie przy wyrobie części maszyn, armatury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rzedmiotów ozdob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59092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zykłady zastosowań stop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7528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54560" y="991440"/>
            <a:ext cx="5689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l – stop żelaza z niewielką ilością węgla (około 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l obok żelaza i węgla zawiera zwykle również inne składniki np. chrom, nikiel, mangan, wolfram, miedź, molibden, tytan.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59280" y="3429000"/>
            <a:ext cx="3529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aroserie samocho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krycia dachu i elew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szki do konse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nstrukcje budow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menty meb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atraki (elektrownie wiatro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ki i platformy morsk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93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ykłady zastosowań st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62064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d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Monela zawiera 70% niklu i 30% miedzi. Oblicz ile niklu i miedzi potrzeba do otrzymania 250 g s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362320"/>
            <a:ext cx="777708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ane:                                                                                Szuk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70%                                                        m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30%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sa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stopu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=25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iąz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nikl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                   = 175g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miedz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                 =7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ź: Do otrzymania 250g stopu Monela potrzeba 175 g nikl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75 g m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600200" y="4724280"/>
                <a:ext cx="8859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5943600" y="4724280"/>
                <a:ext cx="8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aga.p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tekst/54927-55-stopy_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x02.szkolnictwo.pl/Metale_niem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4:54Z</dcterms:created>
  <dc:creator>Toshiba</dc:creator>
  <dc:description/>
  <dc:language>en-US</dc:language>
  <cp:lastModifiedBy>Toshiba</cp:lastModifiedBy>
  <dcterms:modified xsi:type="dcterms:W3CDTF">2013-05-05T18:5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