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6B1D8-89B4-4EEC-94F4-DDBA853A48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4A6E6-7283-4326-89C0-0D9CD4698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9017F-2E28-4CEC-9743-1AD800280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31567-24D5-415A-ACCB-9B7371CDB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77001-A6AC-4BD9-81FB-B45424886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77F23-F3F6-4A54-A548-FC4988931A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7876-660D-464B-A66B-361833DE6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0CF3B-1F2A-452A-8300-2F60977F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77223-1634-4976-9F77-07D97BC14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422D7-75FB-4402-9C73-5B3475E28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63800-707D-4438-8AE1-0D0038BE8B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18280-2FB0-4C71-A89B-562CAFDB2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8F600-A700-49FF-84CA-8B44364A03E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ciaga.pl/tekst/54927-55-stopy_metali" TargetMode="External"/><Relationship Id="rId2" Type="http://schemas.openxmlformats.org/officeDocument/2006/relationships/hyperlink" Target="http://www.sciaga.pl/tekst/54927-55-stopy_metali" TargetMode="External"/><Relationship Id="rId3" Type="http://schemas.openxmlformats.org/officeDocument/2006/relationships/hyperlink" Target="http://www.sciaga.pl/tekst/54927-55-stopy_metali" TargetMode="External"/><Relationship Id="rId4" Type="http://schemas.openxmlformats.org/officeDocument/2006/relationships/hyperlink" Target="http://x02.szkolnictwo.pl/Metale_niemetale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26560" y="401400"/>
            <a:ext cx="6993000" cy="6174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ahoma"/>
              </a:rPr>
              <a:t>Stop metali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3"/>
          <p:cNvSpPr/>
          <p:nvPr/>
        </p:nvSpPr>
        <p:spPr>
          <a:xfrm>
            <a:off x="179280" y="1197000"/>
            <a:ext cx="8675640" cy="517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est mieszaniną dwóch lub większej ilości metali lub metalu z innymi pierwiastkami niemetalicznymi, doprowadzoną do temperatury powyżej temperatury topnienia, a następnie schłodzoną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opy mają inne właściwości niż metale, z których one powstał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emperatura topnienia stopów  jest na ogół niższa niż temperatura metali, z których je otrzymano. Mają również inną twardość, wytrzymałość i ciągliwoś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Złoto i srebro jako pierwiastki są zbyt miękkie, aby służyły do wyrobu biżuterii. Dlatego stosuje się ich stopy z innymi metalami głównie z miedzi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916360" y="1052640"/>
            <a:ext cx="3457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Duraluminium  to stop zawierający głównie glin, oraz dodatki stopowe: zwykle miedź (2.0-4.9 %), mangan (0.3-1.0 %), magnez (0.15-1.8 %), często także krzem, żelazo i inne w łącznej ilości ok. 6 do 8%, przeznaczony do przeróbki plastycznej. Zastosowanie: m.in. w lotnictwie do części konstrukcyj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2743200" y="5240160"/>
            <a:ext cx="3311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Brąz jest stopem zawierającym miedź i cynę. Jest stosowany do odlewania dzwonów, pomników i rzeźb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7"/>
          <p:cNvSpPr/>
          <p:nvPr/>
        </p:nvSpPr>
        <p:spPr>
          <a:xfrm>
            <a:off x="6300720" y="4221000"/>
            <a:ext cx="241164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Mosiądz to stop miedzi i cynku. Ma zastosowanie przy wyrobie części maszyn, armatury </a:t>
            </a:r>
            <a:br>
              <a:rPr sz="1800"/>
            </a:b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i przedmiotów ozdobny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95280" y="1484280"/>
            <a:ext cx="2590920" cy="17337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684360" y="333360"/>
            <a:ext cx="756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000000"/>
                </a:solidFill>
                <a:uFillTx/>
                <a:latin typeface="Arial"/>
              </a:rPr>
              <a:t>Przykłady zastosowań stopów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6516720" y="2060640"/>
            <a:ext cx="2143080" cy="214308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900000" y="3933720"/>
            <a:ext cx="1752840" cy="261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476280"/>
            <a:ext cx="2543040" cy="2571840"/>
          </a:xfrm>
          <a:prstGeom prst="rect">
            <a:avLst/>
          </a:prstGeom>
          <a:ln w="0">
            <a:noFill/>
          </a:ln>
        </p:spPr>
      </p:pic>
      <p:sp>
        <p:nvSpPr>
          <p:cNvPr id="51" name="Rectangle 3"/>
          <p:cNvSpPr/>
          <p:nvPr/>
        </p:nvSpPr>
        <p:spPr>
          <a:xfrm>
            <a:off x="3454560" y="991440"/>
            <a:ext cx="5689440" cy="18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Arial"/>
              </a:rPr>
              <a:t>Stal – stop żelaza z niewielką ilością węgla (około 2%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Stal obok żelaza i węgla zawiera zwykle również inne składniki np. chrom, nikiel, mangan, wolfram, miedź, molibden, tytan.</a:t>
            </a:r>
            <a:r>
              <a:rPr b="1" lang="pl-PL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4859280" y="3429000"/>
            <a:ext cx="3529080" cy="298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aroserie samochodów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okrycia dachu i elewacj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puszki do konserw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rur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konstrukcje budowl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elementy mebli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wiatraki (elektrownie wiatrowe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- statki i platformy morski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16000" y="3933720"/>
            <a:ext cx="360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zykłady zastosowań stal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539640" y="620640"/>
            <a:ext cx="8353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0000"/>
                </a:solidFill>
                <a:uFillTx/>
                <a:latin typeface="Arial"/>
              </a:rPr>
              <a:t>Zad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>
                <a:solidFill>
                  <a:srgbClr val="000000"/>
                </a:solidFill>
                <a:latin typeface="Arial"/>
              </a:rPr>
              <a:t>Stop Monela zawiera 70% niklu i 30% miedzi. Oblicz ile niklu i miedzi potrzeba do otrzymania 250 g stopu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5"/>
          <p:cNvSpPr/>
          <p:nvPr/>
        </p:nvSpPr>
        <p:spPr>
          <a:xfrm>
            <a:off x="533520" y="2362320"/>
            <a:ext cx="7777080" cy="4130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Dane:                                                                                Szukan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70%                                                        m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niklu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Zawartość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30%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                                                                           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miedzi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Masa 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stopu    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(m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 s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) =250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Rozwiązani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niklu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 =                    = 175g                        </a:t>
            </a: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m </a:t>
            </a:r>
            <a:r>
              <a:rPr b="1" lang="pl-PL" sz="1800" spc="-1" strike="noStrike" baseline="-25000">
                <a:solidFill>
                  <a:srgbClr val="000000"/>
                </a:solidFill>
                <a:latin typeface="Arial"/>
              </a:rPr>
              <a:t>miedzi</a:t>
            </a:r>
            <a:r>
              <a:rPr b="0" lang="pl-PL" sz="18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pl-PL" sz="1800" spc="-1" strike="noStrike">
                <a:solidFill>
                  <a:srgbClr val="000000"/>
                </a:solidFill>
                <a:latin typeface="Arial"/>
              </a:rPr>
              <a:t>=                  =75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Odpowiedź: Do otrzymania 250g stopu Monela potrzeba 175 g niklu </a:t>
            </a:r>
            <a:br>
              <a:rPr sz="1800"/>
            </a:br>
            <a:r>
              <a:rPr b="1" lang="pl-PL" sz="1800" spc="-1" strike="noStrike">
                <a:solidFill>
                  <a:srgbClr val="000000"/>
                </a:solidFill>
                <a:latin typeface="Arial"/>
              </a:rPr>
              <a:t>i 75 g miedz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Object 8"/>
              <p:cNvSpPr txBox="1"/>
              <p:nvPr/>
            </p:nvSpPr>
            <p:spPr>
              <a:xfrm>
                <a:off x="1600200" y="4724280"/>
                <a:ext cx="885960" cy="619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7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10"/>
              <p:cNvSpPr txBox="1"/>
              <p:nvPr/>
            </p:nvSpPr>
            <p:spPr>
              <a:xfrm>
                <a:off x="5943600" y="4724280"/>
                <a:ext cx="863640" cy="609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3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  <m:r>
                          <m:t xml:space="preserve">⋅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s</m:t>
                            </m:r>
                          </m:sub>
                        </m:sSub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100</m:t>
                        </m:r>
                        <m:r>
                          <m:rPr>
                            <m:lit/>
                            <m:nor/>
                          </m:rPr>
                          <m:t xml:space="preserve">%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54600"/>
            </a:gs>
            <a:gs pos="100000">
              <a:srgbClr val="ff99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Źródła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0" y="1628640"/>
            <a:ext cx="82296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sciaga.pl</a:t>
            </a: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/tekst/54927-55-stopy_metal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4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x02.szkolnictwo.pl/Metale_niemet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4-10T16:34:54Z</dcterms:created>
  <dc:creator>Toshiba</dc:creator>
  <dc:description/>
  <dc:language>en-US</dc:language>
  <cp:lastModifiedBy>Toshiba</cp:lastModifiedBy>
  <dcterms:modified xsi:type="dcterms:W3CDTF">2013-05-05T18:58:55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