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D0F-FBC8-47E0-8F01-50FA81CA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191-7D37-4932-B26C-A96D84B1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01A-A6FD-4CD6-80AA-C9247AE9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B53-F7B9-4326-A81B-9378B131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9BC04-ED49-4297-8732-CE70552E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6A314-35D7-470F-843F-ECDC3CD5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41AD-3874-42FA-A537-E1A20E95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252A0-8681-420C-BBEC-4E9080B7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9A2FD-D9CD-46D5-814F-1406582D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B95DB-7B41-44DE-8034-BB5BEA06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9AE00-B8F5-45EE-9E0C-879AAAC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98A-F3FD-4C6E-9A52-5C2C86F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7D7D0-27A9-4C13-9930-7F9CF47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C9749-C38E-43F1-B2A8-E7D9E7F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478DD-E9EC-435E-AF82-6CF08F0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9E6A0-C688-4E78-8D03-54CA1C76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3D0D4-4010-427D-998F-D0D2E63D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3088-CA75-4383-924A-D90EB8BE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2139-E2F5-473D-95C1-A2C88F88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17FC-9816-4B23-9353-D688E1FE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C1AE-7D70-44FE-919E-7228BB3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611A-9529-4AE9-96C3-4F9537FA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F29-0646-4637-AA3E-68FDDA7F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C576-0EC5-45A6-B2AC-437F474D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B9FE-8777-4B64-8502-F759631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C3D64-E7C8-46B6-83AB-01246E1B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656B-24A1-46A0-949E-D1CEEEFD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5BE8-AA5F-41DE-88A5-0DB01E9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9F00-1869-4828-8492-9503EAEA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16BF-D7E7-41D8-A4F2-82F318A3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AB264-7392-403E-B5FE-F4EAA2E4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2BECB-8811-4FEE-84BB-29341F60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A3AA75-7C45-4663-B182-F24CD6A1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D23-93BA-4305-BA0F-2342014D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17D17-7F2A-469C-B7AF-14AAE4E5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DEA3A-6F94-49F2-AC8B-C13639F9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C19A2-FD74-477A-A81C-F4726826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52E7E-6B6A-441C-BD29-416BB121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01624-E5E3-4EF1-9F31-7FE04FD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7B248-86AC-49F9-A9B7-7D24732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E13A1-F406-4507-9AD4-B5B1C92F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D0B50-55F2-437F-9FD9-5F44EA32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195C7-69F2-4675-BC3A-E831B314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624E8-61B4-4D11-A186-263ADDF8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5FC-4898-4798-A0E0-384170F9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90279-35B0-4B61-BBAD-FA6FBC21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250AA-DD7D-4017-B31D-F6F72712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73A2B-DA97-41BB-B53A-A35B5BE6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E1AEF-DFDD-476E-93CC-01C4C6EB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BCBE0-F180-4EEB-A3C7-521BA566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F64E9-FF85-4DA7-B9EC-863F08B3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81D3C-C6A9-4F13-BEA8-C2319EE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2E02C-7DA6-4051-871F-E079A721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FEDEC-B064-4EDD-B6CD-0B2D3D35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5BA3F-EF19-45C0-BBB3-89F0AB6D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9F7-25B1-49F9-AE30-085ECEC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75B47-A762-4F9D-BD3D-58AFCFA2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3341D-9B47-4734-8679-B7938351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82DA5-6668-4B89-B950-4AC1B26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F4345-F220-46E9-88E3-554D219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93E7C-BB54-44CB-94B8-C417282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B96A4-3468-4722-AD25-4A683A60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6A9E1-90AD-4EB5-BDCA-5117BD38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E1C39-CCA1-47A4-97DE-CE78699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1C075-BA07-48C6-AB46-0F87A35A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4CBAC-5406-4EDF-A358-E5FF52F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A1F-8A5B-40BE-A2AD-589A077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4BA82-52A7-4F95-B206-11EB889E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E1113-E018-4F1D-9A23-1F7ACBDD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5F34A-8894-4DBF-90E6-82DB8A35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E8C-C418-4C30-B590-9EBCD71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022-01DF-41E5-9DA3-7D67178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8E33-6F4D-44B5-9DCF-9E4A46B79303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Łącznik prosty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Łącznik prosty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Elipsa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B0A-3818-4611-A561-B23F5184ACE1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Łącznik prosty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25AD-B2E4-4BF8-B5A8-0034A3FCA97B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Łącznik prosty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Łącznik prosty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C015-EBEC-489F-B5B4-8B513519EF8A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429C-115F-4994-AA42-FC20CA3D803F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BF90-8C02-4EFE-9987-1A44A80CE427}" type="slidenum">
              <a:rPr b="0" lang="pl-PL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ytuł 1" descr=""/>
          <p:cNvPicPr/>
          <p:nvPr/>
        </p:nvPicPr>
        <p:blipFill>
          <a:blip r:embed="rId1"/>
          <a:stretch/>
        </p:blipFill>
        <p:spPr>
          <a:xfrm>
            <a:off x="414360" y="208080"/>
            <a:ext cx="8242200" cy="2797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3413160" y="3713040"/>
            <a:ext cx="2244600" cy="276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57120" y="1535040"/>
            <a:ext cx="10008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7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2143080"/>
            <a:ext cx="43578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00"/>
                </a:solidFill>
                <a:latin typeface="Constantia"/>
              </a:rPr>
              <a:t>Parowiec</a:t>
            </a:r>
            <a:r>
              <a:rPr b="0" lang="pl-PL" sz="2900" spc="-1" strike="noStrike">
                <a:solidFill>
                  <a:srgbClr val="ffff00"/>
                </a:solidFill>
                <a:latin typeface="Constantia"/>
              </a:rPr>
              <a:t> - 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to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statek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lub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okręt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napędzany tłokową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maszyną parową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lub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turbiną parową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Pierwszy parowiec wypłynął w rejs w 1807 roku. Początkowo parowce były dość niebezpieczne, gdyż często zdarzały się eksplozje niewystarczająco wytrzymałych kotłów. Udoskonalono je w drugiej połowie </a:t>
            </a:r>
            <a:r>
              <a:rPr b="0" lang="pl-PL" sz="2000" spc="-1" strike="noStrike" u="sng">
                <a:solidFill>
                  <a:srgbClr val="ffffff"/>
                </a:solidFill>
                <a:uFillTx/>
                <a:latin typeface="Constantia"/>
              </a:rPr>
              <a:t>XIX wieku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 i wtedy rejsy parowcami stały się regularne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4720" y="2214360"/>
            <a:ext cx="42130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ffff00"/>
                </a:solidFill>
                <a:latin typeface="Constantia"/>
              </a:rPr>
              <a:t>Robert  Fulton </a:t>
            </a:r>
            <a:r>
              <a:rPr b="0" lang="pl-PL" sz="29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-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inżynier amerykański, wynalazca, skonstruował pierwszy statek parow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Studiował malarstwo w Londynie  później zajął się konstruowaniem statków. Na zlecenie Napoleona zbudował w 1800 pierwszy okręt podwodny napędzany ręcznie za pomocą śruby – </a:t>
            </a:r>
            <a:r>
              <a:rPr b="0" i="1" lang="pl-PL" sz="2000" spc="-1" strike="noStrike">
                <a:solidFill>
                  <a:srgbClr val="ffffff"/>
                </a:solidFill>
                <a:latin typeface="Constantia"/>
              </a:rPr>
              <a:t>Nautilus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. W 1802 pierwszy statek parowy konstrukcji Fultona został przetestowany w Anglii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509040" indent="-3823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Tytuł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http://t3.gstatic.com/images?q=tbn:ANd9GcR_-_9XYCQJ5VJkX0mYRVyvLgcq9d5iFUBjdxx47QdT5Ypu0l19"/>
          <p:cNvPicPr/>
          <p:nvPr/>
        </p:nvPicPr>
        <p:blipFill>
          <a:blip r:embed="rId2"/>
          <a:stretch/>
        </p:blipFill>
        <p:spPr>
          <a:xfrm>
            <a:off x="281160" y="353880"/>
            <a:ext cx="3419280" cy="1438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213840" y="1785960"/>
            <a:ext cx="4357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Parowóz –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lokomotyw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 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napędzana maszyną parową lub turbiną parową. Para pochodzi z kotła opalanego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ęglem i drewnem, rzadziej ropą, 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a w parowozach bezogniowych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z zasobnika pa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716360" y="1600200"/>
            <a:ext cx="42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George Stephenson</a:t>
            </a:r>
            <a:r>
              <a:rPr b="1" lang="pl-PL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brytyjski     inżynier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który jako pierwszy zaprojektował 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pl-PL" sz="2600" spc="-1" strike="noStrike" u="sng">
                <a:solidFill>
                  <a:srgbClr val="ffffff"/>
                </a:solidFill>
                <a:uFillTx/>
                <a:latin typeface="Constantia"/>
              </a:rPr>
              <a:t>lokomotywę parow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    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  1827  nazwaną Rocket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(Rakieta), uważany jest za "ojca brytyjskich kolei parowych"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2" descr="http://www.parowozowniawolsztyn.pl/photos/parowozy/Ty45-379.jpg"/>
          <p:cNvPicPr/>
          <p:nvPr/>
        </p:nvPicPr>
        <p:blipFill>
          <a:blip r:embed="rId2"/>
          <a:stretch/>
        </p:blipFill>
        <p:spPr>
          <a:xfrm>
            <a:off x="536400" y="255600"/>
            <a:ext cx="2988000" cy="1585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ff00"/>
                </a:solidFill>
                <a:latin typeface="Constantia"/>
              </a:rPr>
              <a:t>Telegraf</a:t>
            </a:r>
            <a:r>
              <a:rPr b="0" lang="pl-PL" sz="3700" spc="-1" strike="noStrike">
                <a:solidFill>
                  <a:srgbClr val="ffff00"/>
                </a:solidFill>
                <a:latin typeface="Constantia"/>
              </a:rPr>
              <a:t> - 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urządzenie do przekazywania ,wiadomości przeważnie tekstowych, na odległość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700" spc="-1" strike="noStrike">
                <a:solidFill>
                  <a:srgbClr val="ffff00"/>
                </a:solidFill>
                <a:latin typeface="Constantia"/>
              </a:rPr>
              <a:t>Samuel Finley Breese Morse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 - amerykański wynalazca,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 malarz, 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rzeźbiarz, </a:t>
            </a:r>
            <a:br>
              <a:rPr sz="3700"/>
            </a:b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prekursor </a:t>
            </a:r>
            <a:br>
              <a:rPr sz="3700"/>
            </a:br>
            <a:r>
              <a:rPr b="0" lang="pl-PL" sz="3700" spc="-1" strike="noStrike" u="sng">
                <a:solidFill>
                  <a:srgbClr val="ffffff"/>
                </a:solidFill>
                <a:uFillTx/>
                <a:latin typeface="Constantia"/>
              </a:rPr>
              <a:t>telegrafii</a:t>
            </a:r>
            <a:r>
              <a:rPr b="0" lang="pl-PL" sz="37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Picture 2" descr="http://t0.gstatic.com/images?q=tbn:ANd9GcRJzNwBpWSr1RjFolwRV_HUu_g0LqybEteCKF_e8WVFprBkoNGD"/>
          <p:cNvPicPr/>
          <p:nvPr/>
        </p:nvPicPr>
        <p:blipFill>
          <a:blip r:embed="rId2"/>
          <a:stretch/>
        </p:blipFill>
        <p:spPr>
          <a:xfrm>
            <a:off x="463680" y="328680"/>
            <a:ext cx="2955960" cy="157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85840" y="1599840"/>
            <a:ext cx="420984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03640" indent="-37800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Constantia"/>
              </a:rPr>
              <a:t>Silnik spalinowy</a:t>
            </a:r>
            <a:r>
              <a:rPr b="0" lang="pl-PL" sz="2800" spc="-1" strike="noStrike">
                <a:solidFill>
                  <a:srgbClr val="ffff00"/>
                </a:solidFill>
                <a:latin typeface="Constantia"/>
              </a:rPr>
              <a:t> —</a:t>
            </a: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silnik wykorzystujący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sprężanie i rozprężanie 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czynnika termodynamicznego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 (gazu) d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03640" indent="-37800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onstantia"/>
              </a:rPr>
              <a:t>wytworzenia momentu obrotowego lub siły. Sprężany jest gaz "zimny", a rozprężany — "gorący„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Constantia"/>
              </a:rPr>
              <a:t>Étienne Lenoir</a:t>
            </a:r>
            <a:r>
              <a:rPr b="0" lang="pl-PL" sz="32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 wynalazca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 francuski pochodzenia belgijskiego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onstantia"/>
              </a:rPr>
              <a:t>W 1860 zbudował pierwszy użyteczny silnik spalinow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Picture 2" descr="http://www.retrotraktor.pl/artykuly/stacjonarne/1.jpg"/>
          <p:cNvPicPr/>
          <p:nvPr/>
        </p:nvPicPr>
        <p:blipFill>
          <a:blip r:embed="rId2"/>
          <a:stretch/>
        </p:blipFill>
        <p:spPr>
          <a:xfrm>
            <a:off x="420840" y="133200"/>
            <a:ext cx="1871640" cy="14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Telefon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 urządzenie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tanowiące zakończenie łącza telefonicznego;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gł. części aparatu: mikrotelefon, w którym zachodzi przetwarzanie dźwięków mowy na sygnał elektryczny lub operacja odwrotna, tarcza numerowa lub klawiatura, wytwarzające impulsy wybiórcze, oraz przetwornik sygnału elektrycznego na sygnał przywołujący abonenta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2071440"/>
            <a:ext cx="40384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Alexander Graham Bell -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szkocki wynalazca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telefonu i kilkudziesięciu innych wynalazków telekomunikacyjnych. 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Z zawodu był logopedą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i nauczycielem muzyki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Bell był też współzałożycielem dwóch znanych czasopism Science 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i National Geographic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2" descr="http://upload.wikimedia.org/wikipedia/commons/thumb/1/15/1896_telephone.jpg/200px-1896_telephone.jpg"/>
          <p:cNvPicPr/>
          <p:nvPr/>
        </p:nvPicPr>
        <p:blipFill>
          <a:blip r:embed="rId2"/>
          <a:stretch/>
        </p:blipFill>
        <p:spPr>
          <a:xfrm>
            <a:off x="390600" y="255600"/>
            <a:ext cx="2511360" cy="1725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324000" y="1857240"/>
            <a:ext cx="41716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Żarówka</a:t>
            </a:r>
            <a:r>
              <a:rPr b="0" lang="pl-PL" sz="2400" spc="-1" strike="noStrike">
                <a:solidFill>
                  <a:srgbClr val="ffff00"/>
                </a:solidFill>
                <a:latin typeface="Constantia"/>
              </a:rPr>
              <a:t> – </a:t>
            </a: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elektryczne źródło światła,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 w którym ciałem świecącym jest włókno wykonane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onstantia"/>
              </a:rPr>
              <a:t>z trudno topliwego materiału.  Drut wolframowy jest umieszczony w bańce szklanej wypełnionej mieszaniną gazów szlachetnych. Włókno osiąga temperaturę ok. 2500–3000 K na skutek przepływu prądu elektrycznego. Wynalazek powstał w połowie XIX w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Constantia"/>
              </a:rPr>
              <a:t>Thomas Alva Edison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  – jeden z najbardziej znanych i twórczych wynalazców 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na świecie, przedsiębiorca.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 Dorobek założonych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i administrowanych przez niego laboratoriów to około 5000 patentów,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z których 1093 wystawionych jest na jego nazwisko</a:t>
            </a:r>
            <a:r>
              <a:rPr b="0" lang="pl-PL" sz="1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Picture 2" descr="http://t1.gstatic.com/images?q=tbn:ANd9GcTB6AplvooOwN6fq5aEAA0NiwmkGeZLsz_6Awzy9fpmZiIB1HWw"/>
          <p:cNvPicPr/>
          <p:nvPr/>
        </p:nvPicPr>
        <p:blipFill>
          <a:blip r:embed="rId2"/>
          <a:stretch/>
        </p:blipFill>
        <p:spPr>
          <a:xfrm>
            <a:off x="676440" y="255600"/>
            <a:ext cx="1798560" cy="172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00"/>
                </a:solidFill>
                <a:latin typeface="Constantia"/>
              </a:rPr>
              <a:t>Radio</a:t>
            </a:r>
            <a:r>
              <a:rPr b="0" lang="pl-PL" sz="30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–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urządzenie zajmujące się przekazywaniem informacji na odległość za pomocą fal elektromagnetycz-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nych</a:t>
            </a:r>
            <a:r>
              <a:rPr b="0" lang="pl-PL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00"/>
                </a:solidFill>
                <a:latin typeface="Constantia"/>
              </a:rPr>
              <a:t>Guglielmo Marconi </a:t>
            </a:r>
            <a:r>
              <a:rPr b="0" lang="pl-PL" sz="3000" spc="-1" strike="noStrike">
                <a:solidFill>
                  <a:srgbClr val="ffff00"/>
                </a:solidFill>
                <a:latin typeface="Constantia"/>
              </a:rPr>
              <a:t>– </a:t>
            </a: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włoski fizyk </a:t>
            </a:r>
            <a:br>
              <a:rPr sz="3000"/>
            </a:br>
            <a:r>
              <a:rPr b="0" lang="pl-PL" sz="3000" spc="-1" strike="noStrike">
                <a:solidFill>
                  <a:srgbClr val="ffffff"/>
                </a:solidFill>
                <a:latin typeface="Constantia"/>
              </a:rPr>
              <a:t>i konstruktor, laureat Nagrody Nobla z dziedziny fizyki w roku 1909 za wkład w rozwój telegrafii bezprzewodowej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Picture 2" descr="http://upload.wikimedia.org/wikipedia/commons/thumb/2/25/Radio_Diora_Pionier_U2_1.jpg/260px-Radio_Diora_Pionier_U2_1.jpg"/>
          <p:cNvPicPr/>
          <p:nvPr/>
        </p:nvPicPr>
        <p:blipFill>
          <a:blip r:embed="rId2"/>
          <a:stretch/>
        </p:blipFill>
        <p:spPr>
          <a:xfrm>
            <a:off x="633240" y="208080"/>
            <a:ext cx="2872080" cy="16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ytuł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214200" y="1773000"/>
            <a:ext cx="478656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00"/>
                </a:solidFill>
                <a:latin typeface="Constantia"/>
              </a:rPr>
              <a:t>Kinematograf</a:t>
            </a:r>
            <a:r>
              <a:rPr b="0" lang="pl-PL" sz="2600" spc="-1" strike="noStrike">
                <a:solidFill>
                  <a:srgbClr val="ffff00"/>
                </a:solidFill>
                <a:latin typeface="Constantia"/>
              </a:rPr>
              <a:t> 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-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aparat do realizacji i ekranowej projekcji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      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ruchomych obrazów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łowo "kinematograf" pochodzi od greckich słów: 'kinematos 'gráphein’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Skonstruowali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go w roku 1895 we Francji bracia Louis i August Lumière.. Pierwsza publiczna projekcja ich filmów miała miejsce 28 grudnia 1895 roku w paryskim </a:t>
            </a:r>
            <a:r>
              <a:rPr b="0" i="1" lang="pl-PL" sz="2200" spc="-1" strike="noStrike">
                <a:solidFill>
                  <a:srgbClr val="ffffff"/>
                </a:solidFill>
                <a:latin typeface="Constantia"/>
              </a:rPr>
              <a:t>Salonie Indyjskim Grand Caf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7168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Ludwik Lumiere </a:t>
            </a: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    </a:t>
            </a:r>
            <a:r>
              <a:rPr b="1" lang="pl-PL" sz="3100" spc="-1" strike="noStrike">
                <a:solidFill>
                  <a:srgbClr val="ffff00"/>
                </a:solidFill>
                <a:latin typeface="Constantia"/>
              </a:rPr>
              <a:t>i August Lumiere </a:t>
            </a:r>
            <a:r>
              <a:rPr b="0" lang="pl-PL" sz="3100" spc="-1" strike="noStrike">
                <a:solidFill>
                  <a:srgbClr val="ffffff"/>
                </a:solidFill>
                <a:latin typeface="Constantia"/>
              </a:rPr>
              <a:t>wynalazcy kinematografu. Dwaj synowie fabrykanta artykułów fotograficznych w Lyonie.</a:t>
            </a:r>
            <a:r>
              <a:rPr b="0" lang="pl-PL" sz="22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2" descr="http://t1.gstatic.com/images?q=tbn:ANd9GcRAbH_nm-h7AX2OB1QwxPm6xmjxOVHunB2hVNn_b-W5y_kxKqe8"/>
          <p:cNvPicPr/>
          <p:nvPr/>
        </p:nvPicPr>
        <p:blipFill>
          <a:blip r:embed="rId2"/>
          <a:stretch/>
        </p:blipFill>
        <p:spPr>
          <a:xfrm>
            <a:off x="822240" y="255600"/>
            <a:ext cx="1725840" cy="1427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zena</dc:creator>
  <dc:description/>
  <dc:language>en-US</dc:language>
  <cp:lastModifiedBy>Marzena</cp:lastModifiedBy>
  <dcterms:modified xsi:type="dcterms:W3CDTF">2013-08-05T12:54:13Z</dcterms:modified>
  <cp:revision>22</cp:revision>
  <dc:subject/>
  <dc:title>Wynalazki i nobliści</dc:title>
</cp:coreProperties>
</file>