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CEE-FD2E-484D-94D2-FDEE2BC1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E6EF-FFFF-45CA-8329-32D51F11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E46E02-5AD4-47AC-A2A4-FD9550F2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5503B-CA6A-4EF1-BE87-D87155BA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6838F-EB19-4EBB-B872-8463A12C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D7F4E9-5022-4D95-BBD3-327E97BB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5B2C8-749C-47B8-B8D9-19A47EE0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8CFA2-F79F-4648-A1DE-9B036A3B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61CA5-940E-4E83-9213-EADA8980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49F99-0109-4446-B34F-E7A26968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64890-D286-4B6C-A928-18A336FC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5D0C5-6264-4E5E-9281-BABCA0AC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375D-BA2F-44AA-B9CB-AC2A011A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9EFA74-3FD2-4139-BD6F-CB5A4233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B928E7-7497-4415-A9D1-8FFB1590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DB5D81-CCD4-4CDC-B159-F6BBFDE1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AED091-F0E2-469A-BB83-4DB8B893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606A4B-435C-4861-8E86-A0E61605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22AFF4-2D2F-4D5D-A20F-7AEC08B1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A6A3E1-888A-4360-92F9-CDD9B3E5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334AF-8E7B-4388-A784-1625FFCF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131E44-D39A-41D0-83EC-BEF2773D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9D8698-380A-457F-85F7-D9EF915E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F66C-1ACB-4013-89AB-FF417C8F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5EE1CC-B6FB-4289-AF1A-4C88BBB9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43DE9-22D2-4A5C-BF88-3853FECF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B8A4D-9CB6-45BF-A62D-8D0A33DE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A16CB-922D-4811-871E-468542A1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20531-70C3-4107-B46B-6B6659CA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951D9-0B97-4390-B46C-66021D33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E43DE-6ED8-4E93-84E4-966DF2C6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D6DF4-FF36-49BA-8BD5-5B4B6F7A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54F6A-BE6B-4B27-A5A8-0FC39343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E68E3-3094-440C-8DB8-48D8755B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ABF4-F7EF-406E-881E-D985E5C8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E876E-4707-42FE-AD9F-88EB17D4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9FA52-83F8-4BBD-957A-962BD052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BB2F6-3ABE-4521-A066-927BBBD4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EF5714-2350-4F2E-8540-1C57DE02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D0CF7-B687-42E4-A849-8C40B38B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C9DCA6-0E54-4608-BEFB-5DBEB77B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1C6C60-5CC9-4151-9AB9-DE638F75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0BCB0E-FC33-4D44-BA95-07AE9337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F32AF2-3BAC-47D1-B7F4-FCE0C68C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E90072-B520-44EB-B305-D08F2851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4536-FAF9-47E6-B88A-8DEA4C41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E5A984-04F9-4429-ABDA-010ED09D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B36B33-3F67-4951-B36C-9396B6C1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9DB23F-4797-4567-A82A-B1FFADA4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B9E1C-0DA0-4B52-9437-53FF114A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FDCC7-6138-425D-9C2A-0FA743B8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0C5C-C52E-483C-9520-75252C5B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262B-0610-4160-AE43-24B144ED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A943-6496-4C12-A364-8518F0DB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51BA-1EFC-4189-9866-8461EA3F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36FB-11C1-465F-9C8B-621391A6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7EED-386F-44BA-8ADF-B3A8FB2D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2A11-8786-4032-9246-1E4748F4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6947-4BAA-46F6-98DA-A3BCC383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2E84-B399-4C76-BEE9-182110F2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D050-3C3B-4956-A55C-6A4337B4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1934-FD6F-490B-9419-C9D4031B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1B95F-9022-4DC8-BE72-ED4E6BE4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8C7B9-8080-4DC9-9844-0A14F649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56E47-D33B-48C6-B155-A2594771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1612C-9C7A-4B42-A415-BB4F2093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A9D43-4F2A-447B-87B4-4E242536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92BD-3C5C-4608-AEB1-27496DAE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5F741-A9ED-4C37-A6CB-1C80CA04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13584-CFAC-45A6-BFC3-EA372EAD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4A2AF-BD98-43CB-8144-7D0C9DCC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EAE0B-F629-4A02-BEE7-7D465AB8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3367D-797B-4D18-BBB6-976BA317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13BBD-68C6-4DAA-9569-42B5E1C7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545B1-32AF-41E7-90FD-FBC27058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43638-6F23-45C4-8B5B-719FF694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A93F6-CB66-4FC8-B0C6-791CEC5D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ABAE0-6307-4DFC-88C0-3A393EEF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CFB-08E2-4041-B845-C1B6F60D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C802A-654D-46D2-8C55-8FCC703A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FB469-46DB-40EC-8B35-5CAE8ED4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79959-1572-4ED8-B036-852D4CF0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48302-D1CA-485E-A722-67C0938F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DC75E-97BA-4652-A6EC-759B4069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3EEE6-575F-4E31-8990-BECF8ED7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6BCB9-DDF9-4806-B43C-81174183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8758B-F282-4FB7-AD52-E3A88927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CA475-AE25-46B4-A698-804862B9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879C8-11D0-409D-A2FF-0AB98049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9D5-D211-41E0-8F65-5214AAD4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9CBA5-71BA-42B1-94C9-59157BA7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C1DF9-BE87-486B-BCF2-26245B57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1F66A-01E3-449A-908F-7A5E1B48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913C8-FB51-40F1-B0E4-63D682B4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20EC4-0B4F-4A54-B362-7AF02E61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FA2D1-8260-4934-91AC-3CDD9048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FAB53-CB12-46DD-A31B-25D80729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331C6-9359-4FD2-817A-A5EBFDEB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3E985-E3BC-48A8-92B5-713246DE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83C73-F700-402C-BEF8-A16E6DD7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50EA-AAC7-4920-A5AE-59A2AE9B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AA61F-C0FF-4611-B52C-7EA4669E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7EA34-08D4-4794-95E1-D8A655A0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1707B-49DD-43E9-8B06-37914923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C9A39-CFBC-4A5F-8BF0-93419273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B1FF7-B41C-493C-BEB3-899BD234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51D39-B288-4DC4-A4A8-690F2802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FF480-AFB8-4D6A-B18E-97929193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C18CD-EC37-4ECA-9065-57EACD5D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2D5E4-B04F-4F79-92C6-E02E2D28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239EF-4BEF-4609-9F47-57966426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A71E-9451-4720-BF08-4BF43E25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ADD14-29AA-4F60-A44E-9A194C37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23A7A-6C83-4FAF-98A1-8DBEA950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29CDE-E481-408E-8772-B986C7B3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B64BD-709B-4F7E-B4C7-339EE638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086E1-3D00-4BB1-ADE6-4E9D75D5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AD48A-85BC-466A-8F5A-A4056B15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1A6A8-ED81-4DAB-89D0-82B9A8FA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F3ABB-605A-4A26-8093-A6A20A93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7CF45-D72E-4352-85CD-8C5C21D8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5EE90-31D8-4FED-8A4A-DBE583D5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2A20-E6BA-4039-8D8E-4C9A75C8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23814-A6D4-403A-98E4-45D5DA37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397B5-349A-4A7B-91B7-5210DF98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C3CD1-D21F-4CF5-9922-A1E607FD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3840B-6C1C-4758-B893-87560D19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96542-7CA0-489C-93E1-673030E0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71BC4-91F0-497B-848C-EDD07CE8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0A3E5-9D5E-4511-A4D9-13A09451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F7A6F-D2BE-4A4B-AE87-A07D3380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F7A8D-56DA-4F7F-96D7-A0701A30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6017F-CCE9-446B-BE03-AFAA236C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383-1D87-4C68-AB68-FF44F1C8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B5A8E-B496-4BDD-AD8D-C5B62563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5DE59-A58D-4185-949F-D7BB48AC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DFF4F-24D7-46E6-8AE9-C16AFF3C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C3FDF-32F1-4651-A16C-C29604CC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084A8-1F12-423D-9F02-0D74C20F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CBCE4-6040-4034-994B-BCBE871E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AC5A4-4F55-4131-BC10-A4A6A5BC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665D4B-8C8C-4FF2-AB4C-80F7F32D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A3C64-21B3-46E5-B868-682C9F49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B443C7-D0A6-400A-B763-AC94F1CB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33DF-A4D2-4B21-AFB4-2365AE9F803E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Łącznik prosty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rostokąt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rostokąt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rostokąt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rostokąt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rostokąt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rostokąt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rostokąt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Elipsa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Elipsa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rostokąt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0240-2443-4431-AA55-83148AF943C0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EF8B-8A73-4794-84DC-E45B09293C35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rostokąt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rostokąt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rostokąt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rostokąt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Prostokąt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Prostokąt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Łącznik prosty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Elipsa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Elipsa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B6EF-B6B5-4904-B445-8FCEC207C3F6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ostokąt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rostokąt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rostokąt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rostokąt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rostokąt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Łącznik prosty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rostokąt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Elipsa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Elipsa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D243-52BD-4035-9122-D3C3C3ADA947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CBEB-4C7E-448D-9897-5B2430A6783F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rostokąt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rostokąt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rostokąt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rostokąt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rostokąt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rostokąt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rostokąt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rostokąt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Łącznik prosty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Elipsa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Elipsa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A77D-B475-45FD-9373-33E495141053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Łącznik prosty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1358-BCB4-4369-9A0E-270A92A09BD4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Łącznik prosty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rostokąt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rostokąt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rostokąt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rostokąt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rostokąt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rostokąt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Łącznik prosty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rostokąt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Elipsa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Elipsa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4280-06CF-4232-8BB0-203121D31B67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6505-B064-4013-8E3A-8E306D5BB63C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rostokąt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rostokąt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rostokąt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rostokąt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rostokąt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rostokąt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11B2-812E-435D-9134-89583928CF02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rostokąt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rostokąt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rostokąt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rostokąt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rostokąt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rostokąt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rostokąt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Łącznik prosty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Elipsa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Elipsa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rostokąt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CEAF-0D04-4AC4-A1E4-2F42E4B6C5C0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Arial"/>
                <a:ea typeface="Arial"/>
              </a:rPr>
              <a:t>Znaki bezpieczeństwa</a:t>
            </a:r>
            <a:br>
              <a:rPr sz="4800"/>
            </a:br>
            <a:r>
              <a:rPr b="0" lang="pl-PL" sz="4800" spc="-1" strike="noStrike">
                <a:solidFill>
                  <a:srgbClr val="ff0000"/>
                </a:solidFill>
                <a:latin typeface="Arial"/>
                <a:ea typeface="Arial"/>
              </a:rPr>
              <a:t>BHP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2" descr="C:\Users\Marzena\AppData\Local\Microsoft\Windows\Temporary Internet Files\Content.IE5\8XW2J9XG\MC900319244[1].wmf"/>
          <p:cNvPicPr/>
          <p:nvPr/>
        </p:nvPicPr>
        <p:blipFill>
          <a:blip r:embed="rId1"/>
          <a:stretch/>
        </p:blipFill>
        <p:spPr>
          <a:xfrm>
            <a:off x="2916360" y="2997360"/>
            <a:ext cx="313056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Arial"/>
                <a:ea typeface="Arial"/>
              </a:rPr>
              <a:t>Znaki, tablice i piktogramy bhp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13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Georgia"/>
              </a:rPr>
              <a:t>Znaki bezpieczeństwa</a:t>
            </a: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 – zestaw symboli dotyczących przestrzegania zasad bezpieczeństwa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i higieny stosowany w miejscach użyteczności publicznej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i w zakładach prac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13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Georgia"/>
              </a:rPr>
              <a:t>Oznakowanie bezpieczeństwa 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14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znaki,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14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tablice ,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14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piktogramy 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333000"/>
            <a:ext cx="8534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pl-PL" sz="4000" spc="-1" strike="noStrike">
                <a:solidFill>
                  <a:srgbClr val="ff0000"/>
                </a:solidFill>
                <a:latin typeface="Arial"/>
                <a:ea typeface="Arial"/>
              </a:rPr>
              <a:t>Znaki, tablice i piktogramy bhp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Stosuje się na stanowiskach pracy, gdzie występuje zagrożenie dla życia lub zdrowia pracowników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Znaki bhp mają za zadanie </a:t>
            </a:r>
            <a:r>
              <a:rPr b="1" lang="pl-PL" sz="2700" spc="-1" strike="noStrike">
                <a:solidFill>
                  <a:srgbClr val="000000"/>
                </a:solidFill>
                <a:latin typeface="Georgia"/>
              </a:rPr>
              <a:t>poinformować</a:t>
            </a: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o występującym niebezpieczeństw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Znaki bhp mają również za zadanie </a:t>
            </a:r>
            <a:r>
              <a:rPr b="1" lang="pl-PL" sz="2700" spc="-1" strike="noStrike">
                <a:solidFill>
                  <a:srgbClr val="000000"/>
                </a:solidFill>
                <a:latin typeface="Georgia"/>
              </a:rPr>
              <a:t>zakazać </a:t>
            </a: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pracownikom wykonywania czynności zabronionych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Znaki bhp bardzo często spełniają funkcję </a:t>
            </a:r>
            <a:r>
              <a:rPr b="1" lang="pl-PL" sz="2700" spc="-1" strike="noStrike">
                <a:solidFill>
                  <a:srgbClr val="000000"/>
                </a:solidFill>
                <a:latin typeface="Georgia"/>
              </a:rPr>
              <a:t>ostrzegawczą, </a:t>
            </a:r>
            <a:r>
              <a:rPr b="0" lang="pl-PL" sz="2700" spc="-1" strike="noStrike">
                <a:solidFill>
                  <a:srgbClr val="000000"/>
                </a:solidFill>
                <a:latin typeface="Georgia"/>
              </a:rPr>
              <a:t>ostrzegając pracowników przed zagrożeniem np. wysoka temperatura lub inne niebezpieczeństwo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300" spc="-1" strike="noStrike">
                <a:solidFill>
                  <a:srgbClr val="ff0000"/>
                </a:solidFill>
                <a:latin typeface="Arial"/>
                <a:ea typeface="Arial"/>
              </a:rPr>
              <a:t>ZNAKI INFORMACYJN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Picture 2" descr="Plik:E003.svg"/>
          <p:cNvPicPr/>
          <p:nvPr/>
        </p:nvPicPr>
        <p:blipFill>
          <a:blip r:embed="rId1"/>
          <a:stretch/>
        </p:blipFill>
        <p:spPr>
          <a:xfrm>
            <a:off x="611280" y="1989000"/>
            <a:ext cx="2160360" cy="2159280"/>
          </a:xfrm>
          <a:prstGeom prst="rect">
            <a:avLst/>
          </a:prstGeom>
          <a:ln w="0">
            <a:noFill/>
          </a:ln>
        </p:spPr>
      </p:pic>
      <p:sp>
        <p:nvSpPr>
          <p:cNvPr id="614" name="Prostokąt 3"/>
          <p:cNvSpPr/>
          <p:nvPr/>
        </p:nvSpPr>
        <p:spPr>
          <a:xfrm>
            <a:off x="324000" y="429264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ierwsza pomoc medyczn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Picture 2" descr="Plik:E005.svg"/>
          <p:cNvPicPr/>
          <p:nvPr/>
        </p:nvPicPr>
        <p:blipFill>
          <a:blip r:embed="rId2"/>
          <a:stretch/>
        </p:blipFill>
        <p:spPr>
          <a:xfrm>
            <a:off x="6588000" y="220500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616" name="Prostokąt 5"/>
          <p:cNvSpPr/>
          <p:nvPr/>
        </p:nvSpPr>
        <p:spPr>
          <a:xfrm>
            <a:off x="6531480" y="4365720"/>
            <a:ext cx="23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ysznic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bezpieczeństw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Plik:PN Telefon awaryjny.svg"/>
          <p:cNvPicPr/>
          <p:nvPr/>
        </p:nvPicPr>
        <p:blipFill>
          <a:blip r:embed="rId3"/>
          <a:stretch/>
        </p:blipFill>
        <p:spPr>
          <a:xfrm>
            <a:off x="3635280" y="2781360"/>
            <a:ext cx="2160720" cy="2158920"/>
          </a:xfrm>
          <a:prstGeom prst="rect">
            <a:avLst/>
          </a:prstGeom>
          <a:ln w="0">
            <a:noFill/>
          </a:ln>
        </p:spPr>
      </p:pic>
      <p:sp>
        <p:nvSpPr>
          <p:cNvPr id="618" name="Prostokąt 7"/>
          <p:cNvSpPr/>
          <p:nvPr/>
        </p:nvSpPr>
        <p:spPr>
          <a:xfrm>
            <a:off x="3491280" y="522936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Telefon awaryjn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ZNAKI  PRZECIWPOŻAROWE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Picture 2" descr="Extincteur.svg"/>
          <p:cNvPicPr/>
          <p:nvPr/>
        </p:nvPicPr>
        <p:blipFill>
          <a:blip r:embed="rId1"/>
          <a:stretch/>
        </p:blipFill>
        <p:spPr>
          <a:xfrm>
            <a:off x="684360" y="1989000"/>
            <a:ext cx="2158920" cy="21592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F003.svg"/>
          <p:cNvPicPr/>
          <p:nvPr/>
        </p:nvPicPr>
        <p:blipFill>
          <a:blip r:embed="rId2"/>
          <a:stretch/>
        </p:blipFill>
        <p:spPr>
          <a:xfrm>
            <a:off x="6443640" y="1989000"/>
            <a:ext cx="2160720" cy="2159280"/>
          </a:xfrm>
          <a:prstGeom prst="rect">
            <a:avLst/>
          </a:prstGeom>
          <a:ln w="0">
            <a:noFill/>
          </a:ln>
        </p:spPr>
      </p:pic>
      <p:sp>
        <p:nvSpPr>
          <p:cNvPr id="622" name="pole tekstowe 5"/>
          <p:cNvSpPr/>
          <p:nvPr/>
        </p:nvSpPr>
        <p:spPr>
          <a:xfrm>
            <a:off x="611280" y="4292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Gaśnic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ole tekstowe 7"/>
          <p:cNvSpPr/>
          <p:nvPr/>
        </p:nvSpPr>
        <p:spPr>
          <a:xfrm>
            <a:off x="5975280" y="4365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Hydrant wewnętrzn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6" descr="Plik:D-P001 Rauchen verboten.svg"/>
          <p:cNvPicPr/>
          <p:nvPr/>
        </p:nvPicPr>
        <p:blipFill>
          <a:blip r:embed="rId3"/>
          <a:stretch/>
        </p:blipFill>
        <p:spPr>
          <a:xfrm>
            <a:off x="3492360" y="299736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625" name="Prostokąt 9"/>
          <p:cNvSpPr/>
          <p:nvPr/>
        </p:nvSpPr>
        <p:spPr>
          <a:xfrm>
            <a:off x="2652120" y="5229360"/>
            <a:ext cx="37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alenie tytoniu zabronio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ZNAKI OSTRZEGAWCZE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Prostokąt 4"/>
          <p:cNvSpPr/>
          <p:nvPr/>
        </p:nvSpPr>
        <p:spPr>
          <a:xfrm>
            <a:off x="0" y="393372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strzeżeni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zed porażeniem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ądem elektryczny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Picture 4" descr="Plik:D-W028 Warnung vor Rutschgefahr.svg"/>
          <p:cNvPicPr/>
          <p:nvPr/>
        </p:nvPicPr>
        <p:blipFill>
          <a:blip r:embed="rId1"/>
          <a:stretch/>
        </p:blipFill>
        <p:spPr>
          <a:xfrm>
            <a:off x="6227640" y="1557360"/>
            <a:ext cx="2460600" cy="21589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6" descr="Plik:DIN 4844-2 Warnung vor gef el Spannung D-W008.svg"/>
          <p:cNvPicPr/>
          <p:nvPr/>
        </p:nvPicPr>
        <p:blipFill>
          <a:blip r:embed="rId2"/>
          <a:stretch/>
        </p:blipFill>
        <p:spPr>
          <a:xfrm>
            <a:off x="611280" y="1557360"/>
            <a:ext cx="2463840" cy="2158920"/>
          </a:xfrm>
          <a:prstGeom prst="rect">
            <a:avLst/>
          </a:prstGeom>
          <a:ln w="0">
            <a:noFill/>
          </a:ln>
        </p:spPr>
      </p:pic>
      <p:sp>
        <p:nvSpPr>
          <p:cNvPr id="630" name="Prostokąt 7"/>
          <p:cNvSpPr/>
          <p:nvPr/>
        </p:nvSpPr>
        <p:spPr>
          <a:xfrm>
            <a:off x="6372360" y="393372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strzeżeni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zed śliską nawierzchnią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Picture 8" descr="Plik:D-W003 Warnung vor giftigen Stoffen ty.svg"/>
          <p:cNvPicPr/>
          <p:nvPr/>
        </p:nvPicPr>
        <p:blipFill>
          <a:blip r:embed="rId3"/>
          <a:stretch/>
        </p:blipFill>
        <p:spPr>
          <a:xfrm>
            <a:off x="3635280" y="3141720"/>
            <a:ext cx="2460600" cy="2158920"/>
          </a:xfrm>
          <a:prstGeom prst="rect">
            <a:avLst/>
          </a:prstGeom>
          <a:ln w="0">
            <a:noFill/>
          </a:ln>
        </p:spPr>
      </p:pic>
      <p:sp>
        <p:nvSpPr>
          <p:cNvPr id="632" name="Prostokąt 9"/>
          <p:cNvSpPr/>
          <p:nvPr/>
        </p:nvSpPr>
        <p:spPr>
          <a:xfrm>
            <a:off x="2050920" y="5445000"/>
            <a:ext cx="60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strzeżenie przed niebezpieczeństwem zatrucia substancjami toksycznym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ZNAKI ZAKAZU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Picture 2" descr="Plik:D-P003 Fuer Fussgaenger verboten.svg"/>
          <p:cNvPicPr/>
          <p:nvPr/>
        </p:nvPicPr>
        <p:blipFill>
          <a:blip r:embed="rId1"/>
          <a:stretch/>
        </p:blipFill>
        <p:spPr>
          <a:xfrm>
            <a:off x="900000" y="177336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635" name="Prostokąt 4"/>
          <p:cNvSpPr/>
          <p:nvPr/>
        </p:nvSpPr>
        <p:spPr>
          <a:xfrm>
            <a:off x="698040" y="407664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Zakaz przejśc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6" name="Picture 4" descr="Plik:D-P014 Mitfuehren von Tieren verboten.svg"/>
          <p:cNvPicPr/>
          <p:nvPr/>
        </p:nvPicPr>
        <p:blipFill>
          <a:blip r:embed="rId2"/>
          <a:stretch/>
        </p:blipFill>
        <p:spPr>
          <a:xfrm>
            <a:off x="6372360" y="1916280"/>
            <a:ext cx="2160360" cy="2160360"/>
          </a:xfrm>
          <a:prstGeom prst="rect">
            <a:avLst/>
          </a:prstGeom>
          <a:ln w="0">
            <a:noFill/>
          </a:ln>
        </p:spPr>
      </p:pic>
      <p:sp>
        <p:nvSpPr>
          <p:cNvPr id="637" name="Prostokąt 6"/>
          <p:cNvSpPr/>
          <p:nvPr/>
        </p:nvSpPr>
        <p:spPr>
          <a:xfrm>
            <a:off x="6313680" y="4149720"/>
            <a:ext cx="228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Zakaz wstęp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ze zwierzętam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8" name="Picture 6" descr="Plik:D-P006 Zutritt fuer Unbefugte verboten.svg"/>
          <p:cNvPicPr/>
          <p:nvPr/>
        </p:nvPicPr>
        <p:blipFill>
          <a:blip r:embed="rId3"/>
          <a:stretch/>
        </p:blipFill>
        <p:spPr>
          <a:xfrm>
            <a:off x="3635280" y="328464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639" name="Prostokąt 8"/>
          <p:cNvSpPr/>
          <p:nvPr/>
        </p:nvSpPr>
        <p:spPr>
          <a:xfrm>
            <a:off x="2444760" y="544500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Nieupoważnionym wstęp wzbronion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ZNAKI  NAKAZU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Prostokąt 4"/>
          <p:cNvSpPr/>
          <p:nvPr/>
        </p:nvSpPr>
        <p:spPr>
          <a:xfrm>
            <a:off x="21960" y="3933720"/>
            <a:ext cx="36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Nakaz przechodzen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 oznakowanym miejsc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rostokąt 6"/>
          <p:cNvSpPr/>
          <p:nvPr/>
        </p:nvSpPr>
        <p:spPr>
          <a:xfrm>
            <a:off x="6245280" y="4005360"/>
            <a:ext cx="265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Nakaz stosowan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chrony głow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rostokąt 8"/>
          <p:cNvSpPr/>
          <p:nvPr/>
        </p:nvSpPr>
        <p:spPr>
          <a:xfrm>
            <a:off x="2725560" y="580536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Nakaz stosowania ochrony rą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4" name="Picture 2" descr="Plik:D-M010 Fuer Fussgaenger.svg"/>
          <p:cNvPicPr/>
          <p:nvPr/>
        </p:nvPicPr>
        <p:blipFill>
          <a:blip r:embed="rId1"/>
          <a:stretch/>
        </p:blipFill>
        <p:spPr>
          <a:xfrm>
            <a:off x="826920" y="170028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Plik:D-M002 Kopfschutz benutzen.svg"/>
          <p:cNvPicPr/>
          <p:nvPr/>
        </p:nvPicPr>
        <p:blipFill>
          <a:blip r:embed="rId2"/>
          <a:stretch/>
        </p:blipFill>
        <p:spPr>
          <a:xfrm>
            <a:off x="6443640" y="148428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" descr="Plik:D-M006 Handschutz benutzen.svg"/>
          <p:cNvPicPr/>
          <p:nvPr/>
        </p:nvPicPr>
        <p:blipFill>
          <a:blip r:embed="rId3"/>
          <a:stretch/>
        </p:blipFill>
        <p:spPr>
          <a:xfrm>
            <a:off x="3780000" y="371628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6:34:49Z</dcterms:created>
  <dc:creator>Krzysztof</dc:creator>
  <dc:description/>
  <dc:language>en-US</dc:language>
  <cp:lastModifiedBy>Marzena</cp:lastModifiedBy>
  <dcterms:modified xsi:type="dcterms:W3CDTF">2013-08-07T16:17:19Z</dcterms:modified>
  <cp:revision>8</cp:revision>
  <dc:subject/>
  <dc:title>Znaki informacyjne</dc:title>
</cp:coreProperties>
</file>