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5.jpeg" ContentType="image/jpeg"/>
  <Override PartName="/ppt/media/image3.png" ContentType="image/png"/>
  <Override PartName="/ppt/media/image26.wmf" ContentType="image/x-wmf"/>
  <Override PartName="/ppt/media/image15.png" ContentType="image/png"/>
  <Override PartName="/ppt/media/image14.wmf" ContentType="image/x-wmf"/>
  <Override PartName="/ppt/media/image25.wmf" ContentType="image/x-wmf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D13-3550-4C63-B57D-F53E798A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B49-1C33-4498-8C31-1F5AF812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1E9-963A-40F0-82AD-9BD2BC49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FF4-5B79-4D9F-A12B-282E2916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6699-CFDA-4347-A60A-B9E0084B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2D1B-29CB-40DF-B8FB-B8585E9A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7AE-11AE-4296-8F13-C0A7F49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ED94-106A-4F9A-89C5-C89DE5FE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BA39-EA7F-4A41-A6F6-09E95514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38C5-8E16-441A-9258-2D24A619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47B-8EB7-432F-9DD4-10B0A80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8BE-3C3B-4951-9E98-23B411F5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B581-3197-401C-9C0A-8D15EB0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8FE9-FA62-4FDF-A03C-09346EEB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4C7E-620C-4BE2-9E98-178995CE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AB8F-F619-4C3F-B751-8205E453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A74E-9D65-42AA-B65C-BBCF2FC2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2171-7827-44B5-BFA8-F1E4B64C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4C15-5CD5-40D5-B789-9225055B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382B-96E1-4AA2-B64C-3549F757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13284-4F77-4596-87D9-A774B81F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B810-6F30-4983-AF16-1A2FFDE3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5A9-EE4C-47DA-8A43-066F4AB1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F363-AF33-4ED8-A68A-BFD0D6CA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89B29-76FD-4A7A-9A24-1EEBDC93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FF3C4-951D-473C-8E37-F309F16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DD8D2-1465-4C49-95FB-E56202CE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411E-717C-4F34-954F-DEBD8525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7BD6-C655-483A-AC60-5F3AF68C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D2E5-0FB3-4506-82C0-2F644408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4D9F-507E-489F-AD7E-DB830588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64A3F-4808-4BDA-9344-9860022B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0EE4A-48AF-40D2-9819-2F358766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CD0-A9D9-4F52-9703-1B4D5DAF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ED6A-24DF-457A-932B-18858C8F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9B26-D8C4-4FFD-8CF8-8C408EC2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BDE2-CF93-49D3-B6E2-29AD606C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77F0D-7DD9-4D16-BF7A-259ADFC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0B16-17D5-4529-9A5A-42E5F044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F9B89-C0FA-4EA1-A1F4-2A8A92C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E922-E78C-4D0C-A9DD-BB60483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73D0D-7E4C-478C-93C4-44DD7BBB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79B28-630D-4537-9C6E-137BABEF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B8D0A-2E6E-420C-8AE2-3DB8FA5D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79E-C325-439B-A20A-BECB7E56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9D2F-20F1-4B6A-8D67-2C0C0A75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6817-1C2C-45E5-8BC1-F67F4E63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D597F-26A0-4498-868F-890DED4D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1DDE-A440-4FCB-BFF8-2410044C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D108-A880-40BD-9D71-EB70E8BF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A4F75-DC50-4674-B3A0-151CA5D6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8DB62-D864-4AA5-A4E9-392E035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DDE6-7FA0-46F1-A043-863AD682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A17F6-2E97-4B52-8E2B-C7DF3D9C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EBD31-6E2B-4F98-8042-56CD2494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A2B-84C3-4F0D-B2DF-3BAB8534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F53E-D29D-4D4F-BC4A-52721302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F22A8-0BBB-453D-8A91-F7FF5235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DF20E-A8B4-45F3-86F9-2FB988C4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6CBA-72C1-4955-8963-7EB3EB4E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D5CDC-A03C-4D41-BD5D-120861D0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2004-9C99-467D-A54B-9592BD4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7B63-285F-435B-9811-762D5C9F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15A24-C8F5-4476-AA46-A6264449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F9FA6-82B6-49B3-B658-B85C9A67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07AED-E83E-4946-BA55-62FA6BD6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C7F-A423-4C94-8EEE-17AD14D4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F3800-FEAA-4977-9188-8F2B4CB3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6F7E2-9A7C-430D-9F60-75B4FCB5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3983-D28C-404F-929E-0E80A1FB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AC3F4-AE51-4C14-A536-98B3D99D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980CC-500A-4C2B-AFEB-3A42CA39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453DB-7D57-48D7-8950-37A5C5F8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8D19-C085-44EB-AAD0-BB67584E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32792-4FDA-4E32-BED6-EB522DC4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E0D02-2E29-4179-B022-08125288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1EE3A-7A5D-4D3B-995A-72E26679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077-7755-4B57-AD2E-97B02F6C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943C9-EDB3-4A11-BE19-ECDDAFCA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1959-EBBD-4133-ADF3-CE8F1200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DFD24-E79E-44B1-864F-BAC72AE4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2AD8A-E6D9-4CCA-B755-7647F215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6772-B8AA-40FE-BB7C-CF8B8DA5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7AA7C-82A5-4555-A7B5-EA129AB6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0A1C4-A343-4C4C-A3EF-70491367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4FE9F-85A7-4BDD-B3D1-4BD2589E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3C468-ACF5-475F-B500-A6EB4065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F2CC0-C2D4-4663-BFC5-6F092C9F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EBA-67AD-497C-BF10-AD6A4135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B77AB-41DA-4F32-B025-01758238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E8E3-73E7-4CD5-9385-6C49EE6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CBD20-57D1-4053-81A3-121CFC24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53C7E-A461-4D51-909D-EA797B2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D9DD0-C374-4324-B593-9B8D6576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54C02-BC8C-433B-8DA2-F49F6CF8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307D0-61E3-45B8-ABCF-584F7494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3B5E-D9EA-48DA-BCCA-1CC78215712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2D85-9CED-480F-A9BD-65AA74EDDE1D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0A28-2192-4C67-AEC5-F16515771E0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4E8A-B121-49A5-934E-8A5E6C32B96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710A-76BA-44C2-8B29-78A7EA9A027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91A7-62D1-4E41-8F9F-F4BEC19B63F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853B-34EE-496A-BC59-6EDACFBDF35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0886-3E97-4D89-9FA6-30AB6F7AD3B5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modpoz.pl/files/plan2.j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80899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5181480" y="4495680"/>
            <a:ext cx="2895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C:\Users\Marzena\AppData\Local\Microsoft\Windows\Temporary Internet Files\Content.IE5\BBL10B36\MC900343341[1].wmf"/>
          <p:cNvPicPr/>
          <p:nvPr/>
        </p:nvPicPr>
        <p:blipFill>
          <a:blip r:embed="rId2"/>
          <a:stretch/>
        </p:blipFill>
        <p:spPr>
          <a:xfrm>
            <a:off x="2627280" y="2565360"/>
            <a:ext cx="353700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4000" y="14810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Najczęstszymi przyczynami , dla których może zajść konieczność ogłoszenia alarmu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szkole, to zagrożenia związane z powstaniem pożaru a także możliwość rozprzestrzenienia na terenie szkoły niebezpiecznych substancji chemicznych lub ładunków wybuchowy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8068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Marzena\AppData\Local\Microsoft\Windows\Temporary Internet Files\Content.IE5\2RQKC6FH\MC900340838[1].wmf"/>
          <p:cNvPicPr/>
          <p:nvPr/>
        </p:nvPicPr>
        <p:blipFill>
          <a:blip r:embed="rId2"/>
          <a:stretch/>
        </p:blipFill>
        <p:spPr>
          <a:xfrm>
            <a:off x="7164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Dyrektor po otrzymaniu meldunku od nauczyciela lub innej osoby zgłaszającej zagrożenie oraz rozpoznaniu sytuacji podejmuje decyzję o zawiadomieniu straż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i ogłoszeniu alarmu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czniowie na polecenie nauczyciela ustawiają się w szeregu i w sposób zorganizowany kierują się do wskazanego wyjścia ewakuacyjneg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Users\Marzena\AppData\Local\Microsoft\Windows\Temporary Internet Files\Content.IE5\LW2ZZFIX\MC900355335[1].wmf"/>
          <p:cNvPicPr/>
          <p:nvPr/>
        </p:nvPicPr>
        <p:blipFill>
          <a:blip r:embed="rId2"/>
          <a:stretch/>
        </p:blipFill>
        <p:spPr>
          <a:xfrm>
            <a:off x="6516720" y="4581360"/>
            <a:ext cx="206064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4000" y="1480680"/>
            <a:ext cx="864072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łuchaj i wykonuj dokładnie polecenia nauczyciel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bądź opanowany, nie ulegaj panice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 przerwaniu zajęć udaj się wraz z klasą, drogą wskazywaną przez nauczyciela na miejsce zbiórki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magaj osobom słabszym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bezwzględnie podporządkowuj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ię osobom funkcyjnym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ie lekceważ zagrożenia, nawet wówczas, gdy  nie zagraża ci bezpośredni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ytuł 2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44884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C:\Users\Marzena\AppData\Local\Microsoft\Windows\Temporary Internet Files\Content.IE5\2RQKC6FH\MC900404189[1].wm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020000" y="3789360"/>
            <a:ext cx="1854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4" descr=""/>
          <p:cNvPicPr/>
          <p:nvPr/>
        </p:nvPicPr>
        <p:blipFill>
          <a:blip r:embed="rId1"/>
          <a:stretch/>
        </p:blipFill>
        <p:spPr>
          <a:xfrm>
            <a:off x="438120" y="469800"/>
            <a:ext cx="8345520" cy="951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3672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Kierunek do wyjścia drogi ewakuacyjnej schodami w dół (na prawo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16" descr="Kierunek do wyjścia do drogi ewakuacyjnej schodami w dół w prawo;"/>
          <p:cNvPicPr/>
          <p:nvPr/>
        </p:nvPicPr>
        <p:blipFill>
          <a:blip r:embed="rId2"/>
          <a:stretch/>
        </p:blipFill>
        <p:spPr>
          <a:xfrm>
            <a:off x="684360" y="1413000"/>
            <a:ext cx="3166920" cy="158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Kierunek do wyjścia drogi w prawo"/>
          <p:cNvPicPr/>
          <p:nvPr/>
        </p:nvPicPr>
        <p:blipFill>
          <a:blip r:embed="rId3"/>
          <a:stretch/>
        </p:blipFill>
        <p:spPr>
          <a:xfrm>
            <a:off x="5148360" y="1484280"/>
            <a:ext cx="3240000" cy="1622520"/>
          </a:xfrm>
          <a:prstGeom prst="rect">
            <a:avLst/>
          </a:prstGeom>
          <a:ln w="0">
            <a:noFill/>
          </a:ln>
        </p:spPr>
      </p:pic>
      <p:sp>
        <p:nvSpPr>
          <p:cNvPr id="386" name="pole tekstowe 5"/>
          <p:cNvSpPr/>
          <p:nvPr/>
        </p:nvSpPr>
        <p:spPr>
          <a:xfrm>
            <a:off x="5148360" y="321300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ierunek do wyjścia drogi ewakuacyjnej (w praw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Kierunek drogi ewakuacyjnej;3"/>
          <p:cNvPicPr/>
          <p:nvPr/>
        </p:nvPicPr>
        <p:blipFill>
          <a:blip r:embed="rId4"/>
          <a:stretch/>
        </p:blipFill>
        <p:spPr>
          <a:xfrm>
            <a:off x="2916360" y="4365720"/>
            <a:ext cx="3816360" cy="1271520"/>
          </a:xfrm>
          <a:prstGeom prst="rect">
            <a:avLst/>
          </a:prstGeom>
          <a:ln w="0">
            <a:noFill/>
          </a:ln>
        </p:spPr>
      </p:pic>
      <p:sp>
        <p:nvSpPr>
          <p:cNvPr id="388" name="Symbol zastępczy zawartości 6"/>
          <p:cNvSpPr/>
          <p:nvPr/>
        </p:nvSpPr>
        <p:spPr>
          <a:xfrm>
            <a:off x="2771640" y="5805360"/>
            <a:ext cx="4537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Kierunek drogi ewakuacyj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7" descr="Kierunek drogi ewakuacyjnej2"/>
          <p:cNvPicPr/>
          <p:nvPr/>
        </p:nvPicPr>
        <p:blipFill>
          <a:blip r:embed="rId1"/>
          <a:stretch/>
        </p:blipFill>
        <p:spPr>
          <a:xfrm>
            <a:off x="1547640" y="2997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390" name="Prostokąt 7"/>
          <p:cNvSpPr/>
          <p:nvPr/>
        </p:nvSpPr>
        <p:spPr>
          <a:xfrm>
            <a:off x="0" y="5013360"/>
            <a:ext cx="518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unek drogi ewakuacyjnej 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znak do stosowania tylk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innymi znaka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Pchać aby otworzyć;"/>
          <p:cNvPicPr/>
          <p:nvPr/>
        </p:nvPicPr>
        <p:blipFill>
          <a:blip r:embed="rId2"/>
          <a:stretch/>
        </p:blipFill>
        <p:spPr>
          <a:xfrm>
            <a:off x="6156360" y="333360"/>
            <a:ext cx="2016000" cy="2014560"/>
          </a:xfrm>
          <a:prstGeom prst="rect">
            <a:avLst/>
          </a:prstGeom>
          <a:ln w="0">
            <a:noFill/>
          </a:ln>
        </p:spPr>
      </p:pic>
      <p:sp>
        <p:nvSpPr>
          <p:cNvPr id="392" name="Prostokąt 9"/>
          <p:cNvSpPr/>
          <p:nvPr/>
        </p:nvSpPr>
        <p:spPr>
          <a:xfrm>
            <a:off x="5667840" y="2492280"/>
            <a:ext cx="29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chać, aby otworzy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1" descr="Drzwi ewakuacyjne;2"/>
          <p:cNvPicPr/>
          <p:nvPr/>
        </p:nvPicPr>
        <p:blipFill>
          <a:blip r:embed="rId3"/>
          <a:stretch/>
        </p:blipFill>
        <p:spPr>
          <a:xfrm>
            <a:off x="6227640" y="350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394" name="pole tekstowe 11"/>
          <p:cNvSpPr/>
          <p:nvPr/>
        </p:nvSpPr>
        <p:spPr>
          <a:xfrm>
            <a:off x="5364000" y="5516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rzwi ewakuacyjne (praw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Wyjście ewakuacyjne;"/>
          <p:cNvPicPr/>
          <p:nvPr/>
        </p:nvPicPr>
        <p:blipFill>
          <a:blip r:embed="rId4"/>
          <a:stretch/>
        </p:blipFill>
        <p:spPr>
          <a:xfrm>
            <a:off x="1332000" y="549360"/>
            <a:ext cx="2808360" cy="1403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684360" y="2133720"/>
            <a:ext cx="400032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yjście ewakuacyj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http://modpoz.pl/files/plan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ole tekstowe 2"/>
          <p:cNvSpPr/>
          <p:nvPr/>
        </p:nvSpPr>
        <p:spPr>
          <a:xfrm>
            <a:off x="179280" y="62118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kładowy plan ewakuacyjn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</a:t>
            </a:r>
            <a:r>
              <a:rPr b="0" lang="pl-PL" sz="18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http://modpoz.pl/files/plan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W razie potrzeby (pożar, wypadek lub awaria) zaalarmować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Ratunkowe          ………tel.      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licję                                  ………tel.  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7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Gazowe               ………tel.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  99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Energetyczne        ………tel.      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1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gotowie Wodociągowe        ………tel.     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994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ff0000"/>
              </a:buClr>
              <a:buSzPct val="72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niwersalny numer alarmowy ……… tel.     </a:t>
            </a:r>
            <a:r>
              <a:rPr b="1" lang="pl-PL" sz="2500" spc="-1" strike="noStrike">
                <a:solidFill>
                  <a:srgbClr val="c00000"/>
                </a:solidFill>
                <a:latin typeface="Lucida Sans Unicode"/>
              </a:rPr>
              <a:t>112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ytuł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Marzena\AppData\Local\Microsoft\Windows\Temporary Internet Files\Content.IE5\8XW2J9XG\MC900078762[1].wmf"/>
          <p:cNvPicPr/>
          <p:nvPr/>
        </p:nvPicPr>
        <p:blipFill>
          <a:blip r:embed="rId2"/>
          <a:stretch/>
        </p:blipFill>
        <p:spPr>
          <a:xfrm>
            <a:off x="7524720" y="260280"/>
            <a:ext cx="11178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4000" y="404280"/>
            <a:ext cx="8496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c00000"/>
                </a:solidFill>
                <a:latin typeface="Arial"/>
                <a:ea typeface="Arial"/>
              </a:rPr>
              <a:t>PAMIĘTAJMY,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AKCJA BĘDZIE PRZEBIEGAŁA SPRAWNIE, JEŻELI WSZYSCY ZACHOWAJĄ SPOKÓJ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c00000"/>
                </a:solidFill>
                <a:latin typeface="Arial"/>
                <a:ea typeface="Arial"/>
              </a:rPr>
              <a:t>I PODPORZĄDKUJĄ SIĘ WYDAWANYM POLECENIOM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5" descr="C:\Users\Marzena\AppData\Local\Microsoft\Windows\Temporary Internet Files\Content.IE5\BBL10B36\MC900428289[1].wmf"/>
          <p:cNvPicPr/>
          <p:nvPr/>
        </p:nvPicPr>
        <p:blipFill>
          <a:blip r:embed="rId1"/>
          <a:stretch/>
        </p:blipFill>
        <p:spPr>
          <a:xfrm>
            <a:off x="3419640" y="4076640"/>
            <a:ext cx="2617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2:38:21Z</dcterms:created>
  <dc:creator>Marzena</dc:creator>
  <dc:description/>
  <dc:language>en-US</dc:language>
  <cp:lastModifiedBy>Marzena</cp:lastModifiedBy>
  <dcterms:modified xsi:type="dcterms:W3CDTF">2013-08-09T12:37:13Z</dcterms:modified>
  <cp:revision>30</cp:revision>
  <dc:subject/>
  <dc:title>Zasady zachowania podczas ogłoszenia alarmu i oznakowanie drogi ewakuacyjnej</dc:title>
</cp:coreProperties>
</file>