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01C-B843-4711-91BC-BE0501FC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36E-3759-4155-AE74-AE546B63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824-B804-428F-9B7D-5306D467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202-F52E-41F3-98E5-85076614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E12-AB39-4F7E-A765-3F9BD9EE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CC7-CA92-43DA-B4DC-AD068EC7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726-440B-462E-904D-7AB2A73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828-6E16-43A4-AC5E-ABCDA787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B85-EB89-4000-985B-54492039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89E-914E-4C7A-984D-1FE39A9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DE5-3AA8-4FC3-A1BE-97164A4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465-F3D8-435B-901D-881BC4F7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E2F5-B614-421F-80A5-9E3BE8D7817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olimery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1" descr="http://www.plastchem.com.pl/pics/plastchem.jpg"/>
          <p:cNvPicPr/>
          <p:nvPr/>
        </p:nvPicPr>
        <p:blipFill>
          <a:blip r:embed="rId1"/>
          <a:stretch/>
        </p:blipFill>
        <p:spPr>
          <a:xfrm>
            <a:off x="5651640" y="1844640"/>
            <a:ext cx="3328920" cy="259704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98280" y="3241800"/>
            <a:ext cx="5247000" cy="361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11280" y="260280"/>
            <a:ext cx="4737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TWORZYWA SZTUCZ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19160" y="333360"/>
            <a:ext cx="5129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polietylen używany jest do produkcji folii i bute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polistyren służy do wytwarzania np. opakowań, zabawek   i styropian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1332000" y="3213000"/>
            <a:ext cx="2343240" cy="312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3300"/>
                </a:solidFill>
                <a:latin typeface="Arial"/>
              </a:rPr>
              <a:t>Do najczęściej spotykanych tworzyw sztucznych zalicza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ety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propy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sty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lichlorek winy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Ny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Tefl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C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polichlorek winylu wykorzystywany jest do produkcji płytek podłogowych, ryn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M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polimetakrylan metylu stosowany do produkcji rur, płyt        i osłon świateł samochodow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1692360" y="4221000"/>
            <a:ext cx="1752480" cy="234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17524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akeli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używany jest do produkcji gniazd elektryczn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Żywic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poksydowe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służą do wytwarzania klej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312408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iekawostka              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Tef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1197000"/>
            <a:ext cx="8820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echuje go wyjątkowa odporność chemiczna i cieplna, doskonałe właściwości ślizgowe, dobre właściwości mechaniczne i dielektryczne, niepalnoś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stosowanie: do wyrobu urządzeń i aparatury chemicznej, w elektronice i elektrotechnice, w przemyśle maszynowym, samochodowym, papierni-czym, włókienniczy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5"/>
          <p:cNvSpPr/>
          <p:nvPr/>
        </p:nvSpPr>
        <p:spPr>
          <a:xfrm>
            <a:off x="992160" y="45910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3300"/>
                </a:solidFill>
                <a:latin typeface="Arial"/>
              </a:rPr>
              <a:t>Przykłady wyrobów z teflonu: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2" name="Symbol zastępczy zawartości 3" descr="images (8).jpg"/>
          <p:cNvPicPr/>
          <p:nvPr/>
        </p:nvPicPr>
        <p:blipFill>
          <a:blip r:embed="rId1"/>
          <a:stretch/>
        </p:blipFill>
        <p:spPr>
          <a:xfrm>
            <a:off x="1401840" y="4998960"/>
            <a:ext cx="158580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pobrane (2).jpg"/>
          <p:cNvPicPr/>
          <p:nvPr/>
        </p:nvPicPr>
        <p:blipFill>
          <a:blip r:embed="rId2"/>
          <a:stretch/>
        </p:blipFill>
        <p:spPr>
          <a:xfrm>
            <a:off x="5742000" y="4151160"/>
            <a:ext cx="3084480" cy="2084400"/>
          </a:xfrm>
          <a:prstGeom prst="rect">
            <a:avLst/>
          </a:prstGeom>
          <a:ln w="0">
            <a:noFill/>
          </a:ln>
        </p:spPr>
      </p:pic>
      <p:pic>
        <p:nvPicPr>
          <p:cNvPr id="84" name="Obraz 8" descr="images (9).jpg"/>
          <p:cNvPicPr/>
          <p:nvPr/>
        </p:nvPicPr>
        <p:blipFill>
          <a:blip r:embed="rId3"/>
          <a:stretch/>
        </p:blipFill>
        <p:spPr>
          <a:xfrm>
            <a:off x="3328920" y="5052960"/>
            <a:ext cx="2254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Recykling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worzywa sztuczne są wartościowym materiałem, który można odzyskać w różnych procesach recyklingu, czyli ponownego przetwarzania zużytych tworzyw sztuczny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cykling pozwala odzyskać surowiec polimerowy i wytworzyć np. bluzy polarowe z przerobionych butelek P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przez przerobienie odpadów na paliwo alternatywne można odzyskać także energię, ponieważ tworzywa sztuczne mają wartość energetyczną porównywalną z węglem kamien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Recykling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cykling i odzysk zużytych wyrobów z tworzyw sztucznych jest niezbędny do ochrony naszego środowiska naturalnego, ponieważ tworzywa nie ulegają degradacji (czyli rozkładowi). </a:t>
            </a:r>
            <a:r>
              <a:rPr b="0" lang="pl-PL" sz="3200" spc="-1" strike="noStrike">
                <a:solidFill>
                  <a:srgbClr val="cc3300"/>
                </a:solidFill>
                <a:latin typeface="Arial"/>
              </a:rPr>
              <a:t>Dlatego sortujmy je i  przeznaczajmy do recyklingu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2556000" y="472428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4716360" y="4941720"/>
            <a:ext cx="1924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907640" y="1484280"/>
            <a:ext cx="51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8000" spc="-1" strike="noStrike">
                <a:solidFill>
                  <a:srgbClr val="cc3300"/>
                </a:solidFill>
                <a:latin typeface="Arial"/>
              </a:rPr>
              <a:t>Dziękuję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gólna charakterystyka tworzyw 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tucz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2. Proces wytwar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3. Rodzaje tworzyw sztuczny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4. Zastosowanie tworzyw sztucz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5. Recykl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ytuł 1"/>
          <p:cNvSpPr/>
          <p:nvPr/>
        </p:nvSpPr>
        <p:spPr>
          <a:xfrm>
            <a:off x="457200" y="254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Co to są tworzywa sztuczne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Ogólna charakterystyka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worzywa sztucz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o materiały składające się z </a:t>
            </a: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limerów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syntetycznych lub naturalnych oraz dodatków nadających im odpowiednie właściwoś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worzywa sztuczne spotykamy na każdym kroku, zastępują one wiele materiałów naturalnych i są powszechnie stosowane. Dzięki dużej plastyczności można formować z nich różne przedmio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Proces wytwarz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o produkcji tworzyw sztucznych wykorzystuje się głównie ropę naftową i węgiel kamie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urowce po wydobyciu transportowane są do zakładów wytwórczych, gdzie produkuje się z nich tworzywa sztucz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076720" y="4540320"/>
            <a:ext cx="30085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Podział tworzyw sztucz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pochodzenie podstawowego skła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ywa sztuczne pochodzenia natural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ntetyczne tworzywa sztu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fizykochemiczne właściwości przetwórc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ywa termoplasty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worzywa reaktyw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zastosow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strukcy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lastoplasty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row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włokotwórc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dhezy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łóknotwórc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pecj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ymbol zastępczy zawartości 2"/>
          <p:cNvSpPr/>
          <p:nvPr/>
        </p:nvSpPr>
        <p:spPr>
          <a:xfrm>
            <a:off x="184320" y="349200"/>
            <a:ext cx="871344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właściwości fizykochemiczn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000"/>
                </a:solidFill>
                <a:latin typeface="Arial"/>
              </a:rPr>
              <a:t>plastomer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 polimery, które pod wpływem naprężeń wykazują bardzo małe odkształcenia (mniejsze niż 1%). Do plastomerów zalicza się termoplasty i duroplast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000"/>
                </a:solidFill>
                <a:latin typeface="Arial"/>
              </a:rPr>
              <a:t>elastomer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tworzywa, które przy małych naprężeniach wykazują duże odkształcenie (do 1000%), można je rozciągać i ściskać, w wyniku czego zmieniają znacznie swój kształt, ale po odjęciu siły wracają do poprzednich kształtów. Elastomery zastąpiły prawie całkowicie kauczuk naturalny, ale znalazły też szereg nowych zastosowań, niedostępnych dla zwykłego kauczuku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Ze względu na dodatki, które występują w tworzywie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pełniacz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lastyfikator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bilizator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ystatyki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arwniki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datki przeciwściern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Rodzaje tworzyw sztucz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rmoplastyczne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sprężyste, nieodporne na ciepło - pod wpływem temperatury dają się formować na now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leżą do n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E- poliety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S- polisty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CW- polichlorek winy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MM- polimetakry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c3300"/>
                </a:solidFill>
                <a:latin typeface="Arial"/>
              </a:rPr>
              <a:t>Rodzaje tworzyw sztuczny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rmoutwardzal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utwardzane poprzez działanie wysokiej temperatury, sztywne, twarde, odporne na ciepło, dają się formować tylko raz, np. bake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hemoutwardzaln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- utwardzane poprzez działanie związków chemicznyc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p. żywice epoksyd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c3300"/>
                </a:solidFill>
                <a:latin typeface="Arial"/>
              </a:rPr>
              <a:t>Zastosowanie tworzyw sztuczny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7656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lorowe i lekkie tworzywa sztuczne spotykamy na  każdym kroku. Zastępują one wiele materiałów naturalny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ją one zastosowanie praktycznie wszędzie, w wielu dziedzinach gospodarki i w życiu codziennym każdego z n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7:47:04Z</dcterms:created>
  <dc:creator>Dorota</dc:creator>
  <dc:description/>
  <dc:language>en-US</dc:language>
  <cp:lastModifiedBy>Dorota</cp:lastModifiedBy>
  <dcterms:modified xsi:type="dcterms:W3CDTF">2013-08-13T16:39:29Z</dcterms:modified>
  <cp:revision>26</cp:revision>
  <dc:subject/>
  <dc:title>TWORZYWA SZTUCZNE</dc:title>
</cp:coreProperties>
</file>