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explode.wav" ContentType="audio/x-wav"/>
  <Override PartName="/ppt/media/arrow.wav" ContentType="audio/x-wav"/>
  <Override PartName="/ppt/media/push.wav" ContentType="audio/x-wav"/>
  <Override PartName="/ppt/media/image2.jpeg" ContentType="image/jpeg"/>
  <Override PartName="/ppt/media/drumroll.wav" ContentType="audio/x-wav"/>
  <Override PartName="/ppt/media/image3.jpeg" ContentType="image/jpeg"/>
  <Override PartName="/ppt/media/wind.wav" ContentType="audio/x-wav"/>
  <Override PartName="/ppt/media/chimes.wav" ContentType="audio/x-wav"/>
  <Override PartName="/ppt/media/image4.png" ContentType="image/png"/>
  <Override PartName="/ppt/media/voltage.wav" ContentType="audio/x-wav"/>
  <Override PartName="/ppt/media/image8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22D-77EA-48AD-8A44-DA3F3333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7458-4CB0-4B97-8CC6-2361D9D6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974-57B9-4A92-AC5F-5EBABF29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4E95-4B7E-4D8F-A0FB-B026CB1C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7D24-9268-419E-B6EF-4ADDFA38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D7FB-3591-4B00-9951-CE9766AE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4C7F-A02B-4956-B0F2-880CD9D5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7403-5AFC-4993-9A6E-9B77A37B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9C61-5318-4F09-8D48-FDACB6CE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E5EF-394A-452B-B372-3D277BC6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C41D-0B72-4D96-9073-A14B5AAE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2E6F-365F-42B6-9FAD-F859F019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6C93-084F-4AD8-819E-EB404FBE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637E-C385-4080-8491-72FC50E7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60B7-B2E0-472E-AA56-A5CE8698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AB52-8811-42A8-9E49-CB5D5944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80EE-5397-445B-BF40-F3DE7FAE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B96165-A2F9-493D-8C20-8E030692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A4828-B86F-4091-840F-3E60C675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14420F-EADE-4CC7-BB54-C9BCE809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C5C096-1EE7-44D3-BE1C-1420F036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6ECB44-FF9D-4141-91AC-56590090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5CAE-F80D-478D-8986-2074CF35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04583-D23D-45B2-AE6C-ED46E79B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F2735-752D-47E4-BDBD-6A6C64B1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8343C-DD22-4A94-9192-828FE2FC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C0054-FB2F-45B8-8963-2C081EDA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30575-0A51-41F6-A4BE-C2D0CE5B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A6AFC-2211-47C3-B407-EC8C1D3E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DC957B-DA35-4CB0-ABE4-ADFAD888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CFD8F-08F9-4EBB-A6AC-8B2EAB1C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B527E-0943-4A97-A1BE-D7C0115A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C516B-FA16-40B7-BF8C-42F008CA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4478-50DA-42AE-B958-7D743D60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7DD63-84D0-4B83-B6E3-B74B68DC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0EFD9-6939-49D2-8434-72BB2A13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B27AC-9AFE-4EB1-B543-B6A486B1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F08B6-CCDB-40E1-A22B-5D18738C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6DA49-48D9-475B-B405-7845E707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700F9-5175-4062-AB78-5FD91FEE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DE6EC-D7DA-4905-86D8-F7440F65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8BB47-476E-469A-B86E-E524A995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1DEC6-D1E0-43D3-B66A-4B6486FF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8F8C38-2F88-441D-8F08-FD324D16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CB76-F53A-49C9-B49D-B00D95A1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BA8E17-8047-438C-9C66-3C59D561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953433-A6B2-4594-87D9-2391E15F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E4E1E6-9784-4250-A8A7-6C9052B7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14E046-AC36-41D4-AC1B-95D7CE80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49C5B9-AE3A-48C0-A24B-502C90F4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D3AB32-89C1-415F-A215-18CD7308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AC0DDD-3149-4915-9066-CEB2340A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6205D1-6CDB-4A5C-BF80-01119EDB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80BC55-2181-4EBC-8AFF-1ADD15D2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205A57-FE14-4E6F-AFF0-51B0289A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2037-B496-4CD4-A1E6-FB4FABFD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5F68A9-5149-4AB0-85D3-EE60F8DC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607933-105D-474F-9ED7-FB9E0966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FE5F0B-535C-4A83-B03D-31B4C76F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2F947E-E83A-4365-B5EA-B7E4D25B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B38184-6531-4F78-AEB1-3BC8115B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81DF0A-4E5A-48BE-82DB-79F866DE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6BB50F-91E4-4E6D-ABC1-AC235B25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9F6783-13C8-48F5-B1DF-A799482B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993DAB-4D49-43DE-B6EE-4A90F247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DE7450-4C30-457B-B01D-AC4C2087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7394-B5E9-4F7A-B24C-55F184A4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1BCCAF-EF75-45C1-8D6B-008A4DA2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3D9EC-1430-4FDC-A5E8-96F72FA2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0A6FFC-B058-495F-B736-66C7C153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A87FE8-E55E-4531-BC19-86811424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1490AD-7C46-4E68-9F9E-0D5BD23F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312505-5F01-4C27-9AD8-F578DA2B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07DAE4-29CE-44B6-82EA-5B52136A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321D55-5951-476D-9A85-0E4D2A69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94B572-196F-4579-A399-B646AE0A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E9E573-15A9-432C-BE97-F6587536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CA4-8063-413D-AA75-E97B2FC0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6ECAAB-3404-4AF3-8651-C1BF454F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F5C96E-F5EB-47A6-9679-6C630754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4EFB1F-9AF3-4141-ABF4-707F51B2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055F0B-81DA-466B-BF40-2BD27FD5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79E2DA-C676-4FC0-9385-E546C24F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2A36-7F5C-4332-8A32-6274929D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Łącznik prosty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Łącznik prosty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Łącznik prosty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rostokąt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Łącznik prosty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80F2-D934-4D8B-956A-883F0FBCF572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ostokąt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rostokąt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rostokąt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rostokąt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Łącznik prosty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Łącznik prosty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Łącznik prosty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Łącznik prosty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Łącznik prosty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Łącznik prosty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rostokąt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38EF-5390-4CE4-AB8C-09599D94EEAB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Łącznik prosty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Łącznik prosty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Łącznik prosty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rostokąt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Łącznik prosty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C6A3-F1EA-47D6-B666-203EC3D1649C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rostokąt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rostokąt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rostokąt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rostokąt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Łącznik prosty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Łącznik prosty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Łącznik prosty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Łącznik prosty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Łącznik prosty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rostokąt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Łącznik prosty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7C87-5B89-4DF9-BC8D-6857AFD56EF6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Łącznik prosty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Łącznik prosty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Łącznik prosty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rostokąt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Łącznik prosty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013B-F0F1-4C37-B858-339F5F175C88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Łącznik prosty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Łącznik prosty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Łącznik prosty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Łącznik prosty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rostokąt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Łącznik prosty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E1AE-D157-4C7F-9C16-2C620AD79991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Łącznik prosty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Łącznik prosty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rostokąt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Łącznik prosty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Łącznik prosty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Łącznik prosty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3536-1EA4-4CAD-BBA2-8E0B115669C5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1357200"/>
            <a:ext cx="6172200" cy="25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00"/>
                </a:solidFill>
                <a:latin typeface="Comic Sans MS"/>
              </a:rPr>
              <a:t>KONSERWOWANIE    I PRZECHOWYWANIE ŻYWNOŚCI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newsflash/>
    <p:sndAc>
      <p:stSnd>
        <p:snd r:embed="rId1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omic Sans MS"/>
              </a:rPr>
              <a:t>JAK SIĘ ROBI ZAPASY ?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Żywność dłużej nadaje się do zjedzenia dzięki różnym metodom konserwacji. Warto je znać przygotowując domowe przetwory np. dżemy, kompoty lub mrożonki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4" name="Obraz 3" descr="jam.JPG"/>
          <p:cNvPicPr/>
          <p:nvPr/>
        </p:nvPicPr>
        <p:blipFill>
          <a:blip r:embed="rId1"/>
          <a:stretch/>
        </p:blipFill>
        <p:spPr>
          <a:xfrm>
            <a:off x="571680" y="3857760"/>
            <a:ext cx="2050920" cy="1714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5" name="Obraz 4" descr="Kompot.jpg"/>
          <p:cNvPicPr/>
          <p:nvPr/>
        </p:nvPicPr>
        <p:blipFill>
          <a:blip r:embed="rId2"/>
          <a:stretch/>
        </p:blipFill>
        <p:spPr>
          <a:xfrm>
            <a:off x="3000240" y="3857760"/>
            <a:ext cx="2000520" cy="17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6" name="Obraz 5" descr="Mrożonki.jpg"/>
          <p:cNvPicPr/>
          <p:nvPr/>
        </p:nvPicPr>
        <p:blipFill>
          <a:blip r:embed="rId3"/>
          <a:stretch/>
        </p:blipFill>
        <p:spPr>
          <a:xfrm>
            <a:off x="5429160" y="3857760"/>
            <a:ext cx="2000520" cy="1714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15000">
    <p:dissolve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omic Sans MS"/>
              </a:rPr>
              <a:t>METODY KONSERWACJI ŻYWNOŚCI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28400" y="1356840"/>
            <a:ext cx="7467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Pasteryzacja polega na ogrzewaniu materiału do temperatur nie przekraczających 100°C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Sterylizacja to ogrzanie produktu do temperatury powyżej 100°C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Suszenie polega na usunięciu wody w produkcie przez jej wyparowani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Mrożenie</a:t>
            </a:r>
            <a:r>
              <a:rPr b="1" lang="pl-P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jest to jedna z metod utrwalania żywności, gdzie doprowadza się produkt do temperatury poniżej -12°C; mogą to być produkty gotowe lub półprodukty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Obraz 3" descr="pas.jpg"/>
          <p:cNvPicPr/>
          <p:nvPr/>
        </p:nvPicPr>
        <p:blipFill>
          <a:blip r:embed="rId1"/>
          <a:stretch/>
        </p:blipFill>
        <p:spPr>
          <a:xfrm>
            <a:off x="884160" y="4511520"/>
            <a:ext cx="1596960" cy="1895760"/>
          </a:xfrm>
          <a:prstGeom prst="rect">
            <a:avLst/>
          </a:prstGeom>
          <a:ln w="0">
            <a:noFill/>
          </a:ln>
        </p:spPr>
      </p:pic>
      <p:pic>
        <p:nvPicPr>
          <p:cNvPr id="360" name="Obraz 4" descr="suszenie.jpg"/>
          <p:cNvPicPr/>
          <p:nvPr/>
        </p:nvPicPr>
        <p:blipFill>
          <a:blip r:embed="rId2"/>
          <a:stretch/>
        </p:blipFill>
        <p:spPr>
          <a:xfrm>
            <a:off x="3114720" y="4761000"/>
            <a:ext cx="1658880" cy="2852640"/>
          </a:xfrm>
          <a:prstGeom prst="rect">
            <a:avLst/>
          </a:prstGeom>
          <a:ln w="0">
            <a:noFill/>
          </a:ln>
        </p:spPr>
      </p:pic>
      <p:pic>
        <p:nvPicPr>
          <p:cNvPr id="361" name="Obraz 5" descr="mro.jpg"/>
          <p:cNvPicPr/>
          <p:nvPr/>
        </p:nvPicPr>
        <p:blipFill>
          <a:blip r:embed="rId3"/>
          <a:stretch/>
        </p:blipFill>
        <p:spPr>
          <a:xfrm>
            <a:off x="5499000" y="4645080"/>
            <a:ext cx="2133720" cy="163332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4" name="arrow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omic Sans MS"/>
              </a:rPr>
              <a:t>METODY KONSERWACJI ŻYWNOŚCI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Kiszenie -  wykorzystanie działania bakterii fermentacji mlekowej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Solenie to dodanie soli kuchennej do produktu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Słodzenie- dodanie do produktu cukru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Marynowanie – konserwowanie produktów spożywczych za pomocą octu. </a:t>
            </a:r>
            <a:r>
              <a:rPr b="0" i="1" lang="pl-P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Obraz 3" descr="jagf.jpg"/>
          <p:cNvPicPr/>
          <p:nvPr/>
        </p:nvPicPr>
        <p:blipFill>
          <a:blip r:embed="rId1"/>
          <a:stretch/>
        </p:blipFill>
        <p:spPr>
          <a:xfrm>
            <a:off x="407880" y="4286160"/>
            <a:ext cx="2560680" cy="3797280"/>
          </a:xfrm>
          <a:prstGeom prst="rect">
            <a:avLst/>
          </a:prstGeom>
          <a:ln w="0">
            <a:noFill/>
          </a:ln>
        </p:spPr>
      </p:pic>
      <p:pic>
        <p:nvPicPr>
          <p:cNvPr id="365" name="Obraz 4" descr="sol.jpg"/>
          <p:cNvPicPr/>
          <p:nvPr/>
        </p:nvPicPr>
        <p:blipFill>
          <a:blip r:embed="rId2"/>
          <a:stretch/>
        </p:blipFill>
        <p:spPr>
          <a:xfrm>
            <a:off x="3214800" y="4572000"/>
            <a:ext cx="2033640" cy="1357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66" name="Obraz 5" descr="kiszenie.jpg"/>
          <p:cNvPicPr/>
          <p:nvPr/>
        </p:nvPicPr>
        <p:blipFill>
          <a:blip r:embed="rId3"/>
          <a:stretch/>
        </p:blipFill>
        <p:spPr>
          <a:xfrm>
            <a:off x="5668920" y="4511520"/>
            <a:ext cx="1994040" cy="1541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  <p:sndAc>
      <p:stSnd>
        <p:snd r:embed="rId4" name="voltag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omic Sans MS"/>
              </a:rPr>
              <a:t>PRZECHOWYWANIE ŻYWNOŚCI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W lodówce w każdym miejscu jest różna temperatura. Uwzględniając to, możesz przechowywać żywność w optymalnych warunkach. Warto również wykorzystywać plastikowe pojemniki, pergamin, folię aluminiową i woreczki foliowe do przechowywania żywności. Zapewniają higienę i ułatwiają przechowywanie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newsflash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omic Sans MS"/>
              </a:rPr>
              <a:t>LODÓWKA – GDZIE CO POŁOŻYĆ?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24000" y="1125360"/>
            <a:ext cx="4032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pl-PL" sz="1600" spc="-1" strike="noStrike">
                <a:solidFill>
                  <a:srgbClr val="000000"/>
                </a:solidFill>
                <a:latin typeface="Century Schoolbook"/>
              </a:rPr>
              <a:t>Górna półka – temperatura 8C.</a:t>
            </a:r>
            <a:r>
              <a:rPr b="0" lang="pl-PL" sz="1600" spc="-1" strike="noStrike">
                <a:solidFill>
                  <a:srgbClr val="000000"/>
                </a:solidFill>
                <a:latin typeface="Century Schoolbook"/>
              </a:rPr>
              <a:t> Przechowujemy tam dżemy, mleko, jogurty („dobre” bakterie rozwijają się w wyższej temperaturze). Na niższych półkach zepsują się szybciej.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entury Schoolbook"/>
              </a:rPr>
              <a:t>Środkowa półka – temperatura 4–5C.</a:t>
            </a:r>
            <a:r>
              <a:rPr b="0" lang="pl-PL" sz="1600" spc="-1" strike="noStrike">
                <a:solidFill>
                  <a:srgbClr val="000000"/>
                </a:solidFill>
                <a:latin typeface="Century Schoolbook"/>
              </a:rPr>
              <a:t> To miejsce dla produktów o krótkiej trwałości: twarogi, masło, śmietana, pokrojona wędlina. To jest również właściwe miejsce na szczelnie zakryte naczynia z zimnymi potrawami.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entury Schoolbook"/>
              </a:rPr>
              <a:t>Dolna półka – temperatura 2ºC.</a:t>
            </a:r>
            <a:r>
              <a:rPr b="0" lang="pl-PL" sz="1600" spc="-1" strike="noStrike">
                <a:solidFill>
                  <a:srgbClr val="000000"/>
                </a:solidFill>
                <a:latin typeface="Century Schoolbook"/>
              </a:rPr>
              <a:t> Jest najbardziej zimnym miejscem, doskonałym dla świeżego mięsa i ryb.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entury Schoolbook"/>
              </a:rPr>
              <a:t>Dolne szuflady – temperatura około 10C.</a:t>
            </a:r>
            <a:r>
              <a:rPr b="0" lang="pl-PL" sz="1600" spc="-1" strike="noStrike">
                <a:solidFill>
                  <a:srgbClr val="000000"/>
                </a:solidFill>
                <a:latin typeface="Century Schoolbook"/>
              </a:rPr>
              <a:t> Miejsce na warzywa i owoce. Panuje tu spora wilgotność (jak w piwnicy). Sałatę i szczypiorek można przechowywać tu nawet kilka dni. Można tu wkładać żółte sery w szczelnych pojemnikach.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entury Schoolbook"/>
              </a:rPr>
              <a:t>Boczne półki – temperatura 10–15C.</a:t>
            </a:r>
            <a:r>
              <a:rPr b="0" lang="pl-PL" sz="1600" spc="-1" strike="noStrike">
                <a:solidFill>
                  <a:srgbClr val="000000"/>
                </a:solidFill>
                <a:latin typeface="Century Schoolbook"/>
              </a:rPr>
              <a:t> Idealne dla chrzanu, musztardy, soków, keczupu, oleju roślinnego, jajek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Symbol zastępczy zawartości 4" descr="2479054lod.jpg"/>
          <p:cNvPicPr/>
          <p:nvPr/>
        </p:nvPicPr>
        <p:blipFill>
          <a:blip r:embed="rId1"/>
          <a:stretch/>
        </p:blipFill>
        <p:spPr>
          <a:xfrm>
            <a:off x="4572000" y="1484280"/>
            <a:ext cx="4159080" cy="4930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2" name="pu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575f6d"/>
                </a:solidFill>
                <a:latin typeface="Comic Sans MS"/>
              </a:rPr>
              <a:t>ŹRÓDŁA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* Jastrzębowski, Sławomir. </a:t>
            </a:r>
            <a:r>
              <a:rPr b="0" i="1" lang="pl-PL" sz="2400" spc="-1" strike="noStrike">
                <a:solidFill>
                  <a:srgbClr val="000000"/>
                </a:solidFill>
                <a:latin typeface="Century Schoolbook"/>
              </a:rPr>
              <a:t>Encyklopedia Zdrowych Posiłków.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Murator: Warszawa, 2011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* Łabecki, Lech. </a:t>
            </a:r>
            <a:r>
              <a:rPr b="0" i="1" lang="pl-PL" sz="2400" spc="-1" strike="noStrike">
                <a:solidFill>
                  <a:srgbClr val="000000"/>
                </a:solidFill>
                <a:latin typeface="Century Schoolbook"/>
              </a:rPr>
              <a:t>Zeszyt Ćwiczeń. Technika.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owa Era: Warszawa, 2007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* www.rossnet.pl/Artykul/Sztuka-przechowywania-zywnios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fade thruBlk="true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5T12:54:04Z</dcterms:created>
  <dc:creator>Dorota</dc:creator>
  <dc:description/>
  <dc:language>en-US</dc:language>
  <cp:lastModifiedBy>Dorota</cp:lastModifiedBy>
  <dcterms:modified xsi:type="dcterms:W3CDTF">2013-08-19T07:56:35Z</dcterms:modified>
  <cp:revision>16</cp:revision>
  <dc:subject/>
  <dc:title>Konserwowanie i przechowywanie zywności</dc:title>
</cp:coreProperties>
</file>