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DF0-37AC-45C8-9CA7-E9A894CC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104-C44A-4B3A-963E-14B09F7C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C6C-E1C1-4F76-A28E-CEDE73E3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466-724B-410D-A57D-A8E71DB6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5F5B-1392-42ED-A16C-7A901DD4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9BFE-19A1-4A15-B413-5176A5D7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84D-EE75-4EB4-849D-F6400D35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318-0085-4A68-83BD-ADFCEB54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AA2-7230-4B7D-BC3F-9B36DB2C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003-9B23-431F-BF5A-6DCD8552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B2B-0770-4B87-AEA0-9E0DC01A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064-38B6-4EAE-9171-C3C46F01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784C-579F-478B-88EC-9152E50C22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00"/>
                </a:solidFill>
                <a:latin typeface="Calibri"/>
              </a:rPr>
              <a:t>Historia powstania pralk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11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Firma Maytag wprowadza swój pierwszy model pralki z napędem elektrycznym – „The Swinging Wringer washer”. Model wyposażono w odłączaną wyżymarkę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USA niedaleko jeziora Michigan bracia Upton zakładają Upton Machine Company, firmę mającą produkować napędzane elektrycznie pralki. Z czasem firma zmieni nazwę na Whirlpool Corporation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15 r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Maytag dostarcza na rynek pralkę „The Multi Motor washer” napędzaną silnikiem spalinowym przeznaczoną dla gospodarstw na terenach niezelektryfikowanych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rynek trafiają pierwsze elektryczne suszarki do ubrań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18 r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Rinso wynajduje sproszkowane detergenty do domowego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żytku. Pozwala to skuteczniej oddzielać brud bez konieczności szorowania/tarcia. Wynalazek przyczynia się do zaniku elektrycznych pralko-tar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20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Na rynek trafia pralka z komorą prania wykonaną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aluminium. Jest trwała i odporna na rdzę. Producent: Maytag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22 r. -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irma Maytag przedstawia „The Gyrafoam washer”, pierwszą pralkę z tzw. Agitatorem. Urządzenie zamiast mieszać ubrania w wodzie wymusza przepływ wody przez tkaninę. Umożliwia to pranie delikatnych tekstyliów/tkan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6093000"/>
            <a:ext cx="8064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ralka z 1924 r. napędzana silnikiem elektrycznym działająca na zasadzie próżniowej</a:t>
            </a: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03640" y="2727360"/>
            <a:ext cx="2232000" cy="3257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5877000"/>
            <a:ext cx="806436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953735"/>
                </a:solidFill>
                <a:latin typeface="Calibri"/>
              </a:rPr>
              <a:t>Pralka z 1927 r. firmy Beatty Brothers z tzw. agitator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3066840" cy="4824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694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30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Producenci tworzą ulepszone wersje pralek oscylujących napędzanych ręcznie. Operator, naprzemiennie pchając lub ciągnąc dźwignię zamocowaną do naczynia, wprawiał w ruch znajdujące się w nim wodę i ubranie. W kołysaniu naczyniem pomagały, zamocowane do niego oraz konstrukcji ramy, sprężyny. Dodatkowo ruch wody wewnątrz naczynia wzmagały znajdujące się tam przegrody, które wymuszały przepływ wody po linii ósem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203640" y="3225960"/>
            <a:ext cx="2808360" cy="3311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ok. 1930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John W. Chamberlain z Bendix Aviation Corporation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struuje maszynę, która pierze, płucze i sama wypompowuje wodę z ubrań w jednym cyklu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34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W Stanach Zjednoczonych powstała pierwsza pralka automatyczna. Posiadała możliwość zmiany długości czasu prania, płukania i odwirowania, a także regulację temperatury wody i szybkości obrotu bęb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4941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419640" y="2970360"/>
            <a:ext cx="3241440" cy="3338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37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W USA pod marką Bendix wprowadzono na rynek pierwszą programowaną pralkę automatyczną – samodzielnie wykonującą czynności: prania, płukania, odwirowania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zenie pozwalało też na czasowe zaprogramowanie czynności, ustawienie temperatury wody czy szybkości obrotów. Ponieważ bęben nie miał amortyzacji zawieszenia, aby zapobiec jej przemieszczaniu, należało ją zamocować do podłog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000" y="5950080"/>
            <a:ext cx="82184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953735"/>
                </a:solidFill>
                <a:latin typeface="Calibri"/>
              </a:rPr>
              <a:t>W 1940 r. 60% z 25 milionów zelektryfikowanych gospodarstw w USA posiadało pralkę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3676680" cy="2592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024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c00000"/>
                </a:solidFill>
                <a:latin typeface="Calibri"/>
              </a:rPr>
              <a:t>1947 r.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- Firma będąca poprzednikiem Whirlpool Corporation wprowadza na rynek pierwsze pralki automatyczne ładowane od góry tzw. „top-loading”.</a:t>
            </a:r>
            <a:br>
              <a:rPr sz="2200"/>
            </a:br>
            <a:r>
              <a:rPr b="0" lang="pl-PL" sz="2200" spc="-1" strike="noStrike">
                <a:solidFill>
                  <a:srgbClr val="c00000"/>
                </a:solidFill>
                <a:latin typeface="Calibri"/>
              </a:rPr>
              <a:t>1949 r.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- W USA firma Maytag wprowadza na rynek pralkę automatyczną</a:t>
            </a:r>
            <a:br>
              <a:rPr sz="2200"/>
            </a:br>
            <a:r>
              <a:rPr b="0" lang="pl-PL" sz="2200" spc="-1" strike="noStrike">
                <a:solidFill>
                  <a:srgbClr val="c00000"/>
                </a:solidFill>
                <a:latin typeface="Calibri"/>
              </a:rPr>
              <a:t>1950 r.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- Firma Westinghouse prezentuje urządzenie umożliwiające zarówno pranie, jak i suszenie ubrań.</a:t>
            </a:r>
            <a:br>
              <a:rPr sz="2200"/>
            </a:br>
            <a:r>
              <a:rPr b="0" lang="pl-PL" sz="2200" spc="-1" strike="noStrike">
                <a:solidFill>
                  <a:srgbClr val="c00000"/>
                </a:solidFill>
                <a:latin typeface="Calibri"/>
              </a:rPr>
              <a:t> 1951 r.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- Pierwsze pralki automatyczne pojawiają się w Europ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000" y="6237000"/>
            <a:ext cx="82184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Pralka z dodatkową funkcją suszark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059280" y="3141720"/>
            <a:ext cx="2840040" cy="29178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Frania – elektryczna pralka wirnikowa, niezwykle popularna w Polsce od lat 6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25200" y="6308640"/>
            <a:ext cx="821844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olar PS 663 Bio „Superautomat” z 1986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780000" y="260280"/>
            <a:ext cx="1728720" cy="2378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419640" y="3573360"/>
            <a:ext cx="2681280" cy="2376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78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W firmie Miele powstaje pierwsza pralka sterowana mikroprocesorem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2006 r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Firma Sanyo wprowadza na rynek pralkę „Aqua”. W pralce zastosowano m.in. proekologiczny system optymalizujący zużycie wody. Część wody po uzdatnieniu (oczyszczanie ozonem) jest wykorzystywana ponown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5640" y="5876640"/>
            <a:ext cx="72327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Model AWD-AQ1 – Pralka do eliminowania zapachów i bakterii wykorzystuje ozon. Może zatem prać bez wo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3622680" cy="27370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alk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sprzęt, który można znaleźć obecnie w każdym domu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szczędza nam czas, zużycie wody i energię – tą z sieci i tą nasz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Symbol zastępczy zawartości 5" descr="pralka1.jpg"/>
          <p:cNvPicPr/>
          <p:nvPr/>
        </p:nvPicPr>
        <p:blipFill>
          <a:blip r:embed="rId1"/>
          <a:stretch/>
        </p:blipFill>
        <p:spPr>
          <a:xfrm>
            <a:off x="3132000" y="2060640"/>
            <a:ext cx="2965680" cy="4189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025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tarożytności ubrania prano poprzez uderzanie nimi o skały lub pocieranie ich np. szorstkim piaskiem. Oderwany w ten sposób brud następnie spłukiwano (wypłukiwano) z materiału w pobliskich strumieniach lub rzek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2920" y="5157360"/>
            <a:ext cx="622476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rosty drewniany przyrząd do prania. Podczas prania należało nim pocierać wilgotny i namydlony materia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132000" y="2614680"/>
            <a:ext cx="3240360" cy="2347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2491920"/>
            <a:ext cx="814716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            </a:t>
            </a: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Tarka do prania ręcznego wykonana z aluminium.</a:t>
            </a:r>
            <a:br>
              <a:rPr sz="1800"/>
            </a:b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W 1851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– Amerykanin James King opatentował pierwszą pralkę używającą bębna - pierwszy model pralki nosił nazwę "MacAlpine". 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Jej działanie opierało się na wykorzystaniu pary, a zasada działania tej pralki znacznie odbiegała od naśladowania ręcznych czynn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114800" cy="1930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858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Hamilton Smith opatentował pralkę rotacyjną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861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 po raz pierwszy do pralki dodano wyżymaczk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ę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5516280"/>
            <a:ext cx="7858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ralka typu dolly z drewnianym zbiornikiem i kołem zamachow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2683080" cy="36226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874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William Blackstone zbudował pierwszą pralkę przeznaczoną do pomocy gospodyni domowej. Urządzenie powstało jako prezent urodzinowy dla jego żony. Pralka wykonana była z drewna. Pranie odbywało się w wodzie z rozpuszczonym mydłem. Drewniane elementy wewnątrz bębna uderzały brudne ubrania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 1885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Mechanizacja technik prania poprzez tarcie/szorowanie. Powstają proste urządzenia przenośne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892 r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George T. Sampson uzyskuje amerykański patent na suszarkę do materiału. Urządzenie wykorzystywało wentylator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ciepło z pieca.</a:t>
            </a:r>
            <a:br>
              <a:rPr sz="2400"/>
            </a:b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07 r.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 Frederick Louis Maytag rozpoczyna działalność w branży urządzeń do prania odzieży, a Maytag Corporation zaczyna produkcję pralek z drewnianym bębnem z napędzanym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ęcznie kołem zamachow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3640" y="4724280"/>
            <a:ext cx="856908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Tarka do prania – przykład wczesnej mechanizacji procesu prania. Ubranie umieszczano pomiędzy naczyniem, a ramką wewnątrz naczynia. Następnie poruszanie ramką powodowało, że materiał ocierał się o dwie sąsiadujące żebrowane powierzchnie. Brak konieczności zanurzania dłoni w wodzie dawał dodatkową korzyść – można było prać w znacznie wyższej temperaturz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3705120" cy="39610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51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08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Firma Hurley Machine Company z Chicago wprowadza na rynek pierwszą pralkę z napędem elektrycznym o nazwie Thor. Urządzenie skonstruował Alva J. Fis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3640" y="6021360"/>
            <a:ext cx="83516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ierwsza pralka elektryczna miała zbiornik bębnowy z  galwanizowanym naczyniem</a:t>
            </a:r>
            <a:r>
              <a:rPr b="0" lang="pl-PL" sz="18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2535120" cy="39002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00000"/>
                </a:solidFill>
                <a:latin typeface="Calibri"/>
              </a:rPr>
              <a:t>1909 r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- Amerykańska firma Maytag wprowadza na rynek swoją pierwszą pralkę napędzaną silnikiem – „The Hired Girl washer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000" y="580536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53735"/>
                </a:solidFill>
                <a:latin typeface="Calibri"/>
              </a:rPr>
              <a:t>Pod koniec lat 90. XIX w. producenci wytwarzali też urządzenia do prania wyposażone w kilka dzwonów zasysających połączonych przekładniami z dźwigni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348000" y="1484280"/>
            <a:ext cx="2909880" cy="41990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7:36:54Z</dcterms:created>
  <dc:creator>Dorota</dc:creator>
  <dc:description/>
  <dc:language>en-US</dc:language>
  <cp:lastModifiedBy>Dorota</cp:lastModifiedBy>
  <dcterms:modified xsi:type="dcterms:W3CDTF">2013-08-19T08:49:24Z</dcterms:modified>
  <cp:revision>24</cp:revision>
  <dc:subject/>
  <dc:title>HISTORIA POWSTANIA PRALKI ROZBUDOWANA</dc:title>
</cp:coreProperties>
</file>