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103-9BE5-4E24-9585-349C5E98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AAE-6F74-48B6-B6D0-04999BD4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159-61B2-4293-AE46-BB84E0BA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2F7-47A0-4674-B5B5-4E439AA6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A0A-6391-4D5C-AE85-0466B0BC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5A8-207E-400B-B890-5B2AFBD2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4D4-5F8D-46FC-B281-46DD387A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E6F-F028-4AA3-AC62-F04FD28B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719-BDEA-4B38-82A8-9F1F805F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28A-0C8B-4ACF-9DD2-B04E434A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33A-BCCC-44E7-B96A-75D202D6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C2A5-1FF3-434B-A496-BB2AB4F0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692A-7A7D-4227-A069-9F754F0693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7030a0"/>
                </a:solidFill>
                <a:latin typeface="Arial"/>
                <a:ea typeface="Arial"/>
              </a:rPr>
              <a:t>ROW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20500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6000" spc="-1" strike="noStrike">
                <a:solidFill>
                  <a:srgbClr val="000000"/>
                </a:solidFill>
                <a:latin typeface="Arial"/>
                <a:ea typeface="Arial"/>
              </a:rPr>
              <a:t>Budowa i wyposażen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Marzena\AppData\Local\Microsoft\Windows\Temporary Internet Files\Content.IE5\EFW7420A\MC900413474[1].wmf"/>
          <p:cNvPicPr/>
          <p:nvPr/>
        </p:nvPicPr>
        <p:blipFill>
          <a:blip r:embed="rId1"/>
          <a:stretch/>
        </p:blipFill>
        <p:spPr>
          <a:xfrm>
            <a:off x="2411280" y="3284640"/>
            <a:ext cx="38610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OBOWIĄZKOWE WYPOSAŻENIE ROWER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Obraz 2" descr="http://szkola.wi.ps.pl/2002/karta_rowerowa/budowa/rower1.gif"/>
          <p:cNvPicPr/>
          <p:nvPr/>
        </p:nvPicPr>
        <p:blipFill>
          <a:blip r:embed="rId1"/>
          <a:stretch/>
        </p:blipFill>
        <p:spPr>
          <a:xfrm>
            <a:off x="4859280" y="1700280"/>
            <a:ext cx="40338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250920" y="1834920"/>
            <a:ext cx="50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Światło pozycyjne z przodu białe lub żółte selektyw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Światła pozycyjne z tyłu czerw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Światło odblaskowe barwy czerwonej z tyłu o kształcie innym niż trójką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 najmniej jeden skutecznie działający hamul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zwonek lub inny sygnał ostrzegawczy o nieprzeraźliwym dźwię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UKŁAD KIEROWNICZY ROWER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468360" y="1246680"/>
            <a:ext cx="5688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1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widel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rura sterowa ra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wspornik kierown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4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kierow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https://fbcdn-sphotos-d-a.akamaihd.net/hphotos-ak-ash4/p480x480/417969_477327085669513_1658040514_n.jpg"/>
          <p:cNvPicPr/>
          <p:nvPr/>
        </p:nvPicPr>
        <p:blipFill>
          <a:blip r:embed="rId1"/>
          <a:srcRect l="55092" t="0" r="13266" b="49606"/>
          <a:stretch/>
        </p:blipFill>
        <p:spPr>
          <a:xfrm>
            <a:off x="5435640" y="1413000"/>
            <a:ext cx="3173400" cy="3760560"/>
          </a:xfrm>
          <a:prstGeom prst="rect">
            <a:avLst/>
          </a:prstGeom>
          <a:ln w="0">
            <a:noFill/>
          </a:ln>
        </p:spPr>
      </p:pic>
      <p:cxnSp>
        <p:nvCxnSpPr>
          <p:cNvPr id="50" name="Łącznik prosty ze strzałką 8"/>
          <p:cNvCxnSpPr/>
          <p:nvPr/>
        </p:nvCxnSpPr>
        <p:spPr>
          <a:xfrm flipV="1">
            <a:off x="6084360" y="4723920"/>
            <a:ext cx="1008720" cy="115344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1" name="pole tekstowe 10"/>
          <p:cNvSpPr/>
          <p:nvPr/>
        </p:nvSpPr>
        <p:spPr>
          <a:xfrm>
            <a:off x="5796000" y="5661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Łącznik prosty ze strzałką 11"/>
          <p:cNvCxnSpPr/>
          <p:nvPr/>
        </p:nvCxnSpPr>
        <p:spPr>
          <a:xfrm flipH="1">
            <a:off x="6875280" y="2707920"/>
            <a:ext cx="1584720" cy="13057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53" name="Łącznik prosty ze strzałką 14"/>
          <p:cNvCxnSpPr/>
          <p:nvPr/>
        </p:nvCxnSpPr>
        <p:spPr>
          <a:xfrm>
            <a:off x="5148000" y="2133720"/>
            <a:ext cx="1369080" cy="79128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54" name="Łącznik prosty ze strzałką 16"/>
          <p:cNvCxnSpPr/>
          <p:nvPr/>
        </p:nvCxnSpPr>
        <p:spPr>
          <a:xfrm flipH="1">
            <a:off x="6587640" y="1628640"/>
            <a:ext cx="1224720" cy="72144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5" name="Prostokąt 21"/>
          <p:cNvSpPr/>
          <p:nvPr/>
        </p:nvSpPr>
        <p:spPr>
          <a:xfrm>
            <a:off x="8391960" y="2349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ole tekstowe 24"/>
          <p:cNvSpPr/>
          <p:nvPr/>
        </p:nvSpPr>
        <p:spPr>
          <a:xfrm>
            <a:off x="4788000" y="155736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7"/>
          <p:cNvSpPr/>
          <p:nvPr/>
        </p:nvSpPr>
        <p:spPr>
          <a:xfrm>
            <a:off x="7815600" y="112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UKŁAD JEZDNY ROWERU</a:t>
            </a:r>
            <a:br>
              <a:rPr sz="4000"/>
            </a:br>
            <a:r>
              <a:rPr b="0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- koła rower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s://fbcdn-sphotos-d-a.akamaihd.net/hphotos-ak-ash4/p480x480/417969_477327085669513_1658040514_n.jpg"/>
          <p:cNvPicPr/>
          <p:nvPr/>
        </p:nvPicPr>
        <p:blipFill>
          <a:blip r:embed="rId1"/>
          <a:srcRect l="58608" t="39378" r="0" b="5504"/>
          <a:stretch/>
        </p:blipFill>
        <p:spPr>
          <a:xfrm>
            <a:off x="3990960" y="1773360"/>
            <a:ext cx="4795920" cy="4751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50920" y="1954080"/>
            <a:ext cx="48607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1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 pia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2 -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o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 szpry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4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 obręc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5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 ogumie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Łącznik prosty ze strzałką 4"/>
          <p:cNvCxnSpPr/>
          <p:nvPr/>
        </p:nvCxnSpPr>
        <p:spPr>
          <a:xfrm flipH="1">
            <a:off x="6516000" y="1988640"/>
            <a:ext cx="1943640" cy="201708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2" name="Łącznik prosty ze strzałką 6"/>
          <p:cNvCxnSpPr/>
          <p:nvPr/>
        </p:nvCxnSpPr>
        <p:spPr>
          <a:xfrm>
            <a:off x="6300360" y="1844640"/>
            <a:ext cx="72360" cy="22327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3" name="Łącznik prosty ze strzałką 9"/>
          <p:cNvCxnSpPr/>
          <p:nvPr/>
        </p:nvCxnSpPr>
        <p:spPr>
          <a:xfrm>
            <a:off x="3850920" y="3141720"/>
            <a:ext cx="1369080" cy="7927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4" name="Łącznik prosty ze strzałką 10"/>
          <p:cNvCxnSpPr/>
          <p:nvPr/>
        </p:nvCxnSpPr>
        <p:spPr>
          <a:xfrm>
            <a:off x="3924360" y="5013000"/>
            <a:ext cx="3528000" cy="64836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5" name="Łącznik prosty ze strzałką 13"/>
          <p:cNvCxnSpPr/>
          <p:nvPr/>
        </p:nvCxnSpPr>
        <p:spPr>
          <a:xfrm flipH="1" flipV="1">
            <a:off x="8388000" y="4581360"/>
            <a:ext cx="216720" cy="64836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66" name="pole tekstowe 16"/>
          <p:cNvSpPr/>
          <p:nvPr/>
        </p:nvSpPr>
        <p:spPr>
          <a:xfrm>
            <a:off x="8388360" y="155736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ole tekstowe 17"/>
          <p:cNvSpPr/>
          <p:nvPr/>
        </p:nvSpPr>
        <p:spPr>
          <a:xfrm>
            <a:off x="6084720" y="134136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ole tekstowe 18"/>
          <p:cNvSpPr/>
          <p:nvPr/>
        </p:nvSpPr>
        <p:spPr>
          <a:xfrm>
            <a:off x="3635280" y="2708280"/>
            <a:ext cx="2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19"/>
          <p:cNvSpPr/>
          <p:nvPr/>
        </p:nvSpPr>
        <p:spPr>
          <a:xfrm>
            <a:off x="3708360" y="458136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e tekstowe 20"/>
          <p:cNvSpPr/>
          <p:nvPr/>
        </p:nvSpPr>
        <p:spPr>
          <a:xfrm>
            <a:off x="8532720" y="494172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UKŁAD HAMULCOW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s://fbcdn-sphotos-d-a.akamaihd.net/hphotos-ak-ash4/p480x480/417969_477327085669513_1658040514_n.jpg"/>
          <p:cNvPicPr/>
          <p:nvPr/>
        </p:nvPicPr>
        <p:blipFill>
          <a:blip r:embed="rId1"/>
          <a:srcRect l="60952" t="5654" r="17415" b="44882"/>
          <a:stretch/>
        </p:blipFill>
        <p:spPr>
          <a:xfrm>
            <a:off x="5940360" y="1413000"/>
            <a:ext cx="2592360" cy="4410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250920" y="1333440"/>
            <a:ext cx="561636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1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 dźwig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2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linka hamulco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971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szczęki                         z klockami gumowy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Łącznik prosty ze strzałką 4"/>
          <p:cNvCxnSpPr/>
          <p:nvPr/>
        </p:nvCxnSpPr>
        <p:spPr>
          <a:xfrm>
            <a:off x="5148000" y="1700280"/>
            <a:ext cx="1369080" cy="7927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5" name="Łącznik prosty ze strzałką 5"/>
          <p:cNvCxnSpPr>
            <a:stCxn id="76" idx="2"/>
          </p:cNvCxnSpPr>
          <p:nvPr/>
        </p:nvCxnSpPr>
        <p:spPr>
          <a:xfrm flipH="1">
            <a:off x="7956000" y="1328400"/>
            <a:ext cx="705240" cy="174060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7" name="Łącznik prosty ze strzałką 8"/>
          <p:cNvCxnSpPr/>
          <p:nvPr/>
        </p:nvCxnSpPr>
        <p:spPr>
          <a:xfrm flipV="1">
            <a:off x="5940360" y="5229000"/>
            <a:ext cx="1512000" cy="108000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78" name="pole tekstowe 10"/>
          <p:cNvSpPr/>
          <p:nvPr/>
        </p:nvSpPr>
        <p:spPr>
          <a:xfrm>
            <a:off x="5508720" y="587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11"/>
          <p:cNvSpPr/>
          <p:nvPr/>
        </p:nvSpPr>
        <p:spPr>
          <a:xfrm>
            <a:off x="4932360" y="134136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ole tekstowe 12"/>
          <p:cNvSpPr/>
          <p:nvPr/>
        </p:nvSpPr>
        <p:spPr>
          <a:xfrm>
            <a:off x="8532720" y="62064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030a0"/>
                </a:solidFill>
                <a:latin typeface="Arial"/>
                <a:ea typeface="Arial"/>
              </a:rPr>
              <a:t>UKŁAD OŚWIETLENIOW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042920" y="4008600"/>
            <a:ext cx="6061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78040"/>
                <a:tab algn="l" pos="220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1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prądnica lub bater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78040"/>
                <a:tab algn="l" pos="220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 przednie światło biał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78040"/>
                <a:tab algn="l" pos="220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 tylne światło czerw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http://portal.bikeworld.pl/rowery_zdjecia/2013-06/rower_1370845394.jpg"/>
          <p:cNvPicPr/>
          <p:nvPr/>
        </p:nvPicPr>
        <p:blipFill>
          <a:blip r:embed="rId1"/>
          <a:srcRect l="3489" t="29013" r="11606" b="23856"/>
          <a:stretch/>
        </p:blipFill>
        <p:spPr>
          <a:xfrm>
            <a:off x="395280" y="1052640"/>
            <a:ext cx="7885080" cy="2808000"/>
          </a:xfrm>
          <a:prstGeom prst="rect">
            <a:avLst/>
          </a:prstGeom>
          <a:ln w="0">
            <a:noFill/>
          </a:ln>
        </p:spPr>
      </p:pic>
      <p:cxnSp>
        <p:nvCxnSpPr>
          <p:cNvPr id="83" name="Łącznik prosty ze strzałką 6"/>
          <p:cNvCxnSpPr/>
          <p:nvPr/>
        </p:nvCxnSpPr>
        <p:spPr>
          <a:xfrm flipH="1" flipV="1">
            <a:off x="7524000" y="2348640"/>
            <a:ext cx="793080" cy="208836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4" name="Łącznik prosty ze strzałką 10"/>
          <p:cNvCxnSpPr/>
          <p:nvPr/>
        </p:nvCxnSpPr>
        <p:spPr>
          <a:xfrm flipH="1">
            <a:off x="7164000" y="981000"/>
            <a:ext cx="1153440" cy="50400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5" name="Łącznik prosty ze strzałką 13"/>
          <p:cNvCxnSpPr>
            <a:stCxn id="86" idx="1"/>
          </p:cNvCxnSpPr>
          <p:nvPr/>
        </p:nvCxnSpPr>
        <p:spPr>
          <a:xfrm flipH="1">
            <a:off x="684000" y="1406160"/>
            <a:ext cx="792720" cy="43884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87" name="pole tekstowe 15"/>
          <p:cNvSpPr/>
          <p:nvPr/>
        </p:nvSpPr>
        <p:spPr>
          <a:xfrm>
            <a:off x="8244000" y="422100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ole tekstowe 16"/>
          <p:cNvSpPr/>
          <p:nvPr/>
        </p:nvSpPr>
        <p:spPr>
          <a:xfrm>
            <a:off x="8317080" y="69228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ole tekstowe 17"/>
          <p:cNvSpPr/>
          <p:nvPr/>
        </p:nvSpPr>
        <p:spPr>
          <a:xfrm>
            <a:off x="1476360" y="105264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7030a0"/>
                </a:solidFill>
                <a:latin typeface="Arial"/>
                <a:ea typeface="Arial"/>
              </a:rPr>
              <a:t>UKŁAD NAPĘDO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95280" y="424836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928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1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 koło łańcuchowe duż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28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koło łańcuchowe mał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28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3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 łańcuch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28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4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mechanizm korbow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http://image.ceneo.pl/data/products/19883924/i-bikeland-rower-miejski-retro-style-26.jpg"/>
          <p:cNvPicPr/>
          <p:nvPr/>
        </p:nvPicPr>
        <p:blipFill>
          <a:blip r:embed="rId1"/>
          <a:srcRect l="12931" t="53116" r="38116" b="16378"/>
          <a:stretch/>
        </p:blipFill>
        <p:spPr>
          <a:xfrm>
            <a:off x="1042920" y="1125360"/>
            <a:ext cx="6697800" cy="2963880"/>
          </a:xfrm>
          <a:prstGeom prst="rect">
            <a:avLst/>
          </a:prstGeom>
          <a:ln w="0">
            <a:noFill/>
          </a:ln>
        </p:spPr>
      </p:pic>
      <p:cxnSp>
        <p:nvCxnSpPr>
          <p:cNvPr id="92" name="Łącznik prosty ze strzałką 4"/>
          <p:cNvCxnSpPr/>
          <p:nvPr/>
        </p:nvCxnSpPr>
        <p:spPr>
          <a:xfrm flipH="1" flipV="1">
            <a:off x="6156000" y="3435120"/>
            <a:ext cx="1729440" cy="2815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3" name="Łącznik prosty ze strzałką 6"/>
          <p:cNvCxnSpPr/>
          <p:nvPr/>
        </p:nvCxnSpPr>
        <p:spPr>
          <a:xfrm>
            <a:off x="468360" y="2204640"/>
            <a:ext cx="1296000" cy="36108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4" name="Łącznik prosty ze strzałką 10"/>
          <p:cNvCxnSpPr/>
          <p:nvPr/>
        </p:nvCxnSpPr>
        <p:spPr>
          <a:xfrm flipV="1">
            <a:off x="1186920" y="2997000"/>
            <a:ext cx="1585080" cy="7927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5" name="Łącznik prosty ze strzałką 13"/>
          <p:cNvCxnSpPr/>
          <p:nvPr/>
        </p:nvCxnSpPr>
        <p:spPr>
          <a:xfrm flipH="1">
            <a:off x="6516720" y="2060280"/>
            <a:ext cx="1440360" cy="72756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96" name="pole tekstowe 15"/>
          <p:cNvSpPr/>
          <p:nvPr/>
        </p:nvSpPr>
        <p:spPr>
          <a:xfrm>
            <a:off x="7885080" y="350028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ole tekstowe 16"/>
          <p:cNvSpPr/>
          <p:nvPr/>
        </p:nvSpPr>
        <p:spPr>
          <a:xfrm>
            <a:off x="250920" y="184464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ole tekstowe 17"/>
          <p:cNvSpPr/>
          <p:nvPr/>
        </p:nvSpPr>
        <p:spPr>
          <a:xfrm>
            <a:off x="900000" y="3357720"/>
            <a:ext cx="2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ole tekstowe 18"/>
          <p:cNvSpPr/>
          <p:nvPr/>
        </p:nvSpPr>
        <p:spPr>
          <a:xfrm>
            <a:off x="7956720" y="162864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68360" y="1052640"/>
          <a:ext cx="8064360" cy="5273640"/>
        </p:xfrm>
        <a:graphic>
          <a:graphicData uri="http://schemas.openxmlformats.org/drawingml/2006/table">
            <a:tbl>
              <a:tblPr/>
              <a:tblGrid>
                <a:gridCol w="1827000"/>
                <a:gridCol w="6237360"/>
              </a:tblGrid>
              <a:tr h="10080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wa układu rowerow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 składo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erownic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zd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świetleni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ęd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mulcow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Rectangle 1"/>
          <p:cNvSpPr/>
          <p:nvPr/>
        </p:nvSpPr>
        <p:spPr>
          <a:xfrm>
            <a:off x="129240" y="397080"/>
            <a:ext cx="90518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7030a0"/>
                </a:solidFill>
                <a:latin typeface="Arial"/>
                <a:ea typeface="Times New Roman"/>
              </a:rPr>
              <a:t>Uzupełnijcie tabelkę wykorzystując poznane  określenia </a:t>
            </a:r>
            <a:br>
              <a:rPr sz="1200"/>
            </a:br>
            <a:br>
              <a:rPr sz="1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20:28:38Z</dcterms:created>
  <dc:creator>Marzena</dc:creator>
  <dc:description/>
  <dc:language>en-US</dc:language>
  <cp:lastModifiedBy>Marzena</cp:lastModifiedBy>
  <dcterms:modified xsi:type="dcterms:W3CDTF">2013-07-26T22:03:58Z</dcterms:modified>
  <cp:revision>12</cp:revision>
  <dc:subject/>
  <dc:title>ROWER</dc:title>
</cp:coreProperties>
</file>