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32.png" ContentType="image/png"/>
  <Override PartName="/ppt/media/image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6.jpeg" ContentType="image/jpeg"/>
  <Override PartName="/ppt/media/image2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FC7A-7315-406C-A350-E8BC18E59A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F0AD-F524-4ED3-930B-1C15D6434D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A8E9-DC06-4955-A864-92463093B9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B34-BCCB-41A0-874E-517BA73FFA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FCCC-7C1F-4FBB-952D-8EDB9F8AFB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4F48-6E86-42B2-9A41-212DB6A535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445-FC21-412D-B317-4C776880A4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AB5-F916-48A7-9FB9-14DA24D8E0E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7A5-2326-4BD3-BBF1-A8DE0B44F6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52F1-0B80-414B-A1C0-C1499681F2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F3F0-8CD0-4DD1-9CFF-F8576969F1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4F59-A928-4D32-8992-42B5DCD432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22DA-0EFF-477E-A111-888942C055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4D3-AA7E-4887-A343-F3AFAE1B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3426-9044-4CA7-A80D-65393F3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43F-5ED2-47D2-B1D6-BF97ABC5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6BE-8871-474D-8BF5-88A2791B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DFCB-E1AF-4D8C-8B19-EB089D0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147A-FF98-4510-A41D-32114013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81C3-30FF-4249-91C7-C1FDC380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E5CF-D3CC-4C7B-8277-3461B96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75A3-2BE0-416E-9701-5912DAF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C96D-F693-4283-ADCB-CCBE4055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5368-A5E6-4DED-A0D2-10BA285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330-5744-4C70-B6B8-B492189B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AA16-4505-48E0-AA92-82049691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941-5536-4778-A830-5A575F3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9B32-E6AC-41A0-B8E5-7D58F42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EE05-BF22-4E16-9ABF-08BDDE0A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B348-A2EC-4CCD-B3EC-3571778D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2C6-B40E-4BF4-9A56-E450944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AC1-5BF0-43B9-84B5-459645E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137-83B8-4D35-AF47-CE0FD3B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E19-B9EA-4737-BC03-4E0D05D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CC2-B086-4A09-9B37-D16C1E60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4FE-DAB9-43E7-9F22-CC7F187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8B8-2996-4E1B-AB2F-B71E3B87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F9A5-6715-41A9-8161-A1CD59D05721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e5e5c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9CDC-591E-4BFA-888D-311AB13EB869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apiers"/>
          <p:cNvPicPr/>
          <p:nvPr/>
        </p:nvPicPr>
        <p:blipFill>
          <a:blip r:embed="rId1"/>
          <a:stretch/>
        </p:blipFill>
        <p:spPr>
          <a:xfrm>
            <a:off x="971640" y="765000"/>
            <a:ext cx="7056360" cy="5289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0033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APIER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4723920"/>
            <a:ext cx="618804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Gramatura papieru</a:t>
            </a:r>
            <a:r>
              <a:rPr b="1" lang="pl-PL" sz="24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263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sa jednego metra kwadratoweg</a:t>
            </a:r>
            <a:r>
              <a:rPr b="1" lang="pl-PL" sz="28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1" lang="pl-PL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robu papierniczego wyrażonego w gra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rzykł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BIBUŁA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65–250 g/m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TEKTURA</a:t>
            </a:r>
            <a:r>
              <a:rPr b="1" lang="pl-PL" sz="20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o gramaturze od 251 g/m2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wykle do</a:t>
            </a: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900 g/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KARTON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rodukt papierniczy  o gramaturze 161–315 g/m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Rodzaje materiałów  papierniczych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 rot="10800000">
            <a:off x="683640" y="1989000"/>
            <a:ext cx="5029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lvl="4" marL="156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6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apier"/>
          <p:cNvPicPr/>
          <p:nvPr/>
        </p:nvPicPr>
        <p:blipFill>
          <a:blip r:embed="rId1"/>
          <a:stretch/>
        </p:blipFill>
        <p:spPr>
          <a:xfrm>
            <a:off x="2340000" y="4365720"/>
            <a:ext cx="2016000" cy="1596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tektura"/>
          <p:cNvPicPr/>
          <p:nvPr/>
        </p:nvPicPr>
        <p:blipFill>
          <a:blip r:embed="rId2"/>
          <a:stretch/>
        </p:blipFill>
        <p:spPr>
          <a:xfrm>
            <a:off x="7020000" y="2708280"/>
            <a:ext cx="1728720" cy="151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4"/>
          <p:cNvSpPr/>
          <p:nvPr/>
        </p:nvSpPr>
        <p:spPr>
          <a:xfrm>
            <a:off x="2988360" y="35002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p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4162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803640" y="2205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e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5003640" y="35002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k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 flipH="1">
            <a:off x="900000" y="1989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ibu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9"/>
          <p:cNvSpPr/>
          <p:nvPr/>
        </p:nvSpPr>
        <p:spPr>
          <a:xfrm flipH="1">
            <a:off x="1763640" y="1628640"/>
            <a:ext cx="237672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1"/>
          <p:cNvSpPr/>
          <p:nvPr/>
        </p:nvSpPr>
        <p:spPr>
          <a:xfrm flipH="1">
            <a:off x="3708000" y="1628640"/>
            <a:ext cx="647640" cy="165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4572000" y="1628640"/>
            <a:ext cx="720720" cy="151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3"/>
          <p:cNvSpPr/>
          <p:nvPr/>
        </p:nvSpPr>
        <p:spPr>
          <a:xfrm>
            <a:off x="4859280" y="1628640"/>
            <a:ext cx="1728720" cy="64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6" descr="karton pudełk-poprawka"/>
          <p:cNvPicPr/>
          <p:nvPr/>
        </p:nvPicPr>
        <p:blipFill>
          <a:blip r:embed="rId3"/>
          <a:stretch/>
        </p:blipFill>
        <p:spPr>
          <a:xfrm>
            <a:off x="5148360" y="4365720"/>
            <a:ext cx="208116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7" descr="bibuła"/>
          <p:cNvPicPr/>
          <p:nvPr/>
        </p:nvPicPr>
        <p:blipFill>
          <a:blip r:embed="rId4"/>
          <a:stretch/>
        </p:blipFill>
        <p:spPr>
          <a:xfrm>
            <a:off x="755640" y="2276640"/>
            <a:ext cx="1503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Podstawowe surowce wykorzystywane do produkcji papieru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897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"/>
              </a:rPr>
              <a:t>drzewa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, które dostarczają włókna roślin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buk"/>
          <p:cNvPicPr/>
          <p:nvPr/>
        </p:nvPicPr>
        <p:blipFill>
          <a:blip r:embed="rId1"/>
          <a:stretch/>
        </p:blipFill>
        <p:spPr>
          <a:xfrm>
            <a:off x="7093080" y="3141720"/>
            <a:ext cx="1333440" cy="20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828000" y="2565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top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310520" y="2205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b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580000" y="2924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świ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051640" y="32846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os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780000" y="602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z_m14382"/>
          <p:cNvPicPr/>
          <p:nvPr/>
        </p:nvPicPr>
        <p:blipFill>
          <a:blip r:embed="rId2"/>
          <a:stretch/>
        </p:blipFill>
        <p:spPr>
          <a:xfrm>
            <a:off x="5508720" y="3789360"/>
            <a:ext cx="1176120" cy="20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7" descr="sosna"/>
          <p:cNvPicPr/>
          <p:nvPr/>
        </p:nvPicPr>
        <p:blipFill>
          <a:blip r:embed="rId3"/>
          <a:stretch/>
        </p:blipFill>
        <p:spPr>
          <a:xfrm>
            <a:off x="3419640" y="4581360"/>
            <a:ext cx="1655640" cy="12560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9"/>
          <p:cNvSpPr/>
          <p:nvPr/>
        </p:nvSpPr>
        <p:spPr>
          <a:xfrm>
            <a:off x="3636360" y="3619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Arial"/>
              </a:rPr>
              <a:t>sos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4" descr="topol_osika"/>
          <p:cNvPicPr/>
          <p:nvPr/>
        </p:nvPicPr>
        <p:blipFill>
          <a:blip r:embed="rId4"/>
          <a:stretch/>
        </p:blipFill>
        <p:spPr>
          <a:xfrm>
            <a:off x="1979640" y="4005360"/>
            <a:ext cx="985680" cy="1944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topola"/>
          <p:cNvPicPr/>
          <p:nvPr/>
        </p:nvPicPr>
        <p:blipFill>
          <a:blip r:embed="rId5"/>
          <a:stretch/>
        </p:blipFill>
        <p:spPr>
          <a:xfrm>
            <a:off x="611280" y="3281400"/>
            <a:ext cx="1512720" cy="12351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7"/>
          <p:cNvSpPr/>
          <p:nvPr/>
        </p:nvSpPr>
        <p:spPr>
          <a:xfrm rot="5400000">
            <a:off x="1172520" y="2220120"/>
            <a:ext cx="390240" cy="217440"/>
          </a:xfrm>
          <a:custGeom>
            <a:avLst/>
            <a:gdLst>
              <a:gd name="textAreaLeft" fmla="*/ 60840 w 390240"/>
              <a:gd name="textAreaRight" fmla="*/ 341640 w 39024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8"/>
          <p:cNvSpPr/>
          <p:nvPr/>
        </p:nvSpPr>
        <p:spPr>
          <a:xfrm rot="5400000">
            <a:off x="2108880" y="2796120"/>
            <a:ext cx="677880" cy="216000"/>
          </a:xfrm>
          <a:custGeom>
            <a:avLst/>
            <a:gdLst>
              <a:gd name="textAreaLeft" fmla="*/ 105840 w 677880"/>
              <a:gd name="textAreaRight" fmla="*/ 593280 w 6778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9"/>
          <p:cNvSpPr/>
          <p:nvPr/>
        </p:nvSpPr>
        <p:spPr>
          <a:xfrm rot="5400000">
            <a:off x="3763800" y="3155760"/>
            <a:ext cx="679320" cy="216000"/>
          </a:xfrm>
          <a:custGeom>
            <a:avLst/>
            <a:gdLst>
              <a:gd name="textAreaLeft" fmla="*/ 106200 w 679320"/>
              <a:gd name="textAreaRight" fmla="*/ 594720 w 679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 rot="5400000">
            <a:off x="5672520" y="2543760"/>
            <a:ext cx="606600" cy="217440"/>
          </a:xfrm>
          <a:custGeom>
            <a:avLst/>
            <a:gdLst>
              <a:gd name="textAreaLeft" fmla="*/ 94680 w 606600"/>
              <a:gd name="textAreaRight" fmla="*/ 531000 w 6066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1"/>
          <p:cNvSpPr/>
          <p:nvPr/>
        </p:nvSpPr>
        <p:spPr>
          <a:xfrm rot="5400000">
            <a:off x="7437240" y="1931760"/>
            <a:ext cx="390600" cy="216000"/>
          </a:xfrm>
          <a:custGeom>
            <a:avLst/>
            <a:gdLst>
              <a:gd name="textAreaLeft" fmla="*/ 60840 w 390600"/>
              <a:gd name="textAreaRight" fmla="*/ 342000 w 390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ro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ś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liny jednoroczne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Picture 24" descr="trzcina"/>
          <p:cNvPicPr/>
          <p:nvPr/>
        </p:nvPicPr>
        <p:blipFill>
          <a:blip r:embed="rId1"/>
          <a:stretch/>
        </p:blipFill>
        <p:spPr>
          <a:xfrm>
            <a:off x="7093080" y="2708280"/>
            <a:ext cx="1726920" cy="13780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1579320" cy="194472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800360" cy="1197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924360" y="2708280"/>
            <a:ext cx="1800000" cy="1357200"/>
          </a:xfrm>
          <a:prstGeom prst="rect">
            <a:avLst/>
          </a:prstGeom>
          <a:ln w="38160">
            <a:solidFill>
              <a:srgbClr val="cccc99"/>
            </a:solidFill>
            <a:miter/>
          </a:ln>
        </p:spPr>
      </p:pic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2411280" y="4292640"/>
            <a:ext cx="1433520" cy="201600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87" name="Rectangle 13"/>
          <p:cNvSpPr/>
          <p:nvPr/>
        </p:nvSpPr>
        <p:spPr>
          <a:xfrm>
            <a:off x="828000" y="1700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jed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356000" y="17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57080" y="1700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kon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5435640" y="17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baweł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94520" y="1700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trz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4"/>
          <p:cNvSpPr/>
          <p:nvPr/>
        </p:nvSpPr>
        <p:spPr>
          <a:xfrm>
            <a:off x="3059280" y="2349360"/>
            <a:ext cx="217440" cy="1511280"/>
          </a:xfrm>
          <a:prstGeom prst="downArrow">
            <a:avLst>
              <a:gd name="adj1" fmla="val 50000"/>
              <a:gd name="adj2" fmla="val 1737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5"/>
          <p:cNvSpPr/>
          <p:nvPr/>
        </p:nvSpPr>
        <p:spPr>
          <a:xfrm>
            <a:off x="4643280" y="2133720"/>
            <a:ext cx="216000" cy="358560"/>
          </a:xfrm>
          <a:prstGeom prst="downArrow">
            <a:avLst>
              <a:gd name="adj1" fmla="val 50000"/>
              <a:gd name="adj2" fmla="val 41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6"/>
          <p:cNvSpPr/>
          <p:nvPr/>
        </p:nvSpPr>
        <p:spPr>
          <a:xfrm>
            <a:off x="6156360" y="2276640"/>
            <a:ext cx="216000" cy="1657080"/>
          </a:xfrm>
          <a:prstGeom prst="downArrow">
            <a:avLst>
              <a:gd name="adj1" fmla="val 50000"/>
              <a:gd name="adj2" fmla="val 19179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7"/>
          <p:cNvSpPr/>
          <p:nvPr/>
        </p:nvSpPr>
        <p:spPr>
          <a:xfrm>
            <a:off x="1547640" y="2205000"/>
            <a:ext cx="216000" cy="358920"/>
          </a:xfrm>
          <a:prstGeom prst="downArrow">
            <a:avLst>
              <a:gd name="adj1" fmla="val 50000"/>
              <a:gd name="adj2" fmla="val 4154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8"/>
          <p:cNvSpPr/>
          <p:nvPr/>
        </p:nvSpPr>
        <p:spPr>
          <a:xfrm>
            <a:off x="7812000" y="2133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7329600" cy="2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surowce wtórne, które zawierają włókno roślinne:</a:t>
            </a: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168720" cy="2055960"/>
          </a:xfrm>
          <a:prstGeom prst="rect">
            <a:avLst/>
          </a:prstGeom>
          <a:ln w="12600">
            <a:solidFill>
              <a:srgbClr val="cccc99"/>
            </a:solidFill>
            <a:miter/>
          </a:ln>
        </p:spPr>
      </p:pic>
      <p:sp>
        <p:nvSpPr>
          <p:cNvPr id="199" name="Rectangle 7"/>
          <p:cNvSpPr/>
          <p:nvPr/>
        </p:nvSpPr>
        <p:spPr>
          <a:xfrm>
            <a:off x="4932360" y="5589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12"/>
          <p:cNvGraphicFramePr/>
          <p:nvPr/>
        </p:nvGraphicFramePr>
        <p:xfrm>
          <a:off x="5076720" y="2852640"/>
          <a:ext cx="2951280" cy="20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852640"/>
                    <a:ext cx="2951280" cy="2082960"/>
                  </a:xfrm>
                  <a:prstGeom prst="rect">
                    <a:avLst/>
                  </a:prstGeom>
                  <a:ln w="12600">
                    <a:solidFill>
                      <a:srgbClr val="cc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Rectangle 14"/>
          <p:cNvSpPr/>
          <p:nvPr/>
        </p:nvSpPr>
        <p:spPr>
          <a:xfrm>
            <a:off x="4286160" y="306864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405440" y="522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makul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5943240" y="522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szm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901440" y="472428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4" descr="Linie_darcia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92360" y="4076640"/>
            <a:ext cx="1584360" cy="8478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Właściwości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86000" y="2284560"/>
            <a:ext cx="631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826920" y="1892160"/>
            <a:ext cx="76327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ługość i szerokość to kierunek papie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cyduje o tym układ włókien masy papier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4284720" y="2421000"/>
            <a:ext cx="287280" cy="358560"/>
          </a:xfrm>
          <a:prstGeom prst="downArrow">
            <a:avLst>
              <a:gd name="adj1" fmla="val 50000"/>
              <a:gd name="adj2" fmla="val 312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4859280" y="491868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łókienka ułożone obok siebie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1042920" y="494172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znaczają włókienka ułożone wzdłuż - jedne za drug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/>
          <p:cNvSpPr/>
          <p:nvPr/>
        </p:nvSpPr>
        <p:spPr>
          <a:xfrm rot="13677000">
            <a:off x="3850920" y="3537000"/>
            <a:ext cx="1230480" cy="1293840"/>
          </a:xfrm>
          <a:custGeom>
            <a:avLst/>
            <a:gdLst>
              <a:gd name="textAreaLeft" fmla="*/ 75960 w 1230480"/>
              <a:gd name="textAreaRight" fmla="*/ 1054800 w 1230480"/>
              <a:gd name="textAreaTop" fmla="*/ 1006560 h 1293840"/>
              <a:gd name="textAreaBottom" fmla="*/ 1109160 h 1293840"/>
            </a:gdLst>
            <a:ahLst/>
            <a:rect l="textAreaLeft" t="textAreaTop" r="textAreaRight" b="textAreaBottom"/>
            <a:pathLst>
              <a:path w="21600" h="21600">
                <a:moveTo>
                  <a:pt x="17659" y="0"/>
                </a:moveTo>
                <a:lnTo>
                  <a:pt x="13717" y="6171"/>
                </a:lnTo>
                <a:lnTo>
                  <a:pt x="16803" y="6171"/>
                </a:lnTo>
                <a:lnTo>
                  <a:pt x="16803" y="16803"/>
                </a:lnTo>
                <a:lnTo>
                  <a:pt x="6171" y="16803"/>
                </a:lnTo>
                <a:lnTo>
                  <a:pt x="6171" y="13717"/>
                </a:lnTo>
                <a:lnTo>
                  <a:pt x="0" y="1765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7659" y="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5" descr="Linie_darcia_2"/>
          <p:cNvPicPr/>
          <p:nvPr/>
        </p:nvPicPr>
        <p:blipFill>
          <a:blip r:embed="rId2"/>
          <a:stretch/>
        </p:blipFill>
        <p:spPr>
          <a:xfrm>
            <a:off x="5940360" y="4005360"/>
            <a:ext cx="1440000" cy="9795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6"/>
          <p:cNvSpPr/>
          <p:nvPr/>
        </p:nvSpPr>
        <p:spPr>
          <a:xfrm>
            <a:off x="1293120" y="371952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dłuż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5472720" y="364824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Kierunek poprzecz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8" name="Picture 21" descr="układ równiległy"/>
          <p:cNvPicPr/>
          <p:nvPr/>
        </p:nvPicPr>
        <p:blipFill>
          <a:blip r:embed="rId1"/>
          <a:stretch/>
        </p:blipFill>
        <p:spPr>
          <a:xfrm>
            <a:off x="5508720" y="2492280"/>
            <a:ext cx="3047760" cy="1809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6"/>
          <p:cNvSpPr/>
          <p:nvPr/>
        </p:nvSpPr>
        <p:spPr>
          <a:xfrm>
            <a:off x="1332000" y="469908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755640" y="578520"/>
            <a:ext cx="76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sklejanie materi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a</a:t>
            </a:r>
            <a:r>
              <a:rPr b="0" lang="pl-PL" sz="2800" spc="-1" strike="noStrike">
                <a:solidFill>
                  <a:srgbClr val="003366"/>
                </a:solidFill>
                <a:latin typeface="Arial"/>
                <a:ea typeface="SimSun"/>
              </a:rPr>
              <a:t>ł</a:t>
            </a:r>
            <a:r>
              <a:rPr b="1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ó</a:t>
            </a: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SimSun"/>
              </a:rPr>
              <a:t>w papier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Black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863240" y="4940280"/>
            <a:ext cx="322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         </a:t>
            </a:r>
            <a:r>
              <a:rPr b="0" lang="pl-PL" sz="1200" spc="-1" strike="noStrike">
                <a:solidFill>
                  <a:srgbClr val="000000"/>
                </a:solidFill>
                <a:latin typeface="Arial Black"/>
                <a:ea typeface="SimSun"/>
              </a:rPr>
              <a:t>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16000" y="1628640"/>
            <a:ext cx="705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należy stosować układ krzyżowy, a nie równoleg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163160" y="508464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układ krzyżowy         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 rot="10800000">
            <a:off x="4211640" y="2420640"/>
            <a:ext cx="720720" cy="1439640"/>
          </a:xfrm>
          <a:custGeom>
            <a:avLst/>
            <a:gdLst>
              <a:gd name="textAreaLeft" fmla="*/ 414720 w 720720"/>
              <a:gd name="textAreaRight" fmla="*/ 608400 w 720720"/>
              <a:gd name="textAreaTop" fmla="*/ 194040 h 1439640"/>
              <a:gd name="textAreaBottom" fmla="*/ 61632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2268360" y="465300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0"/>
          <p:cNvSpPr/>
          <p:nvPr/>
        </p:nvSpPr>
        <p:spPr>
          <a:xfrm>
            <a:off x="6588000" y="4724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3" descr="układ krzyżowy"/>
          <p:cNvPicPr/>
          <p:nvPr/>
        </p:nvPicPr>
        <p:blipFill>
          <a:blip r:embed="rId2"/>
          <a:stretch/>
        </p:blipFill>
        <p:spPr>
          <a:xfrm>
            <a:off x="900000" y="2565360"/>
            <a:ext cx="29512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900000" y="49989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  <a:ea typeface="Arial Unicode MS"/>
              </a:rPr>
              <a:t>Formaty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0" name="Picture 14" descr="4895"/>
          <p:cNvPicPr/>
          <p:nvPr/>
        </p:nvPicPr>
        <p:blipFill>
          <a:blip r:embed="rId1"/>
          <a:stretch/>
        </p:blipFill>
        <p:spPr>
          <a:xfrm rot="20160000">
            <a:off x="684360" y="1773000"/>
            <a:ext cx="2174760" cy="209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2003"/>
          <p:cNvPicPr/>
          <p:nvPr/>
        </p:nvPicPr>
        <p:blipFill>
          <a:blip r:embed="rId2"/>
          <a:stretch/>
        </p:blipFill>
        <p:spPr>
          <a:xfrm>
            <a:off x="539640" y="41162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zeszyt"/>
          <p:cNvPicPr/>
          <p:nvPr/>
        </p:nvPicPr>
        <p:blipFill>
          <a:blip r:embed="rId3">
            <a:lum contrast="-12000"/>
          </a:blip>
          <a:stretch/>
        </p:blipFill>
        <p:spPr>
          <a:xfrm rot="18906600">
            <a:off x="7067160" y="2101320"/>
            <a:ext cx="1332000" cy="912960"/>
          </a:xfrm>
          <a:prstGeom prst="rect">
            <a:avLst/>
          </a:prstGeom>
          <a:ln w="0">
            <a:noFill/>
          </a:ln>
        </p:spPr>
      </p:pic>
      <p:sp>
        <p:nvSpPr>
          <p:cNvPr id="233" name="Line 53"/>
          <p:cNvSpPr/>
          <p:nvPr/>
        </p:nvSpPr>
        <p:spPr>
          <a:xfrm>
            <a:off x="2057400" y="336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987640" y="1700280"/>
          <a:ext cx="3073320" cy="2119320"/>
        </p:xfrm>
        <a:graphic>
          <a:graphicData uri="http://schemas.openxmlformats.org/drawingml/2006/table">
            <a:tbl>
              <a:tblPr/>
              <a:tblGrid>
                <a:gridCol w="1474920"/>
                <a:gridCol w="738000"/>
                <a:gridCol w="860400"/>
              </a:tblGrid>
              <a:tr h="504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SimSun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3366"/>
                          </a:solidFill>
                          <a:latin typeface="Arial Unicode MS"/>
                          <a:ea typeface="Arial Unicode MS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AutoShape 149"/>
          <p:cNvSpPr/>
          <p:nvPr/>
        </p:nvSpPr>
        <p:spPr>
          <a:xfrm>
            <a:off x="6156360" y="1628640"/>
            <a:ext cx="503280" cy="4248360"/>
          </a:xfrm>
          <a:custGeom>
            <a:avLst/>
            <a:gdLst>
              <a:gd name="textAreaLeft" fmla="*/ 0 w 503280"/>
              <a:gd name="textAreaRight" fmla="*/ 181800 w 503280"/>
              <a:gd name="textAreaTop" fmla="*/ 110520 h 4248360"/>
              <a:gd name="textAreaBottom" fmla="*/ 4137840 h 42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3"/>
          <p:cNvSpPr/>
          <p:nvPr/>
        </p:nvSpPr>
        <p:spPr>
          <a:xfrm>
            <a:off x="4357800" y="3736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987640" y="3860640"/>
          <a:ext cx="3097080" cy="1873440"/>
        </p:xfrm>
        <a:graphic>
          <a:graphicData uri="http://schemas.openxmlformats.org/drawingml/2006/table">
            <a:tbl>
              <a:tblPr/>
              <a:tblGrid>
                <a:gridCol w="1440000"/>
                <a:gridCol w="792000"/>
                <a:gridCol w="865080"/>
              </a:tblGrid>
              <a:tr h="470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4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Rectangle 192"/>
          <p:cNvSpPr/>
          <p:nvPr/>
        </p:nvSpPr>
        <p:spPr>
          <a:xfrm>
            <a:off x="6950160" y="3716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3"/>
          <p:cNvSpPr/>
          <p:nvPr/>
        </p:nvSpPr>
        <p:spPr>
          <a:xfrm>
            <a:off x="7448040" y="3429000"/>
            <a:ext cx="9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5"/>
          <p:cNvSpPr/>
          <p:nvPr/>
        </p:nvSpPr>
        <p:spPr>
          <a:xfrm>
            <a:off x="5076720" y="1916280"/>
            <a:ext cx="2087640" cy="28872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6"/>
          <p:cNvSpPr/>
          <p:nvPr/>
        </p:nvSpPr>
        <p:spPr>
          <a:xfrm flipH="1">
            <a:off x="2556000" y="2349360"/>
            <a:ext cx="2808000" cy="432000"/>
          </a:xfrm>
          <a:prstGeom prst="line">
            <a:avLst/>
          </a:prstGeom>
          <a:ln w="2844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3"/>
          <p:cNvSpPr/>
          <p:nvPr/>
        </p:nvSpPr>
        <p:spPr>
          <a:xfrm flipH="1">
            <a:off x="2555640" y="3357720"/>
            <a:ext cx="2592360" cy="1511280"/>
          </a:xfrm>
          <a:prstGeom prst="line">
            <a:avLst/>
          </a:prstGeom>
          <a:ln w="38160">
            <a:solidFill>
              <a:srgbClr val="cc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Coś z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Wycinanie, składanie, sklejani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3prisms"/>
          <p:cNvPicPr/>
          <p:nvPr/>
        </p:nvPicPr>
        <p:blipFill>
          <a:blip r:embed="rId1"/>
          <a:stretch/>
        </p:blipFill>
        <p:spPr>
          <a:xfrm>
            <a:off x="5508720" y="981000"/>
            <a:ext cx="2422440" cy="2189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photo_rhinobeetle2"/>
          <p:cNvPicPr/>
          <p:nvPr/>
        </p:nvPicPr>
        <p:blipFill>
          <a:blip r:embed="rId2"/>
          <a:stretch/>
        </p:blipFill>
        <p:spPr>
          <a:xfrm>
            <a:off x="900000" y="2924280"/>
            <a:ext cx="2664000" cy="1931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pic16"/>
          <p:cNvPicPr/>
          <p:nvPr/>
        </p:nvPicPr>
        <p:blipFill>
          <a:blip r:embed="rId3"/>
          <a:stretch/>
        </p:blipFill>
        <p:spPr>
          <a:xfrm>
            <a:off x="4500720" y="3645000"/>
            <a:ext cx="259236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26560" y="3962160"/>
            <a:ext cx="7402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Verdana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686800" y="-268884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50" name="Picture 7" descr="Papier"/>
          <p:cNvPicPr/>
          <p:nvPr/>
        </p:nvPicPr>
        <p:blipFill>
          <a:blip r:embed="rId1"/>
          <a:stretch/>
        </p:blipFill>
        <p:spPr>
          <a:xfrm rot="19837200">
            <a:off x="3564000" y="1483920"/>
            <a:ext cx="226044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6" descr="pe"/>
          <p:cNvPicPr/>
          <p:nvPr/>
        </p:nvPicPr>
        <p:blipFill>
          <a:blip r:embed="rId1"/>
          <a:stretch/>
        </p:blipFill>
        <p:spPr>
          <a:xfrm>
            <a:off x="2340000" y="2997360"/>
            <a:ext cx="4968720" cy="2830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77300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4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Słowo „papier” pochodzi od greckiego „papyros” czy łacińskiego „papyr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rodukcj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1280" y="4076640"/>
            <a:ext cx="252072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1. rozdrabnianie drewna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1" lang="pl-PL" sz="16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2" descr="schem"/>
          <p:cNvPicPr/>
          <p:nvPr/>
        </p:nvPicPr>
        <p:blipFill>
          <a:blip r:embed="rId1"/>
          <a:stretch/>
        </p:blipFill>
        <p:spPr>
          <a:xfrm>
            <a:off x="1042920" y="1341360"/>
            <a:ext cx="720108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6"/>
          <p:cNvSpPr/>
          <p:nvPr/>
        </p:nvSpPr>
        <p:spPr>
          <a:xfrm>
            <a:off x="755640" y="450864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2.młyn mielą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7"/>
          <p:cNvSpPr/>
          <p:nvPr/>
        </p:nvSpPr>
        <p:spPr>
          <a:xfrm>
            <a:off x="90000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3. domieszki chemikaliów i barwni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8"/>
          <p:cNvSpPr/>
          <p:nvPr/>
        </p:nvSpPr>
        <p:spPr>
          <a:xfrm>
            <a:off x="1050120" y="5229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4. wlew masy papiernicz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9"/>
          <p:cNvSpPr/>
          <p:nvPr/>
        </p:nvSpPr>
        <p:spPr>
          <a:xfrm>
            <a:off x="1121400" y="55897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5.komora odsys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0"/>
          <p:cNvSpPr/>
          <p:nvPr/>
        </p:nvSpPr>
        <p:spPr>
          <a:xfrm>
            <a:off x="4211640" y="4076640"/>
            <a:ext cx="43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6. masa papiernicza odwadniana na si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1"/>
          <p:cNvSpPr/>
          <p:nvPr/>
        </p:nvSpPr>
        <p:spPr>
          <a:xfrm>
            <a:off x="4716360" y="4437000"/>
            <a:ext cx="21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7. walce prasuj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2"/>
          <p:cNvSpPr/>
          <p:nvPr/>
        </p:nvSpPr>
        <p:spPr>
          <a:xfrm>
            <a:off x="5076720" y="48690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8. walce suszące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3"/>
          <p:cNvSpPr/>
          <p:nvPr/>
        </p:nvSpPr>
        <p:spPr>
          <a:xfrm>
            <a:off x="5364000" y="5229360"/>
            <a:ext cx="294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9. taśma wchłaniająca wod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4"/>
          <p:cNvSpPr/>
          <p:nvPr/>
        </p:nvSpPr>
        <p:spPr>
          <a:xfrm>
            <a:off x="5729760" y="5589720"/>
            <a:ext cx="18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10. gotowy pa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Arial Black"/>
              </a:rPr>
              <a:t>Mała historia papieru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63212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I wiek p.n.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.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Chińczycy wynaleźli pap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059280" y="3357720"/>
            <a:ext cx="307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68320" y="2340000"/>
            <a:ext cx="73375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 Chińczyk Pi Cheng wykonał ruch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elementy drukuj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699840" y="3178080"/>
            <a:ext cx="7104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  w Polsce w Gdańsku uruchomi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      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pierwszy młyn papierniczy</a:t>
            </a:r>
            <a:r>
              <a:rPr b="0" lang="pl-P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900000" y="443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 Holandii wynaleziono urządzenie 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     do wyrobu masy papierni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4" descr="Pierwsza maszyna papiernicza"/>
          <p:cNvPicPr/>
          <p:nvPr/>
        </p:nvPicPr>
        <p:blipFill>
          <a:blip r:embed="rId1"/>
          <a:stretch/>
        </p:blipFill>
        <p:spPr>
          <a:xfrm>
            <a:off x="826920" y="2924280"/>
            <a:ext cx="3600720" cy="2136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erste Papiermaschine"/>
          <p:cNvPicPr/>
          <p:nvPr/>
        </p:nvPicPr>
        <p:blipFill>
          <a:blip r:embed="rId2"/>
          <a:stretch/>
        </p:blipFill>
        <p:spPr>
          <a:xfrm>
            <a:off x="4716360" y="2852640"/>
            <a:ext cx="3816360" cy="2238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4481640" y="28335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116000" y="404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VIII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we Francji  Nikolas  Louis  Robert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wynalazł maszynę papiernicz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uruchom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ienie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 w Jeziornie</a:t>
            </a: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budowana STARA PAPIE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PAPIERNIA_66"/>
          <p:cNvPicPr/>
          <p:nvPr/>
        </p:nvPicPr>
        <p:blipFill>
          <a:blip r:embed="rId1"/>
          <a:stretch/>
        </p:blipFill>
        <p:spPr>
          <a:xfrm>
            <a:off x="2268360" y="2206800"/>
            <a:ext cx="5183280" cy="34606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Maszyna Donkina"/>
          <p:cNvPicPr/>
          <p:nvPr/>
        </p:nvPicPr>
        <p:blipFill>
          <a:blip r:embed="rId1"/>
          <a:stretch/>
        </p:blipFill>
        <p:spPr>
          <a:xfrm>
            <a:off x="1258920" y="2205000"/>
            <a:ext cx="6769080" cy="2568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61400" y="404640"/>
            <a:ext cx="83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 Bryan Dankin zbudował maszyn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papierniczą </a:t>
            </a:r>
            <a:br>
              <a:rPr sz="2400"/>
            </a:b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-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990033"/>
                </a:solidFill>
                <a:latin typeface="Arial Unicode MS"/>
                <a:ea typeface="Arial Unicode MS"/>
              </a:rPr>
              <a:t>XIX wiek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–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zastosowanie komputerów</a:t>
            </a:r>
            <a:r>
              <a:rPr b="0" lang="pl-PL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4" descr="Współczesna maszyna papiernicza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940360" y="1844640"/>
            <a:ext cx="2054160" cy="221616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  <p:sp>
        <p:nvSpPr>
          <p:cNvPr id="141" name="Rectangle 7"/>
          <p:cNvSpPr/>
          <p:nvPr/>
        </p:nvSpPr>
        <p:spPr>
          <a:xfrm>
            <a:off x="7096680" y="42210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66"/>
                </a:solidFill>
                <a:latin typeface="Arial"/>
              </a:rPr>
              <a:t>papier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Sterowanie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71640" y="2708280"/>
            <a:ext cx="4111560" cy="218448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Arial Black"/>
              </a:rPr>
              <a:t>Papier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Materiał w postaci cienkich arkuszy lub wstęgi, otrzymywany ze spilśnionych włókien roślinnych z odpowiednimi dodat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600720" cy="2852640"/>
          </a:xfrm>
          <a:prstGeom prst="rect">
            <a:avLst/>
          </a:prstGeom>
          <a:ln w="28440">
            <a:solidFill>
              <a:srgbClr val="cccc9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8:35:42Z</dcterms:created>
  <dc:creator>Marek Więcław</dc:creator>
  <dc:description/>
  <dc:language>en-US</dc:language>
  <cp:lastModifiedBy>Dorota</cp:lastModifiedBy>
  <dcterms:modified xsi:type="dcterms:W3CDTF">2013-08-13T10:04:56Z</dcterms:modified>
  <cp:revision>55</cp:revision>
  <dc:subject/>
  <dc:title>Slajd 1</dc:title>
</cp:coreProperties>
</file>