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40B-003F-4C0A-BA7D-FD8373AE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A3B-6366-464E-82FE-4FFB85B9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070-824C-4B64-97B5-D9D365C9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49E-F0D2-4517-BDB9-61CF0364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CAAB-84F1-4389-A4FE-B0761560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F4E3-630E-45FC-B8B6-40D32BD6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CA4B-C895-4A77-A7B7-8982717B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1341-A13C-47AC-8ED7-1F4F630B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9E03-8C24-4BED-85F8-76414F8E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F2E6-82A7-40F5-AD72-E7AC1148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1531-5AC5-454B-B50C-C4408C51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64E-6A35-45C8-9AE9-27A3500D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E2C5-2A16-44B9-8DE8-11A4DB3A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FBEE-D736-4E37-A992-8CC4BA1E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6EF1-D048-4F8D-A814-BFC47D12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B981-EDC0-4578-A503-0F2EB96C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1978-CC65-4CC1-A537-0622E401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DB1-0259-4C60-A611-1EC8EFAC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B34-1257-4078-8F07-15234331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384-5243-429D-98D2-FA10BDF2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617-10E8-4AFC-88B3-10C60830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A60-B7F2-407B-80B1-654ADE57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E58-5AFF-4FF7-ABE6-29DEC6E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DC0-8173-4B85-8292-E100F691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F269-3883-40F1-A515-E63919E1444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5068-6854-4724-A1DC-D276046EADC3}" type="slidenum">
              <a:rPr b="0" lang="pl-P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333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700" spc="-1" strike="noStrike">
                <a:solidFill>
                  <a:srgbClr val="ffffcc"/>
                </a:solidFill>
                <a:latin typeface="Arial"/>
              </a:rPr>
              <a:t>ISTRUKCJA OBSŁUGI kuchenki mikrofalowej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10. Po wyjęciu żywności wyłącz kuchenkę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39640" y="3284280"/>
            <a:ext cx="2592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5" descr="cb58c2cf62002c20fdf5109141d191b3"/>
          <p:cNvPicPr/>
          <p:nvPr/>
        </p:nvPicPr>
        <p:blipFill>
          <a:blip r:embed="rId1"/>
          <a:stretch/>
        </p:blipFill>
        <p:spPr>
          <a:xfrm>
            <a:off x="1258920" y="2276640"/>
            <a:ext cx="6719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11. Gdy po podgrzaniu żywności kuchenka będzie brudna </a:t>
            </a:r>
            <a:br>
              <a:rPr sz="4000"/>
            </a:b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przetrzyj ją od środka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5" descr="9979"/>
          <p:cNvPicPr/>
          <p:nvPr/>
        </p:nvPicPr>
        <p:blipFill>
          <a:blip r:embed="rId1"/>
          <a:stretch/>
        </p:blipFill>
        <p:spPr>
          <a:xfrm>
            <a:off x="684360" y="3860640"/>
            <a:ext cx="3357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12. Moja opinia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Uważam, że kuchenka mikrofalowa  jest bardzo przydatna w kuchni -ponieważ dzięki niej można szybko przygotować ciepły posiłek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rostokąt 1"/>
          <p:cNvSpPr/>
          <p:nvPr/>
        </p:nvSpPr>
        <p:spPr>
          <a:xfrm>
            <a:off x="2292480" y="5373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aeaea"/>
                </a:solidFill>
                <a:latin typeface="Verdana"/>
              </a:rPr>
              <a:t>Dziękuję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To jest kuchenka mikrofalow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19640" y="2420640"/>
            <a:ext cx="158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5002-1"/>
          <p:cNvPicPr/>
          <p:nvPr/>
        </p:nvPicPr>
        <p:blipFill>
          <a:blip r:embed="rId1"/>
          <a:stretch/>
        </p:blipFill>
        <p:spPr>
          <a:xfrm>
            <a:off x="1692360" y="1728720"/>
            <a:ext cx="59752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dawniej i dziś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049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Kiedyś kuchenka mikrofalowa była wyznacznikiem luksusu i bogactwa, dziś znaczna część gospodarstw domowych posiada kuchenkę mikrofalową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Arial"/>
              </a:rPr>
              <a:t>na początek - ostrzeżen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24000" y="1599840"/>
            <a:ext cx="986472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ffff29"/>
                </a:solidFill>
                <a:uFillTx/>
                <a:latin typeface="Bodoni MT"/>
              </a:rPr>
              <a:t>PROMIENIOWANIE MIKROFALOWE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ależy unikać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Bodoni MT"/>
              </a:rPr>
              <a:t>NAPROMIENIOWANI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Bodoni MT"/>
              </a:rPr>
              <a:t>Z GENERATORA MIKROFALOWEGO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Kolejne kroki jak należy postępować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5" descr="ANd9GcTJv3ppg_l4eJpYsktYqzEpELdm8h8_3mONArUmndcXi5xvOD060MSLUvSkjg"/>
          <p:cNvPicPr/>
          <p:nvPr/>
        </p:nvPicPr>
        <p:blipFill>
          <a:blip r:embed="rId1"/>
          <a:stretch/>
        </p:blipFill>
        <p:spPr>
          <a:xfrm>
            <a:off x="2987640" y="3402000"/>
            <a:ext cx="3456000" cy="3138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70956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1. Włożyć wtyczkę do gniazdka elektrycznego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2. Po włożeniu żywności do odpowiedniego naczynia ustaw na </a:t>
            </a:r>
            <a:r>
              <a:rPr b="0" lang="pl-PL" sz="4000" spc="-1" strike="noStrike" u="sng">
                <a:solidFill>
                  <a:srgbClr val="ffffcc"/>
                </a:solidFill>
                <a:uFillTx/>
                <a:latin typeface="Arial"/>
              </a:rPr>
              <a:t>szklanym</a:t>
            </a: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 talerzu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6" descr="zdj_5f25b58075d0a9b2438b74f6b349bb97"/>
          <p:cNvPicPr/>
          <p:nvPr/>
        </p:nvPicPr>
        <p:blipFill>
          <a:blip r:embed="rId1"/>
          <a:stretch/>
        </p:blipFill>
        <p:spPr>
          <a:xfrm>
            <a:off x="1619280" y="3059280"/>
            <a:ext cx="56894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3. Przy użyciu pokręteł regulacji możemy ustawić żądaną moc mikrofal i czas 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00000" y="2852280"/>
            <a:ext cx="2087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5" descr="f06"/>
          <p:cNvPicPr/>
          <p:nvPr/>
        </p:nvPicPr>
        <p:blipFill>
          <a:blip r:embed="rId1"/>
          <a:stretch/>
        </p:blipFill>
        <p:spPr>
          <a:xfrm>
            <a:off x="1979640" y="2565360"/>
            <a:ext cx="464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4. Kuchenka rozpoczyna pracę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Pamiętaj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Verdana"/>
              </a:rPr>
              <a:t>nie wolno stać przy włączonej mikrofalów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5" descr="656882MD11471Gris"/>
          <p:cNvPicPr/>
          <p:nvPr/>
        </p:nvPicPr>
        <p:blipFill>
          <a:blip r:embed="rId1"/>
          <a:stretch/>
        </p:blipFill>
        <p:spPr>
          <a:xfrm>
            <a:off x="395280" y="3284640"/>
            <a:ext cx="4905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Arial"/>
              </a:rPr>
              <a:t>5. Kuchenka wyłączy się automatycznie i wtedy można wyjąć żywność z kuchenki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76720" y="2565360"/>
            <a:ext cx="15112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5" descr="piekarnik_parowy_Electrolux_aranzacja_2"/>
          <p:cNvPicPr/>
          <p:nvPr/>
        </p:nvPicPr>
        <p:blipFill>
          <a:blip r:embed="rId1"/>
          <a:stretch/>
        </p:blipFill>
        <p:spPr>
          <a:xfrm>
            <a:off x="1619280" y="2109960"/>
            <a:ext cx="56167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6:08:32Z</dcterms:created>
  <dc:creator>Dorota</dc:creator>
  <dc:description/>
  <dc:language>en-US</dc:language>
  <cp:lastModifiedBy>Dorota</cp:lastModifiedBy>
  <dcterms:modified xsi:type="dcterms:W3CDTF">2013-08-14T08:49:35Z</dcterms:modified>
  <cp:revision>7</cp:revision>
  <dc:subject/>
  <dc:title>Instrukcja obsługi mikrofalówki</dc:title>
</cp:coreProperties>
</file>