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17.wmf" ContentType="image/x-wmf"/>
  <Override PartName="/ppt/media/image9.png" ContentType="image/png"/>
  <Override PartName="/ppt/media/image8.wmf" ContentType="image/x-wmf"/>
  <Override PartName="/ppt/media/image33.wmf" ContentType="image/x-wmf"/>
  <Override PartName="/ppt/media/image13.wmf" ContentType="image/x-wmf"/>
  <Override PartName="/ppt/media/image14.wmf" ContentType="image/x-wmf"/>
  <Override PartName="/ppt/media/image6.png" ContentType="image/png"/>
  <Override PartName="/ppt/media/image11.gif" ContentType="image/gif"/>
  <Override PartName="/ppt/media/image34.wmf" ContentType="image/x-wmf"/>
  <Override PartName="/ppt/media/image7.wmf" ContentType="image/x-wmf"/>
  <Override PartName="/ppt/media/image12.png" ContentType="image/png"/>
  <Override PartName="/ppt/media/image29.png" ContentType="image/png"/>
  <Override PartName="/ppt/media/image32.wmf" ContentType="image/x-wmf"/>
  <Override PartName="/ppt/media/image10.png" ContentType="image/png"/>
  <Override PartName="/ppt/media/image5.wmf" ContentType="image/x-wmf"/>
  <Override PartName="/ppt/media/image4.png" ContentType="image/png"/>
  <Override PartName="/ppt/media/image30.png" ContentType="image/png"/>
  <Override PartName="/ppt/media/image3.jpeg" ContentType="image/jpeg"/>
  <Override PartName="/ppt/media/image2.png" ContentType="image/png"/>
  <Override PartName="/ppt/media/image25.png" ContentType="image/png"/>
  <Override PartName="/ppt/media/image31.wmf" ContentType="image/x-wmf"/>
  <Override PartName="/ppt/media/image1.wmf" ContentType="image/x-wmf"/>
  <Override PartName="/ppt/media/image15.wmf" ContentType="image/x-wmf"/>
  <Override PartName="/ppt/media/image16.wmf" ContentType="image/x-wmf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3010-BEA2-4085-85A0-378E2A450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5646-5887-4C89-817F-D0C56C9D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D19782-506C-4FC0-9E7B-3C26FB6A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D61BB7-492C-446F-AF5A-F9C554C9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3B16DD-D767-429F-888D-F2F2A855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E661B9-DC3B-464E-9054-76FA2EDE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9FF807-C92C-4216-952E-2D070266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C794D2-7E3B-4DAF-A98A-DB23F121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1B64CA-7C4A-4D7C-8ED6-48C29B3B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21D3C2-03B9-43D9-B01B-AA982E84E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5968DE-6167-4EE3-9C7D-D0A77934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E0E19E-A24B-44A9-A407-4D5C74652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F399-32C8-4BF6-BFE6-7D86AA7A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265D6E-1196-48FB-AE57-155666C9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546A78-F459-4371-8313-6D44BE98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DE108F-BE40-472E-A574-1703C4A3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104945-6E20-40CB-BA55-129144E6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7DD440-66DC-4F27-88C3-1D4CC69A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DD98B9-EDE2-413E-8E63-39F880EB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113FF0-7E02-4408-9D9C-35F7FF97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A5E421-C1AD-4E44-A125-40ECFCA0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7D02A9-4830-4F44-92A1-DD202429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783530-D76F-4FC2-B92C-FE75886A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604E-0D24-42A7-9307-15599A30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6033C2-03C7-4290-BB41-D7B5C6EED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48205-64E0-46BE-A43C-8D727296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61256-B562-4DEB-8909-24AA22F3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BCD94-8E02-49A4-9BF1-FDA94F75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BA02B-D289-4E2F-83A3-D0384F42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2E117-586B-4692-B456-5EC87E5B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0E837-BD61-4760-8455-DBADB4D7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AF5B4-D8C7-4DFA-BA87-F167330E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2243F-5A88-40BD-85FD-058F15F6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34C52-279F-415E-8518-FDFB59BA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50DC-EB8A-4D0E-B152-449DDC03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5AB2F-E343-4B6C-A386-ABA50BA7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65DE9-6740-4D4E-8ECC-F700C4583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45CD9-135D-43BC-8947-8CFC9BE6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4F11B4-F6BC-4256-BBCD-B0DBD9A4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4F0174-1EB9-4F6E-8D17-3E28193B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84EE61-D493-4BF1-B398-DFE2C902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277392-C4B7-45A4-B9F9-04C308B2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DFBD3F-2D57-413C-8800-E735A5B3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8672E3-2D69-46C6-BF71-4DDF0682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163974-7D71-44B9-BF97-54B92C81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9204-47F0-4E85-8DEA-76010E7D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D2641D-9887-4251-87E0-A91D85C2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A83296-D81D-4BC6-859B-4E75D066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76FC4C-BEF9-4B29-B9C8-6F3A42B6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603161-EB25-4F61-9AB3-23BAF4531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081F7F-8FAD-4AAD-807D-190C9E228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F202-1FA3-4A5B-90CC-5F4F0CD0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0C3B-FE72-4DA7-8EA8-77D8E723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2B74-E183-441B-8C13-347B159C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8588-0044-4F07-9864-37E00647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AFDE-82BE-435B-BF87-47ADCC80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83E6-A82F-48F4-92D7-92232109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0273-E8A6-4913-820F-8FB41064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9616-A5EB-4251-8D6E-7A6CD985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B457-08D9-4DCB-B05F-CE8266C7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CC50-FCB4-463C-B8E1-DD75736B9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7676-68F9-46F7-9299-77C52506C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F25BE-E775-4C6A-BAA3-26309D9AB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69020-D5BA-494E-B316-F3E2769B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C70CF-A636-4BF1-9D5D-EE1BE7BF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32D2C-57E3-4476-89DC-4EF391E2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45F26-B8B4-4AA9-ABE4-004373B7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21EB-B92B-490C-A53E-30324BAE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851DC-61F8-4DED-B8EF-801C2651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B51EA-80B0-42FB-B9F5-246FC638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CA216-D5D7-4E7B-A191-96A58E55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7781E-F6FD-4535-9380-77F596EE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25165-DC5A-4D70-AA97-5657E888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27A57-A617-4D52-A229-35056E30D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BFA33-9CE0-4719-A78B-8C8874C62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30BD2-FB86-44FA-A4C3-063CC519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F84F4-D908-425F-ACAA-97A4930F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21FA9-1597-45D5-9C75-B5A779A4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EE92-39C7-4A36-B8BA-EBFDE7E5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30F7B-431D-4CDE-9243-936C464A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D4349-A4F4-40E3-963D-D842B925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FF208-D805-471B-BAF7-2CABD51D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EDE49-BBDF-40D0-916F-38803E0A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83358-75EB-43D8-9036-A11EA64B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F19EB-199B-4AC7-BE9B-27CA688E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54876-11C7-4267-92F9-E009770E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73D29-D80A-4B28-A1B0-0C22DAAC4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B7233-5B2D-48A8-96B8-E064FEE6F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2368D-B5D6-4D7C-9691-7182FC84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C8F3-45A9-4B9B-BEFA-CC684695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D76E0-4A56-40E4-BDCD-0B0D503A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8DD85-9424-4DEE-A63C-9738DFCF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7C70C-E7B3-4E4A-9CBC-A27FA541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3FA6F-0484-4768-BA43-C449424A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BED62-FB21-4563-B3F1-9A994E94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1800B-7A30-4F83-B68D-2A422B70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8A5AA-69CD-4064-A3B5-5BA060FD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88547-1079-43E8-92B6-5A1AAFD7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0335D-60B9-4020-9E3A-84E874AC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3FCF7-75A6-4273-B326-15123B5C7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EB2C-A31F-4238-B3E1-6C1E7974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C4855-88E3-4754-BF4D-73411C58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C8F13-B34C-4290-B99B-E7963DEC4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DB837-700A-418B-B28E-999348D2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B9567-BEE6-498D-A85A-3D5C031F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97DF6-6FD7-42F1-B30F-C333B3FF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29D94-583C-4E1D-971B-22A9E930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9E23B-2B42-49B1-A7C1-FA1935D9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22D07-1C9B-4E79-B05A-9FF8A581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E935F-1F4A-480F-80DB-CF5455D1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4E772-501C-458A-93FE-3EF6ED1F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0359-E2F3-4465-9082-A9DDC214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000D6-BED7-45CB-BEBF-888AE597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30423-D061-4709-AECB-EACF707EF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90E64-1C21-4CC0-BEB7-310133B58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CD39E-A4AA-48DF-B56B-8F19BA240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02DC1-3D9C-4214-A6B5-52DEE827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B6EEC-C1AF-4C96-9A54-A60D4F1E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DC406-A33F-418B-996F-128BFE0E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3F79A-6655-4550-AE32-8CBB9CE5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B2155-1EEF-4FE6-8872-BA5476F1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7E766-35EC-4478-9EC1-BE66AC50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9C1D-E06B-412B-9619-3D4087E6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64995-DD3F-4BCA-95D6-68C43BB4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C9900-72E5-42A5-AF83-C26F8FAF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3B818-4AEC-4A15-BC59-B0B42AD2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70581-8151-437B-9690-8C8B27774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7DF84-E5A9-4D22-BCA0-704E1965F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60C2D-4A6D-4F1C-AC26-E6A12682C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609F3-2050-4DF6-83EF-8D6A9D79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EAA12-4486-49F2-99E5-92E69456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A51C0-9B98-409A-B3AA-911D9125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BF182-417B-4C5B-8CFB-512C52DC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93C9-0924-43AC-943A-37764FB0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C8851-0829-4BE7-BB95-F4EE916E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20148-0641-4C4A-8EAF-2F3B4D2D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91C1E-CC68-4CBE-83F6-CD1383B2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573E6-C840-4CD2-ACCF-1150E32F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4338B-FA0C-4EEF-981F-2DD9C740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C7B2E-AB02-4742-A4D6-1B058C659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44CF6-9B96-4E9A-A8FC-6DF6EE057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76C1F1-2194-42F9-B8E3-75A519C94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AA729B-AAFA-4827-9130-33B1E4F9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5457B8-BBA1-4F13-94DC-4E239099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rostokąt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rostokąt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rostokąt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rostokąt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rostokąt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Łącznik prosty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44A2-8D3B-4B79-9E96-33FCC2454E9A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Łącznik prosty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rostokąt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rostokąt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rostokąt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Prostokąt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rostokąt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rostokąt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rostokąt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Elipsa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Elipsa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rostokąt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CAFF-ABF6-4852-9121-3422DBEB9E58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rostokąt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rostokąt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rostokąt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Prostokąt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Prostokąt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rostokąt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Łącznik prosty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B752-8ACE-4DDF-B3DE-D129AF27C8F4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rostokąt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rostokąt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rostokąt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rostokąt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Prostokąt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Prostokąt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Łącznik prosty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Elipsa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Elipsa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A1A8-C55E-44DB-83D0-9D023B31ECA0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rostokąt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rostokąt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rostokąt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rostokąt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rostokąt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Łącznik prosty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rostokąt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Elipsa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Elipsa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6C7D-3A7C-4BD3-8979-6DBF7154D2FE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rostokąt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rostokąt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rostokąt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rostokąt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rostokąt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rostokąt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Łącznik prosty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C24C-4A99-4467-827E-A1133D1DBC75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rostokąt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rostokąt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rostokąt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rostokąt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rostokąt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rostokąt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rostokąt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rostokąt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Łącznik prosty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Elipsa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Elipsa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F529-3259-4D47-A821-AD08AF18F961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rostokąt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rostokąt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rostokąt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rostokąt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rostokąt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rostokąt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Łącznik prosty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Łącznik prosty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A1FA-51E1-4E6F-A610-3E2B8D871FC7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Łącznik prosty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rostokąt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rostokąt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rostokąt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rostokąt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rostokąt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rostokąt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Łącznik prosty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rostokąt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Elipsa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Elipsa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4271-903B-41BE-9E53-CA3C44725C09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rostokąt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rostokąt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rostokąt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rostokąt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rostokąt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Prostokąt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Łącznik prosty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55CD-FF92-43AB-9A01-064E2C8F1726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rostokąt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rostokąt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rostokąt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rostokąt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Prostokąt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Prostokąt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9805-707B-41D9-9CE1-2CDBD5148C52}" type="slidenum"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rostokąt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rostokąt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rostokąt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rostokąt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rostokąt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rostokąt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rostokąt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Łącznik prosty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Elipsa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Elipsa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Prostokąt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4021-7660-42E1-B2BF-0387CC4B669D}" type="slidenum">
              <a:rPr b="0" lang="pl-P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d16349"/>
                </a:solidFill>
                <a:latin typeface="Arial"/>
                <a:ea typeface="Arial"/>
              </a:rPr>
              <a:t>Pojęcia z zakresu ruchu drogowego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Picture 2" descr="C:\Users\Marzena\AppData\Local\Microsoft\Windows\Temporary Internet Files\Content.IE5\2RQKC6FH\MC900432435[1].wmf"/>
          <p:cNvPicPr/>
          <p:nvPr/>
        </p:nvPicPr>
        <p:blipFill>
          <a:blip r:embed="rId1"/>
          <a:stretch/>
        </p:blipFill>
        <p:spPr>
          <a:xfrm>
            <a:off x="2556000" y="2924280"/>
            <a:ext cx="407664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Pobocze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Pobocze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jest to część drogi przylegając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do jezdni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Może służyć do ruchu pieszych, postoju pojazdów itp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6" name="Picture 11" descr="C:\Users\Marzena\AppData\Local\Microsoft\Windows\Temporary Internet Files\Content.IE5\2RQKC6FH\MC900432323[1].wmf"/>
          <p:cNvPicPr/>
          <p:nvPr/>
        </p:nvPicPr>
        <p:blipFill>
          <a:blip r:embed="rId1"/>
          <a:stretch/>
        </p:blipFill>
        <p:spPr>
          <a:xfrm>
            <a:off x="5357880" y="2432160"/>
            <a:ext cx="253044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Pojazd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68360" y="162864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Pojaz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to środek transportu przeznaczon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do poruszania się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po drodz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Picture 3" descr="C:\Users\Krzysztof\AppData\Local\Microsoft\Windows\Temporary Internet Files\Content.IE5\1JWH5UXW\MC900150140[1].wmf"/>
          <p:cNvPicPr/>
          <p:nvPr/>
        </p:nvPicPr>
        <p:blipFill>
          <a:blip r:embed="rId1"/>
          <a:stretch/>
        </p:blipFill>
        <p:spPr>
          <a:xfrm>
            <a:off x="5724360" y="1628640"/>
            <a:ext cx="3006720" cy="21099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4" descr="C:\Users\Krzysztof\AppData\Local\Microsoft\Windows\Temporary Internet Files\Content.IE5\1F4AEUNC\MC900432433[1].wmf"/>
          <p:cNvPicPr/>
          <p:nvPr/>
        </p:nvPicPr>
        <p:blipFill>
          <a:blip r:embed="rId2"/>
          <a:stretch/>
        </p:blipFill>
        <p:spPr>
          <a:xfrm>
            <a:off x="6012000" y="4292640"/>
            <a:ext cx="2305080" cy="210816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2" descr="C:\Users\Marzena\AppData\Local\Microsoft\Windows\Temporary Internet Files\Content.IE5\G1EVWPQT\MC900320520[1].wmf"/>
          <p:cNvPicPr/>
          <p:nvPr/>
        </p:nvPicPr>
        <p:blipFill>
          <a:blip r:embed="rId3"/>
          <a:stretch/>
        </p:blipFill>
        <p:spPr>
          <a:xfrm>
            <a:off x="2050920" y="4221000"/>
            <a:ext cx="279108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Pojazd uprzywilejowany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Pojazd uprzywilejowany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pojazd wysyłający jednocześnie sygnały świetlne 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w postaci niebieskich świateł błyskowych i sygnały dźwiękowe o zmiennym toni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4" name="Picture 2" descr="C:\Users\Krzysztof\AppData\Local\Microsoft\Windows\Temporary Internet Files\Content.IE5\1JWH5UXW\MC900433640[1].wmf"/>
          <p:cNvPicPr/>
          <p:nvPr/>
        </p:nvPicPr>
        <p:blipFill>
          <a:blip r:embed="rId1"/>
          <a:stretch/>
        </p:blipFill>
        <p:spPr>
          <a:xfrm>
            <a:off x="6372360" y="4076640"/>
            <a:ext cx="2322360" cy="165600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3" descr="C:\Users\Krzysztof\AppData\Local\Microsoft\Windows\Temporary Internet Files\Content.IE5\1F4AEUNC\MC900388716[1].wmf"/>
          <p:cNvPicPr/>
          <p:nvPr/>
        </p:nvPicPr>
        <p:blipFill>
          <a:blip r:embed="rId2"/>
          <a:stretch/>
        </p:blipFill>
        <p:spPr>
          <a:xfrm>
            <a:off x="3708360" y="4005360"/>
            <a:ext cx="2533680" cy="17272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4" descr="C:\Users\Krzysztof\AppData\Local\Microsoft\Windows\Temporary Internet Files\Content.IE5\1F4AEUNC\MC900320998[1].wmf"/>
          <p:cNvPicPr/>
          <p:nvPr/>
        </p:nvPicPr>
        <p:blipFill>
          <a:blip r:embed="rId3"/>
          <a:stretch/>
        </p:blipFill>
        <p:spPr>
          <a:xfrm>
            <a:off x="324000" y="4005360"/>
            <a:ext cx="29685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Przejazd dla rowerzystów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24000" y="1599840"/>
            <a:ext cx="39607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Przejazd dla rowerzystów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to część jezdni, torowiska lub drogi dla rowerów przeznaczona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do przejeżdżania przez rowerzystów oraz oznaczona odpowiednimi znakami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9" name="Picture 2" descr="Plik:Znak D-6a.svg"/>
          <p:cNvPicPr/>
          <p:nvPr/>
        </p:nvPicPr>
        <p:blipFill>
          <a:blip r:embed="rId1"/>
          <a:stretch/>
        </p:blipFill>
        <p:spPr>
          <a:xfrm>
            <a:off x="4427640" y="184464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Przejście dla pieszych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178920" y="1599840"/>
            <a:ext cx="38163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Przejście dla pieszych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to część jezdni, torowiska lub drogi dla rowerów przeznaczona 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do ruchu pieszych oraz oznaczona odpowiednimi znakami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2" name="Picture 2" descr="Plik:Znak D-6.svg"/>
          <p:cNvPicPr/>
          <p:nvPr/>
        </p:nvPicPr>
        <p:blipFill>
          <a:blip r:embed="rId1"/>
          <a:stretch/>
        </p:blipFill>
        <p:spPr>
          <a:xfrm>
            <a:off x="3995640" y="155736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Przystanek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250920" y="1600200"/>
            <a:ext cx="590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Przystanek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jest to miejsce zatrzymywania się pojazdów transportu publicznego. Przystanki oznaczone są odpowiednimi znakami drogowymi.</a:t>
            </a:r>
            <a:br>
              <a:rPr sz="2700"/>
            </a:b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D-15 Przystanek autobusowy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D-16 Przystanek trolejbusowy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D-17 Przystanek tramwajow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5" name="Picture 2" descr="Plik:Znak D-15.svg"/>
          <p:cNvPicPr/>
          <p:nvPr/>
        </p:nvPicPr>
        <p:blipFill>
          <a:blip r:embed="rId1"/>
          <a:stretch/>
        </p:blipFill>
        <p:spPr>
          <a:xfrm>
            <a:off x="6804000" y="260280"/>
            <a:ext cx="1584360" cy="19814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4" descr="Plik:Znak D-16.svg"/>
          <p:cNvPicPr/>
          <p:nvPr/>
        </p:nvPicPr>
        <p:blipFill>
          <a:blip r:embed="rId2"/>
          <a:stretch/>
        </p:blipFill>
        <p:spPr>
          <a:xfrm>
            <a:off x="6775560" y="2421000"/>
            <a:ext cx="1612800" cy="20160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6" descr="Plik:Znak D-17.svg"/>
          <p:cNvPicPr/>
          <p:nvPr/>
        </p:nvPicPr>
        <p:blipFill>
          <a:blip r:embed="rId3"/>
          <a:stretch/>
        </p:blipFill>
        <p:spPr>
          <a:xfrm>
            <a:off x="6775560" y="4581360"/>
            <a:ext cx="16128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Rondo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5684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Rondo-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krzyżowanie dróg 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o ruchu okrężnym,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na którym pojazdy poruszają się wokół centralnej wysepki 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w kierunku przeciwnym do ruchu wskazówek zegara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0" name="Picture 2" descr="C:\Users\Krzysztof\AppData\Local\Microsoft\Windows\Temporary Internet Files\Content.IE5\1F4AEUNC\MC900432435[1].wmf"/>
          <p:cNvPicPr/>
          <p:nvPr/>
        </p:nvPicPr>
        <p:blipFill>
          <a:blip r:embed="rId1"/>
          <a:stretch/>
        </p:blipFill>
        <p:spPr>
          <a:xfrm>
            <a:off x="4780080" y="1146240"/>
            <a:ext cx="368748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Ruch kierowany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Ruch kierowany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- ruch otwierany i zamykany 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za pomocą sygnalizacji świetlnej albo przez uprawnioną osobę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3" name="Picture 2" descr="C:\Users\Krzysztof\AppData\Local\Microsoft\Windows\Temporary Internet Files\Content.IE5\1F4AEUNC\MC900433882[1].png"/>
          <p:cNvPicPr/>
          <p:nvPr/>
        </p:nvPicPr>
        <p:blipFill>
          <a:blip r:embed="rId1"/>
          <a:stretch/>
        </p:blipFill>
        <p:spPr>
          <a:xfrm>
            <a:off x="2050920" y="2997360"/>
            <a:ext cx="2449800" cy="24476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3" descr="C:\Users\Krzysztof\AppData\Local\Microsoft\Windows\Temporary Internet Files\Content.IE5\C9O4IJX0\MC900221911[1].wmf"/>
          <p:cNvPicPr/>
          <p:nvPr/>
        </p:nvPicPr>
        <p:blipFill>
          <a:blip r:embed="rId2"/>
          <a:stretch/>
        </p:blipFill>
        <p:spPr>
          <a:xfrm>
            <a:off x="5624640" y="2781360"/>
            <a:ext cx="20667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Skrzyżowanie dróg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24000" y="141300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Skrzyżowanie dró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jest miejscem, gdzie następuje przecinanie się kierunków ruchu, jak również miejscem, gdzie występuje zmiana dotychczasowego kierunku jazd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krzyżowaniem nie jest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dwupoziomowe przecięcie dróg,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przecięcie drogi gruntowej z drogą twardą,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wjazd do posesji,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przecięcie drogi twardej z drogą do np. zajezdni tramwajowej lub autobusowej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7" name="Picture 3" descr="C:\Users\Krzysztof\AppData\Local\Microsoft\Windows\Temporary Internet Files\Content.IE5\CTDX1DGY\MC900299751[1].wmf"/>
          <p:cNvPicPr/>
          <p:nvPr/>
        </p:nvPicPr>
        <p:blipFill>
          <a:blip r:embed="rId1"/>
          <a:stretch/>
        </p:blipFill>
        <p:spPr>
          <a:xfrm>
            <a:off x="6804000" y="3213000"/>
            <a:ext cx="20955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300" spc="-1" strike="noStrike">
                <a:solidFill>
                  <a:srgbClr val="7b9899"/>
                </a:solidFill>
                <a:latin typeface="Georgia"/>
              </a:rPr>
              <a:t>Skrzyżowanie dróg równorzędnych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24000" y="1483920"/>
            <a:ext cx="8496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Skrzyżowanie dróg równorzędnych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jest to skrzyżowanie dróg bez określonego pierwszeństwa na których kierunki jazdy oddzielone są podwójną linią ciągłą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Skrzyżowaniem dróg równorzędnych jest również każde inne połączenie dróg na których w żaden sposób nie jest określone pierwszeństwo przejazdu za pomocą znaków drogowych bądź sygnalizacji świetlnej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0" name="Picture 5" descr="http://t0.gstatic.com/images?q=tbn:ANd9GcRgimtzhZ0X5ak2bMLQVpDvM9JTz5EdeApFeUWM3qu84UV2vxYw"/>
          <p:cNvPicPr/>
          <p:nvPr/>
        </p:nvPicPr>
        <p:blipFill>
          <a:blip r:embed="rId1"/>
          <a:stretch/>
        </p:blipFill>
        <p:spPr>
          <a:xfrm>
            <a:off x="3708360" y="5013360"/>
            <a:ext cx="180036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Autostrada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6840" y="1599840"/>
            <a:ext cx="5267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Autostrada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to droga dwujezdniowa oznaczona za pomocą odpowiednich znaków, na której nie dopuszcza się ruchu poprzecznego,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przeznaczona wyłącznie do ruchu pojazdów samochodowych, które potrafią rozwinąć prędkość od 40km/h na równej, poziomej nawierzchni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0" name="Picture 2" descr="http://www.automotopedia.pl/pliki/ed/Infrastruktura%20drogowa/406px-znak_d9.svg.png"/>
          <p:cNvPicPr/>
          <p:nvPr/>
        </p:nvPicPr>
        <p:blipFill>
          <a:blip r:embed="rId1"/>
          <a:stretch/>
        </p:blipFill>
        <p:spPr>
          <a:xfrm>
            <a:off x="5940360" y="1413000"/>
            <a:ext cx="1941480" cy="24476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4" descr="http://t3.gstatic.com/images?q=tbn:ANd9GcQ5AMM7EHI71d3XXuDTtTeKugl4ouev-Ep9njUdYWYAGo4RPzafHBSdly6o"/>
          <p:cNvPicPr/>
          <p:nvPr/>
        </p:nvPicPr>
        <p:blipFill>
          <a:blip r:embed="rId2"/>
          <a:stretch/>
        </p:blipFill>
        <p:spPr>
          <a:xfrm>
            <a:off x="6084720" y="4005360"/>
            <a:ext cx="19051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Strefa zamieszkania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57200" y="1599840"/>
            <a:ext cx="4114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Arial"/>
                <a:ea typeface="Arial"/>
              </a:rPr>
              <a:t>Strefa zamieszkania</a:t>
            </a:r>
            <a:br>
              <a:rPr sz="2500"/>
            </a:br>
            <a:r>
              <a:rPr b="1" lang="pl-PL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500" spc="-1" strike="noStrike">
                <a:solidFill>
                  <a:srgbClr val="000000"/>
                </a:solidFill>
                <a:latin typeface="Arial"/>
                <a:ea typeface="Arial"/>
              </a:rPr>
              <a:t>to obszar obejmujący drogi publiczne i inne drogi, na którym obowiązują szczególne zasady ruchu drogowego, a wjazdy i wyjazdu oznaczone są odpowiednimi znakami.</a:t>
            </a:r>
            <a:br>
              <a:rPr sz="2500"/>
            </a:br>
            <a:br>
              <a:rPr sz="2500"/>
            </a:br>
            <a:r>
              <a:rPr b="0" lang="pl-PL" sz="2500" spc="-1" strike="noStrike">
                <a:solidFill>
                  <a:srgbClr val="000000"/>
                </a:solidFill>
                <a:latin typeface="Arial"/>
                <a:ea typeface="Arial"/>
              </a:rPr>
              <a:t>D-40 Strefa zamieszkania</a:t>
            </a:r>
            <a:br>
              <a:rPr sz="2500"/>
            </a:br>
            <a:r>
              <a:rPr b="0" lang="pl-PL" sz="2500" spc="-1" strike="noStrike">
                <a:solidFill>
                  <a:srgbClr val="000000"/>
                </a:solidFill>
                <a:latin typeface="Arial"/>
                <a:ea typeface="Arial"/>
              </a:rPr>
              <a:t>D-41 Koniec strefy zamieszkania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3" name="Picture 2" descr="Plik:Znak D-40.svg"/>
          <p:cNvPicPr/>
          <p:nvPr/>
        </p:nvPicPr>
        <p:blipFill>
          <a:blip r:embed="rId1"/>
          <a:stretch/>
        </p:blipFill>
        <p:spPr>
          <a:xfrm>
            <a:off x="4791240" y="1628640"/>
            <a:ext cx="3692520" cy="2160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" descr="Plik:Znak D-41.svg"/>
          <p:cNvPicPr/>
          <p:nvPr/>
        </p:nvPicPr>
        <p:blipFill>
          <a:blip r:embed="rId2"/>
          <a:stretch/>
        </p:blipFill>
        <p:spPr>
          <a:xfrm>
            <a:off x="4819680" y="3933720"/>
            <a:ext cx="370044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Szczególna ostrożność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394920" y="1599840"/>
            <a:ext cx="5040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Szczególna ostrożność -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polega na zwiększeniu uwagi i dostosowaniu zachowania uczestników ruchu do warunków i sytuacji zmieniających się na drodze, w stopniu umożliwiającym odpowiednio szybkie reagowani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7" name="Picture 1" descr="C:\Users\Marzena\AppData\Local\Microsoft\Windows\Temporary Internet Files\Content.IE5\LW2ZZFIX\MC900078790[1].wmf"/>
          <p:cNvPicPr/>
          <p:nvPr/>
        </p:nvPicPr>
        <p:blipFill>
          <a:blip r:embed="rId1"/>
          <a:stretch/>
        </p:blipFill>
        <p:spPr>
          <a:xfrm>
            <a:off x="5576760" y="2997360"/>
            <a:ext cx="2781360" cy="2663640"/>
          </a:xfrm>
          <a:prstGeom prst="rect">
            <a:avLst/>
          </a:prstGeom>
          <a:ln w="0">
            <a:noFill/>
          </a:ln>
        </p:spPr>
      </p:pic>
      <p:sp>
        <p:nvSpPr>
          <p:cNvPr id="678" name="pole tekstowe 5"/>
          <p:cNvSpPr/>
          <p:nvPr/>
        </p:nvSpPr>
        <p:spPr>
          <a:xfrm>
            <a:off x="7380360" y="3284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Uczestnik ruchu drogowego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250560" y="1599840"/>
            <a:ext cx="88930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Uczestnik ruchu drogowego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pieszy, kierujący,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a także inne osoby przebywające w pojeździe 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lub na pojeździe znajdującym się na drodz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1" name="Picture 3" descr="C:\Users\Krzysztof\AppData\Local\Microsoft\Windows\Temporary Internet Files\Content.IE5\C9O4IJX0\MC900360920[1].wmf"/>
          <p:cNvPicPr/>
          <p:nvPr/>
        </p:nvPicPr>
        <p:blipFill>
          <a:blip r:embed="rId1"/>
          <a:stretch/>
        </p:blipFill>
        <p:spPr>
          <a:xfrm>
            <a:off x="5940360" y="3068640"/>
            <a:ext cx="2600280" cy="187308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2" descr="C:\Users\Krzysztof\AppData\Local\Microsoft\Windows\Temporary Internet Files\Content.IE5\1JWH5UXW\MC900338450[1].wmf"/>
          <p:cNvPicPr/>
          <p:nvPr/>
        </p:nvPicPr>
        <p:blipFill>
          <a:blip r:embed="rId2"/>
          <a:stretch/>
        </p:blipFill>
        <p:spPr>
          <a:xfrm>
            <a:off x="395280" y="3500280"/>
            <a:ext cx="2459160" cy="180036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4" descr="C:\Users\Krzysztof\AppData\Local\Microsoft\Windows\Temporary Internet Files\Content.IE5\1JWH5UXW\MC900197731[1].wmf"/>
          <p:cNvPicPr/>
          <p:nvPr/>
        </p:nvPicPr>
        <p:blipFill>
          <a:blip r:embed="rId3"/>
          <a:stretch/>
        </p:blipFill>
        <p:spPr>
          <a:xfrm>
            <a:off x="2938320" y="4724280"/>
            <a:ext cx="315288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Chodnik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Chodnik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jest to część drogi przeznaczona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do ruchu pieszych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4" name="Picture 1" descr="C:\Users\Marzena\AppData\Local\Microsoft\Windows\Temporary Internet Files\Content.IE5\EFW7420A\MC900432323[1].wmf"/>
          <p:cNvPicPr/>
          <p:nvPr/>
        </p:nvPicPr>
        <p:blipFill>
          <a:blip r:embed="rId1"/>
          <a:stretch/>
        </p:blipFill>
        <p:spPr>
          <a:xfrm>
            <a:off x="4780080" y="2414520"/>
            <a:ext cx="315108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Droga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6840" y="1599840"/>
            <a:ext cx="78598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Droga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 to miejsce przeznaczone do ruchu 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i postoju pojazdów oraz do ruchu pieszych (łącznie z poboczem, a także z torowiskiem pojazdów szynowych znajdujących się </a:t>
            </a:r>
            <a:br>
              <a:rPr sz="2700"/>
            </a:b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w obrębie pasa drogowego)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1" descr="C:\Users\Marzena\AppData\Local\Microsoft\Windows\Temporary Internet Files\Content.IE5\G1EVWPQT\MC900434207[1].wmf"/>
          <p:cNvPicPr/>
          <p:nvPr/>
        </p:nvPicPr>
        <p:blipFill>
          <a:blip r:embed="rId1"/>
          <a:stretch/>
        </p:blipFill>
        <p:spPr>
          <a:xfrm>
            <a:off x="2340000" y="4221000"/>
            <a:ext cx="431496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300" spc="-1" strike="noStrike">
                <a:solidFill>
                  <a:srgbClr val="ff0000"/>
                </a:solidFill>
                <a:latin typeface="Arial"/>
                <a:ea typeface="Arial"/>
              </a:rPr>
              <a:t>Droga ekspresow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Droga ekspresow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jest to droga jedn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i dwujezdniowa oznaczona za pomocą odpowiednich znaków, przeznaczona wyłącznie do ruchu pojazdów samochodowych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0" name="Picture 2" descr="Plik:Znak D7.svg"/>
          <p:cNvPicPr/>
          <p:nvPr/>
        </p:nvPicPr>
        <p:blipFill>
          <a:blip r:embed="rId1"/>
          <a:stretch/>
        </p:blipFill>
        <p:spPr>
          <a:xfrm>
            <a:off x="5175360" y="1700280"/>
            <a:ext cx="369576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Jezdnia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" y="1600200"/>
            <a:ext cx="83628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Georgia"/>
              </a:rPr>
              <a:t>Jezdnia</a:t>
            </a:r>
            <a:r>
              <a:rPr b="0" lang="pl-PL" sz="2500" spc="-1" strike="noStrike">
                <a:solidFill>
                  <a:srgbClr val="000000"/>
                </a:solidFill>
                <a:latin typeface="Georgia"/>
              </a:rPr>
              <a:t> to część drogi przeznaczona do ruchu pojazdów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Georgia"/>
              </a:rPr>
              <a:t>Ze względu na kierunek poruszania się pojazdów jezdnie mogą być dwukierunkowe lub jednokierunkowe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Georgia"/>
              </a:rPr>
              <a:t>Jezdnia dwukierunkowa przeznaczona jest do ruchu pojazdów w obu przeciwnych kierunkach, natomiast jezdnia jednokierunkowa - tylko do ruchu w jednym określonym kierunku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Picture 7" descr="C:\Users\Marzena\AppData\Local\Microsoft\Windows\Temporary Internet Files\Content.IE5\G1EVWPQT\MC900429615[1].wmf"/>
          <p:cNvPicPr/>
          <p:nvPr/>
        </p:nvPicPr>
        <p:blipFill>
          <a:blip r:embed="rId1"/>
          <a:stretch/>
        </p:blipFill>
        <p:spPr>
          <a:xfrm>
            <a:off x="3203640" y="4505400"/>
            <a:ext cx="280836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Kierujący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Kierujący to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osoba, która kieruje pojazdem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oraz osoba, która prowadzi zorganizowaną grupę pieszych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6" name="Picture 4" descr="C:\Users\Marzena\AppData\Local\Microsoft\Windows\Temporary Internet Files\Content.IE5\EFW7420A\MC900216706[1].wmf"/>
          <p:cNvPicPr/>
          <p:nvPr/>
        </p:nvPicPr>
        <p:blipFill>
          <a:blip r:embed="rId1"/>
          <a:stretch/>
        </p:blipFill>
        <p:spPr>
          <a:xfrm>
            <a:off x="2484360" y="3645000"/>
            <a:ext cx="3187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Obszar zabudowany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23640" y="1600200"/>
            <a:ext cx="439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Obszar zabudowan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jest to obszar oznaczony znakami: </a:t>
            </a:r>
            <a:br>
              <a:rPr sz="2800"/>
            </a:b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D-42 Obszar zabudowany </a:t>
            </a:r>
            <a:br>
              <a:rPr sz="2800"/>
            </a:b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D-43 Koniec obszaru zabudowaneg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9" name="Picture 2" descr="Plik:Znak d42.svg"/>
          <p:cNvPicPr/>
          <p:nvPr/>
        </p:nvPicPr>
        <p:blipFill>
          <a:blip r:embed="rId1"/>
          <a:stretch/>
        </p:blipFill>
        <p:spPr>
          <a:xfrm>
            <a:off x="4716360" y="2565360"/>
            <a:ext cx="4048200" cy="161928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4" descr="Plik:Znak d43.svg"/>
          <p:cNvPicPr/>
          <p:nvPr/>
        </p:nvPicPr>
        <p:blipFill>
          <a:blip r:embed="rId2"/>
          <a:stretch/>
        </p:blipFill>
        <p:spPr>
          <a:xfrm>
            <a:off x="4716360" y="4653000"/>
            <a:ext cx="39718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  <a:ea typeface="Arial"/>
              </a:rPr>
              <a:t>Pas ruchu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Pas ruchu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każdy z podłużnych pasów jezdni wystarczający do ruchu jednego rzędu pojazdów wielośladowych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3" name="Picture 3" descr="C:\Users\Marzena\AppData\Local\Microsoft\Windows\Temporary Internet Files\Content.IE5\G1EVWPQT\MM900286792[2].gif"/>
          <p:cNvPicPr/>
          <p:nvPr/>
        </p:nvPicPr>
        <p:blipFill>
          <a:blip r:embed="rId1"/>
          <a:stretch/>
        </p:blipFill>
        <p:spPr>
          <a:xfrm>
            <a:off x="5148360" y="2708280"/>
            <a:ext cx="296712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0T16:31:49Z</dcterms:created>
  <dc:creator>Krzysztof</dc:creator>
  <dc:description/>
  <dc:language>en-US</dc:language>
  <cp:lastModifiedBy>Marzena</cp:lastModifiedBy>
  <dcterms:modified xsi:type="dcterms:W3CDTF">2013-07-31T14:00:26Z</dcterms:modified>
  <cp:revision>25</cp:revision>
  <dc:subject/>
  <dc:title>Pojęcia z zakresu ruchu drogowego</dc:title>
</cp:coreProperties>
</file>