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09A-F83E-4E9A-8666-583C2057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967-D4E8-41B7-83F0-770DF4E6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939-F866-4F17-B823-75A9A986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2F9-0AAB-4246-8166-7913C452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FF83-644F-4E7D-B696-099183AA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DB13-2F59-40B7-B9BE-3E28CB1F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1FDA-6204-4FF8-B0B9-49C4C76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8CCF-7F42-4DBF-99D7-3154C75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20B-5FBC-416B-BAFC-2E5031BB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CB38-CD70-4562-8D78-A6905AB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684D-BBAE-40AD-902E-BDB593E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602-14BE-4A4B-B2DB-CB4A4063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1C65-445A-4C15-93B9-7148E40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4FB-E85D-4569-AE77-EEF41930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692-206B-4A85-A282-519ED0F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ADD-0471-4FA8-BE95-520194FD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C977-6A5D-4967-BE97-80403FC8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71FF-C9DF-4344-9498-14DD08F3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74B40-E8B4-4B2D-AC18-A152C934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B279-6F40-45F5-88C4-7B0992A2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ADFC-4450-44C6-9C05-27DED8D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E9E4-760C-426A-9807-F530A6F1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F2B-EFDB-4F8A-9D88-9FB5A29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674D-2CE6-4959-BB91-F6B714A7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1561-2738-4648-B870-898D8CA9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06B6-C066-45EE-9E66-C5DF9EE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9503-9E25-494B-801C-E6FBA9A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FBDA-5396-4132-A2F3-DF48986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4B99B-B36A-461C-BC5E-7BF04045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E33A-91B9-43BC-B2DB-89F9C892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D97E-10AB-44B3-AEA8-9CAE7401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67C2-94EE-4079-868B-D9DF239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07DF-37F1-4742-BBB4-4F1FD824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ACA-5C75-432A-BF67-FE93DA7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33F9-9E83-4037-8BF4-52C5B1A4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FB02-A983-4D5F-BB0A-F6A9F04F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5AF7-5B0B-415B-AA7F-1DF3DB2A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92179-21F9-4672-8BF1-93D1451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375E-9561-456C-A625-D434491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E5E4-F63F-46EC-962E-7109F4D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E3647-6453-46D5-B88C-6C4F3A0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11E4-E4B5-40CF-8E4A-370D6688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B8C7-F10C-4487-A9E6-2A3973B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8E30-6EF3-43D3-A854-2BDE2B1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791-024E-46F5-8161-51E9276F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C238-3917-47EF-B278-24A8E02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D91D-17E3-4F1F-B4F8-B9449F0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1A3C-2568-4C35-A15E-B3A3C4E4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640E-DBD9-4455-96CE-4D05F042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EED49-628F-44DE-A194-305F24C9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A27E-83FD-46B8-B171-430E750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99092-EAF3-455F-86A8-E60FD69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BD56B-6BE0-4032-8A8C-54AB92A7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47C41-85D9-4F86-AC7E-C24E3281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604E-CD82-4B2E-8A12-883930B0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200-0B39-46A0-A546-632BAF5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24E5-FFA1-4E52-8951-BA5B9133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7BC45-BDE0-43DC-835B-7D302043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A445-8EC7-4896-9320-B71DC784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7A89-03BB-49A7-B49C-445E44B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E9AC-CFE2-4076-A01B-048D232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0F2DB-5D98-422C-9E4C-13B7A5FF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DBA44-983F-4930-918E-4939F51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0715-C13D-4791-BFAD-30E981F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D295-8D6D-42EE-B095-16FF8AED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4302-E381-4CE9-B556-B23D5461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38C-AA6A-4B2A-B268-5C7C33E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3F9D-831D-42E1-9846-EF6B776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968E-F24A-48B1-982B-C7420AD1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23C6-8AE0-452F-BFD7-2F41644E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B383-CC35-4F46-94C6-A80BFD6C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08C4-EC25-4EE4-BB22-B1A28661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75536-E37B-45EE-8DFA-47F0C71C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0B768-48CD-4B8B-963D-7F277ADA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CACF8-9D24-402B-957F-46C9D943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EA0B8-D08F-42E2-909C-A991F7F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778C-01F4-4B90-AA28-7588C3D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5F7-E37E-436E-BA27-F6E58EE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E696-40E9-4741-AEE1-68F28A1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FF29-519A-47BD-8BFC-E982F29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18FA-7344-41CE-9AFC-BBC6EFC4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C9B9-D29D-421D-B936-656F556D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A7D14-979C-466D-94B9-0469D0D9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54E-9982-44A1-AA3F-2C8CBDD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6E23-58E7-4580-B019-928294EA665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FC4-2FE0-4AF0-A45F-76D5C174352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745-614C-498F-AE54-023C1BAC19B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04F-F954-4299-9233-628C8DA8490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78B2-128C-4242-87AC-66A5FB45298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ED2-64BB-4EF9-B5BC-32685F5492C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BCE5-2C17-4828-86E4-A108919452A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ndara"/>
              </a:rPr>
              <a:t>Historia PRALKI 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971640" y="1988640"/>
            <a:ext cx="730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Kijanka do prania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- narzędzie używane do prania, zazwyczaj w otwartych wodach (w rzece lub jeziorze) w postaci kija lub krótkiej deszczułki (albo drewnianej łopatki). Pranie polega na wielokrotnym uderzaniu obficie zmoczonej wodą sztuki odzieży kijanką i stałym spłukiwaniu jej wodą. Cząsteczki brudu wybijane są mechanicznie spomiędzy włókien tkaniny, a następnie wypłukiwane. Niekiedy podczas prania dodawano niewielkie ilości mazi otrzymywanej przez prażenie mieszanki popiołu roślinnego i łoju - poprzedników mydł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ijanka do prani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71640" y="1916280"/>
            <a:ext cx="7308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a 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tarka)</a:t>
            </a: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 - narzędzie wykorzystywane do prania odzieży; konstrukcja w postaci blachy falistej (lub innej sfałdowanej powierzchni - np. szklanej albo plastikowej), zwykle umocowanej w drewnianej lub metalowej ramie. Tara była zazwyczaj umieszczona w balii, osoba piorąca ręcznie przesuwała (tarła) namaczaną bieliznę po powierzchni tary. Tara praktycznie wyszła z użycia po pojawieniu się pralk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73e87"/>
                </a:solidFill>
                <a:latin typeface="Candara"/>
              </a:rPr>
              <a:t>Falista powierzchnia tary pocierana ręką lub jakimś przedmiotem wydaje charakterystyczny odgłos, co wykorzystywane jest przez niektóre zespoły muzyczne (najczęściej wykonujące muzykę country) do wzbogacenia brzmienia wykonywanych utworów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Tar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133360"/>
            <a:ext cx="773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Pierwszą pralkę zbudował Amerykanin James King w 1851 r. Jej działanie opierało się na wykorzystaniu pary, a zasada działania tej pralki znacznie odbiegała od naśladowania ręcznych czynności. Pralki napędzane elektrycznie zaczęto konstruować w 1899. Jedną z pierwszych była pralka z bębnem z emaliowanego drewna, która została zbudowana w 1907 roku przez Alvę Fishera. Przez kilka następnych lat ta pralka była udoskonalana poprzez poziome lub pionowe ustawienie bębna, zmianę szybkości obrotów, itp. W Polsce przez wiele lat popularna była pralka Frania. Z czasem pralki półautomatyczne zostały wyparte przez automatyczne. Pralka z 1934 roku sama utrzymywała stałą temperaturę wody, dozowała proszek i płukała. W 1937 roku w USA zbudowano pierwszą programowaną pralkę automatyczną – wykonującą takie czynności jak: pranie, płukanie, odwirowanie oraz czasowe zaprogramowanie czynności, ustawienia temperatury wody czy szybkości obrotów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Pralka automatyczn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640" y="1628280"/>
            <a:ext cx="8785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           </a:t>
            </a:r>
            <a:r>
              <a:rPr b="1" lang="pl-PL" sz="2800" spc="-1" strike="noStrike">
                <a:solidFill>
                  <a:srgbClr val="073e87"/>
                </a:solidFill>
                <a:latin typeface="Candara"/>
              </a:rPr>
              <a:t>TARA                    KIJANKA         Pralka </a:t>
            </a:r>
            <a:r>
              <a:rPr b="1" lang="pl-PL" sz="2600" spc="-1" strike="noStrike">
                <a:solidFill>
                  <a:srgbClr val="073e87"/>
                </a:solidFill>
                <a:latin typeface="Candara"/>
              </a:rPr>
              <a:t>automatyczna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GALERIA ZDJĘĆ PRA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11280" y="2247840"/>
            <a:ext cx="2415960" cy="3097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276720" y="2224080"/>
            <a:ext cx="2447640" cy="3097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80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5:04:30Z</dcterms:created>
  <dc:creator>Dorota</dc:creator>
  <dc:description/>
  <dc:language>en-US</dc:language>
  <cp:lastModifiedBy>Dorota</cp:lastModifiedBy>
  <dcterms:modified xsi:type="dcterms:W3CDTF">2013-08-19T08:45:41Z</dcterms:modified>
  <cp:revision>12</cp:revision>
  <dc:subject/>
  <dc:title>HISTORIA PRALKI</dc:title>
</cp:coreProperties>
</file>