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jpeg" ContentType="image/jpeg"/>
  <Override PartName="/ppt/media/image4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jpeg" ContentType="image/jpeg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7A40-0E72-4F32-8379-6A2AE4169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17EA-0CFF-4A33-9E6A-752DF451F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0A60-8D01-4CD5-A2DE-81A046264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3296-6886-45CE-9DAE-9FC3DD470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572FF-C366-4808-8854-ED0D0E6E8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B4F4C-3D52-44A0-A118-FA8D6FBCD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56D4C-3361-4E06-AB07-E1811602A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0309D-728A-4D0B-9453-A29C8E94B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51D7C-3859-4768-9CB3-0950C0109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BFA40-EA71-4BA6-9AD8-19428AC17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90659-117D-452F-94F5-50571A3B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B05B-434C-4EEA-9C9E-DED03B804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C95F0-9ED4-4479-883F-31143881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EE8FD-6E95-40D7-ACF2-A58D6C11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BCB7B-4F09-44B1-9DFD-97BC1ACDA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0A56A-254C-4555-B4B1-A30C83113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C2EE7-1D6D-4420-8D1E-0FCBA6834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32EC3-A2B3-4E83-860D-45D6E883E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10ADC-9E94-48A9-AEEC-4514638B5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A74A8-7053-46C9-ABD7-A8CDCF338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BB18E-8F66-414E-A42B-E4B75798C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F0562-6558-4DDE-B568-786CD21DA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D00A-D633-47F5-ADB8-E8BB1369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CF7A3-AD4D-4334-A150-CDB43101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42C82-A3B2-4731-8F1A-E2885EE9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7E56E-F3CB-46AC-BD67-31E849884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456EC-F205-4C63-A1C2-252D9005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C3131-1FEF-4BF6-A751-A403DA34F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DDC7C-03D0-4DC5-980B-36D567D65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C7755-CD63-4CBC-9F20-598B2EE93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2B205-5AC2-48F8-8D81-A4C01C270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9E8C3-5DFE-422D-90A4-508CEE793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711D0-BBDE-473B-A4C6-148805013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A5E5-6E58-4DC2-8CE5-B8FA2F28B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8707F-BBB6-470C-A81A-0A747D6CF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A676C-E531-482C-B326-3064F7057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8AEA7-BAD4-4419-9788-90AEAFBDF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016A2-0C4B-4725-9B71-5FEE9B07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3261E-A81F-49ED-8806-C628D9C6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B44FA-7648-45C8-A833-03DDFDA1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3B126-FCDA-4B22-A840-EF6CA8A95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1733A-0524-47BA-801D-8D2980FF1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DF4B9-E2E2-4530-BEE0-6BBA7B89D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C3CDF-E60B-4A48-96BC-3718556FD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A364-CFAD-48DE-9AE2-21A82DDB6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DBB25-264C-418E-B176-CBC9D2958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F8C40-B362-4178-B480-6CB243C55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7A938-C56B-4B8D-919C-9CF991B2D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170A6-6DF7-47C2-A239-58316561A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A3751-F8D4-40E3-B00B-CEFD9293A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4B200-4426-41C8-B0A1-81C4D568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D6DC4-CE5D-44F0-B601-CEEB3BF0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F82F9-445A-46FE-8C30-29285C4C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2EA2E-3E25-4083-8ADB-1471CAC66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EF3CF-BA5D-4E36-8BFF-620E2C40E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0703-EFC4-4AD9-8939-61436D8A6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E5E25-BF28-497F-B3DE-0D17B1FE3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0C30-20FD-43CA-80A9-B95D750A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C765-5D04-4FB8-B685-4BED6E0D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0CFD-4D78-4A74-87FB-09C58CD6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Prostokąt zaokrąglony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AEFD4-95FF-4294-8076-AD86509EEE9B}" type="slidenum">
              <a:rPr b="0" lang="pl-P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rostokąt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Prostokąt zaokrąglony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Prostokąt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Prostokąt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Prostokąt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71D74-2B3C-41E2-B904-B5780767A393}" type="slidenum">
              <a:rPr b="0" lang="pl-P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rostokąt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Prostokąt zaokrąglony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Prostokąt zaokrąglony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Prostokąt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Prostokąt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Prostokąt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2A78D-161A-4915-8E70-75A2579291F2}" type="slidenum">
              <a:rPr b="0" lang="pl-P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rostokąt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Prostokąt zaokrąglony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Prostokąt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Prostokąt zaokrąglony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F368A-765D-4EA9-9864-3AE69E044BA5}" type="slidenum">
              <a:rPr b="0" lang="pl-P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rostokąt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Prostokąt zaokrąglony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Prostokąt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Prostokąt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Prostokąt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2D82D-897C-4241-8C1E-2E3A1F701D6A}" type="slidenum">
              <a:rPr b="0" lang="pl-P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ffffff"/>
                </a:solidFill>
                <a:latin typeface="Franklin Gothic Book"/>
              </a:rPr>
              <a:t>Historia papieru</a:t>
            </a:r>
            <a:endParaRPr b="0" lang="en-US" sz="6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29" name="Picture 2" descr="C:\Users\Krzysztof\AppData\Local\Microsoft\Windows\Temporary Internet Files\Content.IE5\C9O4IJX0\MC900288976[2].wmf"/>
          <p:cNvPicPr/>
          <p:nvPr/>
        </p:nvPicPr>
        <p:blipFill>
          <a:blip r:embed="rId1"/>
          <a:stretch/>
        </p:blipFill>
        <p:spPr>
          <a:xfrm>
            <a:off x="2556000" y="3429000"/>
            <a:ext cx="44719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  <a:ea typeface="Arial"/>
              </a:rPr>
              <a:t>Przed wynalezieniem papieru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24000" y="1196640"/>
            <a:ext cx="7488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Perpetua"/>
              </a:rPr>
              <a:t> 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Głównym powodem, dla którego zaczęto szukać materiałów,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na których można było pisać, była potrzeba zapisywania przez ludzkość znaków i obrazów, często mających znaczenie magiczne.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Najstarszymi znakami są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malowidła naskaln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sprzed ok. 13 tys. lat p.n.e.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Pierwotne obrazki najstarszego pisma chińskiego przekształciły się przez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przepisywanie pędzelkiem na tkaninach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lub materiałach z łyka w chińskie znaki pisarskie.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Najstarsze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pismo obrazkow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Mezopotamii zmieniło się w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pismo klinow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powstające przez odciskanie symboli w mokrej glinie - było ono znane we wszystkich kulturach starożytnego Wschodu.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Niegarbowane skóry zwierzęce z owiec, kóz i osłów potraktowane wapnem były w średniowieczu najważniejszym nośnikiem pisma w europejskim kręgu kulturowym. 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Przeróbka łatwo dostępnych włókien roślinnych na materiał do pisania w formie arkuszy doprowadziła do powstania pierwszych poprzedników papieru. 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2" name="Picture 2" descr="C:\Users\Krzysztof\AppData\Local\Microsoft\Windows\Temporary Internet Files\Content.IE5\1F4AEUNC\MC900078753[1].wmf"/>
          <p:cNvPicPr/>
          <p:nvPr/>
        </p:nvPicPr>
        <p:blipFill>
          <a:blip r:embed="rId1"/>
          <a:stretch/>
        </p:blipFill>
        <p:spPr>
          <a:xfrm flipH="1">
            <a:off x="7236000" y="260280"/>
            <a:ext cx="1535040" cy="17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42920" y="33336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  <a:ea typeface="Arial"/>
              </a:rPr>
              <a:t>Pierwsze technologie papiernicze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476000" y="1268280"/>
            <a:ext cx="7343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Najważniejsza różnica między poprzednikami papieru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a prawdziwym papierem polega na procesie produkcyjnym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oraz użytych materiałach. 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ierwszy papier przygotowywano w następujący sposób: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przez ubijanie i gotowanie odpowiednio przygotowanych włókien, najczęściej z różnych roślin przygotowuje się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z dodatkiem wody rzadką zawiesinę z włókien (tzw. zarobę), która jest następnie wybierana sitem. Osadzające się na sicie włókna tworzą arkusz papieru, który po wyschnięciu jest gotowy do użycia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Sposób ten wynaleziono na Dalekim Wschodzie.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Jeszcze dziś robi się ten najstarszy i najprymitywniejszy rodzaj papieru w Nepalu, Bhutanie i innych krajach himalajskich: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papier lany,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papier czerpany. 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5" name="Picture 3" descr="C:\Users\Krzysztof\AppData\Local\Microsoft\Windows\Temporary Internet Files\Content.IE5\1JWH5UXW\MC900078625[1].wmf"/>
          <p:cNvPicPr/>
          <p:nvPr/>
        </p:nvPicPr>
        <p:blipFill>
          <a:blip r:embed="rId1"/>
          <a:stretch/>
        </p:blipFill>
        <p:spPr>
          <a:xfrm>
            <a:off x="179280" y="1197000"/>
            <a:ext cx="111456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0000"/>
                </a:solidFill>
                <a:latin typeface="Arial"/>
                <a:ea typeface="Arial"/>
              </a:rPr>
              <a:t>Papier chiński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23640" y="1447920"/>
            <a:ext cx="77770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Perpetua"/>
              </a:rPr>
              <a:t> 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Kolebką papieru jest Daleki Wschód, Chiny.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Arial"/>
                <a:ea typeface="Arial"/>
              </a:rPr>
              <a:t>Tam już od dawna używano jedwabiu do pisania, był on jednak bardzo drogi. I dopiero odkryto , że włókna konopne - wtedy tani</a:t>
            </a:r>
            <a:br>
              <a:rPr sz="1900"/>
            </a:br>
            <a:r>
              <a:rPr b="0" lang="pl-PL" sz="1900" spc="-1" strike="noStrike">
                <a:solidFill>
                  <a:srgbClr val="000000"/>
                </a:solidFill>
                <a:latin typeface="Arial"/>
                <a:ea typeface="Arial"/>
              </a:rPr>
              <a:t> i łatwy do uzyskania materiał na odzież - przygotowane wedle tej samej metody dają dobry papier. </a:t>
            </a:r>
            <a:br>
              <a:rPr sz="1900"/>
            </a:br>
            <a:br>
              <a:rPr sz="1900"/>
            </a:br>
            <a:r>
              <a:rPr b="0" lang="pl-PL" sz="1900" spc="-1" strike="noStrike">
                <a:solidFill>
                  <a:srgbClr val="000000"/>
                </a:solidFill>
                <a:latin typeface="Arial"/>
                <a:ea typeface="Arial"/>
              </a:rPr>
              <a:t>Z roku 105 n.e. pochodzi pierwsza pisemna wzmianka o sztuce robienia papieru. Chiński minister Cai (Ts'ai) Lun opisał sposób produkcji papieru: z włókien łyka morwy, odpadów konopi, starych sieci rybackich i szmat przez ubijanie z dodatkiem wody </a:t>
            </a:r>
            <a:br>
              <a:rPr sz="1900"/>
            </a:br>
            <a:r>
              <a:rPr b="0" lang="pl-PL" sz="1900" spc="-1" strike="noStrike">
                <a:solidFill>
                  <a:srgbClr val="000000"/>
                </a:solidFill>
                <a:latin typeface="Arial"/>
                <a:ea typeface="Arial"/>
              </a:rPr>
              <a:t>w kamiennym moździerzu robiono papkę, rozcieńczano a następnie czerpano sitem, prasowano, suszono na słońcu i w końcu wygładzano kamieniem. </a:t>
            </a:r>
            <a:br>
              <a:rPr sz="1900"/>
            </a:br>
            <a:br>
              <a:rPr sz="1900"/>
            </a:br>
            <a:r>
              <a:rPr b="0" lang="pl-PL" sz="1900" spc="-1" strike="noStrike">
                <a:solidFill>
                  <a:srgbClr val="000000"/>
                </a:solidFill>
                <a:latin typeface="Arial"/>
                <a:ea typeface="Arial"/>
              </a:rPr>
              <a:t>Ta ulepszona technika pozwalała na produkcję bardzo </a:t>
            </a:r>
            <a:br>
              <a:rPr sz="1900"/>
            </a:br>
            <a:r>
              <a:rPr b="0" lang="pl-PL" sz="1900" spc="-1" strike="noStrike">
                <a:solidFill>
                  <a:srgbClr val="000000"/>
                </a:solidFill>
                <a:latin typeface="Arial"/>
                <a:ea typeface="Arial"/>
              </a:rPr>
              <a:t>delikatnego papieru, który zaliczał się do najlepszych. </a:t>
            </a:r>
            <a:br>
              <a:rPr sz="1900"/>
            </a:br>
            <a:br>
              <a:rPr sz="1900"/>
            </a:br>
            <a:r>
              <a:rPr b="0" lang="pl-PL" sz="1900" spc="-1" strike="noStrike">
                <a:solidFill>
                  <a:srgbClr val="000000"/>
                </a:solidFill>
                <a:latin typeface="Arial"/>
                <a:ea typeface="Arial"/>
              </a:rPr>
              <a:t>Początkowo mocno strzeżona sztuka wytwarzania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1900" spc="-1" strike="noStrike">
                <a:solidFill>
                  <a:srgbClr val="000000"/>
                </a:solidFill>
                <a:latin typeface="Arial"/>
                <a:ea typeface="Arial"/>
              </a:rPr>
              <a:t>papieru rozszerzała się z Chin przez Koreę 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Arial"/>
                <a:ea typeface="Arial"/>
              </a:rPr>
              <a:t>do Japonii, gdzie się dalej rozwijała. 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8" name="Picture 2" descr="C:\Users\Krzysztof\AppData\Local\Microsoft\Windows\Temporary Internet Files\Content.IE5\1F4AEUNC\MC900405724[1].wmf"/>
          <p:cNvPicPr/>
          <p:nvPr/>
        </p:nvPicPr>
        <p:blipFill>
          <a:blip r:embed="rId1"/>
          <a:stretch/>
        </p:blipFill>
        <p:spPr>
          <a:xfrm>
            <a:off x="5796000" y="260280"/>
            <a:ext cx="1246320" cy="10857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C:\Users\Krzysztof\AppData\Local\Microsoft\Windows\Temporary Internet Files\Content.IE5\C9O4IJX0\MC900404475[1].wmf"/>
          <p:cNvPicPr/>
          <p:nvPr/>
        </p:nvPicPr>
        <p:blipFill>
          <a:blip r:embed="rId2"/>
          <a:stretch/>
        </p:blipFill>
        <p:spPr>
          <a:xfrm>
            <a:off x="6750000" y="4221000"/>
            <a:ext cx="239400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0000"/>
                </a:solidFill>
                <a:latin typeface="Arial"/>
                <a:ea typeface="Arial"/>
              </a:rPr>
              <a:t>Papier w Japonii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50560" y="1268280"/>
            <a:ext cx="74898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Gdy popyt na papier rósł, papiernicy japońscy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 szukali nowych surowców i odkryli </a:t>
            </a:r>
            <a:r>
              <a:rPr b="1" i="1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gampi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 rośliny miejscowe z rodziny wawrzynkowatych. Włókna </a:t>
            </a:r>
            <a:r>
              <a:rPr b="0" i="1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gampi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 są miękkie i z natury lepkie. By je użyć do produkcji papieru trzeba było wymyślić inną technikę, ale produkt końcowy był piękny i trwały. W ten sposób powstał z podrobionego chińskiego papieru samodzielny japoński produkt - </a:t>
            </a:r>
            <a:r>
              <a:rPr b="1" i="1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washi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 - papier japoński. To określenie jest używane dziś do wszystkich rodzajów ręcznie czerpanego papieru japońskiego, niekiedy również dla szczególnych rodzajów papieru produkowanego maszynowo. </a:t>
            </a:r>
            <a:br>
              <a:rPr sz="2200"/>
            </a:b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Obok użycia na księgi religijne i oficjalne dokumenty, papier służył wtedy również do prywatnej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korespondencji i poezji, i przyczyniał się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 tym samym do rozwoju literatury.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 Rozkwitała własna japońska kultura,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wolna od panujących dotąd wpływów chińskich. 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2" name="Picture 2" descr="C:\Users\Krzysztof\AppData\Local\Microsoft\Windows\Temporary Internet Files\Content.IE5\1F4AEUNC\MC900405832[1].wmf"/>
          <p:cNvPicPr/>
          <p:nvPr/>
        </p:nvPicPr>
        <p:blipFill>
          <a:blip r:embed="rId1"/>
          <a:stretch/>
        </p:blipFill>
        <p:spPr>
          <a:xfrm>
            <a:off x="6804000" y="189000"/>
            <a:ext cx="1757520" cy="17272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" descr="C:\Users\Krzysztof\AppData\Local\Microsoft\Windows\Temporary Internet Files\Content.IE5\1F4AEUNC\MC900200297[1].wmf"/>
          <p:cNvPicPr/>
          <p:nvPr/>
        </p:nvPicPr>
        <p:blipFill>
          <a:blip r:embed="rId2"/>
          <a:stretch/>
        </p:blipFill>
        <p:spPr>
          <a:xfrm>
            <a:off x="6300720" y="4941720"/>
            <a:ext cx="28432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  <a:ea typeface="Arial"/>
              </a:rPr>
              <a:t>Papier na Zachodzie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68360" y="981000"/>
            <a:ext cx="82072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Kilka wieków przed wyprodukowaniem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     w miejscowych papierniach papier był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  w Europie osiągalny tylko jako drogi arabski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    towar z importu. Wtedy Europejczycy używali     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przeważnie pergaminu, ale już wkrótce papier stał się 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     towarem wytwarzanym na miejscu i zastąpił drogie materiały. 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Europejska produkcja papieru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- a tym samym trzecia epoka wytwarzania papieru - wzięła swój początek w Hiszpanii. Przez Włochy, południową Francję rozszerzało się nowe rzemiosło powoli na całą Europę. Papier znalazł miejsce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w biurach, kancelariach klasztorów i miast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W trakcie rozwoju nowych technik druku papier zyskał na znaczeniu przy upowszechnianiu książek i czasopism,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bo mogły być one wydawane teraz w większych ilościach.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Różnorodność papierów dała się zauważyć w XVII i XVIII wieku w Anglii, gdy coraz więcej papierni zaczęło produkować najróżnorodniejsze rodzaje papieru, kartonu i lakierowane produkty np. karty do gry ze sklejonych razem warstw papieru. 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6" name="Picture 2" descr="C:\Users\Krzysztof\AppData\Local\Microsoft\Windows\Temporary Internet Files\Content.IE5\1F4AEUNC\MC900326946[1].wmf"/>
          <p:cNvPicPr/>
          <p:nvPr/>
        </p:nvPicPr>
        <p:blipFill>
          <a:blip r:embed="rId1"/>
          <a:stretch/>
        </p:blipFill>
        <p:spPr>
          <a:xfrm>
            <a:off x="7020000" y="189000"/>
            <a:ext cx="1660320" cy="15746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C:\Users\Krzysztof\AppData\Local\Microsoft\Windows\Temporary Internet Files\Content.IE5\CTDX1DGY\MC900281200[1].wmf"/>
          <p:cNvPicPr/>
          <p:nvPr/>
        </p:nvPicPr>
        <p:blipFill>
          <a:blip r:embed="rId2"/>
          <a:stretch/>
        </p:blipFill>
        <p:spPr>
          <a:xfrm>
            <a:off x="108000" y="620640"/>
            <a:ext cx="147780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0000"/>
                </a:solidFill>
                <a:latin typeface="Arial"/>
                <a:ea typeface="Arial"/>
              </a:rPr>
              <a:t>Papier współcześni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79280" y="1447560"/>
            <a:ext cx="6840720" cy="52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Po tym jak w pierwszej połowie XIX w. zmechanizowano wszystkie dotąd ręcznie wykonywane prace, w drugiej połowie tego wieku rozwinęła się przemysłowa produkcja surowców w oddzielnych celulozowniach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Tym samym rozdzielono wytwarzanie surowców od produkcji papieru. Napęd elektryczny zastąpił parowy i wodny.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Maszyny papiernicze, ich prędkości robocze a tym samym też zdolności produkcyjne są coraz większe. Ale rozwój nie ogranicza się tylko do względów ilościowych, lecz również jakościowych. Wymagania stawiane papierowi rosną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Porównując dzisiejszy papier ze swymi poprzednikami widzimy ogromny wzrost jakości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0" name="Picture 2" descr="C:\Users\Krzysztof\AppData\Local\Microsoft\Windows\Temporary Internet Files\Content.IE5\1JWH5UXW\MC900382576[1].jpg"/>
          <p:cNvPicPr/>
          <p:nvPr/>
        </p:nvPicPr>
        <p:blipFill>
          <a:blip r:embed="rId1"/>
          <a:stretch/>
        </p:blipFill>
        <p:spPr>
          <a:xfrm>
            <a:off x="7020000" y="3860640"/>
            <a:ext cx="1873080" cy="18720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C:\Users\Krzysztof\AppData\Local\Microsoft\Windows\Temporary Internet Files\Content.IE5\C9O4IJX0\MC900332614[1].wmf"/>
          <p:cNvPicPr/>
          <p:nvPr/>
        </p:nvPicPr>
        <p:blipFill>
          <a:blip r:embed="rId2"/>
          <a:stretch/>
        </p:blipFill>
        <p:spPr>
          <a:xfrm>
            <a:off x="6789600" y="836640"/>
            <a:ext cx="19591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0000"/>
                </a:solidFill>
                <a:latin typeface="Arial"/>
                <a:ea typeface="Arial"/>
              </a:rPr>
              <a:t>Podsumowani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914040" y="1447560"/>
            <a:ext cx="718668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Rozwój produkcji papieru od swych początków do dnia dzisiejszego jest odbiciem wynalazczości ludzkości na drodze </a:t>
            </a:r>
            <a:br>
              <a:rPr sz="2600"/>
            </a:b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od papirusu do papieru XXI w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Również w czasach nowych mediów elektronicznych, papier nie stracił na znaczeniu - wprost przeciwnie! Wymagania co do ilości i jakości będą jeszcze przez długi czas rosnąć. 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4" name="Picture 2" descr="C:\Users\Marzena\AppData\Local\Microsoft\Windows\Temporary Internet Files\Content.IE5\BBL10B36\MC900196298[1].wmf"/>
          <p:cNvPicPr/>
          <p:nvPr/>
        </p:nvPicPr>
        <p:blipFill>
          <a:blip r:embed="rId1"/>
          <a:stretch/>
        </p:blipFill>
        <p:spPr>
          <a:xfrm>
            <a:off x="6875640" y="549360"/>
            <a:ext cx="165096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6T12:23:28Z</dcterms:created>
  <dc:creator>Krzysztof</dc:creator>
  <dc:description/>
  <dc:language>en-US</dc:language>
  <cp:lastModifiedBy>Marzena</cp:lastModifiedBy>
  <dcterms:modified xsi:type="dcterms:W3CDTF">2013-08-07T16:53:47Z</dcterms:modified>
  <cp:revision>4</cp:revision>
  <dc:subject/>
  <dc:title>Historia papieru</dc:title>
</cp:coreProperties>
</file>