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CA5-CAC2-4C06-8672-7EDE170C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A5B-139C-4C57-83E2-4D2D757B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22C-787E-4C00-8B55-304B2E43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6F0-DB7E-40F1-A0C6-F0257319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00C-34A1-4A62-913B-0024E962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D24-BE39-487E-9119-8BB8EB6E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30C3-3660-4705-B7F5-4A5B8F71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C6FD-DA8F-4A07-B13F-35AD06D0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59B9-35B7-4990-9126-E0E545EC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703-A5EC-4835-A7E2-B3EE282C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3A89-D782-47D5-AD00-5024D1D2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366A-4047-41F8-B737-94FE98A5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D509-34CE-45BF-A5CC-887FD5ED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99A5-2F37-4A11-A08A-19C0B0FC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8100-ACA3-42CE-90C1-88CD3678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8A31-7D17-43B7-8F13-1229213A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E2D5-3313-4BD3-B0BD-9C5EB11A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6978-B052-48AC-8968-6B7D1E1B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53FE-CFA8-4759-B5F2-E7595968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1D55E-9A51-4BD7-ADB2-A12B2EBA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47C-52B3-42DD-9DE1-3505EB2D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94DA4-4189-4917-A25E-EF34B19D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54369-6EA7-4F45-AB9B-9C97E903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E5F91-D60D-4333-85F7-90BFF0F1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1D459-3592-4BFD-8C6F-63B716F4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6674-A5B5-43CC-96CA-98150F50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5C7A4-F896-4E61-B98B-798061C7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442E4-552E-4168-9DD8-B514BFB3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EB72A-8B2D-4B4C-8CEF-5B9D8AE6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3462-9F39-4B99-BE54-BC02A949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2B10A-EC91-46D3-A50A-1B768BCF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05A-203A-46A9-990F-114E5C26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37B5-B15C-45A2-879F-7E22EB9F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15E8A-5D1D-4AD5-A0EF-78DA0A3E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7FB6A-216F-409C-A543-63A8C2EE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0FDE5-FF5A-4C49-9B43-DE717583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3E5DC-825F-443C-B07C-4B13018C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E3125-CEC8-423E-8F63-67972B2F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C162B-C100-4B9C-897B-E117A358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A3DD2-63A3-481C-AA9B-11697BB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839DF-A424-4307-8ACD-052BEDAB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AF058-3185-4E36-8C82-7FA19A4C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EDB-6806-45CC-9136-BDD65114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60B95-1892-44BE-9FBD-F066EF45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B3E3-20E3-4267-A738-AFE0A643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EBAF4-70FC-42A2-B8D6-2ED44B95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7A4-396D-4D0C-B60C-23C330D6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5C7-0C48-4C91-92B3-78131665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027058B-8726-48A0-AADE-AC27C8464874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367C43D-AC8D-4270-AB4B-04F9654B67B3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E50604A-BA6B-44FF-8CD3-F86D171E46A7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112B794-B18B-470D-A9E8-AC56E42D3B0D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yjaśnij pojęcia: aseptyka, antyseptyka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1844280"/>
            <a:ext cx="10220400" cy="3102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Aseptyka</a:t>
            </a: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 – to niedopuszczenie drobnoustrojów chorobotwórczych do rany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Antyseptyka</a:t>
            </a: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 – to usunięcie drobnoustrojów, które dostały się do rany 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56:4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