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3CC8-965A-4057-95B4-020697680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E6A2-6CDB-40C2-B007-0D2F0734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766D-A0BC-47E4-B3CF-BCE000A54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68A6-98FA-4AD3-A19C-0E62E0719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F1A1-6BAB-4264-A74A-CCFEA63D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2131-8490-4CF1-91BB-A93D7E59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248E-B6E2-4EE9-8A93-3454D9966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5580-AC70-4582-9789-29B25624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71DD-A9BA-4E97-A72E-ACFE30E8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A744-5D7F-4A0E-98CC-2F081FE4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5B2A-A573-42B8-AB18-911C1E50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A7DB-7A95-48C0-87ED-F37E7D2B2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C0E7-9609-4696-8895-BF817ADE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A889-B40C-4B13-AE4E-681A9434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54AD1-C3FB-4E73-A85E-1C90AF32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4F6FF-6B30-404A-8648-FA14C015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EE6C-9E8F-44D5-985C-739F4D3B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826D-3030-486A-AC24-6EFD4C0CF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19DF-74E4-4961-A119-69EBCB490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24D01-494F-453B-B8C6-62F9B6373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62C1-A812-423F-B31F-AB5E4DFB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3543C-FCA8-4654-AEF3-ADE14A3F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F6FBD-7290-49FD-8B3B-B641ED65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0A6AA-C146-4F7A-9E0C-929C45CF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E82D7-81B7-4E6F-A1F0-90ADE2EE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9B35B-E921-4415-8BD0-14EEC8CF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F5991-0F6F-423C-BC80-7BB86768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35DED-3A5E-44BB-BD28-47664198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E4A12-FCE9-4A49-8CD5-A552EC63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56F20-B86A-490B-AEE6-8F315FE7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16B6A-2FCB-4E62-A246-F344752C4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BA0B-1394-4B21-9BBD-1199E7BA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3A77E-441D-48F4-A3CE-35D5E2206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404AA-E48A-4B34-A135-FF3E6B83C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6F334-9062-4D89-B5B7-F7C3798D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A3BAB-F156-4283-B849-7EEFEEE1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E06BC-7474-435B-B5E8-2CD85152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5024D-96D5-48BE-9E48-BE11D947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60492-73D5-4607-B752-130A13ED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474B1-615A-4CCD-B474-1D5AFC21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FABCE-B44F-4699-9376-B7F29BC6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1F9C5-30BD-42B5-8CF5-15A7CAC0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E1C8-F3E3-42CA-9434-2762EB60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5B861-586A-4D47-91A3-23473AD0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5B362-79CD-4B12-B061-3C18EAC55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7256F-76CD-4C70-8CCA-91AE5C02F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CA2A-4704-4938-B03A-60BAFA5F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E834-1DBF-4C49-AE1E-9CA141F3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8"/>
          <p:cNvSpPr/>
          <p:nvPr/>
        </p:nvSpPr>
        <p:spPr>
          <a:xfrm>
            <a:off x="304920" y="0"/>
            <a:ext cx="115790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92C393D6-69AA-4B73-91D8-F02DB4EFD3C0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6099E936-196F-4CEB-A5E2-3FF5AFC933DB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rostokąt 7"/>
          <p:cNvSpPr/>
          <p:nvPr/>
        </p:nvSpPr>
        <p:spPr>
          <a:xfrm>
            <a:off x="3960720" y="0"/>
            <a:ext cx="79232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54DAB991-E2F4-4B59-A9E9-B2E857D89C2D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rostokąt 7"/>
          <p:cNvSpPr/>
          <p:nvPr/>
        </p:nvSpPr>
        <p:spPr>
          <a:xfrm>
            <a:off x="2082960" y="0"/>
            <a:ext cx="8022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0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1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2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A88C31C0-533C-448C-A6FC-B032DE7E3F3D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71720" y="1498320"/>
            <a:ext cx="7008840" cy="2290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pl-PL" sz="5400" spc="-1" strike="noStrike">
                <a:solidFill>
                  <a:srgbClr val="374c81"/>
                </a:solidFill>
                <a:latin typeface="Century Gothic"/>
              </a:rPr>
              <a:t>Fiszki autokorektywne</a:t>
            </a:r>
            <a:endParaRPr b="0" lang="en-US" sz="5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4" name="Prostokąt zaokrąglony 4"/>
          <p:cNvSpPr/>
          <p:nvPr/>
        </p:nvSpPr>
        <p:spPr>
          <a:xfrm>
            <a:off x="407844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łatw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5" name="Prostokąt zaokrąglony 5"/>
          <p:cNvSpPr/>
          <p:nvPr/>
        </p:nvSpPr>
        <p:spPr>
          <a:xfrm>
            <a:off x="667080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Pytania średnio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6" name="Prostokąt zaokrąglony 6"/>
          <p:cNvSpPr/>
          <p:nvPr/>
        </p:nvSpPr>
        <p:spPr>
          <a:xfrm>
            <a:off x="9271080" y="4149720"/>
            <a:ext cx="244800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117440" y="3284640"/>
            <a:ext cx="10157040" cy="7920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 fontScale="78000"/>
          </a:bodyPr>
          <a:p>
            <a:pPr marL="236160" indent="-23616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3200" spc="-1" strike="noStrike">
                <a:solidFill>
                  <a:srgbClr val="374c81"/>
                </a:solidFill>
                <a:latin typeface="Century Gothic"/>
              </a:rPr>
              <a:t>Wskaż różnice pomiędzy resuscytacją osoby dorosłej i dziecka 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8" name="Strzałka w prawo 1"/>
          <p:cNvSpPr/>
          <p:nvPr/>
        </p:nvSpPr>
        <p:spPr>
          <a:xfrm>
            <a:off x="9263160" y="5877000"/>
            <a:ext cx="2011320" cy="79200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0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Odpowiedź</a:t>
            </a:r>
            <a:endParaRPr b="0" lang="en-US" sz="20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990800" y="1412640"/>
            <a:ext cx="9283680" cy="4470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W przypadku resuscytacji osoby dorosłej rozpoczynamy </a:t>
            </a:r>
            <a:br>
              <a:rPr sz="2400"/>
            </a:b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od 30 uciśnięć klatki piersiowej, po których wykonujemy </a:t>
            </a:r>
            <a:br>
              <a:rPr sz="2400"/>
            </a:b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2 oddechy ratunkowe, natomiast w przypadku dziecka rozpoczynamy od 5 wdechów, po których przechodzimy do sekwencji 30 uciśnięć – 2 wdechy. 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8T14:36:12Z</dcterms:created>
  <dc:creator/>
  <dc:description/>
  <cp:keywords/>
  <dc:language>en-US</dc:language>
  <cp:lastModifiedBy/>
  <dcterms:modified xsi:type="dcterms:W3CDTF">2013-08-18T15:41:5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7879409991</vt:lpwstr>
  </property>
</Properties>
</file>