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FE1-0B69-47F1-9BA2-8C3D161F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634-5727-474F-9814-25668CC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751-BE0C-4959-9925-F48D7FA4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F40-420C-4AD1-A35A-6142F15C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BAC-2A49-4422-8529-089A675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6AA-6A17-4905-8799-7CA4C5C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DA9A-69E9-4B53-8B40-4823D57A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991A-0EE9-44D6-834C-D6EA46F8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F71D-B76A-4D3B-B402-6FC633CA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441-CD6A-4F72-B54B-F36AC93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408E-3B61-42C4-92E5-AB682B2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230E-A8A9-4D2F-8DF7-72B3E06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E7AB-7591-4DA9-992D-FC0080C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564E-28CE-4B7F-BDB4-2B013A0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15DF-74DB-4E1A-B62F-ABF258C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E87-EE61-42FD-B494-BE79802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2E8-32FD-476A-B791-BE2EAF8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D09-E662-4510-9EA7-E23A50D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ECA8-3A2A-45D2-808C-AB3374E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CF3E-7AB0-4D2F-AFED-9CCEBE5E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35E-7E1F-4C66-A80D-E88DA51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7C92-BB13-4668-9DCB-47D50844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100F-FACC-47D7-ADDA-A2DCBAC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7331-ED2A-4C25-898A-D2132EF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0626-DA62-4FDB-AD42-1DDFF24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B209-E73C-4A98-9D6F-D5F0F52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F387-ABC2-4ED3-A6A6-A900B64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044D-388D-415C-B59D-51F2777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18F0-2E08-4A53-8DAF-82E37F9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C342-97AA-4CA7-8A96-E82C198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CD03-8539-4AB6-8ABD-386E57A6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971-5F26-4C9C-9B11-69A2155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F80A-7BFD-4911-8552-049B8ADE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0E81-DF33-4748-8FC0-1486FCBB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9BCB-44E2-4A85-B60E-ED3C2A7A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C22D-0CFC-4C04-BA1F-C0E69C1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6A31-A1BC-494A-BC78-0432C20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3488-74C0-4F8F-8E35-01FE8A2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5C7A-6201-45D0-99E2-B50B7BE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C3FF-5420-4C28-AE77-6E3A8D9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B4D9-5FFF-487A-BE72-7774A20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F87D-C952-40E0-BF03-ACE79591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FD1-C747-4DFA-BEA0-2AB9264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EC11-41F7-4E97-BCAE-FAE577A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953C-05B1-419B-B82D-AA4F861A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63FE-2C72-408E-9D90-A58C3750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888-AAC0-4454-BB0B-8B78261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BE8-CDFB-4729-8859-EE38268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5DEF2C3-A46C-463D-9A2D-548FA7BFFE24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8FA75B8-9CD2-4311-B264-B59EEB07FA89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72D2B80B-3ACD-4BC6-808E-059EE42CFBCE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019D01CA-95D6-46A4-A4DA-6FF072181CE5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3200" spc="-1" strike="noStrike">
                <a:solidFill>
                  <a:srgbClr val="374c81"/>
                </a:solidFill>
                <a:latin typeface="Century Gothic"/>
              </a:rPr>
              <a:t>Opisz sposób oceny oddechu poszkodowanego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Za pomocą trzech zmysłów: wzrok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unosi się klatka piersiowa), słuchu (sprawdzamy, </a:t>
            </a:r>
            <a:br>
              <a:rPr sz="2400"/>
            </a:b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czy słyszymy szmery oddechowe) i dotyku (sprawdzamy, czy czujemy na policzku wydmuchiwane przez poszkodowanego powietrze)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