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</p:sldIdLst>
  <p:sldSz cx="12188825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61427-6352-4839-92AA-01C539371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CD1B6-7004-4482-AEA9-909B02268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99F66-D7E2-4020-BB2F-6521E7C86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514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858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1744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5514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858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AF5DE-A427-48E1-9DA8-60BA86874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862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1117440" y="76320"/>
            <a:ext cx="101570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862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4698F-05D9-4B00-9B08-08BDB5CBF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514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79858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111744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45514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79858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862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5A803-0DDC-4B7E-8F09-9ED604CBB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1117440" y="76320"/>
            <a:ext cx="101570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514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79858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111744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45514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79858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114E6-96C3-4793-A673-17CE657F6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862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A6CC5-40D3-4B04-A66A-7A9F9C736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DD82A-EA99-4297-8C45-82CB548D3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3D961-62B5-4863-B826-078340262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27C07-BF27-43C9-B376-3209BBE38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97CF1-CF4F-4AB1-9764-858764537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1117440" y="76320"/>
            <a:ext cx="101570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7A33F-82FF-4DBB-9B06-DCA8DBB33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70C72-AE32-452E-8A84-2AF9F9638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1C758-4292-4170-9E9D-4C2B77965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09305-BA3F-4553-8627-934690661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2D6C3-9D8F-4060-8638-F6B43DB5E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BA9AA-44F2-4D15-B2BF-049FED44A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514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79858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111744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45514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79858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CE51D-840C-477C-8BC0-9D80AE74D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88D7DE-9968-4F0C-8342-94D351E77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FAF71-45EA-4ED3-8020-A2956DEFB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862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0A943C-92F5-4706-9749-BFCE9DA85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6FE5E0-76C5-4829-9A0F-1CACDFBAE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CC8101-172B-410A-A5AA-767661B5F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6D34AB-D688-4631-BBDC-66A5EFCED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1117440" y="76320"/>
            <a:ext cx="101570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7A0E3B-013E-489F-BA91-17F132067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D9FDB9-34A7-44BC-9C70-2F142A4BE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3ABD9B-C1C2-4683-9475-AE17A5D79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B661A1-E416-4649-8F7A-87386285E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C124C9-DA61-4BEE-9763-AE037327F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A3F4A2-D68C-42AC-A17B-977F2973C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17440" y="76320"/>
            <a:ext cx="101570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1B6C0-7DB9-472F-B202-B971DE533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514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79858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111744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45514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79858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66FCF0-F85E-47F6-A002-657F8F4C5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8FB46D-C944-44F3-A565-B53B1CC6F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862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8231A9-22B3-4B81-B9F8-D2C1B6494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BFC36E-9EC8-4EF5-A798-E6BA45A30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7A5463-BB31-4CD8-B5DE-02C05BE67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F53199-320A-4964-AA44-FA9EC6B7D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1117440" y="76320"/>
            <a:ext cx="101570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35E7D4-890C-4B19-A0C7-9E206B6BC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BB1337-9ED1-44A6-9494-2E754C8DB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7991E7-888F-4F8A-963C-19D982156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4BBB79-505D-47BC-9145-970C36753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81748-A6A2-4B55-B91C-10CE59CA1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483F7E-2AD3-444E-A3E1-BD41444D8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9CD75F-EF36-45CC-84CF-12016E85D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514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79858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111744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45514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79858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51F316-36CB-4BE8-8826-A99D91092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D623B-3BF9-4A13-BA4E-6F42AEF58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2CF40-48B8-46EB-8A67-B2EC6DE29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rostokąt 8"/>
          <p:cNvSpPr/>
          <p:nvPr/>
        </p:nvSpPr>
        <p:spPr>
          <a:xfrm>
            <a:off x="304920" y="0"/>
            <a:ext cx="11579040" cy="6858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55294"/>
                </a:srgbClr>
              </a:gs>
            </a:gsLst>
            <a:lin ang="7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400" spc="-1" strike="noStrike">
                <a:solidFill>
                  <a:srgbClr val="374c81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1" marL="73008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2" marL="115740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3" marL="158436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4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5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6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117440" y="6400440"/>
            <a:ext cx="274176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pl-PL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12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908520" y="6400440"/>
            <a:ext cx="621504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10167840" y="6400440"/>
            <a:ext cx="110664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pl-PL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fld id="{28075EBA-E126-4ED7-988E-B4F4EFCE962C}" type="slidenum">
              <a:rPr b="0" lang="pl-PL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400" spc="-1" strike="noStrike">
                <a:solidFill>
                  <a:srgbClr val="374c81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1" marL="73008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2" marL="115740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3" marL="158436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4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5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6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400" spc="-1" strike="noStrike">
                <a:solidFill>
                  <a:srgbClr val="374c81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1" marL="73008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2" marL="115740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3" marL="158436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4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5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6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400" spc="-1" strike="noStrike">
                <a:solidFill>
                  <a:srgbClr val="374c81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1" marL="73008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2" marL="115740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3" marL="158436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4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5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6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dt" idx="4"/>
          </p:nvPr>
        </p:nvSpPr>
        <p:spPr>
          <a:xfrm>
            <a:off x="1117440" y="6400440"/>
            <a:ext cx="274176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pl-PL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12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 type="ftr" idx="5"/>
          </p:nvPr>
        </p:nvSpPr>
        <p:spPr>
          <a:xfrm>
            <a:off x="3908520" y="6400440"/>
            <a:ext cx="621504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 type="sldNum" idx="6"/>
          </p:nvPr>
        </p:nvSpPr>
        <p:spPr>
          <a:xfrm>
            <a:off x="10167840" y="6400440"/>
            <a:ext cx="110664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pl-PL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fld id="{3CB53062-2573-40AA-9176-17D6DA180D89}" type="slidenum">
              <a:rPr b="0" lang="pl-PL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rostokąt 7"/>
          <p:cNvSpPr/>
          <p:nvPr/>
        </p:nvSpPr>
        <p:spPr>
          <a:xfrm>
            <a:off x="3960720" y="0"/>
            <a:ext cx="7923240" cy="6858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55294"/>
                </a:srgbClr>
              </a:gs>
            </a:gsLst>
            <a:lin ang="7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400" spc="-1" strike="noStrike">
                <a:solidFill>
                  <a:srgbClr val="374c81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1" marL="73008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2" marL="115740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3" marL="158436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4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5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6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dt" idx="7"/>
          </p:nvPr>
        </p:nvSpPr>
        <p:spPr>
          <a:xfrm>
            <a:off x="1117440" y="6400440"/>
            <a:ext cx="274176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pl-PL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12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 type="ftr" idx="8"/>
          </p:nvPr>
        </p:nvSpPr>
        <p:spPr>
          <a:xfrm>
            <a:off x="3908520" y="6400440"/>
            <a:ext cx="621504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 type="sldNum" idx="9"/>
          </p:nvPr>
        </p:nvSpPr>
        <p:spPr>
          <a:xfrm>
            <a:off x="10167840" y="6400440"/>
            <a:ext cx="110664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pl-PL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fld id="{32E67F28-86AD-47E1-9DED-7BD49431FA4E}" type="slidenum">
              <a:rPr b="0" lang="pl-PL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rostokąt 7"/>
          <p:cNvSpPr/>
          <p:nvPr/>
        </p:nvSpPr>
        <p:spPr>
          <a:xfrm>
            <a:off x="2082960" y="0"/>
            <a:ext cx="8022960" cy="6858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55294"/>
                </a:srgbClr>
              </a:gs>
            </a:gsLst>
            <a:lin ang="7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400" spc="-1" strike="noStrike">
                <a:solidFill>
                  <a:srgbClr val="374c81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1" marL="73008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2" marL="115740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3" marL="158436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4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5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6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dt" idx="10"/>
          </p:nvPr>
        </p:nvSpPr>
        <p:spPr>
          <a:xfrm>
            <a:off x="1117440" y="6400440"/>
            <a:ext cx="274176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pl-PL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12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 type="ftr" idx="11"/>
          </p:nvPr>
        </p:nvSpPr>
        <p:spPr>
          <a:xfrm>
            <a:off x="3908520" y="6400440"/>
            <a:ext cx="621504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 type="sldNum" idx="12"/>
          </p:nvPr>
        </p:nvSpPr>
        <p:spPr>
          <a:xfrm>
            <a:off x="10167840" y="6400440"/>
            <a:ext cx="110664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pl-PL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fld id="{B021FFE4-FB50-486D-BCEA-FE05B15C108E}" type="slidenum">
              <a:rPr b="0" lang="pl-PL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671720" y="1498320"/>
            <a:ext cx="7008840" cy="22906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pl-PL" sz="5400" spc="-1" strike="noStrike">
                <a:solidFill>
                  <a:srgbClr val="374c81"/>
                </a:solidFill>
                <a:latin typeface="Century Gothic"/>
              </a:rPr>
              <a:t>Fiszki autokorektywne</a:t>
            </a:r>
            <a:endParaRPr b="0" lang="en-US" sz="5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44" name="Prostokąt zaokrąglony 4"/>
          <p:cNvSpPr/>
          <p:nvPr/>
        </p:nvSpPr>
        <p:spPr>
          <a:xfrm>
            <a:off x="4078440" y="4149720"/>
            <a:ext cx="2447640" cy="1511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7e5c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2400" spc="-1" strike="noStrike">
                <a:solidFill>
                  <a:srgbClr val="374c81"/>
                </a:solidFill>
                <a:latin typeface="Century Gothic"/>
              </a:rPr>
              <a:t>Pytania łatwe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45" name="Prostokąt zaokrąglony 5"/>
          <p:cNvSpPr/>
          <p:nvPr/>
        </p:nvSpPr>
        <p:spPr>
          <a:xfrm>
            <a:off x="6670800" y="4149720"/>
            <a:ext cx="2447640" cy="1511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7e5c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2400" spc="-1" strike="noStrike" u="sng">
                <a:solidFill>
                  <a:srgbClr val="0070c0"/>
                </a:solidFill>
                <a:uFillTx/>
                <a:latin typeface="Century Gothic"/>
                <a:hlinkClick r:id="rId1" action="ppaction://hlinksldjump"/>
              </a:rPr>
              <a:t>Pytania średnio trudne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46" name="Prostokąt zaokrąglony 6"/>
          <p:cNvSpPr/>
          <p:nvPr/>
        </p:nvSpPr>
        <p:spPr>
          <a:xfrm>
            <a:off x="9271080" y="4149720"/>
            <a:ext cx="2448000" cy="1511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7e5c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2400" spc="-1" strike="noStrike">
                <a:solidFill>
                  <a:srgbClr val="374c81"/>
                </a:solidFill>
                <a:latin typeface="Century Gothic"/>
              </a:rPr>
              <a:t>Pytania trudne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1341360" y="1267920"/>
            <a:ext cx="10157040" cy="7923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4400" spc="-1" strike="noStrike">
                <a:solidFill>
                  <a:srgbClr val="374c81"/>
                </a:solidFill>
                <a:latin typeface="Century Gothic"/>
              </a:rPr>
              <a:t>Co to za rana?</a:t>
            </a: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48" name="Strzałka w prawo 1"/>
          <p:cNvSpPr/>
          <p:nvPr/>
        </p:nvSpPr>
        <p:spPr>
          <a:xfrm>
            <a:off x="9263160" y="5877000"/>
            <a:ext cx="2011320" cy="792000"/>
          </a:xfrm>
          <a:prstGeom prst="rightArrow">
            <a:avLst>
              <a:gd name="adj1" fmla="val 50000"/>
              <a:gd name="adj2" fmla="val 50015"/>
            </a:avLst>
          </a:prstGeom>
          <a:solidFill>
            <a:srgbClr val="ffffff"/>
          </a:solidFill>
          <a:ln w="12600">
            <a:solidFill>
              <a:srgbClr val="7e5c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2000" spc="-1" strike="noStrike" u="sng">
                <a:solidFill>
                  <a:srgbClr val="0070c0"/>
                </a:solidFill>
                <a:uFillTx/>
                <a:latin typeface="Century Gothic"/>
                <a:hlinkClick r:id="rId1" action="ppaction://hlinksldjump"/>
              </a:rPr>
              <a:t>Odpowiedź</a:t>
            </a:r>
            <a:endParaRPr b="0" lang="en-US" sz="2000" spc="-1" strike="noStrike">
              <a:solidFill>
                <a:srgbClr val="374c81"/>
              </a:solidFill>
              <a:latin typeface="Century Gothic"/>
            </a:endParaRPr>
          </a:p>
        </p:txBody>
      </p:sp>
      <p:pic>
        <p:nvPicPr>
          <p:cNvPr id="249" name="Picture 5" descr=""/>
          <p:cNvPicPr/>
          <p:nvPr/>
        </p:nvPicPr>
        <p:blipFill>
          <a:blip r:embed="rId2"/>
          <a:srcRect l="6606" t="0" r="23427" b="0"/>
          <a:stretch/>
        </p:blipFill>
        <p:spPr>
          <a:xfrm>
            <a:off x="406440" y="2276640"/>
            <a:ext cx="2735280" cy="2727000"/>
          </a:xfrm>
          <a:prstGeom prst="rect">
            <a:avLst/>
          </a:prstGeom>
          <a:ln w="0">
            <a:noFill/>
          </a:ln>
        </p:spPr>
      </p:pic>
      <p:sp>
        <p:nvSpPr>
          <p:cNvPr id="250" name="pole tekstowe 2"/>
          <p:cNvSpPr/>
          <p:nvPr/>
        </p:nvSpPr>
        <p:spPr>
          <a:xfrm>
            <a:off x="1557360" y="5214960"/>
            <a:ext cx="4334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2400" spc="-1" strike="noStrike">
                <a:solidFill>
                  <a:srgbClr val="374c81"/>
                </a:solidFill>
                <a:latin typeface="Century Gothic"/>
              </a:rPr>
              <a:t>1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pic>
        <p:nvPicPr>
          <p:cNvPr id="251" name="Obraz 1" descr="Plik:Selfinjury.jpg"/>
          <p:cNvPicPr/>
          <p:nvPr/>
        </p:nvPicPr>
        <p:blipFill>
          <a:blip r:embed="rId3"/>
          <a:srcRect l="0" t="0" r="25650" b="0"/>
          <a:stretch/>
        </p:blipFill>
        <p:spPr>
          <a:xfrm>
            <a:off x="3286080" y="2274840"/>
            <a:ext cx="2700360" cy="2728800"/>
          </a:xfrm>
          <a:prstGeom prst="rect">
            <a:avLst/>
          </a:prstGeom>
          <a:ln w="0">
            <a:noFill/>
          </a:ln>
        </p:spPr>
      </p:pic>
      <p:sp>
        <p:nvSpPr>
          <p:cNvPr id="252" name="pole tekstowe 7"/>
          <p:cNvSpPr/>
          <p:nvPr/>
        </p:nvSpPr>
        <p:spPr>
          <a:xfrm>
            <a:off x="4421160" y="5214960"/>
            <a:ext cx="4320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2400" spc="-1" strike="noStrike">
                <a:solidFill>
                  <a:srgbClr val="374c81"/>
                </a:solidFill>
                <a:latin typeface="Century Gothic"/>
              </a:rPr>
              <a:t>2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pic>
        <p:nvPicPr>
          <p:cNvPr id="253" name="Obraz 5" descr="http://1.bp.blogspot.com/-dtdwTNol-o4/UC-YqNsLdhI/AAAAAAAAALo/SPz2x9ppqgc/s320/180820121041.jpg"/>
          <p:cNvPicPr/>
          <p:nvPr/>
        </p:nvPicPr>
        <p:blipFill>
          <a:blip r:embed="rId4"/>
          <a:srcRect l="7204" t="0" r="25629" b="0"/>
          <a:stretch/>
        </p:blipFill>
        <p:spPr>
          <a:xfrm>
            <a:off x="6130800" y="2274840"/>
            <a:ext cx="3245040" cy="2728800"/>
          </a:xfrm>
          <a:prstGeom prst="rect">
            <a:avLst/>
          </a:prstGeom>
          <a:ln w="0">
            <a:noFill/>
          </a:ln>
        </p:spPr>
      </p:pic>
      <p:sp>
        <p:nvSpPr>
          <p:cNvPr id="254" name="pole tekstowe 9"/>
          <p:cNvSpPr/>
          <p:nvPr/>
        </p:nvSpPr>
        <p:spPr>
          <a:xfrm>
            <a:off x="7537320" y="5214960"/>
            <a:ext cx="4320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2400" spc="-1" strike="noStrike">
                <a:solidFill>
                  <a:srgbClr val="374c81"/>
                </a:solidFill>
                <a:latin typeface="Century Gothic"/>
              </a:rPr>
              <a:t>3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pic>
        <p:nvPicPr>
          <p:cNvPr id="255" name="Obraz 3" descr="http://upload.wikimedia.org/wikipedia/commons/thumb/7/71/Footpuncture.JPG/576px-Footpuncture.JPG"/>
          <p:cNvPicPr/>
          <p:nvPr/>
        </p:nvPicPr>
        <p:blipFill>
          <a:blip r:embed="rId5"/>
          <a:srcRect l="16732" t="0" r="3580" b="29289"/>
          <a:stretch/>
        </p:blipFill>
        <p:spPr>
          <a:xfrm>
            <a:off x="9529920" y="2274840"/>
            <a:ext cx="2325600" cy="2738520"/>
          </a:xfrm>
          <a:prstGeom prst="rect">
            <a:avLst/>
          </a:prstGeom>
          <a:ln w="0">
            <a:noFill/>
          </a:ln>
        </p:spPr>
      </p:pic>
      <p:sp>
        <p:nvSpPr>
          <p:cNvPr id="256" name="pole tekstowe 11"/>
          <p:cNvSpPr/>
          <p:nvPr/>
        </p:nvSpPr>
        <p:spPr>
          <a:xfrm>
            <a:off x="10476000" y="5214960"/>
            <a:ext cx="4334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2400" spc="-1" strike="noStrike">
                <a:solidFill>
                  <a:srgbClr val="374c81"/>
                </a:solidFill>
                <a:latin typeface="Century Gothic"/>
              </a:rPr>
              <a:t>4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1846440" y="1773000"/>
            <a:ext cx="9283680" cy="93492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 fontScale="31000"/>
          </a:bodyPr>
          <a:p>
            <a:pPr marL="159120" indent="-159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AutoNum type="arabicPeriod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3200" spc="-1" strike="noStrike">
                <a:solidFill>
                  <a:srgbClr val="374c81"/>
                </a:solidFill>
                <a:latin typeface="Century Gothic"/>
              </a:rPr>
              <a:t>Rana postrzałowa</a:t>
            </a:r>
            <a:endParaRPr b="0" lang="en-US" sz="3200" spc="-1" strike="noStrike">
              <a:solidFill>
                <a:srgbClr val="374c81"/>
              </a:solidFill>
              <a:latin typeface="Century Gothic"/>
            </a:endParaRPr>
          </a:p>
          <a:p>
            <a:pPr marL="159120" indent="-159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AutoNum type="arabicPeriod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3200" spc="-1" strike="noStrike">
                <a:solidFill>
                  <a:srgbClr val="374c81"/>
                </a:solidFill>
                <a:latin typeface="Century Gothic"/>
              </a:rPr>
              <a:t>Rana cięta</a:t>
            </a:r>
            <a:endParaRPr b="0" lang="en-US" sz="3200" spc="-1" strike="noStrike">
              <a:solidFill>
                <a:srgbClr val="374c81"/>
              </a:solidFill>
              <a:latin typeface="Century Gothic"/>
            </a:endParaRPr>
          </a:p>
          <a:p>
            <a:pPr marL="159120" indent="-159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AutoNum type="arabicPeriod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3200" spc="-1" strike="noStrike">
                <a:solidFill>
                  <a:srgbClr val="374c81"/>
                </a:solidFill>
                <a:latin typeface="Century Gothic"/>
              </a:rPr>
              <a:t>Rana szarpana</a:t>
            </a:r>
            <a:endParaRPr b="0" lang="en-US" sz="3200" spc="-1" strike="noStrike">
              <a:solidFill>
                <a:srgbClr val="374c81"/>
              </a:solidFill>
              <a:latin typeface="Century Gothic"/>
            </a:endParaRPr>
          </a:p>
          <a:p>
            <a:pPr marL="159120" indent="-159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AutoNum type="arabicPeriod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3200" spc="-1" strike="noStrike">
                <a:solidFill>
                  <a:srgbClr val="374c81"/>
                </a:solidFill>
                <a:latin typeface="Century Gothic"/>
              </a:rPr>
              <a:t>Rana kłuta</a:t>
            </a:r>
            <a:endParaRPr b="0" lang="en-US" sz="32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18T14:36:12Z</dcterms:created>
  <dc:creator/>
  <dc:description/>
  <cp:keywords/>
  <dc:language>en-US</dc:language>
  <cp:lastModifiedBy/>
  <dcterms:modified xsi:type="dcterms:W3CDTF">2013-08-18T15:25:43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27879409991</vt:lpwstr>
  </property>
</Properties>
</file>