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89E-E21F-404A-9527-AF9149A5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EAF-5D73-4518-995C-CA64F73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451-12A1-433A-8187-E44391F8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CA6-6927-4B48-848C-BC557B40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141-AA2D-45A9-AFA6-2E2F1DF9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BF8-7BB2-4E79-A454-ED60BB96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E8D4-4AF9-4D44-A727-39B7AF4B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EF9C-6D3B-4A59-AB07-F15AA458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24DE-D448-43F2-B2EE-B2C5B06E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392-D06A-46A7-ADFE-74CA4D68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1823-D190-43C1-B06A-04FB75EE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7291-FCED-49E7-865E-F701EA9E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58AD-E494-4A73-8177-B7FCFE59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D233-92BD-4404-89C7-54F5D147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A18A-02D5-4139-8850-B7147DD6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A0F4-E0F1-48A0-A30E-CA9E0FC8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775A-2289-4A42-811C-22CDBA20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4FE7-DA09-47FE-93B9-CED28209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3D80-5784-41F3-9A36-02CB9EE9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D557-F588-4C85-9311-38579A11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150-2D49-4972-B7CF-FF8F97E0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A273-A869-4DC4-B5FB-2D1F1021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B90A-C0EB-4D81-A9D4-1A497573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A545-E640-41D8-89B2-222121C2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3F91-FBFF-4C11-B844-00733A88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09C9-7FEB-4539-BBDD-39CDA226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A932-9D28-45BE-BEB1-3E8B91C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88BB-BD66-4BA8-A22C-3017570D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EF00-4894-499C-B7BB-386D798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BA74-25B2-4E2D-8CCE-5546BF66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969E-A64B-4C25-8A0A-D95DABEA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A91-DC09-4752-A61D-6CAD0FA0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75F0-9DFA-468D-A021-5E4851AF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78C9-E2A4-4AE0-A434-6F18150D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78F9-F172-4728-A20C-08B58AD9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ED74F-9408-4919-A85C-140365F3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7542-7052-46F4-B80E-FA3EB0F0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F311-D495-4319-A06C-3A5F2598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50BB-B72F-4928-A825-3E43B30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749C-CB9F-4D18-A74D-25E181D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FEAA-0F28-4A80-AAEF-D3EACC72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2721-71F4-4D37-936B-8B6243A3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0BA-6983-43DE-B904-1805D5BC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767D-7BEB-4F69-BFC2-3B7D9271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1D10-8F04-406A-8C4B-0CC1446D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04C9C-87DF-4B95-80C9-9C0EEC02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E1B-C0EF-47AE-89C7-D4CB264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E13-88F7-455E-8D7A-7D1DF3E9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E849F1C-40A5-4EC4-87D9-9F2D76B772F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0DB0B3F-B4BF-44EE-8041-12A91B0D2BE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3762E49-F1D6-40D7-8EB3-DE8B81FF0DE0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F4A8078-E233-4245-8711-824C02833BB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1000"/>
          </a:bodyPr>
          <a:p>
            <a:pPr marL="214920" indent="-2149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 jakich okolicznościach układamy poszkodowanego w pozycji czterokończynowej, a w jakich w pozycji bezpiecz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1844280"/>
            <a:ext cx="10220400" cy="3102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pozycji czterokończynowej układamy poszkodowanego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sytuacji omdlenia, a w pozycji bezpiecznej w sytuacji utraty przytomności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50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