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45680" y="769680"/>
            <a:ext cx="416268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dt" idx="12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68CC8-D456-4F90-B1D8-D4B7046DF6B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5B0FB-2009-469E-B08F-B62DB1ADF3EF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34CF3-8791-4C28-9CB3-DC06D717088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567D2-62D7-4BD5-9F5C-3D6440ABD46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1F8B8-917D-43D9-AB98-2423371993F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847E9-CBAA-4351-B224-B16C7CF1AD7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CB299-4167-4116-8D4B-DD00C10827F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1D6D6-247F-4055-ACF5-104933BF55C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13B57-2516-4099-9826-480840B261E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9316D-842A-4EC0-BA46-3B5412430E9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CB284-75B2-44F6-93A4-D10BAD07D3C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E07D1-0590-4F71-8589-8E321F629408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12880" y="770040"/>
            <a:ext cx="5230800" cy="2943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5196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791E-7998-47B9-9F03-B4D8D8A78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8D22-3F42-47DC-8907-5A1CF06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888D-9C2E-414B-AF01-E693091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24C8-F59F-4F7B-B10A-DDA99A121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54E79-A770-4A41-BD87-125BC2CF4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96461-858F-45AC-94AA-EE48F21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DBF15-5B7B-405A-8692-B0C52DD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E3B15-54F2-422D-B6C5-1F62013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EB0DE-CB4F-4CD4-8CB5-B79CA716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50BBE-7726-4969-AF35-B05499BB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E137-34C9-4CF7-BEAA-82DD576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6AED-B25D-4C96-A6DF-0B46040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013F0-7A94-4264-94E3-3FC10022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F5A3-EC18-4879-A627-5557F9C6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13E47-A36D-4EB0-8E16-8D6FB3E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01B3C-2361-4378-BFEC-54EE6F87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54565-76C3-422F-9E21-C27B6D0F0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F239-6E87-4A6D-987E-6BDDA6136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4CBB-817B-4A98-89B6-36F27C5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6D0-73B8-4474-A049-E89EC81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EEFC-7DCA-41CB-BC7C-BC1B726A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D99A-FE10-43A6-B00C-637DE769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8620-365D-4C57-80BF-9047FCA6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E129-8D15-4477-9E5B-804B04C2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BEE-5767-44E1-BEED-EA61A67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6A21-E58C-4290-A6D6-876080D7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8351-95EF-4983-9830-FCF5FDA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4D38-65C6-478F-A9BE-4C862900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383-BB3E-4358-B048-F3F2DBF1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6DE3-9828-4288-9329-43DB8BEE6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82BEB-F967-457D-88B1-D57A8CA9A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E07F1-5694-43B4-A93F-0C4380A8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1E12C-5EF7-44C2-9DAD-01B95FC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C1B4-B3FA-4F09-B73B-0514EB39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56D18-A8CD-486D-9383-36862CAE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6C163-BE1E-47F4-9986-BEA6C260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4C27E-8635-4701-BD14-8E9769DC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E85A9-1828-469E-BE06-85045C1C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B2493-BAE0-4674-B793-DE1BC21B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D1D2D-ACF8-4FE1-9776-D30C19D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F8320-05C2-4D9D-B016-46FC6240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F0EF8-C42C-4ED8-8989-D28C4E5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3EEAD-4C47-4D87-81D0-F109E8D9F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22B2A-D8A9-49E5-9CA4-179E3871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539C-955B-49D1-9538-15EBE313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BB15D-B1EE-44E2-8E8F-87B90FC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E4CC3-547E-4358-9F04-89C0888A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DC29A-E106-4E60-AF1F-2E5FCAB5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83EAD-D516-4CA6-89B6-840A56C1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82CD0-B1F6-40BE-ADE9-6961CAF2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80FF0-F45B-4DCD-A8E5-D35AEB1C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D3938-D636-43FE-8BE8-85267BB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933FD-5494-4E76-A1D0-6C41186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31682-58C9-4526-A942-0905E74C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F44E7-5F42-4E68-8B9A-BC74734B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522360"/>
            <a:ext cx="87076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D8BE-4F8D-442C-A121-6C852228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31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709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CBB75-2A62-4C99-8538-E9ED07BA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5B49-2990-48F0-BFD2-013AE3E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2320" y="370908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E7FC-16CD-4D7F-946F-02D8E69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631520"/>
            <a:ext cx="5354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709080"/>
            <a:ext cx="10972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2544-85AB-4631-80CF-C178771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F74934-CCC0-4911-8C3D-DD2C9DA0407F}" type="slidenum">
              <a:rPr b="0" lang="pl-PL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0" y="-7920"/>
            <a:ext cx="12189960" cy="6864480"/>
            <a:chOff x="0" y="-7920"/>
            <a:chExt cx="12189960" cy="6864480"/>
          </a:xfrm>
        </p:grpSpPr>
        <p:sp>
          <p:nvSpPr>
            <p:cNvPr id="53" name="Line 2"/>
            <p:cNvSpPr/>
            <p:nvPr/>
          </p:nvSpPr>
          <p:spPr>
            <a:xfrm>
              <a:off x="937080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Line 3"/>
            <p:cNvSpPr/>
            <p:nvPr/>
          </p:nvSpPr>
          <p:spPr>
            <a:xfrm flipH="1">
              <a:off x="7422120" y="3681360"/>
              <a:ext cx="476604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918180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Freeform 5"/>
            <p:cNvSpPr/>
            <p:nvPr/>
          </p:nvSpPr>
          <p:spPr>
            <a:xfrm>
              <a:off x="960408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8932320" y="3048120"/>
              <a:ext cx="325764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933408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1089936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1093896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037232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 rot="10800000">
              <a:off x="0" y="1440"/>
              <a:ext cx="841680" cy="5664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AFEC55-A7E2-45F6-9843-2E46E18A84A8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05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15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69ED9E6-24DC-4F9D-A88B-413FA6D59557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0" y="-7920"/>
            <a:ext cx="12190320" cy="6864480"/>
            <a:chOff x="0" y="-7920"/>
            <a:chExt cx="12190320" cy="6864480"/>
          </a:xfrm>
        </p:grpSpPr>
        <p:sp>
          <p:nvSpPr>
            <p:cNvPr id="159" name="Line 2"/>
            <p:cNvSpPr/>
            <p:nvPr/>
          </p:nvSpPr>
          <p:spPr>
            <a:xfrm>
              <a:off x="9371160" y="0"/>
              <a:ext cx="1217520" cy="68565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0" name="Line 3"/>
            <p:cNvSpPr/>
            <p:nvPr/>
          </p:nvSpPr>
          <p:spPr>
            <a:xfrm flipH="1">
              <a:off x="7423200" y="3681360"/>
              <a:ext cx="4765680" cy="31752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9182160" y="-7920"/>
              <a:ext cx="3004920" cy="686448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9604440" y="-7920"/>
              <a:ext cx="2585880" cy="686448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8933040" y="3048120"/>
              <a:ext cx="3257280" cy="380844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9334440" y="-7920"/>
              <a:ext cx="2852640" cy="686448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0899720" y="-7920"/>
              <a:ext cx="1289160" cy="686448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10939320" y="-7920"/>
              <a:ext cx="1247760" cy="686448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10372680" y="3591000"/>
              <a:ext cx="181620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0" y="4013280"/>
              <a:ext cx="447840" cy="284328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5946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880" y="2160360"/>
            <a:ext cx="8594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7205400" y="6041880"/>
            <a:ext cx="90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58996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1C9863-4B16-4CB0-B8F9-E6E177A572D6}" type="slidenum">
              <a:rPr b="0" lang="pl-PL" sz="900" spc="-1" strike="noStrike">
                <a:solidFill>
                  <a:srgbClr val="90c226"/>
                </a:solidFill>
                <a:latin typeface="Times New Roman"/>
                <a:ea typeface="Segoe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22360"/>
            <a:ext cx="8707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31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60912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4170240" y="6246720"/>
            <a:ext cx="3864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874188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1570C-BDCE-46B6-A6C8-4B24B099BF5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erc.edu/" TargetMode="External"/><Relationship Id="rId2" Type="http://schemas.openxmlformats.org/officeDocument/2006/relationships/hyperlink" Target="http://www.prc.krakow.pl/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506600" y="2405160"/>
            <a:ext cx="7767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r>
              <a:rPr b="0" lang="pl-PL" sz="4900" spc="-1" strike="noStrike">
                <a:solidFill>
                  <a:srgbClr val="90c226"/>
                </a:solidFill>
                <a:latin typeface="Arial"/>
                <a:ea typeface="WenQuanYi Zen Hei"/>
              </a:rPr>
              <a:t>Algorytm postępowania na miejscu wypadku</a:t>
            </a:r>
            <a:endParaRPr b="0" lang="en-US" sz="4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1506600" y="4095720"/>
            <a:ext cx="7767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Bibliograf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1"/>
              </a:rPr>
              <a:t>www.erc.edu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ea typeface="WenQuanYi Zen Hei"/>
                <a:hlinkClick r:id="rId2"/>
              </a:rPr>
              <a:t>www.prc.krakow.p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J. Słoma, G. Zając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Żyję i działam bezpiecznie. Podrecznik z ćwiczeniami dla klas 1-3 gimnazj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. Nowa Era, Warszawa 2009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M. Goniewicz, A.W. Nowa-Kowal, Z. Smutek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Edukacja dla bezpieczeństwa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odsumowani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Struktura prezentacj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,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rcRect l="0" t="6466" r="0" b="9557"/>
          <a:stretch/>
        </p:blipFill>
        <p:spPr>
          <a:xfrm>
            <a:off x="2160720" y="1511280"/>
            <a:ext cx="7143480" cy="41972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Zasady udzielania pierwszej pomoc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435400" y="5911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Złota godzin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184800" y="5911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latynowe minut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Złota godzin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60 minut, w trakcie których poszkodowany powinien się znaleźć w szpital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232080" y="3108240"/>
            <a:ext cx="47530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WenQuanYi Zen Hei"/>
              </a:rPr>
              <a:t>Platynowe minu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ych 5 minut, w czasie których należy podjąć zabiegi resuscytacyj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3311640" y="3195720"/>
            <a:ext cx="47718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Charakterystyka łańcucha przeżycia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79440" y="1671480"/>
            <a:ext cx="847404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Numery alarmowe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77880" y="1249200"/>
            <a:ext cx="3727440" cy="249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7746840" y="1249200"/>
            <a:ext cx="3729240" cy="249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4405320" y="1252440"/>
            <a:ext cx="3341520" cy="2490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76440" y="3762360"/>
            <a:ext cx="3328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WenQuanYi Zen Hei"/>
              </a:rPr>
              <a:t>999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pogotowie ratunkow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405320" y="37609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8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straż pożarn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7746840" y="3760920"/>
            <a:ext cx="37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997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  <a:ea typeface="WenQuanYi Zen Hei"/>
              </a:rPr>
              <a:t>policj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97040" y="5178600"/>
            <a:ext cx="461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112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rebuchet MS"/>
                <a:ea typeface="WenQuanYi Zen Hei"/>
              </a:rPr>
              <a:t>Centrum Powiadamiania Ratunkowego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6931080" y="4330800"/>
            <a:ext cx="37656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Algorytm postępowania na miejscu wypadku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79520" y="1773360"/>
            <a:ext cx="9361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sytuacj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Ocena bezpieczeństwa ratownika, poszkodowanego i świadków wypadku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ierwsza pomo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Dalsza opieka nad poszkodowanym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Przekazanie informacji o poszkodowanym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-323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6765840" y="2924280"/>
            <a:ext cx="50166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67788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Pytania do prezentacji 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WenQuanYi Zen He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67788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3:47:12Z</dcterms:created>
  <dc:creator>Andrzej Iskrzycki</dc:creator>
  <dc:description/>
  <dc:language>en-US</dc:language>
  <cp:lastModifiedBy>Andrzej Iskrzycki</cp:lastModifiedBy>
  <dcterms:modified xsi:type="dcterms:W3CDTF">2013-08-18T16:59:00Z</dcterms:modified>
  <cp:revision>9</cp:revision>
  <dc:subject/>
  <dc:title> Algorytm postępowania na miejscu wypadku</dc:title>
</cp:coreProperties>
</file>