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45-0320-421F-B5AB-C5B3087F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378-6E2B-4A34-88C3-4B36AB01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C87-6EEE-405F-BD98-2FD65619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627-A710-48E2-9DE5-5480DFB6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718-C59E-420A-91BD-5CD8BA5C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C6C-EFC1-40C2-AD06-A197EE4C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0632-E69C-4F85-B64D-07A229AD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A0CC-34FB-446F-82E9-E2B4A6E8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8F4C-578F-46F2-8F2B-6598089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F07-3F88-48AD-BC76-803BDB26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D693-F62B-4E4F-BACB-AC6A675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DD7-E4BB-4010-BA0E-4F5892C8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87B-A0AB-4EC1-AF08-F447F8C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2BEE-B27F-423B-BC13-42B72F6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068-9EFE-42F4-85BF-15AB9F1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BC2B-82F2-42D6-88CE-10AA248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5F6E-CBE2-4D94-B6D3-785241D6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F96-F4ED-4BFA-99E1-E7979EDE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63B-51AA-43B4-AF4D-59B5FE79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A95F-3E38-44AA-BE23-B7777E8F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BDD-BF5A-4512-A97B-B1980310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8023-5540-492C-9446-CDD03508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DA4D-3741-496B-A49F-7D3C4E0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5D7E-5B2D-4C7C-838A-C7B759E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6AAB-1C2C-4AD4-909E-3602273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B772-A71F-4FFA-B618-09F3ABE2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094B-4B15-47DC-BD8C-241BF22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3CB0-0B29-498A-866E-0D42C23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FC46-A071-49B6-A4AF-D413A0F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94C7-A660-429B-93FE-2696C13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34EE-B1D0-4A34-985E-F519E31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00C-14F4-496B-83E5-D104313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FD3F-6D3C-4DE8-823D-515D63E1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0200-3167-4433-BBE8-96CC4B4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ABA3-D12D-4817-9199-3242AE6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8E15-10A2-4F5C-881C-60A159B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FB49-DCC2-4603-8100-321624D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91EC-92CD-44E3-A449-6DD58536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74BF-B35C-4346-B16D-9047396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1DC6-0A70-42C4-B48A-41C9CCB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5559-B00A-4FB1-9C95-C3662B15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6340-031C-4CB0-B29F-3A04E17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71A-3DE5-44F5-B5C1-A743B0E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A366-7E73-4889-AA5A-BAB941A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F582-6DD4-48F5-8B26-05BFE508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7DF6-F4AD-483F-A120-619F3938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ACC-35AA-4724-A2E2-EFC79D3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220-C201-45FD-95F1-F3FD89F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D4E8AD0-11E1-489A-B8E0-A39A67000AF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887F158-C2DD-4A3F-93DF-1AFB5B2AD2E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C41EBA9-FB09-4292-8067-9B4E288B38F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F8004B1-7DC1-4E49-B628-562B863C93B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3000"/>
          </a:bodyPr>
          <a:p>
            <a:pPr marL="221040" indent="-22104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 czym należy pamiętać wykonując resuscytację u kobiety ciężar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ależy pamiętać, by jej prawe biodro było uniesione wyżej aniżeli lewe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2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