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78A-93BC-466B-BFE6-9D8167BD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996A-35FB-44A2-96F4-EF65B0D5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249F-0360-42F1-B2F8-CBD80651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62E-A448-4E9C-917F-4F3D0F3C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6472-4B09-4F18-9BE8-F0BAB050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9E91-CF6F-4813-B38D-A97A226E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A863-2F8B-4FF4-8914-8DBFF132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5886-11E6-4038-9BBA-56D85567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10F0-6B64-411F-9D8B-85722F69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0E6B-7858-40CE-9D24-E68E2AAE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E4C7-514A-47FC-83D5-4644BFE6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7A45-F6FB-474A-9157-D3FCCB80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3918-B9D4-40FE-BC1B-BF12865D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7531-5AE0-4D0B-94C4-0DF43732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1F36-EA3D-4614-9BE9-6BA213B0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1545-3369-4793-8389-9CC6E982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741B-D3F0-4F1F-BDDF-82602CED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20C5-61C3-4230-914C-19812959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1026-6390-45AE-9495-C8574940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19A91-29A8-4035-A897-7653A627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792-6CF0-4168-B8E3-08E9BE17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7B869-853E-4F87-A613-D8D05216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7B98-A153-4C67-BF25-8D22CFD6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6A767-60D2-4045-9BD0-2BA5CA19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040D6-0D99-4C27-8774-F9F959A0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99F2D-4C7D-431F-8151-A1263B22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B2DAF-BF6B-4E10-8704-863DBA14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58844-B66F-41AD-89F6-34348A24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BEA57-7FD2-4E32-A327-FE724922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A30BF-34AC-4FE8-8244-263851C3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6C728-973A-4654-AB1E-18281ED6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CEF-95B1-4A41-BB74-8EB655D5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816ED-6555-4B69-9E00-C9068247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ED873-2B05-47F0-B058-09407437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FED3B-B8BB-43FA-BF0D-CF296F87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22FEF-A456-4BF5-A176-43D6216F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F0A06-B94F-49DD-90B9-E8705A98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31EC6-EFF5-4F59-A801-08922670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00E97-0BC6-4407-8055-6783B3CA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31069-55DD-4512-8D95-847D9FA3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DB28B-8DA0-40A6-9B32-1B2D6A75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B1238-5E89-4A13-A4AB-54087DBF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A91-9196-4625-B30A-5E3AA7F4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580D1-8A96-459D-BFA3-952629F4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0DB40-7471-485A-8833-26936D70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BD9DF-5A27-4EBC-9509-241F187F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03D-06FA-467E-9431-7777BA36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EA4-8219-454B-95F6-81D4AF1E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3C46F05-8236-49E1-81C2-32F412AE8560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C8F3418-F5D0-44EB-A24C-A34364409707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115F8FC2-26EC-45D1-9C8A-7EE229BD4E74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ACEC996E-D091-481A-BF45-5872DE1D09CA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198864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2000"/>
          </a:bodyPr>
          <a:p>
            <a:pPr marL="218160" indent="-21816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skaż najważniejsze elementy pierwszej pomocy w przypadku ataku epileptycznego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98440" y="1844280"/>
            <a:ext cx="10220400" cy="3102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Np.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zamortyzowanie upadku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ochrona głowy poszkodowanego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zapewnienie komfortu termicznego i psychicznego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54:5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