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CB0A-FAB0-43F8-B501-77F1EEFD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D78-2A7D-4F71-AD03-F344EF49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51E0-9E06-42BF-ACB4-C293F8AF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0401-44E6-4E9F-A415-DE8718F8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D6B-CEF8-47C6-A078-2CAAEA72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30BA-883D-4EFE-B29E-10EA1928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103E-AFAC-48C6-9EAA-C2ED65B8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8503-B999-40DF-9510-ECAC0B6F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CD20-9A3F-4A1E-8DDF-ACDD0637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0E5-066A-423F-9476-84C5D3D9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98A8-B926-4F49-8ED1-465A376B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A6AF-6144-489E-BFBC-2579CF6C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814D-A680-4202-8AFB-EF7AB2BC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8509-C079-4C2D-BA06-2BE1C0DE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9BED-0580-4F89-B934-3F45C185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60CF-D702-4445-8D72-3AB71F5E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49E4-EEA4-4220-BB44-DB3FCEE3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D320-D9C2-467A-A65D-8E093338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9061-59A8-48D5-BC3C-67309D04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E0699-9A46-4C09-8069-6D471D6A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B8F-AADE-4AD2-8F5C-AD933DFF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6FE38-5F62-4BF8-8643-47060270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65F07-80ED-4591-9108-F3EF2BE5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C33E1-8324-4746-BC80-2E2DB99B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466C4-B67B-4BA8-950F-89104F1B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DC768-719E-4677-89EC-623EBD88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00BDD-75A5-4BE7-AC3B-BE907BBC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4A317-939C-49D9-A895-BF133DE6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FE6F3-E91E-46AC-AAB7-B95E64AB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4B31B-6A21-4117-A471-2C6BAD29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496E7-A8E0-4A56-B1F8-57419B47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E9B-659D-4438-AABA-A4D17273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697D9-934A-4C36-9B93-EC514C35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9A2B1-9793-468F-A093-F253AEF6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8B017-F1E5-407A-A2C3-F737C1B2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29FEF-57B6-452B-8784-2ABD6047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09F63-E934-42ED-A4FA-86D6B67E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F3B97-CD3D-4C28-B6E6-4327877D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EBBAA-AD7A-40B3-B7C4-9DDB68B5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5C19F-658C-4F86-80F0-CAE2D28D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ACFEE-D8EE-4FDA-A198-B226BE5C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FFF3E-4489-4BAD-8CD4-D696B5AE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41A-B7E7-408F-9392-802FF90B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863E9-928B-4C80-8083-6F80F3FB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BD9C2-2007-43C9-9A94-F693F23F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63CF4-7442-459B-BDD4-7C3556AB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B54-DA5B-479C-A88D-0AA695DF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ADD1-0349-42C9-B953-0226DF68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2F59AD3-B91A-45BF-82C8-1F5974248B96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C472352D-0D82-4619-B4D6-BDA187051C97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rostokąt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8244A8B9-CD12-4397-94DB-C674422982D2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6CA7C2CA-69E9-4DC7-BC98-4627C2A996DA}" type="slidenum">
              <a:rPr b="0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71720" y="1498320"/>
            <a:ext cx="7008840" cy="2290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pl-PL" sz="5400" spc="-1" strike="noStrike">
                <a:solidFill>
                  <a:srgbClr val="374c81"/>
                </a:solidFill>
                <a:latin typeface="Century Gothic"/>
              </a:rPr>
              <a:t>Fiszki autokorektywne</a:t>
            </a:r>
            <a:endParaRPr b="0" lang="en-US" sz="5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Prostokąt zaokrąglony 4"/>
          <p:cNvSpPr/>
          <p:nvPr/>
        </p:nvSpPr>
        <p:spPr>
          <a:xfrm>
            <a:off x="407844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łatw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Prostokąt zaokrąglony 5"/>
          <p:cNvSpPr/>
          <p:nvPr/>
        </p:nvSpPr>
        <p:spPr>
          <a:xfrm>
            <a:off x="6670800" y="4149720"/>
            <a:ext cx="2447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Pytania średnio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6" name="Prostokąt zaokrąglony 6"/>
          <p:cNvSpPr/>
          <p:nvPr/>
        </p:nvSpPr>
        <p:spPr>
          <a:xfrm>
            <a:off x="9271080" y="4149720"/>
            <a:ext cx="2448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ytania trudn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7440" y="3284640"/>
            <a:ext cx="10157040" cy="792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1680" indent="-3016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i="1" lang="pl-PL" sz="3200" spc="-1" strike="noStrike">
                <a:solidFill>
                  <a:srgbClr val="374c81"/>
                </a:solidFill>
                <a:latin typeface="Century Gothic"/>
              </a:rPr>
              <a:t>Wyjaśnij skrót SAMPLE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8" name="Strzałka w prawo 1"/>
          <p:cNvSpPr/>
          <p:nvPr/>
        </p:nvSpPr>
        <p:spPr>
          <a:xfrm>
            <a:off x="9263160" y="5877000"/>
            <a:ext cx="2011320" cy="7920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12600">
            <a:solidFill>
              <a:srgbClr val="7e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000" spc="-1" strike="noStrike" u="sng">
                <a:solidFill>
                  <a:srgbClr val="0070c0"/>
                </a:solidFill>
                <a:uFillTx/>
                <a:latin typeface="Century Gothic"/>
                <a:hlinkClick r:id="rId1" action="ppaction://hlinksldjump"/>
              </a:rPr>
              <a:t>Odpowiedź</a:t>
            </a:r>
            <a:endParaRPr b="0" lang="en-US" sz="2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90800" y="1412640"/>
            <a:ext cx="9283680" cy="4470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S – (Symptoms) – Objawy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A – (Allergies) – Alergie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M – (Medicines) – Medykamenty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P – (Past medical history) – Przebyte choroby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L – (Lunch) – Ostatni posiłek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pl-PL" sz="2400" spc="-1" strike="noStrike">
                <a:solidFill>
                  <a:srgbClr val="374c81"/>
                </a:solidFill>
                <a:latin typeface="Century Gothic"/>
              </a:rPr>
              <a:t>E – (Events preceding) – Okoliczności zdarzenia 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14:36:12Z</dcterms:created>
  <dc:creator/>
  <dc:description/>
  <cp:keywords/>
  <dc:language>en-US</dc:language>
  <cp:lastModifiedBy/>
  <dcterms:modified xsi:type="dcterms:W3CDTF">2013-08-18T15:41:3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