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B207-37FC-463A-BC7B-FF72F995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1055-3B8C-4FD9-863C-532F7B05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AC07-1355-4AAC-8AA2-C0A747B4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0DDC-8B09-4A61-93FD-A01978E4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DE19-3E90-4B41-A0F9-1C226F48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4AB9-B42A-4255-9575-17E477BF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8271-1943-4399-9633-6B2E8C84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4E56-9CC4-44DA-9B71-643185FE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B6E7-4D8F-46B7-B291-08FD540B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ABCD-FAC5-484E-AE6B-E8293359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4F4B-6245-4BF0-9DC2-18E9244D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ADF4-D69B-48B6-89CF-27619CCB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AD63-757E-4391-8710-BC3C6C75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1B31-6800-4AE5-B6A7-722BC87B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1BF0-D3D2-4803-829C-BAF975FD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09F1-CEB9-41E9-9EFC-959B96FB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F191-440C-4802-A5CC-5580F606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5276-80CC-4316-B74F-45383297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C5C0-F63F-470A-BE38-DFF4BB4C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52AF0-F969-46FB-B326-FA6268C4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ABD9-6F80-4A63-86DD-B7678B27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AE076-FADA-47BC-AC82-C8DF9BF3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50D73-BCFD-4C06-BB82-D3B2000B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D849F-8936-4DFC-89E3-8B1DBA23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EBC47-D97C-4422-AE5C-A3C961A7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487F4-8571-410C-BADA-03E75F3D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628FE-17F0-4A80-9A0A-7339E471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A8801-E146-4D90-9140-E3650587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A1B33-6DF6-46A5-AED1-27009389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55F25-4CD1-4D3C-994C-A4436A63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DA189-1238-4B63-8B79-7EF58AFC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2AE0-B8D5-44E3-946A-62641098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3615F-237E-49B0-BEE8-CE43A6C0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844F4-B800-4E76-B88E-1C3F523D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6F174-3705-4F74-BD55-0BD3212F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A25A8-8FF5-4CC6-88CF-2A46D769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F352F-428A-41AC-BF2C-9FA22D70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3CC58-F89E-48AC-A47E-23DF4530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D5192-CD7B-4048-A8D3-D8F2D70A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ABA53-77C4-4ECE-B21B-6D9C7846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3EFAF-BB26-4D83-BA41-CC854B5E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40BA8-8CCE-4455-BF15-AC0C0A93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F31A-4914-4827-91C4-7ACD6D4F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16A33-862E-46F3-9F2D-E9B75F69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85767-7841-429E-B7CA-058B4BC1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EE3CB-D8DD-4086-81DF-A3A5CE31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4999-AD34-47EA-B8B6-D6609346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80B1-4EE1-421C-8E1E-4F2C7EB5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578FB1E1-C6CA-4999-BA70-4358C02682A4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62B99552-A0FC-42C5-8174-623915415652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499A9A38-2825-4215-A9DB-5DA8A03F73BE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1787B865-BFC2-4FB9-A6EA-BB12D6338EEC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3284640"/>
            <a:ext cx="10157040" cy="792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Czym się różni rana cięta od rany szarpanej?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990800" y="1412640"/>
            <a:ext cx="9283680" cy="4470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800" spc="-1" strike="noStrike">
                <a:solidFill>
                  <a:srgbClr val="374c81"/>
                </a:solidFill>
                <a:latin typeface="Century Gothic"/>
              </a:rPr>
              <a:t>Rana cięta ma gładkie brzegi, podczas gdy rana szarpana ma brzegi nieregularne</a:t>
            </a:r>
            <a:endParaRPr b="0" lang="en-US" sz="28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39:2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