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6C5C-1DF9-4D19-BC27-633CDE7F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F0A-2FC0-47F9-8ED5-63681284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3A58-3570-476B-8ED1-C1605DD8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85B9-6148-4322-B0E7-E5045220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0365-2D63-474C-92B0-1794E130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F166-7840-4313-B71E-6DC3B007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1A2A-6150-449F-A412-58548F7B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2177-CDB6-4A82-B421-DAB7FDBE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FA09-7F27-4B02-BE4C-35E179E3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A0AF-5262-4715-90BA-FBAF0213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105D-1F90-4819-883D-46867EAC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9797-8DF0-46E6-A5C9-93AC8322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9187-D57C-4D44-9719-BAB818EB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4461-6B52-4581-9CAB-9C3C329E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33E7-A34B-4B61-8CD3-5F806CCE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35FE-4DA3-4BF2-B92B-D12BD923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8E9A-220E-4EF6-A9DA-B057C6D3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70C1-E8CA-4F09-80D3-6D6A43C8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22C8-9865-4F1D-8E1C-D80546F7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D0847-E5C1-4E5E-B5DA-1330B28A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60B-5889-4DEE-B50A-4BC8BA21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4F0E5-0727-4952-9DB9-54BDCE69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F17D8-7CC1-45B2-A553-38AA4696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7564D-CA9E-46A4-AD8F-3DEB6389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F0D74-5D74-4C1F-A028-AB812B05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2939E-8AE4-45D7-B823-0929291D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89B47-0B92-4867-A6EF-43E73A24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C8305-88B1-4776-B1C5-26F3A1CA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9E1B2-9AF8-494E-AF2D-C703FF54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F4544-96E5-4640-8C9C-692C605E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B2AD8-8341-4DEC-81D3-E667D194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7B2E-9934-4AB8-B100-C1A6CF63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B2F02-7894-4899-9F84-5CE3DC05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4568B-28C1-446C-9B4D-4AB65374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9E7D5-A5FF-42AD-A85E-48D79885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4E2D3-5ECC-4A78-95A7-9E672B50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20D2D-0411-4538-B878-BAB405EA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618F3-3216-4480-9CE2-D1C77342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468EA-C23D-45C4-87B4-6ACE53AF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EBCD3-DF3F-4A9B-81A3-20BD23A3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2DD04-714C-4205-9D5A-551921A7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00783-C29D-4DAB-9DDF-FE2B6E79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52F5-8C13-46D8-B05C-97AF7131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191B2-344C-451B-8066-7E4A6C34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B8739-2FAB-4B45-A640-92EEE9DE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CD893-B6EF-46C2-AA38-C394DC23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D64E-CF5C-46F2-A202-ACEDA89C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2A67-5DCA-42F8-8CA2-E0F4A3AD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331EEFF8-300C-4200-8F2B-783AD0A723D6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B0D00793-0DCD-4DC1-8A25-13CDDA2E6CB8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B5BE1B52-C02E-40D2-8DBD-0662E8F2D5D8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031C9F08-20C7-4980-8492-232F77AC7A76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3284640"/>
            <a:ext cx="10157040" cy="792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72000"/>
          </a:bodyPr>
          <a:p>
            <a:pPr marL="218160" indent="-21816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Wyjaśnij skrót RK-O i podaj różnice pomiędzy resuscytacją a reanimacją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990800" y="1412640"/>
            <a:ext cx="9283680" cy="4470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pl-PL" sz="2800" spc="-1" strike="noStrike">
                <a:solidFill>
                  <a:srgbClr val="374c81"/>
                </a:solidFill>
                <a:latin typeface="Century Gothic"/>
              </a:rPr>
              <a:t>RK-O – Resuscytacja Krążeniowo-Oddechowa </a:t>
            </a:r>
            <a:r>
              <a:rPr b="0" i="1" lang="pl-PL" sz="2800" spc="-1" strike="noStrike">
                <a:solidFill>
                  <a:srgbClr val="374c81"/>
                </a:solidFill>
                <a:latin typeface="Century Gothic"/>
              </a:rPr>
              <a:t>Resuscytacja to czynności zmierzające do przywrócenia u poszkodowanego oddechu </a:t>
            </a:r>
            <a:br>
              <a:rPr sz="2800"/>
            </a:br>
            <a:r>
              <a:rPr b="0" i="1" lang="pl-PL" sz="2800" spc="-1" strike="noStrike">
                <a:solidFill>
                  <a:srgbClr val="374c81"/>
                </a:solidFill>
                <a:latin typeface="Century Gothic"/>
              </a:rPr>
              <a:t>i krążenia, podczas gdy celem reanimacji jest dodatkowo przywrócenie świadomości poszkodowanego. </a:t>
            </a: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38:5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