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E4C-A1EB-4845-9D74-FB37CFA1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D7A-DBAE-44D3-8D91-BB478F05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BA4-4AA6-43E7-BCF7-733426BC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9D0-07AE-48F3-9DA7-2E22DB69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BF7-CDB7-48BD-A64D-197CDDB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913-D2F4-48A6-858C-B0E216A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6FA-CF08-4D5D-896B-EE29F92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8D51-9528-414B-BA11-361F2953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8BA-B05A-45B8-9742-089A325F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7D9-2E6B-47D4-896B-24D0544F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86E-5061-4B9F-9B43-CCBACC2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B25-726E-4542-9FA9-91D1C993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DD0E-00AD-49F7-8C7C-6B3B3D3E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6D5A-980B-4CB6-AFFB-2E3C4BA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E1A1-A17B-4E02-8928-61FA75A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1A0E-0699-491A-974D-3EF84369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7E6B-F706-4E58-A038-A4E6B33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3747-E65D-4AF7-923A-0AB6431B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F39-45BF-43B4-867B-560ADA60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CB5D-F0D1-43CF-970F-11DD8239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D5E-30BE-4DDC-942D-FF3A22A2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D05E-3C77-4AA0-8D6A-820D5EB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21C8-50AA-4632-94DF-18D1268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B498-080E-4C12-B269-FE3D4D5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679A-A9F1-4B0B-88A7-A0D20E2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A2DF-4F16-4CB7-ABCD-6C0D16F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4D8E-F964-4FC3-B0CC-794603C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A232-F41F-4712-8058-F35CD61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9B75-B50C-49DE-A695-810C85E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858B-8C7B-467B-91F6-F6DE0D6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345B-5666-4653-AC4B-9A1EF13C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A36-4AD6-40ED-BD2C-3654AF63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F79B-0B30-4AC1-816F-7038866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F32C-6911-4F66-9D8C-31CAE05B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3AA7-E1E5-4E36-9F61-67C45E3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00FD-48C5-4D0A-8D09-12C76BC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6D3E-27C4-49C4-A74C-597CFBC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7892-6B26-40C0-B85B-6C075C3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4006-2144-4F93-90BF-B61CEF5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18D9-BEB3-482E-9392-B3AAD32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38F6-9CAC-4EC3-8DFB-989833C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B278-8758-46B7-AFCF-0FEF5C8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E95-56F9-4678-A4D8-997F0C02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A053-174D-400D-9D5F-2018E8C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1E98-4E43-4F71-A7C7-00A05BA5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933B-5CC1-42D0-8F6A-036C7FCA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D06-EBB9-4BE9-9B99-0B4A570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E7C-47DD-453D-93AF-04B8B59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D7FE6B3-E42F-4EF3-877F-5956CCB7CE0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D38B779-C103-468E-9E7E-1793064907A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115918B-2657-49DE-B56F-D78CE5D032A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A9167CD-2BEA-4D04-84DA-5ED6918EEA83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ymień objawy ataku padaczki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8000"/>
          </a:bodyPr>
          <a:p>
            <a:pPr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p.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ślinoto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gawk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drętwienie ciał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zczękościs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utrata kontroli nad zwieraczami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niepamięć wsteczna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enność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2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