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5FD-2364-4321-B3CB-8097C504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F93-F584-42D8-98F7-87B3290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E43-7BF7-46E2-BFCB-8D452260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764-64AD-4BB0-9C9B-09C7A8E0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A7E-10B8-4D1B-9DE8-B5C86D96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4E2-BCE4-41F0-8387-1F60CB9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2FA6-1B6A-4CEA-B6DF-8BC2C349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A92B-958B-41E3-BAC5-5EA1CFE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5595-CB30-4DF8-AFD3-1D8F053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7FA-939B-44A0-9B9F-8A47BE8D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F4C2-9087-4803-9B7F-34BBA75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9A5-4D00-4CB1-B16C-CFEB35E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80E-35C7-4BB2-BDEF-E397528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C34A-580E-489E-9491-E119523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EE7E-70E3-4F4F-B031-3333FB7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CF9E-3A64-4CD8-A28F-16DD454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C2DB-04BC-4B9C-A829-44D64FF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B8BF-AD60-4C41-8715-EC2C481F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D288-B4F4-4300-904F-4A7DE549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96D2-2CD2-497B-BCF3-DAD9E6A1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BE5-F62E-413D-AE0C-9AF93A5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BA41-A50D-4A12-A890-E437A3C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D2A6-9929-4E4A-82D6-95EFC97B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A65D-D8C1-4AA9-A6AF-893DD2B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3142-3CE9-4AFF-B912-04935E9C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67C9-BE11-47D1-9C32-EE0C202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71A5-4A06-48C2-805F-E7A8EF06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948E-D250-4D38-BE71-9E3FC30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A5D9-1FF8-4CD1-9A37-9863376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8EC9-32D5-417C-8AAD-8B70C7EC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1328-859D-4330-811F-C2DEAD7B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B1F-AD61-44A6-8668-461B62B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DC2C-72CD-420A-82D1-DD1D6CBC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4A44-BB14-40D9-BD8D-937CCB37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7512-A2F2-4F96-B792-F36AAB9E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224A-82A1-4FB6-A54C-AEAE4A3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BEDA-6D9F-4531-A06C-9898ED80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C5B4-A39E-41E9-8FDB-879EC545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E0D4-D7FD-4CB7-AFCA-42187F04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7BEA-18AC-41B4-97D1-5C98FBC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AEF9-0D0F-4C7C-AFFB-9820550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B488-A99C-49C7-AC72-A9309649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951-4B92-4116-97A2-652587B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A896-0D1C-4C0D-BC7F-5B42DA78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1F07-381C-40DB-B768-6FD8F21F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866A-AB71-4156-B101-B59C493B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7FD-E416-4E5B-BA19-071DE559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C88-8FE2-4AEE-9BDA-551571C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866C0F7-9C16-44E2-BB3F-A4A65973579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9AC8D19-1F29-4433-A097-71D64B73ABA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86820CB-F8DF-4B6F-8480-7D3AC31F43B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9BA6884-203F-496E-91D9-085CA673862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198864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mów łańcuch przeżycia. Wyjaśnij znaczenie „złotej godziny” i „platynowych minut”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98440" y="476280"/>
            <a:ext cx="1022040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Łańcuch przeżycia: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znanie i wezwanie pomoc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czesne rozpoczęcie RKO - wczesna defibrylacj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pieka poresuscytacyjn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Złota godzina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60 minut, w trakcie których poszkodowany powinien się znaleźć w szpitalu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400" spc="-1" strike="noStrike">
                <a:solidFill>
                  <a:srgbClr val="374c81"/>
                </a:solidFill>
                <a:latin typeface="Century Gothic"/>
              </a:rPr>
              <a:t>Platynowe minuty </a:t>
            </a: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– pierwszych 5 minut, w czasie których należy podjąć zabiegi resuscytacyjne 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8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