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0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whoosh.wav" ContentType="audio/x-wav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4BA0-1B71-460C-96F2-35A96B7ACBD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3BB7-F794-4261-ABCB-B5B3BF25E23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15C9-D4E0-44F7-ABE0-118A737F5C3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B998-2625-4888-BC7A-CDA118018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7D80-3701-4001-A116-AF84F242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5B97-57A1-4A5F-8E62-AD6CEA86F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2D17-E673-4E99-BEDF-D1D07B0FA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E9FD-0B45-460A-A29C-167E54B2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35A2-1584-47A2-9104-4C1497DE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9B37-D7D4-4CD7-88E6-75407EEC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5477-011C-4E9E-B7D3-63583928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3D45-65BA-411D-90BF-94DF2E65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25B7-C123-495A-AEFB-3B8AC7F0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E3DE-CCD8-49C8-80AD-D47373AF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B404-537D-496B-AA34-0A2EA26F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740F-1243-413C-9BAC-3A2DED00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D664-44B9-4418-BCCC-71111F5C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96B9-C4D7-49C2-B093-5C29BC47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822D-0A3B-4D43-913D-779B7B712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2C88-031B-4A59-BCCF-C043D22F3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F934B-CCCE-47B7-B2CE-3EB4FC66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B3215-C510-461B-B62B-6DA706F9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5979E-5BD9-4155-BD33-43EFBFC0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40C7A-3763-4864-A634-6010389C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81699-7227-428E-A7B4-73B026C5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CC0A-B8D0-4ABC-A693-A8310BEF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2A3E5-816A-4729-B1FA-E0CF2620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65FC5-A116-47DC-A09F-AED9822C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ECD6E-9185-4DA7-906E-68F813C4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31E64-3AC7-4B08-B3A2-51C6EC47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931A1-2F3E-4CFB-9408-5AF1EDDD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CDADA-D2E0-4B4D-A172-BA39AAECE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85FE6-BEC9-4E51-AE61-59A07B779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9C53D-F7B7-47E7-AD7E-D66BC994C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95A93-5AC9-43DE-BD96-3A0E8810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E62C7-51A4-4E30-8AA0-0ABFD9AF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D593-9B59-4349-A00E-245FD3F0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09773-ED82-44CB-9EF8-C74AD556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40D3D-3441-4E40-AB49-7D78B3BD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16AF3-1109-4A65-B5C1-7C029441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F96A1-BB69-4399-8726-B5B25A20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F5E48-8C9C-4108-B1ED-E026B52F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C0C3C-7295-4F97-9FDD-CEB8E4E3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7AEAD-4206-48DC-A691-3F9AC69D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6ABC3-D0A5-48CF-95DC-8E49B55E2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31097-5F75-4345-A5E0-11F6E644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B2A3D-BC09-4E52-86DE-5E85689C4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B836-E9D0-4F5D-8DB9-46C16D58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8EA44-3EA7-4DBC-B13A-DDA24495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69936-50A0-4DBE-8A6A-9E108D01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9CF2D-8E60-4D86-A6CC-EF7CA80B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29314-C2DD-4D15-9930-BAEC812D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C0522-73B7-48F1-AC35-BB78B620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E560A-D744-4814-9C9C-A771AE5F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11CEE-DE4D-48EE-A8BF-7280A725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99052-C825-4F6E-BE0D-011580E7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ED9B0-536B-440F-9681-287F8B72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C3F11-A33B-4F1D-BF44-FFF10B11B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5A8C-2E44-49A7-AC6B-05A60DCC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F0C3D-0912-4665-93EF-ADECC7BA5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144B-0CA8-437C-8FA7-A6E09563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57E6-1FA6-47B6-8935-E9ACF00C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0536-A930-4335-BA71-961B2202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rostokąt zaokrąglony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2680-66B2-4727-87A8-E47B446A4DA7}" type="slidenum">
              <a:rPr b="0" lang="pl-P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rostokąt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rostokąt zaokrąglony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rostokąt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ostokąt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rostokąt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E4A4-3D99-42EC-B89E-44D6C9D71A9F}" type="slidenum">
              <a:rPr b="0" lang="pl-P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rostokąt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Prostokąt zaokrąglony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Prostokąt zaokrąglony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Prostokąt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rostokąt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rostokąt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8EC8-1048-4B73-9A33-B35312A9B595}" type="slidenum">
              <a:rPr b="0" lang="pl-P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rostokąt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rostokąt zaokrąglony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rostokąt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rostokąt zaokrąglony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D923-9D1D-4AE4-88E9-1B2CEF54963E}" type="slidenum">
              <a:rPr b="0" lang="pl-P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rostokąt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rostokąt zaokrąglony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rostokąt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rostokąt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rostokąt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B59E-93FB-4257-BAAA-8186DFBE5C6A}" type="slidenum">
              <a:rPr b="0" lang="pl-P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324000" y="3213000"/>
            <a:ext cx="8642160" cy="16560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0000"/>
                </a:solidFill>
                <a:latin typeface="Franklin Gothic Book"/>
              </a:rPr>
              <a:t>Jak bawić się bezpiecznie</a:t>
            </a:r>
            <a:endParaRPr b="0" lang="en-US" sz="54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7" name="Picture 4" descr="C:\Users\Darek\Desktop\góra.jpg"/>
          <p:cNvPicPr/>
          <p:nvPr/>
        </p:nvPicPr>
        <p:blipFill>
          <a:blip r:embed="rId1"/>
          <a:stretch/>
        </p:blipFill>
        <p:spPr>
          <a:xfrm>
            <a:off x="1692360" y="260280"/>
            <a:ext cx="5759280" cy="944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C:\Users\Darek\Desktop\dół.jpg"/>
          <p:cNvPicPr/>
          <p:nvPr/>
        </p:nvPicPr>
        <p:blipFill>
          <a:blip r:embed="rId2"/>
          <a:stretch/>
        </p:blipFill>
        <p:spPr>
          <a:xfrm>
            <a:off x="1633680" y="5013360"/>
            <a:ext cx="5759280" cy="1400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3" name="whoo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Perpetua"/>
              </a:rPr>
              <a:t>Gdy ktoś w twoim otoczeniu zasłabnie, ułóż tę osobę na ziemi tak aby nogi znajdowały się na podwyższeniu.  Ta pozycja pozwoli jej lepiej oddychać. Jeżeli znajdujesz się w zamkniętym pomieszczeniu, otwórz okno, aby wpuścić świeże powietrze. Następnie powiadom osoby dorosł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med">
    <p:newsflash/>
    <p:sndAc>
      <p:stSnd>
        <p:snd r:embed="rId1" name="whoosh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914400" y="83664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Gdy podczas spaceru nadejdzie burza lub wichura nie chowaj się pod wysokimi drzewami, ponieważ spadające gałęzie lub pioruny mogą nieść poważne zagrożenia zdrowia i życia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Gdy znajdujesz się na terenie zabudowanym postaraj się unikać metalowych obiektów np., słupów energetycznych. Jak najszybciej ukryj się w budynku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Jeżeli burza zaskoczyła cię na terenie otwartym, nie uciekaj przed nią. Oddal się spokojnym krokiem od drzew i poszukaj schronienia na niższym terenie.</a:t>
            </a:r>
            <a:r>
              <a:rPr b="0" lang="pl-PL" sz="2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med">
    <p:newsflash/>
    <p:sndAc>
      <p:stSnd>
        <p:snd r:embed="rId1" name="whoosh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914400" y="259920"/>
            <a:ext cx="77724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Nie podchodź i nie głaskaj nieznajomych psów. Miej się na baczności gdy pies na ciebie szczeka, warczy i pokazuje zęby. Nie wolno krzyczeć na niego, zachowuj się tak jakbyś się go nie bał.  Pamiętaj aby nie patrzeć mu się prosto w oczy i nie odwracaj się do niego tyłem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Jeżeli ugryzł cię pies natychmiast powiadom osobę dorosłą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6" name="Obraz 4" descr="dog-454146_640.jpg"/>
          <p:cNvPicPr/>
          <p:nvPr/>
        </p:nvPicPr>
        <p:blipFill>
          <a:blip r:embed="rId1"/>
          <a:stretch/>
        </p:blipFill>
        <p:spPr>
          <a:xfrm>
            <a:off x="2411280" y="3284640"/>
            <a:ext cx="4345200" cy="28922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hoosh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68" name="Symbol zastępczy zawartości 4" descr="chemical-reaction-24562_640.png"/>
          <p:cNvPicPr/>
          <p:nvPr/>
        </p:nvPicPr>
        <p:blipFill>
          <a:blip r:embed="rId1"/>
          <a:stretch/>
        </p:blipFill>
        <p:spPr>
          <a:xfrm>
            <a:off x="3348000" y="3141720"/>
            <a:ext cx="1600200" cy="1623960"/>
          </a:xfrm>
          <a:prstGeom prst="rect">
            <a:avLst/>
          </a:prstGeom>
          <a:ln w="0">
            <a:noFill/>
          </a:ln>
        </p:spPr>
      </p:pic>
      <p:pic>
        <p:nvPicPr>
          <p:cNvPr id="269" name="Obraz 5" descr="chemicals-540607_640.jpg"/>
          <p:cNvPicPr/>
          <p:nvPr/>
        </p:nvPicPr>
        <p:blipFill>
          <a:blip r:embed="rId2"/>
          <a:stretch/>
        </p:blipFill>
        <p:spPr>
          <a:xfrm>
            <a:off x="3419640" y="404640"/>
            <a:ext cx="3247920" cy="2444760"/>
          </a:xfrm>
          <a:prstGeom prst="rect">
            <a:avLst/>
          </a:prstGeom>
          <a:ln w="0">
            <a:noFill/>
          </a:ln>
        </p:spPr>
      </p:pic>
      <p:pic>
        <p:nvPicPr>
          <p:cNvPr id="270" name="Obraz 6" descr="cleaning-532411_640.jpg"/>
          <p:cNvPicPr/>
          <p:nvPr/>
        </p:nvPicPr>
        <p:blipFill>
          <a:blip r:embed="rId3"/>
          <a:stretch/>
        </p:blipFill>
        <p:spPr>
          <a:xfrm>
            <a:off x="5076720" y="3860640"/>
            <a:ext cx="3683160" cy="2446560"/>
          </a:xfrm>
          <a:prstGeom prst="rect">
            <a:avLst/>
          </a:prstGeom>
          <a:ln w="0">
            <a:noFill/>
          </a:ln>
        </p:spPr>
      </p:pic>
      <p:pic>
        <p:nvPicPr>
          <p:cNvPr id="271" name="Obraz 7" descr="extinguisher-237643_640.jpg"/>
          <p:cNvPicPr/>
          <p:nvPr/>
        </p:nvPicPr>
        <p:blipFill>
          <a:blip r:embed="rId4"/>
          <a:stretch/>
        </p:blipFill>
        <p:spPr>
          <a:xfrm>
            <a:off x="7164360" y="260280"/>
            <a:ext cx="1835280" cy="3273480"/>
          </a:xfrm>
          <a:prstGeom prst="rect">
            <a:avLst/>
          </a:prstGeom>
          <a:ln w="0">
            <a:noFill/>
          </a:ln>
        </p:spPr>
      </p:pic>
      <p:pic>
        <p:nvPicPr>
          <p:cNvPr id="272" name="Obraz 8" descr="forms-103443_640.jpg"/>
          <p:cNvPicPr/>
          <p:nvPr/>
        </p:nvPicPr>
        <p:blipFill>
          <a:blip r:embed="rId5"/>
          <a:stretch/>
        </p:blipFill>
        <p:spPr>
          <a:xfrm>
            <a:off x="395280" y="2205000"/>
            <a:ext cx="2509920" cy="3768840"/>
          </a:xfrm>
          <a:prstGeom prst="rect">
            <a:avLst/>
          </a:prstGeom>
          <a:ln w="0">
            <a:noFill/>
          </a:ln>
        </p:spPr>
      </p:pic>
      <p:pic>
        <p:nvPicPr>
          <p:cNvPr id="273" name="Obraz 9" descr="honey-292133_640.jpg"/>
          <p:cNvPicPr/>
          <p:nvPr/>
        </p:nvPicPr>
        <p:blipFill>
          <a:blip r:embed="rId6"/>
          <a:stretch/>
        </p:blipFill>
        <p:spPr>
          <a:xfrm>
            <a:off x="179280" y="189000"/>
            <a:ext cx="2679840" cy="1787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7" name="whoosh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Symbol zastępczy zawartości 3" descr=""/>
          <p:cNvPicPr/>
          <p:nvPr/>
        </p:nvPicPr>
        <p:blipFill>
          <a:blip r:embed="rId1"/>
          <a:stretch/>
        </p:blipFill>
        <p:spPr>
          <a:xfrm>
            <a:off x="414360" y="536400"/>
            <a:ext cx="8034480" cy="55594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hoosh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76" name="Symbol zastępczy zawartości 4" descr="freedom-307791_640.png"/>
          <p:cNvPicPr/>
          <p:nvPr/>
        </p:nvPicPr>
        <p:blipFill>
          <a:blip r:embed="rId1"/>
          <a:stretch/>
        </p:blipFill>
        <p:spPr>
          <a:xfrm>
            <a:off x="1258920" y="765000"/>
            <a:ext cx="7007040" cy="52549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hoo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84000" y="1447920"/>
            <a:ext cx="8002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Podczas pływania należy uważać. Nie wszystkie zbiorniki wodne są odpowiednie do kąpieli. W wodzie mogą znajdować się niebezpieczne przedmioty, które wyrządzą krzywdę. Należy korzystać tylko z wyznaczonych kąpielisk pod opieką dorosłych!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1" name="Obraz 3" descr="fun-169720_640.jpg"/>
          <p:cNvPicPr/>
          <p:nvPr/>
        </p:nvPicPr>
        <p:blipFill>
          <a:blip r:embed="rId1"/>
          <a:stretch/>
        </p:blipFill>
        <p:spPr>
          <a:xfrm>
            <a:off x="2195640" y="404640"/>
            <a:ext cx="4608360" cy="3081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hoosh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69192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Pamiętaj aby podczas gry w piłkę nie bawić się blisko drogi.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4" name="Obraz 4" descr="the-ball-488716_640.jpg"/>
          <p:cNvPicPr/>
          <p:nvPr/>
        </p:nvPicPr>
        <p:blipFill>
          <a:blip r:embed="rId1"/>
          <a:stretch/>
        </p:blipFill>
        <p:spPr>
          <a:xfrm>
            <a:off x="1476360" y="2060640"/>
            <a:ext cx="6095880" cy="40575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hoosh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4400" y="69192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Nie należy bawić się petardami. Mogą wybuchnąć w ręku i poważnie uszkodzić twoje ciało. Oprócz oparzeń możesz stracić wzrok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7" name="Obraz 4" descr="firecracker-157886_640.png"/>
          <p:cNvPicPr/>
          <p:nvPr/>
        </p:nvPicPr>
        <p:blipFill>
          <a:blip r:embed="rId1"/>
          <a:stretch/>
        </p:blipFill>
        <p:spPr>
          <a:xfrm>
            <a:off x="2268360" y="1916280"/>
            <a:ext cx="4408560" cy="4489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hoosh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47592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Jazda na rolkach jest bardzo ekscytująca. Przed rozpoczęciem jazdy pamiętaj by założyć kask i ochraniacze. Nie szusuj po ulicy tylko po specjalnie wyznaczonych alejkach i chodnikach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0" name="Obraz 4" descr="skating-23797_640.png"/>
          <p:cNvPicPr/>
          <p:nvPr/>
        </p:nvPicPr>
        <p:blipFill>
          <a:blip r:embed="rId1"/>
          <a:stretch/>
        </p:blipFill>
        <p:spPr>
          <a:xfrm>
            <a:off x="3059280" y="1989000"/>
            <a:ext cx="2717640" cy="4469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hoosh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4400" y="47592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Lekarstwa są bardzo atrakcyjne, szczególnie te wyglądające jak kolorowe cukierki. Jednak uważaj bo mogą być bardzo niebezpieczne dla ciebie. Gdy poczujesz się źle, powiedz o tym osobie dorosłej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Niewłaściwe stosowanie leków może negatywnie wpłynąć na organizm a nawet doprowadzić do śmierci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3" name="Obraz 4" descr="medications-342463_640.jpg"/>
          <p:cNvPicPr/>
          <p:nvPr/>
        </p:nvPicPr>
        <p:blipFill>
          <a:blip r:embed="rId1"/>
          <a:stretch/>
        </p:blipFill>
        <p:spPr>
          <a:xfrm>
            <a:off x="2195640" y="3500280"/>
            <a:ext cx="5137200" cy="2772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hoosh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914400" y="47592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Jazdę na łyżwach należy uprawiać w specjalnie do tego przeznaczonych miejscach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5" name="Obraz 4" descr="ice-skating-235547_640.jpg"/>
          <p:cNvPicPr/>
          <p:nvPr/>
        </p:nvPicPr>
        <p:blipFill>
          <a:blip r:embed="rId1"/>
          <a:stretch/>
        </p:blipFill>
        <p:spPr>
          <a:xfrm>
            <a:off x="1547640" y="2060640"/>
            <a:ext cx="6096240" cy="4067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hoosh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47592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Wszystkie przedmioty spadające ze znacznej wysokości niosą zagrożenie dla przechodniów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erpetua"/>
              </a:rPr>
              <a:t>Nie wolno niczego wyrzucać przez okno, można w ten sposób spowodować groźny wypadek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8" name="Obraz 4" descr="water-balloon-308736_640.png"/>
          <p:cNvPicPr/>
          <p:nvPr/>
        </p:nvPicPr>
        <p:blipFill>
          <a:blip r:embed="rId1"/>
          <a:stretch/>
        </p:blipFill>
        <p:spPr>
          <a:xfrm>
            <a:off x="2843280" y="2349360"/>
            <a:ext cx="4200480" cy="37735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hoosh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Perpetua"/>
              </a:rPr>
              <a:t>Jeżeli w chłodne dni zdarzy ci się wychłodzić lub przemoczyć organizm jak najszybciej przebierz się w suche ciepłe ubrania i okryj się kocem. Ogrzeje cię również kubek gorącego napoju, np. herbaty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med">
    <p:newsflash/>
    <p:sndAc>
      <p:stSnd>
        <p:snd r:embed="rId1" name="whoo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07:15:31Z</dcterms:created>
  <dc:creator>Z-ca Komendanta</dc:creator>
  <dc:description/>
  <dc:language>en-US</dc:language>
  <cp:lastModifiedBy>Darek</cp:lastModifiedBy>
  <dcterms:modified xsi:type="dcterms:W3CDTF">2015-01-20T14:12:12Z</dcterms:modified>
  <cp:revision>19</cp:revision>
  <dc:subject/>
  <dc:title>Jak Bawić się bezpiecznie</dc:title>
</cp:coreProperties>
</file>