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1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001-7731-4782-8FF9-B069D4E8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093-BBF8-4F1E-873E-A9BFCCAC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50F-5360-44DD-8B3F-3DE2D95A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7A5-80A6-4B5F-915F-5DE27B8B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2D88-0CF1-49FB-8487-889CA8DE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9C38-BC95-4742-90E8-1175CB5A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F66A-2885-48E9-92EE-6B220DC9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0D3B-4C6E-4CF1-AF29-D1F3B8E8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62D0-2B4C-4DA6-BD48-B051DF56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74AF-30E8-40B4-ADD1-E1FE7C02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AF51-B0C3-4E8B-B49F-DFCCB184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8A4-C8E3-48DE-A9C0-79B28204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E0C8-6130-4C88-82B6-C1B37DB6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E96B-43C7-4814-8CED-2C84BA6A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866C-0950-4AA2-9840-01CA09D9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09A4-4373-48A7-A65B-688D1375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747D-2E1B-4101-A022-EE90C251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C4F1C-8DE7-491D-8970-FC433F12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78CB-C009-465B-B662-F50E9523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79BDA-2384-42F2-AFFB-D3BA3C89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D76F6-55EC-4B9C-A3D1-AE16C4D6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684E7-C559-471F-819B-DDBF1942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3D9-C866-4EB6-AFD4-83E83FF6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77CD-63B0-4DA6-A5A3-F0D12388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0EB85-633B-4366-8CCE-B2A79656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FF88C-EB29-44CD-8871-58872E0F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7098-63ED-4C1F-B675-E7FEBE19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D52D0-DF35-4C2E-A846-F1BCDEDA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643B4-FBB5-4EDE-9B27-BAD8B6CB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5167-92B1-4CD9-B3BC-BCEF795E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8C4CF-4810-4E92-B483-BB724F76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3E4BE-6B75-457F-82F6-A8451CF3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C8AEC-FE35-4CF3-85D5-B4243942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D36-92BC-4156-9764-4F8523C5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74D44-4E73-4785-9480-04D0EBBD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E6C79-B762-467D-ABA6-0E7BC2D2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7F2B5-7FE7-42CE-B849-752C4A61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06B0C-EDE7-4771-8FF7-6B417880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BB6EE-742D-4877-ACF8-FE99D2A5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D9EEF-B471-49BF-93D0-3DF1E80B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52631-4813-47A7-8CA3-A06D7DDD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69494-AEAA-407A-88C7-1AB2A52F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8B148-AC18-4CCC-B25E-37317134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FD9C1-7235-4CF5-B608-C1E2BA7F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2A6-1D5F-4153-8D80-F731C531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B30EC-4FD2-4B72-A338-1D9574BE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6D186-68F6-4F97-BC5E-79565714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4E94E-BDA7-46EC-A778-4BA9B14D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CD9DC-D207-425A-88C6-E6CF00DC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215B8-1F8F-45EB-9932-507CDC0A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5E7D4-8CC3-45CA-B57C-E2BFA08F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789D3-EDB9-4658-92E6-30AE8A1D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B7232-627B-4259-8153-146DD003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9182A-1F9F-407D-8AA5-223C3471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81696-A7AB-4C95-9DDE-A815625A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855-7BDA-4E98-A9F1-68C47EED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05B80-FBD2-453C-A16D-18321F35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4ACC2-DC98-4F42-A703-76FEA2B3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92790-0209-4636-B6AA-B3AC6E0B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3A054-DACB-47EF-832A-DA302770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418CD-C53B-4F64-BAF5-527A2A82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4A031-5F1D-4D33-B97E-93592E98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6D8E2-279A-4E75-A316-A0472AC1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63310-FEA7-4E8D-8F6D-3A0DE077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F960D-0440-4D99-9FD2-E5569FE3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F44F2-9B1A-4DC0-8FCC-17E7B047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814-91D2-4E5B-A533-E1B88FA4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2FB01-3F91-417B-8CD9-96711B49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5F01B-8E71-413B-BC21-38FB2D6A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A264D-AA03-4001-8FD3-6C28A6A3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C69F6-EDB9-44A0-BD40-3CE3680A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3B2FF-307C-42FC-90C7-4988BB0F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5A33A-5B8B-458D-832C-FD644D8B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80A09-BEFA-4D7C-9732-B67FCF47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10F2B-A699-46F5-ADE9-19ED5E9D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0D763-C2CD-4614-8154-C8EBB330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C1C68-B721-4126-A839-ED068CF0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5FF-C527-4685-8006-DFCDCA86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30D04-3556-4769-A906-5F5F6A30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0FB34-0BDF-42A5-A392-2D223BF6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A2689-B5F0-42E6-8FA2-8A8173AA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A3AAE-565E-4CC4-A547-228FEDF6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D8EFF-ABEA-40C9-9EC2-B395F7E6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7AF-4769-42CF-AB50-8F5EF4B5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BB23-0A71-4A38-8040-6314BE597559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rostokąt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CBFA-89C0-49DE-9517-01DAC4660C2D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rostokąt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ostokąt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0408-BC5C-46E3-B77F-AD8BE6309DEA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0D91-CDA7-4466-B0C2-6BA1A80CBCFC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rostokąt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1C32-397A-4F52-8BBB-5F52E280CA5D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rostokąt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rostokąt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2736-7398-47EA-B790-A0308C6A2959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rostokąt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rostokąt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1024-1DFE-4165-8C0D-D7DF60C6533A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2"/>
          <a:stretch/>
        </p:blipFill>
        <p:spPr>
          <a:xfrm>
            <a:off x="609480" y="1627200"/>
            <a:ext cx="7918560" cy="2590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404640"/>
            <a:ext cx="807732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Users\Darek\Desktop\góra.jpg"/>
          <p:cNvPicPr/>
          <p:nvPr/>
        </p:nvPicPr>
        <p:blipFill>
          <a:blip r:embed="rId3"/>
          <a:stretch/>
        </p:blipFill>
        <p:spPr>
          <a:xfrm>
            <a:off x="1692360" y="765000"/>
            <a:ext cx="5759280" cy="943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C:\Users\Darek\Desktop\dół.jpg"/>
          <p:cNvPicPr/>
          <p:nvPr/>
        </p:nvPicPr>
        <p:blipFill>
          <a:blip r:embed="rId4"/>
          <a:stretch/>
        </p:blipFill>
        <p:spPr>
          <a:xfrm>
            <a:off x="1835280" y="4797360"/>
            <a:ext cx="5761080" cy="14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ytuł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Po raz pierwszy choinka pojawiła się W Polsce w dziewiętnastym wieku jako zwyczaj zapożyczony z Nadrenii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Symbolizuje rajskie drzewo życia, dlatego pierwszymi ozdobami były jabłk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Gwiazda na czubku choinki odnosiła się do Gwiazdy Betlejemskiej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Świeczki znajdujące się na choince miały symbolizować światło Chrystusa, natomiast łańcuchy przypominały o grzechu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Z czasem ozdób przybywało, choinki stawały się coraz bardziej strojn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Obraz 6" descr="star-413981_640.jpg"/>
          <p:cNvPicPr/>
          <p:nvPr/>
        </p:nvPicPr>
        <p:blipFill>
          <a:blip r:embed="rId2"/>
          <a:stretch/>
        </p:blipFill>
        <p:spPr>
          <a:xfrm>
            <a:off x="7236000" y="11592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Obraz 3" descr="christmas-206362_640.jpg"/>
          <p:cNvPicPr/>
          <p:nvPr/>
        </p:nvPicPr>
        <p:blipFill>
          <a:blip r:embed="rId1"/>
          <a:stretch/>
        </p:blipFill>
        <p:spPr>
          <a:xfrm>
            <a:off x="2050920" y="380880"/>
            <a:ext cx="496908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Najczęściej wieszana nad drzwiami w celu zapewnienia pokoju, miłości i szczęścia domostwu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Zwyczaj całowania się pod jemiołą miało zapewnić mężczyźnie płodność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Obraz 4" descr="star-436134_640.jpg"/>
          <p:cNvPicPr/>
          <p:nvPr/>
        </p:nvPicPr>
        <p:blipFill>
          <a:blip r:embed="rId2"/>
          <a:stretch/>
        </p:blipFill>
        <p:spPr>
          <a:xfrm>
            <a:off x="6659640" y="0"/>
            <a:ext cx="21844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uste miejsce przy wigilijnym stole zostawiano dla duszy osób, które już odeszły a w tę jedną noc w roku przychodzą w odwiedziny do swoich bliskich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Obecnie wolne miejsce jest przeznaczone dla zabłąkanego wędrowc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Obraz 3" descr="christmas-ornament-11302_640.jpg"/>
          <p:cNvPicPr/>
          <p:nvPr/>
        </p:nvPicPr>
        <p:blipFill>
          <a:blip r:embed="rId2"/>
          <a:srcRect l="14561" t="0" r="12197" b="0"/>
          <a:stretch/>
        </p:blipFill>
        <p:spPr>
          <a:xfrm>
            <a:off x="7308720" y="0"/>
            <a:ext cx="12589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Dawniej wierzono, że w noc wigilijną wszystkie zwierzęta będą mówić ludzkim głosem aby móc w radować się z narodzin Jezusa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odawano zwierzętom również opłate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Obraz 3" descr="ice-crystal-64157_640.jpg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0" name="Symbol zastępczy zawartości 3" descr="nicholas-of-myra-61067_640.jpg"/>
          <p:cNvPicPr/>
          <p:nvPr/>
        </p:nvPicPr>
        <p:blipFill>
          <a:blip r:embed="rId2"/>
          <a:stretch/>
        </p:blipFill>
        <p:spPr>
          <a:xfrm>
            <a:off x="396720" y="2346480"/>
            <a:ext cx="4407120" cy="3305160"/>
          </a:xfrm>
          <a:prstGeom prst="rect">
            <a:avLst/>
          </a:prstGeom>
          <a:ln w="0">
            <a:noFill/>
          </a:ln>
        </p:spPr>
      </p:pic>
      <p:pic>
        <p:nvPicPr>
          <p:cNvPr id="351" name="Obraz 4" descr="santa-31276_640.png"/>
          <p:cNvPicPr/>
          <p:nvPr/>
        </p:nvPicPr>
        <p:blipFill>
          <a:blip r:embed="rId3"/>
          <a:stretch/>
        </p:blipFill>
        <p:spPr>
          <a:xfrm>
            <a:off x="5003640" y="2276640"/>
            <a:ext cx="34750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900000" y="1915920"/>
            <a:ext cx="3346560" cy="38113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Choin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Jaseł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Kolędnic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Jemioł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Dzielenie się opłatkie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03280" y="1989000"/>
            <a:ext cx="3929400" cy="4191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Puste miejsce przy sto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Szop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12 potra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Obraz 5" descr="christmas-ornament-513503_640.jpg"/>
          <p:cNvPicPr/>
          <p:nvPr/>
        </p:nvPicPr>
        <p:blipFill>
          <a:blip r:embed="rId2"/>
          <a:stretch/>
        </p:blipFill>
        <p:spPr>
          <a:xfrm>
            <a:off x="6622920" y="0"/>
            <a:ext cx="25210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500" spc="-1" strike="noStrike">
              <a:solidFill>
                <a:srgbClr val="ff3100"/>
              </a:solidFill>
              <a:latin typeface="Corbel"/>
            </a:endParaRPr>
          </a:p>
        </p:txBody>
      </p:sp>
      <p:pic>
        <p:nvPicPr>
          <p:cNvPr id="312" name="Symbol zastępczy zawartości 4" descr="christmas-566309_640.png"/>
          <p:cNvPicPr/>
          <p:nvPr/>
        </p:nvPicPr>
        <p:blipFill>
          <a:blip r:embed="rId1"/>
          <a:stretch/>
        </p:blipFill>
        <p:spPr>
          <a:xfrm>
            <a:off x="1258920" y="1700280"/>
            <a:ext cx="6416640" cy="45306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ytuł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orbel"/>
              </a:rPr>
              <a:t>Przed przygotowanie wigilijnego stołu, należy włożyć pod obrus sianko symbolizujące ubóstwo Chrystusa. Według tradycji, przy stole zostawia się jedno wolne miejsce dla niespodziewanego gościa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orbel"/>
              </a:rPr>
              <a:t>12 potraw znajdujących się na stole symbolizuje każdego z apostołów Jezusa. Najbardziej tradycyjnymi potrawami są: barszcz czerwony, karp, pierogi z grzybami i kapustą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orbel"/>
              </a:rPr>
              <a:t>Bardzo ważne aby podczas kolacji spróbować każdej potrawy, dzięki temu żadna przyjemność, w nowym roku, nas nie omini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Obraz 8" descr="christmas-bauble-437520_640.jpg"/>
          <p:cNvPicPr/>
          <p:nvPr/>
        </p:nvPicPr>
        <p:blipFill>
          <a:blip r:embed="rId2"/>
          <a:srcRect l="0" t="0" r="0" b="14316"/>
          <a:stretch/>
        </p:blipFill>
        <p:spPr>
          <a:xfrm>
            <a:off x="5904000" y="0"/>
            <a:ext cx="306072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Cicha noc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Bóg się rodzi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Dzisiaj w Betlejem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Do szopy, hej pasterz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Gdy się Chrystus rodzi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W żłobie leż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Lulaj że Jezuniu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Przybieżeli do Betlejem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Gdy śliczna pann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Wśród nocnej cisz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4518000" y="0"/>
            <a:ext cx="462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icha noc, święta noc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Pokój niesie, ludziom wszem 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A u żłóbka Matka Święta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zuwa sama uśmiechnięta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ad dzieciątka snem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ad dzieciątka snem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icha noc, święta noc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Pastuszkowie od swych trzód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Biegną wielce zadziwien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Za anielskim głosem pien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Gdzie się spełnił cud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Gdzie się spełnił cud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icha noc, święta noc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arodzony Boży syn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Pan wielkiego majestatu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iesie dziś całemu światu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Odkupienie win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Odkupienie wi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4518000" y="0"/>
            <a:ext cx="462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Bóg się rodzi, moc truchle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Pan niebiosów obnażon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Ogień krzepnie, blask ciemnie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Ma granice - Nieskończony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zgardzony - okryty chwa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Śmiertelny król nad wiekam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A Słowo Ciałem się stał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mieszkało między nami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Cóż masz, niebo, nad ziemiany?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Bóg porzucił szczęście two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szedł między lud ukochan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Dzieląc z nim trudy i zno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Niemało cierpiał, niemał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Żeśmy byli winni sam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A Słowo Ciałem się stał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mieszkało między nami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Podnieś rękę, boże Dziecię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Błogosław ojczyznę mi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 dobrych radach, w dobrym byci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spieraj jej siłę Swą si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Dom nasz i majętność ca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wszystkie wioski z miastam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A Słowo Ciałem się stał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mieszkało między nami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4518000" y="0"/>
            <a:ext cx="462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62864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Dzisiaj w Betlejem, dzisiaj w Betlejem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Wesoła nowin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Że Panna czysta, że Panna czyst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orodziła Syna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Maryja Panna, Maryja Pann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Dzieciątko piastuj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I Józef święty i Józef święt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On ją pielęgnuje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ociaż w stajence, chociaż w stajenc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nna Syna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rzecież on wkrótce, przecież on wkrótc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Ludzi oswobodzi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4832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I Trzej królowie, i trzej królowi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Od wschodu przybyl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I dary Panu, i dary Panu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osztowne złożyli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ójdźmy też i my, pójdźmy też i m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rzywitać Jezus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a nad królami, Króla nad królam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Uwielbić Jezusa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5076720" y="0"/>
            <a:ext cx="40672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dy się Chrystus rodz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 na świat przychodz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Ciemna noc w jasności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romienistych brodzi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Aniołowie się radują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od niebiosa wyśpiewują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-o" | x2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Mówią do pasterz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Którzy trzód swych strzegl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Aby do Betlejem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Czym prędzej pobiegl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Bo się narodził Zbawiciel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szego świata Odkupiciel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o | x2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 niebieskie duch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 posłowie nieb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owiedzcież wyraźniej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Co nam czynić trzeb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Bo my nic nie pojmujemy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Ledwo od strachu żyjemy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o | x2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dźcie do Betlejem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dzie Dziecię zrodzon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 pieluszki powit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 żłobie położon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ddajcie Mu pokłon boski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n osłodzi wasze troski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o | x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5940360" y="0"/>
            <a:ext cx="3203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5:25:04Z</dcterms:created>
  <dc:creator>Michał</dc:creator>
  <dc:description/>
  <dc:language>en-US</dc:language>
  <cp:lastModifiedBy>Darek</cp:lastModifiedBy>
  <dcterms:modified xsi:type="dcterms:W3CDTF">2015-01-20T14:10:58Z</dcterms:modified>
  <cp:revision>45</cp:revision>
  <dc:subject/>
  <dc:title>Święta Bożonarodzeniowe</dc:title>
</cp:coreProperties>
</file>