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whoosh.wav" ContentType="audio/x-wav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2EE0-0ABE-4CA7-85D5-89424BF39E2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7A74-EC4E-47CC-996C-C8C7B01FD80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445A-9988-4AF4-8347-E0E2CD9F89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ED9-56BD-4205-BC99-930F8919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F67-5A3B-40D3-B5C8-4DA9D305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81B-D857-4AFB-B97A-CFDAACE6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41B-CFF9-4238-A375-3270ADC8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CDC9-DF64-4EB3-A919-6B4CE4A5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0D25-FAA5-4D03-AE5D-78736465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1038-261F-4EA8-BB26-A8126B31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FFBD-CFDD-4BC8-A2F4-1CF78484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4C95-8E69-4EBD-A3AF-8B2B12EF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602E-9FFE-46C3-ABDA-89BB79AD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C0A7-ECE4-4FF8-9481-38CE7573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9E1-F992-4CA4-BDF4-92F735EC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673C-60B4-46B1-980F-0AB4F6CA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D51E-5B7B-40C0-9FC6-BB5502EE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95F1-B816-4019-B840-FA2C7C88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987E-8F48-4ACE-A34B-25B6BC9E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2DC1-8FD5-4436-8001-AD67FD4F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D8ACE-248A-409A-A25D-53620A1D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EAEA6-536D-492A-BDD5-47B39D35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6658D-A11F-4BED-83E7-6E8BBD81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26318-91BD-4257-992B-241B59E6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B665B-8EEB-47F8-9F5A-599D5F0B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420-D21B-4D08-BD27-F5CA7F27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0245A-FF31-43CA-B61D-DADC3643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4910A-B5CB-4F7F-9BE3-D2E7E5E8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515BE-94F3-4EBF-BC20-4149C81C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9BA18-FF81-4A00-9416-AEB1EBB0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35805-CC17-4DFE-BFF6-C26DA5A7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F4123-FF7B-42AF-91CE-B9F956CC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39508-504F-4A44-A553-4899B538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5571A-36EC-4B52-AAC2-B11A6B2B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F24D8-A89F-4C29-B804-E4C4CA2B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E5AFA-A96E-4556-9B7B-6D2C4FD6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3A3-DEED-42F3-ACCC-DC2231FE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D81B0-B6BE-465B-ABB8-74AC40A2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CB629-DE0D-406E-9094-17A7C417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BDC97-C44A-48D4-AA8E-6642811A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5B210-4702-46A3-8750-117BFA18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9A2ED-EB06-4CE3-A822-2B22BBD7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F3D60-8CED-458C-A1CE-17467199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372E5-DA03-4637-B099-79259974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211DA-04B3-4517-AD01-E4001589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FF186-5DBC-4064-9C19-89F4D73C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AF7F6-714B-4167-B439-CD6C8198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40A-AF17-4CB7-B19C-3C641703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D4497-62C5-49F1-B114-3A0A181F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65B76-45E5-4074-BCCE-D2B3E095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DF0EA-D9FE-48DA-B955-045001C9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A5431-18CF-4E47-9428-1F9807F6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770A3-E34C-4C7E-A6D0-2DB6D4FE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FFACD-9CE5-4B0A-8031-55C8F33F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CC8A4-4FB5-4952-8DC2-5C8D91EC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134A0-0961-4F29-842C-00EFBE9A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531A3-9077-4590-924C-D7C26723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F13E0-CCEA-4A0B-94A6-DAE5ED8B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B80-E546-4140-AC1B-F6EE3F4A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90BD7-7734-49BB-9735-160B8A15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A4C-2C50-4279-932D-4F064422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90DE-46ED-46A3-9138-ABF6C86D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B54-815B-4081-862A-84EDCE91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7BC9-80A3-45D2-AB71-4256D0CC0D69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rostokąt zaokrąglony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stokąt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stokąt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rostokąt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EB49-7ED3-417F-A460-5773635EDE9D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Prostokąt zaokrąglony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Prostokąt zaokrąglony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rostokąt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rostokąt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rostokąt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9188-454F-4A3A-9B6B-D40726EEB8E5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rostokąt zaokrąglony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2977-5415-4776-B9A7-C10AFEA11646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rostokąt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6DC2-AA3C-4944-854F-C77BA4989786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324000" y="3213000"/>
            <a:ext cx="8642160" cy="1656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Franklin Gothic Book"/>
              </a:rPr>
              <a:t>Jak bawić się bezpiecznie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7" name="Picture 4" descr="C:\Users\Darek\Desktop\góra.jpg"/>
          <p:cNvPicPr/>
          <p:nvPr/>
        </p:nvPicPr>
        <p:blipFill>
          <a:blip r:embed="rId1"/>
          <a:stretch/>
        </p:blipFill>
        <p:spPr>
          <a:xfrm>
            <a:off x="1692360" y="260280"/>
            <a:ext cx="5759280" cy="944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Users\Darek\Desktop\dół.jpg"/>
          <p:cNvPicPr/>
          <p:nvPr/>
        </p:nvPicPr>
        <p:blipFill>
          <a:blip r:embed="rId2"/>
          <a:stretch/>
        </p:blipFill>
        <p:spPr>
          <a:xfrm>
            <a:off x="1633680" y="501336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3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Perpetua"/>
              </a:rPr>
              <a:t>Gdy ktoś w twoim otoczeniu zasłabnie, ułóż tę osobę na ziemi tak aby nogi znajdowały się na podwyższeniu.  Ta pozycja pozwoli jej lepiej oddychać. Jeżeli znajdujesz się w zamkniętym pomieszczeniu, otwórz okno, aby wpuścić świeże powietrze. Następnie powiadom osoby dorosł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newsflash/>
    <p:sndAc>
      <p:stSnd>
        <p:snd r:embed="rId1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836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Gdy podczas spaceru nadejdzie burza lub wichura nie chowaj się pod wysokimi drzewami, ponieważ spadające gałęzie lub pioruny mogą nieść poważne zagrożenia zdrowia i życi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Gdy znajdujesz się na terenie zabudowanym postaraj się unikać metalowych obiektów np., słupów energetycznych. Jak najszybciej ukryj się w budynku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eżeli burza zaskoczyła cię na terenie otwartym, nie uciekaj przed nią. Oddal się spokojnym krokiem od drzew i poszukaj schronienia na niższym terenie.</a:t>
            </a:r>
            <a:r>
              <a:rPr b="0" lang="pl-PL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newsflash/>
    <p:sndAc>
      <p:stSnd>
        <p:snd r:embed="rId1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914400" y="25992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 podchodź i nie głaskaj nieznajomych psów. Miej się na baczności gdy pies na ciebie szczeka, warczy i pokazuje zęby. Nie wolno krzyczeć na niego, zachowuj się tak jakbyś się go nie bał.  Pamiętaj aby nie patrzeć mu się prosto w oczy i nie odwracaj się do niego tyłem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eżeli ugryzł cię pies natychmiast powiadom osobę dorosłą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6" name="Obraz 4" descr="dog-454146_640.jpg"/>
          <p:cNvPicPr/>
          <p:nvPr/>
        </p:nvPicPr>
        <p:blipFill>
          <a:blip r:embed="rId1"/>
          <a:stretch/>
        </p:blipFill>
        <p:spPr>
          <a:xfrm>
            <a:off x="2411280" y="3284640"/>
            <a:ext cx="4345200" cy="2892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8" name="Symbol zastępczy zawartości 4" descr="chemical-reaction-24562_640.png"/>
          <p:cNvPicPr/>
          <p:nvPr/>
        </p:nvPicPr>
        <p:blipFill>
          <a:blip r:embed="rId1"/>
          <a:stretch/>
        </p:blipFill>
        <p:spPr>
          <a:xfrm>
            <a:off x="3348000" y="3141720"/>
            <a:ext cx="1600200" cy="1623960"/>
          </a:xfrm>
          <a:prstGeom prst="rect">
            <a:avLst/>
          </a:prstGeom>
          <a:ln w="0">
            <a:noFill/>
          </a:ln>
        </p:spPr>
      </p:pic>
      <p:pic>
        <p:nvPicPr>
          <p:cNvPr id="269" name="Obraz 5" descr="chemicals-540607_640.jpg"/>
          <p:cNvPicPr/>
          <p:nvPr/>
        </p:nvPicPr>
        <p:blipFill>
          <a:blip r:embed="rId2"/>
          <a:stretch/>
        </p:blipFill>
        <p:spPr>
          <a:xfrm>
            <a:off x="3419640" y="404640"/>
            <a:ext cx="3247920" cy="2444760"/>
          </a:xfrm>
          <a:prstGeom prst="rect">
            <a:avLst/>
          </a:prstGeom>
          <a:ln w="0">
            <a:noFill/>
          </a:ln>
        </p:spPr>
      </p:pic>
      <p:pic>
        <p:nvPicPr>
          <p:cNvPr id="270" name="Obraz 6" descr="cleaning-532411_640.jpg"/>
          <p:cNvPicPr/>
          <p:nvPr/>
        </p:nvPicPr>
        <p:blipFill>
          <a:blip r:embed="rId3"/>
          <a:stretch/>
        </p:blipFill>
        <p:spPr>
          <a:xfrm>
            <a:off x="5076720" y="3860640"/>
            <a:ext cx="3683160" cy="2446560"/>
          </a:xfrm>
          <a:prstGeom prst="rect">
            <a:avLst/>
          </a:prstGeom>
          <a:ln w="0">
            <a:noFill/>
          </a:ln>
        </p:spPr>
      </p:pic>
      <p:pic>
        <p:nvPicPr>
          <p:cNvPr id="271" name="Obraz 7" descr="extinguisher-237643_640.jpg"/>
          <p:cNvPicPr/>
          <p:nvPr/>
        </p:nvPicPr>
        <p:blipFill>
          <a:blip r:embed="rId4"/>
          <a:stretch/>
        </p:blipFill>
        <p:spPr>
          <a:xfrm>
            <a:off x="7164360" y="260280"/>
            <a:ext cx="1835280" cy="3273480"/>
          </a:xfrm>
          <a:prstGeom prst="rect">
            <a:avLst/>
          </a:prstGeom>
          <a:ln w="0">
            <a:noFill/>
          </a:ln>
        </p:spPr>
      </p:pic>
      <p:pic>
        <p:nvPicPr>
          <p:cNvPr id="272" name="Obraz 8" descr="forms-103443_640.jpg"/>
          <p:cNvPicPr/>
          <p:nvPr/>
        </p:nvPicPr>
        <p:blipFill>
          <a:blip r:embed="rId5"/>
          <a:stretch/>
        </p:blipFill>
        <p:spPr>
          <a:xfrm>
            <a:off x="395280" y="2205000"/>
            <a:ext cx="2509920" cy="3768840"/>
          </a:xfrm>
          <a:prstGeom prst="rect">
            <a:avLst/>
          </a:prstGeom>
          <a:ln w="0">
            <a:noFill/>
          </a:ln>
        </p:spPr>
      </p:pic>
      <p:pic>
        <p:nvPicPr>
          <p:cNvPr id="273" name="Obraz 9" descr="honey-292133_640.jpg"/>
          <p:cNvPicPr/>
          <p:nvPr/>
        </p:nvPicPr>
        <p:blipFill>
          <a:blip r:embed="rId6"/>
          <a:stretch/>
        </p:blipFill>
        <p:spPr>
          <a:xfrm>
            <a:off x="179280" y="189000"/>
            <a:ext cx="2679840" cy="1787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7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Symbol zastępczy zawartości 3" descr=""/>
          <p:cNvPicPr/>
          <p:nvPr/>
        </p:nvPicPr>
        <p:blipFill>
          <a:blip r:embed="rId1"/>
          <a:stretch/>
        </p:blipFill>
        <p:spPr>
          <a:xfrm>
            <a:off x="414360" y="536400"/>
            <a:ext cx="8034480" cy="5559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6" name="Symbol zastępczy zawartości 4" descr="freedom-307791_640.png"/>
          <p:cNvPicPr/>
          <p:nvPr/>
        </p:nvPicPr>
        <p:blipFill>
          <a:blip r:embed="rId1"/>
          <a:stretch/>
        </p:blipFill>
        <p:spPr>
          <a:xfrm>
            <a:off x="1258920" y="765000"/>
            <a:ext cx="7007040" cy="5254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4000" y="1447920"/>
            <a:ext cx="8002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Podczas pływania należy uważać. Nie wszystkie zbiorniki wodne są odpowiednie do kąpieli. W wodzie mogą znajdować się niebezpieczne przedmioty, które wyrządzą krzywdę. Należy korzystać tylko z wyznaczonych kąpielisk pod opieką dorosłych!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Obraz 3" descr="fun-169720_640.jpg"/>
          <p:cNvPicPr/>
          <p:nvPr/>
        </p:nvPicPr>
        <p:blipFill>
          <a:blip r:embed="rId1"/>
          <a:stretch/>
        </p:blipFill>
        <p:spPr>
          <a:xfrm>
            <a:off x="2195640" y="404640"/>
            <a:ext cx="4608360" cy="3081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69192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Pamiętaj aby podczas gry w piłkę nie bawić się blisko drogi.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Obraz 4" descr="the-ball-488716_640.jpg"/>
          <p:cNvPicPr/>
          <p:nvPr/>
        </p:nvPicPr>
        <p:blipFill>
          <a:blip r:embed="rId1"/>
          <a:stretch/>
        </p:blipFill>
        <p:spPr>
          <a:xfrm>
            <a:off x="1476360" y="2060640"/>
            <a:ext cx="609588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69192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 należy bawić się petardami. Mogą wybuchnąć w ręku i poważnie uszkodzić twoje ciało. Oprócz oparzeń możesz stracić wzrok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Obraz 4" descr="firecracker-157886_640.png"/>
          <p:cNvPicPr/>
          <p:nvPr/>
        </p:nvPicPr>
        <p:blipFill>
          <a:blip r:embed="rId1"/>
          <a:stretch/>
        </p:blipFill>
        <p:spPr>
          <a:xfrm>
            <a:off x="2268360" y="1916280"/>
            <a:ext cx="4408560" cy="4489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azda na rolkach jest bardzo ekscytująca. Przed rozpoczęciem jazdy pamiętaj by założyć kask i ochraniacze. Nie szusuj po ulicy tylko po specjalnie wyznaczonych alejkach i chodnikach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Obraz 4" descr="skating-23797_640.png"/>
          <p:cNvPicPr/>
          <p:nvPr/>
        </p:nvPicPr>
        <p:blipFill>
          <a:blip r:embed="rId1"/>
          <a:stretch/>
        </p:blipFill>
        <p:spPr>
          <a:xfrm>
            <a:off x="3059280" y="1989000"/>
            <a:ext cx="2717640" cy="4469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Lekarstwa są bardzo atrakcyjne, szczególnie te wyglądające jak kolorowe cukierki. Jednak uważaj bo mogą być bardzo niebezpieczne dla ciebie. Gdy poczujesz się źle, powiedz o tym osobie dorosłej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właściwe stosowanie leków może negatywnie wpłynąć na organizm a nawet doprowadzić do śmierci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Obraz 4" descr="medications-342463_640.jpg"/>
          <p:cNvPicPr/>
          <p:nvPr/>
        </p:nvPicPr>
        <p:blipFill>
          <a:blip r:embed="rId1"/>
          <a:stretch/>
        </p:blipFill>
        <p:spPr>
          <a:xfrm>
            <a:off x="2195640" y="3500280"/>
            <a:ext cx="5137200" cy="2772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azdę na łyżwach należy uprawiać w specjalnie do tego przeznaczonych miejscach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5" name="Obraz 4" descr="ice-skating-235547_640.jpg"/>
          <p:cNvPicPr/>
          <p:nvPr/>
        </p:nvPicPr>
        <p:blipFill>
          <a:blip r:embed="rId1"/>
          <a:stretch/>
        </p:blipFill>
        <p:spPr>
          <a:xfrm>
            <a:off x="1547640" y="206064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Wszystkie przedmioty spadające ze znacznej wysokości niosą zagrożenie dla przechodniów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 wolno niczego wyrzucać przez okno, można w ten sposób spowodować groźny wypadek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Obraz 4" descr="water-balloon-308736_640.png"/>
          <p:cNvPicPr/>
          <p:nvPr/>
        </p:nvPicPr>
        <p:blipFill>
          <a:blip r:embed="rId1"/>
          <a:stretch/>
        </p:blipFill>
        <p:spPr>
          <a:xfrm>
            <a:off x="2843280" y="2349360"/>
            <a:ext cx="4200480" cy="3773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Perpetua"/>
              </a:rPr>
              <a:t>Jeżeli w chłodne dni zdarzy ci się wychłodzić lub przemoczyć organizm jak najszybciej przebierz się w suche ciepłe ubrania i okryj się kocem. Ogrzeje cię również kubek gorącego napoju, np. herbaty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newsflash/>
    <p:sndAc>
      <p:stSnd>
        <p:snd r:embed="rId1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7:15:31Z</dcterms:created>
  <dc:creator>Z-ca Komendanta</dc:creator>
  <dc:description/>
  <dc:language>en-US</dc:language>
  <cp:lastModifiedBy>Darek</cp:lastModifiedBy>
  <dcterms:modified xsi:type="dcterms:W3CDTF">2015-01-20T14:12:12Z</dcterms:modified>
  <cp:revision>19</cp:revision>
  <dc:subject/>
  <dc:title>Jak Bawić się bezpiecznie</dc:title>
</cp:coreProperties>
</file>