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whoosh.wav" ContentType="audio/x-wav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2A44-D73D-42A5-8BAC-D796FBB0FA2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3805-4E5C-4DB9-86FE-A84EFF88F69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1863-8D7F-44F2-A377-E26807ED06D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A5B-3FE3-40E4-A101-6C525AE5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05D-2C69-4931-98DA-E5640423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962F-7219-40D0-A66E-B83DB986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989F-1C26-4F0D-8CC5-C007B3FB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0D90-0F5B-4D72-930B-0C93E581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24EE-B97E-43A4-B649-828AD6B6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3754-388A-4C6F-861E-840629EA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0F29-4558-43E1-A206-95C3EB13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FC03-96D8-401E-AD9A-A46D3952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6409-EE56-4E76-9776-B58435F8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49CA-E2C2-4AC0-B3B1-051C2459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029A-DA44-433F-A508-2944974D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8CB8-DFA8-4D33-A547-F904F440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057C-F572-4AE4-83D8-0A21902E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94B7-4FB8-4381-921F-D2A86062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D38F-09E3-45EA-9D2B-4F3F88BA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3B5C-7191-4CE8-A131-F50F8349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1FE92-D7A8-4242-A098-40227051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A6DC9-2193-4917-806C-7E1EEB23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4874E-76AC-4B5D-9C9D-DCE39DB2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1A65B-391B-4763-8C12-17CB79FD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25A16-2C7D-40AC-AEE6-373B0D8E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B22-CA24-461A-A935-AD4DE4BA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44292-F144-49B8-986C-2E1EACE4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1BE9E-7DA2-4040-9A5A-D61A7B53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61C9E-4B4D-4302-B07D-81BE9DE5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98E0A-1A56-43DD-B3E9-04B1C2DA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96EAD-4A2B-42D5-8FA8-FBE78148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4F38A-86B8-4AF3-A2BF-A282D7F3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3BB4C-AC24-485D-BA9E-8A7285A1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866EC-F084-4627-9674-5129C69A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90160-34A4-4FF0-827D-DD9916F3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28CE4-7851-4785-A76B-11E56DC7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190C-DB6C-4527-8271-06FFEA68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22265-218F-451B-A6CE-E9F98161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7A64C-B497-401F-A5CB-3E416929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5F025-7092-4DC2-AC76-C6DBFCE2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95D83-0083-4FA6-8082-2D0F4BCE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5958B-E5EB-4A61-8319-299205B6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3BE70-C71A-4C7E-A83A-238D558F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F7758-ACEE-4A9E-B195-4C0D0321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751B3-79E9-4DE4-834F-5BCFAC2B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C0FE0-C8E8-4DFF-B9AA-5D6BFF7F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A6D5F-C460-4D0F-87DB-8EB83984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328-58C8-4334-87BA-04A5274B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9868B-9F87-429E-9225-4F1A3915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65082-8449-4FC3-BB2C-2C206DC7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5D0AB-38ED-465B-BD15-B59A206D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0AD9C-2307-4FC9-BD2F-1EC9E2A4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CE769-A341-4C37-9DC9-0C5374E4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174AD-A9FC-4E39-BAC3-CE07F504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E6E2D-185E-40EF-9776-DC03D022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77A33-677F-432C-AC0B-EBD97FDF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B4DCD-078D-4DB0-8FD7-4064E95E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1AB18-2E8A-428D-A5F4-A467B50A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911-45F0-45ED-A9BA-A9AAAB90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36E0E-C2E1-4572-9C31-BD56A96D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3AB-DD95-4A8A-8B50-E1C6222F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3B80-2858-49CC-B774-0C77CAB3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05A-776B-4B56-9B91-4A533019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D05B-C258-438E-B79D-1D5E26110A66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rostokąt zaokrąglony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stokąt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stokąt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rostokąt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9B6A-813B-42F6-8CD4-92758D6C407C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Prostokąt zaokrąglony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Prostokąt zaokrąglony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rostokąt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rostokąt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rostokąt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35CA-54BD-461A-90FC-2442FAF78A75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rostokąt zaokrąglony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7C39-6B2E-4B85-AA8D-BED69F72B4EB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rostokąt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rostokąt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rostokąt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E87E-A660-40BE-B2FB-FA7C624851CB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324000" y="3213000"/>
            <a:ext cx="8642160" cy="1656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Franklin Gothic Book"/>
              </a:rPr>
              <a:t>Jak bawić się bezpiecznie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7" name="Picture 4" descr="C:\Users\Darek\Desktop\góra.jpg"/>
          <p:cNvPicPr/>
          <p:nvPr/>
        </p:nvPicPr>
        <p:blipFill>
          <a:blip r:embed="rId1"/>
          <a:stretch/>
        </p:blipFill>
        <p:spPr>
          <a:xfrm>
            <a:off x="1692360" y="260280"/>
            <a:ext cx="5759280" cy="944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Users\Darek\Desktop\dół.jpg"/>
          <p:cNvPicPr/>
          <p:nvPr/>
        </p:nvPicPr>
        <p:blipFill>
          <a:blip r:embed="rId2"/>
          <a:stretch/>
        </p:blipFill>
        <p:spPr>
          <a:xfrm>
            <a:off x="1633680" y="5013360"/>
            <a:ext cx="5759280" cy="1400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3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Perpetua"/>
              </a:rPr>
              <a:t>Gdy ktoś w twoim otoczeniu zasłabnie, ułóż tę osobę na ziemi tak aby nogi znajdowały się na podwyższeniu.  Ta pozycja pozwoli jej lepiej oddychać. Jeżeli znajdujesz się w zamkniętym pomieszczeniu, otwórz okno, aby wpuścić świeże powietrze. Następnie powiadom osoby dorosł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med">
    <p:newsflash/>
    <p:sndAc>
      <p:stSnd>
        <p:snd r:embed="rId1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836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Gdy podczas spaceru nadejdzie burza lub wichura nie chowaj się pod wysokimi drzewami, ponieważ spadające gałęzie lub pioruny mogą nieść poważne zagrożenia zdrowia i życia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Gdy znajdujesz się na terenie zabudowanym postaraj się unikać metalowych obiektów np., słupów energetycznych. Jak najszybciej ukryj się w budynku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Jeżeli burza zaskoczyła cię na terenie otwartym, nie uciekaj przed nią. Oddal się spokojnym krokiem od drzew i poszukaj schronienia na niższym terenie.</a:t>
            </a:r>
            <a:r>
              <a:rPr b="0" lang="pl-PL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med">
    <p:newsflash/>
    <p:sndAc>
      <p:stSnd>
        <p:snd r:embed="rId1" name="whoo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914400" y="25992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Nie podchodź i nie głaskaj nieznajomych psów. Miej się na baczności gdy pies na ciebie szczeka, warczy i pokazuje zęby. Nie wolno krzyczeć na niego, zachowuj się tak jakbyś się go nie bał.  Pamiętaj aby nie patrzeć mu się prosto w oczy i nie odwracaj się do niego tyłem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Jeżeli ugryzł cię pies natychmiast powiadom osobę dorosłą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6" name="Obraz 4" descr="dog-454146_640.jpg"/>
          <p:cNvPicPr/>
          <p:nvPr/>
        </p:nvPicPr>
        <p:blipFill>
          <a:blip r:embed="rId1"/>
          <a:stretch/>
        </p:blipFill>
        <p:spPr>
          <a:xfrm>
            <a:off x="2411280" y="3284640"/>
            <a:ext cx="4345200" cy="2892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68" name="Symbol zastępczy zawartości 4" descr="chemical-reaction-24562_640.png"/>
          <p:cNvPicPr/>
          <p:nvPr/>
        </p:nvPicPr>
        <p:blipFill>
          <a:blip r:embed="rId1"/>
          <a:stretch/>
        </p:blipFill>
        <p:spPr>
          <a:xfrm>
            <a:off x="3348000" y="3141720"/>
            <a:ext cx="1600200" cy="1623960"/>
          </a:xfrm>
          <a:prstGeom prst="rect">
            <a:avLst/>
          </a:prstGeom>
          <a:ln w="0">
            <a:noFill/>
          </a:ln>
        </p:spPr>
      </p:pic>
      <p:pic>
        <p:nvPicPr>
          <p:cNvPr id="269" name="Obraz 5" descr="chemicals-540607_640.jpg"/>
          <p:cNvPicPr/>
          <p:nvPr/>
        </p:nvPicPr>
        <p:blipFill>
          <a:blip r:embed="rId2"/>
          <a:stretch/>
        </p:blipFill>
        <p:spPr>
          <a:xfrm>
            <a:off x="3419640" y="404640"/>
            <a:ext cx="3247920" cy="2444760"/>
          </a:xfrm>
          <a:prstGeom prst="rect">
            <a:avLst/>
          </a:prstGeom>
          <a:ln w="0">
            <a:noFill/>
          </a:ln>
        </p:spPr>
      </p:pic>
      <p:pic>
        <p:nvPicPr>
          <p:cNvPr id="270" name="Obraz 6" descr="cleaning-532411_640.jpg"/>
          <p:cNvPicPr/>
          <p:nvPr/>
        </p:nvPicPr>
        <p:blipFill>
          <a:blip r:embed="rId3"/>
          <a:stretch/>
        </p:blipFill>
        <p:spPr>
          <a:xfrm>
            <a:off x="5076720" y="3860640"/>
            <a:ext cx="3683160" cy="2446560"/>
          </a:xfrm>
          <a:prstGeom prst="rect">
            <a:avLst/>
          </a:prstGeom>
          <a:ln w="0">
            <a:noFill/>
          </a:ln>
        </p:spPr>
      </p:pic>
      <p:pic>
        <p:nvPicPr>
          <p:cNvPr id="271" name="Obraz 7" descr="extinguisher-237643_640.jpg"/>
          <p:cNvPicPr/>
          <p:nvPr/>
        </p:nvPicPr>
        <p:blipFill>
          <a:blip r:embed="rId4"/>
          <a:stretch/>
        </p:blipFill>
        <p:spPr>
          <a:xfrm>
            <a:off x="7164360" y="260280"/>
            <a:ext cx="1835280" cy="3273480"/>
          </a:xfrm>
          <a:prstGeom prst="rect">
            <a:avLst/>
          </a:prstGeom>
          <a:ln w="0">
            <a:noFill/>
          </a:ln>
        </p:spPr>
      </p:pic>
      <p:pic>
        <p:nvPicPr>
          <p:cNvPr id="272" name="Obraz 8" descr="forms-103443_640.jpg"/>
          <p:cNvPicPr/>
          <p:nvPr/>
        </p:nvPicPr>
        <p:blipFill>
          <a:blip r:embed="rId5"/>
          <a:stretch/>
        </p:blipFill>
        <p:spPr>
          <a:xfrm>
            <a:off x="395280" y="2205000"/>
            <a:ext cx="2509920" cy="3768840"/>
          </a:xfrm>
          <a:prstGeom prst="rect">
            <a:avLst/>
          </a:prstGeom>
          <a:ln w="0">
            <a:noFill/>
          </a:ln>
        </p:spPr>
      </p:pic>
      <p:pic>
        <p:nvPicPr>
          <p:cNvPr id="273" name="Obraz 9" descr="honey-292133_640.jpg"/>
          <p:cNvPicPr/>
          <p:nvPr/>
        </p:nvPicPr>
        <p:blipFill>
          <a:blip r:embed="rId6"/>
          <a:stretch/>
        </p:blipFill>
        <p:spPr>
          <a:xfrm>
            <a:off x="179280" y="189000"/>
            <a:ext cx="2679840" cy="1787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7" name="whoo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Symbol zastępczy zawartości 3" descr=""/>
          <p:cNvPicPr/>
          <p:nvPr/>
        </p:nvPicPr>
        <p:blipFill>
          <a:blip r:embed="rId1"/>
          <a:stretch/>
        </p:blipFill>
        <p:spPr>
          <a:xfrm>
            <a:off x="414360" y="536400"/>
            <a:ext cx="8034480" cy="5559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6" name="Symbol zastępczy zawartości 4" descr="freedom-307791_640.png"/>
          <p:cNvPicPr/>
          <p:nvPr/>
        </p:nvPicPr>
        <p:blipFill>
          <a:blip r:embed="rId1"/>
          <a:stretch/>
        </p:blipFill>
        <p:spPr>
          <a:xfrm>
            <a:off x="1258920" y="765000"/>
            <a:ext cx="7007040" cy="5254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4000" y="1447920"/>
            <a:ext cx="8002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Podczas pływania należy uważać. Nie wszystkie zbiorniki wodne są odpowiednie do kąpieli. W wodzie mogą znajdować się niebezpieczne przedmioty, które wyrządzą krzywdę. Należy korzystać tylko z wyznaczonych kąpielisk pod opieką dorosłych!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Obraz 3" descr="fun-169720_640.jpg"/>
          <p:cNvPicPr/>
          <p:nvPr/>
        </p:nvPicPr>
        <p:blipFill>
          <a:blip r:embed="rId1"/>
          <a:stretch/>
        </p:blipFill>
        <p:spPr>
          <a:xfrm>
            <a:off x="2195640" y="404640"/>
            <a:ext cx="4608360" cy="3081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69192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Pamiętaj aby podczas gry w piłkę nie bawić się blisko drogi.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Obraz 4" descr="the-ball-488716_640.jpg"/>
          <p:cNvPicPr/>
          <p:nvPr/>
        </p:nvPicPr>
        <p:blipFill>
          <a:blip r:embed="rId1"/>
          <a:stretch/>
        </p:blipFill>
        <p:spPr>
          <a:xfrm>
            <a:off x="1476360" y="2060640"/>
            <a:ext cx="609588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69192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Nie należy bawić się petardami. Mogą wybuchnąć w ręku i poważnie uszkodzić twoje ciało. Oprócz oparzeń możesz stracić wzrok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7" name="Obraz 4" descr="firecracker-157886_640.png"/>
          <p:cNvPicPr/>
          <p:nvPr/>
        </p:nvPicPr>
        <p:blipFill>
          <a:blip r:embed="rId1"/>
          <a:stretch/>
        </p:blipFill>
        <p:spPr>
          <a:xfrm>
            <a:off x="2268360" y="1916280"/>
            <a:ext cx="4408560" cy="4489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475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Jazda na rolkach jest bardzo ekscytująca. Przed rozpoczęciem jazdy pamiętaj by założyć kask i ochraniacze. Nie szusuj po ulicy tylko po specjalnie wyznaczonych alejkach i chodnikach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0" name="Obraz 4" descr="skating-23797_640.png"/>
          <p:cNvPicPr/>
          <p:nvPr/>
        </p:nvPicPr>
        <p:blipFill>
          <a:blip r:embed="rId1"/>
          <a:stretch/>
        </p:blipFill>
        <p:spPr>
          <a:xfrm>
            <a:off x="3059280" y="1989000"/>
            <a:ext cx="2717640" cy="4469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475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Lekarstwa są bardzo atrakcyjne, szczególnie te wyglądające jak kolorowe cukierki. Jednak uważaj bo mogą być bardzo niebezpieczne dla ciebie. Gdy poczujesz się źle, powiedz o tym osobie dorosłej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Niewłaściwe stosowanie leków może negatywnie wpłynąć na organizm a nawet doprowadzić do śmierci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Obraz 4" descr="medications-342463_640.jpg"/>
          <p:cNvPicPr/>
          <p:nvPr/>
        </p:nvPicPr>
        <p:blipFill>
          <a:blip r:embed="rId1"/>
          <a:stretch/>
        </p:blipFill>
        <p:spPr>
          <a:xfrm>
            <a:off x="2195640" y="3500280"/>
            <a:ext cx="5137200" cy="2772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914400" y="475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Jazdę na łyżwach należy uprawiać w specjalnie do tego przeznaczonych miejscach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5" name="Obraz 4" descr="ice-skating-235547_640.jpg"/>
          <p:cNvPicPr/>
          <p:nvPr/>
        </p:nvPicPr>
        <p:blipFill>
          <a:blip r:embed="rId1"/>
          <a:stretch/>
        </p:blipFill>
        <p:spPr>
          <a:xfrm>
            <a:off x="1547640" y="2060640"/>
            <a:ext cx="6096240" cy="4067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475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Wszystkie przedmioty spadające ze znacznej wysokości niosą zagrożenie dla przechodniów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Nie wolno niczego wyrzucać przez okno, można w ten sposób spowodować groźny wypadek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8" name="Obraz 4" descr="water-balloon-308736_640.png"/>
          <p:cNvPicPr/>
          <p:nvPr/>
        </p:nvPicPr>
        <p:blipFill>
          <a:blip r:embed="rId1"/>
          <a:stretch/>
        </p:blipFill>
        <p:spPr>
          <a:xfrm>
            <a:off x="2843280" y="2349360"/>
            <a:ext cx="4200480" cy="3773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Perpetua"/>
              </a:rPr>
              <a:t>Jeżeli w chłodne dni zdarzy ci się wychłodzić lub przemoczyć organizm jak najszybciej przebierz się w suche ciepłe ubrania i okryj się kocem. Ogrzeje cię również kubek gorącego napoju, np. herbaty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med">
    <p:newsflash/>
    <p:sndAc>
      <p:stSnd>
        <p:snd r:embed="rId1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07:15:31Z</dcterms:created>
  <dc:creator>Z-ca Komendanta</dc:creator>
  <dc:description/>
  <dc:language>en-US</dc:language>
  <cp:lastModifiedBy>Darek</cp:lastModifiedBy>
  <dcterms:modified xsi:type="dcterms:W3CDTF">2015-01-20T14:12:12Z</dcterms:modified>
  <cp:revision>19</cp:revision>
  <dc:subject/>
  <dc:title>Jak Bawić się bezpiecznie</dc:title>
</cp:coreProperties>
</file>