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928-CE05-462F-8D35-DEAF191B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6A4-BE1B-45F6-9037-D667D9E7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3B5-0941-481D-AA91-CF736690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555-3750-4045-BA09-35FBC5B9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C8B9-129B-4D47-8F42-27B80682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FB38-1BB7-45E5-A052-6D82840D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A409-8FD4-423C-A764-C3DE94DE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5D2F-B169-412D-9396-17C14E8E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62FC-BF84-452D-B33F-9A972A49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B863-B623-42E4-AE18-13651294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8CFB-01DB-4033-9736-1F23C111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8EE-629E-45FD-B0CB-5C25FA89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838C-487E-4BAD-81A3-CF541D57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167C-54C6-458C-B8C4-5AABDD9C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3D9C-4EBD-47BC-A094-7174AD79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6D5E-1594-409C-9A02-56894F02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6722-F8D6-4D18-AEA6-0106F0D1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08CDF-7C7E-4097-8350-354AF8F2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4A5A-0549-4EFD-939E-E3D3A2B8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33397-CECC-49B8-9514-5D9ED335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A37A-C689-4301-A3C9-E2459153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1578-38D4-44ED-9A83-C2C2A414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CD3-0D7E-4814-92C0-446C9303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C058-565E-46AF-90A1-4F021E51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3D19-E260-4E94-9D40-C3643387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6FE2-82B3-4D4A-BEFC-06346864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FA83-6921-4B7E-8B9E-376F663D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784BF-1712-4845-AE87-2778CBD3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C410-BA5E-4F79-8DC1-B3E8205D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7792-9772-4530-AA93-ED5B02E1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374D1-4CF2-4B04-A231-7CD3034B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EC11-F92A-497D-8FB6-E389191B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6EF92-F934-4CB5-8AB9-F474DD32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54B-A418-4184-B428-9E02BC76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71ED3-6276-4273-930B-3A5B4EB3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0388A-0CA6-4B2F-917A-5AF2DDFE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27EB8-2F7D-4FE8-9BCD-0BC9DDF8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7A621-777D-411C-A901-27F653B4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CE7BB-B513-4279-A5C9-C4E21974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C974D-2E88-4617-9991-5BBFFD28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A6C22-D993-484E-A584-F4864BC3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4ADB5-2336-481E-AED1-A5F90E0D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91DAC-1F86-4F52-A519-8256C440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45D1E-8AA6-47A2-9E3D-8B882633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F33-58E0-4E6F-B1B2-7DDBD974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71C69-B047-46B1-AFA0-93A8C068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7A6C8-2063-4528-81F1-34CB7D50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424E3-22F4-423B-BAF7-FB452E50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28EF1-FBBB-4D9E-8A51-C30F0018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F1AE0-601A-4C6A-8D99-DAEA4FB7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B1EF7-1AA4-458A-B92E-FCFBD71C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302BC-C0A7-49F3-9877-7AD058B4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01DDC-48F2-4570-B97E-45A0A465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91766-A3D4-4006-9D7A-78980E32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681A0-99C1-4358-9BB2-A2D44D82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814-A5B4-4517-976F-746144EC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97A27-41B2-4C9A-A582-5989F206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1E935-9689-4763-ADE8-F404D11A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5A3BD-86AF-4550-B88A-208052C8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CA5D5-FBEF-4C63-88D3-C4FCDE34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5646C-D802-45B1-AF63-36E7CDE7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03755-2CF9-4719-B50D-63AA2A0B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212D7-14C2-4F36-B28A-44BB596E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474C8-85FE-4172-8874-4CDBAFD9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9AD11-C276-41AB-8CAE-76277DCA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03281-5707-41B2-A008-B234F2D6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B3F-C637-4779-8326-74C4610B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D8B52-DF56-4DBF-86B5-19D3A773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8F12B-1103-4F1F-A34F-A225054B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12DC5-42D3-4F9B-91B8-A90E54E2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57C6C-5ACD-47D0-8232-3D354936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879B7-D691-457C-B13D-52574598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C1401-EC2F-4029-B96F-C59E127B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DFFC9-CD73-4078-A276-264C212F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D7626-3B86-45EE-8F3B-D36AA118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B155D-7807-4B93-9A05-B2EA5BF9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13464-4420-48AC-A50F-99EF181F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72C-6365-4DA3-AFD3-72022BB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1655D-4190-44E1-8743-22F8D9BA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F865E-0C56-4554-9F31-4948015F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AFAC3-9D36-421B-BFB4-8A8CB71F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B1FCC-2D57-4042-9D60-AB1C995B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FF337-CE81-4E1C-B29B-D6720382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299-ED63-4823-995E-C3C50F8C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FB41-7326-467B-84C9-86F0C1C501D8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ostokąt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CD8D-B5E6-4E49-9EBC-1DF08EFDF4E9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rostokąt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ostokąt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106D-1F59-4E5E-B247-A39BBD15357C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B702-AEBB-427B-944F-5FC54741133F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rostokąt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CB06-4A6B-450C-84DF-50BD540D5BB7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rostokąt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rostokąt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BB40-0A59-439A-8E49-8656C2818FDD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rostokąt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rostokąt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D935-6601-4C18-A16E-DB52115A8A46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2"/>
          <a:stretch/>
        </p:blipFill>
        <p:spPr>
          <a:xfrm>
            <a:off x="609480" y="1627200"/>
            <a:ext cx="7918560" cy="2590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404640"/>
            <a:ext cx="807732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Users\Darek\Desktop\góra.jpg"/>
          <p:cNvPicPr/>
          <p:nvPr/>
        </p:nvPicPr>
        <p:blipFill>
          <a:blip r:embed="rId3"/>
          <a:stretch/>
        </p:blipFill>
        <p:spPr>
          <a:xfrm>
            <a:off x="1692360" y="765000"/>
            <a:ext cx="5759280" cy="943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C:\Users\Darek\Desktop\dół.jpg"/>
          <p:cNvPicPr/>
          <p:nvPr/>
        </p:nvPicPr>
        <p:blipFill>
          <a:blip r:embed="rId4"/>
          <a:stretch/>
        </p:blipFill>
        <p:spPr>
          <a:xfrm>
            <a:off x="1835280" y="4797360"/>
            <a:ext cx="5761080" cy="14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ytuł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Po raz pierwszy choinka pojawiła się W Polsce w dziewiętnastym wieku jako zwyczaj zapożyczony z Nadrenii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Symbolizuje rajskie drzewo życia, dlatego pierwszymi ozdobami były jabłk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wiazda na czubku choinki odnosiła się do Gwiazdy Betlejemskiej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Świeczki znajdujące się na choince miały symbolizować światło Chrystusa, natomiast łańcuchy przypominały o grzechu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Z czasem ozdób przybywało, choinki stawały się coraz bardziej strojn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Obraz 6" descr="star-413981_640.jpg"/>
          <p:cNvPicPr/>
          <p:nvPr/>
        </p:nvPicPr>
        <p:blipFill>
          <a:blip r:embed="rId2"/>
          <a:stretch/>
        </p:blipFill>
        <p:spPr>
          <a:xfrm>
            <a:off x="7236000" y="11592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raz 3" descr="christmas-206362_640.jpg"/>
          <p:cNvPicPr/>
          <p:nvPr/>
        </p:nvPicPr>
        <p:blipFill>
          <a:blip r:embed="rId1"/>
          <a:stretch/>
        </p:blipFill>
        <p:spPr>
          <a:xfrm>
            <a:off x="2050920" y="380880"/>
            <a:ext cx="49690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Najczęściej wieszana nad drzwiami w celu zapewnienia pokoju, miłości i szczęścia domostwu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Zwyczaj całowania się pod jemiołą miało zapewnić mężczyźnie płodnoś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Obraz 4" descr="star-436134_640.jpg"/>
          <p:cNvPicPr/>
          <p:nvPr/>
        </p:nvPicPr>
        <p:blipFill>
          <a:blip r:embed="rId2"/>
          <a:stretch/>
        </p:blipFill>
        <p:spPr>
          <a:xfrm>
            <a:off x="6659640" y="0"/>
            <a:ext cx="21844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uste miejsce przy wigilijnym stole zostawiano dla duszy osób, które już odeszły a w tę jedną noc w roku przychodzą w odwiedziny do swoich bliskich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Obecnie wolne miejsce jest przeznaczone dla zabłąkanego wędrowc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Obraz 3" descr="christmas-ornament-11302_640.jpg"/>
          <p:cNvPicPr/>
          <p:nvPr/>
        </p:nvPicPr>
        <p:blipFill>
          <a:blip r:embed="rId2"/>
          <a:srcRect l="14561" t="0" r="12197" b="0"/>
          <a:stretch/>
        </p:blipFill>
        <p:spPr>
          <a:xfrm>
            <a:off x="7308720" y="0"/>
            <a:ext cx="12589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Dawniej wierzono, że w noc wigilijną wszystkie zwierzęta będą mówić ludzkim głosem aby móc w radować się z narodzin Jezusa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odawano zwierzętom również opłate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Obraz 3" descr="ice-crystal-64157_640.jpg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0" name="Symbol zastępczy zawartości 3" descr="nicholas-of-myra-61067_640.jpg"/>
          <p:cNvPicPr/>
          <p:nvPr/>
        </p:nvPicPr>
        <p:blipFill>
          <a:blip r:embed="rId2"/>
          <a:stretch/>
        </p:blipFill>
        <p:spPr>
          <a:xfrm>
            <a:off x="396720" y="2346480"/>
            <a:ext cx="4407120" cy="3305160"/>
          </a:xfrm>
          <a:prstGeom prst="rect">
            <a:avLst/>
          </a:prstGeom>
          <a:ln w="0">
            <a:noFill/>
          </a:ln>
        </p:spPr>
      </p:pic>
      <p:pic>
        <p:nvPicPr>
          <p:cNvPr id="351" name="Obraz 4" descr="santa-31276_640.png"/>
          <p:cNvPicPr/>
          <p:nvPr/>
        </p:nvPicPr>
        <p:blipFill>
          <a:blip r:embed="rId3"/>
          <a:stretch/>
        </p:blipFill>
        <p:spPr>
          <a:xfrm>
            <a:off x="5003640" y="2276640"/>
            <a:ext cx="34750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900000" y="1915920"/>
            <a:ext cx="3346560" cy="3811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Choin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Jaseł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Kolędnic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Jemioł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Dzielenie się opłatki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03280" y="1989000"/>
            <a:ext cx="3929400" cy="4191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Puste miejsce przy sto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Szop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12 potra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Obraz 5" descr="christmas-ornament-513503_640.jpg"/>
          <p:cNvPicPr/>
          <p:nvPr/>
        </p:nvPicPr>
        <p:blipFill>
          <a:blip r:embed="rId2"/>
          <a:stretch/>
        </p:blipFill>
        <p:spPr>
          <a:xfrm>
            <a:off x="6622920" y="0"/>
            <a:ext cx="25210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500" spc="-1" strike="noStrike">
              <a:solidFill>
                <a:srgbClr val="ff3100"/>
              </a:solidFill>
              <a:latin typeface="Corbel"/>
            </a:endParaRPr>
          </a:p>
        </p:txBody>
      </p:sp>
      <p:pic>
        <p:nvPicPr>
          <p:cNvPr id="312" name="Symbol zastępczy zawartości 4" descr="christmas-566309_640.png"/>
          <p:cNvPicPr/>
          <p:nvPr/>
        </p:nvPicPr>
        <p:blipFill>
          <a:blip r:embed="rId1"/>
          <a:stretch/>
        </p:blipFill>
        <p:spPr>
          <a:xfrm>
            <a:off x="1258920" y="1700280"/>
            <a:ext cx="6416640" cy="4530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ytuł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Przed przygotowanie wigilijnego stołu, należy włożyć pod obrus sianko symbolizujące ubóstwo Chrystusa. Według tradycji, przy stole zostawia się jedno wolne miejsce dla niespodziewanego gościa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12 potraw znajdujących się na stole symbolizuje każdego z apostołów Jezusa. Najbardziej tradycyjnymi potrawami są: barszcz czerwony, karp, pierogi z grzybami i kapustą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Bardzo ważne aby podczas kolacji spróbować każdej potrawy, dzięki temu żadna przyjemność, w nowym roku, nas nie omini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Obraz 8" descr="christmas-bauble-437520_640.jpg"/>
          <p:cNvPicPr/>
          <p:nvPr/>
        </p:nvPicPr>
        <p:blipFill>
          <a:blip r:embed="rId2"/>
          <a:srcRect l="0" t="0" r="0" b="14316"/>
          <a:stretch/>
        </p:blipFill>
        <p:spPr>
          <a:xfrm>
            <a:off x="5904000" y="0"/>
            <a:ext cx="306072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Cicha noc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Bóg się rodz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Dzisiaj w Betlejem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Do szopy, hej pasterz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dy się Chrystus rodz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W żłobie leż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Lulaj że Jezuniu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Przybieżeli do Betlejem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dy śliczna pann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Wśród nocnej cisz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okój niesie, ludziom wszem 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A u żłóbka Matka Święta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zuwa sama uśmiechnięta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d dzieciątka snem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d dzieciątka snem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astuszkowie od swych trzód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Biegną wielce zadziwien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Za anielskim głosem pien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Gdzie się spełnił cud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Gdzie się spełnił cud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rodzony Boży syn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an wielkiego majestat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iesie dziś całemu świat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Odkupienie win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Odkupienie wi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óg się rodzi, moc truchle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Pan niebiosów obnażon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Ogień krzepnie, blask ciemnie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Ma granice - Nieskończony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zgardzony - okryty chwa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Śmiertelny król nad wiek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Cóż masz, niebo, nad ziemiany?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óg porzucił szczęście two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szedł między lud ukochan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Dzieląc z nim trudy i zno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Niemało cierpiał, niemał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Żeśmy byli winni s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Podnieś rękę, boże Dziecię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łogosław ojczyznę mi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 dobrych radach, w dobrym byci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spieraj jej siłę Swą si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Dom nasz i majętność ca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wszystkie wioski z miast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62864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Dzisiaj w Betlejem, dzisiaj w Betlejem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Wesoła nowin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Że Panna czysta, że Panna czyst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orodziła Syna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Maryja Panna, Maryja Pann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Dzieciątko piastuj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Józef święty i Józef święt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On ją pielęgnuje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ociaż w stajence, chociaż w stajenc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nna Syna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rzecież on wkrótce, przecież on wkrótc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Ludzi oswobodzi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832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Trzej królowie, i trzej królowi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Od wschodu przybyl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dary Panu, i dary Panu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osztowne złożyli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ójdźmy też i my, pójdźmy też i m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rzywitać Jezus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a nad królami, Króla nad królam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Uwielbić Jezusa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5076720" y="0"/>
            <a:ext cx="4067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dy się Chrystus rodz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 na świat przychodz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iemna noc w jasności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romienistych brodzi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Aniołowie się radują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d niebiosa wyśpiewują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-o" | x2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Mówią do pasterz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Którzy trzód swych strzegl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Aby do Betlejem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zym prędzej pobiegl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Bo się narodził Zbawiciel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szego świata Odkupiciel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 niebieskie duch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 posłowie nieb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wiedzcież wyraźniej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o nam czynić trzeb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Bo my nic nie pojmujemy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Ledwo od strachu żyjemy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dźcie do Betlejem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dzie Dziecię zrodzon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pieluszki powit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żłobie położon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ddajcie Mu pokłon boski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n osłodzi wasze troski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5940360" y="0"/>
            <a:ext cx="3203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5:25:04Z</dcterms:created>
  <dc:creator>Michał</dc:creator>
  <dc:description/>
  <dc:language>en-US</dc:language>
  <cp:lastModifiedBy>Darek</cp:lastModifiedBy>
  <dcterms:modified xsi:type="dcterms:W3CDTF">2015-01-20T14:10:58Z</dcterms:modified>
  <cp:revision>45</cp:revision>
  <dc:subject/>
  <dc:title>Święta Bożonarodzeniowe</dc:title>
</cp:coreProperties>
</file>