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AB1-CC3E-4935-A8CB-9233AC72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3AF-2223-4BAC-9C73-EC67BB3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650-F817-45C0-A22A-192FF8D3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535-7346-43D1-A917-31F5ECD8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24E-9DD9-4252-957F-EB69357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8BF7-DC93-40DD-B027-5A6479B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83A5-8758-43E2-B8A7-41EB94E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F539-69A7-4E7B-BA04-92EF2EDE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CFB3-1011-4E2B-B8EE-9DCAD7EE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BCDA-36CA-46F3-94B9-FAB6833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6888-9E97-47B9-B249-1B89A01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EC0-151B-4E49-8ADF-EB14666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074E-11E2-4D4C-A581-B0643D3C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9626-5875-461A-86BB-CCABF35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C5D-1B14-4B37-B75F-96FF1EE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9877-F125-423E-8EF2-824FA9E6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DF6-0E43-4CFE-811F-92522EE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35C2-100A-424A-AB4A-0872EF61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AC90-DC95-4D26-8283-49A1E279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899D-CEEE-419A-AD9A-1A328C9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4D38-55C6-4C26-94DD-0488F191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F4A4-4D08-49C5-8C30-B1B7784E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D37-FBAD-49F8-8685-DB569032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3BFB-506A-4864-A645-B50A23A8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9BC7-7FBD-4403-A4DE-525BE44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22B0-FC5A-4512-86FB-BDBD2F1A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83AD-5B65-453D-8854-0D05CED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AC51-1F4F-442F-A337-BD313615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6630-F020-4810-9182-39DA7774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D23C-FCD8-40CB-B431-DA08AB0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C060-A647-4880-B83D-CE518B7B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A5C0-0126-49D3-8EA1-43A580C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7948-0138-400D-9F6B-E34DEBC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A3E-F727-4FAD-9AAC-126FE8C3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7D03-4FE3-4415-BFC1-4C8632F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E390-E62B-4260-959A-7F9C427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A82F-2325-43D5-BDE6-5060170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4C34-161B-475C-8AF9-8BD1E4D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CA3C-6778-4808-B3F8-30EDCE8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7556-6431-4A06-A1CF-9AE5A43B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E259-0E55-416D-94DD-46926340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9728-C16A-4EE2-AFBA-58B104D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7727-78CA-4F94-A4C7-D2981C67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91D5-D432-4A6F-A447-F6F1F09B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234-81E6-40C3-9EE2-92255FF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F1E3-ED68-42FB-A748-6AEF0F2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CC66-51F9-4C83-8DDD-F4F849E2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087D-6FA8-49CA-80A6-417367D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E9C9-679E-4A1C-BA6D-701D89B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1611-F585-4C35-9096-666F540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35C0-DFEB-4103-93CA-8EF6FB1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8585-EEF9-4D9B-8A35-093FFC5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585D-136D-4F64-AA14-D21807B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61FE-1E88-49F3-8C56-7D66E32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92B4-7F4B-432F-B28D-F0C68D82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301-C529-4835-B0E1-FC54AA5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5871-FB6E-4008-865E-06164689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6604-8DA6-4301-B75A-7781281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9244-374C-4077-8298-0B23F3D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C626-AEF4-4C6C-A37A-61B7578A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CB06-759E-4AAF-88AE-53EF87F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F42F-5B48-40EB-8AEC-74AC08AB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7666-99D9-4919-B7A8-0A9AA2C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817D-E87B-4EA5-9DF2-1A43BE0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4B8D-F3B3-46DA-BC16-4A32784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B419-A9D8-43CD-B726-7F2162E6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DE3-62CC-4FF5-B019-8A24515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C7A8-477F-43DF-8392-CC60761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7D038-A7FF-473C-99E2-65083508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8EEB5-3D7F-4EEB-A3A3-50CB7C15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137E-275D-47DD-9BD9-1A31540B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B516-73DA-4886-B4EE-EED6152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16A1-7216-419D-B77B-69945E2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B945-DF64-4D91-998C-99945D0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DC27-C21A-4088-8870-B3AC20B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C2C7-B598-40D8-882A-D880079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7F7B3-3599-4ABA-8879-F0B56FC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91F-26D0-49AD-AC59-73B1A79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F33E-ED77-42B4-8773-5AFCF38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E18D-DA8A-42CA-93C8-C016499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08D3-CF2B-41F2-A495-873055EB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8FC1-78AB-4B5A-938A-3362E704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0BEDA-B68D-4E95-A6EE-D8092E73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1D7-819B-4A09-94F4-741364E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3321-1F0F-4E31-95E7-F79D99F4B9D1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4E8-F4D6-4461-A16A-650DDBCE3C3E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128-7B5B-4472-B167-6372C1BDD37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122-28F1-4E0D-90AF-21F0A4345885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920-E5AD-4FBA-B603-4371AB48184A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74B-8FB2-48F4-BC9C-FFF02CF6D925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32B-177A-4CA9-A984-405DC7D86CE1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4360" y="2133360"/>
            <a:ext cx="74059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45e70"/>
                </a:solidFill>
                <a:latin typeface="Gill Sans MT"/>
              </a:rPr>
              <a:t>Rodzina</a:t>
            </a:r>
            <a:endParaRPr b="0" lang="en-US" sz="60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4" descr="C:\Users\Darek\Desktop\dół.jpg"/>
          <p:cNvPicPr/>
          <p:nvPr/>
        </p:nvPicPr>
        <p:blipFill>
          <a:blip r:embed="rId1"/>
          <a:stretch/>
        </p:blipFill>
        <p:spPr>
          <a:xfrm>
            <a:off x="1908000" y="4724280"/>
            <a:ext cx="5761080" cy="1401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Users\Darek\Desktop\góra.jpg"/>
          <p:cNvPicPr/>
          <p:nvPr/>
        </p:nvPicPr>
        <p:blipFill>
          <a:blip r:embed="rId2"/>
          <a:stretch/>
        </p:blipFill>
        <p:spPr>
          <a:xfrm>
            <a:off x="2050920" y="549360"/>
            <a:ext cx="576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Przysłowia o rodzini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ojciec taki syn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Gdy rodzina żyje w zgodzie, to jej bieda nie dobodzie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oli ojciec syna, niż córkę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nuk za dziadka nie odpowiad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ród, taki płód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Każda siostra braciom niosł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 my tacie, tak tata nam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az 3" descr="cheering-297419_640.png"/>
          <p:cNvPicPr/>
          <p:nvPr/>
        </p:nvPicPr>
        <p:blipFill>
          <a:blip r:embed="rId1"/>
          <a:stretch/>
        </p:blipFill>
        <p:spPr>
          <a:xfrm>
            <a:off x="1523880" y="1252440"/>
            <a:ext cx="6793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mrok\Desktop\SKU\05_Eurokreator\01_materiały na platformę_ostateczne_2014\materiały_SKU\multimedia_zdjęcia na platformie\Zdjęcia\16_Moj dom, moja rodzina\16_zdjecie10.JPG"/>
          <p:cNvPicPr/>
          <p:nvPr/>
        </p:nvPicPr>
        <p:blipFill>
          <a:blip r:embed="rId1"/>
          <a:stretch/>
        </p:blipFill>
        <p:spPr>
          <a:xfrm>
            <a:off x="2700360" y="1268280"/>
            <a:ext cx="36892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łe dzieci - mały kłopot, duże dzieci duży kłop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Najtrudniej jest być tolerancyjnym wobec najbliższy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Brudy pierze się w dom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tka rozumie mowę swojego niemego dzieck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iłość matczyna się nie starze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ężczyźni budują domy, ale to kobiety je tworz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Kalendarz rodzin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Babci – 21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adka – 22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Matki – 26 m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Ojca – 23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ecka – 1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1" descr="duck-550539_640.jpg"/>
          <p:cNvPicPr/>
          <p:nvPr/>
        </p:nvPicPr>
        <p:blipFill>
          <a:blip r:embed="rId1"/>
          <a:stretch/>
        </p:blipFill>
        <p:spPr>
          <a:xfrm>
            <a:off x="6084720" y="4821120"/>
            <a:ext cx="3059280" cy="2036880"/>
          </a:xfrm>
          <a:prstGeom prst="rect">
            <a:avLst/>
          </a:prstGeom>
          <a:ln w="0">
            <a:noFill/>
          </a:ln>
        </p:spPr>
      </p:pic>
      <p:pic>
        <p:nvPicPr>
          <p:cNvPr id="364" name="Obraz 2" descr="family-276168_640.jpg"/>
          <p:cNvPicPr/>
          <p:nvPr/>
        </p:nvPicPr>
        <p:blipFill>
          <a:blip r:embed="rId2"/>
          <a:stretch/>
        </p:blipFill>
        <p:spPr>
          <a:xfrm>
            <a:off x="3419640" y="4149720"/>
            <a:ext cx="2682720" cy="2538360"/>
          </a:xfrm>
          <a:prstGeom prst="rect">
            <a:avLst/>
          </a:prstGeom>
          <a:ln w="0">
            <a:noFill/>
          </a:ln>
        </p:spPr>
      </p:pic>
      <p:pic>
        <p:nvPicPr>
          <p:cNvPr id="365" name="Obraz 3" descr="koala-61189_640.jpg"/>
          <p:cNvPicPr/>
          <p:nvPr/>
        </p:nvPicPr>
        <p:blipFill>
          <a:blip r:embed="rId3"/>
          <a:stretch/>
        </p:blipFill>
        <p:spPr>
          <a:xfrm>
            <a:off x="0" y="2276640"/>
            <a:ext cx="3419640" cy="2493720"/>
          </a:xfrm>
          <a:prstGeom prst="rect">
            <a:avLst/>
          </a:prstGeom>
          <a:ln w="0">
            <a:noFill/>
          </a:ln>
        </p:spPr>
      </p:pic>
      <p:pic>
        <p:nvPicPr>
          <p:cNvPr id="366" name="Obraz 4" descr="mare-430442_640.jpg"/>
          <p:cNvPicPr/>
          <p:nvPr/>
        </p:nvPicPr>
        <p:blipFill>
          <a:blip r:embed="rId4"/>
          <a:stretch/>
        </p:blipFill>
        <p:spPr>
          <a:xfrm>
            <a:off x="6084720" y="2997360"/>
            <a:ext cx="3059280" cy="1850760"/>
          </a:xfrm>
          <a:prstGeom prst="rect">
            <a:avLst/>
          </a:prstGeom>
          <a:ln w="0">
            <a:noFill/>
          </a:ln>
        </p:spPr>
      </p:pic>
      <p:pic>
        <p:nvPicPr>
          <p:cNvPr id="367" name="Obraz 5" descr="tiger-591359_640.jpg"/>
          <p:cNvPicPr/>
          <p:nvPr/>
        </p:nvPicPr>
        <p:blipFill>
          <a:blip r:embed="rId5"/>
          <a:stretch/>
        </p:blipFill>
        <p:spPr>
          <a:xfrm>
            <a:off x="0" y="4749840"/>
            <a:ext cx="3419640" cy="2108160"/>
          </a:xfrm>
          <a:prstGeom prst="rect">
            <a:avLst/>
          </a:prstGeom>
          <a:ln w="0">
            <a:noFill/>
          </a:ln>
        </p:spPr>
      </p:pic>
      <p:pic>
        <p:nvPicPr>
          <p:cNvPr id="368" name="Obraz 6" descr="young-animal-450149_640.jpg"/>
          <p:cNvPicPr/>
          <p:nvPr/>
        </p:nvPicPr>
        <p:blipFill>
          <a:blip r:embed="rId6"/>
          <a:stretch/>
        </p:blipFill>
        <p:spPr>
          <a:xfrm>
            <a:off x="6084720" y="0"/>
            <a:ext cx="3059280" cy="3041640"/>
          </a:xfrm>
          <a:prstGeom prst="rect">
            <a:avLst/>
          </a:prstGeom>
          <a:ln w="0">
            <a:noFill/>
          </a:ln>
        </p:spPr>
      </p:pic>
      <p:pic>
        <p:nvPicPr>
          <p:cNvPr id="369" name="Obraz 8" descr="family-408842_640.jpg"/>
          <p:cNvPicPr/>
          <p:nvPr/>
        </p:nvPicPr>
        <p:blipFill>
          <a:blip r:embed="rId7"/>
          <a:stretch/>
        </p:blipFill>
        <p:spPr>
          <a:xfrm>
            <a:off x="3419640" y="2320920"/>
            <a:ext cx="2665080" cy="1839960"/>
          </a:xfrm>
          <a:prstGeom prst="rect">
            <a:avLst/>
          </a:prstGeom>
          <a:ln w="0">
            <a:noFill/>
          </a:ln>
        </p:spPr>
      </p:pic>
      <p:pic>
        <p:nvPicPr>
          <p:cNvPr id="370" name="Obraz 9" descr="elephants-474759_640 (1).jpg"/>
          <p:cNvPicPr/>
          <p:nvPr/>
        </p:nvPicPr>
        <p:blipFill>
          <a:blip r:embed="rId8"/>
          <a:srcRect l="0" t="17669" r="0" b="22008"/>
          <a:stretch/>
        </p:blipFill>
        <p:spPr>
          <a:xfrm>
            <a:off x="0" y="0"/>
            <a:ext cx="6095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Członkowie najbliższej rodzi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23" name="Symbol zastępczy zawartości 16" descr="family-469580_640.png"/>
          <p:cNvPicPr/>
          <p:nvPr/>
        </p:nvPicPr>
        <p:blipFill>
          <a:blip r:embed="rId1"/>
          <a:stretch/>
        </p:blipFill>
        <p:spPr>
          <a:xfrm>
            <a:off x="2843280" y="2565360"/>
            <a:ext cx="3552840" cy="2508120"/>
          </a:xfrm>
          <a:prstGeom prst="rect">
            <a:avLst/>
          </a:prstGeom>
          <a:ln w="0">
            <a:noFill/>
          </a:ln>
        </p:spPr>
      </p:pic>
      <p:sp>
        <p:nvSpPr>
          <p:cNvPr id="324" name="pole tekstowe 6"/>
          <p:cNvSpPr/>
          <p:nvPr/>
        </p:nvSpPr>
        <p:spPr>
          <a:xfrm>
            <a:off x="2411280" y="20606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5292720" y="198900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8"/>
          <p:cNvSpPr/>
          <p:nvPr/>
        </p:nvSpPr>
        <p:spPr>
          <a:xfrm>
            <a:off x="3643200" y="5429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668c4"/>
                </a:solidFill>
                <a:latin typeface="Calibri"/>
              </a:rPr>
              <a:t>dzie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ole tekstowe 143"/>
          <p:cNvSpPr/>
          <p:nvPr/>
        </p:nvSpPr>
        <p:spPr>
          <a:xfrm>
            <a:off x="1547640" y="458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cór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ole tekstowe 144"/>
          <p:cNvSpPr/>
          <p:nvPr/>
        </p:nvSpPr>
        <p:spPr>
          <a:xfrm>
            <a:off x="6300720" y="4508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s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145"/>
          <p:cNvSpPr/>
          <p:nvPr/>
        </p:nvSpPr>
        <p:spPr>
          <a:xfrm>
            <a:off x="3571920" y="61437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030a0"/>
                </a:solidFill>
                <a:latin typeface="Calibri"/>
              </a:rPr>
              <a:t>rodzeńs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46"/>
          <p:cNvSpPr/>
          <p:nvPr/>
        </p:nvSpPr>
        <p:spPr>
          <a:xfrm>
            <a:off x="3492360" y="141300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libri"/>
              </a:rPr>
              <a:t>rodz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500040" y="35002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dzia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7143840" y="34290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bab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2484360" y="1773360"/>
            <a:ext cx="4356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17" descr="old-40092_640.png"/>
          <p:cNvPicPr/>
          <p:nvPr/>
        </p:nvPicPr>
        <p:blipFill>
          <a:blip r:embed="rId2"/>
          <a:stretch/>
        </p:blipFill>
        <p:spPr>
          <a:xfrm>
            <a:off x="611280" y="1773360"/>
            <a:ext cx="1633320" cy="1698480"/>
          </a:xfrm>
          <a:prstGeom prst="rect">
            <a:avLst/>
          </a:prstGeom>
          <a:ln w="0">
            <a:noFill/>
          </a:ln>
        </p:spPr>
      </p:pic>
      <p:pic>
        <p:nvPicPr>
          <p:cNvPr id="335" name="Obraz 18" descr="grandma-486796_640.png"/>
          <p:cNvPicPr/>
          <p:nvPr/>
        </p:nvPicPr>
        <p:blipFill>
          <a:blip r:embed="rId3"/>
          <a:srcRect l="0" t="0" r="0" b="19295"/>
          <a:stretch/>
        </p:blipFill>
        <p:spPr>
          <a:xfrm>
            <a:off x="6804000" y="1844640"/>
            <a:ext cx="183348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4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am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żon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córka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4836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tat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ąż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syn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ytuł 1"/>
          <p:cNvSpPr/>
          <p:nvPr/>
        </p:nvSpPr>
        <p:spPr>
          <a:xfrm>
            <a:off x="4211640" y="189000"/>
            <a:ext cx="3614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37" descr="couple-307287_640.png"/>
          <p:cNvPicPr/>
          <p:nvPr/>
        </p:nvPicPr>
        <p:blipFill>
          <a:blip r:embed="rId1"/>
          <a:stretch/>
        </p:blipFill>
        <p:spPr>
          <a:xfrm>
            <a:off x="2268360" y="2849400"/>
            <a:ext cx="525636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42" name="Symbol zastępczy zawartości 3" descr="people-117198_640.png"/>
          <p:cNvPicPr/>
          <p:nvPr/>
        </p:nvPicPr>
        <p:blipFill>
          <a:blip r:embed="rId1"/>
          <a:stretch/>
        </p:blipFill>
        <p:spPr>
          <a:xfrm>
            <a:off x="2556000" y="692280"/>
            <a:ext cx="3681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Moja babcia” H. Niewiadom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55736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siaj nowoczesn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chodzić w ciepłych kapcia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 fotelu się nie buj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ylko wciąż po świecie hula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Samochodem dzieci wiezi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Z klocków lego robi wieżę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 drabinie się wdrap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pinistę naślad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robić już na druta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 Internecie bajek szu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ieczorami tańczy samb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yjada całą mambę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a basenie daje 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By dogonić płetwo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Od miesiąca, co niedziel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iłką nożną gole strzel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155700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adek ręce załamuj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- Babciu wracaj! - nawoł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Gdzie jest obiad i skarpet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aftowane gdzie serwety?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e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 wciąż jest młod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Ciągle marzy o przygodach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Lecz choć skarpet nie cer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upina z włosów ko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o swe wnuki, oraz dziad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nad własne życie koch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ziecko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yn             có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nuczek              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prawnuczek              pra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Obraz 7" descr="boy-160168_640.png"/>
          <p:cNvPicPr/>
          <p:nvPr/>
        </p:nvPicPr>
        <p:blipFill>
          <a:blip r:embed="rId1"/>
          <a:stretch/>
        </p:blipFill>
        <p:spPr>
          <a:xfrm>
            <a:off x="3276720" y="3573360"/>
            <a:ext cx="4103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Rodzina dalsz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Ciocia – siostra mamy lub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ujek – brat mam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k – brat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nka – żona stry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Kuzyn, Kuzynka – dzieci rodzeństwa rodzicó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Teściowie – rodzice męża lub żo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rzewo genealogiczn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52" name="Symbol zastępczy zawartości 3" descr="family-tree-297812_640.png"/>
          <p:cNvPicPr/>
          <p:nvPr/>
        </p:nvPicPr>
        <p:blipFill>
          <a:blip r:embed="rId1"/>
          <a:stretch/>
        </p:blipFill>
        <p:spPr>
          <a:xfrm>
            <a:off x="2195640" y="1268280"/>
            <a:ext cx="4854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om” Z. Beszczyń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om otwiera swoje cztery ścia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babci, dziadka, tatusia, mamy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nas wszystkich, dla gości, dla kota i psa…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48:19Z</dcterms:created>
  <dc:creator>TweakedXP</dc:creator>
  <dc:description/>
  <dc:language>en-US</dc:language>
  <cp:lastModifiedBy>Karolina Mróz</cp:lastModifiedBy>
  <dcterms:modified xsi:type="dcterms:W3CDTF">2015-01-21T10:31:11Z</dcterms:modified>
  <cp:revision>99</cp:revision>
  <dc:subject/>
  <dc:title>RODZINA</dc:title>
</cp:coreProperties>
</file>