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B89-8ACC-4AE7-93D0-A576B1E4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103-4DF0-4F02-8A33-4EF94C64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361-BB8E-4204-97E2-DAC8AB88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DD2-DECA-45CB-971D-B0E917C6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092-48F8-477B-80AC-8EDDF080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F73F-E1E1-4B44-A689-2ECAA17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575-980C-4848-A4C8-F7F5455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2998-7F58-498F-82B6-73AAB5C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8105-D2D3-46FD-AC41-1A93678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4FD-BDE1-4741-8C46-F9C5581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241F-65A0-4A74-B572-F3200E05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7D9-437D-417A-9118-CB4FE6F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E4C0-7001-4C3E-B653-AB9840C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43E4-0C63-4146-851B-B5585CFA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2CB1-B0F2-4117-AF41-C4503D9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F02-7E0B-4743-B5C6-31DC4CEC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85A-2B41-4666-8454-226DBA1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C5FE-D549-42E1-919F-6DF9BCC0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9681-62E2-4B2A-AE72-1DBC520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0777-6738-4A6F-B99F-31B337BD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BADA-6A20-4ECC-9ED6-6184A7C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C97F-8039-4102-B981-C898C6A1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C29-29BE-46A5-83F2-24475C2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B872-93C3-4EBE-B1FF-CC9812CB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6374-20E8-45AF-83DE-B9234A4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1F94-11BC-423D-A5F1-FF126FB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3DC4-4F71-410C-82FC-FD34636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38CF-D40C-4562-AE2F-B5C2597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D932-528D-405C-9D50-D32F37C5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188E-83E6-4CF9-9865-8E8B8E74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FC04-8963-4060-8FE6-72E0BBAA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FB61-8FFF-42F8-9B33-5B2EAD30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2652-C561-4A68-829A-3210A83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582-3BB2-4940-8625-795EDDAC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F102-D686-4F5C-8EBC-FE815C0D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9505-D3FC-4FC5-8892-D6BB090C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3BF4-A045-4613-8795-80802C1F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3255-9483-4B99-9B35-CEFCB24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650D-F3D5-4DC2-81D9-2F740B1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1D36-F132-45FD-80C1-899DB52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A3EB-8A7D-4548-8FE3-CF2BA6B0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CD03-9975-4AD4-83AD-0FC244A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DDFF-FAA8-41D3-AD5F-C6EC6AD6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E80E-89BF-4390-A7D7-E126DB1B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B4B-134D-4504-A54F-EC83875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2340-376C-4ABD-9824-21DDAA3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6CD6-49D3-4A31-A606-DE84B66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8833-BA28-47AE-989F-B95E382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FBD5-952C-4AD5-ADC1-526407D8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6635-BE0B-4E5B-9413-EFD0187F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ED469-B0C4-4882-9774-509F5F12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7A572-7578-4740-968F-42EA777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09AF-FFF8-49DC-9526-CA61889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F28D-B907-44E6-8A4E-262C17FF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C7E3-654F-43E4-8319-E730A2E4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5A4-5901-4999-865C-199CB32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0EFA-32AE-4A74-A0CE-B3807C32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CAB4-6EE6-448D-9AC5-0957988A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0365B-5D25-4279-AE88-382AD95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7469D-7671-41F4-8696-EF3C7A3D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011A2-C76D-4469-B697-12C46E2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663E-F7D4-480F-A61C-72FD3CC7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AE4E-FEF2-4F84-AD1F-93EAD42B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74D1-0DF8-4C10-9E41-047B6AF1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5BD9-DA56-46E6-9C8A-157A868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6F24-9CF8-4E56-B2E4-2FCC8FC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775-5261-4A55-95B5-9D9959A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9B97-7330-4036-8C91-E3BF11C5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B9F65-DDEE-4385-A631-1BAE0D01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A273-1B1E-419E-8EFB-1B9D50B2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CA4C-2D03-4C61-84E1-7BD55445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5544-F595-4E48-B03B-A63CE6C5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3203-0955-40AF-86C7-F2743B1B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3EFA-BB97-4197-A8BF-0DDCAEC0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1407-B215-4004-AEC4-62A8C79A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AE26-705D-467B-A43A-804BBB8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8E11-F1E7-4AB5-A19E-AD22A7B4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781-5464-418C-821C-E7FA430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C751A-237A-4F88-BA1B-0F14BB3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BB15-7DEE-4B57-B062-472E0C3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307F-1C71-4B01-9353-AD51BC4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1818-9BAD-4C38-B8AE-015E658E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FE6D-B97D-4058-A3AA-7860A4F2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E5D-9C58-4BA7-93D7-A8E5BCC3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72C0-C11D-4F5A-8904-A0F0B5C77E1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FE86-F8E6-48F9-8185-1CB6E0ED89DE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235-0E3B-4E37-A00F-1CBBE3FC49F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50D-D354-46B6-A474-81605E7D3E1A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EAD-77D5-412E-83A0-C939F883352E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7FC-4EB8-4A10-9562-DA7225D2E89E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777-3E81-49F5-8150-E5FE86CDC7BB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4360" y="2133360"/>
            <a:ext cx="74059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45e70"/>
                </a:solidFill>
                <a:latin typeface="Gill Sans MT"/>
              </a:rPr>
              <a:t>Rodzina</a:t>
            </a:r>
            <a:endParaRPr b="0" lang="en-US" sz="60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4" descr="C:\Users\Darek\Desktop\dół.jpg"/>
          <p:cNvPicPr/>
          <p:nvPr/>
        </p:nvPicPr>
        <p:blipFill>
          <a:blip r:embed="rId1"/>
          <a:stretch/>
        </p:blipFill>
        <p:spPr>
          <a:xfrm>
            <a:off x="1908000" y="4724280"/>
            <a:ext cx="5761080" cy="1401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Users\Darek\Desktop\góra.jpg"/>
          <p:cNvPicPr/>
          <p:nvPr/>
        </p:nvPicPr>
        <p:blipFill>
          <a:blip r:embed="rId2"/>
          <a:stretch/>
        </p:blipFill>
        <p:spPr>
          <a:xfrm>
            <a:off x="2050920" y="549360"/>
            <a:ext cx="576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Przysłowia o rodzini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ojciec taki syn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Gdy rodzina żyje w zgodzie, to jej bieda nie dobodzie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oli ojciec syna, niż córkę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nuk za dziadka nie odpowiad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ród, taki płód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Każda siostra braciom niosł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 my tacie, tak tata nam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az 3" descr="cheering-297419_640.png"/>
          <p:cNvPicPr/>
          <p:nvPr/>
        </p:nvPicPr>
        <p:blipFill>
          <a:blip r:embed="rId1"/>
          <a:stretch/>
        </p:blipFill>
        <p:spPr>
          <a:xfrm>
            <a:off x="1523880" y="1252440"/>
            <a:ext cx="6793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mrok\Desktop\SKU\05_Eurokreator\01_materiały na platformę_ostateczne_2014\materiały_SKU\multimedia_zdjęcia na platformie\Zdjęcia\16_Moj dom, moja rodzina\16_zdjecie10.JPG"/>
          <p:cNvPicPr/>
          <p:nvPr/>
        </p:nvPicPr>
        <p:blipFill>
          <a:blip r:embed="rId1"/>
          <a:stretch/>
        </p:blipFill>
        <p:spPr>
          <a:xfrm>
            <a:off x="2700360" y="1268280"/>
            <a:ext cx="36892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łe dzieci - mały kłopot, duże dzieci duży kłop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Najtrudniej jest być tolerancyjnym wobec najbliższy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Brudy pierze się w dom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tka rozumie mowę swojego niemego dzieck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iłość matczyna się nie starze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ężczyźni budują domy, ale to kobiety je tworz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Kalendarz rodzin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Babci – 21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adka – 22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Matki – 26 m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Ojca – 23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ecka – 1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1" descr="duck-550539_640.jpg"/>
          <p:cNvPicPr/>
          <p:nvPr/>
        </p:nvPicPr>
        <p:blipFill>
          <a:blip r:embed="rId1"/>
          <a:stretch/>
        </p:blipFill>
        <p:spPr>
          <a:xfrm>
            <a:off x="6084720" y="4821120"/>
            <a:ext cx="3059280" cy="2036880"/>
          </a:xfrm>
          <a:prstGeom prst="rect">
            <a:avLst/>
          </a:prstGeom>
          <a:ln w="0">
            <a:noFill/>
          </a:ln>
        </p:spPr>
      </p:pic>
      <p:pic>
        <p:nvPicPr>
          <p:cNvPr id="364" name="Obraz 2" descr="family-276168_640.jpg"/>
          <p:cNvPicPr/>
          <p:nvPr/>
        </p:nvPicPr>
        <p:blipFill>
          <a:blip r:embed="rId2"/>
          <a:stretch/>
        </p:blipFill>
        <p:spPr>
          <a:xfrm>
            <a:off x="3419640" y="4149720"/>
            <a:ext cx="2682720" cy="2538360"/>
          </a:xfrm>
          <a:prstGeom prst="rect">
            <a:avLst/>
          </a:prstGeom>
          <a:ln w="0">
            <a:noFill/>
          </a:ln>
        </p:spPr>
      </p:pic>
      <p:pic>
        <p:nvPicPr>
          <p:cNvPr id="365" name="Obraz 3" descr="koala-61189_640.jpg"/>
          <p:cNvPicPr/>
          <p:nvPr/>
        </p:nvPicPr>
        <p:blipFill>
          <a:blip r:embed="rId3"/>
          <a:stretch/>
        </p:blipFill>
        <p:spPr>
          <a:xfrm>
            <a:off x="0" y="2276640"/>
            <a:ext cx="3419640" cy="2493720"/>
          </a:xfrm>
          <a:prstGeom prst="rect">
            <a:avLst/>
          </a:prstGeom>
          <a:ln w="0">
            <a:noFill/>
          </a:ln>
        </p:spPr>
      </p:pic>
      <p:pic>
        <p:nvPicPr>
          <p:cNvPr id="366" name="Obraz 4" descr="mare-430442_640.jpg"/>
          <p:cNvPicPr/>
          <p:nvPr/>
        </p:nvPicPr>
        <p:blipFill>
          <a:blip r:embed="rId4"/>
          <a:stretch/>
        </p:blipFill>
        <p:spPr>
          <a:xfrm>
            <a:off x="6084720" y="2997360"/>
            <a:ext cx="3059280" cy="1850760"/>
          </a:xfrm>
          <a:prstGeom prst="rect">
            <a:avLst/>
          </a:prstGeom>
          <a:ln w="0">
            <a:noFill/>
          </a:ln>
        </p:spPr>
      </p:pic>
      <p:pic>
        <p:nvPicPr>
          <p:cNvPr id="367" name="Obraz 5" descr="tiger-591359_640.jpg"/>
          <p:cNvPicPr/>
          <p:nvPr/>
        </p:nvPicPr>
        <p:blipFill>
          <a:blip r:embed="rId5"/>
          <a:stretch/>
        </p:blipFill>
        <p:spPr>
          <a:xfrm>
            <a:off x="0" y="4749840"/>
            <a:ext cx="3419640" cy="2108160"/>
          </a:xfrm>
          <a:prstGeom prst="rect">
            <a:avLst/>
          </a:prstGeom>
          <a:ln w="0">
            <a:noFill/>
          </a:ln>
        </p:spPr>
      </p:pic>
      <p:pic>
        <p:nvPicPr>
          <p:cNvPr id="368" name="Obraz 6" descr="young-animal-450149_640.jpg"/>
          <p:cNvPicPr/>
          <p:nvPr/>
        </p:nvPicPr>
        <p:blipFill>
          <a:blip r:embed="rId6"/>
          <a:stretch/>
        </p:blipFill>
        <p:spPr>
          <a:xfrm>
            <a:off x="6084720" y="0"/>
            <a:ext cx="3059280" cy="3041640"/>
          </a:xfrm>
          <a:prstGeom prst="rect">
            <a:avLst/>
          </a:prstGeom>
          <a:ln w="0">
            <a:noFill/>
          </a:ln>
        </p:spPr>
      </p:pic>
      <p:pic>
        <p:nvPicPr>
          <p:cNvPr id="369" name="Obraz 8" descr="family-408842_640.jpg"/>
          <p:cNvPicPr/>
          <p:nvPr/>
        </p:nvPicPr>
        <p:blipFill>
          <a:blip r:embed="rId7"/>
          <a:stretch/>
        </p:blipFill>
        <p:spPr>
          <a:xfrm>
            <a:off x="3419640" y="2320920"/>
            <a:ext cx="2665080" cy="1839960"/>
          </a:xfrm>
          <a:prstGeom prst="rect">
            <a:avLst/>
          </a:prstGeom>
          <a:ln w="0">
            <a:noFill/>
          </a:ln>
        </p:spPr>
      </p:pic>
      <p:pic>
        <p:nvPicPr>
          <p:cNvPr id="370" name="Obraz 9" descr="elephants-474759_640 (1).jpg"/>
          <p:cNvPicPr/>
          <p:nvPr/>
        </p:nvPicPr>
        <p:blipFill>
          <a:blip r:embed="rId8"/>
          <a:srcRect l="0" t="17669" r="0" b="22008"/>
          <a:stretch/>
        </p:blipFill>
        <p:spPr>
          <a:xfrm>
            <a:off x="0" y="0"/>
            <a:ext cx="6095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Członkowie najbliższej rodzi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23" name="Symbol zastępczy zawartości 16" descr="family-469580_640.png"/>
          <p:cNvPicPr/>
          <p:nvPr/>
        </p:nvPicPr>
        <p:blipFill>
          <a:blip r:embed="rId1"/>
          <a:stretch/>
        </p:blipFill>
        <p:spPr>
          <a:xfrm>
            <a:off x="2843280" y="2565360"/>
            <a:ext cx="3552840" cy="2508120"/>
          </a:xfrm>
          <a:prstGeom prst="rect">
            <a:avLst/>
          </a:prstGeom>
          <a:ln w="0">
            <a:noFill/>
          </a:ln>
        </p:spPr>
      </p:pic>
      <p:sp>
        <p:nvSpPr>
          <p:cNvPr id="324" name="pole tekstowe 6"/>
          <p:cNvSpPr/>
          <p:nvPr/>
        </p:nvSpPr>
        <p:spPr>
          <a:xfrm>
            <a:off x="2411280" y="20606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5292720" y="198900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8"/>
          <p:cNvSpPr/>
          <p:nvPr/>
        </p:nvSpPr>
        <p:spPr>
          <a:xfrm>
            <a:off x="3643200" y="5429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668c4"/>
                </a:solidFill>
                <a:latin typeface="Calibri"/>
              </a:rPr>
              <a:t>dzie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ole tekstowe 143"/>
          <p:cNvSpPr/>
          <p:nvPr/>
        </p:nvSpPr>
        <p:spPr>
          <a:xfrm>
            <a:off x="1547640" y="458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cór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ole tekstowe 144"/>
          <p:cNvSpPr/>
          <p:nvPr/>
        </p:nvSpPr>
        <p:spPr>
          <a:xfrm>
            <a:off x="6300720" y="4508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s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145"/>
          <p:cNvSpPr/>
          <p:nvPr/>
        </p:nvSpPr>
        <p:spPr>
          <a:xfrm>
            <a:off x="3571920" y="61437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030a0"/>
                </a:solidFill>
                <a:latin typeface="Calibri"/>
              </a:rPr>
              <a:t>rodzeńs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46"/>
          <p:cNvSpPr/>
          <p:nvPr/>
        </p:nvSpPr>
        <p:spPr>
          <a:xfrm>
            <a:off x="3492360" y="141300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libri"/>
              </a:rPr>
              <a:t>rodz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500040" y="35002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dzia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7143840" y="34290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bab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2484360" y="1773360"/>
            <a:ext cx="4356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17" descr="old-40092_640.png"/>
          <p:cNvPicPr/>
          <p:nvPr/>
        </p:nvPicPr>
        <p:blipFill>
          <a:blip r:embed="rId2"/>
          <a:stretch/>
        </p:blipFill>
        <p:spPr>
          <a:xfrm>
            <a:off x="611280" y="1773360"/>
            <a:ext cx="1633320" cy="1698480"/>
          </a:xfrm>
          <a:prstGeom prst="rect">
            <a:avLst/>
          </a:prstGeom>
          <a:ln w="0">
            <a:noFill/>
          </a:ln>
        </p:spPr>
      </p:pic>
      <p:pic>
        <p:nvPicPr>
          <p:cNvPr id="335" name="Obraz 18" descr="grandma-486796_640.png"/>
          <p:cNvPicPr/>
          <p:nvPr/>
        </p:nvPicPr>
        <p:blipFill>
          <a:blip r:embed="rId3"/>
          <a:srcRect l="0" t="0" r="0" b="19295"/>
          <a:stretch/>
        </p:blipFill>
        <p:spPr>
          <a:xfrm>
            <a:off x="6804000" y="1844640"/>
            <a:ext cx="183348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4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am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żon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córka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4836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tat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ąż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syn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ytuł 1"/>
          <p:cNvSpPr/>
          <p:nvPr/>
        </p:nvSpPr>
        <p:spPr>
          <a:xfrm>
            <a:off x="4211640" y="189000"/>
            <a:ext cx="3614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37" descr="couple-307287_640.png"/>
          <p:cNvPicPr/>
          <p:nvPr/>
        </p:nvPicPr>
        <p:blipFill>
          <a:blip r:embed="rId1"/>
          <a:stretch/>
        </p:blipFill>
        <p:spPr>
          <a:xfrm>
            <a:off x="2268360" y="2849400"/>
            <a:ext cx="525636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42" name="Symbol zastępczy zawartości 3" descr="people-117198_640.png"/>
          <p:cNvPicPr/>
          <p:nvPr/>
        </p:nvPicPr>
        <p:blipFill>
          <a:blip r:embed="rId1"/>
          <a:stretch/>
        </p:blipFill>
        <p:spPr>
          <a:xfrm>
            <a:off x="2556000" y="692280"/>
            <a:ext cx="3681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Moja babcia” H. Niewiadom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55736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siaj nowoczesn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chodzić w ciepłych kapcia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 fotelu się nie buj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ylko wciąż po świecie hula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Samochodem dzieci wiezi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Z klocków lego robi wieżę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 drabinie się wdrap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pinistę naślad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robić już na druta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 Internecie bajek szu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ieczorami tańczy samb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yjada całą mambę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a basenie daje 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By dogonić płetwo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Od miesiąca, co niedziel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iłką nożną gole strzel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155700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adek ręce załamuj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- Babciu wracaj! - nawoł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Gdzie jest obiad i skarpet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aftowane gdzie serwety?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e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 wciąż jest młod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Ciągle marzy o przygodach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Lecz choć skarpet nie cer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upina z włosów ko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o swe wnuki, oraz dziad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nad własne życie koch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ziecko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yn             có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nuczek              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prawnuczek              pra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Obraz 7" descr="boy-160168_640.png"/>
          <p:cNvPicPr/>
          <p:nvPr/>
        </p:nvPicPr>
        <p:blipFill>
          <a:blip r:embed="rId1"/>
          <a:stretch/>
        </p:blipFill>
        <p:spPr>
          <a:xfrm>
            <a:off x="3276720" y="3573360"/>
            <a:ext cx="4103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Rodzina dalsz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Ciocia – siostra mamy lub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ujek – brat mam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k – brat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nka – żona stry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Kuzyn, Kuzynka – dzieci rodzeństwa rodzicó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Teściowie – rodzice męża lub żo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rzewo genealogiczn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52" name="Symbol zastępczy zawartości 3" descr="family-tree-297812_640.png"/>
          <p:cNvPicPr/>
          <p:nvPr/>
        </p:nvPicPr>
        <p:blipFill>
          <a:blip r:embed="rId1"/>
          <a:stretch/>
        </p:blipFill>
        <p:spPr>
          <a:xfrm>
            <a:off x="2195640" y="1268280"/>
            <a:ext cx="4854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om” Z. Beszczyń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om otwiera swoje cztery ścia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babci, dziadka, tatusia, mamy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nas wszystkich, dla gości, dla kota i psa…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48:19Z</dcterms:created>
  <dc:creator>TweakedXP</dc:creator>
  <dc:description/>
  <dc:language>en-US</dc:language>
  <cp:lastModifiedBy>Karolina Mróz</cp:lastModifiedBy>
  <dcterms:modified xsi:type="dcterms:W3CDTF">2015-01-21T10:31:11Z</dcterms:modified>
  <cp:revision>99</cp:revision>
  <dc:subject/>
  <dc:title>RODZINA</dc:title>
</cp:coreProperties>
</file>