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whoosh.wav" ContentType="audio/x-wav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F439-DEEC-4003-9DEE-2BCE82A40AA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EA7-B0D5-48E7-B00A-A984BA493C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1517-2B6F-46EF-9781-8C9ED3F75F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016-C108-4BF5-82A5-9E45B1C6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E7F-4808-415A-8A46-1014F432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EE6-E924-49E2-88C0-B390F267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26B-C148-4911-BAD4-1068BE54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74C8-470A-435B-8F64-1DF4C095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581A-579B-4A72-B3EF-17B3370B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676-F0E9-4AF3-B11C-B70F628A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DA8A-0845-4184-BF70-13307A94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BBD4-CD21-4EA0-AE98-28284C8D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5D86-9181-44C7-8C60-57928DBF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0AEE-86EF-4D94-BBB3-CD87FBD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A6E-FEC6-46B6-A4FD-312DE4C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B8EC-4B38-4C11-B06E-2116436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0AEA-C036-4CDC-98E3-060F4466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4E5-B485-4590-9CC7-66A6CF13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F46D-FF79-4DC6-8E19-455A06C6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C37A-BF88-4A95-954D-6402A937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A81A9-1C6F-479A-8577-4B77E54F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8621-6B2D-4C8F-AFA8-D0A00AD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AFD3-7B83-4454-84E4-95E2FB8C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AD1E-36D7-4DB2-9F8E-984094AB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D9FC-BD69-4E90-8A5C-9469A043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A14-C38B-49D0-A4B4-AA275D41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AAF2-2CEF-4CE3-BB6A-25C4744E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70707-34C1-4D82-871F-A7CB456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B55E-03C3-41FF-9E0C-6084803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8A7F-F291-48BC-99D4-0893883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3E53-07D6-403A-98E3-2619206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DBD3-CA02-4712-9215-6B4CF89B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36B8-BC4E-4B4C-A7EF-C8A05551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AB2A-22CE-423D-ACCE-24C21B3E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BAD8-C4E7-4EF0-99AA-E0AE4E98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44FA-8963-4D6B-8882-5400A47E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D25-8C38-4059-864A-A0E727F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8C82-C614-44C4-A072-792ABF67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02C2-8BCD-4B83-85D9-16C15C0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077C-5B06-45CF-9A84-4FF8E94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F2B7-B725-4AE0-AEC5-736E67F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B788-C8ED-4D01-ABBE-47F16634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39F0-01FC-4502-9559-29E1EC8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15FB-3102-4F17-993F-774A7E10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5688-6492-41A8-BB96-42688709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15D4-71FA-4AEE-94CF-ACB188F8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91F2-69D7-4BBC-9FFC-15973720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C37-FCC7-437A-AC9E-B45365E4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3015-DBD3-4666-9FDE-C2029CAD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3889-5B65-486D-86F6-171C3C4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1440-FF66-4EF2-87C6-12F76B49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C209-9210-4AEE-B7C5-68CEED0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41B4-96EF-499A-AFAF-1AF7E4AB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E882-8D26-4B1F-BBAB-B736D581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3347-A7AA-47D9-8F16-8EDBB7DC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72EC-620D-46E5-9615-FBD083D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12B64-4465-40B3-905D-DAE641E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9469-2097-46CA-A232-EE950E60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A5C-7295-46CF-A2A8-021D973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366D-081D-4F0C-9EF9-069460C4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F71-0874-4176-A404-7E676C0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FDF-B27B-4611-9720-3E6985E2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38E-6711-43EF-8A0A-BE7B9DCE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8DC-B93C-429F-A567-97B2E7AF41FD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96C-9A9F-4E2D-B3AB-8D3188DFDA87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D4F-6501-41A2-B082-F2D149DFF5D3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7E1B-CFB7-4FD9-A9CB-AF45988BC70C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BC90-4E45-4EA0-9EE2-908A2408B88A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24000" y="321300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Franklin Gothic Book"/>
              </a:rPr>
              <a:t>Jak bawić się bezpieczni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4" descr="C:\Users\Darek\Desktop\góra.jpg"/>
          <p:cNvPicPr/>
          <p:nvPr/>
        </p:nvPicPr>
        <p:blipFill>
          <a:blip r:embed="rId1"/>
          <a:stretch/>
        </p:blipFill>
        <p:spPr>
          <a:xfrm>
            <a:off x="1692360" y="260280"/>
            <a:ext cx="5759280" cy="9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Darek\Desktop\dół.jpg"/>
          <p:cNvPicPr/>
          <p:nvPr/>
        </p:nvPicPr>
        <p:blipFill>
          <a:blip r:embed="rId2"/>
          <a:stretch/>
        </p:blipFill>
        <p:spPr>
          <a:xfrm>
            <a:off x="1633680" y="501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Gdy ktoś w twoim otoczeniu zasłabnie, ułóż tę osobę na ziemi tak aby nogi znajdowały się na podwyższeniu.  Ta pozycja pozwoli jej lepiej oddychać. Jeżeli znajdujesz się w zamkniętym pomieszczeniu, otwórz okno, aby wpuścić świeże powietrze. Następnie powiadom osoby dorosł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836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podczas spaceru nadejdzie burza lub wichura nie chowaj się pod wysokimi drzewami, ponieważ spadające gałęzie lub pioruny mogą nieść poważne zagrożenia zdrowia i ży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znajdujesz się na terenie zabudowanym postaraj się unikać metalowych obiektów np., słupów energetycznych. Jak najszybciej ukryj się w budynku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burza zaskoczyła cię na terenie otwartym, nie uciekaj przed nią. Oddal się spokojnym krokiem od drzew i poszukaj schronienia na niższym terenie.</a:t>
            </a:r>
            <a:r>
              <a:rPr b="0" lang="pl-PL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914400" y="25992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podchodź i nie głaskaj nieznajomych psów. Miej się na baczności gdy pies na ciebie szczeka, warczy i pokazuje zęby. Nie wolno krzyczeć na niego, zachowuj się tak jakbyś się go nie bał.  Pamiętaj aby nie patrzeć mu się prosto w oczy i nie odwracaj się do niego tył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ugryzł cię pies natychmiast powiadom osobę dorosłą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Obraz 4" descr="dog-454146_640.jpg"/>
          <p:cNvPicPr/>
          <p:nvPr/>
        </p:nvPicPr>
        <p:blipFill>
          <a:blip r:embed="rId1"/>
          <a:stretch/>
        </p:blipFill>
        <p:spPr>
          <a:xfrm>
            <a:off x="2411280" y="3284640"/>
            <a:ext cx="4345200" cy="2892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8" name="Symbol zastępczy zawartości 4" descr="chemical-reaction-24562_640.png"/>
          <p:cNvPicPr/>
          <p:nvPr/>
        </p:nvPicPr>
        <p:blipFill>
          <a:blip r:embed="rId1"/>
          <a:stretch/>
        </p:blipFill>
        <p:spPr>
          <a:xfrm>
            <a:off x="3348000" y="3141720"/>
            <a:ext cx="160020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Obraz 5" descr="chemicals-540607_640.jpg"/>
          <p:cNvPicPr/>
          <p:nvPr/>
        </p:nvPicPr>
        <p:blipFill>
          <a:blip r:embed="rId2"/>
          <a:stretch/>
        </p:blipFill>
        <p:spPr>
          <a:xfrm>
            <a:off x="3419640" y="404640"/>
            <a:ext cx="3247920" cy="2444760"/>
          </a:xfrm>
          <a:prstGeom prst="rect">
            <a:avLst/>
          </a:prstGeom>
          <a:ln w="0">
            <a:noFill/>
          </a:ln>
        </p:spPr>
      </p:pic>
      <p:pic>
        <p:nvPicPr>
          <p:cNvPr id="270" name="Obraz 6" descr="cleaning-532411_640.jpg"/>
          <p:cNvPicPr/>
          <p:nvPr/>
        </p:nvPicPr>
        <p:blipFill>
          <a:blip r:embed="rId3"/>
          <a:stretch/>
        </p:blipFill>
        <p:spPr>
          <a:xfrm>
            <a:off x="5076720" y="3860640"/>
            <a:ext cx="3683160" cy="2446560"/>
          </a:xfrm>
          <a:prstGeom prst="rect">
            <a:avLst/>
          </a:prstGeom>
          <a:ln w="0">
            <a:noFill/>
          </a:ln>
        </p:spPr>
      </p:pic>
      <p:pic>
        <p:nvPicPr>
          <p:cNvPr id="271" name="Obraz 7" descr="extinguisher-237643_640.jpg"/>
          <p:cNvPicPr/>
          <p:nvPr/>
        </p:nvPicPr>
        <p:blipFill>
          <a:blip r:embed="rId4"/>
          <a:stretch/>
        </p:blipFill>
        <p:spPr>
          <a:xfrm>
            <a:off x="7164360" y="260280"/>
            <a:ext cx="1835280" cy="3273480"/>
          </a:xfrm>
          <a:prstGeom prst="rect">
            <a:avLst/>
          </a:prstGeom>
          <a:ln w="0">
            <a:noFill/>
          </a:ln>
        </p:spPr>
      </p:pic>
      <p:pic>
        <p:nvPicPr>
          <p:cNvPr id="272" name="Obraz 8" descr="forms-103443_640.jpg"/>
          <p:cNvPicPr/>
          <p:nvPr/>
        </p:nvPicPr>
        <p:blipFill>
          <a:blip r:embed="rId5"/>
          <a:stretch/>
        </p:blipFill>
        <p:spPr>
          <a:xfrm>
            <a:off x="395280" y="2205000"/>
            <a:ext cx="2509920" cy="3768840"/>
          </a:xfrm>
          <a:prstGeom prst="rect">
            <a:avLst/>
          </a:prstGeom>
          <a:ln w="0">
            <a:noFill/>
          </a:ln>
        </p:spPr>
      </p:pic>
      <p:pic>
        <p:nvPicPr>
          <p:cNvPr id="273" name="Obraz 9" descr="honey-292133_640.jpg"/>
          <p:cNvPicPr/>
          <p:nvPr/>
        </p:nvPicPr>
        <p:blipFill>
          <a:blip r:embed="rId6"/>
          <a:stretch/>
        </p:blipFill>
        <p:spPr>
          <a:xfrm>
            <a:off x="179280" y="189000"/>
            <a:ext cx="2679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7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Symbol zastępczy zawartości 3" descr=""/>
          <p:cNvPicPr/>
          <p:nvPr/>
        </p:nvPicPr>
        <p:blipFill>
          <a:blip r:embed="rId1"/>
          <a:stretch/>
        </p:blipFill>
        <p:spPr>
          <a:xfrm>
            <a:off x="414360" y="536400"/>
            <a:ext cx="8034480" cy="555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Symbol zastępczy zawartości 4" descr="freedom-307791_640.png"/>
          <p:cNvPicPr/>
          <p:nvPr/>
        </p:nvPicPr>
        <p:blipFill>
          <a:blip r:embed="rId1"/>
          <a:stretch/>
        </p:blipFill>
        <p:spPr>
          <a:xfrm>
            <a:off x="1258920" y="765000"/>
            <a:ext cx="7007040" cy="525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odczas pływania należy uważać. Nie wszystkie zbiorniki wodne są odpowiednie do kąpieli. W wodzie mogą znajdować się niebezpieczne przedmioty, które wyrządzą krzywdę. Należy korzystać tylko z wyznaczonych kąpielisk pod opieką dorosłych!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Obraz 3" descr="fun-169720_640.jpg"/>
          <p:cNvPicPr/>
          <p:nvPr/>
        </p:nvPicPr>
        <p:blipFill>
          <a:blip r:embed="rId1"/>
          <a:stretch/>
        </p:blipFill>
        <p:spPr>
          <a:xfrm>
            <a:off x="2195640" y="404640"/>
            <a:ext cx="4608360" cy="3081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amiętaj aby podczas gry w piłkę nie bawić się blisko drogi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Obraz 4" descr="the-ball-488716_640.jpg"/>
          <p:cNvPicPr/>
          <p:nvPr/>
        </p:nvPicPr>
        <p:blipFill>
          <a:blip r:embed="rId1"/>
          <a:stretch/>
        </p:blipFill>
        <p:spPr>
          <a:xfrm>
            <a:off x="1476360" y="206064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należy bawić się petardami. Mogą wybuchnąć w ręku i poważnie uszkodzić twoje ciało. Oprócz oparzeń możesz stracić wzro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Obraz 4" descr="firecracker-157886_640.png"/>
          <p:cNvPicPr/>
          <p:nvPr/>
        </p:nvPicPr>
        <p:blipFill>
          <a:blip r:embed="rId1"/>
          <a:stretch/>
        </p:blipFill>
        <p:spPr>
          <a:xfrm>
            <a:off x="2268360" y="1916280"/>
            <a:ext cx="4408560" cy="448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a na rolkach jest bardzo ekscytująca. Przed rozpoczęciem jazdy pamiętaj by założyć kask i ochraniacze. Nie szusuj po ulicy tylko po specjalnie wyznaczonych alejkach i chodnik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Obraz 4" descr="skating-23797_640.png"/>
          <p:cNvPicPr/>
          <p:nvPr/>
        </p:nvPicPr>
        <p:blipFill>
          <a:blip r:embed="rId1"/>
          <a:stretch/>
        </p:blipFill>
        <p:spPr>
          <a:xfrm>
            <a:off x="3059280" y="1989000"/>
            <a:ext cx="2717640" cy="4469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Lekarstwa są bardzo atrakcyjne, szczególnie te wyglądające jak kolorowe cukierki. Jednak uważaj bo mogą być bardzo niebezpieczne dla ciebie. Gdy poczujesz się źle, powiedz o tym osobie dorosłej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właściwe stosowanie leków może negatywnie wpłynąć na organizm a nawet doprowadzić do śmierci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Obraz 4" descr="medications-342463_640.jpg"/>
          <p:cNvPicPr/>
          <p:nvPr/>
        </p:nvPicPr>
        <p:blipFill>
          <a:blip r:embed="rId1"/>
          <a:stretch/>
        </p:blipFill>
        <p:spPr>
          <a:xfrm>
            <a:off x="2195640" y="3500280"/>
            <a:ext cx="5137200" cy="277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ę na łyżwach należy uprawiać w specjalnie do tego przeznaczonych miejsc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Obraz 4" descr="ice-skating-235547_640.jpg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Wszystkie przedmioty spadające ze znacznej wysokości niosą zagrożenie dla przechodniów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wolno niczego wyrzucać przez okno, można w ten sposób spowodować groźny wypade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Obraz 4" descr="water-balloon-308736_640.png"/>
          <p:cNvPicPr/>
          <p:nvPr/>
        </p:nvPicPr>
        <p:blipFill>
          <a:blip r:embed="rId1"/>
          <a:stretch/>
        </p:blipFill>
        <p:spPr>
          <a:xfrm>
            <a:off x="2843280" y="2349360"/>
            <a:ext cx="4200480" cy="377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Jeżeli w chłodne dni zdarzy ci się wychłodzić lub przemoczyć organizm jak najszybciej przebierz się w suche ciepłe ubrania i okryj się kocem. Ogrzeje cię również kubek gorącego napoju, np. herbaty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7:15:31Z</dcterms:created>
  <dc:creator>Z-ca Komendanta</dc:creator>
  <dc:description/>
  <dc:language>en-US</dc:language>
  <cp:lastModifiedBy>Darek</cp:lastModifiedBy>
  <dcterms:modified xsi:type="dcterms:W3CDTF">2015-01-20T14:12:12Z</dcterms:modified>
  <cp:revision>19</cp:revision>
  <dc:subject/>
  <dc:title>Jak Bawić się bezpiecznie</dc:title>
</cp:coreProperties>
</file>