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1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A87-2893-4EDD-8A9A-A7FFE4C2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B65-F200-4D24-8AC5-BD1B4672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870-9FB1-4B30-A02B-A6E8EE56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86D-C5BD-4880-A0C7-4417E47C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D120-2944-4869-94F7-C7A2760B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9C12-AF45-4345-A04E-06BAB51C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3854-BEB5-4CC8-B840-EA9EE2AB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3CE2-7A04-4D9E-8C7E-1F96631C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634D-E07D-44BD-A00A-E2654066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D826-22BC-4832-BE81-F5DD889B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3537-C7B1-45F3-8592-15DE8D3D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A66-7B34-4124-B427-5485727C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BCB4-4E66-47B0-92DF-FE0BFDF0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E7CD-0974-4D86-8E07-AD5399D7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659A-DD40-4F1F-B0A6-05721A23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2478-5BB2-4042-8AD5-AE0CC2E1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4D12-7156-411C-A1BD-7A4A9CA4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8B241-E40C-467F-8399-581DBD79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2E72C-B744-4536-8491-955CF9D7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6166-99AC-426C-99B1-42A06F46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F108-CABC-4996-85BE-33BC0C67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94CA1-202B-47A4-BACC-870F46D0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297-6D22-42CB-BB21-4E371106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6F388-6C12-4BDC-A5B9-07D782F1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979F-8B4F-4A7C-8856-095CB395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FD482-63CB-469E-8128-F469BFCE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0BC9E-33EE-4E8D-AEA1-9A3D33DB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41FE0-D27B-45B7-A4B3-1FE6B2AD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841A0-4B39-4C51-A1FA-4081B4F8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A0354-9B5F-4B18-91FE-2BB2178B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EDAC8-56C4-4232-A0E3-D231A94F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DC452-A86D-4C53-A2D8-10885DE5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F5A1D-4FBE-4435-B8C9-1D7C2BB6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C7D-8577-499C-8D2C-8C02634A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E1962-8EF9-4696-8A1C-1902D527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33221-FF14-4DC2-B4C6-C9A93B1A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1E6BF-9785-41A0-8BC0-59F270E8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66C21-03CB-467A-BDE6-62E94BC6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8A903-407E-4A57-AD10-5136A3BE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79BEE-F64A-4DAB-97DB-4547D1C5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162F-355B-4107-BCC9-A0ED040D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30ECC-8F17-4967-B97F-38D166F0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0E51B-A304-49AF-85CD-B088B25E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792F2-5A55-435E-8C36-7F8B2BB3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CC8-97F9-464D-AC04-74650F56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22A39-AEA4-4575-A673-53A4C261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D7455-687B-466B-BB29-EF9DC623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128EF-770F-45C1-BA9D-0E820C15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3321F-2592-4D15-A3F4-00725DBD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02EE1-74DA-4721-B448-9B37C795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F0A89-2283-413F-A1D3-D313A763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8B3C7-C1C9-4E56-B1C4-483CD0BE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F90BF-4DCA-406E-ACF8-5CA77507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3BE63-25FF-4451-B344-98902966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9E8B1-8F45-46B7-9124-9F915A5C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70F-F7CD-4A31-906A-96131994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4469C-190C-4930-BC7F-D5A96780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7838E-BFB1-413F-9AD9-32B3D940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0429A-2351-427D-BD6B-F0195A09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BAFFC-068C-4672-A1AA-670859A7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6BDFD-E77F-4D66-9CF9-C10C8A6E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4589F-F386-484A-9C78-D1425ED0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7035B-62C8-459D-A91E-A4E4A68B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033E0-9777-40B4-B838-F2211450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17215-B0F4-4F02-87B6-D8B2A3EA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809F9-E64E-4E78-A353-976C1351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DD0-A7E3-47CB-8E46-D2895492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9F2D7-85D5-482F-99EA-471B3382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CD072-1B43-40AE-96B3-E32C849D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297D6-26F4-4484-AC11-2244B7CF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A8051-90E9-412A-BF32-13BF3D65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71338-2F72-40EB-B836-C8F41A07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781B3-B9F5-44EA-AAC4-C42C2212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63352-F330-43BD-AE1E-C7AB717C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8515F-E5A3-4B89-9AD0-6B3A3DDD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171B6-BE1A-485A-9496-1CBD3DE3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75BDB-8546-460D-B473-B095030B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07E-AB53-44A8-BEC9-E885530E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346F5-C46F-4FD9-826A-42D8979A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9896C-36F4-4941-B792-1FADD9D8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83E09-231F-43AA-8BD7-0C13A016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45C47-E888-4FE0-AB31-8FBCBD9D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6F62A-E51C-4818-8B28-76640D91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FD7-69BA-4F20-B187-F77F5397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E9A5-FEB7-4DC4-85E8-1DCDA3C38E36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rostokąt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570A-FEC4-47E7-8E9B-9D3D8E81E8C7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rostokąt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ostokąt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99EA-98B6-4862-96F5-DADE50C8E2CE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04A8-8A6F-4295-8B88-78AD59A0DF38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rostokąt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83E0-FE81-4FB3-A878-3FDD204E8771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rostokąt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rostokąt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9B7F-E340-4F03-8841-632AD0DCE3C2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rostokąt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rostokąt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1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31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b2d1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28e6a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5625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1848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33D1-0C68-48F1-BC49-D9996339B665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2"/>
          <a:stretch/>
        </p:blipFill>
        <p:spPr>
          <a:xfrm>
            <a:off x="609480" y="1627200"/>
            <a:ext cx="7918560" cy="2590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404640"/>
            <a:ext cx="807732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Users\Darek\Desktop\góra.jpg"/>
          <p:cNvPicPr/>
          <p:nvPr/>
        </p:nvPicPr>
        <p:blipFill>
          <a:blip r:embed="rId3"/>
          <a:stretch/>
        </p:blipFill>
        <p:spPr>
          <a:xfrm>
            <a:off x="1692360" y="765000"/>
            <a:ext cx="5759280" cy="943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C:\Users\Darek\Desktop\dół.jpg"/>
          <p:cNvPicPr/>
          <p:nvPr/>
        </p:nvPicPr>
        <p:blipFill>
          <a:blip r:embed="rId4"/>
          <a:stretch/>
        </p:blipFill>
        <p:spPr>
          <a:xfrm>
            <a:off x="1835280" y="4797360"/>
            <a:ext cx="5761080" cy="14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ytuł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Po raz pierwszy choinka pojawiła się W Polsce w dziewiętnastym wieku jako zwyczaj zapożyczony z Nadrenii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Symbolizuje rajskie drzewo życia, dlatego pierwszymi ozdobami były jabłk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Gwiazda na czubku choinki odnosiła się do Gwiazdy Betlejemskiej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Świeczki znajdujące się na choince miały symbolizować światło Chrystusa, natomiast łańcuchy przypominały o grzechu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Z czasem ozdób przybywało, choinki stawały się coraz bardziej strojn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Obraz 6" descr="star-413981_640.jpg"/>
          <p:cNvPicPr/>
          <p:nvPr/>
        </p:nvPicPr>
        <p:blipFill>
          <a:blip r:embed="rId2"/>
          <a:stretch/>
        </p:blipFill>
        <p:spPr>
          <a:xfrm>
            <a:off x="7236000" y="11592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Obraz 3" descr="christmas-206362_640.jpg"/>
          <p:cNvPicPr/>
          <p:nvPr/>
        </p:nvPicPr>
        <p:blipFill>
          <a:blip r:embed="rId1"/>
          <a:stretch/>
        </p:blipFill>
        <p:spPr>
          <a:xfrm>
            <a:off x="2050920" y="380880"/>
            <a:ext cx="496908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Najczęściej wieszana nad drzwiami w celu zapewnienia pokoju, miłości i szczęścia domostwu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Zwyczaj całowania się pod jemiołą miało zapewnić mężczyźnie płodność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Obraz 4" descr="star-436134_640.jpg"/>
          <p:cNvPicPr/>
          <p:nvPr/>
        </p:nvPicPr>
        <p:blipFill>
          <a:blip r:embed="rId2"/>
          <a:stretch/>
        </p:blipFill>
        <p:spPr>
          <a:xfrm>
            <a:off x="6659640" y="0"/>
            <a:ext cx="21844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uste miejsce przy wigilijnym stole zostawiano dla duszy osób, które już odeszły a w tę jedną noc w roku przychodzą w odwiedziny do swoich bliskich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Obecnie wolne miejsce jest przeznaczone dla zabłąkanego wędrowc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Obraz 3" descr="christmas-ornament-11302_640.jpg"/>
          <p:cNvPicPr/>
          <p:nvPr/>
        </p:nvPicPr>
        <p:blipFill>
          <a:blip r:embed="rId2"/>
          <a:srcRect l="14561" t="0" r="12197" b="0"/>
          <a:stretch/>
        </p:blipFill>
        <p:spPr>
          <a:xfrm>
            <a:off x="7308720" y="0"/>
            <a:ext cx="12589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Dawniej wierzono, że w noc wigilijną wszystkie zwierzęta będą mówić ludzkim głosem aby móc w radować się z narodzin Jezusa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odawano zwierzętom również opłate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Obraz 3" descr="ice-crystal-64157_640.jpg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0" name="Symbol zastępczy zawartości 3" descr="nicholas-of-myra-61067_640.jpg"/>
          <p:cNvPicPr/>
          <p:nvPr/>
        </p:nvPicPr>
        <p:blipFill>
          <a:blip r:embed="rId2"/>
          <a:stretch/>
        </p:blipFill>
        <p:spPr>
          <a:xfrm>
            <a:off x="396720" y="2346480"/>
            <a:ext cx="4407120" cy="3305160"/>
          </a:xfrm>
          <a:prstGeom prst="rect">
            <a:avLst/>
          </a:prstGeom>
          <a:ln w="0">
            <a:noFill/>
          </a:ln>
        </p:spPr>
      </p:pic>
      <p:pic>
        <p:nvPicPr>
          <p:cNvPr id="351" name="Obraz 4" descr="santa-31276_640.png"/>
          <p:cNvPicPr/>
          <p:nvPr/>
        </p:nvPicPr>
        <p:blipFill>
          <a:blip r:embed="rId3"/>
          <a:stretch/>
        </p:blipFill>
        <p:spPr>
          <a:xfrm>
            <a:off x="5003640" y="2276640"/>
            <a:ext cx="34750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900000" y="1915920"/>
            <a:ext cx="3346560" cy="38113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Choin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Jaseł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Kolędnic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Jemioł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Dzielenie się opłatkie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03280" y="1989000"/>
            <a:ext cx="3929400" cy="4191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Puste miejsce przy sto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Szop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12 potra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Obraz 5" descr="christmas-ornament-513503_640.jpg"/>
          <p:cNvPicPr/>
          <p:nvPr/>
        </p:nvPicPr>
        <p:blipFill>
          <a:blip r:embed="rId2"/>
          <a:stretch/>
        </p:blipFill>
        <p:spPr>
          <a:xfrm>
            <a:off x="6622920" y="0"/>
            <a:ext cx="25210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500" spc="-1" strike="noStrike">
              <a:solidFill>
                <a:srgbClr val="ff3100"/>
              </a:solidFill>
              <a:latin typeface="Corbel"/>
            </a:endParaRPr>
          </a:p>
        </p:txBody>
      </p:sp>
      <p:pic>
        <p:nvPicPr>
          <p:cNvPr id="312" name="Symbol zastępczy zawartości 4" descr="christmas-566309_640.png"/>
          <p:cNvPicPr/>
          <p:nvPr/>
        </p:nvPicPr>
        <p:blipFill>
          <a:blip r:embed="rId1"/>
          <a:stretch/>
        </p:blipFill>
        <p:spPr>
          <a:xfrm>
            <a:off x="1258920" y="1700280"/>
            <a:ext cx="6416640" cy="45306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ytuł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orbel"/>
              </a:rPr>
              <a:t>Przed przygotowanie wigilijnego stołu, należy włożyć pod obrus sianko symbolizujące ubóstwo Chrystusa. Według tradycji, przy stole zostawia się jedno wolne miejsce dla niespodziewanego gościa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orbel"/>
              </a:rPr>
              <a:t>12 potraw znajdujących się na stole symbolizuje każdego z apostołów Jezusa. Najbardziej tradycyjnymi potrawami są: barszcz czerwony, karp, pierogi z grzybami i kapustą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orbel"/>
              </a:rPr>
              <a:t>Bardzo ważne aby podczas kolacji spróbować każdej potrawy, dzięki temu żadna przyjemność, w nowym roku, nas nie omini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Obraz 8" descr="christmas-bauble-437520_640.jpg"/>
          <p:cNvPicPr/>
          <p:nvPr/>
        </p:nvPicPr>
        <p:blipFill>
          <a:blip r:embed="rId2"/>
          <a:srcRect l="0" t="0" r="0" b="14316"/>
          <a:stretch/>
        </p:blipFill>
        <p:spPr>
          <a:xfrm>
            <a:off x="5904000" y="0"/>
            <a:ext cx="306072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ytuł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Cicha noc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Bóg się rodzi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Dzisiaj w Betlejem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Do szopy, hej pasterz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Gdy się Chrystus rodzi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W żłobie leż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Lulaj że Jezuniu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Przybieżeli do Betlejem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Gdy śliczna panna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orbel"/>
              </a:rPr>
              <a:t>Wśród nocnej cisz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d3481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4518000" y="0"/>
            <a:ext cx="462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icha noc, święta noc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Pokój niesie, ludziom wszem 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A u żłóbka Matka Święta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zuwa sama uśmiechnięta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ad dzieciątka snem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ad dzieciątka snem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icha noc, święta noc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Pastuszkowie od swych trzód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Biegną wielce zadziwien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Za anielskim głosem pien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Gdzie się spełnił cud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Gdzie się spełnił cud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Cicha noc, święta noc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arodzony Boży syn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Pan wielkiego majestatu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Niesie dziś całemu światu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Odkupienie win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orbel"/>
              </a:rPr>
              <a:t>Odkupienie wi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4518000" y="0"/>
            <a:ext cx="462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Bóg się rodzi, moc truchle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Pan niebiosów obnażon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Ogień krzepnie, blask ciemnie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Ma granice - Nieskończony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zgardzony - okryty chwa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Śmiertelny król nad wiekam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A Słowo Ciałem się stał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mieszkało między nami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Cóż masz, niebo, nad ziemiany?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Bóg porzucił szczęście two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szedł między lud ukochan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Dzieląc z nim trudy i znoj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Niemało cierpiał, niemał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Żeśmy byli winni sam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A Słowo Ciałem się stał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mieszkało między nami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Podnieś rękę, boże Dziecię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Błogosław ojczyznę mi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 dobrych radach, w dobrym byci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Wspieraj jej siłę Swą si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Dom nasz i majętność cał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wszystkie wioski z miastam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A Słowo Ciałem się stał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I mieszkało między nami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4518000" y="0"/>
            <a:ext cx="4626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62864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Dzisiaj w Betlejem, dzisiaj w Betlejem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Wesoła nowin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Że Panna czysta, że Panna czyst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orodziła Syna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Maryja Panna, Maryja Pann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Dzieciątko piastuj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I Józef święty i Józef święt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On ją pielęgnuje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ociaż w stajence, chociaż w stajenc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nna Syna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rzecież on wkrótce, przecież on wkrótc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Ludzi oswobodzi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4832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I Trzej królowie, i trzej królowie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Od wschodu przybyl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I dary Panu, i dary Panu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osztowne złożyli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ójdźmy też i my, pójdźmy też i m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rzywitać Jezusa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a nad królami, Króla nad królam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Uwielbić Jezusa</a:t>
            </a:r>
            <a:br>
              <a:rPr sz="1100"/>
            </a:b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hrystus się r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Nas oswobodzi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Anieli gr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Króle wit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Pasterze śpiew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Bydlęta klękają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orbel"/>
              </a:rPr>
              <a:t>Cuda, cuda ogłaszają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5076720" y="0"/>
            <a:ext cx="40672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ytuł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dy się Chrystus rodz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 na świat przychodz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Ciemna noc w jasności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romienistych brodzi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Aniołowie się radują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od niebiosa wyśpiewują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-o" | x2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Mówią do pasterz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Którzy trzód swych strzegl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Aby do Betlejem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Czym prędzej pobiegl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Bo się narodził Zbawiciel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szego świata Odkupiciel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o | x2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 niebieskie duch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 posłowie nieb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owiedzcież wyraźniej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Co nam czynić trzeb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Bo my nic nie pojmujemy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Ledwo od strachu żyjemy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o | x2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dźcie do Betlejem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dzie Dziecię zrodzon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 pieluszki powit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 żłobie położon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ddajcie Mu pokłon boski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n osłodzi wasze troski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Gloria, gloria, gloria |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n excelsis Deo | x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Symbol zastępczy zawartości 3" descr="star-551254_640.jpg"/>
          <p:cNvPicPr/>
          <p:nvPr/>
        </p:nvPicPr>
        <p:blipFill>
          <a:blip r:embed="rId2"/>
          <a:srcRect l="0" t="61025" r="0" b="0"/>
          <a:stretch/>
        </p:blipFill>
        <p:spPr>
          <a:xfrm>
            <a:off x="5940360" y="0"/>
            <a:ext cx="3203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5:25:04Z</dcterms:created>
  <dc:creator>Michał</dc:creator>
  <dc:description/>
  <dc:language>en-US</dc:language>
  <cp:lastModifiedBy>Darek</cp:lastModifiedBy>
  <dcterms:modified xsi:type="dcterms:W3CDTF">2015-01-20T14:10:58Z</dcterms:modified>
  <cp:revision>45</cp:revision>
  <dc:subject/>
  <dc:title>Święta Bożonarodzeniowe</dc:title>
</cp:coreProperties>
</file>