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2F0-D4B1-481B-ADF3-518B599C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7B9-6687-4F23-8BDC-EE28CCDA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341-521E-4BED-8DD7-3A5FD874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498-EDD5-490A-95CC-4BC7EB2B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6886-4D01-467C-BD85-7E8F94DC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BC42-5D44-45EF-B563-D81D7953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6F15-4C72-42D6-9759-F8B777B3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1E09-A4A3-4755-A16C-2932C698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D393-960A-4C33-B943-06F4BF79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34B1-C86E-45F9-A1E2-7445FBC2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B48F-DC59-464F-AD22-393D5AC4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836-F9B5-4B67-B9B2-501B8355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1AD0-F477-457E-9140-CE0B4B3D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E537-D091-4AD2-A3A0-C021273C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D235-0ADD-4AB8-808A-05A770E6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AFEE-AFE9-49B1-88DB-1D3BED58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8A14-1E7A-4C72-8104-FB3598D4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B1CA-2116-4DCC-AAF4-67FDD2AC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0304F-11A0-4925-A13C-455A31D0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6840-13FC-41FA-B36F-2E0F30C6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9616-7422-43F9-8454-84468FC1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B765-AE5C-4271-802A-2B882797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4AA-1BB6-4490-9176-B7EA8C65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0D87-EB1D-467B-AEC5-9226CF65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01B3-ABA1-4F33-B66D-DD36AF7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CD9D-ABA6-47C0-A1C0-6BE45864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CD0A-D9A1-4B84-A4A9-FBD0F0B0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F637-A64C-4126-B66B-78D865F4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374D0-A4CC-4CFE-9821-ACED5D0E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A805-5A29-43C7-BC29-EE24611B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7A96-CB1A-4BD7-B643-0E2F5310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869D-7D3C-491A-92A2-A58F5875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A2E7-9C69-43E0-8686-ED85F46B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213-633D-46C4-9989-527C7D80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E771C-9706-4A97-A539-F167F042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584A-2A17-4C23-9C3B-FADC45E3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6A60-0BAA-49BA-BDD9-4C8F9CC6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195E0-A5A2-43A9-8411-208D808E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BA92-57EE-4532-9CDB-1E541326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2629C-414E-426B-BC27-B60BBA9C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47AFA-CB1D-4581-BD2A-C79A3E33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7138-C316-474E-B928-64CD815A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9C94-EC70-45EA-9B95-D318EBBD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5E329-9AAF-450A-9558-F668B675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4B0-E40A-4320-99F0-228C5699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71A99-0FBB-40E4-B897-70D37E07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984B-C826-4223-B544-DBA4CF87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E995A-69F9-4E6F-8762-48C66651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73F8D-A731-40F0-8F25-6CBE4EE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E805-A59A-4238-B3EA-3ECFAA49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18E14-AB20-4C37-A698-167B59B2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ED7EF-D5DA-4102-987B-46691BF5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CDADE-C033-49B8-A728-B340989F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5A0F7-AB5F-4AC2-8B60-31799516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9B27F-F9DA-4598-86C9-5BC50B35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738-3F91-42C8-9EB1-C118F69F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12D46-2A38-4144-A4D4-20F7B092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6BEFB-5C7E-4119-BE76-1942FCDA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9095C-CA44-4620-AC37-3EE125EF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66439-ABA8-4441-B44D-50AB2D68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2C3C8-AFA8-4781-AC49-2A308112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32ECE-BB6E-4828-A8EF-167DF4FA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F9F1E-2607-47F4-A6A4-B02BAFA2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A84A-0552-40A5-86F3-3FF1EA50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AE82-ACF9-4170-82E7-63B1DE6B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122A-C92F-44D1-B960-18D688F6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C8B-8DBD-4924-A25C-DDC2C1A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DA59E-5741-41DB-8359-21A152A5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E5B9-4698-4C5F-9D0A-4F907BED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738C-5E16-4BDD-A952-E02E2D05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F4A59-491E-4621-9EAE-0293F77B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9FD25-80FC-465A-B7F3-427F74E0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BF98B-8CAF-49AE-B68E-41A27F91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2D3A0-A159-4BAF-B1AE-B26D1A29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D4783-311C-4748-8C6A-32681B67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8F21B-8D70-430F-A771-D2619312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B6B78-10FC-4998-B93E-070CBD2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5AE-CBFB-482B-BDE7-8D52421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58031-35DF-4FC3-B394-AF6A902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401F0-CF34-4C67-B738-FB93C228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1B68E-FA5F-4985-9B1C-E6CC3FC3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1C496-D89D-4A40-A0ED-EC7B0784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4F000-2DEB-4007-BDAC-0272391E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778-A080-4A79-A34F-F4285F6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7C87-2FD4-424C-AAF1-C070F72BF17F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C48C-C425-4489-B438-3AB62877DA45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90A3-7160-4B44-945B-795F8D83B52B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446E-2908-4377-972A-0DF9FD35C0D3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CBDD-18EC-4783-A4DB-C7F6E254A9CE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719E-E747-4EB9-A6E0-735F581728C9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CBBD-0599-4DA2-A51C-DE6467CCBC5C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84360" y="2133360"/>
            <a:ext cx="740592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545e70"/>
                </a:solidFill>
                <a:latin typeface="Gill Sans MT"/>
              </a:rPr>
              <a:t>Rodzina</a:t>
            </a:r>
            <a:endParaRPr b="0" lang="en-US" sz="60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2c3340"/>
              </a:solidFill>
              <a:latin typeface="Gill Sans MT"/>
            </a:endParaRPr>
          </a:p>
        </p:txBody>
      </p:sp>
      <p:pic>
        <p:nvPicPr>
          <p:cNvPr id="320" name="Picture 4" descr="C:\Users\Darek\Desktop\dół.jpg"/>
          <p:cNvPicPr/>
          <p:nvPr/>
        </p:nvPicPr>
        <p:blipFill>
          <a:blip r:embed="rId1"/>
          <a:stretch/>
        </p:blipFill>
        <p:spPr>
          <a:xfrm>
            <a:off x="1908000" y="4724280"/>
            <a:ext cx="5761080" cy="1401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C:\Users\Darek\Desktop\góra.jpg"/>
          <p:cNvPicPr/>
          <p:nvPr/>
        </p:nvPicPr>
        <p:blipFill>
          <a:blip r:embed="rId2"/>
          <a:stretch/>
        </p:blipFill>
        <p:spPr>
          <a:xfrm>
            <a:off x="2050920" y="549360"/>
            <a:ext cx="5761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Przysłowia o rodzini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i ojciec taki syn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Gdy rodzina żyje w zgodzie, to jej bieda nie dobodzie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Woli ojciec syna, niż córkę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Wnuk za dziadka nie odpowiada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i ród, taki płód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Każda siostra braciom niosła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 my tacie, tak tata nam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Obraz 3" descr="cheering-297419_640.png"/>
          <p:cNvPicPr/>
          <p:nvPr/>
        </p:nvPicPr>
        <p:blipFill>
          <a:blip r:embed="rId1"/>
          <a:stretch/>
        </p:blipFill>
        <p:spPr>
          <a:xfrm>
            <a:off x="1523880" y="1252440"/>
            <a:ext cx="67932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Users\mrok\Desktop\SKU\05_Eurokreator\01_materiały na platformę_ostateczne_2014\materiały_SKU\multimedia_zdjęcia na platformie\Zdjęcia\16_Moj dom, moja rodzina\16_zdjecie10.JPG"/>
          <p:cNvPicPr/>
          <p:nvPr/>
        </p:nvPicPr>
        <p:blipFill>
          <a:blip r:embed="rId1"/>
          <a:stretch/>
        </p:blipFill>
        <p:spPr>
          <a:xfrm>
            <a:off x="2700360" y="1268280"/>
            <a:ext cx="36892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ałe dzieci - mały kłopot, duże dzieci duży kłop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Najtrudniej jest być tolerancyjnym wobec najbliższy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Brudy pierze się w dom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atka rozumie mowę swojego niemego dziecka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iłość matczyna się nie starzej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ężczyźni budują domy, ale to kobiety je tworz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Kalendarz rodzinny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Babci – 21 stycz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Dziadka – 22 stycz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Matki – 26 ma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Ojca – 23 czerw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Dziecka – 1 czerw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az 1" descr="duck-550539_640.jpg"/>
          <p:cNvPicPr/>
          <p:nvPr/>
        </p:nvPicPr>
        <p:blipFill>
          <a:blip r:embed="rId1"/>
          <a:stretch/>
        </p:blipFill>
        <p:spPr>
          <a:xfrm>
            <a:off x="6084720" y="4821120"/>
            <a:ext cx="3059280" cy="2036880"/>
          </a:xfrm>
          <a:prstGeom prst="rect">
            <a:avLst/>
          </a:prstGeom>
          <a:ln w="0">
            <a:noFill/>
          </a:ln>
        </p:spPr>
      </p:pic>
      <p:pic>
        <p:nvPicPr>
          <p:cNvPr id="364" name="Obraz 2" descr="family-276168_640.jpg"/>
          <p:cNvPicPr/>
          <p:nvPr/>
        </p:nvPicPr>
        <p:blipFill>
          <a:blip r:embed="rId2"/>
          <a:stretch/>
        </p:blipFill>
        <p:spPr>
          <a:xfrm>
            <a:off x="3419640" y="4149720"/>
            <a:ext cx="2682720" cy="2538360"/>
          </a:xfrm>
          <a:prstGeom prst="rect">
            <a:avLst/>
          </a:prstGeom>
          <a:ln w="0">
            <a:noFill/>
          </a:ln>
        </p:spPr>
      </p:pic>
      <p:pic>
        <p:nvPicPr>
          <p:cNvPr id="365" name="Obraz 3" descr="koala-61189_640.jpg"/>
          <p:cNvPicPr/>
          <p:nvPr/>
        </p:nvPicPr>
        <p:blipFill>
          <a:blip r:embed="rId3"/>
          <a:stretch/>
        </p:blipFill>
        <p:spPr>
          <a:xfrm>
            <a:off x="0" y="2276640"/>
            <a:ext cx="3419640" cy="2493720"/>
          </a:xfrm>
          <a:prstGeom prst="rect">
            <a:avLst/>
          </a:prstGeom>
          <a:ln w="0">
            <a:noFill/>
          </a:ln>
        </p:spPr>
      </p:pic>
      <p:pic>
        <p:nvPicPr>
          <p:cNvPr id="366" name="Obraz 4" descr="mare-430442_640.jpg"/>
          <p:cNvPicPr/>
          <p:nvPr/>
        </p:nvPicPr>
        <p:blipFill>
          <a:blip r:embed="rId4"/>
          <a:stretch/>
        </p:blipFill>
        <p:spPr>
          <a:xfrm>
            <a:off x="6084720" y="2997360"/>
            <a:ext cx="3059280" cy="1850760"/>
          </a:xfrm>
          <a:prstGeom prst="rect">
            <a:avLst/>
          </a:prstGeom>
          <a:ln w="0">
            <a:noFill/>
          </a:ln>
        </p:spPr>
      </p:pic>
      <p:pic>
        <p:nvPicPr>
          <p:cNvPr id="367" name="Obraz 5" descr="tiger-591359_640.jpg"/>
          <p:cNvPicPr/>
          <p:nvPr/>
        </p:nvPicPr>
        <p:blipFill>
          <a:blip r:embed="rId5"/>
          <a:stretch/>
        </p:blipFill>
        <p:spPr>
          <a:xfrm>
            <a:off x="0" y="4749840"/>
            <a:ext cx="3419640" cy="2108160"/>
          </a:xfrm>
          <a:prstGeom prst="rect">
            <a:avLst/>
          </a:prstGeom>
          <a:ln w="0">
            <a:noFill/>
          </a:ln>
        </p:spPr>
      </p:pic>
      <p:pic>
        <p:nvPicPr>
          <p:cNvPr id="368" name="Obraz 6" descr="young-animal-450149_640.jpg"/>
          <p:cNvPicPr/>
          <p:nvPr/>
        </p:nvPicPr>
        <p:blipFill>
          <a:blip r:embed="rId6"/>
          <a:stretch/>
        </p:blipFill>
        <p:spPr>
          <a:xfrm>
            <a:off x="6084720" y="0"/>
            <a:ext cx="3059280" cy="3041640"/>
          </a:xfrm>
          <a:prstGeom prst="rect">
            <a:avLst/>
          </a:prstGeom>
          <a:ln w="0">
            <a:noFill/>
          </a:ln>
        </p:spPr>
      </p:pic>
      <p:pic>
        <p:nvPicPr>
          <p:cNvPr id="369" name="Obraz 8" descr="family-408842_640.jpg"/>
          <p:cNvPicPr/>
          <p:nvPr/>
        </p:nvPicPr>
        <p:blipFill>
          <a:blip r:embed="rId7"/>
          <a:stretch/>
        </p:blipFill>
        <p:spPr>
          <a:xfrm>
            <a:off x="3419640" y="2320920"/>
            <a:ext cx="2665080" cy="1839960"/>
          </a:xfrm>
          <a:prstGeom prst="rect">
            <a:avLst/>
          </a:prstGeom>
          <a:ln w="0">
            <a:noFill/>
          </a:ln>
        </p:spPr>
      </p:pic>
      <p:pic>
        <p:nvPicPr>
          <p:cNvPr id="370" name="Obraz 9" descr="elephants-474759_640 (1).jpg"/>
          <p:cNvPicPr/>
          <p:nvPr/>
        </p:nvPicPr>
        <p:blipFill>
          <a:blip r:embed="rId8"/>
          <a:srcRect l="0" t="17669" r="0" b="22008"/>
          <a:stretch/>
        </p:blipFill>
        <p:spPr>
          <a:xfrm>
            <a:off x="0" y="0"/>
            <a:ext cx="60958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Członkowie najbliższej rodziny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23" name="Symbol zastępczy zawartości 16" descr="family-469580_640.png"/>
          <p:cNvPicPr/>
          <p:nvPr/>
        </p:nvPicPr>
        <p:blipFill>
          <a:blip r:embed="rId1"/>
          <a:stretch/>
        </p:blipFill>
        <p:spPr>
          <a:xfrm>
            <a:off x="2843280" y="2565360"/>
            <a:ext cx="3552840" cy="2508120"/>
          </a:xfrm>
          <a:prstGeom prst="rect">
            <a:avLst/>
          </a:prstGeom>
          <a:ln w="0">
            <a:noFill/>
          </a:ln>
        </p:spPr>
      </p:pic>
      <p:sp>
        <p:nvSpPr>
          <p:cNvPr id="324" name="pole tekstowe 6"/>
          <p:cNvSpPr/>
          <p:nvPr/>
        </p:nvSpPr>
        <p:spPr>
          <a:xfrm>
            <a:off x="2411280" y="20606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m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7"/>
          <p:cNvSpPr/>
          <p:nvPr/>
        </p:nvSpPr>
        <p:spPr>
          <a:xfrm>
            <a:off x="5292720" y="198900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t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8"/>
          <p:cNvSpPr/>
          <p:nvPr/>
        </p:nvSpPr>
        <p:spPr>
          <a:xfrm>
            <a:off x="3643200" y="542916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668c4"/>
                </a:solidFill>
                <a:latin typeface="Calibri"/>
              </a:rPr>
              <a:t>dzie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ole tekstowe 143"/>
          <p:cNvSpPr/>
          <p:nvPr/>
        </p:nvSpPr>
        <p:spPr>
          <a:xfrm>
            <a:off x="1547640" y="45813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cór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ole tekstowe 144"/>
          <p:cNvSpPr/>
          <p:nvPr/>
        </p:nvSpPr>
        <p:spPr>
          <a:xfrm>
            <a:off x="6300720" y="45086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sy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ole tekstowe 145"/>
          <p:cNvSpPr/>
          <p:nvPr/>
        </p:nvSpPr>
        <p:spPr>
          <a:xfrm>
            <a:off x="3571920" y="614376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030a0"/>
                </a:solidFill>
                <a:latin typeface="Calibri"/>
              </a:rPr>
              <a:t>rodzeńs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146"/>
          <p:cNvSpPr/>
          <p:nvPr/>
        </p:nvSpPr>
        <p:spPr>
          <a:xfrm>
            <a:off x="3492360" y="1413000"/>
            <a:ext cx="26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libri"/>
              </a:rPr>
              <a:t>rodz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ole tekstowe 13"/>
          <p:cNvSpPr/>
          <p:nvPr/>
        </p:nvSpPr>
        <p:spPr>
          <a:xfrm>
            <a:off x="500040" y="35002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5f6d"/>
                </a:solidFill>
                <a:latin typeface="Calibri"/>
              </a:rPr>
              <a:t>dziad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ole tekstowe 14"/>
          <p:cNvSpPr/>
          <p:nvPr/>
        </p:nvSpPr>
        <p:spPr>
          <a:xfrm>
            <a:off x="7143840" y="342900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5f6d"/>
                </a:solidFill>
                <a:latin typeface="Calibri"/>
              </a:rPr>
              <a:t>bab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2484360" y="1773360"/>
            <a:ext cx="4356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17" descr="old-40092_640.png"/>
          <p:cNvPicPr/>
          <p:nvPr/>
        </p:nvPicPr>
        <p:blipFill>
          <a:blip r:embed="rId2"/>
          <a:stretch/>
        </p:blipFill>
        <p:spPr>
          <a:xfrm>
            <a:off x="611280" y="1773360"/>
            <a:ext cx="1633320" cy="1698480"/>
          </a:xfrm>
          <a:prstGeom prst="rect">
            <a:avLst/>
          </a:prstGeom>
          <a:ln w="0">
            <a:noFill/>
          </a:ln>
        </p:spPr>
      </p:pic>
      <p:pic>
        <p:nvPicPr>
          <p:cNvPr id="335" name="Obraz 18" descr="grandma-486796_640.png"/>
          <p:cNvPicPr/>
          <p:nvPr/>
        </p:nvPicPr>
        <p:blipFill>
          <a:blip r:embed="rId3"/>
          <a:srcRect l="0" t="0" r="0" b="19295"/>
          <a:stretch/>
        </p:blipFill>
        <p:spPr>
          <a:xfrm>
            <a:off x="6804000" y="1844640"/>
            <a:ext cx="1833480" cy="16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54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03280" y="2602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mam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żon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córka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148360" y="2602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tat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mąż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syn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Tytuł 1"/>
          <p:cNvSpPr/>
          <p:nvPr/>
        </p:nvSpPr>
        <p:spPr>
          <a:xfrm>
            <a:off x="4211640" y="189000"/>
            <a:ext cx="3614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raz 37" descr="couple-307287_640.png"/>
          <p:cNvPicPr/>
          <p:nvPr/>
        </p:nvPicPr>
        <p:blipFill>
          <a:blip r:embed="rId1"/>
          <a:stretch/>
        </p:blipFill>
        <p:spPr>
          <a:xfrm>
            <a:off x="2268360" y="2849400"/>
            <a:ext cx="525636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42" name="Symbol zastępczy zawartości 3" descr="people-117198_640.png"/>
          <p:cNvPicPr/>
          <p:nvPr/>
        </p:nvPicPr>
        <p:blipFill>
          <a:blip r:embed="rId1"/>
          <a:stretch/>
        </p:blipFill>
        <p:spPr>
          <a:xfrm>
            <a:off x="2556000" y="692280"/>
            <a:ext cx="368136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„</a:t>
            </a: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Moja babcia” H. Niewiadomsk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71640" y="1557360"/>
            <a:ext cx="40384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Dzisiaj nowoczesn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chce chodzić w ciepłych kapciach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I w fotelu się nie buj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Tylko wciąż po świecie hula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Samochodem dzieci wiezi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Z klocków lego robi wieżę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o drabinie się wdrapuj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Alpinistę naśladuj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chce robić już na drutach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 Internecie bajek szu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ieczorami tańczy samb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I wyjada całą mambę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a basenie daje nur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By dogonić płetwonur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Od miesiąca, co niedziel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iłką nożną gole strzela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932360" y="155700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Dziadek ręce załamuje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- Babciu wracaj! - nawołuj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Gdzie jest obiad i skarpety?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Haftowane gdzie serwety?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Ale babcia, moj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Moja babcia wciąż jest młoda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Moja babcia, moj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Ciągle marzy o przygodach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Lecz choć skarpet nie ceruj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upina z włosów ko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To swe wnuki, oraz dziad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onad własne życie koch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ziecko 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yn             cór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wnuczek              wnucz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prawnuczek              prawnucz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Obraz 7" descr="boy-160168_640.png"/>
          <p:cNvPicPr/>
          <p:nvPr/>
        </p:nvPicPr>
        <p:blipFill>
          <a:blip r:embed="rId1"/>
          <a:stretch/>
        </p:blipFill>
        <p:spPr>
          <a:xfrm>
            <a:off x="3276720" y="3573360"/>
            <a:ext cx="410364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Rodzina dalsz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Ciocia – siostra mamy lub ta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Wujek – brat mam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tryjek – brat ta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tryjenka – żona stry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Kuzyn, Kuzynka – dzieci rodzeństwa rodzicó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Teściowie – rodzice męża lub żon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rzewo genealogiczn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52" name="Symbol zastępczy zawartości 3" descr="family-tree-297812_640.png"/>
          <p:cNvPicPr/>
          <p:nvPr/>
        </p:nvPicPr>
        <p:blipFill>
          <a:blip r:embed="rId1"/>
          <a:stretch/>
        </p:blipFill>
        <p:spPr>
          <a:xfrm>
            <a:off x="2195640" y="1268280"/>
            <a:ext cx="48546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„</a:t>
            </a: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om” Z. Beszczyńsk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om otwiera swoje cztery ściany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la babci, dziadka, tatusia, mamy,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la nas wszystkich, dla gości, dla kota i psa…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17:48:19Z</dcterms:created>
  <dc:creator>TweakedXP</dc:creator>
  <dc:description/>
  <dc:language>en-US</dc:language>
  <cp:lastModifiedBy>Karolina Mróz</cp:lastModifiedBy>
  <dcterms:modified xsi:type="dcterms:W3CDTF">2015-01-21T10:31:11Z</dcterms:modified>
  <cp:revision>99</cp:revision>
  <dc:subject/>
  <dc:title>RODZINA</dc:title>
</cp:coreProperties>
</file>