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12F-FB04-47BD-B3A8-5595960C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02A-6DEE-45CD-8B8F-AF679E21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7E1-0C9A-4B9C-95E6-5E4D4D8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B87-61A8-4B4F-B487-84488047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164B-2A61-4E08-AAF4-D82F58BD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B249-317C-4329-96A9-DEE6B892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199F-514E-4508-A043-CA3EE021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EB8D-279C-4CA9-9CAD-02F3F3C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649A-8189-4431-B05C-A47726C4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5F41-60C4-4F75-85C0-303B0E9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32F3-5446-4D66-B4B5-B6EF2A0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A16-23A8-4152-84F5-970763F8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6C61-89FA-42F5-A0B7-0DAAAFC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9F8F-D5AD-4FA7-B24E-9DAAD71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02FB-6872-443B-82E7-3D197EE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A296-B336-4AAD-ADE6-31CE4830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DBED-6E1D-4627-ADBF-1186ADF6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3D15-BB2D-43A7-8414-E7D22AC4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9782-E02F-4DAB-B656-DBDD958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426E-FBD2-4FAA-BB4D-A9DF2F0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3F1C-2161-4827-9284-DE53F2DA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ED27-3E09-4918-9510-D3BA7E7D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A8A-D191-4F3A-A513-9F04C6C8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A20A-F210-474D-B77F-2844BFA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7475-5819-4AE9-A239-13D14D6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9635-5F35-4C1D-8045-48A54E7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D105-8B92-4928-B0BF-C7E6BFBD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24EC-F917-45FA-9BEC-8F6CB80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0EB5-42FB-48D6-B894-EB2DDD35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1EA3-5770-4ED0-95F4-EFBB12F4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0A3ED-10ED-45F3-B781-8936F214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5BEB-BCB0-4FE6-8FEC-CCB84CEF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00DB-BFB9-47BA-896D-F7BA1A2F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8F6-BF69-4DA3-BCC4-87CBE07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E29E-67D9-4450-A42B-9304248E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4D7E-429C-40C7-BD02-BE065B87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A551-3590-4B8C-8BF7-C9256818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581E-4051-47A1-98E9-B35AE68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6CCC-BD49-48F5-84A1-A4D4BA0D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5A467-4AD5-41FE-A0B7-3949E27E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C177-A02E-4408-A2C9-31ED660E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70D1-1859-42AB-B4E3-5FEBC43A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FE93-10F4-4E76-9931-722DC481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F8A0-5230-4AFC-86DE-BA756EF9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CCC-7A3E-4483-B6B2-51FBD1C6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6804-0FE7-410B-AEA6-5398D705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71B8C-7246-4937-8E2A-519FC387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DE52-F905-4338-B7CE-5FB49B01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338AC-C32E-4CCF-93A4-857F2283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D6A5-AE0F-49FB-A56A-738324D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22B8-9763-46D6-B2A7-9509C333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B418-E287-4A51-BA42-AC8A46F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C7A2-A60C-4B21-B3E9-2575D883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9EBAA-8E98-4D21-9051-A1B51A0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3FD8D-9254-48F5-87D1-20883B4E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458-8605-4819-AC9C-C3706DF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0D6DA-2BD1-4131-9E9A-7B0C89A2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6F54-AAE1-4ABD-997E-05A65E5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86A3-CE47-4B22-9A5E-D19E853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A661-FB03-48BA-AD61-A1E05BD0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9F5D-4E5A-43EF-8596-7B73711E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BE3E6-76C9-4DE9-A9EC-7CA3740B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F0DA-2675-4527-8179-DDA8E9D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9491F-662F-4E30-AEBA-C054637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D8E2-FC7E-439F-A5E3-53624C30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F7622-F3FC-4A70-968F-FA6DBBB4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C2F-7D13-49A2-BDC4-9D465BFE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1EF04-7328-4726-AC55-DCA618A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0B86C-280F-430B-A229-03CEEC3A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79380-2ED6-45E5-988B-9677D1A7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1D45-07D3-4969-90AC-6D6695E0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CB935-F460-46DF-B9C3-9A5C14D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B74D3-A0E5-40A2-91CC-A5D3C5D7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CC7B-63A2-4F7A-B72F-E61A3E0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BC08D-CF53-4E97-BDAB-8E709C9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3623-1738-4805-9440-442DF70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3BE6-ECFA-40ED-B9EE-71E03B7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FA0-8727-4D6F-B39C-9D8AE952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6594-18E1-4469-A221-0D8BC142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CEDD-D11F-47F7-B0D8-3E9C969C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5C5C-703F-46E8-B6F0-AB326650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76D25-23EC-479C-9711-127EF553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4448-D5EB-4113-AE37-6FCFF78F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03D-56F8-4878-AA88-E7110D5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FD2F-8863-455D-9B79-A1FB8DEC2B03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6E94-9BD3-4C4F-9557-1A7B1D24FDEC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83A-19FE-44F9-9161-1FA2B44B9E43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5B5C-E087-4641-BD9D-1CB06B440A94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7641-C29A-47DC-B602-62498CCC3FA9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ED46-4C7A-4F6F-A427-9D2C4ACDAB3B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CC0-9F8E-42E4-A0C3-FF914350185D}" type="slidenum">
              <a:rPr b="0" lang="pl-PL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84360" y="2133360"/>
            <a:ext cx="740592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45e70"/>
                </a:solidFill>
                <a:latin typeface="Gill Sans MT"/>
              </a:rPr>
              <a:t>Rodzina</a:t>
            </a:r>
            <a:endParaRPr b="0" lang="en-US" sz="60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2c3340"/>
              </a:solidFill>
              <a:latin typeface="Gill Sans MT"/>
            </a:endParaRPr>
          </a:p>
        </p:txBody>
      </p:sp>
      <p:pic>
        <p:nvPicPr>
          <p:cNvPr id="320" name="Picture 4" descr="C:\Users\Darek\Desktop\dół.jpg"/>
          <p:cNvPicPr/>
          <p:nvPr/>
        </p:nvPicPr>
        <p:blipFill>
          <a:blip r:embed="rId1"/>
          <a:stretch/>
        </p:blipFill>
        <p:spPr>
          <a:xfrm>
            <a:off x="1908000" y="4724280"/>
            <a:ext cx="5761080" cy="1401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C:\Users\Darek\Desktop\góra.jpg"/>
          <p:cNvPicPr/>
          <p:nvPr/>
        </p:nvPicPr>
        <p:blipFill>
          <a:blip r:embed="rId2"/>
          <a:stretch/>
        </p:blipFill>
        <p:spPr>
          <a:xfrm>
            <a:off x="2050920" y="549360"/>
            <a:ext cx="5761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Przysłowia o rodzini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ojciec taki syn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Gdy rodzina żyje w zgodzie, to jej bieda nie dobodzie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oli ojciec syna, niż córkę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Wnuk za dziadka nie odpowiad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i ród, taki płód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Każda siostra braciom niosła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Gill Sans MT"/>
              </a:rPr>
              <a:t>Jak my tacie, tak tata nam.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Obraz 3" descr="cheering-297419_640.png"/>
          <p:cNvPicPr/>
          <p:nvPr/>
        </p:nvPicPr>
        <p:blipFill>
          <a:blip r:embed="rId1"/>
          <a:stretch/>
        </p:blipFill>
        <p:spPr>
          <a:xfrm>
            <a:off x="1523880" y="1252440"/>
            <a:ext cx="67932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mrok\Desktop\SKU\05_Eurokreator\01_materiały na platformę_ostateczne_2014\materiały_SKU\multimedia_zdjęcia na platformie\Zdjęcia\16_Moj dom, moja rodzina\16_zdjecie10.JPG"/>
          <p:cNvPicPr/>
          <p:nvPr/>
        </p:nvPicPr>
        <p:blipFill>
          <a:blip r:embed="rId1"/>
          <a:stretch/>
        </p:blipFill>
        <p:spPr>
          <a:xfrm>
            <a:off x="2700360" y="1268280"/>
            <a:ext cx="36892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łe dzieci - mały kłopot, duże dzieci duży kłop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Najtrudniej jest być tolerancyjnym wobec najbliższy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Brudy pierze się w dom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atka rozumie mowę swojego niemego dziecka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iłość matczyna się nie starze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ill Sans MT"/>
              </a:rPr>
              <a:t>Mężczyźni budują domy, ale to kobiety je tworz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Kalendarz rodzin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Babci – 21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adka – 22 stycz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Matki – 26 m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Ojca – 23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zień Dziecka – 1 czerw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az 1" descr="duck-550539_640.jpg"/>
          <p:cNvPicPr/>
          <p:nvPr/>
        </p:nvPicPr>
        <p:blipFill>
          <a:blip r:embed="rId1"/>
          <a:stretch/>
        </p:blipFill>
        <p:spPr>
          <a:xfrm>
            <a:off x="6084720" y="4821120"/>
            <a:ext cx="3059280" cy="2036880"/>
          </a:xfrm>
          <a:prstGeom prst="rect">
            <a:avLst/>
          </a:prstGeom>
          <a:ln w="0">
            <a:noFill/>
          </a:ln>
        </p:spPr>
      </p:pic>
      <p:pic>
        <p:nvPicPr>
          <p:cNvPr id="364" name="Obraz 2" descr="family-276168_640.jpg"/>
          <p:cNvPicPr/>
          <p:nvPr/>
        </p:nvPicPr>
        <p:blipFill>
          <a:blip r:embed="rId2"/>
          <a:stretch/>
        </p:blipFill>
        <p:spPr>
          <a:xfrm>
            <a:off x="3419640" y="4149720"/>
            <a:ext cx="2682720" cy="2538360"/>
          </a:xfrm>
          <a:prstGeom prst="rect">
            <a:avLst/>
          </a:prstGeom>
          <a:ln w="0">
            <a:noFill/>
          </a:ln>
        </p:spPr>
      </p:pic>
      <p:pic>
        <p:nvPicPr>
          <p:cNvPr id="365" name="Obraz 3" descr="koala-61189_640.jpg"/>
          <p:cNvPicPr/>
          <p:nvPr/>
        </p:nvPicPr>
        <p:blipFill>
          <a:blip r:embed="rId3"/>
          <a:stretch/>
        </p:blipFill>
        <p:spPr>
          <a:xfrm>
            <a:off x="0" y="2276640"/>
            <a:ext cx="3419640" cy="2493720"/>
          </a:xfrm>
          <a:prstGeom prst="rect">
            <a:avLst/>
          </a:prstGeom>
          <a:ln w="0">
            <a:noFill/>
          </a:ln>
        </p:spPr>
      </p:pic>
      <p:pic>
        <p:nvPicPr>
          <p:cNvPr id="366" name="Obraz 4" descr="mare-430442_640.jpg"/>
          <p:cNvPicPr/>
          <p:nvPr/>
        </p:nvPicPr>
        <p:blipFill>
          <a:blip r:embed="rId4"/>
          <a:stretch/>
        </p:blipFill>
        <p:spPr>
          <a:xfrm>
            <a:off x="6084720" y="2997360"/>
            <a:ext cx="3059280" cy="1850760"/>
          </a:xfrm>
          <a:prstGeom prst="rect">
            <a:avLst/>
          </a:prstGeom>
          <a:ln w="0">
            <a:noFill/>
          </a:ln>
        </p:spPr>
      </p:pic>
      <p:pic>
        <p:nvPicPr>
          <p:cNvPr id="367" name="Obraz 5" descr="tiger-591359_640.jpg"/>
          <p:cNvPicPr/>
          <p:nvPr/>
        </p:nvPicPr>
        <p:blipFill>
          <a:blip r:embed="rId5"/>
          <a:stretch/>
        </p:blipFill>
        <p:spPr>
          <a:xfrm>
            <a:off x="0" y="4749840"/>
            <a:ext cx="3419640" cy="2108160"/>
          </a:xfrm>
          <a:prstGeom prst="rect">
            <a:avLst/>
          </a:prstGeom>
          <a:ln w="0">
            <a:noFill/>
          </a:ln>
        </p:spPr>
      </p:pic>
      <p:pic>
        <p:nvPicPr>
          <p:cNvPr id="368" name="Obraz 6" descr="young-animal-450149_640.jpg"/>
          <p:cNvPicPr/>
          <p:nvPr/>
        </p:nvPicPr>
        <p:blipFill>
          <a:blip r:embed="rId6"/>
          <a:stretch/>
        </p:blipFill>
        <p:spPr>
          <a:xfrm>
            <a:off x="6084720" y="0"/>
            <a:ext cx="3059280" cy="3041640"/>
          </a:xfrm>
          <a:prstGeom prst="rect">
            <a:avLst/>
          </a:prstGeom>
          <a:ln w="0">
            <a:noFill/>
          </a:ln>
        </p:spPr>
      </p:pic>
      <p:pic>
        <p:nvPicPr>
          <p:cNvPr id="369" name="Obraz 8" descr="family-408842_640.jpg"/>
          <p:cNvPicPr/>
          <p:nvPr/>
        </p:nvPicPr>
        <p:blipFill>
          <a:blip r:embed="rId7"/>
          <a:stretch/>
        </p:blipFill>
        <p:spPr>
          <a:xfrm>
            <a:off x="3419640" y="2320920"/>
            <a:ext cx="2665080" cy="1839960"/>
          </a:xfrm>
          <a:prstGeom prst="rect">
            <a:avLst/>
          </a:prstGeom>
          <a:ln w="0">
            <a:noFill/>
          </a:ln>
        </p:spPr>
      </p:pic>
      <p:pic>
        <p:nvPicPr>
          <p:cNvPr id="370" name="Obraz 9" descr="elephants-474759_640 (1).jpg"/>
          <p:cNvPicPr/>
          <p:nvPr/>
        </p:nvPicPr>
        <p:blipFill>
          <a:blip r:embed="rId8"/>
          <a:srcRect l="0" t="17669" r="0" b="22008"/>
          <a:stretch/>
        </p:blipFill>
        <p:spPr>
          <a:xfrm>
            <a:off x="0" y="0"/>
            <a:ext cx="60958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Członkowie najbliższej rodziny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23" name="Symbol zastępczy zawartości 16" descr="family-469580_640.png"/>
          <p:cNvPicPr/>
          <p:nvPr/>
        </p:nvPicPr>
        <p:blipFill>
          <a:blip r:embed="rId1"/>
          <a:stretch/>
        </p:blipFill>
        <p:spPr>
          <a:xfrm>
            <a:off x="2843280" y="2565360"/>
            <a:ext cx="3552840" cy="2508120"/>
          </a:xfrm>
          <a:prstGeom prst="rect">
            <a:avLst/>
          </a:prstGeom>
          <a:ln w="0">
            <a:noFill/>
          </a:ln>
        </p:spPr>
      </p:pic>
      <p:sp>
        <p:nvSpPr>
          <p:cNvPr id="324" name="pole tekstowe 6"/>
          <p:cNvSpPr/>
          <p:nvPr/>
        </p:nvSpPr>
        <p:spPr>
          <a:xfrm>
            <a:off x="2411280" y="20606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m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5292720" y="198900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t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8"/>
          <p:cNvSpPr/>
          <p:nvPr/>
        </p:nvSpPr>
        <p:spPr>
          <a:xfrm>
            <a:off x="3643200" y="542916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668c4"/>
                </a:solidFill>
                <a:latin typeface="Calibri"/>
              </a:rPr>
              <a:t>dzie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ole tekstowe 143"/>
          <p:cNvSpPr/>
          <p:nvPr/>
        </p:nvSpPr>
        <p:spPr>
          <a:xfrm>
            <a:off x="1547640" y="4581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cór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ole tekstowe 144"/>
          <p:cNvSpPr/>
          <p:nvPr/>
        </p:nvSpPr>
        <p:spPr>
          <a:xfrm>
            <a:off x="6300720" y="45086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s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145"/>
          <p:cNvSpPr/>
          <p:nvPr/>
        </p:nvSpPr>
        <p:spPr>
          <a:xfrm>
            <a:off x="3571920" y="614376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030a0"/>
                </a:solidFill>
                <a:latin typeface="Calibri"/>
              </a:rPr>
              <a:t>rodzeńs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46"/>
          <p:cNvSpPr/>
          <p:nvPr/>
        </p:nvSpPr>
        <p:spPr>
          <a:xfrm>
            <a:off x="3492360" y="141300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libri"/>
              </a:rPr>
              <a:t>rodz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ole tekstowe 13"/>
          <p:cNvSpPr/>
          <p:nvPr/>
        </p:nvSpPr>
        <p:spPr>
          <a:xfrm>
            <a:off x="500040" y="35002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dzia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ole tekstowe 14"/>
          <p:cNvSpPr/>
          <p:nvPr/>
        </p:nvSpPr>
        <p:spPr>
          <a:xfrm>
            <a:off x="7143840" y="342900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5f6d"/>
                </a:solidFill>
                <a:latin typeface="Calibri"/>
              </a:rPr>
              <a:t>bab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2484360" y="1773360"/>
            <a:ext cx="4356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17" descr="old-40092_640.png"/>
          <p:cNvPicPr/>
          <p:nvPr/>
        </p:nvPicPr>
        <p:blipFill>
          <a:blip r:embed="rId2"/>
          <a:stretch/>
        </p:blipFill>
        <p:spPr>
          <a:xfrm>
            <a:off x="611280" y="1773360"/>
            <a:ext cx="1633320" cy="1698480"/>
          </a:xfrm>
          <a:prstGeom prst="rect">
            <a:avLst/>
          </a:prstGeom>
          <a:ln w="0">
            <a:noFill/>
          </a:ln>
        </p:spPr>
      </p:pic>
      <p:pic>
        <p:nvPicPr>
          <p:cNvPr id="335" name="Obraz 18" descr="grandma-486796_640.png"/>
          <p:cNvPicPr/>
          <p:nvPr/>
        </p:nvPicPr>
        <p:blipFill>
          <a:blip r:embed="rId3"/>
          <a:srcRect l="0" t="0" r="0" b="19295"/>
          <a:stretch/>
        </p:blipFill>
        <p:spPr>
          <a:xfrm>
            <a:off x="6804000" y="1844640"/>
            <a:ext cx="1833480" cy="16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54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0328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am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żon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córka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148360" y="2602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tata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mąż</a:t>
            </a:r>
            <a:br>
              <a:rPr sz="5400"/>
            </a:br>
            <a:r>
              <a:rPr b="0" lang="pl-PL" sz="5400" spc="-1" strike="noStrike">
                <a:solidFill>
                  <a:srgbClr val="000000"/>
                </a:solidFill>
                <a:latin typeface="Gill Sans MT"/>
              </a:rPr>
              <a:t>syn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ytuł 1"/>
          <p:cNvSpPr/>
          <p:nvPr/>
        </p:nvSpPr>
        <p:spPr>
          <a:xfrm>
            <a:off x="4211640" y="189000"/>
            <a:ext cx="3614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raz 37" descr="couple-307287_640.png"/>
          <p:cNvPicPr/>
          <p:nvPr/>
        </p:nvPicPr>
        <p:blipFill>
          <a:blip r:embed="rId1"/>
          <a:stretch/>
        </p:blipFill>
        <p:spPr>
          <a:xfrm>
            <a:off x="2268360" y="2849400"/>
            <a:ext cx="525636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42" name="Symbol zastępczy zawartości 3" descr="people-117198_640.png"/>
          <p:cNvPicPr/>
          <p:nvPr/>
        </p:nvPicPr>
        <p:blipFill>
          <a:blip r:embed="rId1"/>
          <a:stretch/>
        </p:blipFill>
        <p:spPr>
          <a:xfrm>
            <a:off x="2556000" y="692280"/>
            <a:ext cx="36813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Moja babcia” H. Niewiadom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71640" y="1557360"/>
            <a:ext cx="40384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siaj nowoczesn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chodzić w ciepłych kapcia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 fotelu się nie buj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ylko wciąż po świecie hula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Samochodem dzieci wiezi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Z klocków lego robi wieżę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 drabinie się wdrap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pinistę naślad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chce robić już na drutach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 Internecie bajek szu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ieczorami tańczy samb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I wyjada całą mambę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a basenie daje 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By dogonić płetwonur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Od miesiąca, co niedziel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iłką nożną gole strzel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32360" y="155700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Dziadek ręce załamuje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- Babciu wracaj! - nawołuje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Gdzie jest obiad i skarpet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aftowane gdzie serwety?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Ale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 wciąż jest młod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Moja babcia, moja babci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Ciągle marzy o przygodach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Lecz choć skarpet nie ceruje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Nie upina z włosów ko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To swe wnuki, oraz dziadka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Ponad własne życie koch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ziecko 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yn             cór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nuczek              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prawnuczek              prawnucz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Obraz 7" descr="boy-160168_640.png"/>
          <p:cNvPicPr/>
          <p:nvPr/>
        </p:nvPicPr>
        <p:blipFill>
          <a:blip r:embed="rId1"/>
          <a:stretch/>
        </p:blipFill>
        <p:spPr>
          <a:xfrm>
            <a:off x="3276720" y="3573360"/>
            <a:ext cx="4103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Rodzina dalsz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Ciocia – siostra mamy lub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Wujek – brat mam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k – brat ta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Stryjenka – żona stry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Kuzyn, Kuzynka – dzieci rodzeństwa rodzicó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Teściowie – rodzice męża lub żon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rzewo genealogiczn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52" name="Symbol zastępczy zawartości 3" descr="family-tree-297812_640.png"/>
          <p:cNvPicPr/>
          <p:nvPr/>
        </p:nvPicPr>
        <p:blipFill>
          <a:blip r:embed="rId1"/>
          <a:stretch/>
        </p:blipFill>
        <p:spPr>
          <a:xfrm>
            <a:off x="2195640" y="1268280"/>
            <a:ext cx="48546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„</a:t>
            </a:r>
            <a:r>
              <a:rPr b="0" lang="pl-PL" sz="4300" spc="-1" strike="noStrike">
                <a:solidFill>
                  <a:srgbClr val="545e70"/>
                </a:solidFill>
                <a:latin typeface="Gill Sans MT"/>
              </a:rPr>
              <a:t>Dom” Z. Beszczyńska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om otwiera swoje cztery ściany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babci, dziadka, tatusia, mamy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Dla nas wszystkich, dla gości, dla kota i psa…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7:48:19Z</dcterms:created>
  <dc:creator>TweakedXP</dc:creator>
  <dc:description/>
  <dc:language>en-US</dc:language>
  <cp:lastModifiedBy>Karolina Mróz</cp:lastModifiedBy>
  <dcterms:modified xsi:type="dcterms:W3CDTF">2015-01-21T10:31:11Z</dcterms:modified>
  <cp:revision>99</cp:revision>
  <dc:subject/>
  <dc:title>RODZINA</dc:title>
</cp:coreProperties>
</file>