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A1B-E00F-4868-B765-95EC9F65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15C-E9D9-49F1-BD36-E48FA2A2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07A-3D6A-4E5A-BDAE-80DC1B44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462-227C-4B71-BBA3-A9ACF108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2C15-F9A4-405E-B60F-AFF39CDF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807A-235F-4115-9F26-3BC4A1C3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CCC0-70D0-4953-B791-396A78B0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BA20-175B-48DA-B216-727ED808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19E3-8C63-4347-9FE3-FAEED1DE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1D63-0211-42CF-A540-E0D9E6C7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6E77-FFA6-41CA-81BE-5492EFB3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398-E5DB-48B4-ACE0-5783BE1B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7A9A-5FC5-4B98-9F76-04760D20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1892-5E2F-4FC0-8272-7027FA67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E0FD-35C3-4D1A-86BA-1EFE8D75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11BE-2245-4493-9B2B-C909DF9B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C518-235D-402D-A16D-EF85114F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55AC-FAFF-44D1-884F-DD29C6E3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C370-ACDF-4427-966C-4A730BB1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EE28-51F2-4E97-B611-AD43CC85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9FAC4-E246-4C67-A86A-987B350E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7BD5-64F6-433B-A961-66E3DA2F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DE9-F563-4192-812B-DA691229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6D85-C07A-4DE8-BC2D-7711CBFB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A01A-6CE6-4B0F-ADFD-09F52B2C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D864-7CD3-4B9A-A4FB-DE1BEA50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8980-DB1C-4040-B8DB-38A0E3B1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63C9-7FB7-431A-B234-F830101D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4280-A9B9-4CEE-B5D4-3693E489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F676-9373-4135-B1D3-2E033504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EAE1-2C3A-4114-9DDC-A6001CD1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F5C2-7478-45C0-A456-D80EE6FA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F17F-658D-43F3-A4D3-D47714E1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EB9-4B3F-4546-BDF4-9A23D54F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BCB9-7C52-451E-9418-26838BB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823F-E92C-4CF5-9E30-9A14BA35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A617-61A2-4547-82B1-88890CFD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A567C-F917-4D41-8088-9AF90AC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06AD1-89E3-47B0-B0CE-FBA70E1A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46C4D-05D1-4C4F-9CBB-74A6BD7B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B233-6D42-4912-B3B5-6F8218FF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A8CD-7B3A-4CA6-A3C7-B7BA0083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6A44-2B2C-4604-BA16-3FDBCAFB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1A42-9B3B-47BB-B00E-45738C94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1B1-6682-4129-B093-F445A6AF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1E22-8B42-4807-83D5-AE779F20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C35F-9693-4530-BF40-E2D738B6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C26BA-87FE-48A1-B783-F49A1FD5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79CD6-49C1-4BED-A428-75459DC8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646B-EFE2-4D7E-8A1E-E71696D5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C4041-FFF6-44FB-9513-FE01DF2D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ECA7-4E69-4B87-B4EB-A2B2A4C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45CF9-0084-42FE-BD7C-51F30207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E943-7179-4075-BB91-8F4C6CFB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B694-46C6-4035-8746-AEC41C3A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FEE-9C11-4074-821C-F46E0FE4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063E1-7881-4DCF-8B7E-270EDBA2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DDAA-5DC5-4D83-A92C-CCB609E3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5BF86-1DF1-4CD6-9AE0-92E8D0E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154C-58AF-41F7-AA71-71073810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105F-AD3C-4D16-960C-5CAC127F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254A6-4977-40BF-9D53-8258AF3A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7166B-1C9F-43F4-B79D-136AD441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C0E36-7BC9-43EC-8575-C09BC89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AE7BA-4225-4607-94D8-C26DAC53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53B21-8D7E-494D-A064-38D05F01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EA5-C14E-4C54-9AB7-3E862732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19344-3910-46EB-A6E9-4A8D3A3A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5783-682E-43E0-87CC-A228B4D4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CB07-F7D0-458C-B659-9496E4A8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4D4C0-7FA7-4CD8-8A27-A8024469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09B90-55AE-4747-8730-BFEA6A45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8DE6C-82F5-4089-B379-4E6D9353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41377-32F8-491A-A1D6-D280005C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B933-60A3-4440-AFD8-B4D34D05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C9DB2-9C14-4E2D-B1AA-A111E142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97A2C-EDF1-4C07-8E65-6B0F3EE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92F-AD2D-4602-A49D-6183A206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87D1-F968-458B-A9ED-2B69B99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9F25E-F17F-439D-89C3-9BC0D569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384B8-81FF-4899-AE90-E8213725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EAD5-123C-4793-9825-6829A6E7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9D10D-7767-4986-847D-DDC0FA17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CB2-7227-4FAA-9365-06883942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65C-6B81-4F7A-A451-12F26CD88F95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3CCD-8C72-4B74-9EA4-86EEC6D9623B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ostokąt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ostokąt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8380-45A6-40B2-B144-357D498B3748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911E-FC15-44BC-960A-522AD5353544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C991-B7C8-41E3-87F5-A61AA34C4073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rostokąt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rostokąt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889C-5996-48CF-AFCC-AA17DC6F2821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ostokąt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rostokąt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4C8D-3360-4C8C-9C7D-D6C847FDDEBF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2"/>
          <a:stretch/>
        </p:blipFill>
        <p:spPr>
          <a:xfrm>
            <a:off x="609480" y="1627200"/>
            <a:ext cx="7918560" cy="2590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404640"/>
            <a:ext cx="807732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Users\Darek\Desktop\góra.jpg"/>
          <p:cNvPicPr/>
          <p:nvPr/>
        </p:nvPicPr>
        <p:blipFill>
          <a:blip r:embed="rId3"/>
          <a:stretch/>
        </p:blipFill>
        <p:spPr>
          <a:xfrm>
            <a:off x="1692360" y="765000"/>
            <a:ext cx="5759280" cy="943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C:\Users\Darek\Desktop\dół.jpg"/>
          <p:cNvPicPr/>
          <p:nvPr/>
        </p:nvPicPr>
        <p:blipFill>
          <a:blip r:embed="rId4"/>
          <a:stretch/>
        </p:blipFill>
        <p:spPr>
          <a:xfrm>
            <a:off x="1835280" y="4797360"/>
            <a:ext cx="576108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o raz pierwszy choinka pojawiła się W Polsce w dziewiętnastym wieku jako zwyczaj zapożyczony z Nadrenii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Symbolizuje rajskie drzewo życia, dlatego pierwszymi ozdobami były jabłk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wiazda na czubku choinki odnosiła się do Gwiazdy Betlejemskiej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Świeczki znajdujące się na choince miały symbolizować światło Chrystusa, natomiast łańcuchy przypominały o grzech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Z czasem ozdób przybywało, choinki stawały się coraz bardziej strojn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Obraz 6" descr="star-413981_640.jpg"/>
          <p:cNvPicPr/>
          <p:nvPr/>
        </p:nvPicPr>
        <p:blipFill>
          <a:blip r:embed="rId2"/>
          <a:stretch/>
        </p:blipFill>
        <p:spPr>
          <a:xfrm>
            <a:off x="7236000" y="11592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az 3" descr="christmas-206362_640.jpg"/>
          <p:cNvPicPr/>
          <p:nvPr/>
        </p:nvPicPr>
        <p:blipFill>
          <a:blip r:embed="rId1"/>
          <a:stretch/>
        </p:blipFill>
        <p:spPr>
          <a:xfrm>
            <a:off x="2050920" y="380880"/>
            <a:ext cx="49690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Najczęściej wieszana nad drzwiami w celu zapewnienia pokoju, miłości i szczęścia domostwu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Zwyczaj całowania się pod jemiołą miało zapewnić mężczyźnie płodnoś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Obraz 4" descr="star-436134_640.jpg"/>
          <p:cNvPicPr/>
          <p:nvPr/>
        </p:nvPicPr>
        <p:blipFill>
          <a:blip r:embed="rId2"/>
          <a:stretch/>
        </p:blipFill>
        <p:spPr>
          <a:xfrm>
            <a:off x="6659640" y="0"/>
            <a:ext cx="21844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uste miejsce przy wigilijnym stole zostawiano dla duszy osób, które już odeszły a w tę jedną noc w roku przychodzą w odwiedziny do swoich bliskich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Obecnie wolne miejsce jest przeznaczone dla zabłąkanego wędrow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Obraz 3" descr="christmas-ornament-11302_640.jpg"/>
          <p:cNvPicPr/>
          <p:nvPr/>
        </p:nvPicPr>
        <p:blipFill>
          <a:blip r:embed="rId2"/>
          <a:srcRect l="14561" t="0" r="12197" b="0"/>
          <a:stretch/>
        </p:blipFill>
        <p:spPr>
          <a:xfrm>
            <a:off x="7308720" y="0"/>
            <a:ext cx="12589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Dawniej wierzono, że w noc wigilijną wszystkie zwierzęta będą mówić ludzkim głosem aby móc w radować się z narodzin Jezusa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odawano zwierzętom również opłate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Obraz 3" descr="ice-crystal-64157_640.jpg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0" name="Symbol zastępczy zawartości 3" descr="nicholas-of-myra-61067_640.jpg"/>
          <p:cNvPicPr/>
          <p:nvPr/>
        </p:nvPicPr>
        <p:blipFill>
          <a:blip r:embed="rId2"/>
          <a:stretch/>
        </p:blipFill>
        <p:spPr>
          <a:xfrm>
            <a:off x="396720" y="2346480"/>
            <a:ext cx="4407120" cy="3305160"/>
          </a:xfrm>
          <a:prstGeom prst="rect">
            <a:avLst/>
          </a:prstGeom>
          <a:ln w="0">
            <a:noFill/>
          </a:ln>
        </p:spPr>
      </p:pic>
      <p:pic>
        <p:nvPicPr>
          <p:cNvPr id="351" name="Obraz 4" descr="santa-31276_640.png"/>
          <p:cNvPicPr/>
          <p:nvPr/>
        </p:nvPicPr>
        <p:blipFill>
          <a:blip r:embed="rId3"/>
          <a:stretch/>
        </p:blipFill>
        <p:spPr>
          <a:xfrm>
            <a:off x="5003640" y="2276640"/>
            <a:ext cx="34750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00000" y="1915920"/>
            <a:ext cx="3346560" cy="3811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Choin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aseł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Kolędnic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emioł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Dzielenie się opłatki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03280" y="1989000"/>
            <a:ext cx="392940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Puste miejsce przy sto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Szop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12 potra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Obraz 5" descr="christmas-ornament-513503_640.jpg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500" spc="-1" strike="noStrike">
              <a:solidFill>
                <a:srgbClr val="ff3100"/>
              </a:solidFill>
              <a:latin typeface="Corbel"/>
            </a:endParaRPr>
          </a:p>
        </p:txBody>
      </p:sp>
      <p:pic>
        <p:nvPicPr>
          <p:cNvPr id="312" name="Symbol zastępczy zawartości 4" descr="christmas-566309_640.png"/>
          <p:cNvPicPr/>
          <p:nvPr/>
        </p:nvPicPr>
        <p:blipFill>
          <a:blip r:embed="rId1"/>
          <a:stretch/>
        </p:blipFill>
        <p:spPr>
          <a:xfrm>
            <a:off x="1258920" y="1700280"/>
            <a:ext cx="6416640" cy="4530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Przed przygotowanie wigilijnego stołu, należy włożyć pod obrus sianko symbolizujące ubóstwo Chrystusa. Według tradycji, przy stole zostawia się jedno wolne miejsce dla niespodziewanego gości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12 potraw znajdujących się na stole symbolizuje każdego z apostołów Jezusa. Najbardziej tradycyjnymi potrawami są: barszcz czerwony, karp, pierogi z grzybami i kapustą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Bardzo ważne aby podczas kolacji spróbować każdej potrawy, dzięki temu żadna przyjemność, w nowym roku, nas nie omini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raz 8" descr="christmas-bauble-437520_640.jpg"/>
          <p:cNvPicPr/>
          <p:nvPr/>
        </p:nvPicPr>
        <p:blipFill>
          <a:blip r:embed="rId2"/>
          <a:srcRect l="0" t="0" r="0" b="14316"/>
          <a:stretch/>
        </p:blipFill>
        <p:spPr>
          <a:xfrm>
            <a:off x="5904000" y="0"/>
            <a:ext cx="30607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Cicha noc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Bóg się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zisiaj w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o szopy, hej pasterz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 żłobie leż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Lulaj że Jezuni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rzybieżeli do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śliczna pann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śród nocnej cisz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okój niesie, ludziom wszem 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A u żłóbka Matka Św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zuwa sama uśmiechn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stuszkowie od swych trzó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Biegną wielce zadziw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Za anielskim głosem p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rodzony Boży sy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n wielkiego majest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iesie dziś całemu świ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się rodzi, moc truchl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an niebiosów obnażo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Ogień krzepnie, blask ciemni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Ma granice - Nieskończony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zgardzony - okryty chw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Śmiertelny król nad wiek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Cóż masz, niebo, nad ziemian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porzucił szczęście tw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zedł między lud ukocha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zieląc z nim trudy i zn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Niemało cierpiał, niem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Żeśmy byli winni s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odnieś rękę, boże Dzieci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łogosław ojczyznę m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 dobrych radach, w dobrym byci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pieraj jej siłę Swą s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om nasz i majętność c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wszystkie wioski z miast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2864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siaj w Betlejem, dzisiaj w Betlejem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Wesoła nowi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Że Panna czysta, że Panna czyst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orodziła Syn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Maryja Panna, Maryja Pan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eciątko piastuj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Józef święty i Józef święt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n ją pielęgnuje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ociaż w stajence, chociaż w stajen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nna Syna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ecież on wkrótce, przecież on wkrót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Ludzi oswobodzi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Trzej królowie, i trzej królowi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d wschodu przybyl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dary Panu, i dary Panu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osztowne złożyli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ójdźmy też i my, pójdźmy też i m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ywitać Jezus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a nad królami, Króla nad królam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Uwielbić Jezus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076720" y="0"/>
            <a:ext cx="406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na świat przych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iemna noc w jasności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romienistych brodzi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niołowie się rad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d niebiosa wyśpiew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-o"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Mówią do pasterz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tórzy trzód swych strz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by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zym prędzej pobi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się narodził Zbaw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szego świata Odkup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 niebieskie duch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posłowie ni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wiedzcież wyraźniej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o nam czynić trz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my nic nie pojmu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Ledwo od strachu ży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dźcie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zie Dziecię zrodz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pieluszki powit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żłobie położ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ddajcie Mu pokłon b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n osłodzi wasze tr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940360" y="0"/>
            <a:ext cx="3203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5:25:04Z</dcterms:created>
  <dc:creator>Michał</dc:creator>
  <dc:description/>
  <dc:language>en-US</dc:language>
  <cp:lastModifiedBy>Darek</cp:lastModifiedBy>
  <dcterms:modified xsi:type="dcterms:W3CDTF">2015-01-20T14:10:58Z</dcterms:modified>
  <cp:revision>45</cp:revision>
  <dc:subject/>
  <dc:title>Święta Bożonarodzeniowe</dc:title>
</cp:coreProperties>
</file>