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877E-8855-4460-B0AA-4E6A339F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7244-6C9F-4AE1-8A8F-A51B8880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5426-7D1C-4FF8-B5BD-12824872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D63C-1362-4F46-B2C5-AEB37BE3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36E-837B-4781-8F45-1B8D406D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0EF-0A00-4DE9-9CFA-7A376461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B9D-9120-4E08-8186-E059B3A2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4171-95FE-4B5C-AA2E-C36AC750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B864-9306-497D-9F48-5A91D0ED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1660-3F0E-4222-8059-D68AD24D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004-D9B2-4688-BA0D-1F19FD13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C8E-A993-4E20-911F-A8B9648B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95F3-F6FD-4877-9674-D51E24D349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b1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000000"/>
                </a:solidFill>
                <a:latin typeface="Calibri"/>
              </a:rPr>
              <a:t>Moja klasa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0000"/>
                </a:solidFill>
                <a:latin typeface="Calibri"/>
              </a:rPr>
              <a:t>Na informaty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 Light"/>
              </a:rPr>
              <a:t>Nauczycie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ole tekstowe 4"/>
          <p:cNvSpPr/>
          <p:nvPr/>
        </p:nvSpPr>
        <p:spPr>
          <a:xfrm>
            <a:off x="176040" y="2170080"/>
            <a:ext cx="67374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Dalekie są kraje i bliskie są kraje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dzie Dżamble pędzą życi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ielone głowy mają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iebieskie ręce maj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po morzu pływają w sici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każdy pomyślał: "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Ach, oddałbym życi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Gdybym jak oni mógł także w tym si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W dalekie wyruszyć podróże!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n Lear </a:t>
            </a:r>
            <a:r>
              <a:rPr b="0" i="1" lang="pl-PL" sz="1800" spc="-1" strike="noStrike">
                <a:solidFill>
                  <a:srgbClr val="000000"/>
                </a:solidFill>
                <a:latin typeface="Calibri"/>
              </a:rPr>
              <a:t>O żeglarzach Dżambl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Symbol zastępczy zawartości 2" descr=""/>
          <p:cNvPicPr/>
          <p:nvPr/>
        </p:nvPicPr>
        <p:blipFill>
          <a:blip r:embed="rId1"/>
          <a:stretch/>
        </p:blipFill>
        <p:spPr>
          <a:xfrm>
            <a:off x="6784920" y="2170080"/>
            <a:ext cx="529272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 Light"/>
              </a:rPr>
              <a:t>Uczeń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0T21:18:45Z</dcterms:created>
  <dc:creator>Hilarion Gaf</dc:creator>
  <dc:description/>
  <dc:language>en-US</dc:language>
  <cp:lastModifiedBy>Hilarion Gaf</cp:lastModifiedBy>
  <dcterms:modified xsi:type="dcterms:W3CDTF">2014-01-02T10:47:33Z</dcterms:modified>
  <cp:revision>8</cp:revision>
  <dc:subject/>
  <dc:title>Paracetamol</dc:title>
</cp:coreProperties>
</file>