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803-D33B-4FD0-8C1E-37A66AFE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A97-E10B-4053-A6AC-D5741227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4D5-8395-4782-87BE-D01856B6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771-9079-440F-A557-B3F56B3E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D60-1905-4270-9014-E9F77F5A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791-3315-4FBD-89A9-3E2C4515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344-BA41-481F-A542-9FF862D7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91C-6E33-49E1-840B-D076E6BB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80D-3985-4ACE-85EE-B39C73E4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844-0F26-4484-A8EB-7E02DE01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5C5-0CF6-48AD-BCBD-71BB1BB5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9CE-F0D1-4388-8AA8-74F38A69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66FD-A60D-480C-9E2C-47221F5E1D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000000"/>
                </a:solidFill>
                <a:latin typeface="Calibri"/>
              </a:rPr>
              <a:t>Moja klasa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Na informaty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 Light"/>
              </a:rPr>
              <a:t>Nauczyci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176040" y="2170080"/>
            <a:ext cx="67374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lekie są kraje i bliskie są kr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 Dżamble pędzą życi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elone głowy maj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bieskie ręce maj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o morzu pływają w si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każdy pomyślał: "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h, oddałbym życ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dybym jak oni mógł także w tym si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 dalekie wyruszyć podróże!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n Lear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 żeglarzach Dżambl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2" descr=""/>
          <p:cNvPicPr/>
          <p:nvPr/>
        </p:nvPicPr>
        <p:blipFill>
          <a:blip r:embed="rId1"/>
          <a:stretch/>
        </p:blipFill>
        <p:spPr>
          <a:xfrm>
            <a:off x="6784920" y="2170080"/>
            <a:ext cx="52927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 Light"/>
              </a:rPr>
              <a:t>Ucze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1:18:45Z</dcterms:created>
  <dc:creator>Hilarion Gaf</dc:creator>
  <dc:description/>
  <dc:language>en-US</dc:language>
  <cp:lastModifiedBy>Hilarion Gaf</cp:lastModifiedBy>
  <dcterms:modified xsi:type="dcterms:W3CDTF">2014-01-02T10:47:33Z</dcterms:modified>
  <cp:revision>8</cp:revision>
  <dc:subject/>
  <dc:title>Paracetamol</dc:title>
</cp:coreProperties>
</file>