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B1D-D23C-4473-BF88-9EB1AAF5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1C6-4D5A-4CC4-A271-7A188C35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A6A-100E-4DD9-97AF-B907F2C7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7C7-B379-4044-9DE7-A57DCCA7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0F7-3810-4272-B611-BB635E9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7A5-F252-4335-9F01-162150BF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3A1-993F-4258-8380-D897A08F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CB1-F6AF-4C01-B15B-974B70EC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065-2C81-49B8-885C-12A76991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C83-B287-4924-A974-953A0230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525-1608-4706-A08A-8AD83093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13F-C04C-4EAF-AD41-8BCB5F6F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148F-4CD0-4BE6-B705-76114ACF26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1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000000"/>
                </a:solidFill>
                <a:latin typeface="Calibri"/>
              </a:rPr>
              <a:t>Moja klasa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Calibri"/>
              </a:rPr>
              <a:t>Na informaty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 Light"/>
              </a:rPr>
              <a:t>Nauczyci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ole tekstowe 4"/>
          <p:cNvSpPr/>
          <p:nvPr/>
        </p:nvSpPr>
        <p:spPr>
          <a:xfrm>
            <a:off x="176040" y="2170080"/>
            <a:ext cx="67374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lekie są kraje i bliskie są kra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 Dżamble pędzą życi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elone głowy maj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bieskie ręce maj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po morzu pływają w si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każdy pomyślał: "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Ach, oddałbym życ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Gdybym jak oni mógł także w tym si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 dalekie wyruszyć podróże!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n Lear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 żeglarzach Dżambl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2" descr=""/>
          <p:cNvPicPr/>
          <p:nvPr/>
        </p:nvPicPr>
        <p:blipFill>
          <a:blip r:embed="rId1"/>
          <a:stretch/>
        </p:blipFill>
        <p:spPr>
          <a:xfrm>
            <a:off x="6784920" y="2170080"/>
            <a:ext cx="52927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 Light"/>
              </a:rPr>
              <a:t>Uczeń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21:18:45Z</dcterms:created>
  <dc:creator>Hilarion Gaf</dc:creator>
  <dc:description/>
  <dc:language>en-US</dc:language>
  <cp:lastModifiedBy>Hilarion Gaf</cp:lastModifiedBy>
  <dcterms:modified xsi:type="dcterms:W3CDTF">2014-01-02T10:47:33Z</dcterms:modified>
  <cp:revision>8</cp:revision>
  <dc:subject/>
  <dc:title>Paracetamol</dc:title>
</cp:coreProperties>
</file>