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B1A-5FBC-4B26-9B84-7BE9A560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5D4-11F2-42AA-B1F1-72FC8ED9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05D-DAA8-479F-B41F-A6099EFB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FF0-D370-4F20-B4AC-140C70E3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77C-C9A8-4AFC-8ECB-230769A2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C4E-2B26-4418-B3EC-836EA19E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B6E-53C3-4C00-BF52-F5B63205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377-6DC1-4414-B30E-B22545DF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830-206A-4D60-9454-36EA9B41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9FB-67EB-43EB-9F33-B5A1187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C74-3E33-4541-B691-9195FC98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A57-BD22-489D-A914-C6ED0A31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F743-79C7-488F-8A6E-1B8155C59F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000000"/>
                </a:solidFill>
                <a:latin typeface="Calibri"/>
              </a:rPr>
              <a:t>Moja klasa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Na informaty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 Light"/>
              </a:rPr>
              <a:t>Nauczyci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176040" y="2170080"/>
            <a:ext cx="67374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lekie są kraje i bliskie są kr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 Dżamble pędzą życi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elone głowy maj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bieskie ręce maj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o morzu pływają w si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każdy pomyślał: "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h, oddałbym życ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dybym jak oni mógł także w tym si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 dalekie wyruszyć podróże!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n Lear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 żeglarzach Dżambl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2" descr=""/>
          <p:cNvPicPr/>
          <p:nvPr/>
        </p:nvPicPr>
        <p:blipFill>
          <a:blip r:embed="rId1"/>
          <a:stretch/>
        </p:blipFill>
        <p:spPr>
          <a:xfrm>
            <a:off x="6784920" y="2170080"/>
            <a:ext cx="52927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 Light"/>
              </a:rPr>
              <a:t>Ucze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1:18:45Z</dcterms:created>
  <dc:creator>Hilarion Gaf</dc:creator>
  <dc:description/>
  <dc:language>en-US</dc:language>
  <cp:lastModifiedBy>Hilarion Gaf</cp:lastModifiedBy>
  <dcterms:modified xsi:type="dcterms:W3CDTF">2014-01-02T10:47:33Z</dcterms:modified>
  <cp:revision>8</cp:revision>
  <dc:subject/>
  <dc:title>Paracetamol</dc:title>
</cp:coreProperties>
</file>