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BE3-326B-4C23-9727-170649D0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3D5-101A-4A07-87EA-8987B610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C2B9-77BA-42AE-A1DB-97A33B1A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2DD-F329-4265-B7D1-5AC70177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6D2-E01A-4232-9BD7-EEE6997A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7EE-388D-44D9-8E32-92C3C146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6EF6-3EE1-4B5B-9963-D8D3CCF8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3ACC-9DBC-40C6-985A-AB75508B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39D-4A57-42B3-A3B9-69ADB629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3C24-CB71-4EB1-A68E-AADFAA40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21D-1080-4AC1-9222-485938DF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601E-D1D2-477E-9908-0F51F45F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553B-623C-4375-AEFF-D10CFB5B81E7}" type="datetime">
              <a:rPr b="0" lang="pl-PL" sz="1200" spc="-1" strike="noStrike">
                <a:solidFill>
                  <a:srgbClr val="898989"/>
                </a:solidFill>
                <a:latin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informatyka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CCAA-75A9-4004-979D-811A97550677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25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reści multimedialne - kodowanie, przetwarzanie, prezentacja</a:t>
            </a:r>
            <a:br>
              <a:rPr sz="3600"/>
            </a:br>
            <a:br>
              <a:rPr sz="1600"/>
            </a:b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Odtwarzanie treści multimedialn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Andrzej Majkow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3422-2F34-4BB7-AE08-EF5F66713D60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az 5" descr="OKLADKA_tresci_multimedialne_kodowanie_przetwarzanie_prezentac kopia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C831-4C84-4DFF-A858-7B8DCF188D8D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Film: Obsługa programu Scratch - Schol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433440" y="1197000"/>
            <a:ext cx="82771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4EFB-66BC-4C05-AFBF-FC02D33C629E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Wsparcie technicz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1" descr=""/>
          <p:cNvPicPr/>
          <p:nvPr/>
        </p:nvPicPr>
        <p:blipFill>
          <a:blip r:embed="rId2"/>
          <a:stretch/>
        </p:blipFill>
        <p:spPr>
          <a:xfrm>
            <a:off x="1389240" y="1052640"/>
            <a:ext cx="63576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7E3A-AA81-44E0-9871-39F1DC37B285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Wsparcie techniczne – c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raz 1" descr=""/>
          <p:cNvPicPr/>
          <p:nvPr/>
        </p:nvPicPr>
        <p:blipFill>
          <a:blip r:embed="rId2"/>
          <a:stretch/>
        </p:blipFill>
        <p:spPr>
          <a:xfrm>
            <a:off x="901800" y="1197000"/>
            <a:ext cx="7270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949E-145D-42CB-81DD-CF93583FDFC6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Wsparcie techniczne – c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raz 1" descr=""/>
          <p:cNvPicPr/>
          <p:nvPr/>
        </p:nvPicPr>
        <p:blipFill>
          <a:blip r:embed="rId2"/>
          <a:stretch/>
        </p:blipFill>
        <p:spPr>
          <a:xfrm>
            <a:off x="1476360" y="987480"/>
            <a:ext cx="597384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5DEF-D852-4B9D-A7AE-AA44AC6F13DE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Wsparcie techniczne – c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raz 1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5973840" cy="55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1128-290D-4536-8430-EADEC68853BD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Film: Analiza budowy projektu w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711360" y="1484280"/>
            <a:ext cx="77342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Bookman Old Style"/>
              </a:rPr>
              <a:t>Tworzenie projektu wspierającego naukę Fizy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CF3C-FC47-47B3-81A7-44202D587BFB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9" name="Symbol zastępczy zawartości 6"/>
          <p:cNvSpPr/>
          <p:nvPr/>
        </p:nvSpPr>
        <p:spPr>
          <a:xfrm>
            <a:off x="480960" y="90792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00"/>
                </a:solidFill>
                <a:latin typeface="Bookman Old Style"/>
              </a:rPr>
              <a:t>czas na ćwicze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00"/>
                </a:solidFill>
                <a:latin typeface="Bookman Old Style"/>
              </a:rPr>
              <a:t>i projekt w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F323-13B9-42A4-A18A-3AF7EC1F4660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ytuł 5"/>
          <p:cNvSpPr/>
          <p:nvPr/>
        </p:nvSpPr>
        <p:spPr>
          <a:xfrm>
            <a:off x="0" y="620640"/>
            <a:ext cx="777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TYTUŁ:</a:t>
            </a:r>
            <a:br>
              <a:rPr sz="2800"/>
            </a:br>
            <a:r>
              <a:rPr b="1" lang="pl-PL" sz="4800" spc="-1" strike="noStrike" baseline="-25000">
                <a:solidFill>
                  <a:srgbClr val="ffffff"/>
                </a:solidFill>
                <a:latin typeface="Bookman Old Style"/>
              </a:rPr>
              <a:t>Mój projek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 baseline="-25000">
                <a:solidFill>
                  <a:srgbClr val="ffffff"/>
                </a:solidFill>
                <a:latin typeface="Bookman Old Style"/>
              </a:rPr>
              <a:t>w języku Scrat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LEKCJA 1: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Tworzenie własnego projektu 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w języku Scratch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Bookman Old Style"/>
              </a:rPr>
              <a:t>AUTOR: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Bookman Old Style"/>
              </a:rPr>
              <a:t>Piotr Kopciał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3846-7A64-42D4-AFDF-A33C33635059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Bookman Old Style"/>
              </a:rPr>
              <a:t>Od czego zacząć „układanie” projektu w Scrat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35280" y="1484280"/>
            <a:ext cx="6851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man Old Style"/>
              </a:rPr>
              <a:t>Kursy krok-po-kro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man Old Style"/>
              </a:rPr>
              <a:t>Tutoriale on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man Old Style"/>
              </a:rPr>
              <a:t>Wsparcie technicz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EE43-512B-4DD6-9DA2-D639E207DD87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Kursy krok-po-kro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Obraz 1" descr=""/>
          <p:cNvPicPr/>
          <p:nvPr/>
        </p:nvPicPr>
        <p:blipFill>
          <a:blip r:embed="rId3"/>
          <a:stretch/>
        </p:blipFill>
        <p:spPr>
          <a:xfrm>
            <a:off x="1619280" y="1125360"/>
            <a:ext cx="597384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D69C-AB3A-4295-A617-A09512398EF1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Kursy krok-po-kroku –c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Obraz 1" descr=""/>
          <p:cNvPicPr/>
          <p:nvPr/>
        </p:nvPicPr>
        <p:blipFill>
          <a:blip r:embed="rId3"/>
          <a:stretch/>
        </p:blipFill>
        <p:spPr>
          <a:xfrm>
            <a:off x="1258920" y="1197000"/>
            <a:ext cx="6634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781F-D34D-474B-925B-3B6DFB5FD422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Kursy krok-po-kroku –c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Obraz 1" descr=""/>
          <p:cNvPicPr/>
          <p:nvPr/>
        </p:nvPicPr>
        <p:blipFill>
          <a:blip r:embed="rId3"/>
          <a:stretch/>
        </p:blipFill>
        <p:spPr>
          <a:xfrm>
            <a:off x="1255680" y="1252440"/>
            <a:ext cx="6481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04E1-D17F-49F7-BAA7-1AA27B7E3242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Kursy krok-po-kroku –c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Obraz 1" descr=""/>
          <p:cNvPicPr/>
          <p:nvPr/>
        </p:nvPicPr>
        <p:blipFill>
          <a:blip r:embed="rId3"/>
          <a:stretch/>
        </p:blipFill>
        <p:spPr>
          <a:xfrm>
            <a:off x="1332000" y="1033560"/>
            <a:ext cx="63691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B6AE-12F6-4E1D-8745-971495B44ABC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Tutoriale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raz 1" descr=""/>
          <p:cNvPicPr/>
          <p:nvPr/>
        </p:nvPicPr>
        <p:blipFill>
          <a:blip r:embed="rId2"/>
          <a:stretch/>
        </p:blipFill>
        <p:spPr>
          <a:xfrm>
            <a:off x="901800" y="1052640"/>
            <a:ext cx="741528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informatyka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F547-B91A-4301-A85F-84EEBB1D7F68}" type="slidenum"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13032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Tutoriale online – c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az 1" descr=""/>
          <p:cNvPicPr/>
          <p:nvPr/>
        </p:nvPicPr>
        <p:blipFill>
          <a:blip r:embed="rId2"/>
          <a:stretch/>
        </p:blipFill>
        <p:spPr>
          <a:xfrm>
            <a:off x="1082520" y="1125360"/>
            <a:ext cx="7126560" cy="51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3:15:16Z</dcterms:created>
  <dc:creator>Daniel</dc:creator>
  <dc:description/>
  <dc:language>en-US</dc:language>
  <cp:lastModifiedBy>Marcin</cp:lastModifiedBy>
  <dcterms:modified xsi:type="dcterms:W3CDTF">2014-01-03T16:12:07Z</dcterms:modified>
  <cp:revision>72</cp:revision>
  <dc:subject/>
  <dc:title>Slajd 1</dc:title>
</cp:coreProperties>
</file>