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34A-D9CF-4539-A2A7-85FE6D5D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5FC-BFF7-4F4F-9133-A5868D04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5E17-F999-4AEC-80FB-DBC7B361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79BC-7C2F-411F-A3EB-4A009F8D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A725E-DC1B-48D3-A8F8-69DB959A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021E-5353-4A1A-96AE-326D434F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8333-CFE6-49C0-9F37-D3D80E70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5C77-F549-4311-8074-89AEBDB9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4825-AA59-418B-A016-C716A568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96C8-0058-4CE0-B95F-119A5C4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D7FC2-C4D0-4DF7-9B19-76F9753D4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DBF-5BE3-45CA-9071-051F2931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71A2-EEF7-468A-960E-6016FA51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CC5D-5661-4038-AA7A-61445073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DFD4-B073-4C4D-9FCA-6858F313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73E0-1484-4016-84D6-7DB28EC7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075F-9CD9-490B-AC85-CF8EAEC6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001-0552-4E19-89AD-F64F5A82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D17-121E-4AF6-B2CE-60B45E05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930-6B3A-43AE-A8C7-48A97A76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8FE-FA02-44DA-B516-E276F258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87D-DFAE-4F1E-8E7A-1458A3F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9EB-CA1B-4835-B650-7CF8E51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2EA-F5D4-443F-8CE5-E2C28266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DDED-F314-4097-AC1C-4CD902B02D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C981-3D6E-4558-94C8-1F6AD407B6F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hyperlink" Target="http://epp.eurostat.ec.europa.eu/tgm/table.do?tab=table&amp;plugin=1&amp;language=en&amp;pcode=tec00118" TargetMode="External"/><Relationship Id="rId4" Type="http://schemas.openxmlformats.org/officeDocument/2006/relationships/hyperlink" Target="http://epp.eurostat.ec.europa.eu/tgm/table.do?tab=table&amp;plugin=1&amp;language=en&amp;pcode=tec00118" TargetMode="External"/><Relationship Id="rId5" Type="http://schemas.openxmlformats.org/officeDocument/2006/relationships/hyperlink" Target="http://epp.eurostat.ec.europa.eu/tgm/table.do?tab=table&amp;plugin=1&amp;language=en&amp;pcode=tec00118" TargetMode="External"/><Relationship Id="rId6" Type="http://schemas.openxmlformats.org/officeDocument/2006/relationships/hyperlink" Target="http://epp.eurostat.ec.europa.eu/tgm/table.do?tab=table&amp;plugin=1&amp;language=en&amp;pcode=tec00118" TargetMode="External"/><Relationship Id="rId7" Type="http://schemas.openxmlformats.org/officeDocument/2006/relationships/hyperlink" Target="http://epp.eurostat.ec.europa.eu/tgm/table.do?tab=table&amp;plugin=1&amp;language=en&amp;pcode=tec00118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p.eurostat.ec.europa.eu/tgm/table.do?tab=table&amp;language=en&amp;pcode=teilm020&amp;tableSelection=1&amp;plugin=1" TargetMode="External"/><Relationship Id="rId2" Type="http://schemas.openxmlformats.org/officeDocument/2006/relationships/hyperlink" Target="http://epp.eurostat.ec.europa.eu/tgm/table.do?tab=table&amp;language=en&amp;pcode=teilm020&amp;tableSelection=1&amp;plugin=1" TargetMode="External"/><Relationship Id="rId3" Type="http://schemas.openxmlformats.org/officeDocument/2006/relationships/hyperlink" Target="http://epp.eurostat.ec.europa.eu/tgm/table.do?tab=table&amp;language=en&amp;pcode=teilm020&amp;tableSelection=1&amp;plugin=1" TargetMode="External"/><Relationship Id="rId4" Type="http://schemas.openxmlformats.org/officeDocument/2006/relationships/hyperlink" Target="http://epp.eurostat.ec.europa.eu/tgm/table.do?tab=table&amp;language=en&amp;pcode=teilm020&amp;tableSelection=1&amp;plugin=1" TargetMode="External"/><Relationship Id="rId5" Type="http://schemas.openxmlformats.org/officeDocument/2006/relationships/hyperlink" Target="http://epp.eurostat.ec.europa.eu/tgm/table.do?tab=table&amp;language=en&amp;pcode=teilm020&amp;tableSelection=1&amp;plugin=1" TargetMode="External"/><Relationship Id="rId6" Type="http://schemas.openxmlformats.org/officeDocument/2006/relationships/hyperlink" Target="http://epp.eurostat.ec.europa.eu/tgm/table.do?tab=table&amp;language=en&amp;pcode=teilm020&amp;tableSelection=1&amp;plugin=1" TargetMode="External"/><Relationship Id="rId7" Type="http://schemas.openxmlformats.org/officeDocument/2006/relationships/package" Target="../embeddings/oleObject1.xlsx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696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 Narrow"/>
              </a:rPr>
              <a:t>Bezrobocie i inflacj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24000" y="620640"/>
          <a:ext cx="864072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640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 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http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7"/>
              </a:rPr>
              <a:t>/table.do?tab=table&amp;plugin=1&amp;language=en&amp;pcode=tec00118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Źródło: opracowanie własne na podstawie danych Eurostatu: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3"/>
              </a:rPr>
              <a:t>epp.eurostat.ec.europa.eu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4"/>
              </a:rPr>
              <a:t>/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5"/>
              </a:rPr>
              <a:t>tgm</a:t>
            </a:r>
            <a:r>
              <a:rPr b="0" lang="pl-PL" sz="1000" spc="-1" strike="noStrike" u="sng">
                <a:solidFill>
                  <a:srgbClr val="666699"/>
                </a:solidFill>
                <a:uFillTx/>
                <a:latin typeface="Arial Narrow"/>
                <a:hlinkClick r:id="rId6"/>
              </a:rPr>
              <a:t>/table.do?tab=table&amp;language=en&amp;pcode=teilm020&amp;tableSelection=1&amp;plugin=1</a:t>
            </a:r>
            <a:r>
              <a:rPr b="0" lang="pl-P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528480"/>
          <a:ext cx="9144000" cy="5988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28480"/>
                    <a:ext cx="9144000" cy="59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6:56:23Z</dcterms:created>
  <dc:creator>Borowiec</dc:creator>
  <dc:description/>
  <dc:language>en-US</dc:language>
  <cp:lastModifiedBy>Monika</cp:lastModifiedBy>
  <dcterms:modified xsi:type="dcterms:W3CDTF">2013-05-03T10:01:58Z</dcterms:modified>
  <cp:revision>19</cp:revision>
  <dc:subject/>
  <dc:title>Przyczyny i skutki bezrobocia. Bezrobocie i inflacja </dc:title>
</cp:coreProperties>
</file>