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C85C-DAB3-44B0-905D-C4EDDFEF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C25-E135-488E-9DFA-34104763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CBC-D2B6-41BC-80D8-D79183FD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73D-40B2-4D20-8000-2B2FE837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AFBB-A113-467C-8AB2-5F4DEAF6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8A99-4454-4809-BA00-4325A820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1959-E486-4741-8154-E1C3EAE2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834E-6948-4E40-A37E-DA28EF77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5157-2C0C-4851-9C5A-013D3362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1915-4D0D-40F9-97DA-205A8AA8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CBDD-06D6-4631-A1D0-26C73733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FF9-5A29-48AE-BCD6-18BE2A38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7F8D-E002-4D43-8BEC-ED6090B6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C216-BB03-4595-8C7F-D5D78339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122C-08B6-456B-97D9-E58E5EE4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A0D7-3118-48CC-887E-72D9FAB4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A264-3E23-4B70-8DDB-AD3EE06E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2AB-2061-4861-85A2-82F21AC0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480-2272-4439-8639-33D7FD9F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D23-2D8C-40F8-812B-BE9ED066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1FB-7661-4092-8303-AEE764D1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A18-7EFD-44EB-AC28-8B9FEFDF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9A7-94C1-4D5B-87B7-FF108AAE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F35-C574-4D73-9D77-B6BCC73E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4391-05D5-483E-A40A-CD800E919C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8C66-B96F-43B1-A996-5B7A9D657A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hyperlink" Target="http://epp.eurostat.ec.europa.eu/tgm/table.do?tab=table&amp;plugin=1&amp;language=en&amp;pcode=tec00118" TargetMode="External"/><Relationship Id="rId4" Type="http://schemas.openxmlformats.org/officeDocument/2006/relationships/hyperlink" Target="http://epp.eurostat.ec.europa.eu/tgm/table.do?tab=table&amp;plugin=1&amp;language=en&amp;pcode=tec00118" TargetMode="External"/><Relationship Id="rId5" Type="http://schemas.openxmlformats.org/officeDocument/2006/relationships/hyperlink" Target="http://epp.eurostat.ec.europa.eu/tgm/table.do?tab=table&amp;plugin=1&amp;language=en&amp;pcode=tec00118" TargetMode="External"/><Relationship Id="rId6" Type="http://schemas.openxmlformats.org/officeDocument/2006/relationships/hyperlink" Target="http://epp.eurostat.ec.europa.eu/tgm/table.do?tab=table&amp;plugin=1&amp;language=en&amp;pcode=tec00118" TargetMode="External"/><Relationship Id="rId7" Type="http://schemas.openxmlformats.org/officeDocument/2006/relationships/hyperlink" Target="http://epp.eurostat.ec.europa.eu/tgm/table.do?tab=table&amp;plugin=1&amp;language=en&amp;pcode=tec00118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pp.eurostat.ec.europa.eu/tgm/table.do?tab=table&amp;language=en&amp;pcode=teilm020&amp;tableSelection=1&amp;plugin=1" TargetMode="External"/><Relationship Id="rId2" Type="http://schemas.openxmlformats.org/officeDocument/2006/relationships/hyperlink" Target="http://epp.eurostat.ec.europa.eu/tgm/table.do?tab=table&amp;language=en&amp;pcode=teilm020&amp;tableSelection=1&amp;plugin=1" TargetMode="External"/><Relationship Id="rId3" Type="http://schemas.openxmlformats.org/officeDocument/2006/relationships/hyperlink" Target="http://epp.eurostat.ec.europa.eu/tgm/table.do?tab=table&amp;language=en&amp;pcode=teilm020&amp;tableSelection=1&amp;plugin=1" TargetMode="External"/><Relationship Id="rId4" Type="http://schemas.openxmlformats.org/officeDocument/2006/relationships/hyperlink" Target="http://epp.eurostat.ec.europa.eu/tgm/table.do?tab=table&amp;language=en&amp;pcode=teilm020&amp;tableSelection=1&amp;plugin=1" TargetMode="External"/><Relationship Id="rId5" Type="http://schemas.openxmlformats.org/officeDocument/2006/relationships/hyperlink" Target="http://epp.eurostat.ec.europa.eu/tgm/table.do?tab=table&amp;language=en&amp;pcode=teilm020&amp;tableSelection=1&amp;plugin=1" TargetMode="External"/><Relationship Id="rId6" Type="http://schemas.openxmlformats.org/officeDocument/2006/relationships/hyperlink" Target="http://epp.eurostat.ec.europa.eu/tgm/table.do?tab=table&amp;language=en&amp;pcode=teilm020&amp;tableSelection=1&amp;plugin=1" TargetMode="External"/><Relationship Id="rId7" Type="http://schemas.openxmlformats.org/officeDocument/2006/relationships/package" Target="../embeddings/oleObject1.xlsx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696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Narrow"/>
              </a:rPr>
              <a:t>Bezrobocie i inflacj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24000" y="620640"/>
          <a:ext cx="8640720" cy="602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0640"/>
                    <a:ext cx="864072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: 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3"/>
              </a:rPr>
              <a:t>http:/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4"/>
              </a:rPr>
              <a:t>epp.eurostat.ec.europa.eu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5"/>
              </a:rPr>
              <a:t>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6"/>
              </a:rPr>
              <a:t>tgm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7"/>
              </a:rPr>
              <a:t>/table.do?tab=table&amp;plugin=1&amp;language=en&amp;pcode=tec00118</a:t>
            </a: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: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1"/>
              </a:rPr>
              <a:t>http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2"/>
              </a:rPr>
              <a:t>:/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3"/>
              </a:rPr>
              <a:t>epp.eurostat.ec.europa.eu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4"/>
              </a:rPr>
              <a:t>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5"/>
              </a:rPr>
              <a:t>tgm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6"/>
              </a:rPr>
              <a:t>/table.do?tab=table&amp;language=en&amp;pcode=teilm020&amp;tableSelection=1&amp;plugin=1</a:t>
            </a: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528480"/>
          <a:ext cx="9144000" cy="5988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28480"/>
                    <a:ext cx="914400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6:56:23Z</dcterms:created>
  <dc:creator>Borowiec</dc:creator>
  <dc:description/>
  <dc:language>en-US</dc:language>
  <cp:lastModifiedBy>Monika</cp:lastModifiedBy>
  <dcterms:modified xsi:type="dcterms:W3CDTF">2013-05-03T10:01:58Z</dcterms:modified>
  <cp:revision>19</cp:revision>
  <dc:subject/>
  <dc:title>Przyczyny i skutki bezrobocia. Bezrobocie i inflacja </dc:title>
</cp:coreProperties>
</file>