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3EC-F9D9-476E-A67C-92AC5F1A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F8D-D558-4734-B9ED-9CA9930E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2AD-9280-4750-8935-35318F5E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6B3-447F-4FAC-BDF7-5524C6F2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7769-47CA-4BF8-A603-F5583513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C52F-CF69-4A80-83A6-186B13F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B89A-7DB1-4E76-BF71-488E07B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0F9-D86F-4B7C-8982-D002F71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CC7C-3D1B-4C12-8C61-15A4685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D9C0-337F-4047-B64B-3883BCC2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2E6F-7461-4554-90B1-EA6E1B2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DBD-2428-400E-8113-76589FEC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07F5-BD4B-415B-9C9F-47CEABF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1C40-3B66-455E-A7E2-A1BD7DD0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303-9659-4983-A676-2FE2650F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151A-44A6-473D-8EA0-C19974C1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C29F-D44E-4900-B2FA-BC9B55A1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A0F-5E9E-4063-AAD4-6D2CF33D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611-68D5-4AED-A65E-760A76ED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50F-B0FA-46FE-9340-11885485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E20-E66B-4990-A6F7-CA9AB4AD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59C-FA4E-444B-98E9-B036FF0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68B-A886-420A-AD22-E8BC4410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B3B-B3C5-46F4-A8DD-000BA200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EE08-C3DF-4237-818E-E21F8FE0A5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D30F-CEBF-464A-8D10-030A86A687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epp.eurostat.ec.europa.eu/tgm/table.do?tab=table&amp;plugin=1&amp;language=en&amp;pcode=tec00118" TargetMode="External"/><Relationship Id="rId4" Type="http://schemas.openxmlformats.org/officeDocument/2006/relationships/hyperlink" Target="http://epp.eurostat.ec.europa.eu/tgm/table.do?tab=table&amp;plugin=1&amp;language=en&amp;pcode=tec00118" TargetMode="External"/><Relationship Id="rId5" Type="http://schemas.openxmlformats.org/officeDocument/2006/relationships/hyperlink" Target="http://epp.eurostat.ec.europa.eu/tgm/table.do?tab=table&amp;plugin=1&amp;language=en&amp;pcode=tec00118" TargetMode="External"/><Relationship Id="rId6" Type="http://schemas.openxmlformats.org/officeDocument/2006/relationships/hyperlink" Target="http://epp.eurostat.ec.europa.eu/tgm/table.do?tab=table&amp;plugin=1&amp;language=en&amp;pcode=tec00118" TargetMode="External"/><Relationship Id="rId7" Type="http://schemas.openxmlformats.org/officeDocument/2006/relationships/hyperlink" Target="http://epp.eurostat.ec.europa.eu/tgm/table.do?tab=table&amp;plugin=1&amp;language=en&amp;pcode=tec00118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tgm/table.do?tab=table&amp;language=en&amp;pcode=teilm020&amp;tableSelection=1&amp;plugin=1" TargetMode="External"/><Relationship Id="rId2" Type="http://schemas.openxmlformats.org/officeDocument/2006/relationships/hyperlink" Target="http://epp.eurostat.ec.europa.eu/tgm/table.do?tab=table&amp;language=en&amp;pcode=teilm020&amp;tableSelection=1&amp;plugin=1" TargetMode="External"/><Relationship Id="rId3" Type="http://schemas.openxmlformats.org/officeDocument/2006/relationships/hyperlink" Target="http://epp.eurostat.ec.europa.eu/tgm/table.do?tab=table&amp;language=en&amp;pcode=teilm020&amp;tableSelection=1&amp;plugin=1" TargetMode="External"/><Relationship Id="rId4" Type="http://schemas.openxmlformats.org/officeDocument/2006/relationships/hyperlink" Target="http://epp.eurostat.ec.europa.eu/tgm/table.do?tab=table&amp;language=en&amp;pcode=teilm020&amp;tableSelection=1&amp;plugin=1" TargetMode="External"/><Relationship Id="rId5" Type="http://schemas.openxmlformats.org/officeDocument/2006/relationships/hyperlink" Target="http://epp.eurostat.ec.europa.eu/tgm/table.do?tab=table&amp;language=en&amp;pcode=teilm020&amp;tableSelection=1&amp;plugin=1" TargetMode="External"/><Relationship Id="rId6" Type="http://schemas.openxmlformats.org/officeDocument/2006/relationships/hyperlink" Target="http://epp.eurostat.ec.europa.eu/tgm/table.do?tab=table&amp;language=en&amp;pcode=teilm020&amp;tableSelection=1&amp;plugin=1" TargetMode="External"/><Relationship Id="rId7" Type="http://schemas.openxmlformats.org/officeDocument/2006/relationships/package" Target="../embeddings/oleObject1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696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Narrow"/>
              </a:rPr>
              <a:t>Bezrobocie i inflac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620640"/>
          <a:ext cx="86407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640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 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http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7"/>
              </a:rPr>
              <a:t>/table.do?tab=table&amp;plugin=1&amp;language=en&amp;pcode=tec00118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/table.do?tab=table&amp;language=en&amp;pcode=teilm020&amp;tableSelection=1&amp;plugin=1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28480"/>
          <a:ext cx="9144000" cy="598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84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56:23Z</dcterms:created>
  <dc:creator>Borowiec</dc:creator>
  <dc:description/>
  <dc:language>en-US</dc:language>
  <cp:lastModifiedBy>Monika</cp:lastModifiedBy>
  <dcterms:modified xsi:type="dcterms:W3CDTF">2013-05-03T10:01:58Z</dcterms:modified>
  <cp:revision>19</cp:revision>
  <dc:subject/>
  <dc:title>Przyczyny i skutki bezrobocia. Bezrobocie i inflacja </dc:title>
</cp:coreProperties>
</file>