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A7F-8AF9-41F2-86C0-28B16C50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D26-ED4A-464A-B701-8E2E59A0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83D-0770-47B2-ADA0-759590C8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7DE-AD78-49B8-B008-AE16F912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B196-1347-42C3-8642-276B5807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0B30-233D-48E7-A61E-9F4AE332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39C4-B10B-457F-9620-FB77F2B3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6987-78B6-4B98-A9F1-237E5AFE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7CC7-C502-4A5D-8757-FEE64BEB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7E9A-BA3F-42A7-9311-B6AB0497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1066-348C-4445-815C-F88CE833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A1E-1100-4D33-A479-1B341F0D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67DF-EA47-4E80-92E8-909B7541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EF9F-6326-47E7-BE21-2E5A8D0B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A3FD-5F1B-4997-998A-53412435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7125-577B-4B3F-AF52-842E90C8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BCDA-EE60-479C-B677-BE7AF797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A65-ADEC-4CFC-A052-FBE3AA5B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0E2-8F4A-4934-AF06-42239DFC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CD5-FCFF-4D15-A2BF-386090F4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F7BF-B0A4-4B12-8E2D-A304A438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623-0308-4CAC-83EF-7B5258F1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7E1-8A7B-4214-BF4E-26021EBF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1DD-FD11-459C-AD5D-1ECBFB18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FEE9-FD33-453B-ABE5-F37BA99FE7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F711-E094-4756-8A57-C2D0204807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hyperlink" Target="http://epp.eurostat.ec.europa.eu/tgm/table.do?tab=table&amp;plugin=1&amp;language=en&amp;pcode=tec00118" TargetMode="External"/><Relationship Id="rId4" Type="http://schemas.openxmlformats.org/officeDocument/2006/relationships/hyperlink" Target="http://epp.eurostat.ec.europa.eu/tgm/table.do?tab=table&amp;plugin=1&amp;language=en&amp;pcode=tec00118" TargetMode="External"/><Relationship Id="rId5" Type="http://schemas.openxmlformats.org/officeDocument/2006/relationships/hyperlink" Target="http://epp.eurostat.ec.europa.eu/tgm/table.do?tab=table&amp;plugin=1&amp;language=en&amp;pcode=tec00118" TargetMode="External"/><Relationship Id="rId6" Type="http://schemas.openxmlformats.org/officeDocument/2006/relationships/hyperlink" Target="http://epp.eurostat.ec.europa.eu/tgm/table.do?tab=table&amp;plugin=1&amp;language=en&amp;pcode=tec00118" TargetMode="External"/><Relationship Id="rId7" Type="http://schemas.openxmlformats.org/officeDocument/2006/relationships/hyperlink" Target="http://epp.eurostat.ec.europa.eu/tgm/table.do?tab=table&amp;plugin=1&amp;language=en&amp;pcode=tec00118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pp.eurostat.ec.europa.eu/tgm/table.do?tab=table&amp;language=en&amp;pcode=teilm020&amp;tableSelection=1&amp;plugin=1" TargetMode="External"/><Relationship Id="rId2" Type="http://schemas.openxmlformats.org/officeDocument/2006/relationships/hyperlink" Target="http://epp.eurostat.ec.europa.eu/tgm/table.do?tab=table&amp;language=en&amp;pcode=teilm020&amp;tableSelection=1&amp;plugin=1" TargetMode="External"/><Relationship Id="rId3" Type="http://schemas.openxmlformats.org/officeDocument/2006/relationships/hyperlink" Target="http://epp.eurostat.ec.europa.eu/tgm/table.do?tab=table&amp;language=en&amp;pcode=teilm020&amp;tableSelection=1&amp;plugin=1" TargetMode="External"/><Relationship Id="rId4" Type="http://schemas.openxmlformats.org/officeDocument/2006/relationships/hyperlink" Target="http://epp.eurostat.ec.europa.eu/tgm/table.do?tab=table&amp;language=en&amp;pcode=teilm020&amp;tableSelection=1&amp;plugin=1" TargetMode="External"/><Relationship Id="rId5" Type="http://schemas.openxmlformats.org/officeDocument/2006/relationships/hyperlink" Target="http://epp.eurostat.ec.europa.eu/tgm/table.do?tab=table&amp;language=en&amp;pcode=teilm020&amp;tableSelection=1&amp;plugin=1" TargetMode="External"/><Relationship Id="rId6" Type="http://schemas.openxmlformats.org/officeDocument/2006/relationships/hyperlink" Target="http://epp.eurostat.ec.europa.eu/tgm/table.do?tab=table&amp;language=en&amp;pcode=teilm020&amp;tableSelection=1&amp;plugin=1" TargetMode="External"/><Relationship Id="rId7" Type="http://schemas.openxmlformats.org/officeDocument/2006/relationships/package" Target="../embeddings/oleObject1.xlsx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696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Narrow"/>
              </a:rPr>
              <a:t>Bezrobocie i inflacj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24000" y="620640"/>
          <a:ext cx="8640720" cy="60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864072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: 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3"/>
              </a:rPr>
              <a:t>http:/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4"/>
              </a:rPr>
              <a:t>epp.eurostat.ec.europa.eu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5"/>
              </a:rPr>
              <a:t>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6"/>
              </a:rPr>
              <a:t>tgm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7"/>
              </a:rPr>
              <a:t>/table.do?tab=table&amp;plugin=1&amp;language=en&amp;pcode=tec00118</a:t>
            </a: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: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1"/>
              </a:rPr>
              <a:t>http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2"/>
              </a:rPr>
              <a:t>:/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3"/>
              </a:rPr>
              <a:t>epp.eurostat.ec.europa.eu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4"/>
              </a:rPr>
              <a:t>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5"/>
              </a:rPr>
              <a:t>tgm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6"/>
              </a:rPr>
              <a:t>/table.do?tab=table&amp;language=en&amp;pcode=teilm020&amp;tableSelection=1&amp;plugin=1</a:t>
            </a: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528480"/>
          <a:ext cx="9144000" cy="5988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28480"/>
                    <a:ext cx="914400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6:56:23Z</dcterms:created>
  <dc:creator>Borowiec</dc:creator>
  <dc:description/>
  <dc:language>en-US</dc:language>
  <cp:lastModifiedBy>Monika</cp:lastModifiedBy>
  <dcterms:modified xsi:type="dcterms:W3CDTF">2013-05-03T10:01:58Z</dcterms:modified>
  <cp:revision>19</cp:revision>
  <dc:subject/>
  <dc:title>Przyczyny i skutki bezrobocia. Bezrobocie i inflacja </dc:title>
</cp:coreProperties>
</file>