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C57E-0E3F-4398-BC7B-99A0BFE1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2B8-357F-473E-B72C-9B4E6E6A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2E9-DD2B-40A3-9ADB-DCAC6E90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F554-76D1-4D7A-AC7E-5B2521BF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F8F7-8C8D-4AB6-8CA1-3AC04C71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671D-B05C-4EF4-B5E4-A7224508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C3A5-ACDE-4820-8BBE-B6FFC2AC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4F3A-7E88-4219-B5DB-B95CEC79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3D77-B6E7-484F-BC91-275131B4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0E37-4427-42B8-BDF5-452FA48F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8465-4EC8-4AA9-9B7C-6773BEE0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CC08-18BF-49A4-BA28-C1A7C576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F526-21D3-43AA-90B4-F4DEB397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3F67-B46E-4293-A9F9-E4796D21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77B8-DD24-4B7D-A8DE-4C41409B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C205-E228-434B-9634-837480CB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0C43-24F9-448D-910D-85700357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A59E-F4BC-46C3-AA3E-BE742DF5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B1DE-6C98-4164-B34C-04ABBC63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3C8A-B940-441B-A6C5-62408044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5E2-0B8E-4078-87C3-ECB94466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67ED-015E-42B8-B6C5-9C11E23C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AF1-ED94-413E-B597-8D47A1D5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BEF5-2238-425D-8ECD-CBF99E14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DE2E-B163-4A51-8895-DE8907BE5B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B57D-0716-443D-9C14-8977A9BEE0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hyperlink" Target="http://epp.eurostat.ec.europa.eu/tgm/table.do?tab=table&amp;plugin=1&amp;language=en&amp;pcode=tec00118" TargetMode="External"/><Relationship Id="rId4" Type="http://schemas.openxmlformats.org/officeDocument/2006/relationships/hyperlink" Target="http://epp.eurostat.ec.europa.eu/tgm/table.do?tab=table&amp;plugin=1&amp;language=en&amp;pcode=tec00118" TargetMode="External"/><Relationship Id="rId5" Type="http://schemas.openxmlformats.org/officeDocument/2006/relationships/hyperlink" Target="http://epp.eurostat.ec.europa.eu/tgm/table.do?tab=table&amp;plugin=1&amp;language=en&amp;pcode=tec00118" TargetMode="External"/><Relationship Id="rId6" Type="http://schemas.openxmlformats.org/officeDocument/2006/relationships/hyperlink" Target="http://epp.eurostat.ec.europa.eu/tgm/table.do?tab=table&amp;plugin=1&amp;language=en&amp;pcode=tec00118" TargetMode="External"/><Relationship Id="rId7" Type="http://schemas.openxmlformats.org/officeDocument/2006/relationships/hyperlink" Target="http://epp.eurostat.ec.europa.eu/tgm/table.do?tab=table&amp;plugin=1&amp;language=en&amp;pcode=tec00118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pp.eurostat.ec.europa.eu/tgm/table.do?tab=table&amp;language=en&amp;pcode=teilm020&amp;tableSelection=1&amp;plugin=1" TargetMode="External"/><Relationship Id="rId2" Type="http://schemas.openxmlformats.org/officeDocument/2006/relationships/hyperlink" Target="http://epp.eurostat.ec.europa.eu/tgm/table.do?tab=table&amp;language=en&amp;pcode=teilm020&amp;tableSelection=1&amp;plugin=1" TargetMode="External"/><Relationship Id="rId3" Type="http://schemas.openxmlformats.org/officeDocument/2006/relationships/hyperlink" Target="http://epp.eurostat.ec.europa.eu/tgm/table.do?tab=table&amp;language=en&amp;pcode=teilm020&amp;tableSelection=1&amp;plugin=1" TargetMode="External"/><Relationship Id="rId4" Type="http://schemas.openxmlformats.org/officeDocument/2006/relationships/hyperlink" Target="http://epp.eurostat.ec.europa.eu/tgm/table.do?tab=table&amp;language=en&amp;pcode=teilm020&amp;tableSelection=1&amp;plugin=1" TargetMode="External"/><Relationship Id="rId5" Type="http://schemas.openxmlformats.org/officeDocument/2006/relationships/hyperlink" Target="http://epp.eurostat.ec.europa.eu/tgm/table.do?tab=table&amp;language=en&amp;pcode=teilm020&amp;tableSelection=1&amp;plugin=1" TargetMode="External"/><Relationship Id="rId6" Type="http://schemas.openxmlformats.org/officeDocument/2006/relationships/hyperlink" Target="http://epp.eurostat.ec.europa.eu/tgm/table.do?tab=table&amp;language=en&amp;pcode=teilm020&amp;tableSelection=1&amp;plugin=1" TargetMode="External"/><Relationship Id="rId7" Type="http://schemas.openxmlformats.org/officeDocument/2006/relationships/package" Target="../embeddings/oleObject1.xlsx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7696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Narrow"/>
              </a:rPr>
              <a:t>Bezrobocie i inflacj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24000" y="620640"/>
          <a:ext cx="8640720" cy="602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0640"/>
                    <a:ext cx="864072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: 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3"/>
              </a:rPr>
              <a:t>http:/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4"/>
              </a:rPr>
              <a:t>epp.eurostat.ec.europa.eu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5"/>
              </a:rPr>
              <a:t>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6"/>
              </a:rPr>
              <a:t>tgm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7"/>
              </a:rPr>
              <a:t>/table.do?tab=table&amp;plugin=1&amp;language=en&amp;pcode=tec00118</a:t>
            </a: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: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1"/>
              </a:rPr>
              <a:t>http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2"/>
              </a:rPr>
              <a:t>:/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3"/>
              </a:rPr>
              <a:t>epp.eurostat.ec.europa.eu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4"/>
              </a:rPr>
              <a:t>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5"/>
              </a:rPr>
              <a:t>tgm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6"/>
              </a:rPr>
              <a:t>/table.do?tab=table&amp;language=en&amp;pcode=teilm020&amp;tableSelection=1&amp;plugin=1</a:t>
            </a: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528480"/>
          <a:ext cx="9144000" cy="5988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28480"/>
                    <a:ext cx="9144000" cy="59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6:56:23Z</dcterms:created>
  <dc:creator>Borowiec</dc:creator>
  <dc:description/>
  <dc:language>en-US</dc:language>
  <cp:lastModifiedBy>Monika</cp:lastModifiedBy>
  <dcterms:modified xsi:type="dcterms:W3CDTF">2013-05-03T10:01:58Z</dcterms:modified>
  <cp:revision>19</cp:revision>
  <dc:subject/>
  <dc:title>Przyczyny i skutki bezrobocia. Bezrobocie i inflacja </dc:title>
</cp:coreProperties>
</file>