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C26B-7663-4348-AE12-79D555CA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D88C-29E4-4820-B727-0D97E60C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580E-BA20-4C34-8D51-E09B556D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E39A-A381-4FA8-9BB2-DDF5DFBE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7E4E-433A-43E7-9C65-C9DBEB84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67B9-2970-46D7-B216-EDDFCD65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1AD3-B763-4E5F-B00E-4BD453AB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F0F1-0A90-47D6-8619-1DCDC5E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6D1E-CF6A-4497-B74D-08E58F2C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BD8C-B197-4F9F-A6CC-13CEA7CD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B4D-4126-4C1A-A84C-DE376217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603B-D68B-42AC-9787-70FBEBDC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63A0-3778-4DBA-8D0B-E448E74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0BB-41E7-43D8-B0EF-37155B05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3602-DBAD-43F6-A8AA-C41722BD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63BA-AF69-4189-878D-61A43579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4E3F-44A0-43FF-A679-C5C28828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A6D0-EA6A-4C29-99EA-F35ABBA3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F9DF-2760-48D0-B905-6C0F653C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8D00-012A-44DA-851C-81B8D19F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CE89-3DA0-4593-AEAA-D36FE10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F215-9279-47F4-BCDC-6C599E79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48BB-9531-4942-83F9-76FE3B9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99D1-B8F1-4CBB-80A2-C0D90F71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3192-FA02-419A-85A9-3E37788C4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82A-2E55-43B0-A7FE-518B70F75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urope2020/index_pl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research/innovation-union/index_en.cfm" TargetMode="External"/><Relationship Id="rId2" Type="http://schemas.openxmlformats.org/officeDocument/2006/relationships/hyperlink" Target="http://europa.eu/youthonthemove/index_de.htm" TargetMode="External"/><Relationship Id="rId3" Type="http://schemas.openxmlformats.org/officeDocument/2006/relationships/hyperlink" Target="http://europa.eu/youthonthemove/index_en.htm" TargetMode="External"/><Relationship Id="rId4" Type="http://schemas.openxmlformats.org/officeDocument/2006/relationships/hyperlink" Target="http://europa.eu/youthonthemove/index_fr.h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1640" y="1828800"/>
            <a:ext cx="5859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br>
              <a:rPr sz="6000"/>
            </a:br>
            <a:r>
              <a:rPr b="0" i="1" lang="en-US" sz="4000" spc="-1" strike="noStrike">
                <a:solidFill>
                  <a:srgbClr val="003399"/>
                </a:solidFill>
                <a:latin typeface="Arial Narrow"/>
              </a:rPr>
              <a:t>unijna strategia rozwoju</a:t>
            </a:r>
            <a:r>
              <a:rPr b="0" lang="en-US" sz="50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Cele 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1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atrud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75% osób w wieku 20-64 lat powinno mieć prac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Badania i rozwó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 inwestycje w badania i rozwój powinniśmy przeznaczać 3% PKB Un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3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miany klimatu i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leży ograniczyć emisje gazów cieplarnianych o 20% w stosunku do poziomu z 1990 r. (lub nawet o 30%, jeśli warunki będą sprzyjają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0% energii powinno pochodzić ze źródeł odnawia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Efektywność energetyczna powinna wzrosnąć o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4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Eduk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Odsetek młodych ludzi przedwcześnie porzucających naukę nie powinien przekraczać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o najmniej 40% osób w wieku 30-34 powinno mieć wykształcenie wyżs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5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Ubóstwo i wykluczenie społe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mniejszenie liczby osób zagrożonych ubóstwem i wykluczeniem społecznym o co najmniej 20 m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Rzutki w środku tarczy © iStockphoto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47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16200" y="6643800"/>
            <a:ext cx="312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 Narrow"/>
              </a:rPr>
              <a:t>http://ec.europa.eu/europe2020/europe-2020-in-a-nutshell/targets/index_pl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836640"/>
          <a:ext cx="9144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17560" y="177840"/>
          <a:ext cx="8003880" cy="743040"/>
        </p:xfrm>
        <a:graphic>
          <a:graphicData uri="http://schemas.openxmlformats.org/drawingml/2006/table">
            <a:tbl>
              <a:tblPr/>
              <a:tblGrid>
                <a:gridCol w="8003880"/>
              </a:tblGrid>
              <a:tr h="74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Zróżnicowanie wskaźnika zatrudnienia w grupie wiekowej 20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lat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64 lat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 w 2011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11640" y="1773360"/>
          <a:ext cx="609480" cy="2426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07920"/>
          <a:ext cx="9144000" cy="57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17040" y="47628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wydatków na działalność badawczo-rozwojową w PKB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3933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2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836640"/>
          <a:ext cx="8820000" cy="58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88200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90120" y="450720"/>
            <a:ext cx="78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źródeł odnawialnych w całkowitym zużyciu energi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580000" y="4292640"/>
          <a:ext cx="609480" cy="2430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981000"/>
          <a:ext cx="9144000" cy="53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6680" y="476280"/>
            <a:ext cx="72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zmian emisji gazów cieplarnianych w stosunku do 1990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939960"/>
          <a:ext cx="9144000" cy="57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9960"/>
                    <a:ext cx="914400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9880" y="476280"/>
            <a:ext cx="89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młodych ludzi (18-24 lat) przedwcześnie porzucających naukę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3933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 Narrow"/>
              </a:rPr>
              <a:t>4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1197000"/>
          <a:ext cx="9144000" cy="54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84960" y="452520"/>
            <a:ext cx="73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w wieku 30-34 lat, która ukończyła kształcenia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 na poziomie ISCED 5-6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 Narrow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1052640"/>
          <a:ext cx="914400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86120" y="549360"/>
            <a:ext cx="86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zagrożonej ubóstwem i wykluczeniem społecznym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981000"/>
          <a:ext cx="8964720" cy="55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89647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199600" y="476280"/>
            <a:ext cx="44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wskaźnika deprywacj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76360" y="2997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 Narrow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5075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i Europejskiej potrzebna jest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inteligentna i zrównoważo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ospodarka sprzyjająca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łączeniu społecznem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Realizacja tych priorytetów powinna pomóc państwom członkowskim UE w uzyskaniu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zrostu zatrudnien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raz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zwiększeniu produktywności i spójności społecznej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a wyznaczyła sobie konkretny plan obejmujący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pięć celó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– w zakresie zatrudnienia, innowacji, edukacji, włączenia społecznego oraz zmian klimatu/energii – które należy osiągnąć do 2020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 każdym z tych obszarów wszystkie państwa członkowskie wyznaczyły z kolei własne cele krajow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2880" y="64008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http://ec.europa.eu/europe2020/index_pl.htm</a:t>
            </a: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ttp://ec.europa.eu/eu2020/pdf/1_PL_ACT_part1_v1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Inteligentny rozwój oznacza uzyskanie lepszych wyników w dziedzini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eduk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zachęcanie do nauki, studiów i podnoszenia kwalifikacj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badań naukowych/innow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stworzenie nowych produk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i usług, które wpłynęłyby na zwiększenie wzrostu gospodarczego i zatrudnienia oraz pomogłyby w rozwiązywaniu problemów społecznych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społeczeństwa cyfrowego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wykorzystanie technologii informacyjnych i komunikacyjn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e cele służące zapewnieniu inteligentnego rozwoju obejmuj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8200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większenie łącznego poziomu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inwestycji publicznych i prywatnych do wysokości 3% unijnego PKB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a także zapewnienie lepszych warunków dla badań i rozwoju oraz innow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w wieku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o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zmniejszeni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udziału młodych ludzi przedwcześnie porzucających naukę do poziomu poniżej 10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dążenie do tego, 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Trzy inicjatywy przewodnie</a:t>
            </a: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144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1. Europejska agenda cyfrow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Stworzenie jednolitego rynku cyfrowego opartego na szybkim i bardzo szybkim internecie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13: </a:t>
            </a:r>
            <a:r>
              <a:rPr b="0" lang="pl-PL" sz="1600" spc="-1" strike="noStrike">
                <a:solidFill>
                  <a:srgbClr val="ff9900"/>
                </a:solidFill>
                <a:latin typeface="Arial Narrow"/>
              </a:rPr>
              <a:t>szerokopasmowy dostęp do internetu dla wszystk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la wszystkich do łączy o dużo większej prędkości transmisji danych (30 Mb/s i więc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o łączy o prędkości powyżej 100 Mb/s dla co najmniej 50 proc. europejskich gospodarstw domow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2. Unia innowacji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ykorzystywanie działalności badawczo-rozwojowej i innowacyjnej do rozwiązywania najpoważniejszych problemów, jakim musi stawić czoło nasze społeczeństwo, takich jak zmiany klimatu, efektywność energetyczna i oszczędne korzystanie z zasobów, ochrona zdrowia oraz zmiany demograf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zmocnienie każdego elementu procesu innowacji, począwszy od wstępnych projektów badawczych aż po komercyjne wykorzystanie ich wyni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3. Mobilna młodzież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ułatwianie studentom i stażystom studiowania za granic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lepsze przygotowanie młodych ludzi do startu na rynku p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poprawa wyników i podniesienie atrakcyjności europejskich uczel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skonalenie wszystkich szczebli kształcenia i szkolenia (wysoki poziom akademicki, równe szans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Zrównoważony rozwój oznacza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budowa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bardziej konkurencyjnej gospodarki niskoemisyjnej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która będzie korzystać z zasobów w sposób racjonalny i oszczędn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ochronę środowiska naturalnego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ograniczenie emisji gazów cieplarnian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i zapobieganie utracie bioróżnorod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ykorzystanie pierwszoplanowej pozycji Europy do opracowania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nowych, przyjaznych dla środowiska technologi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i metod produkcj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prowadze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efektywnych, inteligentnych sieci energetycznych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wykorzystanie sieci obejmujących całą UE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do zapewnienia dodatkowej przewagi rynkowej firmom europejskim (zwłaszcza małym przedsiębiorstwom produkcyjnym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prawienie warunków dla rozwoju przedsiębiorczośc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zwłaszcz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 odniesieniu do MŚ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maganie konsumentom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w dokonywaniu świadomych wybor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Unijne cele służące zapewnieniu zrównoważonego rozwoju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o 2020 r.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ograniczenie emisji gazów cieplarnianych o 20%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stosunku do poziomu z 1990 r. UE jest gotowa postawić sobie jeszcze ambitniejszy cel ograniczenia emisji o</a:t>
            </a:r>
            <a:r>
              <a:rPr b="0" lang="pl-PL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cc3300"/>
                </a:solidFill>
                <a:latin typeface="Arial Narrow"/>
              </a:rPr>
              <a:t>3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 o ile inne kraje rozwinięte poczynią podobne zobowiązania, a kraje rozwijające się wniosą odpowiedni wkład na miarę swoich możliwości w ramach globalnego, kompleksowego porozumi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e do 20%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udziału energii z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źródeł odnawialnych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ogólnym zużyciu energi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ążenie do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a efektywności wykorzystania energii o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Rozwój sprzyjający włączeniu społecznemu oznacz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66124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dniesienie stopy zatrudnienia w Europie, czyli 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więcej lepszych miejsc pracy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zwłaszcza dla kobiet, młodych ludzi i pracowników starszych wiekiem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maganie młodym ludziom w przewidywaniu zmian i radzeniu sob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 nimi dzięki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inwestycjom w podnoszenie kwalifikacji i szkolenia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modernizację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rynków pracy i systemów opieki społecznej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gwarantowanie, że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cała UE odniesie korzyści ze wzrostu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5760" y="692280"/>
            <a:ext cx="8867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y cel służący zapewnieniu rozwoju sprzyjającego włączeniu społecznemu przewidu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w wieku 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redukowanie odsetka młodych ludzi przedwcześnie porzucających naukę do poziomu poniżej 1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ążenie do tego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mniejszenie liczby osób zagrożonych ubóstwem i wykluczeniem społecznym o co najmniej 20 mln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27:18Z</dcterms:created>
  <dc:creator>Monika</dc:creator>
  <dc:description/>
  <dc:language>en-US</dc:language>
  <cp:lastModifiedBy>ola</cp:lastModifiedBy>
  <dcterms:modified xsi:type="dcterms:W3CDTF">2013-05-30T20:07:37Z</dcterms:modified>
  <cp:revision>52</cp:revision>
  <dc:subject/>
  <dc:title>Slajd 1</dc:title>
</cp:coreProperties>
</file>