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7839-9E6D-468A-A76B-EDC890C9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479F-E7FB-4CBD-BDFD-759B11AD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8FD2-1A06-4B21-A44E-8724D072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BB62-BC6F-44BC-AED7-AE432167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CB57-47F7-4C02-8A8D-E01886E1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43CE-EF8B-415A-9EFB-2D60CA08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30DF-79E3-4B4F-A20A-000A390F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F48A-BCEA-42A2-9A60-554BD47A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F2DC-9ABE-449C-ADEC-C8FEDD16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2482-4E74-4513-9CCC-32832ED2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D653-7685-4AF7-8F67-DCB89FA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98BC-32A8-433B-AB6E-D4705941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D203-8BA4-491A-BCBE-7340FDFE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FE20-BD5D-4550-A3B0-71BBEE22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33D6-8973-4FD6-9473-F10FF0DC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3F31-DE91-47AB-B126-E3832896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78F7-F7D2-4374-A439-6F60F53E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8BB8-EE61-4CCE-9542-9471BA12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6544-68DB-4589-AAF3-5542AA6D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D261-3A94-463A-A3B9-54A2FAEF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FCA99-A528-4AA6-BD5A-41E175F9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03F3-AA7A-4C2B-8051-5162C9A2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9F18-58E0-4C07-BDF5-330E9487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D63E-635E-493E-ADE5-2DBCCDAB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DDB8-D607-4AAC-ABB5-EFF3C44301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cc6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2CCB-C2DB-4CF4-A401-351718C679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urope2020/index_pl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research/innovation-union/index_en.cfm" TargetMode="External"/><Relationship Id="rId2" Type="http://schemas.openxmlformats.org/officeDocument/2006/relationships/hyperlink" Target="http://europa.eu/youthonthemove/index_de.htm" TargetMode="External"/><Relationship Id="rId3" Type="http://schemas.openxmlformats.org/officeDocument/2006/relationships/hyperlink" Target="http://europa.eu/youthonthemove/index_en.htm" TargetMode="External"/><Relationship Id="rId4" Type="http://schemas.openxmlformats.org/officeDocument/2006/relationships/hyperlink" Target="http://europa.eu/youthonthemove/index_fr.h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1640" y="1828800"/>
            <a:ext cx="5859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3399"/>
                </a:solidFill>
                <a:latin typeface="Arial Narrow"/>
              </a:rPr>
              <a:t>Europa 2020</a:t>
            </a:r>
            <a:br>
              <a:rPr sz="6000"/>
            </a:br>
            <a:r>
              <a:rPr b="0" i="1" lang="en-US" sz="4000" spc="-1" strike="noStrike">
                <a:solidFill>
                  <a:srgbClr val="003399"/>
                </a:solidFill>
                <a:latin typeface="Arial Narrow"/>
              </a:rPr>
              <a:t>unijna strategia rozwoju</a:t>
            </a:r>
            <a:r>
              <a:rPr b="0" lang="en-US" sz="50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Narrow"/>
              </a:rPr>
              <a:t>Cele Europa 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358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1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Zatrudni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75% osób w wieku 20-64 lat powinno mieć prac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2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Badania i rozwó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Na inwestycje w badania i rozwój powinniśmy przeznaczać 3% PKB Un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3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Zmiany klimatu i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Należy ograniczyć emisje gazów cieplarnianych o 20% w stosunku do poziomu z 1990 r. (lub nawet o 30%, jeśli warunki będą sprzyjają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20% energii powinno pochodzić ze źródeł odnawial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Efektywność energetyczna powinna wzrosnąć o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4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Eduk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Odsetek młodych ludzi przedwcześnie porzucających naukę nie powinien przekraczać 1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o najmniej 40% osób w wieku 30-34 powinno mieć wykształcenie wyżs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5. 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Ubóstwo i wykluczenie społe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80000"/>
              </a:lnSpc>
              <a:spcBef>
                <a:spcPts val="4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mniejszenie liczby osób zagrożonych ubóstwem i wykluczeniem społecznym o co najmniej 20 ml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Rzutki w środku tarczy © iStockphoto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47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16200" y="6643800"/>
            <a:ext cx="312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 Narrow"/>
              </a:rPr>
              <a:t>http://ec.europa.eu/europe2020/europe-2020-in-a-nutshell/targets/index_pl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836640"/>
          <a:ext cx="914400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17560" y="177840"/>
          <a:ext cx="8003880" cy="743040"/>
        </p:xfrm>
        <a:graphic>
          <a:graphicData uri="http://schemas.openxmlformats.org/drawingml/2006/table">
            <a:tbl>
              <a:tblPr/>
              <a:tblGrid>
                <a:gridCol w="8003880"/>
              </a:tblGrid>
              <a:tr h="74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Zróżnicowanie wskaźnika zatrudnienia w grupie wiekowej 20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lat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64 lat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Arial Narrow"/>
                          <a:ea typeface="Arial"/>
                        </a:rPr>
                        <a:t> w 2011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211640" y="1773360"/>
          <a:ext cx="609480" cy="24264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07920"/>
          <a:ext cx="9144000" cy="573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17040" y="476280"/>
            <a:ext cx="82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wydatków na działalność badawczo-rozwojową w PKB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3933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2,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836640"/>
          <a:ext cx="8820000" cy="58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882000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90120" y="450720"/>
            <a:ext cx="78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źródeł odnawialnych w całkowitym zużyciu energii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580000" y="4292640"/>
          <a:ext cx="609480" cy="24300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15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981000"/>
          <a:ext cx="9144000" cy="539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976680" y="476280"/>
            <a:ext cx="72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zmian emisji gazów cieplarnianych w stosunku do 1990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939960"/>
          <a:ext cx="9144000" cy="57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9960"/>
                    <a:ext cx="9144000" cy="57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9880" y="476280"/>
            <a:ext cx="89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młodych ludzi (18-24 lat) przedwcześnie porzucających naukę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0720" y="39337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 Narrow"/>
              </a:rPr>
              <a:t>4,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0" y="1197000"/>
          <a:ext cx="9144000" cy="54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984960" y="452520"/>
            <a:ext cx="73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ludności w wieku 30-34 lat, która ukończyła kształcenia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 na poziomie ISCED 5-6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 Narrow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1052640"/>
          <a:ext cx="914400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86120" y="549360"/>
            <a:ext cx="86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udziału ludności zagrożonej ubóstwem i wykluczeniem społecznym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981000"/>
          <a:ext cx="8964720" cy="55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896472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199600" y="476280"/>
            <a:ext cx="44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Narrow"/>
              </a:rPr>
              <a:t>Zróżnicowanie wskaźnika deprywacji w 2011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61356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76360" y="299736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 Narrow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Narrow"/>
              </a:rPr>
              <a:t>Europa 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50752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i Europejskiej potrzebna jest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inteligentna i zrównoważon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gospodarka sprzyjająca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włączeniu społecznemu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Realizacja tych priorytetów powinna pomóc państwom członkowskim UE w uzyskaniu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wzrostu zatrudnien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raz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zwiększeniu produktywności i spójności społecznej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a wyznaczyła sobie konkretny plan obejmujący </a:t>
            </a:r>
            <a:r>
              <a:rPr b="0" lang="en-US" sz="2400" spc="-1" strike="noStrike">
                <a:solidFill>
                  <a:srgbClr val="ff9900"/>
                </a:solidFill>
                <a:latin typeface="Arial Narrow"/>
              </a:rPr>
              <a:t>pięć celów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– w zakresie zatrudnienia, innowacji, edukacji, włączenia społecznego oraz zmian klimatu/energii – które należy osiągnąć do 2020 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 każdym z tych obszarów wszystkie państwa członkowskie wyznaczyły z kolei własne cele krajow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2880" y="6400800"/>
            <a:ext cx="33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http://ec.europa.eu/europe2020/index_pl.htm</a:t>
            </a: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ttp://ec.europa.eu/eu2020/pdf/1_PL_ACT_part1_v1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Inteligentny rozwój oznacza uzyskanie lepszych wyników w dziedzini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edukacji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zachęcanie do nauki, studiów i podnoszenia kwalifikacj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badań naukowych/innowacji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stworzenie nowych produkt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i usług, które wpłynęłyby na zwiększenie wzrostu gospodarczego i zatrudnienia oraz pomogłyby w rozwiązywaniu problemów społecznych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Narrow"/>
              </a:rPr>
              <a:t>społeczeństwa cyfrowego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wykorzystanie technologii informacyjnych i komunikacyjny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Unijne cele służące zapewnieniu inteligentnego rozwoju obejmują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8200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większenie łącznego poziomu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inwestycji publicznych i prywatnych do wysokości 3% unijnego PKB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, a także zapewnienie lepszych warunków dla badań i rozwoju oraz innow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podwyższenie wskaźnika zatrudnienia kobiet i mężczyzn w wieku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20-64 lat do 75%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o 2020 r. poprzez wprowadzenie większej liczby osób na rynek pracy, zwłaszcza kobiet, młodzieży, osób starszych, pracowników niskowykwalifikowanych i legalnych imigra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pewnienie lepszego poziomu wykształcenia – zwłaszcz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 zmniejszenie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udziału młodych ludzi przedwcześnie porzucających naukę do poziomu poniżej 10%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 dążenie do tego, by co najmniej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40% osób w wieku 30–34 lat miało wykształcenie wyższe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lub równoważ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Narrow"/>
              </a:rPr>
              <a:t>Trzy inicjatywy przewodnie</a:t>
            </a: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91440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1. Europejska agenda cyfrow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Stworzenie jednolitego rynku cyfrowego opartego na szybkim i bardzo szybkim internecie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13: </a:t>
            </a:r>
            <a:r>
              <a:rPr b="0" lang="pl-PL" sz="1600" spc="-1" strike="noStrike">
                <a:solidFill>
                  <a:srgbClr val="ff9900"/>
                </a:solidFill>
                <a:latin typeface="Arial Narrow"/>
              </a:rPr>
              <a:t>szerokopasmowy dostęp do internetu dla wszystk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20: dostęp dla wszystkich do łączy o dużo większej prędkości transmisji danych (30 Mb/s i więc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 roku 2020: dostęp do łączy o prędkości powyżej 100 Mb/s dla co najmniej 50 proc. europejskich gospodarstw domow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2. Unia innowacji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wykorzystywanie działalności badawczo-rozwojowej i innowacyjnej do rozwiązywania najpoważniejszych problemów, jakim musi stawić czoło nasze społeczeństwo, takich jak zmiany klimatu, efektywność energetyczna i oszczędne korzystanie z zasobów, ochrona zdrowia oraz zmiany demografi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wzmocnienie każdego elementu procesu innowacji, począwszy od wstępnych projektów badawczych aż po komercyjne wykorzystanie ich wynik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Arial Narrow"/>
              </a:rPr>
              <a:t>3. Mobilna młodzież 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 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3"/>
              </a:rPr>
              <a:t> </a:t>
            </a:r>
            <a:r>
              <a:rPr b="0" lang="pl-PL" sz="2000" spc="-1" strike="noStrike" u="sng">
                <a:solidFill>
                  <a:srgbClr val="cc3300"/>
                </a:solidFill>
                <a:uFillTx/>
                <a:latin typeface="Arial Narrow"/>
                <a:hlinkClick r:id="rId4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ułatwianie studentom i stażystom studiowania za granic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lepsze przygotowanie młodych ludzi do startu na rynku p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poprawa wyników i podniesienie atrakcyjności europejskich uczel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Narrow"/>
              </a:rPr>
              <a:t>doskonalenie wszystkich szczebli kształcenia i szkolenia (wysoki poziom akademicki, równe szans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Zrównoważony rozwój oznacza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budowanie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bardziej konkurencyjnej gospodarki niskoemisyjnej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która będzie korzystać z zasobów w sposób racjonalny i oszczędn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ochronę środowiska naturalnego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ograniczenie emisji gazów cieplarnian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i zapobieganie utracie bioróżnorodnośc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ykorzystanie pierwszoplanowej pozycji Europy do opracowania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nowych, przyjaznych dla środowiska technologii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i metod produkcj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prowadzenie </a:t>
            </a: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efektywnych, inteligentnych sieci energetycznych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wykorzystanie sieci obejmujących całą UE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do zapewnienia dodatkowej przewagi rynkowej firmom europejskim (zwłaszcza małym przedsiębiorstwom produkcyjnym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poprawienie warunków dla rozwoju przedsiębiorczości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, zwłaszcz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w odniesieniu do MŚP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 Narrow"/>
              </a:rPr>
              <a:t>pomaganie konsumentom</a:t>
            </a:r>
            <a:r>
              <a:rPr b="0" lang="pl-PL" sz="2200" spc="-1" strike="noStrike">
                <a:solidFill>
                  <a:srgbClr val="000000"/>
                </a:solidFill>
                <a:latin typeface="Arial Narrow"/>
              </a:rPr>
              <a:t> w dokonywaniu świadomych wybor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Unijne cele służące zapewnieniu zrównoważonego rozwoju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6944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do 2020 r.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ograniczenie emisji gazów cieplarnianych o 20%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 stosunku do poziomu z 1990 r. UE jest gotowa postawić sobie jeszcze ambitniejszy cel ograniczenia emisji o</a:t>
            </a:r>
            <a:r>
              <a:rPr b="0" lang="pl-PL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pl-PL" sz="2400" spc="-1" strike="noStrike">
                <a:solidFill>
                  <a:srgbClr val="cc3300"/>
                </a:solidFill>
                <a:latin typeface="Arial Narrow"/>
              </a:rPr>
              <a:t>30%,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 o ile inne kraje rozwinięte poczynią podobne zobowiązania, a kraje rozwijające się wniosą odpowiedni wkład na miarę swoich możliwości w ramach globalnego, kompleksowego porozumi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większenie do 20%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udziału energii ze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źródeł odnawialnych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w ogólnym zużyciu energi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dążenie do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większenia efektywności wykorzystania energii o 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Narrow"/>
              </a:rPr>
              <a:t>Rozwój sprzyjający włączeniu społecznemu oznacz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66124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podniesienie stopy zatrudnienia w Europie, czyli 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więcej lepszych miejsc pracy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, zwłaszcza dla kobiet, młodych ludzi i pracowników starszych wiekiem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pomaganie młodym ludziom w przewidywaniu zmian i radzeniu sob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 nimi dzięki 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inwestycjom w podnoszenie kwalifikacji i szkolenia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modernizację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rynków pracy i systemów opieki społecznej</a:t>
            </a:r>
            <a:r>
              <a:rPr b="0" lang="pl-PL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gwarantowanie, że </a:t>
            </a:r>
            <a:r>
              <a:rPr b="1" lang="pl-PL" sz="2400" spc="-1" strike="noStrike">
                <a:solidFill>
                  <a:srgbClr val="000000"/>
                </a:solidFill>
                <a:latin typeface="Arial Narrow"/>
              </a:rPr>
              <a:t>cała UE odniesie korzyści ze wzrostu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5760" y="692280"/>
            <a:ext cx="8867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Unijny cel służący zapewnieniu rozwoju sprzyjającego włączeniu społecznemu przewiduj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964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podwyższenie wskaźnika zatrudnienia kobiet i mężczyzn </a:t>
            </a:r>
            <a:br>
              <a:rPr sz="2400"/>
            </a:b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w wieku 20-64 lat do 75%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o 2020 r. przez wprowadzenie większej liczby osób na rynek pracy, zwłaszcza kobiet, młodzieży, osób starszych, pracowników niskowykwalifikowanych i legalnych imigra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zapewnienie lepszego poziomu wykształcenia – zwłaszcz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–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redukowanie odsetka młodych ludzi przedwcześnie porzucających naukę do poziomu poniżej 10%,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 dążenie do tego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by co najmniej </a:t>
            </a: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40% osób w wieku 30–34 lat miało wykształcenie wyższe</a:t>
            </a:r>
            <a:r>
              <a:rPr b="0" lang="pl-PL" sz="2400" spc="-1" strike="noStrike">
                <a:solidFill>
                  <a:srgbClr val="ff9900"/>
                </a:solidFill>
                <a:latin typeface="Arial Narrow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(lub równoważn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9900"/>
                </a:solidFill>
                <a:latin typeface="Arial Narrow"/>
              </a:rPr>
              <a:t>zmniejszenie liczby osób zagrożonych ubóstwem i wykluczeniem społecznym o co najmniej 20 mln</a:t>
            </a:r>
            <a:r>
              <a:rPr b="0" lang="pl-PL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9:27:18Z</dcterms:created>
  <dc:creator>Monika</dc:creator>
  <dc:description/>
  <dc:language>en-US</dc:language>
  <cp:lastModifiedBy>ola</cp:lastModifiedBy>
  <dcterms:modified xsi:type="dcterms:W3CDTF">2013-05-30T20:07:37Z</dcterms:modified>
  <cp:revision>52</cp:revision>
  <dc:subject/>
  <dc:title>Slajd 1</dc:title>
</cp:coreProperties>
</file>