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64153F-C913-46C2-8F3A-36F84CD5A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2C21DA-7EC2-4FCE-820D-55773635F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5A168C-2037-439A-B8B1-5F33BDFEB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C3CF07-F930-4F6E-825B-74D4FFC36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65E91-6781-442F-B14A-B3E068379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C66CA-AC41-46B9-BE78-DE385EB46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7C748-01EB-4569-98C8-45891ABA0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1A53C-4F03-43A9-B8A2-D0AA982B7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9848D-8EE5-4AA5-9D0A-04BE54947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BE121-4820-45D5-A725-E11ECF7A8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A192F-BE87-43FD-9508-CD5F1C1E5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52EF6D-7182-46CE-95E4-B278FD2A1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33FC0-496E-43A2-A9A4-4B7FE8F72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CEABB-2294-4C24-8C6E-C5BB054C3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69D4E-E488-45B8-B131-D1BA71D8F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D72E7-9397-4975-88B6-79B4EB065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AEC1D-9AB7-427E-9802-03CC32178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B55EA1-4841-4BAD-8BF5-52570AE54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DC6632-FFA1-439B-A617-99AAAC010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30F875-BE80-4AEA-B610-95BC59659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E5B601-ABA2-418C-8D38-AD7316541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2D386C-2EC8-4744-8AA4-4FF74B9FA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0C5026-C115-408B-BC92-5E86B15CB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38BB7D-7AFD-4BE7-BA55-D10F97F7F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0F357-F5E2-41DB-969F-BACF09751D5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cc6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9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fcc6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fcc6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fba3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fcc6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fba3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fba3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fba313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fba313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cc6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fba3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fcc6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fcc6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fba3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fcc6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fba3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fcc6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fba3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D765C-1960-4887-A48F-58D1C55160D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ba313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ec.europa.eu/europe2020/index_pl.htm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ec.europa.eu/research/innovation-union/index_en.cfm" TargetMode="External"/><Relationship Id="rId2" Type="http://schemas.openxmlformats.org/officeDocument/2006/relationships/hyperlink" Target="http://europa.eu/youthonthemove/index_de.htm" TargetMode="External"/><Relationship Id="rId3" Type="http://schemas.openxmlformats.org/officeDocument/2006/relationships/hyperlink" Target="http://europa.eu/youthonthemove/index_en.htm" TargetMode="External"/><Relationship Id="rId4" Type="http://schemas.openxmlformats.org/officeDocument/2006/relationships/hyperlink" Target="http://europa.eu/youthonthemove/index_fr.htm" TargetMode="External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131640" y="1828800"/>
            <a:ext cx="58597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3399"/>
                </a:solidFill>
                <a:latin typeface="Arial Narrow"/>
              </a:rPr>
              <a:t>Europa 2020</a:t>
            </a:r>
            <a:br>
              <a:rPr sz="6000"/>
            </a:br>
            <a:r>
              <a:rPr b="0" i="1" lang="en-US" sz="4000" spc="-1" strike="noStrike">
                <a:solidFill>
                  <a:srgbClr val="003399"/>
                </a:solidFill>
                <a:latin typeface="Arial Narrow"/>
              </a:rPr>
              <a:t>unijna strategia rozwoju</a:t>
            </a:r>
            <a:r>
              <a:rPr b="0" lang="en-US" sz="5000" spc="-1" strike="noStrike">
                <a:solidFill>
                  <a:srgbClr val="003399"/>
                </a:solidFill>
                <a:latin typeface="Arial Narrow"/>
              </a:rPr>
              <a:t> 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 Narrow"/>
              </a:rPr>
              <a:t>Cele Europa 202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435880" cy="42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542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 Narrow"/>
              </a:rPr>
              <a:t>1. </a:t>
            </a:r>
            <a:r>
              <a:rPr b="1" lang="pl-PL" sz="2000" spc="-1" strike="noStrike">
                <a:solidFill>
                  <a:srgbClr val="000000"/>
                </a:solidFill>
                <a:latin typeface="Arial Narrow"/>
              </a:rPr>
              <a:t>Zatrudnien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81640" indent="-474480">
              <a:lnSpc>
                <a:spcPct val="80000"/>
              </a:lnSpc>
              <a:spcBef>
                <a:spcPts val="499"/>
              </a:spcBef>
              <a:buClr>
                <a:srgbClr val="fba313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 Narrow"/>
              </a:rPr>
              <a:t>75% osób w wieku 20-64 lat powinno mieć pracę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2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 Narrow"/>
              </a:rPr>
              <a:t>2. </a:t>
            </a:r>
            <a:r>
              <a:rPr b="1" lang="pl-PL" sz="2000" spc="-1" strike="noStrike">
                <a:solidFill>
                  <a:srgbClr val="000000"/>
                </a:solidFill>
                <a:latin typeface="Arial Narrow"/>
              </a:rPr>
              <a:t>Badania i rozwó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81640" indent="-474480">
              <a:lnSpc>
                <a:spcPct val="80000"/>
              </a:lnSpc>
              <a:spcBef>
                <a:spcPts val="499"/>
              </a:spcBef>
              <a:buClr>
                <a:srgbClr val="fba313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 Narrow"/>
              </a:rPr>
              <a:t>Na inwestycje w badania i rozwój powinniśmy przeznaczać 3% PKB Uni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2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 Narrow"/>
              </a:rPr>
              <a:t>3. </a:t>
            </a:r>
            <a:r>
              <a:rPr b="1" lang="pl-PL" sz="2000" spc="-1" strike="noStrike">
                <a:solidFill>
                  <a:srgbClr val="000000"/>
                </a:solidFill>
                <a:latin typeface="Arial Narrow"/>
              </a:rPr>
              <a:t>Zmiany klimatu i energ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81640" indent="-474480">
              <a:lnSpc>
                <a:spcPct val="80000"/>
              </a:lnSpc>
              <a:spcBef>
                <a:spcPts val="499"/>
              </a:spcBef>
              <a:buClr>
                <a:srgbClr val="fba313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 Narrow"/>
              </a:rPr>
              <a:t>Należy ograniczyć emisje gazów cieplarnianych o 20% w stosunku do poziomu z 1990 r. (lub nawet o 30%, jeśli warunki będą sprzyjając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81640" indent="-474480">
              <a:lnSpc>
                <a:spcPct val="80000"/>
              </a:lnSpc>
              <a:spcBef>
                <a:spcPts val="499"/>
              </a:spcBef>
              <a:buClr>
                <a:srgbClr val="fba313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 Narrow"/>
              </a:rPr>
              <a:t>20% energii powinno pochodzić ze źródeł odnawialnyc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81640" indent="-474480">
              <a:lnSpc>
                <a:spcPct val="80000"/>
              </a:lnSpc>
              <a:spcBef>
                <a:spcPts val="499"/>
              </a:spcBef>
              <a:buClr>
                <a:srgbClr val="fba313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 Narrow"/>
              </a:rPr>
              <a:t>Efektywność energetyczna powinna wzrosnąć o 20%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2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 Narrow"/>
              </a:rPr>
              <a:t>4. </a:t>
            </a:r>
            <a:r>
              <a:rPr b="1" lang="pl-PL" sz="2000" spc="-1" strike="noStrike">
                <a:solidFill>
                  <a:srgbClr val="000000"/>
                </a:solidFill>
                <a:latin typeface="Arial Narrow"/>
              </a:rPr>
              <a:t>Edukac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81640" indent="-474480">
              <a:lnSpc>
                <a:spcPct val="80000"/>
              </a:lnSpc>
              <a:spcBef>
                <a:spcPts val="499"/>
              </a:spcBef>
              <a:buClr>
                <a:srgbClr val="fba313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 Narrow"/>
              </a:rPr>
              <a:t>Odsetek młodych ludzi przedwcześnie porzucających naukę nie powinien przekraczać 10%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81640" indent="-474480">
              <a:lnSpc>
                <a:spcPct val="80000"/>
              </a:lnSpc>
              <a:spcBef>
                <a:spcPts val="499"/>
              </a:spcBef>
              <a:buClr>
                <a:srgbClr val="fba313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 Narrow"/>
              </a:rPr>
              <a:t>Co najmniej 40% osób w wieku 30-34 powinno mieć wykształcenie wyższ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2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 Narrow"/>
              </a:rPr>
              <a:t>5. </a:t>
            </a:r>
            <a:r>
              <a:rPr b="1" lang="pl-PL" sz="2000" spc="-1" strike="noStrike">
                <a:solidFill>
                  <a:srgbClr val="000000"/>
                </a:solidFill>
                <a:latin typeface="Arial Narrow"/>
              </a:rPr>
              <a:t>Ubóstwo i wykluczenie społecz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81640" indent="-474480">
              <a:lnSpc>
                <a:spcPct val="80000"/>
              </a:lnSpc>
              <a:spcBef>
                <a:spcPts val="499"/>
              </a:spcBef>
              <a:buClr>
                <a:srgbClr val="fba313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 Narrow"/>
              </a:rPr>
              <a:t>Zmniejszenie liczby osób zagrożonych ubóstwem i wykluczeniem społecznym o co najmniej 20 ml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2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Rzutki w środku tarczy © iStockphoto"/>
          <p:cNvPicPr/>
          <p:nvPr/>
        </p:nvPicPr>
        <p:blipFill>
          <a:blip r:embed="rId1"/>
          <a:stretch/>
        </p:blipFill>
        <p:spPr>
          <a:xfrm>
            <a:off x="7451640" y="0"/>
            <a:ext cx="1692360" cy="11476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16200" y="6643800"/>
            <a:ext cx="3123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Arial Narrow"/>
              </a:rPr>
              <a:t>http://ec.europa.eu/europe2020/europe-2020-in-a-nutshell/targets/index_pl.ht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5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0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5" dur="500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8" dur="500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1" dur="500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6" dur="500"/>
                                        <p:tgtEl>
                                          <p:spTgt spid="1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" dur="500"/>
                                        <p:tgtEl>
                                          <p:spTgt spid="1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4" dur="500"/>
                                        <p:tgtEl>
                                          <p:spTgt spid="12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8" name=""/>
          <p:cNvGraphicFramePr/>
          <p:nvPr/>
        </p:nvGraphicFramePr>
        <p:xfrm>
          <a:off x="0" y="836640"/>
          <a:ext cx="9144000" cy="583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836640"/>
                    <a:ext cx="9144000" cy="583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817560" y="177840"/>
          <a:ext cx="8003880" cy="743040"/>
        </p:xfrm>
        <a:graphic>
          <a:graphicData uri="http://schemas.openxmlformats.org/drawingml/2006/table">
            <a:tbl>
              <a:tblPr/>
              <a:tblGrid>
                <a:gridCol w="8003880"/>
              </a:tblGrid>
              <a:tr h="7430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Arial Narrow"/>
                          <a:ea typeface="Arial"/>
                        </a:rPr>
                        <a:t>Zróżnicowanie wskaźnika zatrudnienia w grupie wiekowej 20</a:t>
                      </a: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Arial"/>
                          <a:ea typeface="Arial"/>
                        </a:rPr>
                        <a:t> lat </a:t>
                      </a: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Arial Narrow"/>
                          <a:ea typeface="Arial"/>
                        </a:rPr>
                        <a:t>-</a:t>
                      </a: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Arial Narrow"/>
                          <a:ea typeface="Arial"/>
                        </a:rPr>
                        <a:t>64 lat</a:t>
                      </a: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Arial"/>
                          <a:ea typeface="Arial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Arial Narrow"/>
                          <a:ea typeface="Arial"/>
                        </a:rPr>
                        <a:t> w 2011 r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1" name=""/>
          <p:cNvSpPr/>
          <p:nvPr/>
        </p:nvSpPr>
        <p:spPr>
          <a:xfrm>
            <a:off x="0" y="6613560"/>
            <a:ext cx="4897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 Narrow"/>
              </a:rPr>
              <a:t>Źródło: opracowanie własne na podstawie danych Eurostatu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4211640" y="1773360"/>
          <a:ext cx="609480" cy="242640"/>
        </p:xfrm>
        <a:graphic>
          <a:graphicData uri="http://schemas.openxmlformats.org/drawingml/2006/table">
            <a:tbl>
              <a:tblPr/>
              <a:tblGrid>
                <a:gridCol w="609480"/>
              </a:tblGrid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7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3" name=""/>
          <p:cNvGraphicFramePr/>
          <p:nvPr/>
        </p:nvGraphicFramePr>
        <p:xfrm>
          <a:off x="0" y="907920"/>
          <a:ext cx="9144000" cy="5734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07920"/>
                    <a:ext cx="9144000" cy="573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"/>
          <p:cNvSpPr/>
          <p:nvPr/>
        </p:nvSpPr>
        <p:spPr>
          <a:xfrm>
            <a:off x="617040" y="476280"/>
            <a:ext cx="823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 Narrow"/>
              </a:rPr>
              <a:t>Zróżnicowanie udziału wydatków na działalność badawczo-rozwojową w PKB w 2011 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6613560"/>
            <a:ext cx="4897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 Narrow"/>
              </a:rPr>
              <a:t>Źródło: opracowanie własne na podstawie danych Eurostatu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804000" y="3933720"/>
            <a:ext cx="79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 Narrow"/>
              </a:rPr>
              <a:t>2,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8" name=""/>
          <p:cNvGraphicFramePr/>
          <p:nvPr/>
        </p:nvGraphicFramePr>
        <p:xfrm>
          <a:off x="0" y="836640"/>
          <a:ext cx="8820000" cy="5838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836640"/>
                    <a:ext cx="8820000" cy="583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" name=""/>
          <p:cNvSpPr/>
          <p:nvPr/>
        </p:nvSpPr>
        <p:spPr>
          <a:xfrm>
            <a:off x="690120" y="450720"/>
            <a:ext cx="781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 Narrow"/>
              </a:rPr>
              <a:t>Zróżnicowanie udziału źródeł odnawialnych w całkowitym zużyciu energii w 2011 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6613560"/>
            <a:ext cx="4897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 Narrow"/>
              </a:rPr>
              <a:t>Źródło: opracowanie własne na podstawie danych Eurostatu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5580000" y="4292640"/>
          <a:ext cx="609480" cy="243000"/>
        </p:xfrm>
        <a:graphic>
          <a:graphicData uri="http://schemas.openxmlformats.org/drawingml/2006/table">
            <a:tbl>
              <a:tblPr/>
              <a:tblGrid>
                <a:gridCol w="609480"/>
              </a:tblGrid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15%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3" name=""/>
          <p:cNvGraphicFramePr/>
          <p:nvPr/>
        </p:nvGraphicFramePr>
        <p:xfrm>
          <a:off x="0" y="981000"/>
          <a:ext cx="9144000" cy="5392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81000"/>
                    <a:ext cx="9144000" cy="539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"/>
          <p:cNvSpPr/>
          <p:nvPr/>
        </p:nvSpPr>
        <p:spPr>
          <a:xfrm>
            <a:off x="976680" y="476280"/>
            <a:ext cx="720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 Narrow"/>
              </a:rPr>
              <a:t>Zróżnicowanie zmian emisji gazów cieplarnianych w stosunku do 1990 rok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6613560"/>
            <a:ext cx="4897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 Narrow"/>
              </a:rPr>
              <a:t>Źródło: opracowanie własne na podstawie danych Eurostatu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7" name=""/>
          <p:cNvGraphicFramePr/>
          <p:nvPr/>
        </p:nvGraphicFramePr>
        <p:xfrm>
          <a:off x="0" y="939960"/>
          <a:ext cx="9144000" cy="5713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39960"/>
                    <a:ext cx="9144000" cy="571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" name=""/>
          <p:cNvSpPr/>
          <p:nvPr/>
        </p:nvSpPr>
        <p:spPr>
          <a:xfrm>
            <a:off x="0" y="6613560"/>
            <a:ext cx="4897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 Narrow"/>
              </a:rPr>
              <a:t>Źródło: opracowanie własne na podstawie danych Eurostatu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09880" y="476280"/>
            <a:ext cx="892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 Narrow"/>
              </a:rPr>
              <a:t>Zróżnicowanie udziału młodych ludzi (18-24 lat) przedwcześnie porzucających naukę w 2011 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740720" y="3933720"/>
            <a:ext cx="431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3300"/>
                </a:solidFill>
                <a:latin typeface="Arial Narrow"/>
              </a:rPr>
              <a:t>4,5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2" name=""/>
          <p:cNvGraphicFramePr/>
          <p:nvPr/>
        </p:nvGraphicFramePr>
        <p:xfrm>
          <a:off x="0" y="1197000"/>
          <a:ext cx="9144000" cy="5432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197000"/>
                    <a:ext cx="9144000" cy="543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4" name=""/>
          <p:cNvSpPr/>
          <p:nvPr/>
        </p:nvSpPr>
        <p:spPr>
          <a:xfrm>
            <a:off x="984960" y="452520"/>
            <a:ext cx="7372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 Narrow"/>
              </a:rPr>
              <a:t>Zróżnicowanie udziału ludności w wieku 30-34 lat, która ukończyła kształcenia</a:t>
            </a:r>
            <a:br>
              <a:rPr sz="2000"/>
            </a:br>
            <a:r>
              <a:rPr b="0" lang="en-US" sz="2000" spc="-1" strike="noStrike">
                <a:solidFill>
                  <a:srgbClr val="003399"/>
                </a:solidFill>
                <a:latin typeface="Arial Narrow"/>
              </a:rPr>
              <a:t> na poziomie ISCED 5-6 w 2011 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6613560"/>
            <a:ext cx="4897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 Narrow"/>
              </a:rPr>
              <a:t>Źródło: opracowanie własne na podstawie danych Eurostatu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076720" y="2349360"/>
            <a:ext cx="79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Arial Narrow"/>
              </a:rPr>
              <a:t>4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7" name=""/>
          <p:cNvGraphicFramePr/>
          <p:nvPr/>
        </p:nvGraphicFramePr>
        <p:xfrm>
          <a:off x="0" y="1052640"/>
          <a:ext cx="9144000" cy="528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052640"/>
                    <a:ext cx="9144000" cy="528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" name=""/>
          <p:cNvSpPr/>
          <p:nvPr/>
        </p:nvSpPr>
        <p:spPr>
          <a:xfrm>
            <a:off x="186120" y="549360"/>
            <a:ext cx="866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 Narrow"/>
              </a:rPr>
              <a:t>Zróżnicowanie udziału ludności zagrożonej ubóstwem i wykluczeniem społecznym w 2011 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6613560"/>
            <a:ext cx="4897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 Narrow"/>
              </a:rPr>
              <a:t>Źródło: opracowanie własne na podstawie danych Eurostatu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1" name=""/>
          <p:cNvGraphicFramePr/>
          <p:nvPr/>
        </p:nvGraphicFramePr>
        <p:xfrm>
          <a:off x="0" y="981000"/>
          <a:ext cx="8964720" cy="5537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81000"/>
                    <a:ext cx="8964720" cy="553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3" name=""/>
          <p:cNvSpPr/>
          <p:nvPr/>
        </p:nvSpPr>
        <p:spPr>
          <a:xfrm>
            <a:off x="2199600" y="476280"/>
            <a:ext cx="449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 Narrow"/>
              </a:rPr>
              <a:t>Zróżnicowanie wskaźnika deprywacji w 2011 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6613560"/>
            <a:ext cx="4897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 Narrow"/>
              </a:rPr>
              <a:t>Źródło: opracowanie własne na podstawie danych Eurostatu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476360" y="2997360"/>
            <a:ext cx="612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3399"/>
                </a:solidFill>
                <a:latin typeface="Arial Narrow"/>
              </a:rPr>
              <a:t>Dziękuję za uwag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524160" y="524160"/>
            <a:ext cx="8095680" cy="12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 Narrow"/>
              </a:rPr>
              <a:t>Europa 202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95280" y="1915920"/>
            <a:ext cx="8507520" cy="44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Unii Europejskiej potrzebna jest </a:t>
            </a:r>
            <a:r>
              <a:rPr b="0" lang="en-US" sz="2400" spc="-1" strike="noStrike">
                <a:solidFill>
                  <a:srgbClr val="ff9900"/>
                </a:solidFill>
                <a:latin typeface="Arial Narrow"/>
              </a:rPr>
              <a:t>inteligentna i zrównoważona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gospodarka sprzyjająca </a:t>
            </a:r>
            <a:r>
              <a:rPr b="0" lang="en-US" sz="2400" spc="-1" strike="noStrike">
                <a:solidFill>
                  <a:srgbClr val="ff9900"/>
                </a:solidFill>
                <a:latin typeface="Arial Narrow"/>
              </a:rPr>
              <a:t>włączeniu społecznemu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. Realizacja tych priorytetów powinna pomóc państwom członkowskim UE w uzyskaniu </a:t>
            </a:r>
            <a:r>
              <a:rPr b="0" lang="en-US" sz="2400" spc="-1" strike="noStrike">
                <a:solidFill>
                  <a:srgbClr val="ff9900"/>
                </a:solidFill>
                <a:latin typeface="Arial Narrow"/>
              </a:rPr>
              <a:t>wzrostu zatrudnienia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oraz </a:t>
            </a:r>
            <a:r>
              <a:rPr b="0" lang="en-US" sz="2400" spc="-1" strike="noStrike">
                <a:solidFill>
                  <a:srgbClr val="ff9900"/>
                </a:solidFill>
                <a:latin typeface="Arial Narrow"/>
              </a:rPr>
              <a:t>zwiększeniu produktywności i spójności społecznej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Unia wyznaczyła sobie konkretny plan obejmujący </a:t>
            </a:r>
            <a:r>
              <a:rPr b="0" lang="en-US" sz="2400" spc="-1" strike="noStrike">
                <a:solidFill>
                  <a:srgbClr val="ff9900"/>
                </a:solidFill>
                <a:latin typeface="Arial Narrow"/>
              </a:rPr>
              <a:t>pięć celów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– w zakresie zatrudnienia, innowacji, edukacji, włączenia społecznego oraz zmian klimatu/energii – które należy osiągnąć do 2020 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W każdym z tych obszarów wszystkie państwa członkowskie wyznaczyły z kolei własne cele krajowe.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-2880" y="6400800"/>
            <a:ext cx="3315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 u="sng">
                <a:solidFill>
                  <a:srgbClr val="cc3300"/>
                </a:solidFill>
                <a:uFillTx/>
                <a:latin typeface="Arial Narrow"/>
                <a:hlinkClick r:id="rId1"/>
              </a:rPr>
              <a:t>http://ec.europa.eu/europe2020/index_pl.htm</a:t>
            </a:r>
            <a:r>
              <a:rPr b="0" lang="pl-PL" sz="1200" spc="-1" strike="noStrike">
                <a:solidFill>
                  <a:srgbClr val="000000"/>
                </a:solidFill>
                <a:latin typeface="Arial Narrow"/>
              </a:rPr>
              <a:t>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 Narrow"/>
              </a:rPr>
              <a:t>http://ec.europa.eu/eu2020/pdf/1_PL_ACT_part1_v1.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 Narrow"/>
              </a:rPr>
              <a:t>Inteligentny rozwój oznacza uzyskanie lepszych wyników w dziedzinie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24000" y="2133360"/>
            <a:ext cx="8820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 Narrow"/>
              </a:rPr>
              <a:t>edukacji</a:t>
            </a:r>
            <a:r>
              <a:rPr b="0" lang="pl-PL" sz="2800" spc="-1" strike="noStrike">
                <a:solidFill>
                  <a:srgbClr val="000000"/>
                </a:solidFill>
                <a:latin typeface="Arial Narrow"/>
              </a:rPr>
              <a:t> </a:t>
            </a:r>
            <a:r>
              <a:rPr b="0" lang="pl-PL" sz="2400" spc="-1" strike="noStrike">
                <a:solidFill>
                  <a:srgbClr val="000000"/>
                </a:solidFill>
                <a:latin typeface="Arial Narrow"/>
              </a:rPr>
              <a:t>(zachęcanie do nauki, studiów i podnoszenia kwalifikacji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 Narrow"/>
              </a:rPr>
              <a:t>badań naukowych/innowacji</a:t>
            </a:r>
            <a:r>
              <a:rPr b="0" lang="pl-PL" sz="2800" spc="-1" strike="noStrike">
                <a:solidFill>
                  <a:srgbClr val="000000"/>
                </a:solidFill>
                <a:latin typeface="Arial Narrow"/>
              </a:rPr>
              <a:t> </a:t>
            </a:r>
            <a:r>
              <a:rPr b="0" lang="pl-PL" sz="2400" spc="-1" strike="noStrike">
                <a:solidFill>
                  <a:srgbClr val="000000"/>
                </a:solidFill>
                <a:latin typeface="Arial Narrow"/>
              </a:rPr>
              <a:t>(stworzenie nowych produktów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Arial Narrow"/>
              </a:rPr>
              <a:t>i usług, które wpłynęłyby na zwiększenie wzrostu gospodarczego i zatrudnienia oraz pomogłyby w rozwiązywaniu problemów społecznych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 Narrow"/>
              </a:rPr>
              <a:t>społeczeństwa cyfrowego</a:t>
            </a:r>
            <a:r>
              <a:rPr b="0" lang="pl-PL" sz="2800" spc="-1" strike="noStrike">
                <a:solidFill>
                  <a:srgbClr val="000000"/>
                </a:solidFill>
                <a:latin typeface="Arial Narrow"/>
              </a:rPr>
              <a:t> </a:t>
            </a:r>
            <a:r>
              <a:rPr b="0" lang="pl-PL" sz="2400" spc="-1" strike="noStrike">
                <a:solidFill>
                  <a:srgbClr val="000000"/>
                </a:solidFill>
                <a:latin typeface="Arial Narrow"/>
              </a:rPr>
              <a:t>(wykorzystanie technologii informacyjnych i komunikacyjnyc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 Narrow"/>
              </a:rPr>
              <a:t>Unijne cele służące zapewnieniu inteligentnego rozwoju obejmują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24000" y="1844640"/>
            <a:ext cx="8820000" cy="46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 Narrow"/>
              </a:rPr>
              <a:t>zwiększenie łącznego poziomu </a:t>
            </a:r>
            <a:r>
              <a:rPr b="1" lang="pl-PL" sz="2400" spc="-1" strike="noStrike">
                <a:solidFill>
                  <a:srgbClr val="ff9900"/>
                </a:solidFill>
                <a:latin typeface="Arial Narrow"/>
              </a:rPr>
              <a:t>inwestycji publicznych i prywatnych do wysokości 3% unijnego PKB</a:t>
            </a:r>
            <a:r>
              <a:rPr b="0" lang="pl-PL" sz="2400" spc="-1" strike="noStrike">
                <a:solidFill>
                  <a:srgbClr val="000000"/>
                </a:solidFill>
                <a:latin typeface="Arial Narrow"/>
              </a:rPr>
              <a:t>, a także zapewnienie lepszych warunków dla badań i rozwoju oraz innowacji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9900"/>
                </a:solidFill>
                <a:latin typeface="Arial Narrow"/>
              </a:rPr>
              <a:t>podwyższenie wskaźnika zatrudnienia kobiet i mężczyzn w wieku </a:t>
            </a:r>
            <a:br>
              <a:rPr sz="2400"/>
            </a:br>
            <a:r>
              <a:rPr b="1" lang="pl-PL" sz="2400" spc="-1" strike="noStrike">
                <a:solidFill>
                  <a:srgbClr val="ff9900"/>
                </a:solidFill>
                <a:latin typeface="Arial Narrow"/>
              </a:rPr>
              <a:t>20-64 lat do 75%</a:t>
            </a:r>
            <a:r>
              <a:rPr b="0" lang="pl-PL" sz="2400" spc="-1" strike="noStrike">
                <a:solidFill>
                  <a:srgbClr val="000000"/>
                </a:solidFill>
                <a:latin typeface="Arial Narrow"/>
              </a:rPr>
              <a:t> do 2020 r. poprzez wprowadzenie większej liczby osób na rynek pracy, zwłaszcza kobiet, młodzieży, osób starszych, pracowników niskowykwalifikowanych i legalnych imigrantów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 Narrow"/>
              </a:rPr>
              <a:t>zapewnienie lepszego poziomu wykształcenia – zwłaszcza: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Arial Narrow"/>
              </a:rPr>
              <a:t>– zmniejszenie </a:t>
            </a:r>
            <a:r>
              <a:rPr b="1" lang="pl-PL" sz="2400" spc="-1" strike="noStrike">
                <a:solidFill>
                  <a:srgbClr val="ff9900"/>
                </a:solidFill>
                <a:latin typeface="Arial Narrow"/>
              </a:rPr>
              <a:t>udziału młodych ludzi przedwcześnie porzucających naukę do poziomu poniżej 10%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Arial Narrow"/>
              </a:rPr>
              <a:t>– dążenie do tego, by co najmniej </a:t>
            </a:r>
            <a:r>
              <a:rPr b="1" lang="pl-PL" sz="2400" spc="-1" strike="noStrike">
                <a:solidFill>
                  <a:srgbClr val="ff9900"/>
                </a:solidFill>
                <a:latin typeface="Arial Narrow"/>
              </a:rPr>
              <a:t>40% osób w wieku 30–34 lat miało wykształcenie wyższe</a:t>
            </a:r>
            <a:r>
              <a:rPr b="0" lang="pl-PL" sz="2400" spc="-1" strike="noStrike">
                <a:solidFill>
                  <a:srgbClr val="ff9900"/>
                </a:solidFill>
                <a:latin typeface="Arial Narrow"/>
              </a:rPr>
              <a:t> </a:t>
            </a:r>
            <a:r>
              <a:rPr b="0" lang="pl-PL" sz="2400" spc="-1" strike="noStrike">
                <a:solidFill>
                  <a:srgbClr val="000000"/>
                </a:solidFill>
                <a:latin typeface="Arial Narrow"/>
              </a:rPr>
              <a:t>(lub równoważn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 Narrow"/>
              </a:rPr>
              <a:t>Trzy inicjatywy przewodnie</a:t>
            </a:r>
            <a:r>
              <a:rPr b="0" lang="en-US" sz="3200" spc="-1" strike="noStrike">
                <a:solidFill>
                  <a:srgbClr val="003399"/>
                </a:solidFill>
                <a:latin typeface="Arial Narrow"/>
              </a:rPr>
              <a:t>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8000" y="1413000"/>
            <a:ext cx="9144000" cy="40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3399"/>
                </a:solidFill>
                <a:latin typeface="Arial Narrow"/>
              </a:rPr>
              <a:t>1. Europejska agenda cyfrowa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pl-PL" sz="1600" spc="-1" strike="noStrike">
                <a:solidFill>
                  <a:srgbClr val="000000"/>
                </a:solidFill>
                <a:latin typeface="Arial Narrow"/>
              </a:rPr>
              <a:t>Stworzenie jednolitego rynku cyfrowego opartego na szybkim i bardzo szybkim internecie: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80000"/>
              </a:lnSpc>
              <a:spcBef>
                <a:spcPts val="400"/>
              </a:spcBef>
              <a:buClr>
                <a:srgbClr val="fba313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 Narrow"/>
              </a:rPr>
              <a:t>do roku 2013: </a:t>
            </a:r>
            <a:r>
              <a:rPr b="0" lang="pl-PL" sz="1600" spc="-1" strike="noStrike">
                <a:solidFill>
                  <a:srgbClr val="ff9900"/>
                </a:solidFill>
                <a:latin typeface="Arial Narrow"/>
              </a:rPr>
              <a:t>szerokopasmowy dostęp do internetu dla wszystki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80000"/>
              </a:lnSpc>
              <a:spcBef>
                <a:spcPts val="400"/>
              </a:spcBef>
              <a:buClr>
                <a:srgbClr val="fba313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 Narrow"/>
              </a:rPr>
              <a:t>do roku 2020: dostęp dla wszystkich do łączy o dużo większej prędkości transmisji danych (30 Mb/s i więcej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80000"/>
              </a:lnSpc>
              <a:spcBef>
                <a:spcPts val="400"/>
              </a:spcBef>
              <a:buClr>
                <a:srgbClr val="fba313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 Narrow"/>
              </a:rPr>
              <a:t>do roku 2020: dostęp do łączy o prędkości powyżej 100 Mb/s dla co najmniej 50 proc. europejskich gospodarstw domowych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3399"/>
                </a:solidFill>
                <a:latin typeface="Arial Narrow"/>
              </a:rPr>
              <a:t>2. Unia innowacji</a:t>
            </a:r>
            <a:r>
              <a:rPr b="0" lang="pl-PL" sz="2000" spc="-1" strike="noStrike">
                <a:solidFill>
                  <a:srgbClr val="000000"/>
                </a:solidFill>
                <a:latin typeface="Arial Narrow"/>
              </a:rPr>
              <a:t> </a:t>
            </a:r>
            <a:r>
              <a:rPr b="0" lang="pl-PL" sz="2000" spc="-1" strike="noStrike" u="sng">
                <a:solidFill>
                  <a:srgbClr val="cc3300"/>
                </a:solidFill>
                <a:uFillTx/>
                <a:latin typeface="Arial Narrow"/>
                <a:hlinkClick r:id="rId1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80000"/>
              </a:lnSpc>
              <a:spcBef>
                <a:spcPts val="400"/>
              </a:spcBef>
              <a:buClr>
                <a:srgbClr val="fba313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 Narrow"/>
              </a:rPr>
              <a:t>wykorzystywanie działalności badawczo-rozwojowej i innowacyjnej do rozwiązywania najpoważniejszych problemów, jakim musi stawić czoło nasze społeczeństwo, takich jak zmiany klimatu, efektywność energetyczna i oszczędne korzystanie z zasobów, ochrona zdrowia oraz zmiany demograficz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80000"/>
              </a:lnSpc>
              <a:spcBef>
                <a:spcPts val="400"/>
              </a:spcBef>
              <a:buClr>
                <a:srgbClr val="fba313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 Narrow"/>
              </a:rPr>
              <a:t>wzmocnienie każdego elementu procesu innowacji, począwszy od wstępnych projektów badawczych aż po komercyjne wykorzystanie ich wyników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3399"/>
                </a:solidFill>
                <a:latin typeface="Arial Narrow"/>
              </a:rPr>
              <a:t>3. Mobilna młodzież </a:t>
            </a:r>
            <a:r>
              <a:rPr b="0" lang="pl-PL" sz="2000" spc="-1" strike="noStrike" u="sng">
                <a:solidFill>
                  <a:srgbClr val="cc3300"/>
                </a:solidFill>
                <a:uFillTx/>
                <a:latin typeface="Arial Narrow"/>
                <a:hlinkClick r:id="rId2"/>
              </a:rPr>
              <a:t> </a:t>
            </a:r>
            <a:r>
              <a:rPr b="0" lang="pl-PL" sz="2000" spc="-1" strike="noStrike" u="sng">
                <a:solidFill>
                  <a:srgbClr val="cc3300"/>
                </a:solidFill>
                <a:uFillTx/>
                <a:latin typeface="Arial Narrow"/>
                <a:hlinkClick r:id="rId3"/>
              </a:rPr>
              <a:t> </a:t>
            </a:r>
            <a:r>
              <a:rPr b="0" lang="pl-PL" sz="2000" spc="-1" strike="noStrike" u="sng">
                <a:solidFill>
                  <a:srgbClr val="cc3300"/>
                </a:solidFill>
                <a:uFillTx/>
                <a:latin typeface="Arial Narrow"/>
                <a:hlinkClick r:id="rId4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80000"/>
              </a:lnSpc>
              <a:spcBef>
                <a:spcPts val="400"/>
              </a:spcBef>
              <a:buClr>
                <a:srgbClr val="fba313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 Narrow"/>
              </a:rPr>
              <a:t>ułatwianie studentom i stażystom studiowania za granic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80000"/>
              </a:lnSpc>
              <a:spcBef>
                <a:spcPts val="400"/>
              </a:spcBef>
              <a:buClr>
                <a:srgbClr val="fba313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 Narrow"/>
              </a:rPr>
              <a:t>lepsze przygotowanie młodych ludzi do startu na rynku pra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80000"/>
              </a:lnSpc>
              <a:spcBef>
                <a:spcPts val="400"/>
              </a:spcBef>
              <a:buClr>
                <a:srgbClr val="fba313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 Narrow"/>
              </a:rPr>
              <a:t>poprawa wyników i podniesienie atrakcyjności europejskich uczeln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80000"/>
              </a:lnSpc>
              <a:spcBef>
                <a:spcPts val="400"/>
              </a:spcBef>
              <a:buClr>
                <a:srgbClr val="fba313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 Narrow"/>
              </a:rPr>
              <a:t>doskonalenie wszystkich szczebli kształcenia i szkolenia (wysoki poziom akademicki, równe szanse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" dur="500"/>
                                        <p:tgtEl>
                                          <p:spTgt spid="11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" dur="500"/>
                                        <p:tgtEl>
                                          <p:spTgt spid="11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11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11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 Narrow"/>
              </a:rPr>
              <a:t>Zrównoważony rozwój oznacza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50560" y="1557360"/>
            <a:ext cx="889308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 Narrow"/>
              </a:rPr>
              <a:t>budowanie </a:t>
            </a:r>
            <a:r>
              <a:rPr b="1" lang="pl-PL" sz="2200" spc="-1" strike="noStrike">
                <a:solidFill>
                  <a:srgbClr val="000000"/>
                </a:solidFill>
                <a:latin typeface="Arial Narrow"/>
              </a:rPr>
              <a:t>bardziej konkurencyjnej gospodarki niskoemisyjnej</a:t>
            </a:r>
            <a:r>
              <a:rPr b="0" lang="pl-PL" sz="2200" spc="-1" strike="noStrike">
                <a:solidFill>
                  <a:srgbClr val="000000"/>
                </a:solidFill>
                <a:latin typeface="Arial Narrow"/>
              </a:rPr>
              <a:t>, która będzie korzystać z zasobów w sposób racjonalny i oszczędny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0000"/>
                </a:solidFill>
                <a:latin typeface="Arial Narrow"/>
              </a:rPr>
              <a:t>ochronę środowiska naturalnego</a:t>
            </a:r>
            <a:r>
              <a:rPr b="0" lang="pl-PL" sz="2200" spc="-1" strike="noStrike">
                <a:solidFill>
                  <a:srgbClr val="000000"/>
                </a:solidFill>
                <a:latin typeface="Arial Narrow"/>
              </a:rPr>
              <a:t>, ograniczenie emisji gazów cieplarnianych</a:t>
            </a:r>
            <a:br>
              <a:rPr sz="2200"/>
            </a:br>
            <a:r>
              <a:rPr b="0" lang="pl-PL" sz="2200" spc="-1" strike="noStrike">
                <a:solidFill>
                  <a:srgbClr val="000000"/>
                </a:solidFill>
                <a:latin typeface="Arial Narrow"/>
              </a:rPr>
              <a:t>i zapobieganie utracie bioróżnorodności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 Narrow"/>
              </a:rPr>
              <a:t>wykorzystanie pierwszoplanowej pozycji Europy do opracowania </a:t>
            </a:r>
            <a:r>
              <a:rPr b="1" lang="pl-PL" sz="2200" spc="-1" strike="noStrike">
                <a:solidFill>
                  <a:srgbClr val="000000"/>
                </a:solidFill>
                <a:latin typeface="Arial Narrow"/>
              </a:rPr>
              <a:t>nowych, przyjaznych dla środowiska technologii</a:t>
            </a:r>
            <a:r>
              <a:rPr b="0" lang="pl-PL" sz="2200" spc="-1" strike="noStrike">
                <a:solidFill>
                  <a:srgbClr val="000000"/>
                </a:solidFill>
                <a:latin typeface="Arial Narrow"/>
              </a:rPr>
              <a:t> i metod produkcji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 Narrow"/>
              </a:rPr>
              <a:t>wprowadzenie </a:t>
            </a:r>
            <a:r>
              <a:rPr b="1" lang="pl-PL" sz="2200" spc="-1" strike="noStrike">
                <a:solidFill>
                  <a:srgbClr val="000000"/>
                </a:solidFill>
                <a:latin typeface="Arial Narrow"/>
              </a:rPr>
              <a:t>efektywnych, inteligentnych sieci energetycznych</a:t>
            </a:r>
            <a:r>
              <a:rPr b="0" lang="pl-PL" sz="2200" spc="-1" strike="noStrike">
                <a:solidFill>
                  <a:srgbClr val="000000"/>
                </a:solidFill>
                <a:latin typeface="Arial Narrow"/>
              </a:rPr>
              <a:t>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0000"/>
                </a:solidFill>
                <a:latin typeface="Arial Narrow"/>
              </a:rPr>
              <a:t>wykorzystanie sieci obejmujących całą UE</a:t>
            </a:r>
            <a:r>
              <a:rPr b="0" lang="pl-PL" sz="2200" spc="-1" strike="noStrike">
                <a:solidFill>
                  <a:srgbClr val="000000"/>
                </a:solidFill>
                <a:latin typeface="Arial Narrow"/>
              </a:rPr>
              <a:t> do zapewnienia dodatkowej przewagi rynkowej firmom europejskim (zwłaszcza małym przedsiębiorstwom produkcyjnym)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0000"/>
                </a:solidFill>
                <a:latin typeface="Arial Narrow"/>
              </a:rPr>
              <a:t>poprawienie warunków dla rozwoju przedsiębiorczości</a:t>
            </a:r>
            <a:r>
              <a:rPr b="0" lang="pl-PL" sz="2200" spc="-1" strike="noStrike">
                <a:solidFill>
                  <a:srgbClr val="000000"/>
                </a:solidFill>
                <a:latin typeface="Arial Narrow"/>
              </a:rPr>
              <a:t>, zwłaszcza </a:t>
            </a:r>
            <a:br>
              <a:rPr sz="2200"/>
            </a:br>
            <a:r>
              <a:rPr b="0" lang="pl-PL" sz="2200" spc="-1" strike="noStrike">
                <a:solidFill>
                  <a:srgbClr val="000000"/>
                </a:solidFill>
                <a:latin typeface="Arial Narrow"/>
              </a:rPr>
              <a:t>w odniesieniu do MŚP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0000"/>
                </a:solidFill>
                <a:latin typeface="Arial Narrow"/>
              </a:rPr>
              <a:t>pomaganie konsumentom</a:t>
            </a:r>
            <a:r>
              <a:rPr b="0" lang="pl-PL" sz="2200" spc="-1" strike="noStrike">
                <a:solidFill>
                  <a:srgbClr val="000000"/>
                </a:solidFill>
                <a:latin typeface="Arial Narrow"/>
              </a:rPr>
              <a:t> w dokonywaniu świadomych wyborów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"/>
                                        <p:tgtEl>
                                          <p:spTgt spid="1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" dur="500"/>
                                        <p:tgtEl>
                                          <p:spTgt spid="11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 Narrow"/>
              </a:rPr>
              <a:t>Unijne cele służące zapewnieniu zrównoważonego rozwoju 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95280" y="1915920"/>
            <a:ext cx="8569440" cy="46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 Narrow"/>
              </a:rPr>
              <a:t>do 2020 r. </a:t>
            </a:r>
            <a:r>
              <a:rPr b="1" lang="pl-PL" sz="2400" spc="-1" strike="noStrike">
                <a:solidFill>
                  <a:srgbClr val="ff9900"/>
                </a:solidFill>
                <a:latin typeface="Arial Narrow"/>
              </a:rPr>
              <a:t>ograniczenie emisji gazów cieplarnianych o 20%</a:t>
            </a:r>
            <a:r>
              <a:rPr b="1" lang="pl-PL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Arial Narrow"/>
              </a:rPr>
              <a:t>w stosunku do poziomu z 1990 r. UE jest gotowa postawić sobie jeszcze ambitniejszy cel ograniczenia emisji o</a:t>
            </a:r>
            <a:r>
              <a:rPr b="0" lang="pl-PL" sz="2400" spc="-1" strike="noStrike">
                <a:solidFill>
                  <a:srgbClr val="cc3300"/>
                </a:solidFill>
                <a:latin typeface="Arial Narrow"/>
              </a:rPr>
              <a:t> </a:t>
            </a:r>
            <a:r>
              <a:rPr b="1" lang="pl-PL" sz="2400" spc="-1" strike="noStrike">
                <a:solidFill>
                  <a:srgbClr val="cc3300"/>
                </a:solidFill>
                <a:latin typeface="Arial Narrow"/>
              </a:rPr>
              <a:t>30%,</a:t>
            </a:r>
            <a:r>
              <a:rPr b="0" lang="pl-PL" sz="2400" spc="-1" strike="noStrike">
                <a:solidFill>
                  <a:srgbClr val="000000"/>
                </a:solidFill>
                <a:latin typeface="Arial Narrow"/>
              </a:rPr>
              <a:t> o ile inne kraje rozwinięte poczynią podobne zobowiązania, a kraje rozwijające się wniosą odpowiedni wkład na miarę swoich możliwości w ramach globalnego, kompleksowego porozumien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9900"/>
                </a:solidFill>
                <a:latin typeface="Arial Narrow"/>
              </a:rPr>
              <a:t>zwiększenie do 20% </a:t>
            </a:r>
            <a:r>
              <a:rPr b="0" lang="pl-PL" sz="2400" spc="-1" strike="noStrike">
                <a:solidFill>
                  <a:srgbClr val="000000"/>
                </a:solidFill>
                <a:latin typeface="Arial Narrow"/>
              </a:rPr>
              <a:t>udziału energii ze </a:t>
            </a:r>
            <a:r>
              <a:rPr b="1" lang="pl-PL" sz="2400" spc="-1" strike="noStrike">
                <a:solidFill>
                  <a:srgbClr val="ff9900"/>
                </a:solidFill>
                <a:latin typeface="Arial Narrow"/>
              </a:rPr>
              <a:t>źródeł odnawialnych</a:t>
            </a:r>
            <a:r>
              <a:rPr b="0" lang="pl-PL" sz="2400" spc="-1" strike="noStrike">
                <a:solidFill>
                  <a:srgbClr val="ff9900"/>
                </a:solidFill>
                <a:latin typeface="Arial Narrow"/>
              </a:rPr>
              <a:t> 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Arial Narrow"/>
              </a:rPr>
              <a:t>w ogólnym zużyciu energii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 Narrow"/>
              </a:rPr>
              <a:t>dążenie do </a:t>
            </a:r>
            <a:r>
              <a:rPr b="1" lang="pl-PL" sz="2400" spc="-1" strike="noStrike">
                <a:solidFill>
                  <a:srgbClr val="ff9900"/>
                </a:solidFill>
                <a:latin typeface="Arial Narrow"/>
              </a:rPr>
              <a:t>zwiększenia efektywności wykorzystania energii o 20%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54936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 Narrow"/>
              </a:rPr>
              <a:t>Rozwój sprzyjający włączeniu społecznemu oznacza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50560" y="2133360"/>
            <a:ext cx="8661240" cy="41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 Narrow"/>
              </a:rPr>
              <a:t>podniesienie stopy zatrudnienia w Europie, czyli </a:t>
            </a:r>
            <a:r>
              <a:rPr b="1" lang="pl-PL" sz="2400" spc="-1" strike="noStrike">
                <a:solidFill>
                  <a:srgbClr val="000000"/>
                </a:solidFill>
                <a:latin typeface="Arial Narrow"/>
              </a:rPr>
              <a:t>więcej lepszych miejsc pracy</a:t>
            </a:r>
            <a:r>
              <a:rPr b="0" lang="pl-PL" sz="2400" spc="-1" strike="noStrike">
                <a:solidFill>
                  <a:srgbClr val="000000"/>
                </a:solidFill>
                <a:latin typeface="Arial Narrow"/>
              </a:rPr>
              <a:t>, zwłaszcza dla kobiet, młodych ludzi i pracowników starszych wiekiem</a:t>
            </a:r>
            <a:r>
              <a:rPr b="0" lang="pl-PL" sz="2800" spc="-1" strike="noStrike">
                <a:solidFill>
                  <a:srgbClr val="000000"/>
                </a:solidFill>
                <a:latin typeface="Arial Narrow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 Narrow"/>
              </a:rPr>
              <a:t>pomaganie młodym ludziom w przewidywaniu zmian i radzeniu sobie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Arial Narrow"/>
              </a:rPr>
              <a:t>z nimi dzięki </a:t>
            </a:r>
            <a:r>
              <a:rPr b="1" lang="pl-PL" sz="2400" spc="-1" strike="noStrike">
                <a:solidFill>
                  <a:srgbClr val="000000"/>
                </a:solidFill>
                <a:latin typeface="Arial Narrow"/>
              </a:rPr>
              <a:t>inwestycjom w podnoszenie kwalifikacji i szkolenia</a:t>
            </a:r>
            <a:r>
              <a:rPr b="0" lang="pl-PL" sz="2800" spc="-1" strike="noStrike">
                <a:solidFill>
                  <a:srgbClr val="000000"/>
                </a:solidFill>
                <a:latin typeface="Arial Narrow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 Narrow"/>
              </a:rPr>
              <a:t>modernizację</a:t>
            </a:r>
            <a:r>
              <a:rPr b="0" lang="pl-PL" sz="2400" spc="-1" strike="noStrike">
                <a:solidFill>
                  <a:srgbClr val="000000"/>
                </a:solidFill>
                <a:latin typeface="Arial Narrow"/>
              </a:rPr>
              <a:t> rynków pracy i systemów opieki społecznej</a:t>
            </a:r>
            <a:r>
              <a:rPr b="0" lang="pl-PL" sz="2800" spc="-1" strike="noStrike">
                <a:solidFill>
                  <a:srgbClr val="000000"/>
                </a:solidFill>
                <a:latin typeface="Arial Narrow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 Narrow"/>
              </a:rPr>
              <a:t>zagwarantowanie, że </a:t>
            </a:r>
            <a:r>
              <a:rPr b="1" lang="pl-PL" sz="2400" spc="-1" strike="noStrike">
                <a:solidFill>
                  <a:srgbClr val="000000"/>
                </a:solidFill>
                <a:latin typeface="Arial Narrow"/>
              </a:rPr>
              <a:t>cała UE odniesie korzyści ze wzrostu</a:t>
            </a:r>
            <a:r>
              <a:rPr b="0" lang="pl-PL" sz="24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75760" y="692280"/>
            <a:ext cx="88678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 Narrow"/>
              </a:rPr>
              <a:t>Unijny cel służący zapewnieniu rozwoju sprzyjającego włączeniu społecznemu przewiduje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79280" y="2204640"/>
            <a:ext cx="896472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9900"/>
                </a:solidFill>
                <a:latin typeface="Arial Narrow"/>
              </a:rPr>
              <a:t>podwyższenie wskaźnika zatrudnienia kobiet i mężczyzn </a:t>
            </a:r>
            <a:br>
              <a:rPr sz="2400"/>
            </a:br>
            <a:r>
              <a:rPr b="1" lang="pl-PL" sz="2400" spc="-1" strike="noStrike">
                <a:solidFill>
                  <a:srgbClr val="ff9900"/>
                </a:solidFill>
                <a:latin typeface="Arial Narrow"/>
              </a:rPr>
              <a:t>w wieku 20-64 lat do 75%</a:t>
            </a:r>
            <a:r>
              <a:rPr b="0" lang="pl-PL" sz="2400" spc="-1" strike="noStrike">
                <a:solidFill>
                  <a:srgbClr val="000000"/>
                </a:solidFill>
                <a:latin typeface="Arial Narrow"/>
              </a:rPr>
              <a:t> do 2020 r. przez wprowadzenie większej liczby osób na rynek pracy, zwłaszcza kobiet, młodzieży, osób starszych, pracowników niskowykwalifikowanych i legalnych imigrantów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 Narrow"/>
              </a:rPr>
              <a:t>zapewnienie lepszego poziomu wykształcenia – zwłaszcza: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Arial Narrow"/>
              </a:rPr>
              <a:t>– </a:t>
            </a:r>
            <a:r>
              <a:rPr b="1" lang="pl-PL" sz="2400" spc="-1" strike="noStrike">
                <a:solidFill>
                  <a:srgbClr val="ff9900"/>
                </a:solidFill>
                <a:latin typeface="Arial Narrow"/>
              </a:rPr>
              <a:t>zredukowanie odsetka młodych ludzi przedwcześnie porzucających naukę do poziomu poniżej 10%,</a:t>
            </a:r>
            <a:r>
              <a:rPr b="0" lang="pl-PL" sz="2400" spc="-1" strike="noStrike">
                <a:solidFill>
                  <a:srgbClr val="000000"/>
                </a:solidFill>
                <a:latin typeface="Arial Narrow"/>
              </a:rPr>
              <a:t> dążenie do tego,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Arial Narrow"/>
              </a:rPr>
              <a:t>by co najmniej </a:t>
            </a:r>
            <a:r>
              <a:rPr b="1" lang="pl-PL" sz="2400" spc="-1" strike="noStrike">
                <a:solidFill>
                  <a:srgbClr val="ff9900"/>
                </a:solidFill>
                <a:latin typeface="Arial Narrow"/>
              </a:rPr>
              <a:t>40% osób w wieku 30–34 lat miało wykształcenie wyższe</a:t>
            </a:r>
            <a:r>
              <a:rPr b="0" lang="pl-PL" sz="2400" spc="-1" strike="noStrike">
                <a:solidFill>
                  <a:srgbClr val="ff9900"/>
                </a:solidFill>
                <a:latin typeface="Arial Narrow"/>
              </a:rPr>
              <a:t> </a:t>
            </a:r>
            <a:r>
              <a:rPr b="0" lang="pl-PL" sz="2400" spc="-1" strike="noStrike">
                <a:solidFill>
                  <a:srgbClr val="000000"/>
                </a:solidFill>
                <a:latin typeface="Arial Narrow"/>
              </a:rPr>
              <a:t>(lub równoważne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9900"/>
                </a:solidFill>
                <a:latin typeface="Arial Narrow"/>
              </a:rPr>
              <a:t>zmniejszenie liczby osób zagrożonych ubóstwem i wykluczeniem społecznym o co najmniej 20 mln</a:t>
            </a:r>
            <a:r>
              <a:rPr b="0" lang="pl-PL" sz="24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9:27:18Z</dcterms:created>
  <dc:creator>Monika</dc:creator>
  <dc:description/>
  <dc:language>en-US</dc:language>
  <cp:lastModifiedBy>ola</cp:lastModifiedBy>
  <dcterms:modified xsi:type="dcterms:W3CDTF">2013-05-30T20:07:37Z</dcterms:modified>
  <cp:revision>52</cp:revision>
  <dc:subject/>
  <dc:title>Slajd 1</dc:title>
</cp:coreProperties>
</file>