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EEEE-38C2-44DB-948F-F43B76D3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DD64-4C7E-4454-9834-EF80B4C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6A34-EEA3-427E-B8AA-3CF1D97D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AB56-D5A7-4306-BBCB-78DA36FB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1BE1-B407-4541-985F-2DAB15EE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BC29-C3F7-4D44-BE16-9564727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B5A-C8E2-455F-ACDB-AF8D94E6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EC3A-6EF1-42FA-B155-6F978A2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720A-5D2F-4203-8962-9DF854A9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AC1A-53E4-4E11-B40A-54ADBAE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19ED-D49B-4895-B6AA-2B1BD24D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9D71-7220-48AA-967A-B550E292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D853-B4A9-4024-BBE4-416FC19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C8A-6AE3-469B-B76B-E4A25ABA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7840-02A6-4E9F-A281-DAE07841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DE62-BCDA-4346-888F-D2573199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2BDA-0141-41D6-82E3-1FBE770D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47AD-6CDB-42B2-8D1A-53E1331C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96AB-B609-4EBA-8205-E502649B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05A8-963B-42EE-994E-1FD3E9B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4F79-83F0-44A5-9AD6-820CCDF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E6C4-0B10-478F-9CA9-CC300A5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7DE6-E1B6-4D58-B26E-F2E8959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C812-1607-4F0F-860A-B95B4F3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82C-6BCC-4935-8655-4B91D8EF1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0717-DA72-4ABD-9AEE-9063AE7FA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pl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research/innovation-union/index_en.cfm" TargetMode="External"/><Relationship Id="rId2" Type="http://schemas.openxmlformats.org/officeDocument/2006/relationships/hyperlink" Target="http://europa.eu/youthonthemove/index_de.htm" TargetMode="External"/><Relationship Id="rId3" Type="http://schemas.openxmlformats.org/officeDocument/2006/relationships/hyperlink" Target="http://europa.eu/youthonthemove/index_en.htm" TargetMode="External"/><Relationship Id="rId4" Type="http://schemas.openxmlformats.org/officeDocument/2006/relationships/hyperlink" Target="http://europa.eu/youthonthemove/index_fr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1640" y="1828800"/>
            <a:ext cx="5859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br>
              <a:rPr sz="6000"/>
            </a:br>
            <a:r>
              <a:rPr b="0" i="1" lang="en-US" sz="4000" spc="-1" strike="noStrike">
                <a:solidFill>
                  <a:srgbClr val="003399"/>
                </a:solidFill>
                <a:latin typeface="Arial Narrow"/>
              </a:rPr>
              <a:t>unijna strategia rozwoju</a:t>
            </a:r>
            <a:r>
              <a:rPr b="0" lang="en-US" sz="50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Cele 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1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atrud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75% osób w wieku 20-64 lat powinno mieć prac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Badania i rozwó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 inwestycje w badania i rozwój powinniśmy przeznaczać 3% PKB Un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3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miany klimatu 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leży ograniczyć emisje gazów cieplarnianych o 20% w stosunku do poziomu z 1990 r. (lub nawet o 30%, jeśli warunki będą sprzyjają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0% energii powinno pochodzić ze źródeł odnawi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Efektywność energetyczna powinna wzrosnąć o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4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Eduk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dsetek młodych ludzi przedwcześnie porzucających naukę nie powinien przekraczać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o najmniej 40% osób w wieku 30-34 powinno mieć wykształcenie wyżs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5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Ubóstwo i wykluczenie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mniejszenie liczby osób zagrożonych ubóstwem i wykluczeniem społecznym o co najmniej 20 m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Rzutki w środku tarczy © iStockphot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4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6200" y="6643800"/>
            <a:ext cx="31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 Narrow"/>
              </a:rPr>
              <a:t>http://ec.europa.eu/europe2020/europe-2020-in-a-nutshell/targets/index_p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836640"/>
          <a:ext cx="9144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17560" y="177840"/>
          <a:ext cx="8003880" cy="743040"/>
        </p:xfrm>
        <a:graphic>
          <a:graphicData uri="http://schemas.openxmlformats.org/drawingml/2006/table">
            <a:tbl>
              <a:tblPr/>
              <a:tblGrid>
                <a:gridCol w="8003880"/>
              </a:tblGrid>
              <a:tr h="74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Zróżnicowanie wskaźnika zatrudnienia w grupie wiekowej 20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lat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64 lat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 w 2011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11640" y="177336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07920"/>
          <a:ext cx="91440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040" y="47628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wydatków na działalność badawczo-rozwojową w PKB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39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2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836640"/>
          <a:ext cx="882000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8200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90120" y="450720"/>
            <a:ext cx="78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źródeł odnawialnych w całkowitym zużyciu energi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80000" y="4292640"/>
          <a:ext cx="609480" cy="243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981000"/>
          <a:ext cx="91440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6680" y="47628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zmian emisji gazów cieplarnianych w stosunku do 1990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939960"/>
          <a:ext cx="914400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9960"/>
                    <a:ext cx="9144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880" y="476280"/>
            <a:ext cx="89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młodych ludzi (18-24 lat) przedwcześnie porzucających naukę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3933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 Narrow"/>
              </a:rPr>
              <a:t>4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1970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84960" y="452520"/>
            <a:ext cx="73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w wieku 30-34 lat, która ukończyła kształceni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 na poziomie ISCED 5-6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 Narrow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052640"/>
          <a:ext cx="91440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6120" y="549360"/>
            <a:ext cx="86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zagrożonej ubóstwem i wykluczeniem społecznym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81000"/>
          <a:ext cx="896472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9647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99600" y="47628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wskaźnika deprywacj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76360" y="2997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 Narrow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075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i Europejskiej potrzebna jest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inteligentna i zrównoważo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ospodarka sprzyjająca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łączeniu społecznem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Realizacja tych priorytetów powinna pomóc państwom członkowskim UE w uzyskaniu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zrostu zatrudnien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az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zwiększeniu produktywności i spójności społeczne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a wyznaczyła sobie konkretny plan obejmujący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pięć celó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– w zakresie zatrudnienia, innowacji, edukacji, włączenia społecznego oraz zmian klimatu/energii – które należy osiągnąć do 2020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 każdym z tych obszarów wszystkie państwa członkowskie wyznaczyły z kolei własne cele krajow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64008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ec.europa.eu/europe2020/index_pl.htm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ttp://ec.europa.eu/eu2020/pdf/1_PL_ACT_part1_v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Inteligentny rozwój oznacza uzyskanie lepszych wyników w dziedzini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duk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zachęcanie do nauki, studiów i podnoszenia kwalifik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badań naukowych/innow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stworzenie nowych produ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i usług, które wpłynęłyby na zwiększenie wzrostu gospodarczego i zatrudnienia oraz pomogłyby w rozwiązywaniu problemów społecznyc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społeczeństwa cyfrowego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wykorzystanie technologii informacyjnych i komunik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e cele służące zapewnieniu inteligentnego rozwoju obejmuj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większenie łącznego poziomu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inwestycji publicznych i prywatnych do wysokości 3% unijnego PKB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a także zapewnienie lepszych warunków dla badań i rozwoju oraz inno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w wieku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o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zmniejszeni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udziału młodych ludzi przedwcześnie porzucających naukę do poziomu poniżej 10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dążenie do tego, 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Trzy inicjatywy przewodnie</a:t>
            </a: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1. Europejska agenda cyfrow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Stworzenie jednolitego rynku cyfrowego opartego na szybkim i bardzo szybkim internecie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13: </a:t>
            </a:r>
            <a:r>
              <a:rPr b="0" lang="pl-PL" sz="1600" spc="-1" strike="noStrike">
                <a:solidFill>
                  <a:srgbClr val="ff9900"/>
                </a:solidFill>
                <a:latin typeface="Arial Narrow"/>
              </a:rPr>
              <a:t>szerokopasmowy dostęp do internetu dla wszystk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la wszystkich do łączy o dużo większej prędkości transmisji danych (30 Mb/s i więc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o łączy o prędkości powyżej 100 Mb/s dla co najmniej 50 proc. europejskich gospodarstw dom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2. Unia innowacji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ykorzystywanie działalności badawczo-rozwojowej i innowacyjnej do rozwiązywania najpoważniejszych problemów, jakim musi stawić czoło nasze społeczeństwo, takich jak zmiany klimatu, efektywność energetyczna i oszczędne korzystanie z zasobów, ochrona zdrowia oraz zmiany demograf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zmocnienie każdego elementu procesu innowacji, począwszy od wstępnych projektów badawczych aż po komercyjne wykorzystanie ich wyni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3. Mobilna młodzież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ułatwianie studentom i stażystom studiowania za granic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lepsze przygotowanie młodych ludzi do startu na rynku p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oprawa wyników i podniesienie atrakcyjności europejskich uczel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skonalenie wszystkich szczebli kształcenia i szkolenia (wysoki poziom akademicki, równe szan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Zrównoważony rozwój oznacz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budowa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bardziej konkurencyjnej gospodarki niskoemisyjnej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która będzie korzystać z zasobów w sposób racjonalny i oszczędn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ochronę środowiska naturalnego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ograniczenie emisji gazów cieplarni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i zapobieganie utracie bioróżnorod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ykorzystanie pierwszoplanowej pozycji Europy do opracowania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nowych, przyjaznych dla środowiska technologi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i metod produkcj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prowadze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efektywnych, inteligentnych sieci energetycznych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wykorzystanie sieci obejmujących całą UE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do zapewnienia dodatkowej przewagi rynkowej firmom europejskim (zwłaszcza małym przedsiębiorstwom produkcyjnym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prawienie warunków dla rozwoju przedsiębiorczośc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zwłaszcz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 odniesieniu do MŚ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maganie konsumentom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w dokonywaniu świadomych wybor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Unijne cele służące zapewnieniu zrównoważonego rozwoju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o 2020 r.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ograniczenie emisji gazów cieplarnianych o 20%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stosunku do poziomu z 1990 r. UE jest gotowa postawić sobie jeszcze ambitniejszy cel ograniczenia emisji o</a:t>
            </a:r>
            <a:r>
              <a:rPr b="0" lang="pl-PL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cc3300"/>
                </a:solidFill>
                <a:latin typeface="Arial Narrow"/>
              </a:rPr>
              <a:t>3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 o ile inne kraje rozwinięte poczynią podobne zobowiązania, a kraje rozwijające się wniosą odpowiedni wkład na miarę swoich możliwości w ramach globalnego, kompleksowego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e do 20%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udziału energii z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źródeł odnawialnych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ogólnym zużyciu energ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ążenie do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a efektywności wykorzystania energii o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Rozwój sprzyjający włączeniu społecznemu oznacz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66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dniesienie stopy zatrudnienia w Europie, czyli 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więcej lepszych miejsc pracy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zwłaszcza dla kobiet, młodych ludzi i pracowników starszych wiekiem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maganie młodym ludziom w przewidywaniu zmian i radzeniu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 nimi dzięki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inwestycjom w podnoszenie kwalifikacji i szkolenia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odernizację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rynków pracy i systemów opieki społecznej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gwarantowanie, że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cała UE odniesie korzyści ze wzrostu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5760" y="692280"/>
            <a:ext cx="8867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y cel służący zapewnieniu rozwoju sprzyjającego włączeniu społecznemu przewidu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w wieku 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redukowanie odsetka młodych ludzi przedwcześnie porzucających naukę do poziomu poniżej 1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ążenie do teg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mniejszenie liczby osób zagrożonych ubóstwem i wykluczeniem społecznym o co najmniej 20 mln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27:18Z</dcterms:created>
  <dc:creator>Monika</dc:creator>
  <dc:description/>
  <dc:language>en-US</dc:language>
  <cp:lastModifiedBy>ola</cp:lastModifiedBy>
  <dcterms:modified xsi:type="dcterms:W3CDTF">2013-05-30T20:07:37Z</dcterms:modified>
  <cp:revision>52</cp:revision>
  <dc:subject/>
  <dc:title>Slajd 1</dc:title>
</cp:coreProperties>
</file>