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F4B-BD90-469E-914E-8F6FEB9A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25C-496C-4487-94C7-0D0BD4A7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4A7-CB9A-4EBE-9487-FBBE8DC9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7BD-1EBC-47D5-8941-8DFEECAD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AFF-3213-4DB2-9D7D-546C28B9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D94-0C77-4111-9C9E-116E9CF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6DD-EE97-4414-89B9-65DC57D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F69-F292-4E55-9B25-30C7ECAD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476-62BE-4A47-B71A-EF6D6548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2E3-C930-4131-89A0-4AF7C21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21E-1F84-4B1E-823F-7984696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58C-51CB-47C2-B99D-1D89307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A4E9-D286-42AB-A690-5088FE1461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08:48:02Z</dcterms:created>
  <dc:creator>IG UP Dorocki</dc:creator>
  <dc:description/>
  <dc:language>en-US</dc:language>
  <cp:lastModifiedBy>IG UP Dorocki</cp:lastModifiedBy>
  <dcterms:modified xsi:type="dcterms:W3CDTF">2013-05-08T11:30:21Z</dcterms:modified>
  <cp:revision>4</cp:revision>
  <dc:subject/>
  <dc:title>Prezentacja programu PowerPoint</dc:title>
</cp:coreProperties>
</file>