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6EE-1B80-40FD-824D-CABF667D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FD1-7FEF-4460-B2D0-1A7C24EF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66D-A13E-476B-8958-8650CCC7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5B4-1FE0-4CD1-9D95-332963B8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BB2-0F06-4624-B5A2-FFD13AE7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0DC-C9FE-4195-8F99-FD122F6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8A4-5788-4CB9-8029-F0458067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3FE-F0BF-4F35-8542-81C15DB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131-A52F-4B14-B73F-3895C19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6C9-1536-43B6-9480-10CBD569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74B-6B62-43CF-AC60-F7ED1DE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0B4-D3D8-4E7F-A3E2-C77B587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2A77-B43D-4BCC-86CA-828DB3ACF2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08:48:02Z</dcterms:created>
  <dc:creator>IG UP Dorocki</dc:creator>
  <dc:description/>
  <dc:language>en-US</dc:language>
  <cp:lastModifiedBy>IG UP Dorocki</cp:lastModifiedBy>
  <dcterms:modified xsi:type="dcterms:W3CDTF">2013-05-08T11:30:21Z</dcterms:modified>
  <cp:revision>4</cp:revision>
  <dc:subject/>
  <dc:title>Prezentacja programu PowerPoint</dc:title>
</cp:coreProperties>
</file>