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819E-52AA-4CB6-A589-9B31A6B9B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2D64-7F53-47A5-B22B-2BCE070A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3CD2-4A58-45CC-B0B9-5F99809BF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88EE-6477-450A-80A7-F72DFA0BA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EFFC-02EE-4A7B-BED2-9BC8E572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BE36-8830-4812-A35C-03F90FD0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1E76-3606-4267-814C-846EACF6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1F7F-4454-4D7D-9080-901C49A3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781C-2A96-4856-9206-11EFD5E0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BC27-4E7F-4A55-898E-210D2CF9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6E06-E4B9-4F1B-BE19-603B90EC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91DB-BB1C-4898-82C0-6523184C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016A-EC11-45EA-8373-FA2A317B772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ShockwaveFlash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8T08:48:02Z</dcterms:created>
  <dc:creator>IG UP Dorocki</dc:creator>
  <dc:description/>
  <dc:language>en-US</dc:language>
  <cp:lastModifiedBy>IG UP Dorocki</cp:lastModifiedBy>
  <dcterms:modified xsi:type="dcterms:W3CDTF">2013-05-08T11:30:21Z</dcterms:modified>
  <cp:revision>4</cp:revision>
  <dc:subject/>
  <dc:title>Prezentacja programu PowerPoint</dc:title>
</cp:coreProperties>
</file>