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F54E-1978-4C2E-9268-98A9AB7B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4E0D-9F9B-4D82-9DAB-0DB9CCC3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E435-B6A8-4A30-87E9-B97C4CF3E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FE84-2F0F-4737-9844-6CA01E78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14D0-0C64-4E87-8F72-7CE88212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4FE4-04C5-4C58-A4CE-D5739348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97AB-7BF1-4F35-A5E0-61A6742F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7FDF-74A1-48B7-8AA8-BA695226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DBF4-62E1-461F-B55D-2D223EF8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E940-9C82-42B5-AE90-32C56C0C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AC78-4E82-44D3-877E-A1A894BD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97DB-4BD1-44AF-88F4-4A52030D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8908-D690-4557-9298-3026E69EFB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3e612bc8-9cac-463e-86cd-2ba1a6ebc50a_260x"/>
          <p:cNvPicPr/>
          <p:nvPr/>
        </p:nvPicPr>
        <p:blipFill>
          <a:blip r:embed="rId1"/>
          <a:stretch/>
        </p:blipFill>
        <p:spPr>
          <a:xfrm>
            <a:off x="250920" y="189000"/>
            <a:ext cx="3313080" cy="6437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3924360" y="214200"/>
            <a:ext cx="453384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ww.nau.pl/pozyczka/img/ulotka2.png"/>
          <p:cNvPicPr/>
          <p:nvPr/>
        </p:nvPicPr>
        <p:blipFill>
          <a:blip r:embed="rId1"/>
          <a:stretch/>
        </p:blipFill>
        <p:spPr>
          <a:xfrm>
            <a:off x="324000" y="333360"/>
            <a:ext cx="727236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ulotka%20zima%202012"/>
          <p:cNvPicPr/>
          <p:nvPr/>
        </p:nvPicPr>
        <p:blipFill>
          <a:blip r:embed="rId1"/>
          <a:stretch/>
        </p:blipFill>
        <p:spPr>
          <a:xfrm>
            <a:off x="395280" y="115920"/>
            <a:ext cx="3216240" cy="6626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ulotka-wersja-koncowa"/>
          <p:cNvPicPr/>
          <p:nvPr/>
        </p:nvPicPr>
        <p:blipFill>
          <a:blip r:embed="rId2"/>
          <a:stretch/>
        </p:blipFill>
        <p:spPr>
          <a:xfrm>
            <a:off x="3924360" y="47520"/>
            <a:ext cx="4535280" cy="66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http://www.bs.olawa.pl/imgbig/plakat_kredyt_wiosna_2012.jpg"/>
          <p:cNvPicPr/>
          <p:nvPr/>
        </p:nvPicPr>
        <p:blipFill>
          <a:blip r:embed="rId1"/>
          <a:stretch/>
        </p:blipFill>
        <p:spPr>
          <a:xfrm>
            <a:off x="179280" y="144360"/>
            <a:ext cx="4567320" cy="6524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www.bs.olawa.pl/imgbig/plakat.jpg"/>
          <p:cNvPicPr/>
          <p:nvPr/>
        </p:nvPicPr>
        <p:blipFill>
          <a:blip r:embed="rId2"/>
          <a:stretch/>
        </p:blipFill>
        <p:spPr>
          <a:xfrm>
            <a:off x="4902120" y="482760"/>
            <a:ext cx="410544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bsmuszyna.com/edc_media/List/Item-17/TinyImages/Kredyt.jpg"/>
          <p:cNvPicPr/>
          <p:nvPr/>
        </p:nvPicPr>
        <p:blipFill>
          <a:blip r:embed="rId1"/>
          <a:stretch/>
        </p:blipFill>
        <p:spPr>
          <a:xfrm>
            <a:off x="155520" y="252360"/>
            <a:ext cx="4560840" cy="645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"/>
          <p:cNvPicPr/>
          <p:nvPr/>
        </p:nvPicPr>
        <p:blipFill>
          <a:blip r:embed="rId2"/>
          <a:stretch/>
        </p:blipFill>
        <p:spPr>
          <a:xfrm>
            <a:off x="5508720" y="981000"/>
            <a:ext cx="29052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absbank.pl/userfiles/image/plakat_poziomo_-kredyt_popularny_-_8_x_placowka_-_internet.jpg"/>
          <p:cNvPicPr/>
          <p:nvPr/>
        </p:nvPicPr>
        <p:blipFill>
          <a:blip r:embed="rId1"/>
          <a:stretch/>
        </p:blipFill>
        <p:spPr>
          <a:xfrm>
            <a:off x="34920" y="260280"/>
            <a:ext cx="899172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8T14:51:54Z</dcterms:created>
  <dc:creator>IG UP Dorocki</dc:creator>
  <dc:description/>
  <dc:language>en-US</dc:language>
  <cp:lastModifiedBy>IG UP Dorocki</cp:lastModifiedBy>
  <dcterms:modified xsi:type="dcterms:W3CDTF">2013-05-08T15:05:52Z</dcterms:modified>
  <cp:revision>2</cp:revision>
  <dc:subject/>
  <dc:title>Prezentacja programu PowerPoint</dc:title>
</cp:coreProperties>
</file>