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65D9-1A34-4F6B-9049-F6E9874C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22E8-ECF7-49D4-B174-204239C7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CC66-1D59-410B-9A29-F06250F2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71D1-8006-493C-A0A2-BBC9D3E0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9118-7634-4ABF-A45A-DF1F5C76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372A-C7CE-4B09-BF6F-5FF134BA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55C5-F79E-4536-9930-56863C8B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A6B6-CB36-4E2B-B256-1D928721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5F8C-2E87-40A3-9484-ED84B815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265A-97F6-4E0B-8D1D-B5AC40F4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5628-EB80-4DD2-808C-C814E146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EA07-6192-42BF-B093-94DFB720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D3D3-0355-4200-A308-F7DA25F451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3e612bc8-9cac-463e-86cd-2ba1a6ebc50a_260x"/>
          <p:cNvPicPr/>
          <p:nvPr/>
        </p:nvPicPr>
        <p:blipFill>
          <a:blip r:embed="rId1"/>
          <a:stretch/>
        </p:blipFill>
        <p:spPr>
          <a:xfrm>
            <a:off x="250920" y="189000"/>
            <a:ext cx="3313080" cy="6437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3924360" y="214200"/>
            <a:ext cx="453384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ww.nau.pl/pozyczka/img/ulotka2.png"/>
          <p:cNvPicPr/>
          <p:nvPr/>
        </p:nvPicPr>
        <p:blipFill>
          <a:blip r:embed="rId1"/>
          <a:stretch/>
        </p:blipFill>
        <p:spPr>
          <a:xfrm>
            <a:off x="324000" y="333360"/>
            <a:ext cx="727236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ulotka%20zima%202012"/>
          <p:cNvPicPr/>
          <p:nvPr/>
        </p:nvPicPr>
        <p:blipFill>
          <a:blip r:embed="rId1"/>
          <a:stretch/>
        </p:blipFill>
        <p:spPr>
          <a:xfrm>
            <a:off x="395280" y="115920"/>
            <a:ext cx="3216240" cy="6626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ulotka-wersja-koncowa"/>
          <p:cNvPicPr/>
          <p:nvPr/>
        </p:nvPicPr>
        <p:blipFill>
          <a:blip r:embed="rId2"/>
          <a:stretch/>
        </p:blipFill>
        <p:spPr>
          <a:xfrm>
            <a:off x="3924360" y="47520"/>
            <a:ext cx="4535280" cy="66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http://www.bs.olawa.pl/imgbig/plakat_kredyt_wiosna_2012.jpg"/>
          <p:cNvPicPr/>
          <p:nvPr/>
        </p:nvPicPr>
        <p:blipFill>
          <a:blip r:embed="rId1"/>
          <a:stretch/>
        </p:blipFill>
        <p:spPr>
          <a:xfrm>
            <a:off x="179280" y="144360"/>
            <a:ext cx="4567320" cy="6524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www.bs.olawa.pl/imgbig/plakat.jpg"/>
          <p:cNvPicPr/>
          <p:nvPr/>
        </p:nvPicPr>
        <p:blipFill>
          <a:blip r:embed="rId2"/>
          <a:stretch/>
        </p:blipFill>
        <p:spPr>
          <a:xfrm>
            <a:off x="4902120" y="482760"/>
            <a:ext cx="410544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bsmuszyna.com/edc_media/List/Item-17/TinyImages/Kredyt.jpg"/>
          <p:cNvPicPr/>
          <p:nvPr/>
        </p:nvPicPr>
        <p:blipFill>
          <a:blip r:embed="rId1"/>
          <a:stretch/>
        </p:blipFill>
        <p:spPr>
          <a:xfrm>
            <a:off x="155520" y="252360"/>
            <a:ext cx="4560840" cy="645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"/>
          <p:cNvPicPr/>
          <p:nvPr/>
        </p:nvPicPr>
        <p:blipFill>
          <a:blip r:embed="rId2"/>
          <a:stretch/>
        </p:blipFill>
        <p:spPr>
          <a:xfrm>
            <a:off x="5508720" y="981000"/>
            <a:ext cx="29052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absbank.pl/userfiles/image/plakat_poziomo_-kredyt_popularny_-_8_x_placowka_-_internet.jpg"/>
          <p:cNvPicPr/>
          <p:nvPr/>
        </p:nvPicPr>
        <p:blipFill>
          <a:blip r:embed="rId1"/>
          <a:stretch/>
        </p:blipFill>
        <p:spPr>
          <a:xfrm>
            <a:off x="34920" y="260280"/>
            <a:ext cx="899172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8T14:51:54Z</dcterms:created>
  <dc:creator>IG UP Dorocki</dc:creator>
  <dc:description/>
  <dc:language>en-US</dc:language>
  <cp:lastModifiedBy>IG UP Dorocki</cp:lastModifiedBy>
  <dcterms:modified xsi:type="dcterms:W3CDTF">2013-05-08T15:05:52Z</dcterms:modified>
  <cp:revision>2</cp:revision>
  <dc:subject/>
  <dc:title>Prezentacja programu PowerPoint</dc:title>
</cp:coreProperties>
</file>