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4E5F-EBE5-4C55-93FE-679029030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23BB-1D8E-435D-8A34-557B4432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BCF4-B75F-4BA9-ADF0-20D6F8A31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A170-C660-49A0-8AF3-9079F01AB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0913-9DA9-4CB0-B94B-909B77BD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83B4-463B-456E-A37E-588FDCA1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1119-213C-4391-ACDF-12761CBE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8538-BF24-42B7-95CC-561AB3FB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3B2F-860E-4567-8544-57DE84BC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7882-0169-4BBF-A3FC-1B802693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FC26-3CC5-4901-81BD-24F2CDAD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AE6E-C48E-4680-99E6-938808F2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3421-1A10-466D-8A7C-C361FA93223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3e612bc8-9cac-463e-86cd-2ba1a6ebc50a_260x"/>
          <p:cNvPicPr/>
          <p:nvPr/>
        </p:nvPicPr>
        <p:blipFill>
          <a:blip r:embed="rId1"/>
          <a:stretch/>
        </p:blipFill>
        <p:spPr>
          <a:xfrm>
            <a:off x="250920" y="189000"/>
            <a:ext cx="3313080" cy="6437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3924360" y="214200"/>
            <a:ext cx="453384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www.nau.pl/pozyczka/img/ulotka2.png"/>
          <p:cNvPicPr/>
          <p:nvPr/>
        </p:nvPicPr>
        <p:blipFill>
          <a:blip r:embed="rId1"/>
          <a:stretch/>
        </p:blipFill>
        <p:spPr>
          <a:xfrm>
            <a:off x="324000" y="333360"/>
            <a:ext cx="7272360" cy="63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ulotka%20zima%202012"/>
          <p:cNvPicPr/>
          <p:nvPr/>
        </p:nvPicPr>
        <p:blipFill>
          <a:blip r:embed="rId1"/>
          <a:stretch/>
        </p:blipFill>
        <p:spPr>
          <a:xfrm>
            <a:off x="395280" y="115920"/>
            <a:ext cx="3216240" cy="6626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ulotka-wersja-koncowa"/>
          <p:cNvPicPr/>
          <p:nvPr/>
        </p:nvPicPr>
        <p:blipFill>
          <a:blip r:embed="rId2"/>
          <a:stretch/>
        </p:blipFill>
        <p:spPr>
          <a:xfrm>
            <a:off x="3924360" y="47520"/>
            <a:ext cx="4535280" cy="663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http://www.bs.olawa.pl/imgbig/plakat_kredyt_wiosna_2012.jpg"/>
          <p:cNvPicPr/>
          <p:nvPr/>
        </p:nvPicPr>
        <p:blipFill>
          <a:blip r:embed="rId1"/>
          <a:stretch/>
        </p:blipFill>
        <p:spPr>
          <a:xfrm>
            <a:off x="179280" y="144360"/>
            <a:ext cx="4567320" cy="6524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www.bs.olawa.pl/imgbig/plakat.jpg"/>
          <p:cNvPicPr/>
          <p:nvPr/>
        </p:nvPicPr>
        <p:blipFill>
          <a:blip r:embed="rId2"/>
          <a:stretch/>
        </p:blipFill>
        <p:spPr>
          <a:xfrm>
            <a:off x="4902120" y="482760"/>
            <a:ext cx="410544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bsmuszyna.com/edc_media/List/Item-17/TinyImages/Kredyt.jpg"/>
          <p:cNvPicPr/>
          <p:nvPr/>
        </p:nvPicPr>
        <p:blipFill>
          <a:blip r:embed="rId1"/>
          <a:stretch/>
        </p:blipFill>
        <p:spPr>
          <a:xfrm>
            <a:off x="155520" y="252360"/>
            <a:ext cx="4560840" cy="6450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"/>
          <p:cNvPicPr/>
          <p:nvPr/>
        </p:nvPicPr>
        <p:blipFill>
          <a:blip r:embed="rId2"/>
          <a:stretch/>
        </p:blipFill>
        <p:spPr>
          <a:xfrm>
            <a:off x="5508720" y="981000"/>
            <a:ext cx="29052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www.absbank.pl/userfiles/image/plakat_poziomo_-kredyt_popularny_-_8_x_placowka_-_internet.jpg"/>
          <p:cNvPicPr/>
          <p:nvPr/>
        </p:nvPicPr>
        <p:blipFill>
          <a:blip r:embed="rId1"/>
          <a:stretch/>
        </p:blipFill>
        <p:spPr>
          <a:xfrm>
            <a:off x="34920" y="260280"/>
            <a:ext cx="8991720" cy="63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8T14:51:54Z</dcterms:created>
  <dc:creator>IG UP Dorocki</dc:creator>
  <dc:description/>
  <dc:language>en-US</dc:language>
  <cp:lastModifiedBy>IG UP Dorocki</cp:lastModifiedBy>
  <dcterms:modified xsi:type="dcterms:W3CDTF">2013-05-08T15:05:52Z</dcterms:modified>
  <cp:revision>2</cp:revision>
  <dc:subject/>
  <dc:title>Prezentacja programu PowerPoint</dc:title>
</cp:coreProperties>
</file>