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F759-8E70-49C4-94FB-682A8B88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EC3-8F60-4701-8CF8-7A7215F3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7A2-A2C2-4E81-B601-DA4667B2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05F-13A0-47CE-BFE8-9690E5C6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A46-6C34-49C8-A372-9F7F4263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F60-60E8-4691-ABC8-CC129D52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2563-63AE-4E88-A8B9-795E32DE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7C9-5DB1-4021-ADC9-0369BA2D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531-D73D-4FBD-82D3-739A49B9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0A2-0258-4F1F-9818-7DE0D823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BCA-B286-440F-B674-DBF761BF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5EC-8607-4FD7-9502-C2D4BAFC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CFDA-77E7-4022-81BC-3039223F101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K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ykłady przedsiębiorstw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 różnych bran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ortal i biuro podróży KAUKAZ.P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1282_1305"/>
          <p:cNvPicPr/>
          <p:nvPr/>
        </p:nvPicPr>
        <p:blipFill>
          <a:blip r:embed="rId1"/>
          <a:stretch/>
        </p:blipFill>
        <p:spPr>
          <a:xfrm>
            <a:off x="2700360" y="2968560"/>
            <a:ext cx="374328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Alior B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logo"/>
          <p:cNvPicPr/>
          <p:nvPr/>
        </p:nvPicPr>
        <p:blipFill>
          <a:blip r:embed="rId1"/>
          <a:stretch/>
        </p:blipFill>
        <p:spPr>
          <a:xfrm>
            <a:off x="1042920" y="2131920"/>
            <a:ext cx="71294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Heidelberg Cement –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Cementownia Górażdż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3"/>
          <p:cNvPicPr/>
          <p:nvPr/>
        </p:nvPicPr>
        <p:blipFill>
          <a:blip r:embed="rId1"/>
          <a:stretch/>
        </p:blipFill>
        <p:spPr>
          <a:xfrm>
            <a:off x="2340000" y="2184480"/>
            <a:ext cx="47530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ancelaria adwokac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kancelaria_adwokacka"/>
          <p:cNvPicPr/>
          <p:nvPr/>
        </p:nvPicPr>
        <p:blipFill>
          <a:blip r:embed="rId1"/>
          <a:stretch/>
        </p:blipFill>
        <p:spPr>
          <a:xfrm>
            <a:off x="457200" y="2627280"/>
            <a:ext cx="82296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klep osiedlow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klepLeon_0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Geostrategic Consulting International – międzynarodowe doradztwo biznesow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zachy_w_regionie"/>
          <p:cNvPicPr/>
          <p:nvPr/>
        </p:nvPicPr>
        <p:blipFill>
          <a:blip r:embed="rId1"/>
          <a:stretch/>
        </p:blipFill>
        <p:spPr>
          <a:xfrm>
            <a:off x="2124000" y="2576520"/>
            <a:ext cx="47530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Uniwersytet Pedagogiczny im. 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ider_uczelni"/>
          <p:cNvPicPr/>
          <p:nvPr/>
        </p:nvPicPr>
        <p:blipFill>
          <a:blip r:embed="rId1"/>
          <a:stretch/>
        </p:blipFill>
        <p:spPr>
          <a:xfrm>
            <a:off x="755640" y="2046240"/>
            <a:ext cx="77770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Kopalnia rud cynku i ołowiu „Pomorzan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29_full"/>
          <p:cNvPicPr/>
          <p:nvPr/>
        </p:nvPicPr>
        <p:blipFill>
          <a:blip r:embed="rId1"/>
          <a:stretch/>
        </p:blipFill>
        <p:spPr>
          <a:xfrm>
            <a:off x="1692360" y="1703520"/>
            <a:ext cx="56163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K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KP-nowe"/>
          <p:cNvPicPr/>
          <p:nvPr/>
        </p:nvPicPr>
        <p:blipFill>
          <a:blip r:embed="rId1"/>
          <a:stretch/>
        </p:blipFill>
        <p:spPr>
          <a:xfrm>
            <a:off x="457200" y="1670040"/>
            <a:ext cx="3106800" cy="165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pkp2"/>
          <p:cNvPicPr/>
          <p:nvPr/>
        </p:nvPicPr>
        <p:blipFill>
          <a:blip r:embed="rId2"/>
          <a:stretch/>
        </p:blipFill>
        <p:spPr>
          <a:xfrm>
            <a:off x="4140360" y="3105000"/>
            <a:ext cx="471780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09:49:00Z</dcterms:created>
  <dc:creator>Administrator</dc:creator>
  <dc:description/>
  <dc:language>en-US</dc:language>
  <cp:lastModifiedBy>Prycz</cp:lastModifiedBy>
  <dcterms:modified xsi:type="dcterms:W3CDTF">2013-05-19T05:48:04Z</dcterms:modified>
  <cp:revision>3</cp:revision>
  <dc:subject/>
  <dc:title>PKD</dc:title>
</cp:coreProperties>
</file>