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132-CCDA-44A4-8DAE-E04F76CD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484-EE78-483D-85AB-B3F82169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F42-8BF9-4F0B-9D3F-51BD5898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EE1-5C4B-4A61-88F6-09D3D9E7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A6C-DEF3-44D3-878B-6D7FC7AC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F49-C19B-4F42-9038-D7853D4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F41-8DE8-4868-88DC-7C068339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683-A195-4ADF-9776-D7CBE134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D71-1E86-45F2-A93B-5E9C145B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687-44A3-4EC0-B545-5BB3452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BBF-E02F-40A6-93DD-2C8947F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B1D-C724-42DE-97F3-731E3B4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2857-4B68-4C7E-8B71-52082621159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K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kłady przedsiębiorst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 różnych bran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ortal i biuro podróży KAUKAZ.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282_1305"/>
          <p:cNvPicPr/>
          <p:nvPr/>
        </p:nvPicPr>
        <p:blipFill>
          <a:blip r:embed="rId1"/>
          <a:stretch/>
        </p:blipFill>
        <p:spPr>
          <a:xfrm>
            <a:off x="2700360" y="2968560"/>
            <a:ext cx="3743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Alior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"/>
          <p:cNvPicPr/>
          <p:nvPr/>
        </p:nvPicPr>
        <p:blipFill>
          <a:blip r:embed="rId1"/>
          <a:stretch/>
        </p:blipFill>
        <p:spPr>
          <a:xfrm>
            <a:off x="1042920" y="2131920"/>
            <a:ext cx="7129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idelberg Cement –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Cementownia Górażdż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3"/>
          <p:cNvPicPr/>
          <p:nvPr/>
        </p:nvPicPr>
        <p:blipFill>
          <a:blip r:embed="rId1"/>
          <a:stretch/>
        </p:blipFill>
        <p:spPr>
          <a:xfrm>
            <a:off x="2340000" y="2184480"/>
            <a:ext cx="4753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ancelaria adwokac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kancelaria_adwokacka"/>
          <p:cNvPicPr/>
          <p:nvPr/>
        </p:nvPicPr>
        <p:blipFill>
          <a:blip r:embed="rId1"/>
          <a:stretch/>
        </p:blipFill>
        <p:spPr>
          <a:xfrm>
            <a:off x="457200" y="2627280"/>
            <a:ext cx="8229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klep osiedl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klepLeon_0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Geostrategic Consulting International – międzynarodowe doradztwo biznes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zachy_w_regionie"/>
          <p:cNvPicPr/>
          <p:nvPr/>
        </p:nvPicPr>
        <p:blipFill>
          <a:blip r:embed="rId1"/>
          <a:stretch/>
        </p:blipFill>
        <p:spPr>
          <a:xfrm>
            <a:off x="2124000" y="2576520"/>
            <a:ext cx="4753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Uniwersytet Pedagogiczny im. 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der_uczelni"/>
          <p:cNvPicPr/>
          <p:nvPr/>
        </p:nvPicPr>
        <p:blipFill>
          <a:blip r:embed="rId1"/>
          <a:stretch/>
        </p:blipFill>
        <p:spPr>
          <a:xfrm>
            <a:off x="755640" y="2046240"/>
            <a:ext cx="77770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Kopalnia rud cynku i ołowiu „Pomorzan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9_full"/>
          <p:cNvPicPr/>
          <p:nvPr/>
        </p:nvPicPr>
        <p:blipFill>
          <a:blip r:embed="rId1"/>
          <a:stretch/>
        </p:blipFill>
        <p:spPr>
          <a:xfrm>
            <a:off x="1692360" y="170352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K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KP-nowe"/>
          <p:cNvPicPr/>
          <p:nvPr/>
        </p:nvPicPr>
        <p:blipFill>
          <a:blip r:embed="rId1"/>
          <a:stretch/>
        </p:blipFill>
        <p:spPr>
          <a:xfrm>
            <a:off x="457200" y="1670040"/>
            <a:ext cx="310680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kp2"/>
          <p:cNvPicPr/>
          <p:nvPr/>
        </p:nvPicPr>
        <p:blipFill>
          <a:blip r:embed="rId2"/>
          <a:stretch/>
        </p:blipFill>
        <p:spPr>
          <a:xfrm>
            <a:off x="4140360" y="3105000"/>
            <a:ext cx="47178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09:49:00Z</dcterms:created>
  <dc:creator>Administrator</dc:creator>
  <dc:description/>
  <dc:language>en-US</dc:language>
  <cp:lastModifiedBy>Prycz</cp:lastModifiedBy>
  <dcterms:modified xsi:type="dcterms:W3CDTF">2013-05-19T05:48:04Z</dcterms:modified>
  <cp:revision>3</cp:revision>
  <dc:subject/>
  <dc:title>PKD</dc:title>
</cp:coreProperties>
</file>