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AFF-8DDF-4F24-B1C5-771FE3CC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FBD-7164-4845-951F-8F547780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061-29E9-429B-9323-165CBD94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826-4BB7-4BE7-B8B7-D3B0AF19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920-9267-4EA9-8A2A-320CDB52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649-6702-4957-9136-9C0C93A0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654-731F-4A18-A897-BCA8463B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508-3056-4DC3-BF4B-CF7B1E87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DBA-A581-4150-A96E-F8FF366D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3B7-45DA-44B9-B16A-30CDA098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A10-36E3-48C6-B2CC-6FEC115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2CE-756D-4EB3-9F80-4ED754D9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900-2E40-4998-9429-D73BF781A56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K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kłady przedsiębiorst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 różnych bran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ortal i biuro podróży KAUKAZ.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282_1305"/>
          <p:cNvPicPr/>
          <p:nvPr/>
        </p:nvPicPr>
        <p:blipFill>
          <a:blip r:embed="rId1"/>
          <a:stretch/>
        </p:blipFill>
        <p:spPr>
          <a:xfrm>
            <a:off x="2700360" y="2968560"/>
            <a:ext cx="37432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Alior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logo"/>
          <p:cNvPicPr/>
          <p:nvPr/>
        </p:nvPicPr>
        <p:blipFill>
          <a:blip r:embed="rId1"/>
          <a:stretch/>
        </p:blipFill>
        <p:spPr>
          <a:xfrm>
            <a:off x="1042920" y="2131920"/>
            <a:ext cx="7129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eidelberg Cement –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Cementownia Górażdż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3"/>
          <p:cNvPicPr/>
          <p:nvPr/>
        </p:nvPicPr>
        <p:blipFill>
          <a:blip r:embed="rId1"/>
          <a:stretch/>
        </p:blipFill>
        <p:spPr>
          <a:xfrm>
            <a:off x="2340000" y="2184480"/>
            <a:ext cx="4753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ancelaria adwokac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kancelaria_adwokacka"/>
          <p:cNvPicPr/>
          <p:nvPr/>
        </p:nvPicPr>
        <p:blipFill>
          <a:blip r:embed="rId1"/>
          <a:stretch/>
        </p:blipFill>
        <p:spPr>
          <a:xfrm>
            <a:off x="457200" y="2627280"/>
            <a:ext cx="8229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klep osiedl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klepLeon_0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Geostrategic Consulting International – międzynarodowe doradztwo bizneso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zachy_w_regionie"/>
          <p:cNvPicPr/>
          <p:nvPr/>
        </p:nvPicPr>
        <p:blipFill>
          <a:blip r:embed="rId1"/>
          <a:stretch/>
        </p:blipFill>
        <p:spPr>
          <a:xfrm>
            <a:off x="2124000" y="2576520"/>
            <a:ext cx="4753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Uniwersytet Pedagogiczny im. 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der_uczelni"/>
          <p:cNvPicPr/>
          <p:nvPr/>
        </p:nvPicPr>
        <p:blipFill>
          <a:blip r:embed="rId1"/>
          <a:stretch/>
        </p:blipFill>
        <p:spPr>
          <a:xfrm>
            <a:off x="755640" y="2046240"/>
            <a:ext cx="77770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Kopalnia rud cynku i ołowiu „Pomorzan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9_full"/>
          <p:cNvPicPr/>
          <p:nvPr/>
        </p:nvPicPr>
        <p:blipFill>
          <a:blip r:embed="rId1"/>
          <a:stretch/>
        </p:blipFill>
        <p:spPr>
          <a:xfrm>
            <a:off x="1692360" y="170352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K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KP-nowe"/>
          <p:cNvPicPr/>
          <p:nvPr/>
        </p:nvPicPr>
        <p:blipFill>
          <a:blip r:embed="rId1"/>
          <a:stretch/>
        </p:blipFill>
        <p:spPr>
          <a:xfrm>
            <a:off x="457200" y="1670040"/>
            <a:ext cx="310680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pkp2"/>
          <p:cNvPicPr/>
          <p:nvPr/>
        </p:nvPicPr>
        <p:blipFill>
          <a:blip r:embed="rId2"/>
          <a:stretch/>
        </p:blipFill>
        <p:spPr>
          <a:xfrm>
            <a:off x="4140360" y="3105000"/>
            <a:ext cx="47178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09:49:00Z</dcterms:created>
  <dc:creator>Administrator</dc:creator>
  <dc:description/>
  <dc:language>en-US</dc:language>
  <cp:lastModifiedBy>Prycz</cp:lastModifiedBy>
  <dcterms:modified xsi:type="dcterms:W3CDTF">2013-05-19T05:48:04Z</dcterms:modified>
  <cp:revision>3</cp:revision>
  <dc:subject/>
  <dc:title>PKD</dc:title>
</cp:coreProperties>
</file>