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F4F-8ED5-44A4-A854-C5489802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00A-D334-4FB0-B2E7-9FE1CE23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870-4D3D-48C2-8895-CFC14832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EFC-BC98-4527-9204-CB60E6E6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4A07-00AE-4547-9BDD-134B2402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64CD-52CE-461D-91BE-2D560328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2375-4706-485B-AA1A-DC3220B3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5A1B-2A7F-488C-B62A-53072530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D37E-5639-4248-A218-0D4D3E53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C1B2-3A30-4D36-90C4-E07A8A7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CDF5-F087-4D0F-A8AF-440CA92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BC2-C6AA-4AD9-ACB8-CC73B15E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CF28-9A23-4E77-8F78-3E7B333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648C-5973-4BCA-A13B-5863AE4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79B-97E2-49B3-9A9C-85379CFB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9DAC-755D-4263-B099-DD6A2484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A239-F094-4AFE-A889-56E9CED5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01B33-BC34-4623-9E89-F10A6C2E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141DB-D748-4A9B-94F4-10886562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F1A7B-8CBA-4A50-9976-1AEDA054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43C50-1844-4707-BDEC-61E3364C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98F53-9F09-4B54-8CC1-46531778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974-BDF7-41DE-8A27-E288756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EECE8-83C3-44C3-B362-E15D831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D2738-15DB-418D-8C20-BD41F8B9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9664E-AE65-49B0-986E-3ED6F505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7AC2E-6353-40E8-A007-F5D9226F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6E0C8-5262-4411-9977-ADE5E4D7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539DC-F940-4A4B-BE40-48B79D49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8B896-CD97-4AC0-A379-2D01E1C4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ED3ED-BF18-4E8C-94AF-3B722FA0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A977CB-CD50-482A-812A-A0F1D210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20889-0B89-47F0-A051-D92CC6F6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BBB-3AB2-4473-9995-84AB2EA8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E1F6F-F78E-402C-ABE5-5518AA5F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BA9C8-EABE-49C7-8B2E-5C669BC1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9D836-AAC6-41CE-AB2B-CD2ED4CE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CFC98-A416-4665-9856-74A3AE5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C2006-7003-4867-A331-A0929FF9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8C1E8-573F-4FFC-B58C-2B2A291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545CE-0FF0-4D50-A0FA-FB741D03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2387E-360B-43D2-9FFC-2634DF20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AD9C1-5557-437F-B185-FCDBA929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2ADCC-4EFD-4102-A81D-8DC9347A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086-5355-406B-8627-26670D22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C009B-7BE9-439C-B23C-F0042CA7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7A86F-4265-423C-8ED5-71C12895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449ED-BA0C-4907-B679-44FFBB49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3545D-423D-472D-9CC8-5C26A960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1992F-2A40-409A-B765-01CCFAF4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95817-2D21-48FE-BE5C-F5F4F65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9D032-54DA-43AC-A28F-FA5EF052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602A6-D49C-491D-B528-FFA3575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C4BB9-8C37-49AF-AB41-D1A2BA9C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E1FC1-32B8-4574-B4AE-22C9888D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F1C-90C5-4F21-842C-EFE3CF8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773DD-C6D0-44CC-99F3-42024966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EADBA-2EBC-4172-9E50-E0D6560A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06CBC-B7FC-4E56-9B62-137C20B9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FBBA-B7BB-48F7-8749-E8B0120D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8360-AAAA-4335-A0B3-AD438A43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F851E-7A0B-4F47-943A-40147414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29745-46C4-4709-85B5-D95F51E7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67F7F-67F9-48F4-8AD0-E498FBFA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73F1E-E8FF-48D4-A7BA-F6272541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DBE2E-6792-475C-8759-98D3BB6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7B0-FFDC-4E4B-8469-DB97F631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56D7-6509-4FFE-BCA5-29CC7BF7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ABF7-860F-413B-9CAC-FF865CAA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5A06A-894C-4910-BB7F-02B3F26C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5345D-B83F-4075-8213-349EDB3B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0F2CB-052F-443C-8292-7489F6A2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54926-B5F6-4B7B-8548-6CD7812B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9911C-1566-4CFF-B92D-60CE762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C5739-0878-47A4-8381-FA557E1D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58554-4BAD-4E6C-8824-D5626F16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DF6DD-198E-44E2-9462-058F090A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414-8012-4F59-8859-36C06C9A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DC318-8198-46E8-B379-C3F7E5B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F39B4-4B80-4CED-BFC6-B3FDE320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91844-6DDB-4526-81EF-52E11464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1D3D0-A11C-4979-A4DA-244AA671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80802-ADA9-42A5-8B20-76E03134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4D20-1B1C-4F0F-B8B1-A7746318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1F1A8-980F-4915-94C7-BB7C006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E99D9-7D03-4229-95A5-D43288F9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F069A-F394-432B-AB64-DC005DD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56C7-FD79-4A49-93D9-5E393E6E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A67-E508-451F-ACC0-BE46AE3F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16033-D91D-4C02-8227-630EB2DA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06543-7306-46CC-9FDA-B8BEC34E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D26DB-E21F-4BB4-99D6-A63B1E15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27B4B-B72D-4046-91CA-E32B548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9084A-9E14-4BD7-88DC-AB7D17BA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BE908-6AB3-4893-8C2E-F7E30DB5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3844D-31A7-4E96-B7B0-7502AAD9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915A-3F0B-4E47-A8EA-0358B07066B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FA3F-A3D1-4C52-9612-AE5E1309CE17}" type="slidenum">
              <a:rPr b="1" lang="en-US" sz="1400" spc="-1" strike="noStrike">
                <a:solidFill>
                  <a:srgbClr val="fff39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2F0D-0B52-4A60-83A8-2C0B64D9D42C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1E9-CA23-417F-8C99-3C88E4508D9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DAE0-E88A-4A68-AE44-0C7411297AD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5112-B205-49A9-A5BC-3A20FA1177D0}" type="slidenum">
              <a:rPr b="1" lang="en-US" sz="14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rostokąt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05B4-62AB-4C85-A6D0-E252DC984C87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33DB-A721-487A-8319-B370C126A4D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0581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Arial Narrow"/>
                <a:ea typeface="Mangal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53" name="Picture 12" descr="C:\Users\Slawek\AppData\Local\Microsoft\Windows\Temporary Internet Files\Content.IE5\Y4PNZ49I\MP900401568[1].jpg"/>
          <p:cNvPicPr/>
          <p:nvPr/>
        </p:nvPicPr>
        <p:blipFill>
          <a:blip r:embed="rId1"/>
          <a:stretch/>
        </p:blipFill>
        <p:spPr>
          <a:xfrm>
            <a:off x="250920" y="1557360"/>
            <a:ext cx="3409920" cy="5111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348000" y="2349360"/>
            <a:ext cx="57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Własna firma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krok po kroku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tem najpierw trzeba zastanowić si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94920" y="1341000"/>
            <a:ext cx="76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im kapitałem początkowym się dysponu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a będzie skala działalnoś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jest się gotowym, aby zaryzykować całym majątkiem osobistym, czy lepiej oddzielić go od spraw związanych z prowadzeniem działalnoś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decyzje związane z prowadzeniem działalności, jej kontrolą, chce się podejmować samodzielnie czy we współpracy z inny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39640" y="134136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jpopularniejszą formą prawną prowadzenia działalności jest jednoosobowa działalność gospodarcza. Największą zaletą takiego wyboru jest fakt, że jest najłatwiejsza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 założeniu. By ją rozpocząć, wystarczy we właściwym urzędzie gminy złożyć wniosek rejestracyjny, a resztę formalności, poza założeniem firmowego konta bankowego, wykonają urzędnicy (wpis w krajowym rejestrze urzędowym podmiotów gospodarki narodowej – REGON – zgłoszenie identyfikacyjne albo aktualizacja NIP oraz zgłoszenie płatnika składek do ZU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ytuł 21"/>
          <p:cNvSpPr/>
          <p:nvPr/>
        </p:nvSpPr>
        <p:spPr>
          <a:xfrm>
            <a:off x="1187280" y="260280"/>
            <a:ext cx="66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ednoosobowa działalność gospodarc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chemat blokowy: proces 17"/>
          <p:cNvSpPr/>
          <p:nvPr/>
        </p:nvSpPr>
        <p:spPr>
          <a:xfrm>
            <a:off x="179280" y="189000"/>
            <a:ext cx="8713800" cy="648000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 rot="16200000">
            <a:off x="-2881800" y="267408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jestracj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ziałalności gospodarcze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http://g.infor.pl/obrazki/i65/2009/010/i65.2009.010.000.0044.001.jpg"/>
          <p:cNvPicPr/>
          <p:nvPr/>
        </p:nvPicPr>
        <p:blipFill>
          <a:blip r:embed="rId1"/>
          <a:stretch/>
        </p:blipFill>
        <p:spPr>
          <a:xfrm>
            <a:off x="2700360" y="189000"/>
            <a:ext cx="619128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Schemat zakładania firmy"/>
          <p:cNvPicPr/>
          <p:nvPr/>
        </p:nvPicPr>
        <p:blipFill>
          <a:blip r:embed="rId1"/>
          <a:stretch/>
        </p:blipFill>
        <p:spPr>
          <a:xfrm>
            <a:off x="250920" y="1268280"/>
            <a:ext cx="8727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by prawidłowo wypełnić wniosek EDG-1 – wniosek o wpis do centralnej ewidencji i informacji o działalności gospodarczej – należy:</a:t>
            </a:r>
            <a:endParaRPr b="0" lang="en-US" sz="2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23640" y="1341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iąć ze sobą dokument tożsamości (dowód osobist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ić rodzaj prowadzonej przez siebie działalności gospodarczej. Rodzaje działalności gospodarczej są określone w Polskiej Klasyfikacji Działalności (PK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eć wymyśloną nazwę dla swojej firmy (w nazwie będzie też nasze imię i nazwisko) oraz wiedzieć, gdzie będzie znajdowała się jej siedziba (może to być np. mieszkani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6661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5f6d"/>
                </a:solidFill>
                <a:latin typeface="Franklin Gothic Book"/>
              </a:rPr>
              <a:t>Aby prawidłowo wypełnić wniosek </a:t>
            </a:r>
            <a:br>
              <a:rPr sz="2500"/>
            </a:br>
            <a:r>
              <a:rPr b="1" lang="en-US" sz="2500" spc="-1" strike="noStrike">
                <a:solidFill>
                  <a:srgbClr val="575f6d"/>
                </a:solidFill>
                <a:latin typeface="Franklin Gothic Book"/>
              </a:rPr>
              <a:t>EDG-1, należy: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2364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ć datę rozpoczęcia przez działalności (od tej chwili należy płacić podatek i składki ZU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ć dane personalne zatrudnionych przez nas osób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ć nazwę i adres biura rachunkowego, które będzie prowadziło rachunkowość naszej firmy (jeśli nie zdecydujemy się robić tego sam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pełniony wniosek należy zostawić w urzędzie gminy/miasta, gdzie jego treść będzie zweryfikowana przez urzędnika pod kątem formal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niosek o wpis do ewidencji działalności gospodarczej składany jest na specjalnym formularzu (EDG-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jednocześnie stanowi wniosek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is do Krajowego Rejestru Urzędowego Podmiotów Gospodarki Narodowej, czyli nadanie numeru REG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głoszenie identyfikacyjne albo aktualizacyjne, czyli zgłoszenie do urzędu skarboweg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głoszenie płatnika składek albo jego zmiany, czyli do ZUS lub K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1042920" y="189000"/>
            <a:ext cx="6913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integrowany wniosek EDG-1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tzw. jedno oki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9492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obiśc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z pełnomocnika – konieczne pełnomocnictwo przynajmniej rodzajowe (określające czynność prawną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słanie na adres właściwego urzędu gminy listem poleconym (w tym wypadku wniosek opatrzony jest własnoręcznym podpisem wnioskodawcy, którego własnoręczność poświadczona jest przez notariusz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nicznie za pośrednictwem formularza dostępnego na stronie internetowej urzędu gminy, podpisanego podpisem elektronicz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24000" y="836640"/>
            <a:ext cx="734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ytuł 21"/>
          <p:cNvSpPr/>
          <p:nvPr/>
        </p:nvSpPr>
        <p:spPr>
          <a:xfrm>
            <a:off x="1042920" y="189000"/>
            <a:ext cx="6842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osoby składania wniosku EDG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94920" y="1341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ażdy przedsiębiorca ma obowiązek posiadać firmowy rachunek bankowy. Konto firmowe służy do rozliczeń z tytułu dokonywania lub przyjmowania płatności związan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 wykonywaną działalnością gospodarczą, jak również do rozliczeń z ZUS-em oraz urzędem skarbowy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zwyczaj opłaty za prowadzenie firmowego rachunku są znacznie wyższe niż w przypadku kont osobistych.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soby fizyczne prowadzące działalność gospodarczą nie muszą otwierać rachunku firmowego, o ile nie łamie to regulaminu banku. Jest to duże ułatwienie dla samozatrudnionych i osób prowadzących małe przedsiębiorstw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324000" y="1413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00800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 otworzenia firmowego konta bankowego, potrzebne są m.in.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wód osobist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świadczenie o wpisie do ewidencji działalności gospodarczej lub wypis z KR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świadczenie o numerze REGON (zarówno oryginał, jak i kserokopie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zątka firmow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zed wizytą w banku warto jeszcze upewnić się, czy instytucja nie wymaga przedstawienia jeszcze innych dodatkowych dokumentów. W banku, po wypełnieniu wniosku o założenie rachunku bieżącego dla działalności gospodarczej, zostanie przyznane twojej firmie ko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324000" y="1413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95280" y="260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dstawowe poję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95280" y="1700280"/>
            <a:ext cx="842472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ziałalnością gospodarczą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jest zarobkowa działalność wytwórcza, budowlana, handlowa, usługowa itp. , a także działalność zawodowa, wykonywana w sposób zorganizowany i ciągł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dsiębiorcą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rozumieniu ustawy jest osoba fizyczna, osoba prawna i jednostka organizacyjna niebędąca osobą prawną, której odrębna ustawa przyznaje zdolność prawną – wykonująca we własnym imieniu działalność gospodarcz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0581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Franklin Gothic Book"/>
              </a:rPr>
              <a:t>Urząd skarbowy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24000" y="1413000"/>
            <a:ext cx="8208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miętaj o wyborze formy opodatkowania (do wyboru: zasady ogólne, podatek liniowy, ryczałt, karta podatkow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tym celu należy wypełnić odpowiedni wniosek i udać si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im do urzędu skarbowego, właściwego dla miejsca prowadzonej działalności. Wniosek możesz również wysłać poczt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0578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Franklin Gothic Book"/>
              </a:rPr>
              <a:t>Zakład Ubezpieczeń Społecznych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2364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równo ty, jak i twoi współpracownicy, muszą mieć opłacone składki na ubezpieczenia społeczne. Idąc do ZUS-u, musisz zabrać ze sobą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ód osobisty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 REGON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 NI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 konta bankow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y zgłosić firmę, trzeba wypełnić formularz ZFA, a zgłaszając siebie – ZUA. Taki sam formularz będziesz wypełniał dla każdego, kogo zatrudnisz i musisz to zrobić w ciągu 7 dni od angażu. Po wypełnieniu wniosków otrzymasz numer konta, na które należy wpłacać skład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539640" y="476280"/>
            <a:ext cx="8229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dury krok po k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24000" y="981000"/>
          <a:ext cx="8353440" cy="5711760"/>
        </p:xfrm>
        <a:graphic>
          <a:graphicData uri="http://schemas.openxmlformats.org/drawingml/2006/table">
            <a:tbl>
              <a:tblPr/>
              <a:tblGrid>
                <a:gridCol w="1622160"/>
                <a:gridCol w="2270160"/>
                <a:gridCol w="2108160"/>
                <a:gridCol w="2352960"/>
              </a:tblGrid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DZAJ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ZIAŁALNOŚCI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EDNOOSOBOWA DZIAŁALNOŚĆ GOSPODARC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PÓŁKA CYWIL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PÓŁKA Z O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Umowa spół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e dotyc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mowa w zwykłej formie pisemn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mowa w formie aktu notarialn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 Rejestracj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działalnoś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gminy: wpis do ewidencji działalności gospodarczej (REGON, aktualizacja NIP), zgłoszenie płatnika składek Z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gminy: wpisy do ewidencji działalności gospodarczej wspólników, REGON (Rg-1), nadanie NIP spółce i aktualizacja NIP właścicie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ąd rejestrowy: REGON, NIP, zgłoszenie płatnika składek Z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 Wybór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zczególnej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formy     opodatkowani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skarbowy: wybór szczególnej formy opodatkowania (podatek liniowy, ryczałt, karta podatkowa) następuje w drodze oświadczenia, urząd nie pobiera za tę czynność opłat, wyboru należy dokonać przed uzyskaniem pierwszego dochodu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 przeciwnym razie urząd narzuca opodatkowanie na zasadach ogól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e dotyczy, osoby prawne płacą CIT w wysokości 19% doch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 Pieczątka fir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ej wyrobienie nie jest obowiązkowe, natomiast niewątpliwie ułatwia posługiwanie się w obrocie gospodarczym (zwłaszcza w banku) danymi firmy, takimi jak: nazwa firmy, adres czy N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 Konto banko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ybrany bank: wniosek o otwarcie rachunku z załączonym dokumentem potwierdzającym prowadzenie działalności gospodarczej lub spółki prawa handlowego, założenie konta bankowego jest niezbędne m.in. dla płatników V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 Rejestracj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płatnika V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skarbowy: należy wypełnić formularz dostępny w urzędzie lub na stronie internetowej i wnieść opłatę w wysokości 170 zł, wniosek musi być złożony przed dniem wykonania pierwszej czynności opodatkowan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5056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m  CEIDG jest umożliwienie ewidencjonowania działalności gospodarczej drogą elektroniczną w ramach tzw. zero okienk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wykorzystaniem zintegrowanego formularza zawierającego dane niezbędne dla CEIDG or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zędów skarbowych (zgłoszenie identyfikacyjne/zgłoszenie aktualizacyjne osoby fizycznej prowadzącej samodzielnie działalność gospodarcz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łównego Urzędu Statystycznego (wniosek o wpis do Krajowego Rejestru Urzędowego Podmiotów Gospodarki Narodowej lub o zmianę cech objętych wpisem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ładu Ubezpieczeń Społecznych (zgłoszenie/zmia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łatnika składek) oraz Kasy Rolniczego Ubezpieczenia Społecznego (zgłoszenia oświadczenia o kontynuowaniu ubezpieczenia społecznego rolnikó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ytuł 21"/>
          <p:cNvSpPr/>
          <p:nvPr/>
        </p:nvSpPr>
        <p:spPr>
          <a:xfrm>
            <a:off x="1187280" y="189000"/>
            <a:ext cx="669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alna Ewidencja i Informacj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Działalności Gospodar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https://prod.ceidg.gov.pl/CEIDG.CMS.ENGINE/?BI;e67507fb-c830-401a-81a3-0fa199e061a6"/>
          <p:cNvPicPr/>
          <p:nvPr/>
        </p:nvPicPr>
        <p:blipFill>
          <a:blip r:embed="rId1"/>
          <a:stretch/>
        </p:blipFill>
        <p:spPr>
          <a:xfrm>
            <a:off x="0" y="0"/>
            <a:ext cx="552456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4"/>
          <p:cNvSpPr/>
          <p:nvPr/>
        </p:nvSpPr>
        <p:spPr>
          <a:xfrm>
            <a:off x="1699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6"/>
          <p:cNvSpPr/>
          <p:nvPr/>
        </p:nvSpPr>
        <p:spPr>
          <a:xfrm>
            <a:off x="1699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8" descr="http://www.arl-zagan.pl/sites/default/files/field/image/ceidg.jpg"/>
          <p:cNvPicPr/>
          <p:nvPr/>
        </p:nvPicPr>
        <p:blipFill>
          <a:blip r:embed="rId2"/>
          <a:stretch/>
        </p:blipFill>
        <p:spPr>
          <a:xfrm>
            <a:off x="5319720" y="260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odstawowe poję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042920" y="260280"/>
            <a:ext cx="684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539640" y="170028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KD – Polska Klasyfikacja Działalności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est usystematyzowanym zbiorem rodzajów działalności społeczno-gospodarczy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jakie realizują podmioty gospodarki narodowej. Jest również podstawą, do której nawiązują inne klasyfikacje, a zwłaszcz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lsk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syfikacj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robów i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ług (PKWiU). We wniosku EDG-1 oraz w rejestrze REGON używamy podklas PKD, czyli oznaczenia pięcioznakoweg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IP – Numer Identyfikacji Podatkowej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ziesięciocyfrowy kod, służący do identyfikacji podmiotów płacących podatki w Polsce. Nadawany jest przez naczelnik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zęd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arbowe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71440" y="0"/>
            <a:ext cx="790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ON – Rejestr Gospodarki Narodow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539640" y="1628640"/>
            <a:ext cx="8064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numer ewidencyjny nadawany firmom przez GU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 ten pozwala GUS-owi odróżnić przedsiębiorstw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systemie, a także stwierdzić, czym firma się zajmu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st niepowtarzalny, pozostaje niezmieniony w czasie istnienia podmio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st przechowywany w zbiorze historycznym i nie jest wykorzystywany do identyfikacji innego podmio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widacja i ponowne podjęcie działalności gospodarczej przez osobę fizyczną nie powodują nadania nowego numeru identyfikacyj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0560" y="1341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65320" indent="-6098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rzeba tylko 5 krokó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MYS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OWANIE STRATEG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EWNIENIE FINANS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ytuł 21"/>
          <p:cNvSpPr/>
          <p:nvPr/>
        </p:nvSpPr>
        <p:spPr>
          <a:xfrm>
            <a:off x="90000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Jak więc przejść od pomysłu do biznes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5" descr="C:\Users\Slawek\AppData\Local\Microsoft\Windows\Temporary Internet Files\Content.IE5\F29JIHU8\MP900442211[1].jpg"/>
          <p:cNvPicPr/>
          <p:nvPr/>
        </p:nvPicPr>
        <p:blipFill>
          <a:blip r:embed="rId1"/>
          <a:stretch/>
        </p:blipFill>
        <p:spPr>
          <a:xfrm>
            <a:off x="6156360" y="2708280"/>
            <a:ext cx="25732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8000" y="1413000"/>
            <a:ext cx="8064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nam odpowiedź na kilka podstawowych pytań, dotycząc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su produktu/usługi, które będą oferowa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y sprzedaży produktu/usług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u produkcji towaru/świadczenia usług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będnych pozwoleń, certyfikatów itp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n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ologii klie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zaru geograficznego działaln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ytuł 21"/>
          <p:cNvSpPr/>
          <p:nvPr/>
        </p:nvSpPr>
        <p:spPr>
          <a:xfrm>
            <a:off x="82692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znesplan (robocz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179280" y="1778040"/>
            <a:ext cx="89647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cnych i słabych strony proponowanego biznesu oraz sz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zagroż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izy konkuren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styki i dystrybu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u inwestycji (z informacjami na temat niezbędnych do rozpoczęcia biznesu dóbr, dostawców itp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noz ekonomicznych (zysk ze sprzedaży, wykorzystywane surowce i inne materiały, media, czynsz, zobowiązania finansowe, personel, amortyzacja, inne wydatki, podatki itd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potrzebowań kapitałowych przedsiębiorstwa oraz źródła jego pokry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ytuł 21"/>
          <p:cNvSpPr/>
          <p:nvPr/>
        </p:nvSpPr>
        <p:spPr>
          <a:xfrm>
            <a:off x="82692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znesplan (robocz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9640" y="1557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nazwę firm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formę prawną działalnoś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formę opodatkow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ecydować, czy chcemy być płatnikiem podatku V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reślić rodzaj działalności zgodnie z PK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lską Klasyfikacją Działalnośc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alić datę rozpoczęcia działalnoś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alić miejsce wykonywania działalności gospodarcz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bank, w którym będziemy mieć konto firm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ytuł 21"/>
          <p:cNvSpPr/>
          <p:nvPr/>
        </p:nvSpPr>
        <p:spPr>
          <a:xfrm>
            <a:off x="82692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żne decyz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9:37:57Z</dcterms:created>
  <dc:creator>buczeka</dc:creator>
  <dc:description/>
  <dc:language>en-US</dc:language>
  <cp:lastModifiedBy>ola</cp:lastModifiedBy>
  <dcterms:modified xsi:type="dcterms:W3CDTF">2013-06-01T17:31:28Z</dcterms:modified>
  <cp:revision>120</cp:revision>
  <dc:subject/>
  <dc:title> </dc:title>
</cp:coreProperties>
</file>