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5E0-8648-4D10-92D3-92354B6C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1BD3-422C-4C53-83B9-61F8022E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AB86-4995-4DF8-8F24-328EF5FD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852-B9DD-4ED8-BEAD-03B1036C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F34F-19F9-416B-AEE5-DCF754B1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FE56-B2B4-428C-AE42-D78A005B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629F-B167-4830-A056-62FE44AE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0FB-47C6-4248-A42A-EA73FC54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A60D-5310-434B-B0FC-B194C455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890-8CF6-482C-84CE-DE74113D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B71E-8ED6-4F3B-8C54-F5B952D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F42-FFC7-4247-A6B0-B90A553F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D60-87DE-4732-A3DB-AE8C8D9E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756C-8771-49BF-8252-1E1B2369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42F9-223B-4C06-B018-887F7629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AF60-3D39-4538-B6BB-A5DA90D6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69D-A168-4974-98BE-C24734D8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D88570-35C8-4E94-B7D1-43ECA5C0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F67D3-EC3A-4119-B7C9-0530D84F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37226-C5AF-4B95-BDA1-A2D5F596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53FC5-E21D-4512-A9C2-3A40DFAC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4E4CC-6956-43CB-AA5D-B148BC6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97C-72F2-40BF-AD54-369F361F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7719B7-53D2-422B-8655-07E76D18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4F4CE-436D-446C-A57D-EF507EA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E46B9-F085-41AA-81C7-3EA55672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3933C-8C27-4D03-A7D4-F1D0F56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DDD18E-62F3-46F8-814F-3323F238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0B2B6-84D9-4616-91D8-AB791A16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C5F2B-6719-492A-BEBA-C2AE4444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A729E-A182-4D69-856D-42109700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C6E14-D1B6-4B18-A195-2655B5F5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F23812-0A0A-4B56-A44E-6D2D5AA0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38B-0649-4450-B1DC-BA75BA86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EC758-918D-4BF9-B70A-6A9763A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D19125-85A3-42E3-B3F6-A4AB66FA9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DF9F5-547C-4037-914B-B6331989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032C5-9134-4550-9593-C7A31A2F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AADACB-FDD1-465F-8F73-6EE5BC61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FBFE8-26E0-4A6E-8519-ABDEB946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F8EDA2-ADB5-41F7-98F6-809FBE1A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B1056-F36D-42A8-882A-17B475C0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176524-1130-4332-9C15-1B6DB863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5A7B5-2A12-4D7F-92AF-9283F9E8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E63-F148-4E3D-ACBA-0E60B308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3A30C0-8BFB-47E4-99BC-B4E11A3B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42A8B-DD8D-48C2-9008-9EED6463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D97ED-7A8F-46BA-A989-284A06F0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BAC34-7EA0-473A-B8A5-920E31E9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B2F12-EEA6-4501-B91D-3745FA36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8AB06D-91DC-4DBD-9440-68554BA0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5403F3-B83E-4B89-986B-54333371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1A2974-054C-47BA-9EA5-06664D7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378A4-6A95-4DDD-A954-3087E2DC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7F7ADF-3455-476D-B871-70D7188F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649-AEBD-4717-8321-6C4AB75B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63E077-8C31-42A6-B13C-C86FA1D33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FDF5F-B69B-4E1A-88F1-7F0CD19D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579E-6B1C-41C3-9200-7D11DB1E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FDC8A-C406-4EB0-8206-34C6B4C9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7EAB-69F7-4070-BBB5-B2ADA43B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478DB-4E24-4FCC-855D-6AB1EFFA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29D72-A78A-43AD-8FC9-632F0F22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AEFBE-413D-41F4-A5E1-04BC3452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6DB0-6253-4A7D-9944-8979B6BD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A611-E04E-42E7-AB02-FB5439FF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B71-4292-4508-9F9A-EE3CF03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FBF1F-8C49-42EA-866C-033303C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947F8-97CC-4ADC-853D-6206B34A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35C8-4EE9-4795-8F6B-30961C1E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ADCEF-FEA1-4CD4-AEB6-6CD50F6F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8CF4E9-A5D1-418B-92AB-28CBAC12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72233-FFFC-4CE1-99FD-5C11CEE0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656588-C509-4F70-AA83-8187E775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F5DF0A-17E5-47C7-B8BD-126CE45E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D61836-DAC7-4BBE-8AC7-9BD446CD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0AE875-1997-4067-8DBD-9C1B6A8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F9B-81CE-436F-BD6E-59D0215B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5103C-53D0-4275-9E97-F229FFCB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104BA-8408-4322-A4DC-3E9D03E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9AD8FE-4017-42D2-8353-B1CB6BBB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914BB-01F6-4339-B478-3BE0B0B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8A9CBD-3280-42C6-8E3D-80A8CBE1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F6525-1476-4866-B572-19723D53A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F547C-FE88-4689-B692-CBE31C4A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86BA-C8C4-443D-A0CE-43ADDD54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60733-C67F-432B-B1D9-1BDAB927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B90C0-3E56-47EB-99E1-BF102974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EE7-36C5-4E07-B087-529591D9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C2DFC-7827-4F77-8DC5-4D6068C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5E50F-50B6-417F-B50B-B4E3A5CB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8B8C-936F-4ECB-B696-F8A220E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7F7F8-34F4-42B6-B0D3-4BBF53C1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68AB9-2506-4D02-A0D7-3FBA988C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CE151-F280-4F26-8F50-3D51B3237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2151D-664F-4446-B1CE-20B576CF5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DDF0-897D-402E-91FE-5EDF56DB00B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ostokąt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stokąt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F94E-2CBE-494D-B86C-DB88516BF8C7}" type="slidenum">
              <a:rPr b="1" lang="en-US" sz="1400" spc="-1" strike="noStrike">
                <a:solidFill>
                  <a:srgbClr val="fff39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rostokąt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399D-6E95-4529-B912-83C975CC9270}" type="slidenum">
              <a:rPr b="1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17D5-1FA9-4ED1-B6BB-DF599CAB142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rostokąt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rostokąt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rostokąt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B767-A06D-4D08-B8EB-83B9F2BA375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C044-2B25-4F2F-9276-D569B395A2DC}" type="slidenum">
              <a:rPr b="1" lang="en-US" sz="1400" spc="-1" strike="noStrike">
                <a:solidFill>
                  <a:srgbClr val="575f6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rostokąt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rostokąt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rostokąt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rostokąt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D727-3E90-4888-8DD5-B7CEAB6B99B3}" type="slidenum">
              <a:rPr b="1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rostokąt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rostokąt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rostokąt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759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fe8637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7598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b32c1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f5cd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4CB5-F480-4A4C-801A-43541D0BFEC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6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Arial Narrow"/>
                <a:ea typeface="Mangal"/>
              </a:rPr>
              <a:t> </a:t>
            </a:r>
            <a:endParaRPr b="0" lang="en-US" sz="27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53" name="Picture 12" descr="C:\Users\Slawek\AppData\Local\Microsoft\Windows\Temporary Internet Files\Content.IE5\Y4PNZ49I\MP900401568[1].jpg"/>
          <p:cNvPicPr/>
          <p:nvPr/>
        </p:nvPicPr>
        <p:blipFill>
          <a:blip r:embed="rId1"/>
          <a:stretch/>
        </p:blipFill>
        <p:spPr>
          <a:xfrm>
            <a:off x="250920" y="1557360"/>
            <a:ext cx="3409920" cy="5111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3348000" y="2349360"/>
            <a:ext cx="57960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Własna firma 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krok po kroku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tem najpierw trzeba zastanowić si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94920" y="1341000"/>
            <a:ext cx="766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im kapitałem początkowym się dysponu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ka będzie skala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jest się gotowym, aby zaryzykować całym majątkiem osobistym, czy lepiej oddzielić go od spraw związanych z prowadzeniem działalnoś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decyzje związane z prowadzeniem działalności, jej kontrolą, chce się podejmować samodzielnie czy we współpracy z innym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39640" y="1341360"/>
            <a:ext cx="8136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jpopularniejszą formą prawną prowadzenia działalności jest jednoosobowa działalność gospodarcza. Największą zaletą takiego wyboru jest fakt, że jest najłatwiejsza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założeniu. By ją rozpocząć, wystarczy we właściwym urzędzie gminy złożyć wniosek rejestracyjny, a resztę formalności, poza założeniem firmowego konta bankowego, wykonają urzędnicy (wpis w krajowym rejestrze urzędowym podmiotów gospodarki narodowej – REGON – zgłoszenie identyfikacyjne albo aktualizacja NIP oraz zgłoszenie płatnika składek do ZU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ytuł 21"/>
          <p:cNvSpPr/>
          <p:nvPr/>
        </p:nvSpPr>
        <p:spPr>
          <a:xfrm>
            <a:off x="1187280" y="260280"/>
            <a:ext cx="6697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ednoosobowa działalność gospodarc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chemat blokowy: proces 17"/>
          <p:cNvSpPr/>
          <p:nvPr/>
        </p:nvSpPr>
        <p:spPr>
          <a:xfrm>
            <a:off x="179280" y="189000"/>
            <a:ext cx="8713800" cy="648000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 rot="16200000">
            <a:off x="-2881800" y="267408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jestrac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ziałalności gospodarcze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http://g.infor.pl/obrazki/i65/2009/010/i65.2009.010.000.0044.001.jpg"/>
          <p:cNvPicPr/>
          <p:nvPr/>
        </p:nvPicPr>
        <p:blipFill>
          <a:blip r:embed="rId1"/>
          <a:stretch/>
        </p:blipFill>
        <p:spPr>
          <a:xfrm>
            <a:off x="2700360" y="189000"/>
            <a:ext cx="6191280" cy="65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Schemat zakładania firmy"/>
          <p:cNvPicPr/>
          <p:nvPr/>
        </p:nvPicPr>
        <p:blipFill>
          <a:blip r:embed="rId1"/>
          <a:stretch/>
        </p:blipFill>
        <p:spPr>
          <a:xfrm>
            <a:off x="250920" y="1268280"/>
            <a:ext cx="87278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351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by prawidłowo wypełnić wniosek EDG-1 – wniosek o wpis do centralnej ewidencji i informacji o działalności gospodarczej – należy:</a:t>
            </a:r>
            <a:endParaRPr b="0" lang="en-US" sz="2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23640" y="134100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iąć ze sobą dokument tożsamości (dowód osobist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kreślić rodzaj prowadzonej przez siebie działalności gospodarczej. Rodzaje działalności gospodarczej są określone w Polskiej Klasyfikacji Działalności (PK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eć wymyśloną nazwę dla swojej firmy (w nazwie będzie też nasze imię i nazwisko) oraz wiedzieć, gdzie będzie znajdowała się jej siedziba (może to być np. mieszkani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666108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Aby prawidłowo wypełnić wniosek </a:t>
            </a:r>
            <a:br>
              <a:rPr sz="2500"/>
            </a:br>
            <a:r>
              <a:rPr b="1" lang="en-US" sz="2500" spc="-1" strike="noStrike">
                <a:solidFill>
                  <a:srgbClr val="575f6d"/>
                </a:solidFill>
                <a:latin typeface="Franklin Gothic Book"/>
              </a:rPr>
              <a:t>EDG-1, należy:</a:t>
            </a:r>
            <a:endParaRPr b="0" lang="en-US" sz="25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2364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tę rozpoczęcia przez działalności (od tej chwili należy płacić podatek i składki ZU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dane personalne zatrudnionych przez nas osó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ać nazwę i adres biura rachunkowego, które będzie prowadziło rachunkowość naszej firmy (jeśli nie zdecydujemy się robić tego sam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pełniony wniosek należy zostawić w urzędzie gminy/miasta, gdzie jego treść będzie zweryfikowana przez urzędnika pod kątem formal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6800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niosek o wpis do ewidencji działalności gospodarczej składany jest na specjalnym formularzu (EDG-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jednocześnie stanowi wniosek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 do Krajowego Rejestru Urzędowego Podmiotów Gospodarki Narodowej, czyli nadanie numeru REG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identyfikacyjne albo aktualizacyjne, czyli zgłoszenie do urzędu skarbow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głoszenie płatnika składek albo jego zmiany, czyli do ZUS lub K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1042920" y="189000"/>
            <a:ext cx="6913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integrowany wniosek EDG-1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tzw. jedno okien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4920" y="1412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obiśc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z pełnomocnika – konieczne pełnomocnictwo przynajmniej rodzajowe (określające czynność prawną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słanie na adres właściwego urzędu gminy listem poleconym (w tym wypadku wniosek opatrzony jest własnoręcznym podpisem wnioskodawcy, którego własnoręczność poświadczona jest przez notariusza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ktronicznie za pośrednictwem formularza dostępnego na stronie internetowej urzędu gminy, podpisanego podpisem elektroniczn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"/>
          <p:cNvSpPr/>
          <p:nvPr/>
        </p:nvSpPr>
        <p:spPr>
          <a:xfrm>
            <a:off x="324000" y="836640"/>
            <a:ext cx="7343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ytuł 21"/>
          <p:cNvSpPr/>
          <p:nvPr/>
        </p:nvSpPr>
        <p:spPr>
          <a:xfrm>
            <a:off x="1042920" y="189000"/>
            <a:ext cx="6842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osoby składania wniosku EDG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94920" y="1341360"/>
            <a:ext cx="806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ażdy przedsiębiorca ma obowiązek posiadać firmowy rachunek bankowy. Konto firmowe służy do rozliczeń z tytułu dokonywania lub przyjmowania płatności związanych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 wykonywaną działalnością gospodarczą, jak również do rozliczeń z ZUS-em oraz urzędem skarbowy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azwyczaj opłaty za prowadzenie firmowego rachunku są znacznie wyższe niż w przypadku kont osobistych. 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soby fizyczne prowadzące działalność gospodarczą nie muszą otwierać rachunku firmowego, o ile nie łamie to regulaminu banku. Jest to duże ułatwienie dla samozatrudnionych i osób prowadzących małe przedsiębiorstw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008000" y="1196640"/>
            <a:ext cx="8136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otworzenia firmowego konta bankowego, potrzebne są m.in.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88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wód osobisty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wpisie do ewidencji działalności gospodarczej lub wypis z KRS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świadczenie o numerze REGON (zarówno oryginał, jak i kserokopie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zątka firmow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zed wizytą w banku warto jeszcze upewnić się, czy instytucja nie wymaga przedstawienia jeszcze innych dodatkowych dokumentów. W banku, po wypełnieniu wniosku o założenie rachunku bieżącego dla działalności gospodarczej, zostanie przyznane twojej firmie ko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buClr>
                <a:srgbClr val="7598d9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324000" y="141300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95280" y="260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dstawowe pojęc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395280" y="1700280"/>
            <a:ext cx="842472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-3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ziałalnością gospodarczą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 jest zarobkowa działalność wytwórcza, budowlana, handlowa, usługowa itp. , a także działalność zawodowa, wykonywana w sposób zorganizowany i ciągł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zedsiębiorcą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rozumieniu ustawy jest osoba fizyczna, osoba prawna i jednostka organizacyjna niebędąca osobą prawną, której odrębna ustawa przyznaje zdolność prawną – wykonująca we własnym imieniu działalność gospodarcz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05816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Urząd skarbowy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24000" y="1413000"/>
            <a:ext cx="820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miętaj o wyborze formy opodatkowania (do wyboru: zasady ogólne, podatek liniowy, ryczałt, karta podatkow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tym celu należy wypełnić odpowiedni wniosek i udać się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nim do urzędu skarbowego, właściwego dla miejsca prowadzonej działalności. Wniosek możesz również wysłać poczt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0578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5f6d"/>
                </a:solidFill>
                <a:latin typeface="Franklin Gothic Book"/>
              </a:rPr>
              <a:t>Zakład Ubezpieczeń Społecznych</a:t>
            </a:r>
            <a:endParaRPr b="0" lang="en-US" sz="2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2364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arówno ty, jak i twoi współpracownicy, muszą mieć opłacone składki na ubezpieczenia społeczne. Idąc do ZUS-u, musisz zabrać ze sobą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wód osobisty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REGON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NIP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r konta bankowe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y zgłosić firmę, trzeba wypełnić formularz ZFA, a zgłaszając siebie – ZUA. Taki sam formularz będziesz wypełniał dla każdego, kogo zatrudnisz i musisz to zrobić w ciągu 7 dni od angażu. Po wypełnieniu wniosków otrzymasz numer konta, na które należy wpłacać składk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539640" y="476280"/>
            <a:ext cx="82296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y krok po k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24000" y="981000"/>
          <a:ext cx="8353440" cy="5711760"/>
        </p:xfrm>
        <a:graphic>
          <a:graphicData uri="http://schemas.openxmlformats.org/drawingml/2006/table">
            <a:tbl>
              <a:tblPr/>
              <a:tblGrid>
                <a:gridCol w="1622160"/>
                <a:gridCol w="2270160"/>
                <a:gridCol w="2108160"/>
                <a:gridCol w="2352960"/>
              </a:tblGrid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RODZAJ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ZIAŁALNOŚCI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KR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DNOOSOBOWA DZIAŁALNOŚĆ GOSPODARC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CYWIL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PÓŁKA Z O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. Umowa spół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zwykłej formie pisem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mowa w formie aktu notarialn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działalnoś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 do ewidencji działalności gospodarczej (REGON, aktualizacja NIP)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gminy: wpisy do ewidencji działalności gospodarczej wspólników, REGON (Rg-1), nadanie NIP spółce i aktualizacja NIP właścicie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ąd rejestrowy: REGON, NIP, zgłoszenie płatnika składek Z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. Wybór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zczególnej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formy     opodatkowani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wybór szczególnej formy opodatkowania (podatek liniowy, ryczałt, karta podatkowa) następuje w drodze oświadczenia, urząd nie pobiera za tę czynność opłat, wyboru należy dokonać przed uzyskaniem pierwszego dochodu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 przeciwnym razie urząd narzuca opodatkowanie na zasadach ogól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ie dotyczy, osoby prawne płacą CIT w wysokości 19% dochod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. Pieczątka fir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Jej wyrobienie nie jest obowiązkowe, natomiast niewątpliwie ułatwia posługiwanie się w obrocie gospodarczym (zwłaszcza w banku) danymi firmy, takimi jak: nazwa firmy, adres czy N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. Konto bankow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ybrany bank: wniosek o otwarcie rachunku z załączonym dokumentem potwierdzającym prowadzenie działalności gospodarczej lub spółki prawa handlowego, założenie konta bankowego jest niezbędne m.in. dla płatników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. Rejestracja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 płatnika V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rząd skarbowy: należy wypełnić formularz dostępny w urzędzie lub na stronie internetowej i wnieść opłatę w wysokości 170 zł, wniosek musi być złożony przed dniem wykonania pierwszej czynności opodatkowane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56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 CEIDG jest umożliwienie ewidencjonowania działalności gospodarczej drogą elektroniczną w ramach tzw. zero okienka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wykorzystaniem zintegrowanego formularza zawierającego dane niezbędne dla CEIDG ora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zędów skarbowych (zgłoszenie identyfikacyjne/zgłoszenie aktualizacyjne osoby fizycznej prowadzącej samodzielnie działalność gospodarczą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łównego Urzędu Statystycznego (wniosek o wpis do Krajowego Rejestru Urzędowego Podmiotów Gospodarki Narodowej lub o zmianę cech objętych wpisem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ładu Ubezpieczeń Społecznych (zgłoszenie/zmia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łatnika składek) oraz Kasy Rolniczego Ubezpieczenia Społecznego (zgłoszenia oświadczenia o kontynuowaniu ubezpieczenia społecznego rolnikó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just">
              <a:lnSpc>
                <a:spcPct val="10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ytuł 21"/>
          <p:cNvSpPr/>
          <p:nvPr/>
        </p:nvSpPr>
        <p:spPr>
          <a:xfrm>
            <a:off x="1187280" y="189000"/>
            <a:ext cx="66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ntralna Ewidencja i Informacj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 Działalności Gospodarcz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https://prod.ceidg.gov.pl/CEIDG.CMS.ENGINE/?BI;e67507fb-c830-401a-81a3-0fa199e061a6"/>
          <p:cNvPicPr/>
          <p:nvPr/>
        </p:nvPicPr>
        <p:blipFill>
          <a:blip r:embed="rId1"/>
          <a:stretch/>
        </p:blipFill>
        <p:spPr>
          <a:xfrm>
            <a:off x="0" y="0"/>
            <a:ext cx="5524560" cy="6858000"/>
          </a:xfrm>
          <a:prstGeom prst="rect">
            <a:avLst/>
          </a:prstGeom>
          <a:ln w="0">
            <a:noFill/>
          </a:ln>
        </p:spPr>
      </p:pic>
      <p:sp>
        <p:nvSpPr>
          <p:cNvPr id="460" name="AutoShape 4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6"/>
          <p:cNvSpPr/>
          <p:nvPr/>
        </p:nvSpPr>
        <p:spPr>
          <a:xfrm>
            <a:off x="1699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8" descr="http://www.arl-zagan.pl/sites/default/files/field/image/ceidg.jpg"/>
          <p:cNvPicPr/>
          <p:nvPr/>
        </p:nvPicPr>
        <p:blipFill>
          <a:blip r:embed="rId2"/>
          <a:stretch/>
        </p:blipFill>
        <p:spPr>
          <a:xfrm>
            <a:off x="5319720" y="260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Podstawowe poję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1042920" y="260280"/>
            <a:ext cx="684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"/>
          <p:cNvSpPr/>
          <p:nvPr/>
        </p:nvSpPr>
        <p:spPr>
          <a:xfrm>
            <a:off x="539640" y="170028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KD – Polska Klasyfikacja Działalności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est usystematyzowanym zbiorem rodzajów działalności społeczno-gospodarczy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jakie realizują podmioty gospodarki narodowej. Jest również podstawą, do której nawiązują inne klasyfikacje, a zwłaszcz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lsk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syfikacj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robów i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ług (PKWiU). We wniosku EDG-1 oraz w rejestrze REGON używamy podklas PKD, czyli oznaczenia pięcioznakoweg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IP – Numer Identyfikacji Podatkowej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to dziesięciocyfrowy kod, służący do identyfikacji podmiotów płacących podatki w Polsce. Nadawany jest przez naczelnik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zędu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arboweg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271440" y="0"/>
            <a:ext cx="790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ON – Rejestr Gospodarki Narod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539640" y="1628640"/>
            <a:ext cx="806472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numer ewidencyjny nadawany firmom przez GU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er ten pozwala GUS-owi odróżnić przedsiębiorstw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 systemie, a także stwierdzić, czym firma się zajmu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niepowtarzalny, pozostaje niezmieniony w czasie istnienia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st przechowywany w zbiorze historycznym i nie jest wykorzystywany do identyfikacji innego podmio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widacja i ponowne podjęcie działalności gospodarczej przez osobę fizyczną nie powodują nadania nowego numeru identyfikacyj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0560" y="13410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65320" indent="-60984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rzeba tylko 5 krokó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MYS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OWANIE STRATEGI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PEWNIENIE FINANS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5320" indent="-609840">
              <a:lnSpc>
                <a:spcPct val="125000"/>
              </a:lnSpc>
              <a:spcBef>
                <a:spcPts val="15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1166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Z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ytuł 21"/>
          <p:cNvSpPr/>
          <p:nvPr/>
        </p:nvSpPr>
        <p:spPr>
          <a:xfrm>
            <a:off x="90000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Jak więc przejść od pomysłu do biznesu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5" descr="C:\Users\Slawek\AppData\Local\Microsoft\Windows\Temporary Internet Files\Content.IE5\F29JIHU8\MP900442211[1].jpg"/>
          <p:cNvPicPr/>
          <p:nvPr/>
        </p:nvPicPr>
        <p:blipFill>
          <a:blip r:embed="rId1"/>
          <a:stretch/>
        </p:blipFill>
        <p:spPr>
          <a:xfrm>
            <a:off x="6156360" y="2708280"/>
            <a:ext cx="25732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8000" y="1413000"/>
            <a:ext cx="8064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 nam odpowiedź na kilka podstawowych pytań, dotyczący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k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su produktu/usługi, które będą oferowan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y sprzedaży produktu/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u produkcji towaru/świadczenia usług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będnych pozwoleń, certyfikatów itp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yn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ologii klient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zaru geograficznego działal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0"/>
          <p:cNvSpPr/>
          <p:nvPr/>
        </p:nvSpPr>
        <p:spPr>
          <a:xfrm>
            <a:off x="179280" y="1778040"/>
            <a:ext cx="89647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cnych i słabych strony proponowanego biznesu oraz sz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 zagrożeń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izy konkuren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gistyki i dystrybucj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nu inwestycji (z informacjami na temat niezbędnych do rozpoczęcia biznesu dóbr, dostawców itp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noz ekonomicznych (zysk ze sprzedaży, wykorzystywane surowce i inne materiały, media, czynsz, zobowiązania finansowe, personel, amortyzacja, inne wydatki, podatki itd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451"/>
              </a:spcBef>
              <a:buClr>
                <a:srgbClr val="97340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apotrzebowań kapitałowych przedsiębiorstwa oraz źródła jego pokry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znesplan (robocz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rostokąt 8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rostokąt 9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chemat blokowy: proces 17"/>
          <p:cNvSpPr/>
          <p:nvPr/>
        </p:nvSpPr>
        <p:spPr>
          <a:xfrm>
            <a:off x="179280" y="189000"/>
            <a:ext cx="8713800" cy="936360"/>
          </a:xfrm>
          <a:prstGeom prst="flowChartProcess">
            <a:avLst/>
          </a:prstGeom>
          <a:solidFill>
            <a:srgbClr val="3c3e42">
              <a:alpha val="17000"/>
            </a:srgbClr>
          </a:solidFill>
          <a:ln w="19080">
            <a:solidFill>
              <a:srgbClr val="3c3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9640" y="1557000"/>
            <a:ext cx="80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nazwę firm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prawną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formę opodatkow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decydować, czy chcemy być płatnikiem podatku V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reślić rodzaj działalności zgodnie z P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lską Klasyfikacją Działalności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datę rozpoczęcia działalnośc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alić miejsce wykonywania działalności gospodarcz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700"/>
              </a:spcBef>
              <a:buClr>
                <a:srgbClr val="973406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ć bank, w którym będziemy mieć konto firmow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ytuł 21"/>
          <p:cNvSpPr/>
          <p:nvPr/>
        </p:nvSpPr>
        <p:spPr>
          <a:xfrm>
            <a:off x="826920" y="260280"/>
            <a:ext cx="7058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żne decyz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9:37:57Z</dcterms:created>
  <dc:creator>buczeka</dc:creator>
  <dc:description/>
  <dc:language>en-US</dc:language>
  <cp:lastModifiedBy>ola</cp:lastModifiedBy>
  <dcterms:modified xsi:type="dcterms:W3CDTF">2013-06-01T17:31:28Z</dcterms:modified>
  <cp:revision>120</cp:revision>
  <dc:subject/>
  <dc:title> </dc:title>
</cp:coreProperties>
</file>