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74DF-3AAF-49C3-8DF8-D474800A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8945-1C47-43AB-A565-593B4520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A173-B665-460C-BB2D-CC3AF26B0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948F-5DA7-4246-AB6A-171A9B2E3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D9D9-BDEA-473F-8998-65A97A16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2011-D9CB-46D8-9968-F6D7942B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BA9B-36A1-4814-A8B8-20822BAF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5CEA-BE40-4D1A-8AC3-D7DF0E77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F023-7918-4BC4-9537-1045A8CD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D21A-426B-43ED-9999-6A44D83D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AD8F-9B27-4FFD-855C-746B050E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0197-BA14-4A70-93A1-376428B2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1A85-C04D-45B0-8A45-575CDF51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F2F4-1058-4602-870A-85A5692A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9431-3329-4ECE-AB26-0769422F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9729-E198-48FC-AEFB-EA13E92EB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15D3-7FA7-4E4A-91A2-ECB8E17C9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07C6FA-A400-491C-A9C3-75CE2B99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6D21A2-031F-4BEE-A908-61FAB74C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67CA8E-1569-4326-B32A-E0611EC4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716EC1-76AB-48DD-92CA-6EE462AD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183146-850F-495E-9F0B-B7B5D9FB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1C9C-0409-4BDA-ABB9-F73582CA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7FCA80-0329-49AE-A4B8-F1EDD4C6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475F75-E0D2-4177-948C-7FD2C6FC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40FD21-AA23-4318-954F-AC0DE8D2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234A03-9D49-4C4C-B613-CEDADCB8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E166AD-6E47-4C4E-9098-D6878567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2BDBBD-A910-482F-8B2F-70317075C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54FA88-5269-4546-86B6-B5322173B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2A6817-DC61-4B50-9657-10BB6945D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25E5CB-A126-4052-8190-2F15BCDD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264632-FE0A-49C7-8444-F2B46347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834E-4F3C-4895-A7E7-BDE3A40B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560499-1EC6-4EAC-9F2A-78147607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88C75F-E974-4B42-9AF6-FB753851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088E7E-04F9-482C-A193-6188B1E8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2D6A86-8B5F-42AE-AF3D-9874AB84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B0CA26-5DF6-498A-8D44-BA622046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04D773-538E-4FF5-B885-385C9273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8DEF17-8C39-496B-AEC8-C311CD91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A941AD-D789-4418-9E74-7548C6D5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A656F7-3AF5-4B19-9404-5305BDE27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CA2FA9-C946-4B81-8ED7-4179E0D6F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15F2-849B-460D-8373-8655785C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3F9A34-B2F6-4828-912C-083CAAAC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1ED184-036B-4F35-BDE6-62B5EDAD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71E176-1B6D-48E9-9F97-576A2D08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77F4C7-ADEF-4FED-B09A-7D32B579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D8E785-B2AE-4F62-820D-92ABFF45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57ADC6-4897-4212-81DE-9E9044E9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57BE07-CDA1-493A-B3C8-08929AAC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A3A0C4-A09B-423D-AB35-B207C87F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1AFBEA-6198-4553-BBA9-DCBACDD6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02C37A-0150-45D1-B21C-92F91CCE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BE3B-189E-4236-BC72-48E65334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1A9EDC-8056-40FF-B589-0C3B9F9BE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C9C08-3FF7-4DAB-B296-3AF76AD03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E6A15-7977-4187-BE65-3E2E7F30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AE7FD-10A5-486C-891B-A3C1B837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0B363-7EBC-4C0A-8C34-7B316840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B5C22-EE6F-4AC8-AE45-47C187D9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B9195-C5E0-4EDA-AC25-41A8AB12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B2B39-2135-4AC7-8CE4-CAF9BCF3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8CEF9-6207-4EC9-B6FF-40D5836A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03BB1-C274-4494-A903-49908C57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A4A0-B86C-4507-B4D5-1623AAC8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82752-010C-4C7A-B72A-148DF2C6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2BA4D-4470-45DE-B570-BBF8E51FB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A79D0-58B7-4121-833D-73F78490A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2B4420-1664-49AC-B0DD-8B067B2C5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491A17-2634-415C-9FDB-C5C4145E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1FFFDE-39F2-46FA-9CDD-99937408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BC28B7-321F-49D1-B6AC-9CB8F523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DE0A21-198A-4C2A-870D-E5276E0D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61802F-7B43-460B-912D-FA8F346A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AF7A86-FDB2-44BB-B69E-3E5CA0DD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644C-7ED1-4324-B425-9D9B572C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B96EA0-9830-43BC-8365-B771A886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227218-B664-499E-AFCE-58DE2F27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FEF70A-BC18-42F4-AC5F-FE97B212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84BB5F-70E0-4833-AA33-BE88F8DB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8B54D0-BA2F-499D-834F-903B64D4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BD968-2F1E-42C4-B6AA-6C08FCA1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BD8D1-B367-4151-B943-C9E2498D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7A3BB-7D7C-48DA-AAC7-4315D68F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2F313-AC8A-44E5-909A-B015910C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D1F15-D6D5-44DD-975B-71B6B09C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C354-4F77-4BD5-BAEB-A54AA473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B5D0A-B02D-41EF-B44E-3372F570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70AE8-1FCE-475F-B5D0-EF8F6CBC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4E223-B4E9-423B-BD70-E4797863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E1341-5068-440E-8DFC-27DFD2D8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83505-72D1-41DF-93BE-D02120F6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BCA9C-50E3-4FB0-91DD-E84868C2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263CD-26B6-441B-8AAD-324EB774E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ECEF-4B92-4F01-B6EB-EE935AF8D2C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ostokąt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rostokąt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stokąt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39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12C2-F2D1-413E-8406-591D05DDAED7}" type="slidenum">
              <a:rPr b="1" lang="en-US" sz="1400" spc="-1" strike="noStrike">
                <a:solidFill>
                  <a:srgbClr val="fff39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rostokąt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rostokąt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rostokąt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5482-5C5C-4ED8-9919-6E5F25967493}" type="slidenum">
              <a:rPr b="1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4753-FB73-4C4C-BF9A-9521AF64BC0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888E-5E28-4F7C-835A-A8B56258A43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9303-AA85-461E-8426-928F7D375596}" type="slidenum">
              <a:rPr b="1" lang="en-US" sz="1400" spc="-1" strike="noStrike">
                <a:solidFill>
                  <a:srgbClr val="575f6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rostokąt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rostokąt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rostokąt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rostokąt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9905-5738-4A52-BDAA-E8A743837FA2}" type="slidenum">
              <a:rPr b="1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rostokąt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rostokąt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rostokąt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6C42-919F-42A9-9370-662EBC7AAA9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05816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Arial Narrow"/>
                <a:ea typeface="Mangal"/>
              </a:rPr>
              <a:t> 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353" name="Picture 12" descr="C:\Users\Slawek\AppData\Local\Microsoft\Windows\Temporary Internet Files\Content.IE5\Y4PNZ49I\MP900401568[1].jpg"/>
          <p:cNvPicPr/>
          <p:nvPr/>
        </p:nvPicPr>
        <p:blipFill>
          <a:blip r:embed="rId1"/>
          <a:stretch/>
        </p:blipFill>
        <p:spPr>
          <a:xfrm>
            <a:off x="250920" y="1557360"/>
            <a:ext cx="3409920" cy="51116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3348000" y="2349360"/>
            <a:ext cx="5796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Własna firma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krok po kroku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atem najpierw trzeba zastanowić się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94920" y="1341000"/>
            <a:ext cx="766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kim kapitałem początkowym się dysponuj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ka będzie skala działalnośc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zy jest się gotowym, aby zaryzykować całym majątkiem osobistym, czy lepiej oddzielić go od spraw związanych z prowadzeniem działalnośc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zy decyzje związane z prowadzeniem działalności, jej kontrolą, chce się podejmować samodzielnie czy we współpracy z innym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539640" y="1341360"/>
            <a:ext cx="8136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ajpopularniejszą formą prawną prowadzenia działalności jest jednoosobowa działalność gospodarcza. Największą zaletą takiego wyboru jest fakt, że jest najłatwiejsza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 założeniu. By ją rozpocząć, wystarczy we właściwym urzędzie gminy złożyć wniosek rejestracyjny, a resztę formalności, poza założeniem firmowego konta bankowego, wykonają urzędnicy (wpis w krajowym rejestrze urzędowym podmiotów gospodarki narodowej – REGON – zgłoszenie identyfikacyjne albo aktualizacja NIP oraz zgłoszenie płatnika składek do ZUS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9"/>
          <p:cNvSpPr/>
          <p:nvPr/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ytuł 21"/>
          <p:cNvSpPr/>
          <p:nvPr/>
        </p:nvSpPr>
        <p:spPr>
          <a:xfrm>
            <a:off x="1187280" y="260280"/>
            <a:ext cx="6697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ednoosobowa działalność gospodarc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chemat blokowy: proces 17"/>
          <p:cNvSpPr/>
          <p:nvPr/>
        </p:nvSpPr>
        <p:spPr>
          <a:xfrm>
            <a:off x="179280" y="189000"/>
            <a:ext cx="8713800" cy="648000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 rot="16200000">
            <a:off x="-2881800" y="2674080"/>
            <a:ext cx="87138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jestracj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ziałalności gospodarcze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9" descr="http://g.infor.pl/obrazki/i65/2009/010/i65.2009.010.000.0044.001.jpg"/>
          <p:cNvPicPr/>
          <p:nvPr/>
        </p:nvPicPr>
        <p:blipFill>
          <a:blip r:embed="rId1"/>
          <a:stretch/>
        </p:blipFill>
        <p:spPr>
          <a:xfrm>
            <a:off x="2700360" y="189000"/>
            <a:ext cx="6191280" cy="65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Schemat zakładania firmy"/>
          <p:cNvPicPr/>
          <p:nvPr/>
        </p:nvPicPr>
        <p:blipFill>
          <a:blip r:embed="rId1"/>
          <a:stretch/>
        </p:blipFill>
        <p:spPr>
          <a:xfrm>
            <a:off x="250920" y="1268280"/>
            <a:ext cx="87278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3516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Aby prawidłowo wypełnić wniosek EDG-1 – wniosek o wpis do centralnej ewidencji i informacji o działalności gospodarczej – należy:</a:t>
            </a:r>
            <a:endParaRPr b="0" lang="en-US" sz="2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23640" y="134100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ziąć ze sobą dokument tożsamości (dowód osobisty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kreślić rodzaj prowadzonej przez siebie działalności gospodarczej. Rodzaje działalności gospodarczej są określone w Polskiej Klasyfikacji Działalności (PKD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ieć wymyśloną nazwę dla swojej firmy (w nazwie będzie też nasze imię i nazwisko) oraz wiedzieć, gdzie będzie znajdowała się jej siedziba (może to być np. mieszkanie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666108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75f6d"/>
                </a:solidFill>
                <a:latin typeface="Franklin Gothic Book"/>
              </a:rPr>
              <a:t>Aby prawidłowo wypełnić wniosek </a:t>
            </a:r>
            <a:br>
              <a:rPr sz="2500"/>
            </a:br>
            <a:r>
              <a:rPr b="1" lang="en-US" sz="2500" spc="-1" strike="noStrike">
                <a:solidFill>
                  <a:srgbClr val="575f6d"/>
                </a:solidFill>
                <a:latin typeface="Franklin Gothic Book"/>
              </a:rPr>
              <a:t>EDG-1, należy: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23640" y="141264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ać datę rozpoczęcia przez działalności (od tej chwili należy płacić podatek i składki ZUS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ać dane personalne zatrudnionych przez nas osób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ać nazwę i adres biura rachunkowego, które będzie prowadziło rachunkowość naszej firmy (jeśli nie zdecydujemy się robić tego sam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pełniony wniosek należy zostawić w urzędzie gminy/miasta, gdzie jego treść będzie zweryfikowana przez urzędnika pod kątem formalny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68000" y="141264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niosek o wpis do ewidencji działalności gospodarczej składany jest na specjalnym formularzu (EDG-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jednocześnie stanowi wniosek 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pis do Krajowego Rejestru Urzędowego Podmiotów Gospodarki Narodowej, czyli nadanie numeru REG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głoszenie identyfikacyjne albo aktualizacyjne, czyli zgłoszenie do urzędu skarboweg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głoszenie płatnika składek albo jego zmiany, czyli do ZUS lub K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1042920" y="189000"/>
            <a:ext cx="69138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Zintegrowany wniosek EDG-1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 tzw. jedno okien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94920" y="141264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obiści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ez pełnomocnika – konieczne pełnomocnictwo przynajmniej rodzajowe (określające czynność prawną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esłanie na adres właściwego urzędu gminy listem poleconym (w tym wypadku wniosek opatrzony jest własnoręcznym podpisem wnioskodawcy, którego własnoręczność poświadczona jest przez notariusza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onicznie za pośrednictwem formularza dostępnego na stronie internetowej urzędu gminy, podpisanego podpisem elektroniczny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324000" y="836640"/>
            <a:ext cx="7343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ytuł 21"/>
          <p:cNvSpPr/>
          <p:nvPr/>
        </p:nvSpPr>
        <p:spPr>
          <a:xfrm>
            <a:off x="1042920" y="189000"/>
            <a:ext cx="68421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osoby składania wniosku EDG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94920" y="1341360"/>
            <a:ext cx="8064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ażdy przedsiębiorca ma obowiązek posiadać firmowy rachunek bankowy. Konto firmowe służy do rozliczeń z tytułu dokonywania lub przyjmowania płatności związanych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 wykonywaną działalnością gospodarczą, jak również do rozliczeń z ZUS-em oraz urzędem skarbowy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azwyczaj opłaty za prowadzenie firmowego rachunku są znacznie wyższe niż w przypadku kont osobistych.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soby fizyczne prowadzące działalność gospodarczą nie muszą otwierać rachunku firmowego, o ile nie łamie to regulaminu banku. Jest to duże ułatwienie dla samozatrudnionych i osób prowadzących małe przedsiębiorstw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9"/>
          <p:cNvSpPr/>
          <p:nvPr/>
        </p:nvSpPr>
        <p:spPr>
          <a:xfrm>
            <a:off x="324000" y="141300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008000" y="1196640"/>
            <a:ext cx="8136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o otworzenia firmowego konta bankowego, potrzebne są m.in.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88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owód osobisty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aświadczenie o wpisie do ewidencji działalności gospodarczej lub wypis z KRS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aświadczenie o numerze REGON (zarówno oryginał, jak i kserokopie)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ieczątka firmow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zed wizytą w banku warto jeszcze upewnić się, czy instytucja nie wymaga przedstawienia jeszcze innych dodatkowych dokumentów. W banku, po wypełnieniu wniosku o założenie rachunku bieżącego dla działalności gospodarczej, zostanie przyznane twojej firmie ko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9"/>
          <p:cNvSpPr/>
          <p:nvPr/>
        </p:nvSpPr>
        <p:spPr>
          <a:xfrm>
            <a:off x="324000" y="141300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395280" y="26028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dstawowe pojęc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395280" y="1700280"/>
            <a:ext cx="8424720" cy="50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-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ziałalnością gospodarczą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 jest zarobkowa działalność wytwórcza, budowlana, handlowa, usługowa itp. , a także działalność zawodowa, wykonywana w sposób zorganizowany i ciągł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zedsiębiorcą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rozumieniu ustawy jest osoba fizyczna, osoba prawna i jednostka organizacyjna niebędąca osobą prawną, której odrębna ustawa przyznaje zdolność prawną – wykonująca we własnym imieniu działalność gospodarcz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05816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5f6d"/>
                </a:solidFill>
                <a:latin typeface="Franklin Gothic Book"/>
              </a:rPr>
              <a:t>Urząd skarbowy</a:t>
            </a:r>
            <a:endParaRPr b="0" lang="en-US" sz="28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24000" y="1413000"/>
            <a:ext cx="82087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miętaj o wyborze formy opodatkowania (do wyboru: zasady ogólne, podatek liniowy, ryczałt, karta podatkow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tym celu należy wypełnić odpowiedni wniosek i udać się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nim do urzędu skarbowego, właściwego dla miejsca prowadzonej działalności. Wniosek możesz również wysłać poczt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0578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5f6d"/>
                </a:solidFill>
                <a:latin typeface="Franklin Gothic Book"/>
              </a:rPr>
              <a:t>Zakład Ubezpieczeń Społecznych</a:t>
            </a:r>
            <a:endParaRPr b="0" lang="en-US" sz="28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2364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równo ty, jak i twoi współpracownicy, muszą mieć opłacone składki na ubezpieczenia społeczne. Idąc do ZUS-u, musisz zabrać ze sobą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wód osobisty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r REGON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r NIP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r konta bankowe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y zgłosić firmę, trzeba wypełnić formularz ZFA, a zgłaszając siebie – ZUA. Taki sam formularz będziesz wypełniał dla każdego, kogo zatrudnisz i musisz to zrobić w ciągu 7 dni od angażu. Po wypełnieniu wniosków otrzymasz numer konta, na które należy wpłacać składk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539640" y="476280"/>
            <a:ext cx="82296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cedury krok po kro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324000" y="981000"/>
          <a:ext cx="8353440" cy="5711760"/>
        </p:xfrm>
        <a:graphic>
          <a:graphicData uri="http://schemas.openxmlformats.org/drawingml/2006/table">
            <a:tbl>
              <a:tblPr/>
              <a:tblGrid>
                <a:gridCol w="1622160"/>
                <a:gridCol w="2270160"/>
                <a:gridCol w="2108160"/>
                <a:gridCol w="2352960"/>
              </a:tblGrid>
              <a:tr h="2764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ODZAJ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ZIAŁALNOŚCI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K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JEDNOOSOBOWA DZIAŁALNOŚĆ GOSPODARC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PÓŁKA CYWIL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PÓŁKA Z O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 Umowa spółk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ie dotycz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Umowa w zwykłej formie pisemne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Umowa w formie aktu notarialne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 Rejestracja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działalnoś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Urząd gminy: wpis do ewidencji działalności gospodarczej (REGON, aktualizacja NIP), zgłoszenie płatnika składek Z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Urząd gminy: wpisy do ewidencji działalności gospodarczej wspólników, REGON (Rg-1), nadanie NIP spółce i aktualizacja NIP właścicie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ąd rejestrowy: REGON, NIP, zgłoszenie płatnika składek Z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. Wybór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zczególnej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formy     opodatkowania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Urząd skarbowy: wybór szczególnej formy opodatkowania (podatek liniowy, ryczałt, karta podatkowa) następuje w drodze oświadczenia, urząd nie pobiera za tę czynność opłat, wyboru należy dokonać przed uzyskaniem pierwszego dochodu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 przeciwnym razie urząd narzuca opodatkowanie na zasadach ogólny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ie dotyczy, osoby prawne płacą CIT w wysokości 19% doch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. Pieczątka firm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Jej wyrobienie nie jest obowiązkowe, natomiast niewątpliwie ułatwia posługiwanie się w obrocie gospodarczym (zwłaszcza w banku) danymi firmy, takimi jak: nazwa firmy, adres czy N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. Konto bankow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ybrany bank: wniosek o otwarcie rachunku z załączonym dokumentem potwierdzającym prowadzenie działalności gospodarczej lub spółki prawa handlowego, założenie konta bankowego jest niezbędne m.in. dla płatników V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. Rejestracja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płatnika V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Urząd skarbowy: należy wypełnić formularz dostępny w urzędzie lub na stronie internetowej i wnieść opłatę w wysokości 170 zł, wniosek musi być złożony przed dniem wykonania pierwszej czynności opodatkowane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250560" y="126792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em  CEIDG jest umożliwienie ewidencjonowania działalności gospodarczej drogą elektroniczną w ramach tzw. zero okienka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wykorzystaniem zintegrowanego formularza zawierającego dane niezbędne dla CEIDG ora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10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zędów skarbowych (zgłoszenie identyfikacyjne/zgłoszenie aktualizacyjne osoby fizycznej prowadzącej samodzielnie działalność gospodarczą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10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łównego Urzędu Statystycznego (wniosek o wpis do Krajowego Rejestru Urzędowego Podmiotów Gospodarki Narodowej lub o zmianę cech objętych wpisem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10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ładu Ubezpieczeń Społecznych (zgłoszenie/zmian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łatnika składek) oraz Kasy Rolniczego Ubezpieczenia Społecznego (zgłoszenia oświadczenia o kontynuowaniu ubezpieczenia społecznego rolników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just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ytuł 21"/>
          <p:cNvSpPr/>
          <p:nvPr/>
        </p:nvSpPr>
        <p:spPr>
          <a:xfrm>
            <a:off x="1187280" y="189000"/>
            <a:ext cx="66978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entralna Ewidencja i Informacj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 Działalności Gospodarcz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2" descr="https://prod.ceidg.gov.pl/CEIDG.CMS.ENGINE/?BI;e67507fb-c830-401a-81a3-0fa199e061a6"/>
          <p:cNvPicPr/>
          <p:nvPr/>
        </p:nvPicPr>
        <p:blipFill>
          <a:blip r:embed="rId1"/>
          <a:stretch/>
        </p:blipFill>
        <p:spPr>
          <a:xfrm>
            <a:off x="0" y="0"/>
            <a:ext cx="5524560" cy="6858000"/>
          </a:xfrm>
          <a:prstGeom prst="rect">
            <a:avLst/>
          </a:prstGeom>
          <a:ln w="0">
            <a:noFill/>
          </a:ln>
        </p:spPr>
      </p:pic>
      <p:sp>
        <p:nvSpPr>
          <p:cNvPr id="460" name="AutoShape 4"/>
          <p:cNvSpPr/>
          <p:nvPr/>
        </p:nvSpPr>
        <p:spPr>
          <a:xfrm>
            <a:off x="169920" y="-166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6"/>
          <p:cNvSpPr/>
          <p:nvPr/>
        </p:nvSpPr>
        <p:spPr>
          <a:xfrm>
            <a:off x="169920" y="-166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8" descr="http://www.arl-zagan.pl/sites/default/files/field/image/ceidg.jpg"/>
          <p:cNvPicPr/>
          <p:nvPr/>
        </p:nvPicPr>
        <p:blipFill>
          <a:blip r:embed="rId2"/>
          <a:stretch/>
        </p:blipFill>
        <p:spPr>
          <a:xfrm>
            <a:off x="5319720" y="2602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Podstawowe poję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1042920" y="260280"/>
            <a:ext cx="6842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539640" y="1700280"/>
            <a:ext cx="8280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KD – Polska Klasyfikacja Działalności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jest usystematyzowanym zbiorem rodzajów działalności społeczno-gospodarczyc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jakie realizują podmioty gospodarki narodowej. Jest również podstawą, do której nawiązują inne klasyfikacje, a zwłaszcza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lska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syfikacja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robów i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ług (PKWiU). We wniosku EDG-1 oraz w rejestrze REGON używamy podklas PKD, czyli oznaczenia pięcioznakoweg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NIP – Numer Identyfikacji Podatkowej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dziesięciocyfrowy kod, służący do identyfikacji podmiotów płacących podatki w Polsce. Nadawany jest przez naczelnik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zędu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arboweg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271440" y="0"/>
            <a:ext cx="7900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ON – Rejestr Gospodarki Narodow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539640" y="1628640"/>
            <a:ext cx="806472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97340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numer ewidencyjny nadawany firmom przez GU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er ten pozwala GUS-owi odróżnić przedsiębiorstw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 systemie, a także stwierdzić, czym firma się zajmuj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1500"/>
              </a:spcBef>
              <a:buClr>
                <a:srgbClr val="97340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st niepowtarzalny, pozostaje niezmieniony w czasie istnienia podmiot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1500"/>
              </a:spcBef>
              <a:buClr>
                <a:srgbClr val="97340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st przechowywany w zbiorze historycznym i nie jest wykorzystywany do identyfikacji innego podmiot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1500"/>
              </a:spcBef>
              <a:buClr>
                <a:srgbClr val="97340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kwidacja i ponowne podjęcie działalności gospodarczej przez osobę fizyczną nie powodują nadania nowego numeru identyfikacyjn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601"/>
              </a:spcBef>
              <a:buClr>
                <a:srgbClr val="97340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50560" y="13410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65320" indent="-60984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rzeba tylko 5 krokó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5320" indent="-609840">
              <a:lnSpc>
                <a:spcPct val="125000"/>
              </a:lnSpc>
              <a:spcBef>
                <a:spcPts val="15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MYS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5320" indent="-609840">
              <a:lnSpc>
                <a:spcPct val="125000"/>
              </a:lnSpc>
              <a:spcBef>
                <a:spcPts val="15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5320" indent="-609840">
              <a:lnSpc>
                <a:spcPct val="125000"/>
              </a:lnSpc>
              <a:spcBef>
                <a:spcPts val="15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OWANIE STRATEGICZ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5320" indent="-609840">
              <a:lnSpc>
                <a:spcPct val="125000"/>
              </a:lnSpc>
              <a:spcBef>
                <a:spcPts val="15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PEWNIENIE FINANSOW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5320" indent="-609840">
              <a:lnSpc>
                <a:spcPct val="125000"/>
              </a:lnSpc>
              <a:spcBef>
                <a:spcPts val="15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IZAC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ytuł 21"/>
          <p:cNvSpPr/>
          <p:nvPr/>
        </p:nvSpPr>
        <p:spPr>
          <a:xfrm>
            <a:off x="900000" y="260280"/>
            <a:ext cx="7058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Jak więc przejść od pomysłu do biznesu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5" descr="C:\Users\Slawek\AppData\Local\Microsoft\Windows\Temporary Internet Files\Content.IE5\F29JIHU8\MP900442211[1].jpg"/>
          <p:cNvPicPr/>
          <p:nvPr/>
        </p:nvPicPr>
        <p:blipFill>
          <a:blip r:embed="rId1"/>
          <a:stretch/>
        </p:blipFill>
        <p:spPr>
          <a:xfrm>
            <a:off x="6156360" y="2708280"/>
            <a:ext cx="25732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8000" y="1413000"/>
            <a:ext cx="80643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 nam odpowiedź na kilka podstawowych pytań, dotyczący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kt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isu produktu/usługi, które będą oferowan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y sprzedaży produktu/usług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u produkcji towaru/świadczenia usług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cj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zbędnych pozwoleń, certyfikatów itp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ynk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ologii klientó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zaru geograficznego działalnoś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ytuł 21"/>
          <p:cNvSpPr/>
          <p:nvPr/>
        </p:nvSpPr>
        <p:spPr>
          <a:xfrm>
            <a:off x="826920" y="260280"/>
            <a:ext cx="7058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znesplan (robocz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0"/>
          <p:cNvSpPr/>
          <p:nvPr/>
        </p:nvSpPr>
        <p:spPr>
          <a:xfrm>
            <a:off x="179280" y="1778040"/>
            <a:ext cx="89647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0360" indent="-360360">
              <a:lnSpc>
                <a:spcPct val="100000"/>
              </a:lnSpc>
              <a:spcBef>
                <a:spcPts val="451"/>
              </a:spcBef>
              <a:buClr>
                <a:srgbClr val="97340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cnych i słabych strony proponowanego biznesu oraz sz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zagrożeń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51"/>
              </a:spcBef>
              <a:buClr>
                <a:srgbClr val="97340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lizy konkurencj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51"/>
              </a:spcBef>
              <a:buClr>
                <a:srgbClr val="97340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gistyki i dystrybucj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51"/>
              </a:spcBef>
              <a:buClr>
                <a:srgbClr val="97340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nu inwestycji (z informacjami na temat niezbędnych do rozpoczęcia biznesu dóbr, dostawców itp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51"/>
              </a:spcBef>
              <a:buClr>
                <a:srgbClr val="97340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noz ekonomicznych (zysk ze sprzedaży, wykorzystywane surowce i inne materiały, media, czynsz, zobowiązania finansowe, personel, amortyzacja, inne wydatki, podatki itd.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51"/>
              </a:spcBef>
              <a:buClr>
                <a:srgbClr val="97340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apotrzebowań kapitałowych przedsiębiorstwa oraz źródła jego pokry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ytuł 21"/>
          <p:cNvSpPr/>
          <p:nvPr/>
        </p:nvSpPr>
        <p:spPr>
          <a:xfrm>
            <a:off x="826920" y="260280"/>
            <a:ext cx="7058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znesplan (robocz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39640" y="155700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brać nazwę firm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brać formę prawną działalnośc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brać formę opodatkowani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decydować, czy chcemy być płatnikiem podatku VA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reślić rodzaj działalności zgodnie z PK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lską Klasyfikacją Działalności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talić datę rozpoczęcia działalnośc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talić miejsce wykonywania działalności gospodarczej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brać bank, w którym będziemy mieć konto firmow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ytuł 21"/>
          <p:cNvSpPr/>
          <p:nvPr/>
        </p:nvSpPr>
        <p:spPr>
          <a:xfrm>
            <a:off x="826920" y="260280"/>
            <a:ext cx="7058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ażne decyz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09:37:57Z</dcterms:created>
  <dc:creator>buczeka</dc:creator>
  <dc:description/>
  <dc:language>en-US</dc:language>
  <cp:lastModifiedBy>ola</cp:lastModifiedBy>
  <dcterms:modified xsi:type="dcterms:W3CDTF">2013-06-01T17:31:28Z</dcterms:modified>
  <cp:revision>120</cp:revision>
  <dc:subject/>
  <dc:title> </dc:title>
</cp:coreProperties>
</file>