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362-1754-4811-BEE4-8DBB392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CF3-5C18-4977-9BE0-C8C3701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721-7D2C-483B-9E62-F92E499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1DF-F4E8-48AA-B575-100C921B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DA29-6C71-4D2D-98AD-9C8DD24F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B45-A6B8-442B-91F7-8807D92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38B-DC71-4F82-A5C6-AA1B780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851-CEBA-4A65-A861-8D936BF7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340-637C-4878-8C5F-F3BE2F2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C31-8251-4222-9D7E-AA275A9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FB1-6FC8-49BB-A73E-C931F16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046-968B-41E6-AC67-C805A28A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645-CF61-4884-B55A-BA725BF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F193-98C0-4208-966B-7B5500E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E1A-B6BE-45C3-9E5C-ABD1EFF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70E5-7EF1-499A-820F-AADB165F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0BC7-4284-4D28-9996-1510CD81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ACF-17D2-4AC6-B6C2-E43FA80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82C-123F-4B37-AF07-C32D4FA8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EA5-9126-4CBE-8FEF-AA9E0C8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DCA-4735-4650-AC5F-062735A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6D5-897B-485C-83B8-A7B356E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F12-A272-4156-BE1F-9E19D09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C91-495A-4083-AE3C-518A0CC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EF16-C934-4A8B-96E2-4FAE065887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D00F-DC75-4E52-9BA0-43DB9F3387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6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049-9942-462E-AF7A-52C76951E2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2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0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Diagram 14" descr=""/>
          <p:cNvPicPr/>
          <p:nvPr/>
        </p:nvPicPr>
        <p:blipFill>
          <a:blip r:embed="rId4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daży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8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daż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upa 55"/>
          <p:cNvGrpSpPr/>
          <p:nvPr/>
        </p:nvGrpSpPr>
        <p:grpSpPr>
          <a:xfrm>
            <a:off x="826920" y="4437000"/>
            <a:ext cx="2089440" cy="1368360"/>
            <a:chOff x="826920" y="4437000"/>
            <a:chExt cx="2089440" cy="1368360"/>
          </a:xfrm>
        </p:grpSpPr>
        <p:sp>
          <p:nvSpPr>
            <p:cNvPr id="205" name="Łącznik prosty 26"/>
            <p:cNvSpPr/>
            <p:nvPr/>
          </p:nvSpPr>
          <p:spPr>
            <a:xfrm>
              <a:off x="826920" y="4437000"/>
              <a:ext cx="2089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Łącznik prosty 28"/>
            <p:cNvSpPr/>
            <p:nvPr/>
          </p:nvSpPr>
          <p:spPr>
            <a:xfrm>
              <a:off x="2916360" y="4437000"/>
              <a:ext cx="0" cy="136836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upa 56"/>
          <p:cNvGrpSpPr/>
          <p:nvPr/>
        </p:nvGrpSpPr>
        <p:grpSpPr>
          <a:xfrm>
            <a:off x="826920" y="3500280"/>
            <a:ext cx="3529080" cy="2305080"/>
            <a:chOff x="826920" y="3500280"/>
            <a:chExt cx="3529080" cy="2305080"/>
          </a:xfrm>
        </p:grpSpPr>
        <p:sp>
          <p:nvSpPr>
            <p:cNvPr id="208" name="Łącznik prosty 30"/>
            <p:cNvSpPr/>
            <p:nvPr/>
          </p:nvSpPr>
          <p:spPr>
            <a:xfrm>
              <a:off x="826920" y="3500280"/>
              <a:ext cx="35290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Łącznik prosty 32"/>
            <p:cNvSpPr/>
            <p:nvPr/>
          </p:nvSpPr>
          <p:spPr>
            <a:xfrm>
              <a:off x="4356000" y="3500280"/>
              <a:ext cx="0" cy="2305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57"/>
          <p:cNvGrpSpPr/>
          <p:nvPr/>
        </p:nvGrpSpPr>
        <p:grpSpPr>
          <a:xfrm>
            <a:off x="826920" y="2492280"/>
            <a:ext cx="5113440" cy="3313080"/>
            <a:chOff x="826920" y="2492280"/>
            <a:chExt cx="5113440" cy="3313080"/>
          </a:xfrm>
        </p:grpSpPr>
        <p:sp>
          <p:nvSpPr>
            <p:cNvPr id="211" name="Łącznik prosty 34"/>
            <p:cNvSpPr/>
            <p:nvPr/>
          </p:nvSpPr>
          <p:spPr>
            <a:xfrm>
              <a:off x="826920" y="2492280"/>
              <a:ext cx="51134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Łącznik prosty 36"/>
            <p:cNvSpPr/>
            <p:nvPr/>
          </p:nvSpPr>
          <p:spPr>
            <a:xfrm>
              <a:off x="5940360" y="2492280"/>
              <a:ext cx="0" cy="33130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upa 53"/>
          <p:cNvGrpSpPr/>
          <p:nvPr/>
        </p:nvGrpSpPr>
        <p:grpSpPr>
          <a:xfrm>
            <a:off x="181800" y="1268280"/>
            <a:ext cx="867960" cy="4906080"/>
            <a:chOff x="181800" y="1268280"/>
            <a:chExt cx="867960" cy="4906080"/>
          </a:xfrm>
        </p:grpSpPr>
        <p:cxnSp>
          <p:nvCxnSpPr>
            <p:cNvPr id="214" name="Łącznik prosty ze strzałką 15"/>
            <p:cNvCxnSpPr/>
            <p:nvPr/>
          </p:nvCxnSpPr>
          <p:spPr>
            <a:xfrm flipV="1">
              <a:off x="828360" y="1555200"/>
              <a:ext cx="1080" cy="425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15" name="pole tekstowe 37"/>
            <p:cNvSpPr/>
            <p:nvPr/>
          </p:nvSpPr>
          <p:spPr>
            <a:xfrm>
              <a:off x="68724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ole tekstowe 41"/>
            <p:cNvSpPr/>
            <p:nvPr/>
          </p:nvSpPr>
          <p:spPr>
            <a:xfrm>
              <a:off x="395640" y="429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42"/>
            <p:cNvSpPr/>
            <p:nvPr/>
          </p:nvSpPr>
          <p:spPr>
            <a:xfrm>
              <a:off x="255240" y="3357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43"/>
            <p:cNvSpPr/>
            <p:nvPr/>
          </p:nvSpPr>
          <p:spPr>
            <a:xfrm>
              <a:off x="255240" y="2348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ole tekstowe 44"/>
            <p:cNvSpPr/>
            <p:nvPr/>
          </p:nvSpPr>
          <p:spPr>
            <a:xfrm>
              <a:off x="181800" y="126828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54"/>
          <p:cNvGrpSpPr/>
          <p:nvPr/>
        </p:nvGrpSpPr>
        <p:grpSpPr>
          <a:xfrm>
            <a:off x="826920" y="5805000"/>
            <a:ext cx="6924960" cy="440640"/>
            <a:chOff x="826920" y="5805000"/>
            <a:chExt cx="6924960" cy="440640"/>
          </a:xfrm>
        </p:grpSpPr>
        <p:cxnSp>
          <p:nvCxnSpPr>
            <p:cNvPr id="221" name="Łącznik prosty ze strzałką 17"/>
            <p:cNvCxnSpPr/>
            <p:nvPr/>
          </p:nvCxnSpPr>
          <p:spPr>
            <a:xfrm>
              <a:off x="826920" y="580500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22" name="pole tekstowe 38"/>
            <p:cNvSpPr/>
            <p:nvPr/>
          </p:nvSpPr>
          <p:spPr>
            <a:xfrm>
              <a:off x="2630520" y="58773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ole tekstowe 39"/>
            <p:cNvSpPr/>
            <p:nvPr/>
          </p:nvSpPr>
          <p:spPr>
            <a:xfrm>
              <a:off x="407160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ole tekstowe 40"/>
            <p:cNvSpPr/>
            <p:nvPr/>
          </p:nvSpPr>
          <p:spPr>
            <a:xfrm>
              <a:off x="5655960" y="5877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ole tekstowe 45"/>
            <p:cNvSpPr/>
            <p:nvPr/>
          </p:nvSpPr>
          <p:spPr>
            <a:xfrm>
              <a:off x="6882480" y="587736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upa 58"/>
          <p:cNvGrpSpPr/>
          <p:nvPr/>
        </p:nvGrpSpPr>
        <p:grpSpPr>
          <a:xfrm>
            <a:off x="971640" y="1844280"/>
            <a:ext cx="5976720" cy="3816360"/>
            <a:chOff x="971640" y="1844280"/>
            <a:chExt cx="5976720" cy="3816360"/>
          </a:xfrm>
        </p:grpSpPr>
        <p:sp>
          <p:nvSpPr>
            <p:cNvPr id="227" name="Łącznik prosty 24"/>
            <p:cNvSpPr/>
            <p:nvPr/>
          </p:nvSpPr>
          <p:spPr>
            <a:xfrm flipV="1">
              <a:off x="971640" y="1844280"/>
              <a:ext cx="5976720" cy="381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ole tekstowe 46"/>
            <p:cNvSpPr/>
            <p:nvPr/>
          </p:nvSpPr>
          <p:spPr>
            <a:xfrm>
              <a:off x="263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47"/>
            <p:cNvSpPr/>
            <p:nvPr/>
          </p:nvSpPr>
          <p:spPr>
            <a:xfrm>
              <a:off x="4070520" y="3140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pole tekstowe 48"/>
            <p:cNvSpPr/>
            <p:nvPr/>
          </p:nvSpPr>
          <p:spPr>
            <a:xfrm>
              <a:off x="5661360" y="213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59"/>
          <p:cNvGrpSpPr/>
          <p:nvPr/>
        </p:nvGrpSpPr>
        <p:grpSpPr>
          <a:xfrm>
            <a:off x="5804640" y="1413000"/>
            <a:ext cx="1930320" cy="576360"/>
            <a:chOff x="5804640" y="1413000"/>
            <a:chExt cx="1930320" cy="576360"/>
          </a:xfrm>
        </p:grpSpPr>
        <p:sp>
          <p:nvSpPr>
            <p:cNvPr id="232" name="pole tekstowe 49"/>
            <p:cNvSpPr/>
            <p:nvPr/>
          </p:nvSpPr>
          <p:spPr>
            <a:xfrm>
              <a:off x="5804640" y="141300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Łącznik prosty ze strzałką 52"/>
            <p:cNvCxnSpPr/>
            <p:nvPr/>
          </p:nvCxnSpPr>
          <p:spPr>
            <a:xfrm>
              <a:off x="6156000" y="1701720"/>
              <a:ext cx="432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Kształt 14"/>
          <p:cNvSpPr/>
          <p:nvPr/>
        </p:nvSpPr>
        <p:spPr>
          <a:xfrm>
            <a:off x="395280" y="1341360"/>
            <a:ext cx="7705800" cy="3414960"/>
          </a:xfrm>
          <a:custGeom>
            <a:avLst/>
            <a:gdLst/>
            <a:ahLst/>
            <a:rect l="l" t="t" r="r" b="b"/>
            <a:pathLst>
              <a:path w="7705725" h="3414712">
                <a:moveTo>
                  <a:pt x="0" y="3414712"/>
                </a:moveTo>
                <a:lnTo>
                  <a:pt x="1284288" y="1138238"/>
                </a:lnTo>
                <a:lnTo>
                  <a:pt x="6852047" y="426839"/>
                </a:lnTo>
                <a:lnTo>
                  <a:pt x="6803954" y="0"/>
                </a:lnTo>
                <a:lnTo>
                  <a:pt x="7705725" y="682942"/>
                </a:lnTo>
                <a:lnTo>
                  <a:pt x="6996327" y="1707356"/>
                </a:lnTo>
                <a:lnTo>
                  <a:pt x="6948233" y="1280517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owolny kształt 18"/>
          <p:cNvSpPr/>
          <p:nvPr/>
        </p:nvSpPr>
        <p:spPr>
          <a:xfrm>
            <a:off x="3503520" y="3249720"/>
            <a:ext cx="1560600" cy="2211120"/>
          </a:xfrm>
          <a:custGeom>
            <a:avLst/>
            <a:gdLst/>
            <a:ahLst/>
            <a:rect l="l" t="t" r="r" b="b"/>
            <a:pathLst>
              <a:path w="1560576" h="2210816">
                <a:moveTo>
                  <a:pt x="0" y="0"/>
                </a:moveTo>
                <a:lnTo>
                  <a:pt x="1560576" y="0"/>
                </a:lnTo>
                <a:lnTo>
                  <a:pt x="1560576" y="2210816"/>
                </a:lnTo>
                <a:lnTo>
                  <a:pt x="0" y="22108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164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upa 23"/>
          <p:cNvGrpSpPr/>
          <p:nvPr/>
        </p:nvGrpSpPr>
        <p:grpSpPr>
          <a:xfrm>
            <a:off x="3059280" y="3284640"/>
            <a:ext cx="4176720" cy="2756160"/>
            <a:chOff x="3059280" y="3284640"/>
            <a:chExt cx="4176720" cy="2756160"/>
          </a:xfrm>
        </p:grpSpPr>
        <p:sp>
          <p:nvSpPr>
            <p:cNvPr id="242" name="Elipsa 15"/>
            <p:cNvSpPr/>
            <p:nvPr/>
          </p:nvSpPr>
          <p:spPr>
            <a:xfrm>
              <a:off x="3346560" y="3284640"/>
              <a:ext cx="3529080" cy="792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Dowolny kształt 16"/>
            <p:cNvSpPr/>
            <p:nvPr/>
          </p:nvSpPr>
          <p:spPr>
            <a:xfrm>
              <a:off x="3564000" y="3500280"/>
              <a:ext cx="3095640" cy="504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0" tIns="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rzywa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pole tekstowe 21"/>
            <p:cNvSpPr/>
            <p:nvPr/>
          </p:nvSpPr>
          <p:spPr>
            <a:xfrm>
              <a:off x="3059280" y="4149000"/>
              <a:ext cx="4176720" cy="18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tawia dodatnią (wprost proporcjonalną) zależność pomiędzy ceną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 wielkością podaży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Kształt 22"/>
          <p:cNvSpPr/>
          <p:nvPr/>
        </p:nvSpPr>
        <p:spPr>
          <a:xfrm rot="21213600">
            <a:off x="144000" y="1552320"/>
            <a:ext cx="3951360" cy="2800080"/>
          </a:xfrm>
          <a:custGeom>
            <a:avLst/>
            <a:gdLst/>
            <a:ahLst/>
            <a:rect l="l" t="t" r="r" b="b"/>
            <a:pathLst>
              <a:path w="3951287" h="2800350">
                <a:moveTo>
                  <a:pt x="0" y="2800350"/>
                </a:moveTo>
                <a:lnTo>
                  <a:pt x="658548" y="933450"/>
                </a:lnTo>
                <a:lnTo>
                  <a:pt x="3251200" y="350044"/>
                </a:lnTo>
                <a:lnTo>
                  <a:pt x="3211759" y="0"/>
                </a:lnTo>
                <a:lnTo>
                  <a:pt x="3951287" y="560070"/>
                </a:lnTo>
                <a:lnTo>
                  <a:pt x="3369521" y="1400175"/>
                </a:lnTo>
                <a:lnTo>
                  <a:pt x="3330080" y="1050131"/>
                </a:lnTo>
                <a:close/>
              </a:path>
            </a:pathLst>
          </a:custGeom>
          <a:solidFill>
            <a:srgbClr val="d0d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Symbol zastępczy zawartości 3" descr=""/>
          <p:cNvPicPr/>
          <p:nvPr/>
        </p:nvPicPr>
        <p:blipFill>
          <a:blip r:embed="rId2"/>
          <a:stretch/>
        </p:blipFill>
        <p:spPr>
          <a:xfrm>
            <a:off x="384120" y="396720"/>
            <a:ext cx="78091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upa 21"/>
          <p:cNvGrpSpPr/>
          <p:nvPr/>
        </p:nvGrpSpPr>
        <p:grpSpPr>
          <a:xfrm>
            <a:off x="716040" y="1413000"/>
            <a:ext cx="6811920" cy="2082600"/>
            <a:chOff x="716040" y="1413000"/>
            <a:chExt cx="6811920" cy="2082600"/>
          </a:xfrm>
        </p:grpSpPr>
        <p:sp>
          <p:nvSpPr>
            <p:cNvPr id="256" name="Dowolny kształt 15"/>
            <p:cNvSpPr/>
            <p:nvPr/>
          </p:nvSpPr>
          <p:spPr>
            <a:xfrm>
              <a:off x="1108080" y="1774800"/>
              <a:ext cx="6419880" cy="1720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komplementar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wzajemnie się </a:t>
              </a:r>
              <a:br>
                <a:rPr sz="2500"/>
              </a:b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zupełniając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rostokąt 16"/>
            <p:cNvSpPr/>
            <p:nvPr/>
          </p:nvSpPr>
          <p:spPr>
            <a:xfrm>
              <a:off x="716040" y="1413000"/>
              <a:ext cx="1911240" cy="2082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upa 22"/>
          <p:cNvGrpSpPr/>
          <p:nvPr/>
        </p:nvGrpSpPr>
        <p:grpSpPr>
          <a:xfrm>
            <a:off x="716040" y="3716280"/>
            <a:ext cx="6811920" cy="2014560"/>
            <a:chOff x="716040" y="3716280"/>
            <a:chExt cx="6811920" cy="2014560"/>
          </a:xfrm>
        </p:grpSpPr>
        <p:sp>
          <p:nvSpPr>
            <p:cNvPr id="259" name="Dowolny kształt 17"/>
            <p:cNvSpPr/>
            <p:nvPr/>
          </p:nvSpPr>
          <p:spPr>
            <a:xfrm>
              <a:off x="1108080" y="4009680"/>
              <a:ext cx="6419880" cy="1721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908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bra substytucyjn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obra stosowane zamien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Prostokąt 18"/>
            <p:cNvSpPr/>
            <p:nvPr/>
          </p:nvSpPr>
          <p:spPr>
            <a:xfrm>
              <a:off x="716040" y="3716280"/>
              <a:ext cx="1911240" cy="2014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upa 14"/>
          <p:cNvGrpSpPr/>
          <p:nvPr/>
        </p:nvGrpSpPr>
        <p:grpSpPr>
          <a:xfrm>
            <a:off x="971640" y="1773360"/>
            <a:ext cx="6902280" cy="4267080"/>
            <a:chOff x="971640" y="1773360"/>
            <a:chExt cx="6902280" cy="4267080"/>
          </a:xfrm>
        </p:grpSpPr>
        <p:sp>
          <p:nvSpPr>
            <p:cNvPr id="267" name="Prostokąt zaokrąglony 12"/>
            <p:cNvSpPr/>
            <p:nvPr/>
          </p:nvSpPr>
          <p:spPr>
            <a:xfrm>
              <a:off x="1619280" y="1773360"/>
              <a:ext cx="5616720" cy="20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eterminanty popyt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– 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wpływające na popy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2" descr=""/>
            <p:cNvPicPr/>
            <p:nvPr/>
          </p:nvPicPr>
          <p:blipFill>
            <a:blip r:embed="rId3"/>
            <a:stretch/>
          </p:blipFill>
          <p:spPr>
            <a:xfrm>
              <a:off x="971640" y="4077360"/>
              <a:ext cx="6902280" cy="19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274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277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280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pole tekstowe 31"/>
            <p:cNvSpPr/>
            <p:nvPr/>
          </p:nvSpPr>
          <p:spPr>
            <a:xfrm>
              <a:off x="2774520" y="2853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ole tekstowe 32"/>
            <p:cNvSpPr/>
            <p:nvPr/>
          </p:nvSpPr>
          <p:spPr>
            <a:xfrm>
              <a:off x="4790160" y="407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upa 51"/>
          <p:cNvGrpSpPr/>
          <p:nvPr/>
        </p:nvGrpSpPr>
        <p:grpSpPr>
          <a:xfrm>
            <a:off x="3059280" y="3141720"/>
            <a:ext cx="2776680" cy="1008360"/>
            <a:chOff x="3059280" y="3141720"/>
            <a:chExt cx="2776680" cy="1008360"/>
          </a:xfrm>
        </p:grpSpPr>
        <p:sp>
          <p:nvSpPr>
            <p:cNvPr id="284" name="pole tekstowe 36"/>
            <p:cNvSpPr/>
            <p:nvPr/>
          </p:nvSpPr>
          <p:spPr>
            <a:xfrm>
              <a:off x="3786840" y="3213720"/>
              <a:ext cx="204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286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287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88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1" name="Łącznik prosty ze strzałką 40"/>
          <p:cNvCxnSpPr>
            <a:stCxn id="288" idx="3"/>
            <a:endCxn id="289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2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293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94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Łącznik prosty ze strzałką 42"/>
          <p:cNvCxnSpPr>
            <a:stCxn id="295" idx="2"/>
            <a:endCxn id="296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99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00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Łącznik prosty ze strzałką 44"/>
            <p:cNvCxnSpPr>
              <a:stCxn id="300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a 48"/>
          <p:cNvGrpSpPr/>
          <p:nvPr/>
        </p:nvGrpSpPr>
        <p:grpSpPr>
          <a:xfrm>
            <a:off x="900000" y="4437000"/>
            <a:ext cx="3888000" cy="1224000"/>
            <a:chOff x="900000" y="4437000"/>
            <a:chExt cx="3888000" cy="1224000"/>
          </a:xfrm>
        </p:grpSpPr>
        <p:sp>
          <p:nvSpPr>
            <p:cNvPr id="307" name="Łącznik prosty 18"/>
            <p:cNvSpPr/>
            <p:nvPr/>
          </p:nvSpPr>
          <p:spPr>
            <a:xfrm>
              <a:off x="900000" y="4437000"/>
              <a:ext cx="3888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Łącznik prosty 21"/>
            <p:cNvSpPr/>
            <p:nvPr/>
          </p:nvSpPr>
          <p:spPr>
            <a:xfrm>
              <a:off x="4788000" y="4437000"/>
              <a:ext cx="0" cy="1224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upa 47"/>
          <p:cNvGrpSpPr/>
          <p:nvPr/>
        </p:nvGrpSpPr>
        <p:grpSpPr>
          <a:xfrm>
            <a:off x="900000" y="3213000"/>
            <a:ext cx="1871640" cy="2448000"/>
            <a:chOff x="900000" y="3213000"/>
            <a:chExt cx="1871640" cy="2448000"/>
          </a:xfrm>
        </p:grpSpPr>
        <p:sp>
          <p:nvSpPr>
            <p:cNvPr id="310" name="Łącznik prosty 23"/>
            <p:cNvSpPr/>
            <p:nvPr/>
          </p:nvSpPr>
          <p:spPr>
            <a:xfrm>
              <a:off x="900000" y="3213000"/>
              <a:ext cx="187164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Łącznik prosty 25"/>
            <p:cNvSpPr/>
            <p:nvPr/>
          </p:nvSpPr>
          <p:spPr>
            <a:xfrm>
              <a:off x="2771640" y="3213000"/>
              <a:ext cx="0" cy="2448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upa 49"/>
          <p:cNvGrpSpPr/>
          <p:nvPr/>
        </p:nvGrpSpPr>
        <p:grpSpPr>
          <a:xfrm>
            <a:off x="1332000" y="2349360"/>
            <a:ext cx="4535280" cy="2735280"/>
            <a:chOff x="1332000" y="2349360"/>
            <a:chExt cx="4535280" cy="2735280"/>
          </a:xfrm>
        </p:grpSpPr>
        <p:sp>
          <p:nvSpPr>
            <p:cNvPr id="313" name="Łącznik prosty 16"/>
            <p:cNvSpPr/>
            <p:nvPr/>
          </p:nvSpPr>
          <p:spPr>
            <a:xfrm>
              <a:off x="1332000" y="2349360"/>
              <a:ext cx="4535280" cy="273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ole tekstowe 31"/>
            <p:cNvSpPr/>
            <p:nvPr/>
          </p:nvSpPr>
          <p:spPr>
            <a:xfrm>
              <a:off x="2774160" y="2853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ole tekstowe 32"/>
            <p:cNvSpPr/>
            <p:nvPr/>
          </p:nvSpPr>
          <p:spPr>
            <a:xfrm>
              <a:off x="4790520" y="40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upa 39"/>
          <p:cNvGrpSpPr/>
          <p:nvPr/>
        </p:nvGrpSpPr>
        <p:grpSpPr>
          <a:xfrm>
            <a:off x="3059280" y="3141720"/>
            <a:ext cx="2797920" cy="1008360"/>
            <a:chOff x="3059280" y="3141720"/>
            <a:chExt cx="2797920" cy="1008360"/>
          </a:xfrm>
        </p:grpSpPr>
        <p:sp>
          <p:nvSpPr>
            <p:cNvPr id="317" name="pole tekstowe 36"/>
            <p:cNvSpPr/>
            <p:nvPr/>
          </p:nvSpPr>
          <p:spPr>
            <a:xfrm>
              <a:off x="3786840" y="3213720"/>
              <a:ext cx="207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8" name="Łącznik prosty ze strzałką 38"/>
            <p:cNvCxnSpPr/>
            <p:nvPr/>
          </p:nvCxnSpPr>
          <p:spPr>
            <a:xfrm>
              <a:off x="3059280" y="3141720"/>
              <a:ext cx="1729440" cy="100872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grpSp>
        <p:nvGrpSpPr>
          <p:cNvPr id="319" name="Grupa 53"/>
          <p:cNvGrpSpPr/>
          <p:nvPr/>
        </p:nvGrpSpPr>
        <p:grpSpPr>
          <a:xfrm>
            <a:off x="900000" y="5660640"/>
            <a:ext cx="6780240" cy="478080"/>
            <a:chOff x="900000" y="5660640"/>
            <a:chExt cx="6780240" cy="478080"/>
          </a:xfrm>
        </p:grpSpPr>
        <p:cxnSp>
          <p:nvCxnSpPr>
            <p:cNvPr id="320" name="Łącznik prosty ze strzałką 14"/>
            <p:cNvCxnSpPr/>
            <p:nvPr/>
          </p:nvCxnSpPr>
          <p:spPr>
            <a:xfrm>
              <a:off x="900000" y="5660640"/>
              <a:ext cx="633816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1" name="pole tekstowe 27"/>
            <p:cNvSpPr/>
            <p:nvPr/>
          </p:nvSpPr>
          <p:spPr>
            <a:xfrm>
              <a:off x="2563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pole tekstowe 28"/>
            <p:cNvSpPr/>
            <p:nvPr/>
          </p:nvSpPr>
          <p:spPr>
            <a:xfrm>
              <a:off x="457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pole tekstowe 33"/>
            <p:cNvSpPr/>
            <p:nvPr/>
          </p:nvSpPr>
          <p:spPr>
            <a:xfrm>
              <a:off x="6810840" y="5733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Łącznik prosty ze strzałką 40"/>
          <p:cNvCxnSpPr>
            <a:stCxn id="321" idx="3"/>
            <a:endCxn id="322" idx="1"/>
          </p:cNvCxnSpPr>
          <p:nvPr/>
        </p:nvCxnSpPr>
        <p:spPr>
          <a:xfrm>
            <a:off x="2931840" y="5917680"/>
            <a:ext cx="164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25" name="Grupa 52"/>
          <p:cNvGrpSpPr/>
          <p:nvPr/>
        </p:nvGrpSpPr>
        <p:grpSpPr>
          <a:xfrm>
            <a:off x="397800" y="1125360"/>
            <a:ext cx="867960" cy="4976280"/>
            <a:chOff x="397800" y="1125360"/>
            <a:chExt cx="867960" cy="4976280"/>
          </a:xfrm>
        </p:grpSpPr>
        <p:cxnSp>
          <p:nvCxnSpPr>
            <p:cNvPr id="326" name="Łącznik prosty ze strzałką 9"/>
            <p:cNvCxnSpPr/>
            <p:nvPr/>
          </p:nvCxnSpPr>
          <p:spPr>
            <a:xfrm flipV="1">
              <a:off x="899640" y="1411920"/>
              <a:ext cx="1080" cy="4249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7" name="pole tekstowe 26"/>
            <p:cNvSpPr/>
            <p:nvPr/>
          </p:nvSpPr>
          <p:spPr>
            <a:xfrm>
              <a:off x="758160" y="57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ole tekstowe 29"/>
            <p:cNvSpPr/>
            <p:nvPr/>
          </p:nvSpPr>
          <p:spPr>
            <a:xfrm>
              <a:off x="475200" y="3069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pole tekstowe 30"/>
            <p:cNvSpPr/>
            <p:nvPr/>
          </p:nvSpPr>
          <p:spPr>
            <a:xfrm>
              <a:off x="475200" y="429336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ole tekstowe 34"/>
            <p:cNvSpPr/>
            <p:nvPr/>
          </p:nvSpPr>
          <p:spPr>
            <a:xfrm>
              <a:off x="39780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1" name="Łącznik prosty ze strzałką 42"/>
          <p:cNvCxnSpPr>
            <a:stCxn id="328" idx="2"/>
            <a:endCxn id="329" idx="0"/>
          </p:cNvCxnSpPr>
          <p:nvPr/>
        </p:nvCxnSpPr>
        <p:spPr>
          <a:xfrm>
            <a:off x="661680" y="3438000"/>
            <a:ext cx="1080" cy="85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332" name="Grupa 50"/>
          <p:cNvGrpSpPr/>
          <p:nvPr/>
        </p:nvGrpSpPr>
        <p:grpSpPr>
          <a:xfrm>
            <a:off x="5579280" y="4508640"/>
            <a:ext cx="2017800" cy="322200"/>
            <a:chOff x="5579280" y="4508640"/>
            <a:chExt cx="2017800" cy="322200"/>
          </a:xfrm>
        </p:grpSpPr>
        <p:sp>
          <p:nvSpPr>
            <p:cNvPr id="333" name="pole tekstowe 35"/>
            <p:cNvSpPr/>
            <p:nvPr/>
          </p:nvSpPr>
          <p:spPr>
            <a:xfrm>
              <a:off x="5947200" y="4508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Łącznik prosty ze strzałką 44"/>
            <p:cNvCxnSpPr>
              <a:stCxn id="333" idx="1"/>
            </p:cNvCxnSpPr>
            <p:nvPr/>
          </p:nvCxnSpPr>
          <p:spPr>
            <a:xfrm flipH="1">
              <a:off x="5579280" y="4670640"/>
              <a:ext cx="361080" cy="127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zaokrąglony 9"/>
          <p:cNvSpPr/>
          <p:nvPr/>
        </p:nvSpPr>
        <p:spPr>
          <a:xfrm>
            <a:off x="611280" y="1413000"/>
            <a:ext cx="4465440" cy="20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Spadek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gór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zaokrąglony 12"/>
          <p:cNvSpPr/>
          <p:nvPr/>
        </p:nvSpPr>
        <p:spPr>
          <a:xfrm>
            <a:off x="3708360" y="4076640"/>
            <a:ext cx="446400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imes New Roman ce"/>
                <a:ea typeface="Times New Roman ce"/>
              </a:rPr>
              <a:t>Wzrost wielkości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ych czynnikach pozacenowych, jest następstwem zmiany ceny. Graficznie zaprezentowany jako ruch po krzywej w dó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16"/>
          <p:cNvCxnSpPr/>
          <p:nvPr/>
        </p:nvCxnSpPr>
        <p:spPr>
          <a:xfrm flipV="1">
            <a:off x="5435640" y="1699920"/>
            <a:ext cx="1658160" cy="17294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3" name="Łącznik prosty ze strzałką 18"/>
          <p:cNvCxnSpPr/>
          <p:nvPr/>
        </p:nvCxnSpPr>
        <p:spPr>
          <a:xfrm flipH="1">
            <a:off x="1331640" y="4149720"/>
            <a:ext cx="1945440" cy="1944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3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4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55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56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7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61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2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46"/>
          <p:cNvSpPr/>
          <p:nvPr/>
        </p:nvSpPr>
        <p:spPr>
          <a:xfrm>
            <a:off x="2775960" y="2781360"/>
            <a:ext cx="129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spadek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Łącznik prosty ze strzałką 48"/>
          <p:cNvCxnSpPr>
            <a:stCxn id="358" idx="1"/>
            <a:endCxn id="357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7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369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1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372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374" name="Prostokąt 59"/>
          <p:cNvSpPr/>
          <p:nvPr/>
        </p:nvSpPr>
        <p:spPr>
          <a:xfrm>
            <a:off x="4284720" y="126828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spadek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upa 17"/>
          <p:cNvGrpSpPr/>
          <p:nvPr/>
        </p:nvGrpSpPr>
        <p:grpSpPr>
          <a:xfrm>
            <a:off x="468360" y="1125360"/>
            <a:ext cx="7704000" cy="4175280"/>
            <a:chOff x="468360" y="1125360"/>
            <a:chExt cx="7704000" cy="4175280"/>
          </a:xfrm>
        </p:grpSpPr>
        <p:sp>
          <p:nvSpPr>
            <p:cNvPr id="98" name="Prostokąt zaokrąglony 12"/>
            <p:cNvSpPr/>
            <p:nvPr/>
          </p:nvSpPr>
          <p:spPr>
            <a:xfrm>
              <a:off x="1116000" y="3429000"/>
              <a:ext cx="7056360" cy="187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em nazywamy zgłoszone zapotrzebowanie na określone dobra na danym rynku i po danej ceni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3" descr=""/>
            <p:cNvPicPr/>
            <p:nvPr/>
          </p:nvPicPr>
          <p:blipFill>
            <a:blip r:embed="rId2"/>
            <a:stretch/>
          </p:blipFill>
          <p:spPr>
            <a:xfrm>
              <a:off x="468360" y="1125360"/>
              <a:ext cx="3096000" cy="245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Łącznik prosty 18"/>
          <p:cNvSpPr/>
          <p:nvPr/>
        </p:nvSpPr>
        <p:spPr>
          <a:xfrm>
            <a:off x="1258920" y="2276640"/>
            <a:ext cx="4681440" cy="25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Łącznik prosty 20"/>
          <p:cNvSpPr/>
          <p:nvPr/>
        </p:nvSpPr>
        <p:spPr>
          <a:xfrm>
            <a:off x="684360" y="357336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Łącznik prosty 24"/>
          <p:cNvSpPr/>
          <p:nvPr/>
        </p:nvSpPr>
        <p:spPr>
          <a:xfrm>
            <a:off x="234000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Łącznik prosty 26"/>
          <p:cNvSpPr/>
          <p:nvPr/>
        </p:nvSpPr>
        <p:spPr>
          <a:xfrm>
            <a:off x="3708360" y="3573360"/>
            <a:ext cx="0" cy="2159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Łącznik prosty ze strzałką 28"/>
          <p:cNvCxnSpPr/>
          <p:nvPr/>
        </p:nvCxnSpPr>
        <p:spPr>
          <a:xfrm flipH="1">
            <a:off x="1979280" y="2852280"/>
            <a:ext cx="289440" cy="505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4" name="Łącznik prosty ze strzałką 34"/>
          <p:cNvCxnSpPr/>
          <p:nvPr/>
        </p:nvCxnSpPr>
        <p:spPr>
          <a:xfrm flipH="1">
            <a:off x="3347640" y="3644640"/>
            <a:ext cx="28800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385" name="Łącznik prosty ze strzałką 36"/>
          <p:cNvCxnSpPr/>
          <p:nvPr/>
        </p:nvCxnSpPr>
        <p:spPr>
          <a:xfrm flipH="1">
            <a:off x="4571280" y="4292640"/>
            <a:ext cx="36108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</a:ln>
        </p:spPr>
      </p:cxnSp>
      <p:grpSp>
        <p:nvGrpSpPr>
          <p:cNvPr id="386" name="Grupa 55"/>
          <p:cNvGrpSpPr/>
          <p:nvPr/>
        </p:nvGrpSpPr>
        <p:grpSpPr>
          <a:xfrm>
            <a:off x="684000" y="5732280"/>
            <a:ext cx="7488360" cy="478080"/>
            <a:chOff x="684000" y="5732280"/>
            <a:chExt cx="7488360" cy="478080"/>
          </a:xfrm>
        </p:grpSpPr>
        <p:cxnSp>
          <p:nvCxnSpPr>
            <p:cNvPr id="387" name="Łącznik prosty ze strzałką 14"/>
            <p:cNvCxnSpPr/>
            <p:nvPr/>
          </p:nvCxnSpPr>
          <p:spPr>
            <a:xfrm>
              <a:off x="684000" y="5732280"/>
              <a:ext cx="6985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8" name="pole tekstowe 39"/>
            <p:cNvSpPr/>
            <p:nvPr/>
          </p:nvSpPr>
          <p:spPr>
            <a:xfrm>
              <a:off x="2131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pole tekstowe 40"/>
            <p:cNvSpPr/>
            <p:nvPr/>
          </p:nvSpPr>
          <p:spPr>
            <a:xfrm>
              <a:off x="349956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pole tekstowe 42"/>
            <p:cNvSpPr/>
            <p:nvPr/>
          </p:nvSpPr>
          <p:spPr>
            <a:xfrm>
              <a:off x="7236360" y="580464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upa 54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392" name="Łącznik prosty ze strzałką 9"/>
            <p:cNvCxnSpPr/>
            <p:nvPr/>
          </p:nvCxnSpPr>
          <p:spPr>
            <a:xfrm flipV="1">
              <a:off x="68400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93" name="pole tekstowe 38"/>
            <p:cNvSpPr/>
            <p:nvPr/>
          </p:nvSpPr>
          <p:spPr>
            <a:xfrm>
              <a:off x="541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pole tekstowe 41"/>
            <p:cNvSpPr/>
            <p:nvPr/>
          </p:nvSpPr>
          <p:spPr>
            <a:xfrm>
              <a:off x="331560" y="342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pole tekstowe 43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ole tekstowe 46"/>
          <p:cNvSpPr/>
          <p:nvPr/>
        </p:nvSpPr>
        <p:spPr>
          <a:xfrm>
            <a:off x="2776320" y="2781360"/>
            <a:ext cx="127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Łącznik prosty ze strzałką 48"/>
          <p:cNvCxnSpPr>
            <a:stCxn id="389" idx="1"/>
            <a:endCxn id="388" idx="3"/>
          </p:cNvCxnSpPr>
          <p:nvPr/>
        </p:nvCxnSpPr>
        <p:spPr>
          <a:xfrm flipH="1">
            <a:off x="2499840" y="5989320"/>
            <a:ext cx="992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398" name="Łącznik prosty 16"/>
          <p:cNvSpPr/>
          <p:nvPr/>
        </p:nvSpPr>
        <p:spPr>
          <a:xfrm>
            <a:off x="1042920" y="2852640"/>
            <a:ext cx="4608720" cy="252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upa 57"/>
          <p:cNvGrpSpPr/>
          <p:nvPr/>
        </p:nvGrpSpPr>
        <p:grpSpPr>
          <a:xfrm>
            <a:off x="5147640" y="4869000"/>
            <a:ext cx="1801440" cy="322200"/>
            <a:chOff x="5147640" y="4869000"/>
            <a:chExt cx="1801440" cy="322200"/>
          </a:xfrm>
        </p:grpSpPr>
        <p:sp>
          <p:nvSpPr>
            <p:cNvPr id="400" name="pole tekstowe 44"/>
            <p:cNvSpPr/>
            <p:nvPr/>
          </p:nvSpPr>
          <p:spPr>
            <a:xfrm>
              <a:off x="5299200" y="486900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Łącznik prosty ze strzałką 51"/>
            <p:cNvCxnSpPr/>
            <p:nvPr/>
          </p:nvCxnSpPr>
          <p:spPr>
            <a:xfrm flipH="1">
              <a:off x="5147640" y="4940280"/>
              <a:ext cx="216360" cy="7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402" name="Grupa 58"/>
          <p:cNvGrpSpPr/>
          <p:nvPr/>
        </p:nvGrpSpPr>
        <p:grpSpPr>
          <a:xfrm>
            <a:off x="5586840" y="4076640"/>
            <a:ext cx="1649880" cy="505080"/>
            <a:chOff x="5586840" y="4076640"/>
            <a:chExt cx="1649880" cy="505080"/>
          </a:xfrm>
        </p:grpSpPr>
        <p:sp>
          <p:nvSpPr>
            <p:cNvPr id="403" name="pole tekstowe 45"/>
            <p:cNvSpPr/>
            <p:nvPr/>
          </p:nvSpPr>
          <p:spPr>
            <a:xfrm>
              <a:off x="5586840" y="4076640"/>
              <a:ext cx="16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4" name="Łącznik prosty ze strzałką 53"/>
            <p:cNvCxnSpPr/>
            <p:nvPr/>
          </p:nvCxnSpPr>
          <p:spPr>
            <a:xfrm flipH="1">
              <a:off x="5650920" y="4292640"/>
              <a:ext cx="289440" cy="289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05" name="Prostokąt 35"/>
          <p:cNvSpPr/>
          <p:nvPr/>
        </p:nvSpPr>
        <p:spPr>
          <a:xfrm>
            <a:off x="4356000" y="1484280"/>
            <a:ext cx="39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zmian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np. wzrost dochodów konsumentó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const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ole tekstowe 6"/>
          <p:cNvSpPr/>
          <p:nvPr/>
        </p:nvSpPr>
        <p:spPr>
          <a:xfrm>
            <a:off x="468360" y="1557360"/>
            <a:ext cx="45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3635280" y="4076640"/>
            <a:ext cx="453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załka w górę 24"/>
          <p:cNvSpPr/>
          <p:nvPr/>
        </p:nvSpPr>
        <p:spPr>
          <a:xfrm rot="10800000">
            <a:off x="5580000" y="1628640"/>
            <a:ext cx="2376720" cy="216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załka w górę 25"/>
          <p:cNvSpPr/>
          <p:nvPr/>
        </p:nvSpPr>
        <p:spPr>
          <a:xfrm>
            <a:off x="900000" y="3933720"/>
            <a:ext cx="2376720" cy="2159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1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Symbol zastępczy zawartości 3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7862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24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27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30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pole tekstowe 74"/>
            <p:cNvSpPr/>
            <p:nvPr/>
          </p:nvSpPr>
          <p:spPr>
            <a:xfrm>
              <a:off x="3277800" y="393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ole tekstowe 75"/>
            <p:cNvSpPr/>
            <p:nvPr/>
          </p:nvSpPr>
          <p:spPr>
            <a:xfrm>
              <a:off x="4934160" y="270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34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35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39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40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upa 94"/>
          <p:cNvGrpSpPr/>
          <p:nvPr/>
        </p:nvGrpSpPr>
        <p:grpSpPr>
          <a:xfrm>
            <a:off x="3491640" y="3068640"/>
            <a:ext cx="2673720" cy="1042200"/>
            <a:chOff x="3491640" y="3068640"/>
            <a:chExt cx="2673720" cy="1042200"/>
          </a:xfrm>
        </p:grpSpPr>
        <p:sp>
          <p:nvSpPr>
            <p:cNvPr id="445" name="pole tekstowe 79"/>
            <p:cNvSpPr/>
            <p:nvPr/>
          </p:nvSpPr>
          <p:spPr>
            <a:xfrm>
              <a:off x="4076640" y="3788640"/>
              <a:ext cx="2088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spadek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Łącznik prosty ze strzałką 81"/>
            <p:cNvCxnSpPr/>
            <p:nvPr/>
          </p:nvCxnSpPr>
          <p:spPr>
            <a:xfrm flipH="1">
              <a:off x="3491640" y="3068640"/>
              <a:ext cx="129780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cxnSp>
        <p:nvCxnSpPr>
          <p:cNvPr id="447" name="Łącznik prosty ze strzałką 83"/>
          <p:cNvCxnSpPr>
            <a:stCxn id="436" idx="1"/>
            <a:endCxn id="435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8" name="Łącznik prosty ze strzałką 85"/>
          <p:cNvCxnSpPr>
            <a:stCxn id="442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49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50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52" name="Prostokąt 95"/>
          <p:cNvSpPr/>
          <p:nvPr/>
        </p:nvSpPr>
        <p:spPr>
          <a:xfrm>
            <a:off x="500364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spad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upa 90"/>
          <p:cNvGrpSpPr/>
          <p:nvPr/>
        </p:nvGrpSpPr>
        <p:grpSpPr>
          <a:xfrm>
            <a:off x="826920" y="4005360"/>
            <a:ext cx="2376720" cy="1727280"/>
            <a:chOff x="826920" y="4005360"/>
            <a:chExt cx="2376720" cy="1727280"/>
          </a:xfrm>
        </p:grpSpPr>
        <p:sp>
          <p:nvSpPr>
            <p:cNvPr id="458" name="Łącznik prosty 58"/>
            <p:cNvSpPr/>
            <p:nvPr/>
          </p:nvSpPr>
          <p:spPr>
            <a:xfrm>
              <a:off x="826920" y="4005360"/>
              <a:ext cx="2376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Łącznik prosty 60"/>
            <p:cNvSpPr/>
            <p:nvPr/>
          </p:nvSpPr>
          <p:spPr>
            <a:xfrm>
              <a:off x="3203640" y="4005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upa 91"/>
          <p:cNvGrpSpPr/>
          <p:nvPr/>
        </p:nvGrpSpPr>
        <p:grpSpPr>
          <a:xfrm>
            <a:off x="826920" y="2852640"/>
            <a:ext cx="4032360" cy="2880000"/>
            <a:chOff x="826920" y="2852640"/>
            <a:chExt cx="4032360" cy="2880000"/>
          </a:xfrm>
        </p:grpSpPr>
        <p:sp>
          <p:nvSpPr>
            <p:cNvPr id="461" name="Łącznik prosty 66"/>
            <p:cNvSpPr/>
            <p:nvPr/>
          </p:nvSpPr>
          <p:spPr>
            <a:xfrm>
              <a:off x="826920" y="2852640"/>
              <a:ext cx="40323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Łącznik prosty 68"/>
            <p:cNvSpPr/>
            <p:nvPr/>
          </p:nvSpPr>
          <p:spPr>
            <a:xfrm>
              <a:off x="4859280" y="2852640"/>
              <a:ext cx="0" cy="2880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upa 92"/>
          <p:cNvGrpSpPr/>
          <p:nvPr/>
        </p:nvGrpSpPr>
        <p:grpSpPr>
          <a:xfrm>
            <a:off x="971640" y="2133720"/>
            <a:ext cx="4895640" cy="3456000"/>
            <a:chOff x="971640" y="2133720"/>
            <a:chExt cx="4895640" cy="3456000"/>
          </a:xfrm>
        </p:grpSpPr>
        <p:sp>
          <p:nvSpPr>
            <p:cNvPr id="464" name="Łącznik prosty 56"/>
            <p:cNvSpPr/>
            <p:nvPr/>
          </p:nvSpPr>
          <p:spPr>
            <a:xfrm flipV="1">
              <a:off x="971640" y="2133720"/>
              <a:ext cx="4895640" cy="345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pole tekstowe 74"/>
            <p:cNvSpPr/>
            <p:nvPr/>
          </p:nvSpPr>
          <p:spPr>
            <a:xfrm>
              <a:off x="3278160" y="3933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ole tekstowe 75"/>
            <p:cNvSpPr/>
            <p:nvPr/>
          </p:nvSpPr>
          <p:spPr>
            <a:xfrm>
              <a:off x="4933800" y="27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upa 89"/>
          <p:cNvGrpSpPr/>
          <p:nvPr/>
        </p:nvGrpSpPr>
        <p:grpSpPr>
          <a:xfrm>
            <a:off x="826560" y="5732280"/>
            <a:ext cx="7212600" cy="478080"/>
            <a:chOff x="826560" y="5732280"/>
            <a:chExt cx="7212600" cy="478080"/>
          </a:xfrm>
        </p:grpSpPr>
        <p:cxnSp>
          <p:nvCxnSpPr>
            <p:cNvPr id="468" name="Łącznik prosty ze strzałką 50"/>
            <p:cNvCxnSpPr/>
            <p:nvPr/>
          </p:nvCxnSpPr>
          <p:spPr>
            <a:xfrm>
              <a:off x="826560" y="5732280"/>
              <a:ext cx="6697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69" name="pole tekstowe 70"/>
            <p:cNvSpPr/>
            <p:nvPr/>
          </p:nvSpPr>
          <p:spPr>
            <a:xfrm>
              <a:off x="299412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pole tekstowe 71"/>
            <p:cNvSpPr/>
            <p:nvPr/>
          </p:nvSpPr>
          <p:spPr>
            <a:xfrm>
              <a:off x="4650480" y="5804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pole tekstowe 76"/>
            <p:cNvSpPr/>
            <p:nvPr/>
          </p:nvSpPr>
          <p:spPr>
            <a:xfrm>
              <a:off x="7169760" y="58046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upa 88"/>
          <p:cNvGrpSpPr/>
          <p:nvPr/>
        </p:nvGrpSpPr>
        <p:grpSpPr>
          <a:xfrm>
            <a:off x="326520" y="1125360"/>
            <a:ext cx="867960" cy="5049000"/>
            <a:chOff x="326520" y="1125360"/>
            <a:chExt cx="867960" cy="5049000"/>
          </a:xfrm>
        </p:grpSpPr>
        <p:cxnSp>
          <p:nvCxnSpPr>
            <p:cNvPr id="473" name="Łącznik prosty ze strzałką 47"/>
            <p:cNvCxnSpPr/>
            <p:nvPr/>
          </p:nvCxnSpPr>
          <p:spPr>
            <a:xfrm flipV="1">
              <a:off x="826920" y="141228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74" name="pole tekstowe 69"/>
            <p:cNvSpPr/>
            <p:nvPr/>
          </p:nvSpPr>
          <p:spPr>
            <a:xfrm>
              <a:off x="685800" y="580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pole tekstowe 72"/>
            <p:cNvSpPr/>
            <p:nvPr/>
          </p:nvSpPr>
          <p:spPr>
            <a:xfrm>
              <a:off x="403200" y="3861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pole tekstowe 73"/>
            <p:cNvSpPr/>
            <p:nvPr/>
          </p:nvSpPr>
          <p:spPr>
            <a:xfrm>
              <a:off x="475200" y="27097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pole tekstowe 77"/>
            <p:cNvSpPr/>
            <p:nvPr/>
          </p:nvSpPr>
          <p:spPr>
            <a:xfrm>
              <a:off x="326520" y="1125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upa 37"/>
          <p:cNvGrpSpPr/>
          <p:nvPr/>
        </p:nvGrpSpPr>
        <p:grpSpPr>
          <a:xfrm>
            <a:off x="3491640" y="3068640"/>
            <a:ext cx="2651760" cy="1042200"/>
            <a:chOff x="3491640" y="3068640"/>
            <a:chExt cx="2651760" cy="1042200"/>
          </a:xfrm>
        </p:grpSpPr>
        <p:sp>
          <p:nvSpPr>
            <p:cNvPr id="479" name="pole tekstowe 79"/>
            <p:cNvSpPr/>
            <p:nvPr/>
          </p:nvSpPr>
          <p:spPr>
            <a:xfrm>
              <a:off x="4075920" y="3788640"/>
              <a:ext cx="206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c00000"/>
                  </a:solidFill>
                  <a:latin typeface="Times New Roman ce"/>
                  <a:ea typeface="Times New Roman ce"/>
                </a:rPr>
                <a:t>wzrost wielkości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Łącznik prosty ze strzałką 81"/>
            <p:cNvCxnSpPr/>
            <p:nvPr/>
          </p:nvCxnSpPr>
          <p:spPr>
            <a:xfrm flipH="1">
              <a:off x="3491640" y="3068640"/>
              <a:ext cx="1296360" cy="9374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headEnd len="med" type="triangle" w="med"/>
            </a:ln>
          </p:spPr>
        </p:cxnSp>
      </p:grpSp>
      <p:cxnSp>
        <p:nvCxnSpPr>
          <p:cNvPr id="481" name="Łącznik prosty ze strzałką 83"/>
          <p:cNvCxnSpPr>
            <a:stCxn id="470" idx="1"/>
            <a:endCxn id="469" idx="3"/>
          </p:cNvCxnSpPr>
          <p:nvPr/>
        </p:nvCxnSpPr>
        <p:spPr>
          <a:xfrm flipH="1">
            <a:off x="3364920" y="5989320"/>
            <a:ext cx="127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482" name="Łącznik prosty ze strzałką 85"/>
          <p:cNvCxnSpPr>
            <a:stCxn id="476" idx="2"/>
          </p:cNvCxnSpPr>
          <p:nvPr/>
        </p:nvCxnSpPr>
        <p:spPr>
          <a:xfrm>
            <a:off x="662040" y="3077640"/>
            <a:ext cx="23040" cy="85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grpSp>
        <p:nvGrpSpPr>
          <p:cNvPr id="483" name="Grupa 93"/>
          <p:cNvGrpSpPr/>
          <p:nvPr/>
        </p:nvGrpSpPr>
        <p:grpSpPr>
          <a:xfrm>
            <a:off x="5084280" y="1700280"/>
            <a:ext cx="1637640" cy="576720"/>
            <a:chOff x="5084280" y="1700280"/>
            <a:chExt cx="1637640" cy="576720"/>
          </a:xfrm>
        </p:grpSpPr>
        <p:sp>
          <p:nvSpPr>
            <p:cNvPr id="484" name="pole tekstowe 78"/>
            <p:cNvSpPr/>
            <p:nvPr/>
          </p:nvSpPr>
          <p:spPr>
            <a:xfrm>
              <a:off x="5084280" y="1700280"/>
              <a:ext cx="1637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 – krzywa podaż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Łącznik prosty ze strzałką 87"/>
            <p:cNvCxnSpPr/>
            <p:nvPr/>
          </p:nvCxnSpPr>
          <p:spPr>
            <a:xfrm>
              <a:off x="5436720" y="1989360"/>
              <a:ext cx="216360" cy="288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486" name="Prostokąt 38"/>
          <p:cNvSpPr/>
          <p:nvPr/>
        </p:nvSpPr>
        <p:spPr>
          <a:xfrm>
            <a:off x="4932360" y="105264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nniki pozacenowe – constan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a – wzr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ole tekstowe 6"/>
          <p:cNvSpPr/>
          <p:nvPr/>
        </p:nvSpPr>
        <p:spPr>
          <a:xfrm>
            <a:off x="539640" y="1413000"/>
            <a:ext cx="3527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ole tekstowe 7"/>
          <p:cNvSpPr/>
          <p:nvPr/>
        </p:nvSpPr>
        <p:spPr>
          <a:xfrm>
            <a:off x="4500720" y="1413000"/>
            <a:ext cx="374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wielkości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cenowego przy stałych determinantach pozacenowych, przedstawiony jako ruch po krzywej podaży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rążkowana strzałka w prawo 8"/>
          <p:cNvSpPr/>
          <p:nvPr/>
        </p:nvSpPr>
        <p:spPr>
          <a:xfrm rot="16200000">
            <a:off x="1224000" y="4544640"/>
            <a:ext cx="2305080" cy="1800360"/>
          </a:xfrm>
          <a:custGeom>
            <a:avLst/>
            <a:gdLst>
              <a:gd name="textAreaLeft" fmla="*/ 281160 w 2305080"/>
              <a:gd name="textAreaRight" fmla="*/ 1855080 w 2305080"/>
              <a:gd name="textAreaTop" fmla="*/ 450000 h 1800360"/>
              <a:gd name="textAreaBottom" fmla="*/ 1350360 h 1800360"/>
            </a:gdLst>
            <a:ahLst/>
            <a:rect l="textAreaLeft" t="textAreaTop" r="textAreaRight" b="textAreaBottom"/>
            <a:pathLst>
              <a:path w="2305050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4938" y="450056"/>
                </a:lnTo>
                <a:lnTo>
                  <a:pt x="1404938" y="0"/>
                </a:lnTo>
                <a:lnTo>
                  <a:pt x="2305050" y="900113"/>
                </a:lnTo>
                <a:lnTo>
                  <a:pt x="1404938" y="1800225"/>
                </a:lnTo>
                <a:lnTo>
                  <a:pt x="1404938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rążkowana strzałka w prawo 9"/>
          <p:cNvSpPr/>
          <p:nvPr/>
        </p:nvSpPr>
        <p:spPr>
          <a:xfrm rot="5400000">
            <a:off x="5257080" y="4617360"/>
            <a:ext cx="2303280" cy="1800000"/>
          </a:xfrm>
          <a:custGeom>
            <a:avLst/>
            <a:gdLst>
              <a:gd name="textAreaLeft" fmla="*/ 281160 w 2303280"/>
              <a:gd name="textAreaRight" fmla="*/ 1853280 w 2303280"/>
              <a:gd name="textAreaTop" fmla="*/ 450000 h 1800000"/>
              <a:gd name="textAreaBottom" fmla="*/ 1350000 h 1800000"/>
            </a:gdLst>
            <a:ahLst/>
            <a:rect l="textAreaLeft" t="textAreaTop" r="textAreaRight" b="textAreaBottom"/>
            <a:pathLst>
              <a:path w="2303463" h="1800225">
                <a:moveTo>
                  <a:pt x="0" y="450056"/>
                </a:moveTo>
                <a:lnTo>
                  <a:pt x="56257" y="450056"/>
                </a:lnTo>
                <a:lnTo>
                  <a:pt x="56257" y="1350169"/>
                </a:lnTo>
                <a:lnTo>
                  <a:pt x="0" y="1350169"/>
                </a:lnTo>
                <a:close/>
                <a:moveTo>
                  <a:pt x="112514" y="450056"/>
                </a:moveTo>
                <a:lnTo>
                  <a:pt x="225028" y="450056"/>
                </a:lnTo>
                <a:lnTo>
                  <a:pt x="225028" y="1350169"/>
                </a:lnTo>
                <a:lnTo>
                  <a:pt x="112514" y="1350169"/>
                </a:lnTo>
                <a:close/>
                <a:moveTo>
                  <a:pt x="281285" y="450056"/>
                </a:moveTo>
                <a:lnTo>
                  <a:pt x="1403351" y="450056"/>
                </a:lnTo>
                <a:lnTo>
                  <a:pt x="1403351" y="0"/>
                </a:lnTo>
                <a:lnTo>
                  <a:pt x="2303463" y="900113"/>
                </a:lnTo>
                <a:lnTo>
                  <a:pt x="1403351" y="1800225"/>
                </a:lnTo>
                <a:lnTo>
                  <a:pt x="1403351" y="1350169"/>
                </a:lnTo>
                <a:lnTo>
                  <a:pt x="281285" y="13501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pole tekstowe 6"/>
          <p:cNvSpPr/>
          <p:nvPr/>
        </p:nvSpPr>
        <p:spPr>
          <a:xfrm>
            <a:off x="395280" y="1413000"/>
            <a:ext cx="51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zrost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pra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ole tekstowe 7"/>
          <p:cNvSpPr/>
          <p:nvPr/>
        </p:nvSpPr>
        <p:spPr>
          <a:xfrm>
            <a:off x="395280" y="386064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adek podaż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tępuje pod wpływem czynnika pozacenowego przy stałej cenie, graficznie przedstawiony jako przesunięcie krzywej podaży w lew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trzałka w prawo 14"/>
          <p:cNvSpPr/>
          <p:nvPr/>
        </p:nvSpPr>
        <p:spPr>
          <a:xfrm>
            <a:off x="5651640" y="1628640"/>
            <a:ext cx="2520720" cy="1800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załka w prawo 15"/>
          <p:cNvSpPr/>
          <p:nvPr/>
        </p:nvSpPr>
        <p:spPr>
          <a:xfrm rot="10800000">
            <a:off x="5651640" y="3933360"/>
            <a:ext cx="2520720" cy="1798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Obraz 6" descr="wykrzyknik.jpg"/>
          <p:cNvPicPr/>
          <p:nvPr/>
        </p:nvPicPr>
        <p:blipFill>
          <a:blip r:embed="rId2"/>
          <a:stretch/>
        </p:blipFill>
        <p:spPr>
          <a:xfrm>
            <a:off x="521964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ole tekstowe 9"/>
          <p:cNvSpPr/>
          <p:nvPr/>
        </p:nvSpPr>
        <p:spPr>
          <a:xfrm>
            <a:off x="2411280" y="1557360"/>
            <a:ext cx="58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adek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dó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ole tekstowe 12"/>
          <p:cNvSpPr/>
          <p:nvPr/>
        </p:nvSpPr>
        <p:spPr>
          <a:xfrm>
            <a:off x="324000" y="3933720"/>
            <a:ext cx="576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popy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przy stałej cenie na skutek działania czynników pozacenowych, graficznie przedstawiony jako przesunięcie krzywej popytu w gór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załka zawracania 14"/>
          <p:cNvSpPr/>
          <p:nvPr/>
        </p:nvSpPr>
        <p:spPr>
          <a:xfrm>
            <a:off x="539640" y="1052640"/>
            <a:ext cx="1800360" cy="2016000"/>
          </a:xfrm>
          <a:custGeom>
            <a:avLst/>
            <a:gdLst/>
            <a:ahLst/>
            <a:rect l="l" t="t" r="r" b="b"/>
            <a:pathLst>
              <a:path w="1800225" h="2016125">
                <a:moveTo>
                  <a:pt x="0" y="2016125"/>
                </a:moveTo>
                <a:lnTo>
                  <a:pt x="0" y="787598"/>
                </a:lnTo>
                <a:lnTo>
                  <a:pt x="0" y="787598"/>
                </a:lnTo>
                <a:arcTo wR="787598" hR="787598" stAng="-10799996" swAng="5400000"/>
                <a:lnTo>
                  <a:pt x="787598" y="0"/>
                </a:lnTo>
                <a:lnTo>
                  <a:pt x="787598" y="0"/>
                </a:lnTo>
                <a:arcTo wR="787598" hR="787598" stAng="-5399996" swAng="5400000"/>
                <a:lnTo>
                  <a:pt x="1575197" y="1062038"/>
                </a:lnTo>
                <a:lnTo>
                  <a:pt x="1800225" y="1062038"/>
                </a:lnTo>
                <a:lnTo>
                  <a:pt x="1350169" y="1512094"/>
                </a:lnTo>
                <a:lnTo>
                  <a:pt x="900113" y="1062038"/>
                </a:lnTo>
                <a:lnTo>
                  <a:pt x="1125141" y="1062038"/>
                </a:lnTo>
                <a:lnTo>
                  <a:pt x="1125141" y="787598"/>
                </a:lnTo>
                <a:lnTo>
                  <a:pt x="1125141" y="787598"/>
                </a:lnTo>
                <a:arcTo wR="337542" hR="337542" stAng="0" swAng="-5400000"/>
                <a:lnTo>
                  <a:pt x="787598" y="450056"/>
                </a:lnTo>
                <a:lnTo>
                  <a:pt x="787598" y="450056"/>
                </a:lnTo>
                <a:arcTo wR="337542" hR="337542" stAng="-5400000" swAng="-5400000"/>
                <a:lnTo>
                  <a:pt x="450056" y="20161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załka wygięta w górę 15"/>
          <p:cNvSpPr/>
          <p:nvPr/>
        </p:nvSpPr>
        <p:spPr>
          <a:xfrm>
            <a:off x="6084720" y="4076640"/>
            <a:ext cx="2016360" cy="1944720"/>
          </a:xfrm>
          <a:custGeom>
            <a:avLst/>
            <a:gdLst>
              <a:gd name="textAreaLeft" fmla="*/ 0 w 2016360"/>
              <a:gd name="textAreaRight" fmla="*/ 1773360 w 2016360"/>
              <a:gd name="textAreaTop" fmla="*/ 1458720 h 1944720"/>
              <a:gd name="textAreaBottom" fmla="*/ 1945080 h 1944720"/>
            </a:gdLst>
            <a:ahLst/>
            <a:rect l="textAreaLeft" t="textAreaTop" r="textAreaRight" b="textAreaBottom"/>
            <a:pathLst>
              <a:path w="2016125" h="1944688">
                <a:moveTo>
                  <a:pt x="0" y="1458516"/>
                </a:moveTo>
                <a:lnTo>
                  <a:pt x="1286867" y="1458516"/>
                </a:lnTo>
                <a:lnTo>
                  <a:pt x="1286867" y="486172"/>
                </a:lnTo>
                <a:lnTo>
                  <a:pt x="1043781" y="486172"/>
                </a:lnTo>
                <a:lnTo>
                  <a:pt x="1529953" y="0"/>
                </a:lnTo>
                <a:lnTo>
                  <a:pt x="2016125" y="486172"/>
                </a:lnTo>
                <a:lnTo>
                  <a:pt x="1773039" y="486172"/>
                </a:lnTo>
                <a:lnTo>
                  <a:pt x="1773039" y="1944688"/>
                </a:lnTo>
                <a:lnTo>
                  <a:pt x="0" y="19446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4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23"/>
          <p:cNvGrpSpPr/>
          <p:nvPr/>
        </p:nvGrpSpPr>
        <p:grpSpPr>
          <a:xfrm>
            <a:off x="755640" y="1197000"/>
            <a:ext cx="7272360" cy="1485720"/>
            <a:chOff x="755640" y="1197000"/>
            <a:chExt cx="7272360" cy="1485720"/>
          </a:xfrm>
        </p:grpSpPr>
        <p:sp>
          <p:nvSpPr>
            <p:cNvPr id="105" name="Dowolny kształt 18"/>
            <p:cNvSpPr/>
            <p:nvPr/>
          </p:nvSpPr>
          <p:spPr>
            <a:xfrm>
              <a:off x="755640" y="1197000"/>
              <a:ext cx="7272360" cy="1485720"/>
            </a:xfrm>
            <a:prstGeom prst="pi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675440" rIns="72360" tIns="72360" bIns="7236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potencjal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ni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rostokąt zaokrąglony 19"/>
            <p:cNvSpPr/>
            <p:nvPr/>
          </p:nvSpPr>
          <p:spPr>
            <a:xfrm>
              <a:off x="904680" y="13460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24"/>
          <p:cNvGrpSpPr/>
          <p:nvPr/>
        </p:nvGrpSpPr>
        <p:grpSpPr>
          <a:xfrm>
            <a:off x="755640" y="3792600"/>
            <a:ext cx="7272360" cy="1485720"/>
            <a:chOff x="755640" y="3792600"/>
            <a:chExt cx="7272360" cy="1485720"/>
          </a:xfrm>
        </p:grpSpPr>
        <p:sp>
          <p:nvSpPr>
            <p:cNvPr id="108" name="Dowolny kształt 20"/>
            <p:cNvSpPr/>
            <p:nvPr/>
          </p:nvSpPr>
          <p:spPr>
            <a:xfrm>
              <a:off x="755640" y="3792600"/>
              <a:ext cx="7272360" cy="1485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0560" rIns="87480" tIns="87480" bIns="87480" anchor="t">
              <a:no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pyt efektywn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głoszone zapotrzebowanie na dane dobro w danym miejscu i czasie, przy określonej cenie, które jest poparte możliwościami nabywczy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rostokąt zaokrąglony 21"/>
            <p:cNvSpPr/>
            <p:nvPr/>
          </p:nvSpPr>
          <p:spPr>
            <a:xfrm>
              <a:off x="904680" y="3941640"/>
              <a:ext cx="1454040" cy="1187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wo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a 42"/>
          <p:cNvGrpSpPr/>
          <p:nvPr/>
        </p:nvGrpSpPr>
        <p:grpSpPr>
          <a:xfrm>
            <a:off x="309600" y="1197000"/>
            <a:ext cx="1714320" cy="4873680"/>
            <a:chOff x="309600" y="1197000"/>
            <a:chExt cx="1714320" cy="4873680"/>
          </a:xfrm>
        </p:grpSpPr>
        <p:sp>
          <p:nvSpPr>
            <p:cNvPr id="115" name="Prostokąt zaokrąglony 34"/>
            <p:cNvSpPr/>
            <p:nvPr/>
          </p:nvSpPr>
          <p:spPr>
            <a:xfrm>
              <a:off x="30960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Dowolny kształt 35"/>
            <p:cNvSpPr/>
            <p:nvPr/>
          </p:nvSpPr>
          <p:spPr>
            <a:xfrm>
              <a:off x="30960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wielkość popytu maleje i odwrotnie –  gdy ceny maleją, wielkość popytu roś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43"/>
          <p:cNvGrpSpPr/>
          <p:nvPr/>
        </p:nvGrpSpPr>
        <p:grpSpPr>
          <a:xfrm>
            <a:off x="2195640" y="1197000"/>
            <a:ext cx="1714320" cy="4873680"/>
            <a:chOff x="2195640" y="1197000"/>
            <a:chExt cx="1714320" cy="4873680"/>
          </a:xfrm>
        </p:grpSpPr>
        <p:sp>
          <p:nvSpPr>
            <p:cNvPr id="118" name="Prostokąt zaokrąglony 36"/>
            <p:cNvSpPr/>
            <p:nvPr/>
          </p:nvSpPr>
          <p:spPr>
            <a:xfrm>
              <a:off x="2195640" y="1197000"/>
              <a:ext cx="17143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Dowolny kształt 37"/>
            <p:cNvSpPr/>
            <p:nvPr/>
          </p:nvSpPr>
          <p:spPr>
            <a:xfrm>
              <a:off x="2195640" y="2830320"/>
              <a:ext cx="17143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Giff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, rośnie również wielkość popytu na dobra niższego rzę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44"/>
          <p:cNvGrpSpPr/>
          <p:nvPr/>
        </p:nvGrpSpPr>
        <p:grpSpPr>
          <a:xfrm>
            <a:off x="4081320" y="1197000"/>
            <a:ext cx="1716120" cy="4873680"/>
            <a:chOff x="4081320" y="1197000"/>
            <a:chExt cx="1716120" cy="4873680"/>
          </a:xfrm>
        </p:grpSpPr>
        <p:sp>
          <p:nvSpPr>
            <p:cNvPr id="121" name="Prostokąt zaokrąglony 38"/>
            <p:cNvSpPr/>
            <p:nvPr/>
          </p:nvSpPr>
          <p:spPr>
            <a:xfrm>
              <a:off x="4081320" y="1197000"/>
              <a:ext cx="17161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Dowolny kształt 39"/>
            <p:cNvSpPr/>
            <p:nvPr/>
          </p:nvSpPr>
          <p:spPr>
            <a:xfrm>
              <a:off x="4081320" y="2830320"/>
              <a:ext cx="17161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aradoks Vebl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tedy gdy na rynku rosną ceny dóbr luksusowych, rośnie również wielkość popytu na 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a 45"/>
          <p:cNvGrpSpPr/>
          <p:nvPr/>
        </p:nvGrpSpPr>
        <p:grpSpPr>
          <a:xfrm>
            <a:off x="5969160" y="1197000"/>
            <a:ext cx="2347920" cy="4873680"/>
            <a:chOff x="5969160" y="1197000"/>
            <a:chExt cx="2347920" cy="4873680"/>
          </a:xfrm>
        </p:grpSpPr>
        <p:sp>
          <p:nvSpPr>
            <p:cNvPr id="124" name="Prostokąt zaokrąglony 40"/>
            <p:cNvSpPr/>
            <p:nvPr/>
          </p:nvSpPr>
          <p:spPr>
            <a:xfrm>
              <a:off x="5969160" y="1197000"/>
              <a:ext cx="2347920" cy="171144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Dowolny kształt 41"/>
            <p:cNvSpPr/>
            <p:nvPr/>
          </p:nvSpPr>
          <p:spPr>
            <a:xfrm>
              <a:off x="5969160" y="2830320"/>
              <a:ext cx="2347920" cy="3240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3520" rIns="173520" tIns="120960" bIns="173520" anchor="t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fekt spekul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upowanie towarów wtedy, gdy ich ceny rosną, aby uchronić się przed większymi wydatkami w przyszłości, lub powstrzymywanie się od zakupów, gdy ceny maleją, by zaoszczędzić </a:t>
              </a:r>
              <a:br>
                <a:rPr sz="1800"/>
              </a:b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przyszłośc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4076640"/>
          <a:ext cx="7272360" cy="64764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64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Kombin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ziom ceny (p) w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Ilość popytu (q) w sz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84360" y="472428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4360" y="508464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4360" y="5445000"/>
          <a:ext cx="7272360" cy="371520"/>
        </p:xfrm>
        <a:graphic>
          <a:graphicData uri="http://schemas.openxmlformats.org/drawingml/2006/table">
            <a:tbl>
              <a:tblPr/>
              <a:tblGrid>
                <a:gridCol w="1944720"/>
                <a:gridCol w="2663640"/>
                <a:gridCol w="266400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34" name="pole tekstowe 23"/>
          <p:cNvSpPr/>
          <p:nvPr/>
        </p:nvSpPr>
        <p:spPr>
          <a:xfrm>
            <a:off x="539640" y="1341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jmijmy, że mamy do czynienia z rynkiem obuwia letni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wyniku przeprowadzonych badań ustalono następujące zależności pomiędzy ceną a wielkością popy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185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py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86"/>
          <p:cNvGrpSpPr/>
          <p:nvPr/>
        </p:nvGrpSpPr>
        <p:grpSpPr>
          <a:xfrm>
            <a:off x="1116000" y="2708280"/>
            <a:ext cx="1440000" cy="2952720"/>
            <a:chOff x="1116000" y="2708280"/>
            <a:chExt cx="1440000" cy="2952720"/>
          </a:xfrm>
        </p:grpSpPr>
        <p:sp>
          <p:nvSpPr>
            <p:cNvPr id="141" name="Łącznik prosty 51"/>
            <p:cNvSpPr/>
            <p:nvPr/>
          </p:nvSpPr>
          <p:spPr>
            <a:xfrm>
              <a:off x="1116000" y="2708280"/>
              <a:ext cx="144000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Łącznik prosty 53"/>
            <p:cNvSpPr/>
            <p:nvPr/>
          </p:nvSpPr>
          <p:spPr>
            <a:xfrm>
              <a:off x="2556000" y="2708280"/>
              <a:ext cx="0" cy="29527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87"/>
          <p:cNvGrpSpPr/>
          <p:nvPr/>
        </p:nvGrpSpPr>
        <p:grpSpPr>
          <a:xfrm>
            <a:off x="1116000" y="3789360"/>
            <a:ext cx="2951280" cy="1871640"/>
            <a:chOff x="1116000" y="3789360"/>
            <a:chExt cx="2951280" cy="1871640"/>
          </a:xfrm>
        </p:grpSpPr>
        <p:sp>
          <p:nvSpPr>
            <p:cNvPr id="144" name="Łącznik prosty 55"/>
            <p:cNvSpPr/>
            <p:nvPr/>
          </p:nvSpPr>
          <p:spPr>
            <a:xfrm>
              <a:off x="1116000" y="3789360"/>
              <a:ext cx="295128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Łącznik prosty 58"/>
            <p:cNvSpPr/>
            <p:nvPr/>
          </p:nvSpPr>
          <p:spPr>
            <a:xfrm>
              <a:off x="4067280" y="3789360"/>
              <a:ext cx="0" cy="1871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88"/>
          <p:cNvGrpSpPr/>
          <p:nvPr/>
        </p:nvGrpSpPr>
        <p:grpSpPr>
          <a:xfrm>
            <a:off x="1116000" y="4797360"/>
            <a:ext cx="4392720" cy="863640"/>
            <a:chOff x="1116000" y="4797360"/>
            <a:chExt cx="4392720" cy="863640"/>
          </a:xfrm>
        </p:grpSpPr>
        <p:sp>
          <p:nvSpPr>
            <p:cNvPr id="147" name="Łącznik prosty 66"/>
            <p:cNvSpPr/>
            <p:nvPr/>
          </p:nvSpPr>
          <p:spPr>
            <a:xfrm>
              <a:off x="1116000" y="4797360"/>
              <a:ext cx="439272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Łącznik prosty 68"/>
            <p:cNvSpPr/>
            <p:nvPr/>
          </p:nvSpPr>
          <p:spPr>
            <a:xfrm>
              <a:off x="5508720" y="4797360"/>
              <a:ext cx="0" cy="8636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85"/>
          <p:cNvGrpSpPr/>
          <p:nvPr/>
        </p:nvGrpSpPr>
        <p:grpSpPr>
          <a:xfrm>
            <a:off x="1115640" y="5660640"/>
            <a:ext cx="6769440" cy="478080"/>
            <a:chOff x="1115640" y="5660640"/>
            <a:chExt cx="6769440" cy="478080"/>
          </a:xfrm>
        </p:grpSpPr>
        <p:cxnSp>
          <p:nvCxnSpPr>
            <p:cNvPr id="150" name="Łącznik prosty ze strzałką 24"/>
            <p:cNvCxnSpPr/>
            <p:nvPr/>
          </p:nvCxnSpPr>
          <p:spPr>
            <a:xfrm>
              <a:off x="1115640" y="5660640"/>
              <a:ext cx="6265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1" name="pole tekstowe 70"/>
            <p:cNvSpPr/>
            <p:nvPr/>
          </p:nvSpPr>
          <p:spPr>
            <a:xfrm>
              <a:off x="241920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ole tekstowe 71"/>
            <p:cNvSpPr/>
            <p:nvPr/>
          </p:nvSpPr>
          <p:spPr>
            <a:xfrm>
              <a:off x="385956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ole tekstowe 72"/>
            <p:cNvSpPr/>
            <p:nvPr/>
          </p:nvSpPr>
          <p:spPr>
            <a:xfrm>
              <a:off x="5299920" y="57330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ole tekstowe 73"/>
            <p:cNvSpPr/>
            <p:nvPr/>
          </p:nvSpPr>
          <p:spPr>
            <a:xfrm>
              <a:off x="6949080" y="573300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q – il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89"/>
          <p:cNvGrpSpPr/>
          <p:nvPr/>
        </p:nvGrpSpPr>
        <p:grpSpPr>
          <a:xfrm>
            <a:off x="1547640" y="1989000"/>
            <a:ext cx="4753080" cy="3384720"/>
            <a:chOff x="1547640" y="1989000"/>
            <a:chExt cx="4753080" cy="3384720"/>
          </a:xfrm>
        </p:grpSpPr>
        <p:sp>
          <p:nvSpPr>
            <p:cNvPr id="156" name="Łącznik prosty 49"/>
            <p:cNvSpPr/>
            <p:nvPr/>
          </p:nvSpPr>
          <p:spPr>
            <a:xfrm>
              <a:off x="1547640" y="1989000"/>
              <a:ext cx="4753080" cy="338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ole tekstowe 77"/>
            <p:cNvSpPr/>
            <p:nvPr/>
          </p:nvSpPr>
          <p:spPr>
            <a:xfrm>
              <a:off x="2558520" y="234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ole tekstowe 78"/>
            <p:cNvSpPr/>
            <p:nvPr/>
          </p:nvSpPr>
          <p:spPr>
            <a:xfrm>
              <a:off x="4070880" y="342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ole tekstowe 79"/>
            <p:cNvSpPr/>
            <p:nvPr/>
          </p:nvSpPr>
          <p:spPr>
            <a:xfrm>
              <a:off x="5589720" y="45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upa 84"/>
          <p:cNvGrpSpPr/>
          <p:nvPr/>
        </p:nvGrpSpPr>
        <p:grpSpPr>
          <a:xfrm>
            <a:off x="250920" y="1268280"/>
            <a:ext cx="1018080" cy="4833000"/>
            <a:chOff x="250920" y="1268280"/>
            <a:chExt cx="1018080" cy="4833000"/>
          </a:xfrm>
        </p:grpSpPr>
        <p:cxnSp>
          <p:nvCxnSpPr>
            <p:cNvPr id="161" name="Łącznik prosty ze strzałką 17"/>
            <p:cNvCxnSpPr/>
            <p:nvPr/>
          </p:nvCxnSpPr>
          <p:spPr>
            <a:xfrm flipV="1">
              <a:off x="1115640" y="1339200"/>
              <a:ext cx="1080" cy="432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2" name="pole tekstowe 69"/>
            <p:cNvSpPr/>
            <p:nvPr/>
          </p:nvSpPr>
          <p:spPr>
            <a:xfrm>
              <a:off x="973800" y="573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ole tekstowe 74"/>
            <p:cNvSpPr/>
            <p:nvPr/>
          </p:nvSpPr>
          <p:spPr>
            <a:xfrm>
              <a:off x="691200" y="249228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ole tekstowe 75"/>
            <p:cNvSpPr/>
            <p:nvPr/>
          </p:nvSpPr>
          <p:spPr>
            <a:xfrm>
              <a:off x="691200" y="357264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ole tekstowe 76"/>
            <p:cNvSpPr/>
            <p:nvPr/>
          </p:nvSpPr>
          <p:spPr>
            <a:xfrm>
              <a:off x="691200" y="458100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 ce"/>
                  <a:ea typeface="Times New Roman c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ole tekstowe 80"/>
            <p:cNvSpPr/>
            <p:nvPr/>
          </p:nvSpPr>
          <p:spPr>
            <a:xfrm>
              <a:off x="250920" y="1268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 – c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upa 90"/>
          <p:cNvGrpSpPr/>
          <p:nvPr/>
        </p:nvGrpSpPr>
        <p:grpSpPr>
          <a:xfrm>
            <a:off x="4284000" y="3357720"/>
            <a:ext cx="2591640" cy="503280"/>
            <a:chOff x="4284000" y="3357720"/>
            <a:chExt cx="2591640" cy="503280"/>
          </a:xfrm>
        </p:grpSpPr>
        <p:sp>
          <p:nvSpPr>
            <p:cNvPr id="168" name="pole tekstowe 81"/>
            <p:cNvSpPr/>
            <p:nvPr/>
          </p:nvSpPr>
          <p:spPr>
            <a:xfrm>
              <a:off x="4644360" y="3357720"/>
              <a:ext cx="22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 – krzywa popy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Łącznik prosty ze strzałką 83"/>
            <p:cNvCxnSpPr>
              <a:stCxn id="168" idx="1"/>
            </p:cNvCxnSpPr>
            <p:nvPr/>
          </p:nvCxnSpPr>
          <p:spPr>
            <a:xfrm flipH="1">
              <a:off x="4284000" y="3541680"/>
              <a:ext cx="361080" cy="319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zywa popy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284720" y="4724280"/>
            <a:ext cx="374328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4284720" y="1197000"/>
            <a:ext cx="3906720" cy="19778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z rogami zaokrąglonymi po przekątnej 6"/>
          <p:cNvSpPr/>
          <p:nvPr/>
        </p:nvSpPr>
        <p:spPr>
          <a:xfrm>
            <a:off x="684360" y="2565360"/>
            <a:ext cx="5111640" cy="21589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rzywa popyt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dstawia ujemną (odwrotnie proporcjonalną) zależność pomiędzy ceną a wielkością popyt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zaokrąglony 7"/>
          <p:cNvSpPr/>
          <p:nvPr/>
        </p:nvSpPr>
        <p:spPr>
          <a:xfrm>
            <a:off x="2771640" y="2492280"/>
            <a:ext cx="511344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ą nazywamy zaoferowany do sprzedaży towar na danym rynku, po danej ceni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 określonym czasi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232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a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upa 17"/>
          <p:cNvGrpSpPr/>
          <p:nvPr/>
        </p:nvGrpSpPr>
        <p:grpSpPr>
          <a:xfrm>
            <a:off x="324000" y="1781280"/>
            <a:ext cx="7561080" cy="2133360"/>
            <a:chOff x="324000" y="1781280"/>
            <a:chExt cx="7561080" cy="2133360"/>
          </a:xfrm>
        </p:grpSpPr>
        <p:sp>
          <p:nvSpPr>
            <p:cNvPr id="188" name="Dowolny kształt 14"/>
            <p:cNvSpPr/>
            <p:nvPr/>
          </p:nvSpPr>
          <p:spPr>
            <a:xfrm>
              <a:off x="324000" y="1781280"/>
              <a:ext cx="7561080" cy="2133360"/>
            </a:xfrm>
            <a:prstGeom prst="pie">
              <a:avLst/>
            </a:prstGeom>
            <a:solidFill>
              <a:srgbClr val="b9cde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0880" rIns="95400" tIns="95400" bIns="95400" anchor="t">
              <a:noAutofit/>
            </a:bodyPr>
            <a:p>
              <a:pPr algn="just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wo podaż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 algn="just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miarę wzrostu cen ilość podaży rośnie przy pozostałych czynnikach niezmiennych (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eteris paribu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) i odwrotni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Prostokąt zaokrąglony 15"/>
            <p:cNvSpPr/>
            <p:nvPr/>
          </p:nvSpPr>
          <p:spPr>
            <a:xfrm>
              <a:off x="468360" y="1993680"/>
              <a:ext cx="1512720" cy="1708200"/>
            </a:xfrm>
            <a:custGeom>
              <a:avLst/>
              <a:gdLst>
                <a:gd name="textAreaLeft" fmla="*/ 44280 w 1512720"/>
                <a:gd name="textAreaRight" fmla="*/ 1468440 w 1512720"/>
                <a:gd name="textAreaTop" fmla="*/ 44280 h 1708200"/>
                <a:gd name="textAreaBottom" fmla="*/ 1663920 h 1708200"/>
              </a:gdLst>
              <a:ahLst/>
              <a:rect l="textAreaLeft" t="textAreaTop" r="textAreaRight" b="textAreaBottom"/>
              <a:pathLst>
                <a:path w="21600" h="24391">
                  <a:moveTo>
                    <a:pt x="2160" y="0"/>
                  </a:moveTo>
                  <a:arcTo wR="2160" hR="2160" stAng="16200000" swAng="-5400000"/>
                  <a:lnTo>
                    <a:pt x="0" y="22231"/>
                  </a:lnTo>
                  <a:arcTo wR="2160" hR="2160" stAng="10800000" swAng="-5400000"/>
                  <a:lnTo>
                    <a:pt x="19440" y="2439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21:43:09Z</dcterms:created>
  <dc:creator>x</dc:creator>
  <dc:description/>
  <dc:language>en-US</dc:language>
  <cp:lastModifiedBy>Marta</cp:lastModifiedBy>
  <dcterms:modified xsi:type="dcterms:W3CDTF">2013-01-31T15:31:27Z</dcterms:modified>
  <cp:revision>62</cp:revision>
  <dc:subject/>
  <dc:title>Slajd 1</dc:title>
</cp:coreProperties>
</file>