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36.png" ContentType="image/png"/>
  <Override PartName="/ppt/media/image40.png" ContentType="image/png"/>
  <Override PartName="/ppt/media/image38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4D6B-425C-4452-8E4D-CF170AA3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11D1-331A-4391-89C7-9FE668F6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200C-4283-4419-BB3A-B1F0C2E4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0E6-375F-4656-9EC6-E616D1E1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D0A-0FD5-42EB-A0BC-DCF124E0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C97-8334-4B5B-A44F-A36E2D10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F35-22EA-42EE-B187-CF75FBA5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04F9-FABA-4FF6-9915-B6B497C6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E69D-8AFA-4825-B926-68178AFD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C7D3-7C1A-4617-BBFD-D6F1E37B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AF10-32F1-4735-8D2B-EDADB8E2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8F4D-31BB-439D-A8E0-165546DD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3E81-9993-431F-8398-8F4100176ED5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Kapitał ludzki"/>
          <p:cNvPicPr/>
          <p:nvPr/>
        </p:nvPicPr>
        <p:blipFill>
          <a:blip r:embed="rId1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2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65A8-1FB5-44CD-AEBE-F45E6795E092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Diagram 11" descr=""/>
          <p:cNvPicPr/>
          <p:nvPr/>
        </p:nvPicPr>
        <p:blipFill>
          <a:blip r:embed="rId2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  <p:grpSp>
        <p:nvGrpSpPr>
          <p:cNvPr id="45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46" name="Prostokąt zaokrąglony 13"/>
            <p:cNvSpPr/>
            <p:nvPr/>
          </p:nvSpPr>
          <p:spPr>
            <a:xfrm>
              <a:off x="671040" y="1989000"/>
              <a:ext cx="882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rostokąt 14" descr=""/>
            <p:cNvPicPr/>
            <p:nvPr/>
          </p:nvPicPr>
          <p:blipFill>
            <a:blip r:embed="rId3"/>
            <a:stretch/>
          </p:blipFill>
          <p:spPr>
            <a:xfrm>
              <a:off x="611280" y="1999080"/>
              <a:ext cx="1008000" cy="67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700280" cy="2087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>
            <a:off x="3132000" y="2060640"/>
            <a:ext cx="1800360" cy="1984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4"/>
          <a:stretch/>
        </p:blipFill>
        <p:spPr>
          <a:xfrm>
            <a:off x="5435640" y="4221000"/>
            <a:ext cx="2592360" cy="2157480"/>
          </a:xfrm>
          <a:prstGeom prst="rect">
            <a:avLst/>
          </a:prstGeom>
          <a:ln w="0">
            <a:noFill/>
          </a:ln>
        </p:spPr>
      </p:pic>
      <p:sp>
        <p:nvSpPr>
          <p:cNvPr id="122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C:\Users\Marta\Desktop\sowa\sowa_3.png"/>
          <p:cNvPicPr/>
          <p:nvPr/>
        </p:nvPicPr>
        <p:blipFill>
          <a:blip r:embed="rId5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upa 22"/>
          <p:cNvGrpSpPr/>
          <p:nvPr/>
        </p:nvGrpSpPr>
        <p:grpSpPr>
          <a:xfrm>
            <a:off x="539640" y="333360"/>
            <a:ext cx="6480360" cy="2114640"/>
            <a:chOff x="539640" y="333360"/>
            <a:chExt cx="6480360" cy="2114640"/>
          </a:xfrm>
        </p:grpSpPr>
        <p:sp>
          <p:nvSpPr>
            <p:cNvPr id="128" name="Dowolny kształt 18"/>
            <p:cNvSpPr/>
            <p:nvPr/>
          </p:nvSpPr>
          <p:spPr>
            <a:xfrm>
              <a:off x="2195280" y="620640"/>
              <a:ext cx="4824720" cy="144936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3280" rIns="143280" tIns="143280" bIns="14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FILA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(obowiązkowy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reformowany ZU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1263240" cy="21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Grupa 23"/>
          <p:cNvGrpSpPr/>
          <p:nvPr/>
        </p:nvGrpSpPr>
        <p:grpSpPr>
          <a:xfrm>
            <a:off x="826920" y="2276640"/>
            <a:ext cx="7129800" cy="2089080"/>
            <a:chOff x="826920" y="2276640"/>
            <a:chExt cx="7129800" cy="2089080"/>
          </a:xfrm>
        </p:grpSpPr>
        <p:sp>
          <p:nvSpPr>
            <p:cNvPr id="131" name="Dowolny kształt 19"/>
            <p:cNvSpPr/>
            <p:nvPr/>
          </p:nvSpPr>
          <p:spPr>
            <a:xfrm>
              <a:off x="826920" y="2708280"/>
              <a:ext cx="4608720" cy="144936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3280" rIns="143280" tIns="143280" bIns="14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I FILA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(obowiązkowy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Otwarte fundusze emerytalne (OFE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3" descr=""/>
            <p:cNvPicPr/>
            <p:nvPr/>
          </p:nvPicPr>
          <p:blipFill>
            <a:blip r:embed="rId3"/>
            <a:stretch/>
          </p:blipFill>
          <p:spPr>
            <a:xfrm>
              <a:off x="5796360" y="2276640"/>
              <a:ext cx="2160360" cy="208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Grupa 24"/>
          <p:cNvGrpSpPr/>
          <p:nvPr/>
        </p:nvGrpSpPr>
        <p:grpSpPr>
          <a:xfrm>
            <a:off x="900000" y="4437000"/>
            <a:ext cx="7363080" cy="2160720"/>
            <a:chOff x="900000" y="4437000"/>
            <a:chExt cx="7363080" cy="2160720"/>
          </a:xfrm>
        </p:grpSpPr>
        <p:sp>
          <p:nvSpPr>
            <p:cNvPr id="134" name="Dowolny kształt 20"/>
            <p:cNvSpPr/>
            <p:nvPr/>
          </p:nvSpPr>
          <p:spPr>
            <a:xfrm>
              <a:off x="4213080" y="4868640"/>
              <a:ext cx="4050000" cy="144936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3280" rIns="143280" tIns="143280" bIns="14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II FILA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(nieobowiązkowy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Dobrowolne ubezpieczenie dodatkow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4" descr=""/>
            <p:cNvPicPr/>
            <p:nvPr/>
          </p:nvPicPr>
          <p:blipFill>
            <a:blip r:embed="rId4"/>
            <a:stretch/>
          </p:blipFill>
          <p:spPr>
            <a:xfrm>
              <a:off x="900000" y="4437000"/>
              <a:ext cx="2187720" cy="21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5" descr=""/>
            <p:cNvPicPr/>
            <p:nvPr/>
          </p:nvPicPr>
          <p:blipFill>
            <a:blip r:embed="rId5"/>
            <a:stretch/>
          </p:blipFill>
          <p:spPr>
            <a:xfrm>
              <a:off x="3348360" y="4437000"/>
              <a:ext cx="685440" cy="216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pole tekstowe 15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C:\Users\Marta\Desktop\sowa\sowa_3.png"/>
          <p:cNvPicPr/>
          <p:nvPr/>
        </p:nvPicPr>
        <p:blipFill>
          <a:blip r:embed="rId6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filar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3" name="pole tekstowe 6"/>
          <p:cNvSpPr/>
          <p:nvPr/>
        </p:nvSpPr>
        <p:spPr>
          <a:xfrm>
            <a:off x="3564000" y="1341360"/>
            <a:ext cx="475308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li zreformowany ZUS, ma charakter repartycyjny i jest zarządzany przez Zakład Ubezpieczeń Społecznych. Przynależność do I filaru jest obowiązkowa dla każdego pracujące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043080" cy="1852560"/>
          </a:xfrm>
          <a:prstGeom prst="rect">
            <a:avLst/>
          </a:prstGeom>
          <a:ln w="0">
            <a:noFill/>
          </a:ln>
        </p:spPr>
      </p:pic>
      <p:sp>
        <p:nvSpPr>
          <p:cNvPr id="145" name="pole tekstowe 8"/>
          <p:cNvSpPr/>
          <p:nvPr/>
        </p:nvSpPr>
        <p:spPr>
          <a:xfrm>
            <a:off x="324000" y="4076640"/>
            <a:ext cx="56163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merytura z I filaru jest finansowana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bieżących składek wszystkich pracujących,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j wielkość zależy od liczby  przepracowanych lat i wysokości odprowadzanych składe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3"/>
          <a:stretch/>
        </p:blipFill>
        <p:spPr>
          <a:xfrm>
            <a:off x="5940360" y="4292640"/>
            <a:ext cx="2279880" cy="1873080"/>
          </a:xfrm>
          <a:prstGeom prst="rect">
            <a:avLst/>
          </a:prstGeom>
          <a:ln w="0">
            <a:noFill/>
          </a:ln>
        </p:spPr>
      </p:pic>
      <p:sp>
        <p:nvSpPr>
          <p:cNvPr id="147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I filar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3" name="pole tekstowe 6"/>
          <p:cNvSpPr/>
          <p:nvPr/>
        </p:nvSpPr>
        <p:spPr>
          <a:xfrm>
            <a:off x="4067280" y="1268280"/>
            <a:ext cx="41767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li otwarte fundusze emerytalne, ma charakter kapitałowy i jest zarządzany przez Powszechne Towarzystwo Emerytalne. Nadzór nad OFE pełni Komisja Nadzoru Finansowego. Zadaniem otwartych funduszy emerytalnych jest pomnażanie pieniędzy, które co miesiąc wpływają na indywidualne konta emerytal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upa 9"/>
          <p:cNvGrpSpPr/>
          <p:nvPr/>
        </p:nvGrpSpPr>
        <p:grpSpPr>
          <a:xfrm>
            <a:off x="324000" y="2492280"/>
            <a:ext cx="3555720" cy="2016360"/>
            <a:chOff x="324000" y="2492280"/>
            <a:chExt cx="3555720" cy="2016360"/>
          </a:xfrm>
        </p:grpSpPr>
        <p:pic>
          <p:nvPicPr>
            <p:cNvPr id="155" name="Picture 3" descr=""/>
            <p:cNvPicPr/>
            <p:nvPr/>
          </p:nvPicPr>
          <p:blipFill>
            <a:blip r:embed="rId2"/>
            <a:stretch/>
          </p:blipFill>
          <p:spPr>
            <a:xfrm>
              <a:off x="324000" y="2492280"/>
              <a:ext cx="355572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2" descr=""/>
            <p:cNvPicPr/>
            <p:nvPr/>
          </p:nvPicPr>
          <p:blipFill>
            <a:blip r:embed="rId3"/>
            <a:stretch/>
          </p:blipFill>
          <p:spPr>
            <a:xfrm>
              <a:off x="1763640" y="2852280"/>
              <a:ext cx="1367640" cy="59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II filar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3" name="pole tekstowe 6"/>
          <p:cNvSpPr/>
          <p:nvPr/>
        </p:nvSpPr>
        <p:spPr>
          <a:xfrm>
            <a:off x="395280" y="1341360"/>
            <a:ext cx="367200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ynależność do tego filaru jest dobrowolna. Ma za zadanie zapewnić przyszłemu emerytowi dodatkowe źródło utrzymania.  Przez III filar rozumiemy wszystkie możliwości lokowania pieniędzy, które daje nam rynek finansow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2"/>
          <a:stretch/>
        </p:blipFill>
        <p:spPr>
          <a:xfrm>
            <a:off x="4140360" y="2205000"/>
            <a:ext cx="4012920" cy="2879640"/>
          </a:xfrm>
          <a:prstGeom prst="rect">
            <a:avLst/>
          </a:prstGeom>
          <a:ln w="0">
            <a:noFill/>
          </a:ln>
        </p:spPr>
      </p:pic>
      <p:sp>
        <p:nvSpPr>
          <p:cNvPr id="165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ole tekstowe 7"/>
          <p:cNvSpPr/>
          <p:nvPr/>
        </p:nvSpPr>
        <p:spPr>
          <a:xfrm>
            <a:off x="468360" y="549360"/>
            <a:ext cx="76327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acownicze programy emerytalne –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ą realizowane w formie ubezpieczenia grupowego. Polegają na opłacaniu przez pracodawcę dodatkowych składek emerytalnych dla swoich pracownikó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611280" y="2852640"/>
            <a:ext cx="7200720" cy="3178440"/>
          </a:xfrm>
          <a:prstGeom prst="rect">
            <a:avLst/>
          </a:prstGeom>
          <a:ln w="0">
            <a:noFill/>
          </a:ln>
        </p:spPr>
      </p:pic>
      <p:sp>
        <p:nvSpPr>
          <p:cNvPr id="172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rostokąt zaokrąglony 9"/>
          <p:cNvSpPr/>
          <p:nvPr/>
        </p:nvSpPr>
        <p:spPr>
          <a:xfrm>
            <a:off x="3995640" y="404640"/>
            <a:ext cx="4176720" cy="5832720"/>
          </a:xfrm>
          <a:custGeom>
            <a:avLst/>
            <a:gdLst>
              <a:gd name="textAreaLeft" fmla="*/ 203760 w 4176720"/>
              <a:gd name="textAreaRight" fmla="*/ 3972960 w 4176720"/>
              <a:gd name="textAreaTop" fmla="*/ 203760 h 5832720"/>
              <a:gd name="textAreaBottom" fmla="*/ 5628960 h 5832720"/>
            </a:gdLst>
            <a:ahLst/>
            <a:rect l="textAreaLeft" t="textAreaTop" r="textAreaRight" b="textAreaBottom"/>
            <a:pathLst>
              <a:path w="21600" h="30163">
                <a:moveTo>
                  <a:pt x="3600" y="0"/>
                </a:moveTo>
                <a:arcTo wR="3600" hR="3600" stAng="16200000" swAng="-5400000"/>
                <a:lnTo>
                  <a:pt x="0" y="26563"/>
                </a:lnTo>
                <a:arcTo wR="3600" hR="3600" stAng="10800000" swAng="-5400000"/>
                <a:lnTo>
                  <a:pt x="18000" y="301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ole tekstowe 7"/>
          <p:cNvSpPr/>
          <p:nvPr/>
        </p:nvSpPr>
        <p:spPr>
          <a:xfrm>
            <a:off x="4067280" y="549360"/>
            <a:ext cx="403380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dywidualne konta emerytalne (IKE) –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to indywidualna forma oszczędzania, zwolniona od podatku od zysku, jaki zostanie wypracowany przez pieniądze zgromadzone na koncie. Oszczędności w tej formie można gromadzić tylko na jednym koncie w banku, funduszu inwestycyjnym lub domu maklersk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3709800" cy="2519640"/>
          </a:xfrm>
          <a:prstGeom prst="rect">
            <a:avLst/>
          </a:prstGeom>
          <a:ln w="0">
            <a:noFill/>
          </a:ln>
        </p:spPr>
      </p:pic>
      <p:sp>
        <p:nvSpPr>
          <p:cNvPr id="180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ole tekstowe 7"/>
          <p:cNvSpPr/>
          <p:nvPr/>
        </p:nvSpPr>
        <p:spPr>
          <a:xfrm>
            <a:off x="3419640" y="404640"/>
            <a:ext cx="482436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bezpieczenie na życie z funduszem inwestycyjnym 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jest najpopularniejszą formą ochrony życia. Od momentu podpisania umowy z firmą ubezpieczeniową rodzina  może liczyć na odszkodowani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rzypadku zgonu ubezpieczonego. Połączenie polisy na życie z funduszem inwestycyjnym daje dodatkową korzyść ubezpieczonemu w postaci pomnożenia zainwestowanego kapitału i powiększenia przyszłej emerytury. W odróżnieniu od IKE ubezpieczenie na życie wymusza systematyczne opłacanie skład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176640" cy="4537080"/>
          </a:xfrm>
          <a:prstGeom prst="rect">
            <a:avLst/>
          </a:prstGeom>
          <a:ln w="0">
            <a:noFill/>
          </a:ln>
        </p:spPr>
      </p:pic>
      <p:sp>
        <p:nvSpPr>
          <p:cNvPr id="187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Obraz 6" descr="wykrzyknik.jpg"/>
          <p:cNvPicPr/>
          <p:nvPr/>
        </p:nvPicPr>
        <p:blipFill>
          <a:blip r:embed="rId2"/>
          <a:stretch/>
        </p:blipFill>
        <p:spPr>
          <a:xfrm>
            <a:off x="5219640" y="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408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4000" y="1413000"/>
          <a:ext cx="7777080" cy="371520"/>
        </p:xfrm>
        <a:graphic>
          <a:graphicData uri="http://schemas.openxmlformats.org/drawingml/2006/table">
            <a:tbl>
              <a:tblPr/>
              <a:tblGrid>
                <a:gridCol w="1584000"/>
                <a:gridCol w="61930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Poję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Defini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24000" y="1773360"/>
          <a:ext cx="7777080" cy="1606320"/>
        </p:xfrm>
        <a:graphic>
          <a:graphicData uri="http://schemas.openxmlformats.org/drawingml/2006/table">
            <a:tbl>
              <a:tblPr/>
              <a:tblGrid>
                <a:gridCol w="1584000"/>
                <a:gridCol w="6193080"/>
              </a:tblGrid>
              <a:tr h="1606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I FI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Czyli zreformowany ZUS, ma charakter repartycyjny i jest zarządzany przez Zakład Ubezpieczeń Społecznych. Przynależność do I filaru jest obowiązkowa dla każdego pracującego. Emerytura z I filaru jest finansowana z bieżących składek wszystkich pracujących, a jej wielkość zależy od liczby przepracowanych lat i wysokości odprowadzanych składe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24000" y="3357720"/>
          <a:ext cx="7777080" cy="1366560"/>
        </p:xfrm>
        <a:graphic>
          <a:graphicData uri="http://schemas.openxmlformats.org/drawingml/2006/table">
            <a:tbl>
              <a:tblPr/>
              <a:tblGrid>
                <a:gridCol w="1584000"/>
                <a:gridCol w="6193080"/>
              </a:tblGrid>
              <a:tr h="1366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II FI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Czyli otwarte fundusze emerytalne, ma charakter kapitałowy i jest zarządzany przez Powszechne Towarzystwo Emerytalne. Nadzór nad OFE pełni Komisja Nadzoru Finansowego. Zadaniem otwartych funduszy emerytalnych jest pomnażanie pieniędzy, które co miesiąc wpływają na indywidualne konta emerytal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24000" y="4724280"/>
          <a:ext cx="7777080" cy="1152720"/>
        </p:xfrm>
        <a:graphic>
          <a:graphicData uri="http://schemas.openxmlformats.org/drawingml/2006/table">
            <a:tbl>
              <a:tblPr/>
              <a:tblGrid>
                <a:gridCol w="1584000"/>
                <a:gridCol w="6193080"/>
              </a:tblGrid>
              <a:tr h="1152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III FI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Przynależność do tego filaru jest dobrowolna. Ma za zadanie zapewnić przyszłemu emerytowi dodatkowe źródło utrzymania. Przez III filar rozumiemy wszystkie możliwości lokowania pieniędzy, które daje nam rynek finansow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sp>
        <p:nvSpPr>
          <p:cNvPr id="198" name="pole tekstowe 1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ole tekstowe 7"/>
          <p:cNvSpPr/>
          <p:nvPr/>
        </p:nvSpPr>
        <p:spPr>
          <a:xfrm>
            <a:off x="395280" y="476280"/>
            <a:ext cx="7777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y wyborze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Otwartego funduszu emerytalnego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należy wziąć pod uwagę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upa 20"/>
          <p:cNvGrpSpPr/>
          <p:nvPr/>
        </p:nvGrpSpPr>
        <p:grpSpPr>
          <a:xfrm>
            <a:off x="2700360" y="1704960"/>
            <a:ext cx="5472000" cy="1319400"/>
            <a:chOff x="2700360" y="1704960"/>
            <a:chExt cx="5472000" cy="1319400"/>
          </a:xfrm>
        </p:grpSpPr>
        <p:sp>
          <p:nvSpPr>
            <p:cNvPr id="205" name="Prostokąt 14"/>
            <p:cNvSpPr/>
            <p:nvPr/>
          </p:nvSpPr>
          <p:spPr>
            <a:xfrm>
              <a:off x="2700360" y="2192400"/>
              <a:ext cx="5472000" cy="8319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Dowolny kształt 15"/>
            <p:cNvSpPr/>
            <p:nvPr/>
          </p:nvSpPr>
          <p:spPr>
            <a:xfrm>
              <a:off x="2973240" y="1704960"/>
              <a:ext cx="3830760" cy="974880"/>
            </a:xfrm>
            <a:prstGeom prst="pie">
              <a:avLst/>
            </a:prstGeom>
            <a:solidFill>
              <a:srgbClr val="8064a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92240" rIns="192240" tIns="47520" bIns="4752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yniki inwestycyjne funduszu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upa 21"/>
          <p:cNvGrpSpPr/>
          <p:nvPr/>
        </p:nvGrpSpPr>
        <p:grpSpPr>
          <a:xfrm>
            <a:off x="2700360" y="3201840"/>
            <a:ext cx="5472000" cy="1317600"/>
            <a:chOff x="2700360" y="3201840"/>
            <a:chExt cx="5472000" cy="1317600"/>
          </a:xfrm>
        </p:grpSpPr>
        <p:sp>
          <p:nvSpPr>
            <p:cNvPr id="208" name="Prostokąt 16"/>
            <p:cNvSpPr/>
            <p:nvPr/>
          </p:nvSpPr>
          <p:spPr>
            <a:xfrm>
              <a:off x="2700360" y="3689280"/>
              <a:ext cx="5472000" cy="8301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5767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Dowolny kształt 17"/>
            <p:cNvSpPr/>
            <p:nvPr/>
          </p:nvSpPr>
          <p:spPr>
            <a:xfrm>
              <a:off x="2973240" y="3201840"/>
              <a:ext cx="3830760" cy="973080"/>
            </a:xfrm>
            <a:prstGeom prst="pie">
              <a:avLst/>
            </a:prstGeom>
            <a:solidFill>
              <a:srgbClr val="5767b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92240" rIns="192240" tIns="47520" bIns="4752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ysokość aktywów OF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upa 22"/>
          <p:cNvGrpSpPr/>
          <p:nvPr/>
        </p:nvGrpSpPr>
        <p:grpSpPr>
          <a:xfrm>
            <a:off x="2700360" y="4699080"/>
            <a:ext cx="5472000" cy="1317600"/>
            <a:chOff x="2700360" y="4699080"/>
            <a:chExt cx="5472000" cy="1317600"/>
          </a:xfrm>
        </p:grpSpPr>
        <p:sp>
          <p:nvSpPr>
            <p:cNvPr id="211" name="Prostokąt 18"/>
            <p:cNvSpPr/>
            <p:nvPr/>
          </p:nvSpPr>
          <p:spPr>
            <a:xfrm>
              <a:off x="2700360" y="5186520"/>
              <a:ext cx="5472000" cy="8301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Dowolny kształt 19"/>
            <p:cNvSpPr/>
            <p:nvPr/>
          </p:nvSpPr>
          <p:spPr>
            <a:xfrm>
              <a:off x="2973240" y="4699080"/>
              <a:ext cx="3830760" cy="973080"/>
            </a:xfrm>
            <a:prstGeom prst="pie">
              <a:avLst/>
            </a:prstGeom>
            <a:solidFill>
              <a:srgbClr val="4bac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92240" rIns="192240" tIns="47520" bIns="4752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jakość obsługi klient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1971720" cy="2895480"/>
          </a:xfrm>
          <a:prstGeom prst="rect">
            <a:avLst/>
          </a:prstGeom>
          <a:ln w="0">
            <a:noFill/>
          </a:ln>
        </p:spPr>
      </p:pic>
      <p:sp>
        <p:nvSpPr>
          <p:cNvPr id="214" name="pole tekstowe 2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684360" y="189000"/>
            <a:ext cx="1742760" cy="238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3203640" y="1484280"/>
            <a:ext cx="1876320" cy="2521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4"/>
          <a:stretch/>
        </p:blipFill>
        <p:spPr>
          <a:xfrm>
            <a:off x="4956120" y="3789360"/>
            <a:ext cx="3227400" cy="2773440"/>
          </a:xfrm>
          <a:prstGeom prst="rect">
            <a:avLst/>
          </a:prstGeom>
          <a:ln w="0">
            <a:noFill/>
          </a:ln>
        </p:spPr>
      </p:pic>
      <p:sp>
        <p:nvSpPr>
          <p:cNvPr id="54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C:\Users\Marta\Desktop\sowa\sowa_3.png"/>
          <p:cNvPicPr/>
          <p:nvPr/>
        </p:nvPicPr>
        <p:blipFill>
          <a:blip r:embed="rId5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ole tekstowe 7"/>
          <p:cNvSpPr/>
          <p:nvPr/>
        </p:nvSpPr>
        <p:spPr>
          <a:xfrm>
            <a:off x="324000" y="333360"/>
            <a:ext cx="784836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niki inwestycyjne funduszu </a:t>
            </a:r>
            <a:r>
              <a:rPr b="0" lang="pl-PL" sz="21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pokazują, jak skutecznie fundusz pomnaża nasze pieniądze. Tu należy porównać stopy zwrotu OFE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różnych okresach, warto zwrócić uwagę, który z funduszy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ostatnich trzech latach osiągnął wysoką stopę zwrotu i jest w czołówce rankingu. Stopa zwrotu obrazuje, jakie fundusz osiągnął zyski dla swoich klientów w określonym czasie. Ważne jest, aby fundusz regularnie notował wyniki lepsze od średniej wszystkich fundusz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2"/>
          <a:stretch/>
        </p:blipFill>
        <p:spPr>
          <a:xfrm>
            <a:off x="2484360" y="4149720"/>
            <a:ext cx="3630600" cy="2305080"/>
          </a:xfrm>
          <a:prstGeom prst="rect">
            <a:avLst/>
          </a:prstGeom>
          <a:ln w="0">
            <a:noFill/>
          </a:ln>
        </p:spPr>
      </p:pic>
      <p:sp>
        <p:nvSpPr>
          <p:cNvPr id="221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ole tekstowe 7"/>
          <p:cNvSpPr/>
          <p:nvPr/>
        </p:nvSpPr>
        <p:spPr>
          <a:xfrm>
            <a:off x="4067280" y="907920"/>
            <a:ext cx="41767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sokość aktywów OFE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fundusze małe, których wielkość aktywów jest na poziomie kilkuset milionów, nie mogą realizować dużych projektów inwestycyjnych o wysokiej zyskowności. Tym samym nie mogą zapewnić nam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rzyszłości większej emerytu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3690720" cy="1944720"/>
          </a:xfrm>
          <a:prstGeom prst="rect">
            <a:avLst/>
          </a:prstGeom>
          <a:ln w="0">
            <a:noFill/>
          </a:ln>
        </p:spPr>
      </p:pic>
      <p:sp>
        <p:nvSpPr>
          <p:cNvPr id="228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 rot="20148000">
            <a:off x="213840" y="731520"/>
            <a:ext cx="2271960" cy="1528560"/>
          </a:xfrm>
          <a:prstGeom prst="rect">
            <a:avLst/>
          </a:prstGeom>
          <a:ln w="0">
            <a:noFill/>
          </a:ln>
        </p:spPr>
      </p:pic>
      <p:sp>
        <p:nvSpPr>
          <p:cNvPr id="231" name="pole tekstowe 7"/>
          <p:cNvSpPr/>
          <p:nvPr/>
        </p:nvSpPr>
        <p:spPr>
          <a:xfrm>
            <a:off x="2050920" y="836640"/>
            <a:ext cx="453708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ość obsługi klienta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przy wyborze funduszu należy sprawdzić, czy zapewnia on dostęp do najważniejszych informacji, takich jak stan rachunku, wartość jednostki rozrachunkowej. Równie istotna jest możliwość połączenia się z funduszem poprzez Internet, telefon, SMS, e-mail, jak również posiadanie przez niego certyfikatu jakośc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" descr=""/>
          <p:cNvPicPr/>
          <p:nvPr/>
        </p:nvPicPr>
        <p:blipFill>
          <a:blip r:embed="rId3"/>
          <a:stretch/>
        </p:blipFill>
        <p:spPr>
          <a:xfrm>
            <a:off x="250920" y="2997360"/>
            <a:ext cx="1728720" cy="2271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"/>
          <p:cNvPicPr/>
          <p:nvPr/>
        </p:nvPicPr>
        <p:blipFill>
          <a:blip r:embed="rId4"/>
          <a:stretch/>
        </p:blipFill>
        <p:spPr>
          <a:xfrm>
            <a:off x="6804000" y="907920"/>
            <a:ext cx="1317600" cy="1330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"/>
          <p:cNvPicPr/>
          <p:nvPr/>
        </p:nvPicPr>
        <p:blipFill>
          <a:blip r:embed="rId5"/>
          <a:stretch/>
        </p:blipFill>
        <p:spPr>
          <a:xfrm>
            <a:off x="6588000" y="3500280"/>
            <a:ext cx="1720800" cy="1944720"/>
          </a:xfrm>
          <a:prstGeom prst="rect">
            <a:avLst/>
          </a:prstGeom>
          <a:ln w="0">
            <a:noFill/>
          </a:ln>
        </p:spPr>
      </p:pic>
      <p:sp>
        <p:nvSpPr>
          <p:cNvPr id="238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" descr="C:\Users\Marta\Desktop\sowa\sowa_3.png"/>
          <p:cNvPicPr/>
          <p:nvPr/>
        </p:nvPicPr>
        <p:blipFill>
          <a:blip r:embed="rId6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upa 12"/>
          <p:cNvGrpSpPr/>
          <p:nvPr/>
        </p:nvGrpSpPr>
        <p:grpSpPr>
          <a:xfrm>
            <a:off x="539640" y="692280"/>
            <a:ext cx="7488360" cy="5689440"/>
            <a:chOff x="539640" y="692280"/>
            <a:chExt cx="7488360" cy="5689440"/>
          </a:xfrm>
        </p:grpSpPr>
        <p:sp>
          <p:nvSpPr>
            <p:cNvPr id="60" name="Prostokąt zaokrąglony 8"/>
            <p:cNvSpPr/>
            <p:nvPr/>
          </p:nvSpPr>
          <p:spPr>
            <a:xfrm>
              <a:off x="539640" y="692280"/>
              <a:ext cx="7488360" cy="230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pole tekstowe 7"/>
            <p:cNvSpPr/>
            <p:nvPr/>
          </p:nvSpPr>
          <p:spPr>
            <a:xfrm>
              <a:off x="539640" y="764280"/>
              <a:ext cx="7488360" cy="21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ystem emerytalny 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st systemem ubezpieczeń społecznych, gwarantującym wypłatę świadczeń w postaci emerytury osobom, które nie mogą już samodzielnie zapewnić sobie środków do życia w okresie starości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2" descr=""/>
            <p:cNvPicPr/>
            <p:nvPr/>
          </p:nvPicPr>
          <p:blipFill>
            <a:blip r:embed="rId2"/>
            <a:stretch/>
          </p:blipFill>
          <p:spPr>
            <a:xfrm>
              <a:off x="1979640" y="3141000"/>
              <a:ext cx="4722480" cy="324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ole tekstowe 7"/>
          <p:cNvSpPr/>
          <p:nvPr/>
        </p:nvSpPr>
        <p:spPr>
          <a:xfrm>
            <a:off x="539640" y="321300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merytura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świadczenie długookresowe przysługujące dożywotnio osobie, która przekroczyła określoną granicę wiek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3024360" cy="2479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4643280" y="4221000"/>
            <a:ext cx="3194280" cy="237672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ole tekstowe 7"/>
          <p:cNvSpPr/>
          <p:nvPr/>
        </p:nvSpPr>
        <p:spPr>
          <a:xfrm>
            <a:off x="324000" y="981000"/>
            <a:ext cx="396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ystem repartycyjny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zwany umową pokoleniową. Polega na tym, że osoby pracujące opłacają składki, które są następnie przeznaczane na finansowanie bieżących świadczeń emerytalnych,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założeniem, że w przyszłości następne pokolenie będzie finansować ich emerytu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4284720" y="2997360"/>
            <a:ext cx="3952800" cy="261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4788000" y="0"/>
            <a:ext cx="3360600" cy="1989000"/>
          </a:xfrm>
          <a:prstGeom prst="rect">
            <a:avLst/>
          </a:prstGeom>
          <a:ln w="0">
            <a:noFill/>
          </a:ln>
        </p:spPr>
      </p:pic>
      <p:sp>
        <p:nvSpPr>
          <p:cNvPr id="79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ole tekstowe 7"/>
          <p:cNvSpPr/>
          <p:nvPr/>
        </p:nvSpPr>
        <p:spPr>
          <a:xfrm>
            <a:off x="5003640" y="476280"/>
            <a:ext cx="3240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ystem kapitałowy </a:t>
            </a:r>
            <a:br>
              <a:rPr sz="2200"/>
            </a:b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olega na tym, że każdy pracownik wpłaca składki emerytalne na swoje osobiste konto w funduszu emerytalnym. Wysokość przyszłej emerytury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systemie tym zależy od: - wysokości odprowadzanych składek, - efektywności ich inwestowania przez prywatne fundusze emerytaln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- średniej długości życia osób przechodzących na emerytur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4533840" cy="3190680"/>
          </a:xfrm>
          <a:prstGeom prst="rect">
            <a:avLst/>
          </a:prstGeom>
          <a:ln w="0">
            <a:noFill/>
          </a:ln>
        </p:spPr>
      </p:pic>
      <p:sp>
        <p:nvSpPr>
          <p:cNvPr id="86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817640" y="1413000"/>
            <a:ext cx="5945400" cy="4319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684360" y="620640"/>
            <a:ext cx="1428480" cy="1047960"/>
          </a:xfrm>
          <a:prstGeom prst="rect">
            <a:avLst/>
          </a:prstGeom>
          <a:ln w="0">
            <a:noFill/>
          </a:ln>
        </p:spPr>
      </p:pic>
      <p:sp>
        <p:nvSpPr>
          <p:cNvPr id="93" name="pole tekstowe 7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raz 6" descr="wykrzyknik.jpg"/>
          <p:cNvPicPr/>
          <p:nvPr/>
        </p:nvPicPr>
        <p:blipFill>
          <a:blip r:embed="rId1"/>
          <a:stretch/>
        </p:blipFill>
        <p:spPr>
          <a:xfrm>
            <a:off x="5219640" y="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408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4000" y="1268280"/>
          <a:ext cx="7920000" cy="381240"/>
        </p:xfrm>
        <a:graphic>
          <a:graphicData uri="http://schemas.openxmlformats.org/drawingml/2006/table">
            <a:tbl>
              <a:tblPr/>
              <a:tblGrid>
                <a:gridCol w="2390760"/>
                <a:gridCol w="5529240"/>
              </a:tblGrid>
              <a:tr h="38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9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Pojęci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9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Definicj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24000" y="1628640"/>
          <a:ext cx="7920000" cy="1036800"/>
        </p:xfrm>
        <a:graphic>
          <a:graphicData uri="http://schemas.openxmlformats.org/drawingml/2006/table">
            <a:tbl>
              <a:tblPr/>
              <a:tblGrid>
                <a:gridCol w="2390760"/>
                <a:gridCol w="5529240"/>
              </a:tblGrid>
              <a:tr h="1036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System emerytaln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System emerytalny jest systemem ubezpieczeń społecznych gwarantującym wypłatę świadczeń w postaci emerytury osobom, które nie mogą już samodzielnie zapewnić sobie środków do życia w okresie starości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24000" y="2637000"/>
          <a:ext cx="7920000" cy="517320"/>
        </p:xfrm>
        <a:graphic>
          <a:graphicData uri="http://schemas.openxmlformats.org/drawingml/2006/table">
            <a:tbl>
              <a:tblPr/>
              <a:tblGrid>
                <a:gridCol w="2390760"/>
                <a:gridCol w="5529240"/>
              </a:tblGrid>
              <a:tr h="518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Emerytur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Świadczenie długookresowe przysługujące dożywotnio osobie, która przekroczyła określoną granicę wieku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24000" y="3141720"/>
          <a:ext cx="7920000" cy="1295280"/>
        </p:xfrm>
        <a:graphic>
          <a:graphicData uri="http://schemas.openxmlformats.org/drawingml/2006/table">
            <a:tbl>
              <a:tblPr/>
              <a:tblGrid>
                <a:gridCol w="2390760"/>
                <a:gridCol w="5529240"/>
              </a:tblGrid>
              <a:tr h="1296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System repartycyjn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System ten zwany jest inaczej umową pokoleniową. Polega na tym, że osoby pracujące opłacają składki, które są następnie przeznaczane na finansowanie bieżących świadczeń emerytalnych, z założeniem, że w przyszłości następne pokolenie będzie finansować ich emerytury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24000" y="4437000"/>
          <a:ext cx="7920000" cy="1554120"/>
        </p:xfrm>
        <a:graphic>
          <a:graphicData uri="http://schemas.openxmlformats.org/drawingml/2006/table">
            <a:tbl>
              <a:tblPr/>
              <a:tblGrid>
                <a:gridCol w="2390760"/>
                <a:gridCol w="5529240"/>
              </a:tblGrid>
              <a:tr h="1555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System kapitałow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System ten polega na tym, że każdy pracownik wpłaca składki emerytalne na swoje osobiste konto w funduszu emerytalnym. Wysokość przyszłej emerytury w systemie tym zależy od wysokości odprowadzanych składek, efektywności ich inwestowania przez prywatne fundusze emerytalne </a:t>
                      </a:r>
                      <a:br>
                        <a:rPr sz="1700"/>
                      </a:b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i średniej długości życia osób przechodzących na emeryturę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pSp>
        <p:nvGrpSpPr>
          <p:cNvPr id="10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ole tekstowe 1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ole tekstowe 7"/>
          <p:cNvSpPr/>
          <p:nvPr/>
        </p:nvSpPr>
        <p:spPr>
          <a:xfrm>
            <a:off x="3276720" y="404640"/>
            <a:ext cx="496728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roku 1999 w Polsce przeprowadzono 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formę systemu emerytalnego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która wprowadziła mieszany system zabezpieczenia naszych przyszłych emeryt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ole tekstowe 8"/>
          <p:cNvSpPr/>
          <p:nvPr/>
        </p:nvSpPr>
        <p:spPr>
          <a:xfrm>
            <a:off x="324000" y="3357720"/>
            <a:ext cx="45352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ęść emerytury nadal będzie finansowana z bieżących składek płaconych do ZUS-u, pozostała część pochodzić będzie ze składek inwestowanych w prywatne fundusze emerytal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2762280" cy="2009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5021280" y="3500280"/>
            <a:ext cx="3230640" cy="2521080"/>
          </a:xfrm>
          <a:prstGeom prst="rect">
            <a:avLst/>
          </a:prstGeom>
          <a:ln w="0">
            <a:noFill/>
          </a:ln>
        </p:spPr>
      </p:pic>
      <p:sp>
        <p:nvSpPr>
          <p:cNvPr id="114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0:18:33Z</dcterms:created>
  <dc:creator>x</dc:creator>
  <dc:description/>
  <dc:language>en-US</dc:language>
  <cp:lastModifiedBy>Gosia</cp:lastModifiedBy>
  <dcterms:modified xsi:type="dcterms:W3CDTF">2013-01-31T17:25:44Z</dcterms:modified>
  <cp:revision>48</cp:revision>
  <dc:subject/>
  <dc:title>Slajd 1</dc:title>
</cp:coreProperties>
</file>