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07C5-3DE6-4B75-A445-72BD0F8F5B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CBC9-38EE-49AE-993F-D914022F16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627-A383-444B-AC5D-6EF45A08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DBF-2F75-490E-A641-F5A42AB7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68A-CC99-44AD-B384-6DC5622C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EBA-64C8-4613-94F5-CC4989FD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9650-0A7F-4CDA-9029-62D4A1B2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F9A8-9A6F-4145-AA87-06F73296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C081-9D26-47EE-B552-6F8FA36A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92D-837E-4F96-A79F-4817E3DD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3BA4-9E8E-4482-B2EB-CB634F28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6F1B-6574-480E-A49D-FEEBF1F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6209-38F8-4145-84C7-BB70F4F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9DC-FF72-443B-8867-E3225B47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7122-1F50-4263-B009-EE452C51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3AD1-33E3-4916-B121-2D78206B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C97D-3832-491C-AB49-260FCDCC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AF13-9B08-492E-B40F-10B9E50D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AF47-4ECA-4FAE-96B6-4C8C54FF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C51-1642-4804-83FC-32F43A9B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E7D-5A04-4993-9426-6088211B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83C-F4D0-4423-8F4D-B8B411A5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F8E-A42F-4236-A3D8-616AA536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D08-AE1F-4E80-A636-501CA02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031-2BC3-4EC7-B8F5-691F32ED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42D-569F-4AB7-954D-AF2AD71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5EAE-C1CE-431B-848C-60F0DE99D9A0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532720" y="476280"/>
            <a:ext cx="611280" cy="6408720"/>
            <a:chOff x="8532720" y="476280"/>
            <a:chExt cx="611280" cy="640872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4880" y="3756240"/>
              <a:ext cx="585828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IEDZA O GOSPODA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3" descr="C:\Users\Marta\Desktop\sowa\sowa_3.png"/>
            <p:cNvPicPr/>
            <p:nvPr/>
          </p:nvPicPr>
          <p:blipFill>
            <a:blip r:embed="rId2"/>
            <a:stretch/>
          </p:blipFill>
          <p:spPr>
            <a:xfrm>
              <a:off x="8532720" y="476280"/>
              <a:ext cx="61128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CC02-3069-4572-B866-0E71390C41DB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24ED-9EBF-4215-93F7-8BDE01BA4F8B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12"/>
          <p:cNvSpPr/>
          <p:nvPr/>
        </p:nvSpPr>
        <p:spPr>
          <a:xfrm>
            <a:off x="4572000" y="2565360"/>
            <a:ext cx="3887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1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IEDZA O GOSPOD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6" name="Prostokąt zaokrąglony 13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rostokąt 14" descr=""/>
            <p:cNvPicPr/>
            <p:nvPr/>
          </p:nvPicPr>
          <p:blipFill>
            <a:blip r:embed="rId1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Diagram 22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pic>
        <p:nvPicPr>
          <p:cNvPr id="99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69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395280" y="549360"/>
          <a:ext cx="7561440" cy="100800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Wydatki na pł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ydatki podmiotów należących do sektora finansów publicznych związane z zatrudnieniem przez nich pracownikó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95280" y="1557360"/>
          <a:ext cx="7561440" cy="72072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Wydatki na towary i usłu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szelkie zakupy towarów i usług potrzebnych do realizacji zadań państw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95280" y="2276640"/>
          <a:ext cx="7561440" cy="72072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Obsługa zadłuż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płatności odsetek od długu publicznego oraz spłata zadłuże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95280" y="2997360"/>
          <a:ext cx="7561440" cy="113328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13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Transfery do gospodarstw domowy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szelkie płatności przekazywane osobom fizycznym w ramach systemu zabezpieczenia społecznego (renty, emerytury, inne świadczenia społeczn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95280" y="4149720"/>
          <a:ext cx="7561440" cy="100800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Dotac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i subwenc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wszelkie płatności do innych podmiotów (głównie przedsiębiorstw) związane z prowadzoną polityką gospodarcz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95280" y="189000"/>
          <a:ext cx="7561440" cy="417600"/>
        </p:xfrm>
        <a:graphic>
          <a:graphicData uri="http://schemas.openxmlformats.org/drawingml/2006/table">
            <a:tbl>
              <a:tblPr/>
              <a:tblGrid>
                <a:gridCol w="1738440"/>
                <a:gridCol w="5823000"/>
              </a:tblGrid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95280" y="5157720"/>
          <a:ext cx="7561440" cy="90036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90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Wydatki majątk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ą to głównie inwestycje dokonywane przez państw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Diagram 4" descr=""/>
          <p:cNvPicPr/>
          <p:nvPr/>
        </p:nvPicPr>
        <p:blipFill>
          <a:blip r:embed="rId1"/>
          <a:stretch/>
        </p:blipFill>
        <p:spPr>
          <a:xfrm>
            <a:off x="-189000" y="1590840"/>
            <a:ext cx="91569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 5" descr=""/>
          <p:cNvPicPr/>
          <p:nvPr/>
        </p:nvPicPr>
        <p:blipFill>
          <a:blip r:embed="rId2"/>
          <a:stretch/>
        </p:blipFill>
        <p:spPr>
          <a:xfrm>
            <a:off x="-189000" y="4041720"/>
            <a:ext cx="91569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rostokąt 10"/>
          <p:cNvSpPr/>
          <p:nvPr/>
        </p:nvSpPr>
        <p:spPr>
          <a:xfrm>
            <a:off x="550440" y="9810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składa się z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rostokąt 5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upa 10"/>
          <p:cNvGrpSpPr/>
          <p:nvPr/>
        </p:nvGrpSpPr>
        <p:grpSpPr>
          <a:xfrm>
            <a:off x="179280" y="1197000"/>
            <a:ext cx="3399120" cy="4127400"/>
            <a:chOff x="179280" y="1197000"/>
            <a:chExt cx="3399120" cy="4127400"/>
          </a:xfrm>
        </p:grpSpPr>
        <p:pic>
          <p:nvPicPr>
            <p:cNvPr id="192" name="Obraz 8" descr="5656308384_77514f9657_m.jpg"/>
            <p:cNvPicPr/>
            <p:nvPr/>
          </p:nvPicPr>
          <p:blipFill>
            <a:blip r:embed="rId1"/>
            <a:srcRect l="8291" t="0" r="0" b="0"/>
            <a:stretch/>
          </p:blipFill>
          <p:spPr>
            <a:xfrm>
              <a:off x="179280" y="2277000"/>
              <a:ext cx="2795760" cy="30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rostokąt 4"/>
            <p:cNvSpPr/>
            <p:nvPr/>
          </p:nvSpPr>
          <p:spPr>
            <a:xfrm>
              <a:off x="406080" y="1197000"/>
              <a:ext cx="31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udżet państwa składa się z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rostokąt zaokrąglony 6"/>
          <p:cNvSpPr/>
          <p:nvPr/>
        </p:nvSpPr>
        <p:spPr>
          <a:xfrm>
            <a:off x="2916360" y="1700280"/>
            <a:ext cx="5327640" cy="41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ów budżetu państwa, czyli planowanych wydatków na płace pracowników administracji państwowej, zakup towarów i usług, obsługę zadłużenia Skarbu Państwa (długu publicznego powstałego w wyniku emisji skarbowych papierów wartościowych i zaciągnięcia przez instytucje rządowe kredytów i zobowiązań), subwencje i dotacje do innych jednost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szczebli sektora publicznego oraz do przedsiębiorstw, transfery do gospodarstw domowych, wydatki majątkowe (głównie inwestycje publicz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Obraz 11" descr="4431770374_5752e04e83_m.jpg"/>
          <p:cNvPicPr/>
          <p:nvPr/>
        </p:nvPicPr>
        <p:blipFill>
          <a:blip r:embed="rId1"/>
          <a:stretch/>
        </p:blipFill>
        <p:spPr>
          <a:xfrm>
            <a:off x="5435640" y="35002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050920" y="1773000"/>
            <a:ext cx="626616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widywanego wyniku budżetu państwa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w przypadku wyższych wydatków niż dochodów – deficytu budżetowego,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odwrotnej sytuacji – nadwyżki budżetowej)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0" name="Prostokąt 5"/>
          <p:cNvSpPr/>
          <p:nvPr/>
        </p:nvSpPr>
        <p:spPr>
          <a:xfrm>
            <a:off x="179280" y="2602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3629525392_038867dfa8_m.jpg"/>
          <p:cNvPicPr/>
          <p:nvPr/>
        </p:nvPicPr>
        <p:blipFill>
          <a:blip r:embed="rId2"/>
          <a:stretch/>
        </p:blipFill>
        <p:spPr>
          <a:xfrm>
            <a:off x="324000" y="1413000"/>
            <a:ext cx="1655640" cy="194760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8"/>
          <p:cNvSpPr/>
          <p:nvPr/>
        </p:nvSpPr>
        <p:spPr>
          <a:xfrm>
            <a:off x="406080" y="90792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 składa się z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ymbol zastępczy zawartości 2"/>
          <p:cNvSpPr/>
          <p:nvPr/>
        </p:nvSpPr>
        <p:spPr>
          <a:xfrm>
            <a:off x="0" y="3860640"/>
            <a:ext cx="561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posobu sfinansowania deficytu budżetu (upoważnienie rządu do emisji skarbowych papierów wartościowych, zaciągania kredytów, realizacji przewidywanych dochodów z tytułu prywatyzacji) państwa lub rozdysponowania nadwyżki budżet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rostokąt 5"/>
          <p:cNvSpPr/>
          <p:nvPr/>
        </p:nvSpPr>
        <p:spPr>
          <a:xfrm>
            <a:off x="0" y="4046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funkcje budżetu pańs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rostokąt zaokrąglony 7"/>
          <p:cNvSpPr/>
          <p:nvPr/>
        </p:nvSpPr>
        <p:spPr>
          <a:xfrm>
            <a:off x="4140360" y="2565360"/>
            <a:ext cx="388764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dystrybucyjna (rozdzielc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zaokrąglony 8"/>
          <p:cNvSpPr/>
          <p:nvPr/>
        </p:nvSpPr>
        <p:spPr>
          <a:xfrm>
            <a:off x="4140360" y="3141720"/>
            <a:ext cx="388764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ok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rostokąt zaokrąglony 9"/>
          <p:cNvSpPr/>
          <p:nvPr/>
        </p:nvSpPr>
        <p:spPr>
          <a:xfrm>
            <a:off x="4140360" y="3716280"/>
            <a:ext cx="388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ymul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ostokąt zaokrąglony 10"/>
          <p:cNvSpPr/>
          <p:nvPr/>
        </p:nvSpPr>
        <p:spPr>
          <a:xfrm>
            <a:off x="4140360" y="4292640"/>
            <a:ext cx="388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bilizacyj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rostokąt zaokrąglony 11"/>
          <p:cNvSpPr/>
          <p:nvPr/>
        </p:nvSpPr>
        <p:spPr>
          <a:xfrm>
            <a:off x="4140360" y="4869000"/>
            <a:ext cx="3887640" cy="46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isk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zaokrąglony 12"/>
          <p:cNvSpPr/>
          <p:nvPr/>
        </p:nvSpPr>
        <p:spPr>
          <a:xfrm>
            <a:off x="4140360" y="5445000"/>
            <a:ext cx="388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tro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16" descr="5519763965_83769030fc_m.jpg"/>
          <p:cNvPicPr/>
          <p:nvPr/>
        </p:nvPicPr>
        <p:blipFill>
          <a:blip r:embed="rId1"/>
          <a:stretch/>
        </p:blipFill>
        <p:spPr>
          <a:xfrm>
            <a:off x="611280" y="836640"/>
            <a:ext cx="3097080" cy="5505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rostokąt 5"/>
          <p:cNvSpPr/>
          <p:nvPr/>
        </p:nvSpPr>
        <p:spPr>
          <a:xfrm>
            <a:off x="0" y="476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etapy konstrukcji budżetu pa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Diagram 6" descr=""/>
          <p:cNvPicPr/>
          <p:nvPr/>
        </p:nvPicPr>
        <p:blipFill>
          <a:blip r:embed="rId1"/>
          <a:stretch/>
        </p:blipFill>
        <p:spPr>
          <a:xfrm>
            <a:off x="365040" y="1743120"/>
            <a:ext cx="7688520" cy="4121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lasyfikacja dochodów budżetowy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24" name="Symbol zastępczy zawartości 3" descr=""/>
          <p:cNvPicPr/>
          <p:nvPr/>
        </p:nvPicPr>
        <p:blipFill>
          <a:blip r:embed="rId1"/>
          <a:stretch/>
        </p:blipFill>
        <p:spPr>
          <a:xfrm>
            <a:off x="244440" y="1122480"/>
            <a:ext cx="8240760" cy="5497560"/>
          </a:xfrm>
          <a:prstGeom prst="rect">
            <a:avLst/>
          </a:prstGeom>
          <a:ln w="0">
            <a:noFill/>
          </a:ln>
        </p:spPr>
      </p:pic>
      <p:grpSp>
        <p:nvGrpSpPr>
          <p:cNvPr id="22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79280" y="549360"/>
          <a:ext cx="8078760" cy="138276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3034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Kry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dział dochod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rzykład Doch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Źródł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datk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Podatki państwowe, podatki samorządow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Nieopodatkow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"/>
                        </a:rPr>
                        <a:t>Dochody z majątku, np. najmu, dzierżawy, sprzedaży. Dochody z tytułu prowadzonej działalności gospodarczej, wpływy z zysku NB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9280" y="1916280"/>
          <a:ext cx="8064720" cy="81252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406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yterium praw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ymus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 i opłaty, kary pienięż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rowol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dki, darowizny na rzecz podmiotów publicznyc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79280" y="2708280"/>
          <a:ext cx="8064720" cy="101124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371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Źródł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 państwowe, podatki samorządow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eopodatkow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hody z majątku, np. najmu, dzierżawy, sprzedaży. Dochody z tytułu prowadzonej działalności gospodarczej, wpływy z zysku NB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9280" y="3716280"/>
          <a:ext cx="8064720" cy="74304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371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ejsce powst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, cł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grani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rowizn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79280" y="4437000"/>
          <a:ext cx="8064720" cy="74304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289400"/>
              </a:tblGrid>
              <a:tr h="316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czebel gromadzenia podatk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ństw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ek od towarów i usług, dochody z majątku państw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orząd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hody z majątku samorządowego, podatki lokal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79280" y="5157720"/>
          <a:ext cx="8078760" cy="731880"/>
        </p:xfrm>
        <a:graphic>
          <a:graphicData uri="http://schemas.openxmlformats.org/drawingml/2006/table">
            <a:tbl>
              <a:tblPr/>
              <a:tblGrid>
                <a:gridCol w="1940040"/>
                <a:gridCol w="1835280"/>
                <a:gridCol w="4303440"/>
              </a:tblGrid>
              <a:tr h="3603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marL="68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łatnoś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łat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łaty publicz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eodpłat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tki, cła, obowiązkowe wpłaty do budże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rostokąt 5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dania polityki gospodar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Diagram 14" descr=""/>
          <p:cNvPicPr/>
          <p:nvPr/>
        </p:nvPicPr>
        <p:blipFill>
          <a:blip r:embed="rId1"/>
          <a:stretch/>
        </p:blipFill>
        <p:spPr>
          <a:xfrm>
            <a:off x="579600" y="1695600"/>
            <a:ext cx="7473960" cy="4076640"/>
          </a:xfrm>
          <a:prstGeom prst="rect">
            <a:avLst/>
          </a:prstGeom>
          <a:ln w="0">
            <a:noFill/>
          </a:ln>
        </p:spPr>
      </p:pic>
      <p:grpSp>
        <p:nvGrpSpPr>
          <p:cNvPr id="2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95280" y="1125360"/>
          <a:ext cx="7561440" cy="164628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Społeczna gospodarka rynk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łeczna gospodarka rynkowa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rta na wolności działalności gospodarczej (konkurencji), własności prywatnej (prywatna przedsiębiorczość) oraz solidarności, dialogu i współpracy partnerów społecznych stanowi podstawę ustroju gospodarczego Rzeczypospolitej Polskiej”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rt. 20 Konstytucji RP z 1997 roku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95280" y="2781360"/>
          <a:ext cx="7561440" cy="195084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195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Gospodarka rynk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st to określony system ekonomiczny, w którym zarówno sposób produkcji, jak i rozdzielania zasobów uwarunkowane są przez rynek. Z kolei wszystkie ceny rynkowe o charakterze pieniężnym kształtują się odpowiednio do poziomu popytu i podaży. W gospodarce rynkowej praktycznie wszystkie zasoby stanowią własność prywatną. Najważniejszą obowiązującą w związku z tym zasadą jest prawo własności. Dla tego typu gospodarki charakterystyczne jest państwo kapitalistycz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5280" y="4724280"/>
          <a:ext cx="7561440" cy="822600"/>
        </p:xfrm>
        <a:graphic>
          <a:graphicData uri="http://schemas.openxmlformats.org/drawingml/2006/table">
            <a:tbl>
              <a:tblPr/>
              <a:tblGrid>
                <a:gridCol w="1739880"/>
                <a:gridCol w="5821560"/>
              </a:tblGrid>
              <a:tr h="82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Gospodarka centralnie sterow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gospodarka charakterystyczna dla państwa socjalistycznego, poziom cen w tej gospodarce narzucany jest odgórnie przez państwo. Dominująca jest rola państw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95280" y="692280"/>
          <a:ext cx="7561440" cy="419040"/>
        </p:xfrm>
        <a:graphic>
          <a:graphicData uri="http://schemas.openxmlformats.org/drawingml/2006/table">
            <a:tbl>
              <a:tblPr/>
              <a:tblGrid>
                <a:gridCol w="1738440"/>
                <a:gridCol w="582300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Poję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"/>
                        </a:rPr>
                        <a:t>Defini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4"/>
          <p:cNvSpPr/>
          <p:nvPr/>
        </p:nvSpPr>
        <p:spPr>
          <a:xfrm>
            <a:off x="0" y="33336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żet pa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8" descr=""/>
          <p:cNvPicPr/>
          <p:nvPr/>
        </p:nvPicPr>
        <p:blipFill>
          <a:blip r:embed="rId1"/>
          <a:stretch/>
        </p:blipFill>
        <p:spPr>
          <a:xfrm>
            <a:off x="-255600" y="1378080"/>
            <a:ext cx="9155160" cy="1261800"/>
          </a:xfrm>
          <a:prstGeom prst="rect">
            <a:avLst/>
          </a:prstGeom>
          <a:ln w="0">
            <a:noFill/>
          </a:ln>
        </p:spPr>
      </p:pic>
      <p:pic>
        <p:nvPicPr>
          <p:cNvPr id="102" name="Diagram 9" descr=""/>
          <p:cNvPicPr/>
          <p:nvPr/>
        </p:nvPicPr>
        <p:blipFill>
          <a:blip r:embed="rId2"/>
          <a:stretch/>
        </p:blipFill>
        <p:spPr>
          <a:xfrm>
            <a:off x="-255600" y="2962440"/>
            <a:ext cx="9155160" cy="1261800"/>
          </a:xfrm>
          <a:prstGeom prst="rect">
            <a:avLst/>
          </a:prstGeom>
          <a:ln w="0">
            <a:noFill/>
          </a:ln>
        </p:spPr>
      </p:pic>
      <p:pic>
        <p:nvPicPr>
          <p:cNvPr id="103" name="Diagram 10" descr=""/>
          <p:cNvPicPr/>
          <p:nvPr/>
        </p:nvPicPr>
        <p:blipFill>
          <a:blip r:embed="rId3"/>
          <a:stretch/>
        </p:blipFill>
        <p:spPr>
          <a:xfrm>
            <a:off x="-328680" y="4687920"/>
            <a:ext cx="9155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upa 16"/>
          <p:cNvGrpSpPr/>
          <p:nvPr/>
        </p:nvGrpSpPr>
        <p:grpSpPr>
          <a:xfrm>
            <a:off x="250920" y="981000"/>
            <a:ext cx="7850160" cy="1368360"/>
            <a:chOff x="250920" y="981000"/>
            <a:chExt cx="7850160" cy="1368360"/>
          </a:xfrm>
        </p:grpSpPr>
        <p:pic>
          <p:nvPicPr>
            <p:cNvPr id="111" name="Obraz 13" descr="6033936938_024f7832cb_m.jpg"/>
            <p:cNvPicPr/>
            <p:nvPr/>
          </p:nvPicPr>
          <p:blipFill>
            <a:blip r:embed="rId2"/>
            <a:srcRect l="0" t="0" r="8130" b="0"/>
            <a:stretch/>
          </p:blipFill>
          <p:spPr>
            <a:xfrm>
              <a:off x="250920" y="981000"/>
              <a:ext cx="1152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zaokrąglony 10"/>
            <p:cNvSpPr/>
            <p:nvPr/>
          </p:nvSpPr>
          <p:spPr>
            <a:xfrm>
              <a:off x="1187280" y="1412640"/>
              <a:ext cx="6913800" cy="7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ość formalna (budżet państwa powinien być zawarty w jednym dokumencie – ustawie  budżetowej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rostokąt 8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sady tworzenia i kontroli budżetu pańs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upa 17"/>
          <p:cNvGrpSpPr/>
          <p:nvPr/>
        </p:nvGrpSpPr>
        <p:grpSpPr>
          <a:xfrm>
            <a:off x="179280" y="2492280"/>
            <a:ext cx="8064720" cy="1152720"/>
            <a:chOff x="179280" y="2492280"/>
            <a:chExt cx="8064720" cy="1152720"/>
          </a:xfrm>
        </p:grpSpPr>
        <p:pic>
          <p:nvPicPr>
            <p:cNvPr id="115" name="Obraz 14" descr="4431759656_997fa774c7_m.jpg"/>
            <p:cNvPicPr/>
            <p:nvPr/>
          </p:nvPicPr>
          <p:blipFill>
            <a:blip r:embed="rId3"/>
            <a:stretch/>
          </p:blipFill>
          <p:spPr>
            <a:xfrm>
              <a:off x="7164000" y="2492280"/>
              <a:ext cx="108000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Prostokąt zaokrąglony 9"/>
            <p:cNvSpPr/>
            <p:nvPr/>
          </p:nvSpPr>
          <p:spPr>
            <a:xfrm>
              <a:off x="179280" y="2492280"/>
              <a:ext cx="6912360" cy="115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ość materialna (zakaz tworzenia funduszy celowych w ramach budżetu państwa i poza nim, chociaż z dopuszczalnymi wyjątkami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20"/>
          <p:cNvGrpSpPr/>
          <p:nvPr/>
        </p:nvGrpSpPr>
        <p:grpSpPr>
          <a:xfrm>
            <a:off x="826920" y="5013360"/>
            <a:ext cx="7417080" cy="1641600"/>
            <a:chOff x="826920" y="5013360"/>
            <a:chExt cx="7417080" cy="1641600"/>
          </a:xfrm>
        </p:grpSpPr>
        <p:pic>
          <p:nvPicPr>
            <p:cNvPr id="118" name="Obraz 18" descr="kal.jpg"/>
            <p:cNvPicPr/>
            <p:nvPr/>
          </p:nvPicPr>
          <p:blipFill>
            <a:blip r:embed="rId4"/>
            <a:stretch/>
          </p:blipFill>
          <p:spPr>
            <a:xfrm>
              <a:off x="6948000" y="5013360"/>
              <a:ext cx="129600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rostokąt zaokrąglony 11"/>
            <p:cNvSpPr/>
            <p:nvPr/>
          </p:nvSpPr>
          <p:spPr>
            <a:xfrm>
              <a:off x="826920" y="5518080"/>
              <a:ext cx="6121800" cy="620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czność (budżet jest planem rocznym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upa 19"/>
          <p:cNvGrpSpPr/>
          <p:nvPr/>
        </p:nvGrpSpPr>
        <p:grpSpPr>
          <a:xfrm>
            <a:off x="0" y="4005360"/>
            <a:ext cx="8101080" cy="968400"/>
            <a:chOff x="0" y="4005360"/>
            <a:chExt cx="8101080" cy="968400"/>
          </a:xfrm>
        </p:grpSpPr>
        <p:pic>
          <p:nvPicPr>
            <p:cNvPr id="121" name="Obraz 15" descr="5520336220_2cd64af883_m.jpg"/>
            <p:cNvPicPr/>
            <p:nvPr/>
          </p:nvPicPr>
          <p:blipFill>
            <a:blip r:embed="rId5"/>
            <a:stretch/>
          </p:blipFill>
          <p:spPr>
            <a:xfrm>
              <a:off x="0" y="4005360"/>
              <a:ext cx="1367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Prostokąt zaokrąglony 12"/>
            <p:cNvSpPr/>
            <p:nvPr/>
          </p:nvSpPr>
          <p:spPr>
            <a:xfrm>
              <a:off x="1331640" y="4149720"/>
              <a:ext cx="6769440" cy="71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76092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szechność (budżet powinien obejmować wszystkie dochody i wszystkie wydatki publiczne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1"/>
          <p:cNvGrpSpPr/>
          <p:nvPr/>
        </p:nvGrpSpPr>
        <p:grpSpPr>
          <a:xfrm>
            <a:off x="0" y="476280"/>
            <a:ext cx="8470800" cy="4816440"/>
            <a:chOff x="0" y="476280"/>
            <a:chExt cx="8470800" cy="4816440"/>
          </a:xfrm>
        </p:grpSpPr>
        <p:sp>
          <p:nvSpPr>
            <p:cNvPr id="124" name="Prostokąt 6"/>
            <p:cNvSpPr/>
            <p:nvPr/>
          </p:nvSpPr>
          <p:spPr>
            <a:xfrm>
              <a:off x="0" y="476280"/>
              <a:ext cx="847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sady tworzenia i kontroli budżetu państw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Obraz 4" descr="plan.jpg"/>
            <p:cNvPicPr/>
            <p:nvPr/>
          </p:nvPicPr>
          <p:blipFill>
            <a:blip r:embed="rId1"/>
            <a:srcRect l="2339" t="2173" r="0" b="0"/>
            <a:stretch/>
          </p:blipFill>
          <p:spPr>
            <a:xfrm>
              <a:off x="0" y="2060640"/>
              <a:ext cx="2997360" cy="323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rostokąt zaokrąglony 5"/>
          <p:cNvSpPr/>
          <p:nvPr/>
        </p:nvSpPr>
        <p:spPr>
          <a:xfrm>
            <a:off x="2843280" y="1268280"/>
            <a:ext cx="53290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szczegółow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budżet powinien być  opracowany w takim stopniu szczegółowości, aby parlament miał zapewniony wpływ na kształtowanie polityki społecznej i gospodarczej państ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rostokąt zaokrąglony 8"/>
          <p:cNvSpPr/>
          <p:nvPr/>
        </p:nvSpPr>
        <p:spPr>
          <a:xfrm>
            <a:off x="2916360" y="2997360"/>
            <a:ext cx="5327640" cy="130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równow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w sensie matematycznym lub ze wskazaniem  źródła pokrycia deficytu państwa bądź wykorzystania nadwyżki budżetow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rostokąt zaokrąglony 9"/>
          <p:cNvSpPr/>
          <p:nvPr/>
        </p:nvSpPr>
        <p:spPr>
          <a:xfrm>
            <a:off x="2916360" y="4437000"/>
            <a:ext cx="53276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uprzedni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budżet powinien być uchwalony przed  rozpoczęciem roku budżetowe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rostokąt zaokrąglony 10"/>
          <p:cNvSpPr/>
          <p:nvPr/>
        </p:nvSpPr>
        <p:spPr>
          <a:xfrm>
            <a:off x="2916360" y="5589720"/>
            <a:ext cx="5327640" cy="103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76092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jaw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budżet powinien być jawny jako dokument oraz czytelny pod względem merytoryczny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76720" y="1773000"/>
            <a:ext cx="49672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wszelkie dochody uzyskiwane przez podmioty należące do sektora finansów publiczn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34" name="Grupa 7"/>
          <p:cNvGrpSpPr/>
          <p:nvPr/>
        </p:nvGrpSpPr>
        <p:grpSpPr>
          <a:xfrm>
            <a:off x="0" y="333360"/>
            <a:ext cx="8388360" cy="3995640"/>
            <a:chOff x="0" y="333360"/>
            <a:chExt cx="8388360" cy="3995640"/>
          </a:xfrm>
        </p:grpSpPr>
        <p:pic>
          <p:nvPicPr>
            <p:cNvPr id="135" name="Obraz 6" descr="761235248_447d64da59_m.jpg"/>
            <p:cNvPicPr/>
            <p:nvPr/>
          </p:nvPicPr>
          <p:blipFill>
            <a:blip r:embed="rId1"/>
            <a:stretch/>
          </p:blipFill>
          <p:spPr>
            <a:xfrm>
              <a:off x="0" y="615240"/>
              <a:ext cx="3715920" cy="371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Prostokąt 5"/>
            <p:cNvSpPr/>
            <p:nvPr/>
          </p:nvSpPr>
          <p:spPr>
            <a:xfrm>
              <a:off x="5760" y="333360"/>
              <a:ext cx="838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chody sektora finansów publicznych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rostokąt 9"/>
          <p:cNvSpPr/>
          <p:nvPr/>
        </p:nvSpPr>
        <p:spPr>
          <a:xfrm>
            <a:off x="468360" y="458136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całość dochodów uzyskiwanych przez państwo, umożliwiających sfinansowanie wydatków sektora finansów publiczny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raz 11" descr="5727382774_f3ebb4bbe0_m.jpg"/>
          <p:cNvPicPr/>
          <p:nvPr/>
        </p:nvPicPr>
        <p:blipFill>
          <a:blip r:embed="rId2"/>
          <a:stretch/>
        </p:blipFill>
        <p:spPr>
          <a:xfrm>
            <a:off x="5292720" y="3402000"/>
            <a:ext cx="2808360" cy="3456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9280" y="2060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z podatków bezpośrednich: podatku dochodowego od osób fizycznych (PIT), podatku dochodowego od przedsiębiorstw (CIT)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5768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z podatków pośrednich: podatku od towarów i usług (VAT), podatku akcyzowego, innych podatków pośrednich (np. od gier losowych, nieruchomości itp.)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5768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z opłat celn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57680" indent="-15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3" name="Prostokąt 5"/>
          <p:cNvSpPr/>
          <p:nvPr/>
        </p:nvSpPr>
        <p:spPr>
          <a:xfrm>
            <a:off x="395280" y="14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dzieli się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rostokąt 6"/>
          <p:cNvSpPr/>
          <p:nvPr/>
        </p:nvSpPr>
        <p:spPr>
          <a:xfrm>
            <a:off x="0" y="476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upa 10"/>
          <p:cNvGrpSpPr/>
          <p:nvPr/>
        </p:nvGrpSpPr>
        <p:grpSpPr>
          <a:xfrm>
            <a:off x="3708360" y="3222720"/>
            <a:ext cx="4388040" cy="3213000"/>
            <a:chOff x="3708360" y="3222720"/>
            <a:chExt cx="4388040" cy="3213000"/>
          </a:xfrm>
        </p:grpSpPr>
        <p:pic>
          <p:nvPicPr>
            <p:cNvPr id="146" name="Obraz 7" descr="TAX.jpg"/>
            <p:cNvPicPr/>
            <p:nvPr/>
          </p:nvPicPr>
          <p:blipFill>
            <a:blip r:embed="rId1"/>
            <a:srcRect l="0" t="42650" r="0" b="0"/>
            <a:stretch/>
          </p:blipFill>
          <p:spPr>
            <a:xfrm>
              <a:off x="3708360" y="4574520"/>
              <a:ext cx="409320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ole tekstowe 8" descr=""/>
            <p:cNvPicPr/>
            <p:nvPr/>
          </p:nvPicPr>
          <p:blipFill>
            <a:blip r:embed="rId2"/>
            <a:stretch/>
          </p:blipFill>
          <p:spPr>
            <a:xfrm>
              <a:off x="3751920" y="3222720"/>
              <a:ext cx="4344480" cy="198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raz 11" descr="3653603610_f77684e808_m.jpg"/>
          <p:cNvPicPr/>
          <p:nvPr/>
        </p:nvPicPr>
        <p:blipFill>
          <a:blip r:embed="rId1"/>
          <a:stretch/>
        </p:blipFill>
        <p:spPr>
          <a:xfrm>
            <a:off x="2556000" y="3068640"/>
            <a:ext cx="4752720" cy="3584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3640" y="1916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e dochody: wpłaty z zysku banku centralnego, dochody jednostek budżetowych (np. opłaty administracyjne), dywidenda z przedsiębiorstw państwowych, dochody kapitałowe, różne transfery (np. wpłaty z budżetu Unii Europejskiej), 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ki na ubezpieczenia społeczne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3" name="Prostokąt 5"/>
          <p:cNvSpPr/>
          <p:nvPr/>
        </p:nvSpPr>
        <p:spPr>
          <a:xfrm>
            <a:off x="0" y="549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ostokąt 6"/>
          <p:cNvSpPr/>
          <p:nvPr/>
        </p:nvSpPr>
        <p:spPr>
          <a:xfrm>
            <a:off x="539640" y="14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sektora finansów dzieli się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79280" y="1268280"/>
            <a:ext cx="805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owią wszelkie wydatki, których dokonują podmioty należące do sektora finansów publicznych. 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sektora finansów publicznych oznaczają całość wydatków ponoszonych przez państwo w celu realizacji funkcji państwa w gospodarce. </a:t>
            </a: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9" name="Grupa 6"/>
          <p:cNvGrpSpPr/>
          <p:nvPr/>
        </p:nvGrpSpPr>
        <p:grpSpPr>
          <a:xfrm>
            <a:off x="0" y="476280"/>
            <a:ext cx="8450280" cy="6381720"/>
            <a:chOff x="0" y="476280"/>
            <a:chExt cx="8450280" cy="6381720"/>
          </a:xfrm>
        </p:grpSpPr>
        <p:pic>
          <p:nvPicPr>
            <p:cNvPr id="160" name="Obraz 4" descr="wydatki2.jpg"/>
            <p:cNvPicPr/>
            <p:nvPr/>
          </p:nvPicPr>
          <p:blipFill>
            <a:blip r:embed="rId1"/>
            <a:stretch/>
          </p:blipFill>
          <p:spPr>
            <a:xfrm>
              <a:off x="3420000" y="3525480"/>
              <a:ext cx="5030280" cy="33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rostokąt 5"/>
            <p:cNvSpPr/>
            <p:nvPr/>
          </p:nvSpPr>
          <p:spPr>
            <a:xfrm>
              <a:off x="0" y="476280"/>
              <a:ext cx="83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datki sektora finansów publicznych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raz 10" descr="1525182668_92bc6c07e4_m.jpg"/>
          <p:cNvPicPr/>
          <p:nvPr/>
        </p:nvPicPr>
        <p:blipFill>
          <a:blip r:embed="rId1"/>
          <a:srcRect l="30167" t="0" r="33612" b="5249"/>
          <a:stretch/>
        </p:blipFill>
        <p:spPr>
          <a:xfrm>
            <a:off x="755640" y="3467160"/>
            <a:ext cx="1728720" cy="3390840"/>
          </a:xfrm>
          <a:prstGeom prst="rect">
            <a:avLst/>
          </a:prstGeom>
          <a:ln w="0">
            <a:noFill/>
          </a:ln>
        </p:spPr>
      </p:pic>
      <p:sp>
        <p:nvSpPr>
          <p:cNvPr id="166" name="Objaśnienie w chmurce 14"/>
          <p:cNvSpPr/>
          <p:nvPr/>
        </p:nvSpPr>
        <p:spPr>
          <a:xfrm>
            <a:off x="3348000" y="1413000"/>
            <a:ext cx="4824360" cy="3384360"/>
          </a:xfrm>
          <a:prstGeom prst="cloudCallout">
            <a:avLst>
              <a:gd name="adj1" fmla="val -73185"/>
              <a:gd name="adj2" fmla="val 2395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95640" y="1916280"/>
            <a:ext cx="432144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na płace, 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na towary i usługi,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sługę zadłużenia, 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ansfery do gospodarstw domowych, 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tacje i subwencje,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majątkowe.</a:t>
            </a: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8" name="Prostokąt 5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sektora finansów publicz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4"/>
          <p:cNvSpPr/>
          <p:nvPr/>
        </p:nvSpPr>
        <p:spPr>
          <a:xfrm>
            <a:off x="395280" y="141300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datki sektora finansów publicznych dzieli się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04:21Z</dcterms:created>
  <dc:creator>tfigurska</dc:creator>
  <dc:description/>
  <dc:language>en-US</dc:language>
  <cp:lastModifiedBy>Marta</cp:lastModifiedBy>
  <dcterms:modified xsi:type="dcterms:W3CDTF">2013-01-31T15:47:08Z</dcterms:modified>
  <cp:revision>61</cp:revision>
  <dc:subject/>
  <dc:title>3. Gospodarka</dc:title>
</cp:coreProperties>
</file>