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5.png" ContentType="image/png"/>
  <Override PartName="/ppt/media/image46.jpeg" ContentType="image/jpeg"/>
  <Override PartName="/ppt/media/image36.png" ContentType="image/png"/>
  <Override PartName="/ppt/media/image48.png" ContentType="image/png"/>
  <Override PartName="/ppt/media/image50.jpeg" ContentType="image/jpeg"/>
  <Override PartName="/ppt/media/image13.png" ContentType="image/png"/>
  <Override PartName="/ppt/media/image5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0D40-66EE-412F-9855-D99AB4FA47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701-B0F0-43F1-9CF4-5FAC60DE82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6CD9-8FFC-430E-ADC5-F4166140B1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197-4833-45ED-9ADD-062D69D6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E76-91DD-4355-85F7-229EBBE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233-5026-4CD4-832B-7BD281F2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4E9-3709-4382-9B66-118DCF40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7586-8F8D-4A5A-8D9E-C160B8B0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779B-D409-4EFF-B40C-28073B4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C10-9F6A-41C8-98C9-B2F6D55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04E3-AD80-4265-9CC0-09741B8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5CF5-5CB2-41EB-BD4E-8AEF1867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BB8C-DC1B-4815-B0FB-E9A01830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3EA-661B-4159-A9A2-96D6D84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F49-85F5-4298-A51F-FFBE968B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9B2C-B903-4554-88DF-C68D41F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04F-2998-4621-92D1-AD6191F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A3A-90DD-47A7-A22D-827C6DC1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B2F8-C4E4-4617-97F0-6B1C4943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4A60-B8E9-4B72-A994-C046EBDF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A38-C409-4A55-B784-94EFA405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A69-4E10-4D83-B9DD-2ACD594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ABB-99E1-4138-836A-A5AA1280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AE0-8DE2-4C0C-A4C3-157D639C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787-3E4C-4B91-85EE-DF15590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629-2452-42EA-A947-720ABC0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F5D-BE95-48F1-A665-47D0362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940B-F2DF-4EFB-8733-89699AB01DA3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634-EF70-4B8A-AB0A-2C6CE7C07F0F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5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6.png"/><Relationship Id="rId18" Type="http://schemas.openxmlformats.org/officeDocument/2006/relationships/image" Target="../media/image20.jpeg"/><Relationship Id="rId19" Type="http://schemas.openxmlformats.org/officeDocument/2006/relationships/image" Target="../media/image21.pn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3.xml"/><Relationship Id="rId2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59A2-05C9-4C01-9F9E-DB3A5BC197F0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0"/>
          <p:cNvSpPr/>
          <p:nvPr/>
        </p:nvSpPr>
        <p:spPr>
          <a:xfrm>
            <a:off x="1882800" y="1341360"/>
            <a:ext cx="9604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920" rIns="205920" tIns="205920" bIns="205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1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7" name="Prostokąt zaokrąglony 17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rostokąt 18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Diagram 3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39640" y="1413000"/>
          <a:ext cx="7488360" cy="112392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inwest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Fundusze inwestycyjne są instytucjami, które zawodowo zajmują się lokowaniem wolnych środków swoich klientó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2492280"/>
          <a:ext cx="7488360" cy="1494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494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Otwarte fundusze emeryta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Otwarte fundusze emerytalne są szczególnym rodzajem funduszy inwestycyjnych. Środki lokowane w OFE pochodzą z ZUS-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9640" y="981000"/>
          <a:ext cx="7488360" cy="432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39640" y="4005360"/>
          <a:ext cx="7488360" cy="22320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22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rzedsiębiorstwa ubezpieczeni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edsiębiorstwa ubezpieczeniow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–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warzystwa ubezpieczeniowe – to komercyjne podmioty, które na podstawie umowy zobowiązują się do wypłaty określonych świadczeń w razie wystąpienia sytuacji z reguły o charakterze losowym, określonych w umowi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upa 16"/>
          <p:cNvGrpSpPr/>
          <p:nvPr/>
        </p:nvGrpSpPr>
        <p:grpSpPr>
          <a:xfrm>
            <a:off x="611280" y="1557360"/>
            <a:ext cx="7273800" cy="5300640"/>
            <a:chOff x="611280" y="1557360"/>
            <a:chExt cx="7273800" cy="5300640"/>
          </a:xfrm>
        </p:grpSpPr>
        <p:grpSp>
          <p:nvGrpSpPr>
            <p:cNvPr id="231" name="Grupa 15"/>
            <p:cNvGrpSpPr/>
            <p:nvPr/>
          </p:nvGrpSpPr>
          <p:grpSpPr>
            <a:xfrm>
              <a:off x="1835640" y="2421360"/>
              <a:ext cx="5257440" cy="4436640"/>
              <a:chOff x="1835640" y="2421360"/>
              <a:chExt cx="5257440" cy="4436640"/>
            </a:xfrm>
          </p:grpSpPr>
          <p:pic>
            <p:nvPicPr>
              <p:cNvPr id="232" name="Obraz 12" descr="6337408267_f6a6b33fdd_m.jpg"/>
              <p:cNvPicPr/>
              <p:nvPr/>
            </p:nvPicPr>
            <p:blipFill>
              <a:blip r:embed="rId1"/>
              <a:srcRect l="0" t="0" r="0" b="15193"/>
              <a:stretch/>
            </p:blipFill>
            <p:spPr>
              <a:xfrm>
                <a:off x="1835640" y="2421360"/>
                <a:ext cx="5257440" cy="44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Prostokąt 14"/>
              <p:cNvSpPr/>
              <p:nvPr/>
            </p:nvSpPr>
            <p:spPr>
              <a:xfrm>
                <a:off x="2050920" y="3645000"/>
                <a:ext cx="4826160" cy="2089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Prostokąt 9"/>
            <p:cNvSpPr/>
            <p:nvPr/>
          </p:nvSpPr>
          <p:spPr>
            <a:xfrm>
              <a:off x="611280" y="1557360"/>
              <a:ext cx="7273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Fundusze inwestycyjne odgrywają w gospodarce polskiej istotną rolę. Ich zadaniem jest transferowanie oszczędności gospodarstw domowych na rynek kapitał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 inwestycyj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3" descr=""/>
          <p:cNvPicPr/>
          <p:nvPr/>
        </p:nvPicPr>
        <p:blipFill>
          <a:blip r:embed="rId3"/>
          <a:stretch/>
        </p:blipFill>
        <p:spPr>
          <a:xfrm>
            <a:off x="2050920" y="3645000"/>
            <a:ext cx="48247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5"/>
          <p:cNvGrpSpPr/>
          <p:nvPr/>
        </p:nvGrpSpPr>
        <p:grpSpPr>
          <a:xfrm>
            <a:off x="0" y="260280"/>
            <a:ext cx="8875800" cy="3029040"/>
            <a:chOff x="0" y="260280"/>
            <a:chExt cx="8875800" cy="3029040"/>
          </a:xfrm>
        </p:grpSpPr>
        <p:pic>
          <p:nvPicPr>
            <p:cNvPr id="244" name="Obraz 14" descr="finanse19.jpg"/>
            <p:cNvPicPr/>
            <p:nvPr/>
          </p:nvPicPr>
          <p:blipFill>
            <a:blip r:embed="rId2"/>
            <a:stretch/>
          </p:blipFill>
          <p:spPr>
            <a:xfrm>
              <a:off x="4203360" y="328680"/>
              <a:ext cx="46724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ytuł 1"/>
            <p:cNvSpPr/>
            <p:nvPr/>
          </p:nvSpPr>
          <p:spPr>
            <a:xfrm>
              <a:off x="0" y="260280"/>
              <a:ext cx="550332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nk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684360" y="3284640"/>
          <a:ext cx="6912000" cy="112536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11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ank central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, który wykonuje zadania związane m.i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z nadzorem nad całym systemem bankowy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84360" y="4365720"/>
          <a:ext cx="6912000" cy="118908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11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ank komercyj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, który zajmuje się obsługą osób fizycznych i podmiotów gospodarcz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4360" y="2852640"/>
          <a:ext cx="6912000" cy="432000"/>
        </p:xfrm>
        <a:graphic>
          <a:graphicData uri="http://schemas.openxmlformats.org/drawingml/2006/table">
            <a:tbl>
              <a:tblPr/>
              <a:tblGrid>
                <a:gridCol w="1584000"/>
                <a:gridCol w="532800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– funkcj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7"/>
          <p:cNvSpPr/>
          <p:nvPr/>
        </p:nvSpPr>
        <p:spPr>
          <a:xfrm>
            <a:off x="324000" y="1052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są wyspecjalizowaną instytucją wykonującą następujące typy operacj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rostokąt zaokrąglony 16" descr=""/>
          <p:cNvPicPr/>
          <p:nvPr/>
        </p:nvPicPr>
        <p:blipFill>
          <a:blip r:embed="rId2"/>
          <a:stretch/>
        </p:blipFill>
        <p:spPr>
          <a:xfrm>
            <a:off x="865080" y="2822400"/>
            <a:ext cx="2865600" cy="878040"/>
          </a:xfrm>
          <a:prstGeom prst="rect">
            <a:avLst/>
          </a:prstGeom>
          <a:ln w="0">
            <a:noFill/>
          </a:ln>
        </p:spPr>
      </p:pic>
      <p:pic>
        <p:nvPicPr>
          <p:cNvPr id="255" name="Prostokąt zaokrąglony 17" descr=""/>
          <p:cNvPicPr/>
          <p:nvPr/>
        </p:nvPicPr>
        <p:blipFill>
          <a:blip r:embed="rId3"/>
          <a:stretch/>
        </p:blipFill>
        <p:spPr>
          <a:xfrm>
            <a:off x="865080" y="4121280"/>
            <a:ext cx="286560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Prostokąt zaokrąglony 18" descr=""/>
          <p:cNvPicPr/>
          <p:nvPr/>
        </p:nvPicPr>
        <p:blipFill>
          <a:blip r:embed="rId4"/>
          <a:stretch/>
        </p:blipFill>
        <p:spPr>
          <a:xfrm>
            <a:off x="865080" y="5413320"/>
            <a:ext cx="2865600" cy="878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4427640" y="2852640"/>
            <a:ext cx="3422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nki komercyjne – funkcje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539640" y="2349360"/>
          <a:ext cx="7488360" cy="112392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Czynne operacje ban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zynne operacje bankowe, inaczej nazywane operacjami aktywnymi, polegają na udzielaniu kredytów i pożycze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39640" y="3429000"/>
          <a:ext cx="7488360" cy="11890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89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Bierne operacje ban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ierne operacje bankowe noszą nazwę operacji pasywnych. Polegają na przyjmowaniu lok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39640" y="1916280"/>
          <a:ext cx="7488360" cy="4330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43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39640" y="4581360"/>
          <a:ext cx="7488360" cy="112428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112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Operacje pośredniczą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Operacje pośredniczące polegają na wykonywaniu rozlicze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C:\Users\Marta\Desktop\marta F\grafiki\5837325751_37a18d455d_m.jpg"/>
          <p:cNvPicPr/>
          <p:nvPr/>
        </p:nvPicPr>
        <p:blipFill>
          <a:blip r:embed="rId1"/>
          <a:stretch/>
        </p:blipFill>
        <p:spPr>
          <a:xfrm>
            <a:off x="5580000" y="429264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C:\Users\Marta\Desktop\marta F\grafiki\6431931373_c1fe7f5a15_m.jpg"/>
          <p:cNvPicPr/>
          <p:nvPr/>
        </p:nvPicPr>
        <p:blipFill>
          <a:blip r:embed="rId2"/>
          <a:stretch/>
        </p:blipFill>
        <p:spPr>
          <a:xfrm>
            <a:off x="-6480" y="255600"/>
            <a:ext cx="3310200" cy="1994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Prostokąt zaokrąglony 9"/>
          <p:cNvGrpSpPr/>
          <p:nvPr/>
        </p:nvGrpSpPr>
        <p:grpSpPr>
          <a:xfrm>
            <a:off x="506520" y="2176560"/>
            <a:ext cx="5602320" cy="3943080"/>
            <a:chOff x="506520" y="2176560"/>
            <a:chExt cx="5602320" cy="3943080"/>
          </a:xfrm>
        </p:grpSpPr>
        <p:pic>
          <p:nvPicPr>
            <p:cNvPr id="273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06520" y="2176560"/>
              <a:ext cx="560232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28640" y="2394000"/>
              <a:ext cx="516564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 może być traktowany jako swoisty towar, którego ktoś potrzebuj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chciałby go kupić. By doszło do transakcji, musi się znaleźć ktoś, kto z kolei gotowy jest sprzedać pieniądz. Oczywiście za odpowiednią cenę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pierwszym odbiorze brzmi to pewnie dziwacznie, ale rzeczywiście: pieniądz jest swoistym towarem, który posiada swoją cenę.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 ceną tą jest stopa procentow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C:\Users\Marta\Desktop\marta F\grafiki\global.jpg"/>
          <p:cNvPicPr/>
          <p:nvPr/>
        </p:nvPicPr>
        <p:blipFill>
          <a:blip r:embed="rId1"/>
          <a:stretch/>
        </p:blipFill>
        <p:spPr>
          <a:xfrm>
            <a:off x="2050920" y="3510000"/>
            <a:ext cx="4713480" cy="3348000"/>
          </a:xfrm>
          <a:prstGeom prst="rect">
            <a:avLst/>
          </a:prstGeom>
          <a:ln w="0">
            <a:noFill/>
          </a:ln>
        </p:spPr>
      </p:pic>
      <p:sp>
        <p:nvSpPr>
          <p:cNvPr id="276" name="Prostokąt 9"/>
          <p:cNvSpPr/>
          <p:nvPr/>
        </p:nvSpPr>
        <p:spPr>
          <a:xfrm>
            <a:off x="395280" y="105264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nalizując zachowania kupujących na rynku, braliśmy pod uwagę działanie prawa popytu i prawa podaż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rwsze z nich mówiło, że wraz ze wzrostem ceny maleje wielkość popytu, drugie, że wraz ze wzrostem ceny rośnie wielkość podaż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e prawidłowości można również dostrzec na rynku pieniądza, gdzie wysokość stopy procentowej, czyli ceny pieniądza, wpływa na zachowania poszczególnych uczestników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C:\Users\Marta\Desktop\Zmiany w prezentacjach\6646664549_3b21f7c9d1_m.jpg"/>
          <p:cNvPicPr/>
          <p:nvPr/>
        </p:nvPicPr>
        <p:blipFill>
          <a:blip r:embed="rId1"/>
          <a:srcRect l="0" t="42920" r="0" b="0"/>
          <a:stretch/>
        </p:blipFill>
        <p:spPr>
          <a:xfrm>
            <a:off x="4932360" y="69228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pa procentow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skłonność do oszczędzan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Prostokąt zaokrąglony 9"/>
          <p:cNvGrpSpPr/>
          <p:nvPr/>
        </p:nvGrpSpPr>
        <p:grpSpPr>
          <a:xfrm>
            <a:off x="652320" y="2895480"/>
            <a:ext cx="7401240" cy="3078360"/>
            <a:chOff x="652320" y="2895480"/>
            <a:chExt cx="7401240" cy="3078360"/>
          </a:xfrm>
        </p:grpSpPr>
        <p:pic>
          <p:nvPicPr>
            <p:cNvPr id="287" name="Prostokąt zaokrąglony 9" descr=""/>
            <p:cNvPicPr/>
            <p:nvPr/>
          </p:nvPicPr>
          <p:blipFill>
            <a:blip r:embed="rId3"/>
            <a:stretch/>
          </p:blipFill>
          <p:spPr>
            <a:xfrm>
              <a:off x="652320" y="2895480"/>
              <a:ext cx="74012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31960" y="3071880"/>
              <a:ext cx="704844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iedy podejmujemy decyzję o oszczędnościach, przede wszystkim bierzemy pod uwagę wysokość stopy procentowej, jaką zaoferuje nam bank w zamian za zdeponowane w nim pieniąd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nk płaci nam zatem odpowiednią cenę za pieniądz złożony na lokaci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Gospodarstwa domowe tym chętniej i tym więcej będą oszczędzały, im wyższy będzie poziom stopy procentowej zaoferowanej przez bank. Ta zależność to nic innego jak prawo podaży, ale dla rynku, na którym towarem jest pieniąd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historia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47"/>
          <p:cNvSpPr/>
          <p:nvPr/>
        </p:nvSpPr>
        <p:spPr>
          <a:xfrm>
            <a:off x="1859040" y="3429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74"/>
          <p:cNvGrpSpPr/>
          <p:nvPr/>
        </p:nvGrpSpPr>
        <p:grpSpPr>
          <a:xfrm>
            <a:off x="1332000" y="2781360"/>
            <a:ext cx="5761080" cy="1800000"/>
            <a:chOff x="1332000" y="2781360"/>
            <a:chExt cx="5761080" cy="1800000"/>
          </a:xfrm>
        </p:grpSpPr>
        <p:sp>
          <p:nvSpPr>
            <p:cNvPr id="106" name="Prostokąt zaokrąglony 71"/>
            <p:cNvSpPr/>
            <p:nvPr/>
          </p:nvSpPr>
          <p:spPr>
            <a:xfrm>
              <a:off x="1332000" y="2781360"/>
              <a:ext cx="5761080" cy="180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upa 67"/>
            <p:cNvGrpSpPr/>
            <p:nvPr/>
          </p:nvGrpSpPr>
          <p:grpSpPr>
            <a:xfrm>
              <a:off x="1476000" y="2853360"/>
              <a:ext cx="5545080" cy="1656000"/>
              <a:chOff x="1476000" y="2853360"/>
              <a:chExt cx="5545080" cy="1656000"/>
            </a:xfrm>
          </p:grpSpPr>
          <p:pic>
            <p:nvPicPr>
              <p:cNvPr id="108" name="Obraz 33" descr="6190163312_c4d42781af_m.jpg"/>
              <p:cNvPicPr/>
              <p:nvPr/>
            </p:nvPicPr>
            <p:blipFill>
              <a:blip r:embed="rId2"/>
              <a:srcRect l="18073" t="0" r="0" b="0"/>
              <a:stretch/>
            </p:blipFill>
            <p:spPr>
              <a:xfrm>
                <a:off x="1476000" y="2853360"/>
                <a:ext cx="1530720" cy="16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Strzałka w prawo 4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7040" y="3224520"/>
                <a:ext cx="1139760" cy="98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0" name="Grupa 66"/>
              <p:cNvGrpSpPr/>
              <p:nvPr/>
            </p:nvGrpSpPr>
            <p:grpSpPr>
              <a:xfrm>
                <a:off x="4113360" y="2913120"/>
                <a:ext cx="2907720" cy="1532520"/>
                <a:chOff x="4113360" y="2913120"/>
                <a:chExt cx="2907720" cy="1532520"/>
              </a:xfrm>
            </p:grpSpPr>
            <p:grpSp>
              <p:nvGrpSpPr>
                <p:cNvPr id="111" name="Grupa 65"/>
                <p:cNvGrpSpPr/>
                <p:nvPr/>
              </p:nvGrpSpPr>
              <p:grpSpPr>
                <a:xfrm>
                  <a:off x="4113360" y="2913120"/>
                  <a:ext cx="2489400" cy="1378440"/>
                  <a:chOff x="4113360" y="2913120"/>
                  <a:chExt cx="2489400" cy="1378440"/>
                </a:xfrm>
              </p:grpSpPr>
              <p:pic>
                <p:nvPicPr>
                  <p:cNvPr id="112" name="Obraz 49" descr="5519761651_84ca1d3d07_m.jpg"/>
                  <p:cNvPicPr/>
                  <p:nvPr/>
                </p:nvPicPr>
                <p:blipFill>
                  <a:blip r:embed="rId4"/>
                  <a:srcRect l="0" t="13140" r="0" b="11220"/>
                  <a:stretch/>
                </p:blipFill>
                <p:spPr>
                  <a:xfrm>
                    <a:off x="5060160" y="2913120"/>
                    <a:ext cx="1542600" cy="13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3" name="Grupa 63"/>
                  <p:cNvGrpSpPr/>
                  <p:nvPr/>
                </p:nvGrpSpPr>
                <p:grpSpPr>
                  <a:xfrm>
                    <a:off x="4113360" y="3272760"/>
                    <a:ext cx="1179720" cy="959040"/>
                    <a:chOff x="4113360" y="3272760"/>
                    <a:chExt cx="1179720" cy="959040"/>
                  </a:xfrm>
                </p:grpSpPr>
                <p:pic>
                  <p:nvPicPr>
                    <p:cNvPr id="114" name="Strzałka w dół 5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13360" y="3272760"/>
                      <a:ext cx="117972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5" name="Strzałka w dół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59160" y="3479760"/>
                      <a:ext cx="102816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116" name="Obraz 50" descr="goldbar.jpg"/>
                <p:cNvPicPr/>
                <p:nvPr/>
              </p:nvPicPr>
              <p:blipFill>
                <a:blip r:embed="rId7"/>
                <a:srcRect l="8563" t="8563" r="11417" b="8563"/>
                <a:stretch/>
              </p:blipFill>
              <p:spPr>
                <a:xfrm>
                  <a:off x="5939280" y="3452400"/>
                  <a:ext cx="1081800" cy="99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7" name="Strzałka w dół 4" descr=""/>
              <p:cNvPicPr/>
              <p:nvPr/>
            </p:nvPicPr>
            <p:blipFill>
              <a:blip r:embed="rId8"/>
              <a:stretch/>
            </p:blipFill>
            <p:spPr>
              <a:xfrm>
                <a:off x="2608920" y="3523320"/>
                <a:ext cx="840960" cy="35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Grupa 89"/>
          <p:cNvGrpSpPr/>
          <p:nvPr/>
        </p:nvGrpSpPr>
        <p:grpSpPr>
          <a:xfrm>
            <a:off x="2340000" y="4797360"/>
            <a:ext cx="5761080" cy="1800360"/>
            <a:chOff x="2340000" y="4797360"/>
            <a:chExt cx="5761080" cy="1800360"/>
          </a:xfrm>
        </p:grpSpPr>
        <p:sp>
          <p:nvSpPr>
            <p:cNvPr id="119" name="Prostokąt zaokrąglony 76"/>
            <p:cNvSpPr/>
            <p:nvPr/>
          </p:nvSpPr>
          <p:spPr>
            <a:xfrm>
              <a:off x="2340000" y="4797360"/>
              <a:ext cx="5761080" cy="18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upa 67"/>
            <p:cNvGrpSpPr/>
            <p:nvPr/>
          </p:nvGrpSpPr>
          <p:grpSpPr>
            <a:xfrm>
              <a:off x="2484000" y="4869360"/>
              <a:ext cx="3816720" cy="1656360"/>
              <a:chOff x="2484000" y="4869360"/>
              <a:chExt cx="3816720" cy="1656360"/>
            </a:xfrm>
          </p:grpSpPr>
          <p:pic>
            <p:nvPicPr>
              <p:cNvPr id="121" name="Obraz 78" descr="6190163312_c4d42781af_m.jpg"/>
              <p:cNvPicPr/>
              <p:nvPr/>
            </p:nvPicPr>
            <p:blipFill>
              <a:blip r:embed="rId9"/>
              <a:srcRect l="18073" t="0" r="0" b="0"/>
              <a:stretch/>
            </p:blipFill>
            <p:spPr>
              <a:xfrm>
                <a:off x="2484000" y="4869360"/>
                <a:ext cx="1530720" cy="165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Strzałka w prawo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02520" y="5242320"/>
                <a:ext cx="1139760" cy="987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" name="Grupa 63"/>
              <p:cNvGrpSpPr/>
              <p:nvPr/>
            </p:nvGrpSpPr>
            <p:grpSpPr>
              <a:xfrm>
                <a:off x="5121360" y="5288760"/>
                <a:ext cx="1179360" cy="959040"/>
                <a:chOff x="5121360" y="5288760"/>
                <a:chExt cx="1179360" cy="959040"/>
              </a:xfrm>
            </p:grpSpPr>
            <p:pic>
              <p:nvPicPr>
                <p:cNvPr id="124" name="Strzałka w dół 8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21360" y="5288760"/>
                  <a:ext cx="1179360" cy="95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Strzałka w dół 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262120" y="5593680"/>
                  <a:ext cx="10386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6" name="Strzałka w dół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14760" y="5535000"/>
                <a:ext cx="841320" cy="365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Obraz 88" descr="5333084804_6bfc058944_m.jpg"/>
            <p:cNvPicPr/>
            <p:nvPr/>
          </p:nvPicPr>
          <p:blipFill>
            <a:blip r:embed="rId14"/>
            <a:srcRect l="6890" t="6890" r="13780" b="6890"/>
            <a:stretch/>
          </p:blipFill>
          <p:spPr>
            <a:xfrm>
              <a:off x="6300720" y="4869360"/>
              <a:ext cx="1564920" cy="170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Strzałka wygięta w górę 90" descr=""/>
          <p:cNvPicPr/>
          <p:nvPr/>
        </p:nvPicPr>
        <p:blipFill>
          <a:blip r:embed="rId15"/>
          <a:stretch/>
        </p:blipFill>
        <p:spPr>
          <a:xfrm>
            <a:off x="365040" y="2676600"/>
            <a:ext cx="85428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Strzałka wygięta w górę 92" descr=""/>
          <p:cNvPicPr/>
          <p:nvPr/>
        </p:nvPicPr>
        <p:blipFill>
          <a:blip r:embed="rId16"/>
          <a:stretch/>
        </p:blipFill>
        <p:spPr>
          <a:xfrm>
            <a:off x="1371600" y="4694400"/>
            <a:ext cx="853920" cy="1298520"/>
          </a:xfrm>
          <a:prstGeom prst="rect">
            <a:avLst/>
          </a:prstGeom>
          <a:ln w="0">
            <a:noFill/>
          </a:ln>
        </p:spPr>
      </p:pic>
      <p:pic>
        <p:nvPicPr>
          <p:cNvPr id="130" name="Strzałka w dół 4" descr=""/>
          <p:cNvPicPr/>
          <p:nvPr/>
        </p:nvPicPr>
        <p:blipFill>
          <a:blip r:embed="rId17"/>
          <a:stretch/>
        </p:blipFill>
        <p:spPr>
          <a:xfrm>
            <a:off x="1889280" y="1504800"/>
            <a:ext cx="841320" cy="3668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upa 91"/>
          <p:cNvGrpSpPr/>
          <p:nvPr/>
        </p:nvGrpSpPr>
        <p:grpSpPr>
          <a:xfrm>
            <a:off x="250920" y="836640"/>
            <a:ext cx="5616360" cy="1728720"/>
            <a:chOff x="250920" y="836640"/>
            <a:chExt cx="5616360" cy="1728720"/>
          </a:xfrm>
        </p:grpSpPr>
        <p:grpSp>
          <p:nvGrpSpPr>
            <p:cNvPr id="132" name="Grupa 83"/>
            <p:cNvGrpSpPr/>
            <p:nvPr/>
          </p:nvGrpSpPr>
          <p:grpSpPr>
            <a:xfrm>
              <a:off x="250920" y="836640"/>
              <a:ext cx="5616360" cy="1728720"/>
              <a:chOff x="250920" y="836640"/>
              <a:chExt cx="5616360" cy="1728720"/>
            </a:xfrm>
          </p:grpSpPr>
          <p:grpSp>
            <p:nvGrpSpPr>
              <p:cNvPr id="133" name="Grupa 82"/>
              <p:cNvGrpSpPr/>
              <p:nvPr/>
            </p:nvGrpSpPr>
            <p:grpSpPr>
              <a:xfrm>
                <a:off x="250920" y="836640"/>
                <a:ext cx="5616360" cy="1728720"/>
                <a:chOff x="250920" y="836640"/>
                <a:chExt cx="5616360" cy="1728720"/>
              </a:xfrm>
            </p:grpSpPr>
            <p:grpSp>
              <p:nvGrpSpPr>
                <p:cNvPr id="134" name="Grupa 80"/>
                <p:cNvGrpSpPr/>
                <p:nvPr/>
              </p:nvGrpSpPr>
              <p:grpSpPr>
                <a:xfrm>
                  <a:off x="250920" y="836640"/>
                  <a:ext cx="5616360" cy="1728720"/>
                  <a:chOff x="250920" y="836640"/>
                  <a:chExt cx="5616360" cy="1728720"/>
                </a:xfrm>
              </p:grpSpPr>
              <p:sp>
                <p:nvSpPr>
                  <p:cNvPr id="135" name="Prostokąt zaokrąglony 41"/>
                  <p:cNvSpPr/>
                  <p:nvPr/>
                </p:nvSpPr>
                <p:spPr>
                  <a:xfrm>
                    <a:off x="250920" y="836640"/>
                    <a:ext cx="5616360" cy="1728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  <a:effectLst>
                    <a:outerShdw dist="153753" dir="2700000" blurRad="0" rotWithShape="0">
                      <a:srgbClr val="000000">
                        <a:alpha val="4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36" name="Obraz 32" descr="6000810227_7769c09928_m.jpg"/>
                  <p:cNvPicPr/>
                  <p:nvPr/>
                </p:nvPicPr>
                <p:blipFill>
                  <a:blip r:embed="rId18"/>
                  <a:srcRect l="10370" t="8763" r="13960" b="5409"/>
                  <a:stretch/>
                </p:blipFill>
                <p:spPr>
                  <a:xfrm>
                    <a:off x="500040" y="898200"/>
                    <a:ext cx="1403280" cy="15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trzałka w prawo 6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877400" y="1292400"/>
                  <a:ext cx="993600" cy="88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38" name="Obraz 31" descr="5908375837_c284dcf0b7_m.jpg"/>
              <p:cNvPicPr/>
              <p:nvPr/>
            </p:nvPicPr>
            <p:blipFill>
              <a:blip r:embed="rId20"/>
              <a:srcRect l="23928" t="3496" r="8291" b="5654"/>
              <a:stretch/>
            </p:blipFill>
            <p:spPr>
              <a:xfrm>
                <a:off x="4355280" y="980640"/>
                <a:ext cx="1447200" cy="144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Grupa 73"/>
              <p:cNvGrpSpPr/>
              <p:nvPr/>
            </p:nvGrpSpPr>
            <p:grpSpPr>
              <a:xfrm>
                <a:off x="3203280" y="1340640"/>
                <a:ext cx="955080" cy="792360"/>
                <a:chOff x="3203280" y="1340640"/>
                <a:chExt cx="955080" cy="792360"/>
              </a:xfrm>
            </p:grpSpPr>
            <p:pic>
              <p:nvPicPr>
                <p:cNvPr id="140" name="Strzałka w prawo 6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203280" y="1340640"/>
                  <a:ext cx="94932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Strzałka w dół 4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354480" y="1531800"/>
                  <a:ext cx="803880" cy="32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42" name="Strzałka w dół 4" descr=""/>
            <p:cNvPicPr/>
            <p:nvPr/>
          </p:nvPicPr>
          <p:blipFill>
            <a:blip r:embed="rId23"/>
            <a:stretch/>
          </p:blipFill>
          <p:spPr>
            <a:xfrm>
              <a:off x="1889640" y="1505520"/>
              <a:ext cx="840960" cy="36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ce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ymbol zastępczy zawartości 2"/>
          <p:cNvSpPr/>
          <p:nvPr/>
        </p:nvSpPr>
        <p:spPr>
          <a:xfrm>
            <a:off x="0" y="692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charakteryzują następujące ce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Diagram 10" descr=""/>
          <p:cNvPicPr/>
          <p:nvPr/>
        </p:nvPicPr>
        <p:blipFill>
          <a:blip r:embed="rId2"/>
          <a:stretch/>
        </p:blipFill>
        <p:spPr>
          <a:xfrm>
            <a:off x="-6480" y="1663560"/>
            <a:ext cx="9156960" cy="1262160"/>
          </a:xfrm>
          <a:prstGeom prst="rect">
            <a:avLst/>
          </a:prstGeom>
          <a:ln w="0">
            <a:noFill/>
          </a:ln>
        </p:spPr>
      </p:pic>
      <p:pic>
        <p:nvPicPr>
          <p:cNvPr id="149" name="Diagram 11" descr=""/>
          <p:cNvPicPr/>
          <p:nvPr/>
        </p:nvPicPr>
        <p:blipFill>
          <a:blip r:embed="rId3"/>
          <a:stretch/>
        </p:blipFill>
        <p:spPr>
          <a:xfrm>
            <a:off x="-6480" y="2889360"/>
            <a:ext cx="9156960" cy="1261800"/>
          </a:xfrm>
          <a:prstGeom prst="rect">
            <a:avLst/>
          </a:prstGeom>
          <a:ln w="0">
            <a:noFill/>
          </a:ln>
        </p:spPr>
      </p:pic>
      <p:pic>
        <p:nvPicPr>
          <p:cNvPr id="150" name="Diagram 12" descr=""/>
          <p:cNvPicPr/>
          <p:nvPr/>
        </p:nvPicPr>
        <p:blipFill>
          <a:blip r:embed="rId4"/>
          <a:stretch/>
        </p:blipFill>
        <p:spPr>
          <a:xfrm>
            <a:off x="-6480" y="4181400"/>
            <a:ext cx="9156960" cy="1262160"/>
          </a:xfrm>
          <a:prstGeom prst="rect">
            <a:avLst/>
          </a:prstGeom>
          <a:ln w="0">
            <a:noFill/>
          </a:ln>
        </p:spPr>
      </p:pic>
      <p:pic>
        <p:nvPicPr>
          <p:cNvPr id="151" name="Diagram 13" descr=""/>
          <p:cNvPicPr/>
          <p:nvPr/>
        </p:nvPicPr>
        <p:blipFill>
          <a:blip r:embed="rId5"/>
          <a:stretch/>
        </p:blipFill>
        <p:spPr>
          <a:xfrm>
            <a:off x="-6480" y="5479920"/>
            <a:ext cx="91569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14" descr="finanse89.jpg"/>
          <p:cNvPicPr/>
          <p:nvPr/>
        </p:nvPicPr>
        <p:blipFill>
          <a:blip r:embed="rId1"/>
          <a:stretch/>
        </p:blipFill>
        <p:spPr>
          <a:xfrm>
            <a:off x="4638600" y="438300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8920" y="1341000"/>
            <a:ext cx="813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miernika wart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w pieniądzu jest przedstawiona wartość towarów i usług, dzięki temu łatwo jest porównywać różne ofert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– 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9"/>
          <p:cNvSpPr/>
          <p:nvPr/>
        </p:nvSpPr>
        <p:spPr>
          <a:xfrm>
            <a:off x="-468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pełni następujące funk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ymbol zastępczy zawartości 2"/>
          <p:cNvSpPr/>
          <p:nvPr/>
        </p:nvSpPr>
        <p:spPr>
          <a:xfrm>
            <a:off x="179280" y="19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tezauryzac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środka gromadzenia oszczędności, pieniądz służy do gromadzenia oszczędności, można to czynić w formie tradycyjnej (niepolecanej, np. gromadzenie w skarpecie, albo w formie lokat bankowych lub innyc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ymbol zastępczy zawartości 2"/>
          <p:cNvSpPr/>
          <p:nvPr/>
        </p:nvSpPr>
        <p:spPr>
          <a:xfrm>
            <a:off x="179280" y="350028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wymia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ieniądz jako integralny element transakcji wymie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2"/>
          <p:cNvSpPr/>
          <p:nvPr/>
        </p:nvSpPr>
        <p:spPr>
          <a:xfrm>
            <a:off x="179280" y="414972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pieniądza światowego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niektóre waluty, np.: dolar, euro, służą jako pieniądz światowy, są honorowane niezależnie od granic i kraj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13"/>
          <p:cNvSpPr/>
          <p:nvPr/>
        </p:nvSpPr>
        <p:spPr>
          <a:xfrm>
            <a:off x="179280" y="314172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Times New Roman CE"/>
                <a:ea typeface="Times New Roman CE"/>
              </a:rPr>
              <a:t>środka płatniczego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ieniądz służy do regulowania zobowiąz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755640" y="1557360"/>
          <a:ext cx="7201080" cy="82224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ieniąd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uniwersalne dobro, za pomocą którego w gospodarce dochodzi do wymiany według sche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war – pieniądz – tow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55640" y="2349360"/>
          <a:ext cx="7201080" cy="118908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tezaury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Środ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gromadzenia oszczędnoś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5640" y="3429000"/>
          <a:ext cx="7201080" cy="86364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wymi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ieniądz jako integralny element transakcji wymienny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55640" y="4292640"/>
          <a:ext cx="7201080" cy="118908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Środek płatnic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ieniądz służy do regulowania zobowiąza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55640" y="5373720"/>
          <a:ext cx="7201080" cy="100800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ieniądz światow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które waluty, np. dolar, euro, służą jako pieniądz światowy, są honorowane niezależnie od granic i kraj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Tytuł 1"/>
          <p:cNvSpPr/>
          <p:nvPr/>
        </p:nvSpPr>
        <p:spPr>
          <a:xfrm>
            <a:off x="0" y="0"/>
            <a:ext cx="8388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 w gospodarce - 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125360"/>
          <a:ext cx="7201080" cy="417600"/>
        </p:xfrm>
        <a:graphic>
          <a:graphicData uri="http://schemas.openxmlformats.org/drawingml/2006/table">
            <a:tbl>
              <a:tblPr/>
              <a:tblGrid>
                <a:gridCol w="1655640"/>
                <a:gridCol w="554544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Diagram 10" descr=""/>
          <p:cNvPicPr/>
          <p:nvPr/>
        </p:nvPicPr>
        <p:blipFill>
          <a:blip r:embed="rId2"/>
          <a:stretch/>
        </p:blipFill>
        <p:spPr>
          <a:xfrm>
            <a:off x="-549360" y="1090440"/>
            <a:ext cx="7218360" cy="1262160"/>
          </a:xfrm>
          <a:prstGeom prst="rect">
            <a:avLst/>
          </a:prstGeom>
          <a:ln w="0">
            <a:noFill/>
          </a:ln>
        </p:spPr>
      </p:pic>
      <p:pic>
        <p:nvPicPr>
          <p:cNvPr id="177" name="Diagram 12" descr=""/>
          <p:cNvPicPr/>
          <p:nvPr/>
        </p:nvPicPr>
        <p:blipFill>
          <a:blip r:embed="rId3"/>
          <a:stretch/>
        </p:blipFill>
        <p:spPr>
          <a:xfrm>
            <a:off x="390600" y="3249720"/>
            <a:ext cx="7210440" cy="1261800"/>
          </a:xfrm>
          <a:prstGeom prst="rect">
            <a:avLst/>
          </a:prstGeom>
          <a:ln w="0">
            <a:noFill/>
          </a:ln>
        </p:spPr>
      </p:pic>
      <p:pic>
        <p:nvPicPr>
          <p:cNvPr id="178" name="Diagram 13" descr=""/>
          <p:cNvPicPr/>
          <p:nvPr/>
        </p:nvPicPr>
        <p:blipFill>
          <a:blip r:embed="rId4"/>
          <a:stretch/>
        </p:blipFill>
        <p:spPr>
          <a:xfrm>
            <a:off x="1755720" y="5479920"/>
            <a:ext cx="7216920" cy="1262160"/>
          </a:xfrm>
          <a:prstGeom prst="rect">
            <a:avLst/>
          </a:prstGeom>
          <a:ln w="0">
            <a:noFill/>
          </a:ln>
        </p:spPr>
      </p:pic>
      <p:pic>
        <p:nvPicPr>
          <p:cNvPr id="179" name="Strzałka w dół 14" descr=""/>
          <p:cNvPicPr/>
          <p:nvPr/>
        </p:nvPicPr>
        <p:blipFill>
          <a:blip r:embed="rId5"/>
          <a:stretch/>
        </p:blipFill>
        <p:spPr>
          <a:xfrm>
            <a:off x="4224240" y="2176560"/>
            <a:ext cx="1695600" cy="1206360"/>
          </a:xfrm>
          <a:prstGeom prst="rect">
            <a:avLst/>
          </a:prstGeom>
          <a:ln w="0">
            <a:noFill/>
          </a:ln>
        </p:spPr>
      </p:pic>
      <p:sp>
        <p:nvSpPr>
          <p:cNvPr id="180" name="Tytuł 1"/>
          <p:cNvSpPr/>
          <p:nvPr/>
        </p:nvSpPr>
        <p:spPr>
          <a:xfrm>
            <a:off x="0" y="189000"/>
            <a:ext cx="8388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Strzałka w dół 17" descr=""/>
          <p:cNvPicPr/>
          <p:nvPr/>
        </p:nvPicPr>
        <p:blipFill>
          <a:blip r:embed="rId6"/>
          <a:stretch/>
        </p:blipFill>
        <p:spPr>
          <a:xfrm>
            <a:off x="5089680" y="4334040"/>
            <a:ext cx="16952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a 19"/>
          <p:cNvGrpSpPr/>
          <p:nvPr/>
        </p:nvGrpSpPr>
        <p:grpSpPr>
          <a:xfrm>
            <a:off x="971640" y="1773360"/>
            <a:ext cx="7532640" cy="4848120"/>
            <a:chOff x="971640" y="1773360"/>
            <a:chExt cx="7532640" cy="4848120"/>
          </a:xfrm>
        </p:grpSpPr>
        <p:pic>
          <p:nvPicPr>
            <p:cNvPr id="183" name="Obraz 12" descr="5676860237_695b282da0_m.jpg"/>
            <p:cNvPicPr/>
            <p:nvPr/>
          </p:nvPicPr>
          <p:blipFill>
            <a:blip r:embed="rId1"/>
            <a:stretch/>
          </p:blipFill>
          <p:spPr>
            <a:xfrm>
              <a:off x="4356360" y="2349360"/>
              <a:ext cx="4147920" cy="427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Grupa 14"/>
            <p:cNvGrpSpPr/>
            <p:nvPr/>
          </p:nvGrpSpPr>
          <p:grpSpPr>
            <a:xfrm>
              <a:off x="971640" y="1773360"/>
              <a:ext cx="4537080" cy="1768320"/>
              <a:chOff x="971640" y="1773360"/>
              <a:chExt cx="4537080" cy="1768320"/>
            </a:xfrm>
          </p:grpSpPr>
          <p:grpSp>
            <p:nvGrpSpPr>
              <p:cNvPr id="185" name="Grupa 12"/>
              <p:cNvGrpSpPr/>
              <p:nvPr/>
            </p:nvGrpSpPr>
            <p:grpSpPr>
              <a:xfrm>
                <a:off x="971640" y="1773360"/>
                <a:ext cx="4537080" cy="1768320"/>
                <a:chOff x="971640" y="1773360"/>
                <a:chExt cx="4537080" cy="1768320"/>
              </a:xfrm>
            </p:grpSpPr>
            <p:sp>
              <p:nvSpPr>
                <p:cNvPr id="186" name="Prostokąt zaokrąglony 17"/>
                <p:cNvSpPr/>
                <p:nvPr/>
              </p:nvSpPr>
              <p:spPr>
                <a:xfrm>
                  <a:off x="971640" y="1773360"/>
                  <a:ext cx="4387680" cy="112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376092"/>
                  </a:solidFill>
                  <a:miter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pole tekstowe 18"/>
                <p:cNvGrpSpPr/>
                <p:nvPr/>
              </p:nvGrpSpPr>
              <p:grpSpPr>
                <a:xfrm>
                  <a:off x="1199160" y="2841840"/>
                  <a:ext cx="4309560" cy="699840"/>
                  <a:chOff x="1199160" y="2841840"/>
                  <a:chExt cx="4309560" cy="699840"/>
                </a:xfrm>
              </p:grpSpPr>
              <p:pic>
                <p:nvPicPr>
                  <p:cNvPr id="188" name="pole tekstowe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9160" y="2841840"/>
                    <a:ext cx="43095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" name=""/>
                  <p:cNvSpPr/>
                  <p:nvPr/>
                </p:nvSpPr>
                <p:spPr>
                  <a:xfrm>
                    <a:off x="1249920" y="2903760"/>
                    <a:ext cx="3900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l-PL" sz="2000" spc="-1" strike="noStrike">
                        <a:solidFill>
                          <a:srgbClr val="ffffff"/>
                        </a:solidFill>
                        <a:latin typeface="Times New Roman CE"/>
                        <a:ea typeface="Times New Roman"/>
                      </a:rPr>
                      <a:t>Prawo Kopernika-Gresham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" name="Prostokąt 16"/>
              <p:cNvSpPr/>
              <p:nvPr/>
            </p:nvSpPr>
            <p:spPr>
              <a:xfrm>
                <a:off x="1115640" y="1989360"/>
                <a:ext cx="4177080" cy="105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ieniądz gorszy funkcjonujący w obiegu wypiera z niego pieniądz lepsz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niądz</a:t>
            </a:r>
            <a:endParaRPr b="0" lang="en-US" sz="3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611280" y="2060640"/>
          <a:ext cx="7489800" cy="112536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inwest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przedsiębiorstwa zajmujące się gromadzeniem środków pieniężnych i inwestowaniem i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11280" y="3141720"/>
          <a:ext cx="7489800" cy="118908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Fundusze emeryta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(OFE) zajmują się inwestowaniem środków obywateli przekazanych im przez ZUS w ramach II filaru ubezpieczeń społecznyc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11280" y="1628640"/>
          <a:ext cx="7489800" cy="43200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11280" y="4292640"/>
          <a:ext cx="7489800" cy="1197000"/>
        </p:xfrm>
        <a:graphic>
          <a:graphicData uri="http://schemas.openxmlformats.org/drawingml/2006/table">
            <a:tbl>
              <a:tblPr/>
              <a:tblGrid>
                <a:gridCol w="2089080"/>
                <a:gridCol w="5400720"/>
              </a:tblGrid>
              <a:tr h="11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376092"/>
                          </a:solidFill>
                          <a:latin typeface="Times New Roman CE"/>
                          <a:ea typeface="Times New Roman"/>
                        </a:rPr>
                        <a:t>Przedsiębiorstwa ubezpieczeni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Ich zadaniem jest łagodzenie negatywnych skutków ryzy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2" name="Tytuł 1"/>
          <p:cNvSpPr/>
          <p:nvPr/>
        </p:nvSpPr>
        <p:spPr>
          <a:xfrm>
            <a:off x="0" y="189000"/>
            <a:ext cx="8388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ytuł 1"/>
          <p:cNvSpPr/>
          <p:nvPr/>
        </p:nvSpPr>
        <p:spPr>
          <a:xfrm>
            <a:off x="0" y="0"/>
            <a:ext cx="83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du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32"/>
          <p:cNvGrpSpPr/>
          <p:nvPr/>
        </p:nvGrpSpPr>
        <p:grpSpPr>
          <a:xfrm>
            <a:off x="0" y="765000"/>
            <a:ext cx="3816360" cy="2664000"/>
            <a:chOff x="0" y="765000"/>
            <a:chExt cx="3816360" cy="2664000"/>
          </a:xfrm>
        </p:grpSpPr>
        <p:pic>
          <p:nvPicPr>
            <p:cNvPr id="208" name="Diagram 1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381636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upa 16"/>
            <p:cNvGrpSpPr/>
            <p:nvPr/>
          </p:nvGrpSpPr>
          <p:grpSpPr>
            <a:xfrm>
              <a:off x="371880" y="1587240"/>
              <a:ext cx="3365640" cy="1841760"/>
              <a:chOff x="371880" y="1587240"/>
              <a:chExt cx="3365640" cy="1841760"/>
            </a:xfrm>
          </p:grpSpPr>
          <p:sp>
            <p:nvSpPr>
              <p:cNvPr id="210" name="Prostokąt zaokrąglony 19"/>
              <p:cNvSpPr/>
              <p:nvPr/>
            </p:nvSpPr>
            <p:spPr>
              <a:xfrm>
                <a:off x="516960" y="1587240"/>
                <a:ext cx="3147840" cy="1841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18"/>
              <p:cNvSpPr/>
              <p:nvPr/>
            </p:nvSpPr>
            <p:spPr>
              <a:xfrm>
                <a:off x="371880" y="1587600"/>
                <a:ext cx="3365640" cy="177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banknoty i monety emitowane przez banki centralne i będące w posiadaniu gospodarstw domow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 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i przedsiębiorstw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upa 31"/>
          <p:cNvGrpSpPr/>
          <p:nvPr/>
        </p:nvGrpSpPr>
        <p:grpSpPr>
          <a:xfrm>
            <a:off x="4427640" y="765000"/>
            <a:ext cx="3889440" cy="2733840"/>
            <a:chOff x="4427640" y="765000"/>
            <a:chExt cx="3889440" cy="2733840"/>
          </a:xfrm>
        </p:grpSpPr>
        <p:pic>
          <p:nvPicPr>
            <p:cNvPr id="213" name="Diagram 22" descr=""/>
            <p:cNvPicPr/>
            <p:nvPr/>
          </p:nvPicPr>
          <p:blipFill>
            <a:blip r:embed="rId3"/>
            <a:stretch/>
          </p:blipFill>
          <p:spPr>
            <a:xfrm>
              <a:off x="4427640" y="765000"/>
              <a:ext cx="388944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upa 23"/>
            <p:cNvGrpSpPr/>
            <p:nvPr/>
          </p:nvGrpSpPr>
          <p:grpSpPr>
            <a:xfrm>
              <a:off x="4866120" y="1587600"/>
              <a:ext cx="3430440" cy="1911240"/>
              <a:chOff x="4866120" y="1587600"/>
              <a:chExt cx="3430440" cy="1911240"/>
            </a:xfrm>
          </p:grpSpPr>
          <p:sp>
            <p:nvSpPr>
              <p:cNvPr id="215" name="Prostokąt zaokrąglony 24"/>
              <p:cNvSpPr/>
              <p:nvPr/>
            </p:nvSpPr>
            <p:spPr>
              <a:xfrm>
                <a:off x="4957560" y="1587600"/>
                <a:ext cx="3206520" cy="1842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25"/>
              <p:cNvSpPr/>
              <p:nvPr/>
            </p:nvSpPr>
            <p:spPr>
              <a:xfrm>
                <a:off x="4866120" y="1722960"/>
                <a:ext cx="3430440" cy="17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ieniądz istniejący w formie zapisu na rachunkach rozliczeniowych klientów banków depozytowo-kredytowych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upa 33"/>
          <p:cNvGrpSpPr/>
          <p:nvPr/>
        </p:nvGrpSpPr>
        <p:grpSpPr>
          <a:xfrm>
            <a:off x="1763640" y="3789360"/>
            <a:ext cx="5184720" cy="2519280"/>
            <a:chOff x="1763640" y="3789360"/>
            <a:chExt cx="5184720" cy="2519280"/>
          </a:xfrm>
        </p:grpSpPr>
        <p:pic>
          <p:nvPicPr>
            <p:cNvPr id="218" name="Diagram 26" descr=""/>
            <p:cNvPicPr/>
            <p:nvPr/>
          </p:nvPicPr>
          <p:blipFill>
            <a:blip r:embed="rId4"/>
            <a:stretch/>
          </p:blipFill>
          <p:spPr>
            <a:xfrm>
              <a:off x="1763640" y="3789360"/>
              <a:ext cx="5184720" cy="82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upa 27"/>
            <p:cNvGrpSpPr/>
            <p:nvPr/>
          </p:nvGrpSpPr>
          <p:grpSpPr>
            <a:xfrm>
              <a:off x="2202480" y="4397400"/>
              <a:ext cx="4413600" cy="1911240"/>
              <a:chOff x="2202480" y="4397400"/>
              <a:chExt cx="4413600" cy="1911240"/>
            </a:xfrm>
          </p:grpSpPr>
          <p:sp>
            <p:nvSpPr>
              <p:cNvPr id="220" name="Prostokąt zaokrąglony 28"/>
              <p:cNvSpPr/>
              <p:nvPr/>
            </p:nvSpPr>
            <p:spPr>
              <a:xfrm>
                <a:off x="2339640" y="4575960"/>
                <a:ext cx="4276440" cy="173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76092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rostokąt 29"/>
              <p:cNvSpPr/>
              <p:nvPr/>
            </p:nvSpPr>
            <p:spPr>
              <a:xfrm>
                <a:off x="2202480" y="4397400"/>
                <a:ext cx="4309200" cy="17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elektroniczny odpowiednik znaków pieniężnych przechowywany na elektronicznych nośnikach informacji i przyjmowany jako środek płatnicz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6:50:18Z</dcterms:created>
  <dc:creator>tfigurska</dc:creator>
  <dc:description/>
  <dc:language>en-US</dc:language>
  <cp:lastModifiedBy>Marta</cp:lastModifiedBy>
  <dcterms:modified xsi:type="dcterms:W3CDTF">2013-01-31T16:05:43Z</dcterms:modified>
  <cp:revision>112</cp:revision>
  <dc:subject/>
  <dc:title>Slajd 1</dc:title>
</cp:coreProperties>
</file>