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28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.png" ContentType="image/png"/>
  <Override PartName="/ppt/media/image27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DA1A-3D03-489D-A24E-B1799769B30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856B-F7D0-45B6-BFCC-7449D9CA61F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3AD6-B124-412B-8D5A-9CFE8EA0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28A-28B8-4D8F-BAE4-CA383F9F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CB1F-FB33-4B18-847F-8695364F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B8D-949E-48A5-8366-EFCBCFCD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6411-EF45-44FB-B170-FAE69CB3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0AE3-6F74-4C53-AD2C-06D5AAD6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B8A4-A982-48D9-ACD2-E80A7185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6147-383C-469E-B9A3-459FAD82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1CDF-69A7-4D95-9C16-49E98232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51E3-6DDF-403C-B931-E4BEB094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ADC3-9DC4-4CC2-877E-EEBC2723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ECA6-49DF-400D-91DE-75C7721F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1887-8CA6-44CD-9973-B88193BC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EFCD-C2D0-44F3-BDD2-F18BC8BD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53E0-E192-4D06-BEE1-5E15D733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6565-C27D-4DFE-B573-38477DD7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86CF-5EA3-4F2F-9BE4-6F1476C2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2F81-6AF8-4BB1-A013-F1422E77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ABA1-C0C2-4162-9763-EB619490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3291-3A2E-4C3C-860E-AB40C36A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0824-8DFE-4D1E-8C6E-88EC0B77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0DCC-EF6E-4A1A-A6D5-DBB3DFD1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63BB-50D4-49FF-9734-13A5F717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EDA9-34CE-4A37-AE15-87A5E813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D354-A734-4D74-B7AF-3FAE6A790777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a 6"/>
          <p:cNvGrpSpPr/>
          <p:nvPr/>
        </p:nvGrpSpPr>
        <p:grpSpPr>
          <a:xfrm>
            <a:off x="8532720" y="476280"/>
            <a:ext cx="611280" cy="6408720"/>
            <a:chOff x="8532720" y="476280"/>
            <a:chExt cx="611280" cy="6408720"/>
          </a:xfrm>
        </p:grpSpPr>
        <p:sp>
          <p:nvSpPr>
            <p:cNvPr id="42" name="pole tekstowe 7"/>
            <p:cNvSpPr/>
            <p:nvPr/>
          </p:nvSpPr>
          <p:spPr>
            <a:xfrm rot="5400000">
              <a:off x="6014880" y="3756240"/>
              <a:ext cx="585828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IEDZA O GOSPODAR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3" descr="C:\Users\Marta\Desktop\sowa\sowa_3.png"/>
            <p:cNvPicPr/>
            <p:nvPr/>
          </p:nvPicPr>
          <p:blipFill>
            <a:blip r:embed="rId2"/>
            <a:stretch/>
          </p:blipFill>
          <p:spPr>
            <a:xfrm>
              <a:off x="8532720" y="476280"/>
              <a:ext cx="61128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E36E-2AFD-4CBB-85A5-9AB820230BF4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5549-6513-4FC4-92FE-1A7552DA25BD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rostokąt 12"/>
          <p:cNvSpPr/>
          <p:nvPr/>
        </p:nvSpPr>
        <p:spPr>
          <a:xfrm>
            <a:off x="4572000" y="2565360"/>
            <a:ext cx="3887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ole tekstowe 11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96" name="Prostokąt zaokrąglony 13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rostokąt 14" descr=""/>
            <p:cNvPicPr/>
            <p:nvPr/>
          </p:nvPicPr>
          <p:blipFill>
            <a:blip r:embed="rId1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Diagram 22" descr=""/>
          <p:cNvPicPr/>
          <p:nvPr/>
        </p:nvPicPr>
        <p:blipFill>
          <a:blip r:embed="rId2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  <p:pic>
        <p:nvPicPr>
          <p:cNvPr id="99" name="Obraz 8" descr="naglowek_obowiazujacy_usw kolor"/>
          <p:cNvPicPr/>
          <p:nvPr/>
        </p:nvPicPr>
        <p:blipFill>
          <a:blip r:embed="rId3"/>
          <a:stretch/>
        </p:blipFill>
        <p:spPr>
          <a:xfrm>
            <a:off x="1071720" y="5769000"/>
            <a:ext cx="7135560" cy="111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6" name=""/>
          <p:cNvGraphicFramePr/>
          <p:nvPr/>
        </p:nvGraphicFramePr>
        <p:xfrm>
          <a:off x="395280" y="549360"/>
          <a:ext cx="7561440" cy="1008000"/>
        </p:xfrm>
        <a:graphic>
          <a:graphicData uri="http://schemas.openxmlformats.org/drawingml/2006/table">
            <a:tbl>
              <a:tblPr/>
              <a:tblGrid>
                <a:gridCol w="1739880"/>
                <a:gridCol w="5821560"/>
              </a:tblGrid>
              <a:tr h="100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Wydatki na pł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ą to wydatki podmiotów należących do sektora finansów publicznych związane z zatrudnieniem przez nich pracowników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395280" y="1557360"/>
          <a:ext cx="7561440" cy="720720"/>
        </p:xfrm>
        <a:graphic>
          <a:graphicData uri="http://schemas.openxmlformats.org/drawingml/2006/table">
            <a:tbl>
              <a:tblPr/>
              <a:tblGrid>
                <a:gridCol w="1739880"/>
                <a:gridCol w="5821560"/>
              </a:tblGrid>
              <a:tr h="720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Wydatki na towary i usłu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ą to wszelkie zakupy towarów i usług potrzebnych do realizacji zadań państw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95280" y="2276640"/>
          <a:ext cx="7561440" cy="720720"/>
        </p:xfrm>
        <a:graphic>
          <a:graphicData uri="http://schemas.openxmlformats.org/drawingml/2006/table">
            <a:tbl>
              <a:tblPr/>
              <a:tblGrid>
                <a:gridCol w="1739880"/>
                <a:gridCol w="5821560"/>
              </a:tblGrid>
              <a:tr h="720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Obsługa zadłuż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ą to płatności odsetek od długu publicznego oraz spłata zadłużen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95280" y="2997360"/>
          <a:ext cx="7561440" cy="1133280"/>
        </p:xfrm>
        <a:graphic>
          <a:graphicData uri="http://schemas.openxmlformats.org/drawingml/2006/table">
            <a:tbl>
              <a:tblPr/>
              <a:tblGrid>
                <a:gridCol w="1739880"/>
                <a:gridCol w="5821560"/>
              </a:tblGrid>
              <a:tr h="1133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Transfery do gospodarstw domowy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ą to wszelkie płatności przekazywane osobom fizycznym w ramach systemu zabezpieczenia społecznego (renty, emerytury, inne świadczenia społeczn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95280" y="4149720"/>
          <a:ext cx="7561440" cy="1008000"/>
        </p:xfrm>
        <a:graphic>
          <a:graphicData uri="http://schemas.openxmlformats.org/drawingml/2006/table">
            <a:tbl>
              <a:tblPr/>
              <a:tblGrid>
                <a:gridCol w="1739880"/>
                <a:gridCol w="5821560"/>
              </a:tblGrid>
              <a:tr h="100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Dotac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i subwenc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ą to wszelkie płatności do innych podmiotów (głównie przedsiębiorstw) związane z prowadzoną polityką gospodarcz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95280" y="189000"/>
          <a:ext cx="7561440" cy="417600"/>
        </p:xfrm>
        <a:graphic>
          <a:graphicData uri="http://schemas.openxmlformats.org/drawingml/2006/table">
            <a:tbl>
              <a:tblPr/>
              <a:tblGrid>
                <a:gridCol w="1738440"/>
                <a:gridCol w="5823000"/>
              </a:tblGrid>
              <a:tr h="417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ję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Defini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95280" y="5157720"/>
          <a:ext cx="7561440" cy="900360"/>
        </p:xfrm>
        <a:graphic>
          <a:graphicData uri="http://schemas.openxmlformats.org/drawingml/2006/table">
            <a:tbl>
              <a:tblPr/>
              <a:tblGrid>
                <a:gridCol w="1739880"/>
                <a:gridCol w="5821560"/>
              </a:tblGrid>
              <a:tr h="900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Wydatki majątko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ą to głównie inwestycje dokonywane przez państw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rostokąt 6"/>
          <p:cNvSpPr/>
          <p:nvPr/>
        </p:nvSpPr>
        <p:spPr>
          <a:xfrm>
            <a:off x="0" y="18900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udżet państw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Diagram 4" descr=""/>
          <p:cNvPicPr/>
          <p:nvPr/>
        </p:nvPicPr>
        <p:blipFill>
          <a:blip r:embed="rId1"/>
          <a:stretch/>
        </p:blipFill>
        <p:spPr>
          <a:xfrm>
            <a:off x="-189000" y="1590840"/>
            <a:ext cx="9156960" cy="1981080"/>
          </a:xfrm>
          <a:prstGeom prst="rect">
            <a:avLst/>
          </a:prstGeom>
          <a:ln w="0">
            <a:noFill/>
          </a:ln>
        </p:spPr>
      </p:pic>
      <p:pic>
        <p:nvPicPr>
          <p:cNvPr id="185" name="Diagram 5" descr=""/>
          <p:cNvPicPr/>
          <p:nvPr/>
        </p:nvPicPr>
        <p:blipFill>
          <a:blip r:embed="rId2"/>
          <a:stretch/>
        </p:blipFill>
        <p:spPr>
          <a:xfrm>
            <a:off x="-189000" y="4041720"/>
            <a:ext cx="91569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7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rostokąt 10"/>
          <p:cNvSpPr/>
          <p:nvPr/>
        </p:nvSpPr>
        <p:spPr>
          <a:xfrm>
            <a:off x="550440" y="981000"/>
            <a:ext cx="28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udżet państwa składa się z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rostokąt 5"/>
          <p:cNvSpPr/>
          <p:nvPr/>
        </p:nvSpPr>
        <p:spPr>
          <a:xfrm>
            <a:off x="0" y="333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udżet państw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upa 10"/>
          <p:cNvGrpSpPr/>
          <p:nvPr/>
        </p:nvGrpSpPr>
        <p:grpSpPr>
          <a:xfrm>
            <a:off x="179280" y="1197000"/>
            <a:ext cx="3399120" cy="4127400"/>
            <a:chOff x="179280" y="1197000"/>
            <a:chExt cx="3399120" cy="4127400"/>
          </a:xfrm>
        </p:grpSpPr>
        <p:pic>
          <p:nvPicPr>
            <p:cNvPr id="192" name="Obraz 8" descr="5656308384_77514f9657_m.jpg"/>
            <p:cNvPicPr/>
            <p:nvPr/>
          </p:nvPicPr>
          <p:blipFill>
            <a:blip r:embed="rId1"/>
            <a:srcRect l="8291" t="0" r="0" b="0"/>
            <a:stretch/>
          </p:blipFill>
          <p:spPr>
            <a:xfrm>
              <a:off x="179280" y="2277000"/>
              <a:ext cx="2795760" cy="30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Prostokąt 4"/>
            <p:cNvSpPr/>
            <p:nvPr/>
          </p:nvSpPr>
          <p:spPr>
            <a:xfrm>
              <a:off x="406080" y="1197000"/>
              <a:ext cx="317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udżet państwa składa się z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rostokąt zaokrąglony 6"/>
          <p:cNvSpPr/>
          <p:nvPr/>
        </p:nvSpPr>
        <p:spPr>
          <a:xfrm>
            <a:off x="2916360" y="1700280"/>
            <a:ext cx="5327640" cy="41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datków budżetu państwa, czyli planowanych wydatków na płace pracowników administracji państwowej, zakup towarów i usług, obsługę zadłużenia Skarbu Państwa (długu publicznego powstałego w wyniku emisji skarbowych papierów wartościowych i zaciągnięcia przez instytucje rządowe kredytów i zobowiązań), subwencje i dotacje do innych jednost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szczebli sektora publicznego oraz do przedsiębiorstw, transfery do gospodarstw domowych, wydatki majątkowe (głównie inwestycje publicz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Obraz 11" descr="4431770374_5752e04e83_m.jpg"/>
          <p:cNvPicPr/>
          <p:nvPr/>
        </p:nvPicPr>
        <p:blipFill>
          <a:blip r:embed="rId1"/>
          <a:stretch/>
        </p:blipFill>
        <p:spPr>
          <a:xfrm>
            <a:off x="5435640" y="35002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2050920" y="1773000"/>
            <a:ext cx="626616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widywanego wyniku budżetu państwa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w przypadku wyższych wydatków niż dochodów – deficytu budżetowego,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odwrotnej sytuacji – nadwyżki budżetowej)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0" name="Prostokąt 5"/>
          <p:cNvSpPr/>
          <p:nvPr/>
        </p:nvSpPr>
        <p:spPr>
          <a:xfrm>
            <a:off x="179280" y="26028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udżet państw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raz 6" descr="3629525392_038867dfa8_m.jpg"/>
          <p:cNvPicPr/>
          <p:nvPr/>
        </p:nvPicPr>
        <p:blipFill>
          <a:blip r:embed="rId2"/>
          <a:stretch/>
        </p:blipFill>
        <p:spPr>
          <a:xfrm>
            <a:off x="324000" y="1413000"/>
            <a:ext cx="1655640" cy="1947600"/>
          </a:xfrm>
          <a:prstGeom prst="rect">
            <a:avLst/>
          </a:prstGeom>
          <a:ln w="0">
            <a:noFill/>
          </a:ln>
        </p:spPr>
      </p:pic>
      <p:sp>
        <p:nvSpPr>
          <p:cNvPr id="202" name="Prostokąt 8"/>
          <p:cNvSpPr/>
          <p:nvPr/>
        </p:nvSpPr>
        <p:spPr>
          <a:xfrm>
            <a:off x="406080" y="907920"/>
            <a:ext cx="31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udżet państwa składa się z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ymbol zastępczy zawartości 2"/>
          <p:cNvSpPr/>
          <p:nvPr/>
        </p:nvSpPr>
        <p:spPr>
          <a:xfrm>
            <a:off x="0" y="3860640"/>
            <a:ext cx="5616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posobu sfinansowania deficytu budżetu (upoważnienie rządu do emisji skarbowych papierów wartościowych, zaciągania kredytów, realizacji przewidywanych dochodów z tytułu prywatyzacji) państwa lub rozdysponowania nadwyżki budżetow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5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rostokąt 5"/>
          <p:cNvSpPr/>
          <p:nvPr/>
        </p:nvSpPr>
        <p:spPr>
          <a:xfrm>
            <a:off x="0" y="40464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tawowe funkcje budżetu pańs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rostokąt zaokrąglony 7"/>
          <p:cNvSpPr/>
          <p:nvPr/>
        </p:nvSpPr>
        <p:spPr>
          <a:xfrm>
            <a:off x="4140360" y="2565360"/>
            <a:ext cx="3887640" cy="4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dystrybucyjna (rozdzielc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rostokąt zaokrąglony 8"/>
          <p:cNvSpPr/>
          <p:nvPr/>
        </p:nvSpPr>
        <p:spPr>
          <a:xfrm>
            <a:off x="4140360" y="3141720"/>
            <a:ext cx="388764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lokacyj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rostokąt zaokrąglony 9"/>
          <p:cNvSpPr/>
          <p:nvPr/>
        </p:nvSpPr>
        <p:spPr>
          <a:xfrm>
            <a:off x="4140360" y="3716280"/>
            <a:ext cx="388764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ymulacyj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rostokąt zaokrąglony 10"/>
          <p:cNvSpPr/>
          <p:nvPr/>
        </p:nvSpPr>
        <p:spPr>
          <a:xfrm>
            <a:off x="4140360" y="4292640"/>
            <a:ext cx="388764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bilizacyj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rostokąt zaokrąglony 11"/>
          <p:cNvSpPr/>
          <p:nvPr/>
        </p:nvSpPr>
        <p:spPr>
          <a:xfrm>
            <a:off x="4140360" y="4869000"/>
            <a:ext cx="3887640" cy="46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iska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rostokąt zaokrąglony 12"/>
          <p:cNvSpPr/>
          <p:nvPr/>
        </p:nvSpPr>
        <p:spPr>
          <a:xfrm>
            <a:off x="4140360" y="5445000"/>
            <a:ext cx="388764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tro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Obraz 16" descr="5519763965_83769030fc_m.jpg"/>
          <p:cNvPicPr/>
          <p:nvPr/>
        </p:nvPicPr>
        <p:blipFill>
          <a:blip r:embed="rId1"/>
          <a:stretch/>
        </p:blipFill>
        <p:spPr>
          <a:xfrm>
            <a:off x="611280" y="836640"/>
            <a:ext cx="3097080" cy="55054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rostokąt 5"/>
          <p:cNvSpPr/>
          <p:nvPr/>
        </p:nvSpPr>
        <p:spPr>
          <a:xfrm>
            <a:off x="0" y="47628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tawowe etapy konstrukcji budżetu państ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Diagram 6" descr=""/>
          <p:cNvPicPr/>
          <p:nvPr/>
        </p:nvPicPr>
        <p:blipFill>
          <a:blip r:embed="rId1"/>
          <a:stretch/>
        </p:blipFill>
        <p:spPr>
          <a:xfrm>
            <a:off x="365040" y="1743120"/>
            <a:ext cx="7688520" cy="4121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lasyfikacja dochodów budżetowy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224" name="Symbol zastępczy zawartości 3" descr=""/>
          <p:cNvPicPr/>
          <p:nvPr/>
        </p:nvPicPr>
        <p:blipFill>
          <a:blip r:embed="rId1"/>
          <a:stretch/>
        </p:blipFill>
        <p:spPr>
          <a:xfrm>
            <a:off x="244440" y="1122480"/>
            <a:ext cx="8240760" cy="5497560"/>
          </a:xfrm>
          <a:prstGeom prst="rect">
            <a:avLst/>
          </a:prstGeom>
          <a:ln w="0">
            <a:noFill/>
          </a:ln>
        </p:spPr>
      </p:pic>
      <p:grpSp>
        <p:nvGrpSpPr>
          <p:cNvPr id="225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1" name=""/>
          <p:cNvGraphicFramePr/>
          <p:nvPr/>
        </p:nvGraphicFramePr>
        <p:xfrm>
          <a:off x="179280" y="549360"/>
          <a:ext cx="8078760" cy="1382760"/>
        </p:xfrm>
        <a:graphic>
          <a:graphicData uri="http://schemas.openxmlformats.org/drawingml/2006/table">
            <a:tbl>
              <a:tblPr/>
              <a:tblGrid>
                <a:gridCol w="1940040"/>
                <a:gridCol w="1835280"/>
                <a:gridCol w="430344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Kryte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Podział dochod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Przykład Dochod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Źródł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Podatk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Podatki państwowe, podatki samorządow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Nieopodatkow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Dochody z majątku, np. najmu, dzierżawy, sprzedaży. Dochody z tytułu prowadzonej działalności gospodarczej, wpływy z zysku NB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79280" y="1916280"/>
          <a:ext cx="8064720" cy="812520"/>
        </p:xfrm>
        <a:graphic>
          <a:graphicData uri="http://schemas.openxmlformats.org/drawingml/2006/table">
            <a:tbl>
              <a:tblPr/>
              <a:tblGrid>
                <a:gridCol w="1940040"/>
                <a:gridCol w="1835280"/>
                <a:gridCol w="4289400"/>
              </a:tblGrid>
              <a:tr h="4060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yterium praw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zymus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tki i opłaty, kary pienięż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0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browol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adki, darowizny na rzecz podmiotów publicznych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179280" y="2708280"/>
          <a:ext cx="8064720" cy="1011240"/>
        </p:xfrm>
        <a:graphic>
          <a:graphicData uri="http://schemas.openxmlformats.org/drawingml/2006/table">
            <a:tbl>
              <a:tblPr/>
              <a:tblGrid>
                <a:gridCol w="1940040"/>
                <a:gridCol w="1835280"/>
                <a:gridCol w="4289400"/>
              </a:tblGrid>
              <a:tr h="3715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Źródł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tk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tki państwowe, podatki samorządow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eopodatkow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hody z majątku, np. najmu, dzierżawy, sprzedaży. Dochody z tytułu prowadzonej działalności gospodarczej, wpływy z zysku NB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179280" y="3716280"/>
          <a:ext cx="8064720" cy="743040"/>
        </p:xfrm>
        <a:graphic>
          <a:graphicData uri="http://schemas.openxmlformats.org/drawingml/2006/table">
            <a:tbl>
              <a:tblPr/>
              <a:tblGrid>
                <a:gridCol w="1940040"/>
                <a:gridCol w="1835280"/>
                <a:gridCol w="4289400"/>
              </a:tblGrid>
              <a:tr h="3715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ejsce powst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aj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tki, cł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granicz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rowizn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179280" y="4437000"/>
          <a:ext cx="8064720" cy="743040"/>
        </p:xfrm>
        <a:graphic>
          <a:graphicData uri="http://schemas.openxmlformats.org/drawingml/2006/table">
            <a:tbl>
              <a:tblPr/>
              <a:tblGrid>
                <a:gridCol w="1940040"/>
                <a:gridCol w="1835280"/>
                <a:gridCol w="4289400"/>
              </a:tblGrid>
              <a:tr h="316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czebel gromadzenia podatk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ństw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tek od towarów i usług, dochody z majątku państw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orząd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hody z majątku samorządowego, podatki lokal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79280" y="5157720"/>
          <a:ext cx="8078760" cy="731880"/>
        </p:xfrm>
        <a:graphic>
          <a:graphicData uri="http://schemas.openxmlformats.org/drawingml/2006/table">
            <a:tbl>
              <a:tblPr/>
              <a:tblGrid>
                <a:gridCol w="1940040"/>
                <a:gridCol w="1835280"/>
                <a:gridCol w="4303440"/>
              </a:tblGrid>
              <a:tr h="3603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marL="684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łatnoś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łat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łaty publicz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eodpłat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tki, cła, obowiązkowe wpłaty do budżetu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rostokąt 5"/>
          <p:cNvSpPr/>
          <p:nvPr/>
        </p:nvSpPr>
        <p:spPr>
          <a:xfrm>
            <a:off x="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dania polityki gospodarcz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Diagram 14" descr=""/>
          <p:cNvPicPr/>
          <p:nvPr/>
        </p:nvPicPr>
        <p:blipFill>
          <a:blip r:embed="rId1"/>
          <a:stretch/>
        </p:blipFill>
        <p:spPr>
          <a:xfrm>
            <a:off x="579600" y="1695600"/>
            <a:ext cx="7473960" cy="4076640"/>
          </a:xfrm>
          <a:prstGeom prst="rect">
            <a:avLst/>
          </a:prstGeom>
          <a:ln w="0">
            <a:noFill/>
          </a:ln>
        </p:spPr>
      </p:pic>
      <p:grpSp>
        <p:nvGrpSpPr>
          <p:cNvPr id="23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0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395280" y="1125360"/>
          <a:ext cx="7561440" cy="1646280"/>
        </p:xfrm>
        <a:graphic>
          <a:graphicData uri="http://schemas.openxmlformats.org/drawingml/2006/table">
            <a:tbl>
              <a:tblPr/>
              <a:tblGrid>
                <a:gridCol w="1739880"/>
                <a:gridCol w="5821560"/>
              </a:tblGrid>
              <a:tr h="1646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Społeczna gospodarka rynk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„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łeczna gospodarka rynkowa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arta na wolności działalności gospodarczej (konkurencji), własności prywatnej (prywatna przedsiębiorczość) oraz solidarności, dialogu i współpracy partnerów społecznych stanowi podstawę ustroju gospodarczego Rzeczypospolitej Polskiej”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rt. 20 Konstytucji RP z 1997 roku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95280" y="2781360"/>
          <a:ext cx="7561440" cy="1950840"/>
        </p:xfrm>
        <a:graphic>
          <a:graphicData uri="http://schemas.openxmlformats.org/drawingml/2006/table">
            <a:tbl>
              <a:tblPr/>
              <a:tblGrid>
                <a:gridCol w="1739880"/>
                <a:gridCol w="5821560"/>
              </a:tblGrid>
              <a:tr h="1950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Gospodarka rynko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st to określony system ekonomiczny, w którym zarówno sposób produkcji, jak i rozdzielania zasobów uwarunkowane są przez rynek. Z kolei wszystkie ceny rynkowe o charakterze pieniężnym kształtują się odpowiednio do poziomu popytu i podaży. W gospodarce rynkowej praktycznie wszystkie zasoby stanowią własność prywatną. Najważniejszą obowiązującą w związku z tym zasadą jest prawo własności. Dla tego typu gospodarki charakterystyczne jest państwo kapitalistycz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95280" y="4724280"/>
          <a:ext cx="7561440" cy="822600"/>
        </p:xfrm>
        <a:graphic>
          <a:graphicData uri="http://schemas.openxmlformats.org/drawingml/2006/table">
            <a:tbl>
              <a:tblPr/>
              <a:tblGrid>
                <a:gridCol w="1739880"/>
                <a:gridCol w="5821560"/>
              </a:tblGrid>
              <a:tr h="82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Gospodarka centralnie sterow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gospodarka charakterystyczna dla państwa socjalistycznego, poziom cen w tej gospodarce narzucany jest odgórnie przez państwo. Dominująca jest rola państw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395280" y="692280"/>
          <a:ext cx="7561440" cy="419040"/>
        </p:xfrm>
        <a:graphic>
          <a:graphicData uri="http://schemas.openxmlformats.org/drawingml/2006/table">
            <a:tbl>
              <a:tblPr/>
              <a:tblGrid>
                <a:gridCol w="1738440"/>
                <a:gridCol w="5823000"/>
              </a:tblGrid>
              <a:tr h="419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ję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Defini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pSp>
        <p:nvGrpSpPr>
          <p:cNvPr id="24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4"/>
          <p:cNvSpPr/>
          <p:nvPr/>
        </p:nvSpPr>
        <p:spPr>
          <a:xfrm>
            <a:off x="0" y="333360"/>
            <a:ext cx="83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udżet państ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Diagram 8" descr=""/>
          <p:cNvPicPr/>
          <p:nvPr/>
        </p:nvPicPr>
        <p:blipFill>
          <a:blip r:embed="rId1"/>
          <a:stretch/>
        </p:blipFill>
        <p:spPr>
          <a:xfrm>
            <a:off x="-255600" y="1378080"/>
            <a:ext cx="9155160" cy="1261800"/>
          </a:xfrm>
          <a:prstGeom prst="rect">
            <a:avLst/>
          </a:prstGeom>
          <a:ln w="0">
            <a:noFill/>
          </a:ln>
        </p:spPr>
      </p:pic>
      <p:pic>
        <p:nvPicPr>
          <p:cNvPr id="102" name="Diagram 9" descr=""/>
          <p:cNvPicPr/>
          <p:nvPr/>
        </p:nvPicPr>
        <p:blipFill>
          <a:blip r:embed="rId2"/>
          <a:stretch/>
        </p:blipFill>
        <p:spPr>
          <a:xfrm>
            <a:off x="-255600" y="2962440"/>
            <a:ext cx="9155160" cy="1261800"/>
          </a:xfrm>
          <a:prstGeom prst="rect">
            <a:avLst/>
          </a:prstGeom>
          <a:ln w="0">
            <a:noFill/>
          </a:ln>
        </p:spPr>
      </p:pic>
      <p:pic>
        <p:nvPicPr>
          <p:cNvPr id="103" name="Diagram 10" descr=""/>
          <p:cNvPicPr/>
          <p:nvPr/>
        </p:nvPicPr>
        <p:blipFill>
          <a:blip r:embed="rId3"/>
          <a:stretch/>
        </p:blipFill>
        <p:spPr>
          <a:xfrm>
            <a:off x="-328680" y="4687920"/>
            <a:ext cx="9155160" cy="1262160"/>
          </a:xfrm>
          <a:prstGeom prst="rect">
            <a:avLst/>
          </a:prstGeom>
          <a:ln w="0">
            <a:noFill/>
          </a:ln>
        </p:spPr>
      </p:pic>
      <p:grpSp>
        <p:nvGrpSpPr>
          <p:cNvPr id="10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5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upa 16"/>
          <p:cNvGrpSpPr/>
          <p:nvPr/>
        </p:nvGrpSpPr>
        <p:grpSpPr>
          <a:xfrm>
            <a:off x="250920" y="981000"/>
            <a:ext cx="7850160" cy="1368360"/>
            <a:chOff x="250920" y="981000"/>
            <a:chExt cx="7850160" cy="1368360"/>
          </a:xfrm>
        </p:grpSpPr>
        <p:pic>
          <p:nvPicPr>
            <p:cNvPr id="111" name="Obraz 13" descr="6033936938_024f7832cb_m.jpg"/>
            <p:cNvPicPr/>
            <p:nvPr/>
          </p:nvPicPr>
          <p:blipFill>
            <a:blip r:embed="rId2"/>
            <a:srcRect l="0" t="0" r="8130" b="0"/>
            <a:stretch/>
          </p:blipFill>
          <p:spPr>
            <a:xfrm>
              <a:off x="250920" y="981000"/>
              <a:ext cx="1152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Prostokąt zaokrąglony 10"/>
            <p:cNvSpPr/>
            <p:nvPr/>
          </p:nvSpPr>
          <p:spPr>
            <a:xfrm>
              <a:off x="1187280" y="1412640"/>
              <a:ext cx="6913800" cy="72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76092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dność formalna (budżet państwa powinien być zawarty w jednym dokumencie – ustawie  budżetowej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rostokąt 8"/>
          <p:cNvSpPr/>
          <p:nvPr/>
        </p:nvSpPr>
        <p:spPr>
          <a:xfrm>
            <a:off x="0" y="333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sady tworzenia i kontroli budżetu państ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upa 17"/>
          <p:cNvGrpSpPr/>
          <p:nvPr/>
        </p:nvGrpSpPr>
        <p:grpSpPr>
          <a:xfrm>
            <a:off x="179280" y="2492280"/>
            <a:ext cx="8064720" cy="1152720"/>
            <a:chOff x="179280" y="2492280"/>
            <a:chExt cx="8064720" cy="1152720"/>
          </a:xfrm>
        </p:grpSpPr>
        <p:pic>
          <p:nvPicPr>
            <p:cNvPr id="115" name="Obraz 14" descr="4431759656_997fa774c7_m.jpg"/>
            <p:cNvPicPr/>
            <p:nvPr/>
          </p:nvPicPr>
          <p:blipFill>
            <a:blip r:embed="rId3"/>
            <a:stretch/>
          </p:blipFill>
          <p:spPr>
            <a:xfrm>
              <a:off x="7164000" y="2492280"/>
              <a:ext cx="1080000" cy="10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Prostokąt zaokrąglony 9"/>
            <p:cNvSpPr/>
            <p:nvPr/>
          </p:nvSpPr>
          <p:spPr>
            <a:xfrm>
              <a:off x="179280" y="2492280"/>
              <a:ext cx="6912360" cy="1152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76092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dność materialna (zakaz tworzenia funduszy celowych w ramach budżetu państwa i poza nim, chociaż z dopuszczalnymi wyjątkami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upa 20"/>
          <p:cNvGrpSpPr/>
          <p:nvPr/>
        </p:nvGrpSpPr>
        <p:grpSpPr>
          <a:xfrm>
            <a:off x="826920" y="5013360"/>
            <a:ext cx="7417080" cy="1641600"/>
            <a:chOff x="826920" y="5013360"/>
            <a:chExt cx="7417080" cy="1641600"/>
          </a:xfrm>
        </p:grpSpPr>
        <p:pic>
          <p:nvPicPr>
            <p:cNvPr id="118" name="Obraz 18" descr="kal.jpg"/>
            <p:cNvPicPr/>
            <p:nvPr/>
          </p:nvPicPr>
          <p:blipFill>
            <a:blip r:embed="rId4"/>
            <a:stretch/>
          </p:blipFill>
          <p:spPr>
            <a:xfrm>
              <a:off x="6948000" y="5013360"/>
              <a:ext cx="1296000" cy="16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Prostokąt zaokrąglony 11"/>
            <p:cNvSpPr/>
            <p:nvPr/>
          </p:nvSpPr>
          <p:spPr>
            <a:xfrm>
              <a:off x="826920" y="5518080"/>
              <a:ext cx="6121800" cy="620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76092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czność (budżet jest planem rocznym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upa 19"/>
          <p:cNvGrpSpPr/>
          <p:nvPr/>
        </p:nvGrpSpPr>
        <p:grpSpPr>
          <a:xfrm>
            <a:off x="0" y="4005360"/>
            <a:ext cx="8101080" cy="968400"/>
            <a:chOff x="0" y="4005360"/>
            <a:chExt cx="8101080" cy="968400"/>
          </a:xfrm>
        </p:grpSpPr>
        <p:pic>
          <p:nvPicPr>
            <p:cNvPr id="121" name="Obraz 15" descr="5520336220_2cd64af883_m.jpg"/>
            <p:cNvPicPr/>
            <p:nvPr/>
          </p:nvPicPr>
          <p:blipFill>
            <a:blip r:embed="rId5"/>
            <a:stretch/>
          </p:blipFill>
          <p:spPr>
            <a:xfrm>
              <a:off x="0" y="4005360"/>
              <a:ext cx="13672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Prostokąt zaokrąglony 12"/>
            <p:cNvSpPr/>
            <p:nvPr/>
          </p:nvSpPr>
          <p:spPr>
            <a:xfrm>
              <a:off x="1331640" y="4149720"/>
              <a:ext cx="6769440" cy="719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76092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wszechność (budżet powinien obejmować wszystkie dochody i wszystkie wydatki publiczne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upa 11"/>
          <p:cNvGrpSpPr/>
          <p:nvPr/>
        </p:nvGrpSpPr>
        <p:grpSpPr>
          <a:xfrm>
            <a:off x="0" y="476280"/>
            <a:ext cx="8470800" cy="4816440"/>
            <a:chOff x="0" y="476280"/>
            <a:chExt cx="8470800" cy="4816440"/>
          </a:xfrm>
        </p:grpSpPr>
        <p:sp>
          <p:nvSpPr>
            <p:cNvPr id="124" name="Prostokąt 6"/>
            <p:cNvSpPr/>
            <p:nvPr/>
          </p:nvSpPr>
          <p:spPr>
            <a:xfrm>
              <a:off x="0" y="476280"/>
              <a:ext cx="847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asady tworzenia i kontroli budżetu państwa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Obraz 4" descr="plan.jpg"/>
            <p:cNvPicPr/>
            <p:nvPr/>
          </p:nvPicPr>
          <p:blipFill>
            <a:blip r:embed="rId1"/>
            <a:srcRect l="2339" t="2173" r="0" b="0"/>
            <a:stretch/>
          </p:blipFill>
          <p:spPr>
            <a:xfrm>
              <a:off x="0" y="2060640"/>
              <a:ext cx="2997360" cy="323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Prostokąt zaokrąglony 5"/>
          <p:cNvSpPr/>
          <p:nvPr/>
        </p:nvSpPr>
        <p:spPr>
          <a:xfrm>
            <a:off x="2843280" y="1268280"/>
            <a:ext cx="532908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Times New Roman CE"/>
                <a:ea typeface="Times New Roman CE"/>
              </a:rPr>
              <a:t>szczegółow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budżet powinien być  opracowany w takim stopniu szczegółowości, aby parlament miał zapewniony wpływ na kształtowanie polityki społecznej i gospodarczej państw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rostokąt zaokrąglony 8"/>
          <p:cNvSpPr/>
          <p:nvPr/>
        </p:nvSpPr>
        <p:spPr>
          <a:xfrm>
            <a:off x="2916360" y="2997360"/>
            <a:ext cx="5327640" cy="130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Times New Roman CE"/>
                <a:ea typeface="Times New Roman CE"/>
              </a:rPr>
              <a:t>równow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w sensie matematycznym lub ze wskazaniem  źródła pokrycia deficytu państwa bądź wykorzystania nadwyżki budżetowe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rostokąt zaokrąglony 9"/>
          <p:cNvSpPr/>
          <p:nvPr/>
        </p:nvSpPr>
        <p:spPr>
          <a:xfrm>
            <a:off x="2916360" y="4437000"/>
            <a:ext cx="53276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Times New Roman CE"/>
                <a:ea typeface="Times New Roman CE"/>
              </a:rPr>
              <a:t>uprzedni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budżet powinien być uchwalony przed  rozpoczęciem roku budżetowe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rostokąt zaokrąglony 10"/>
          <p:cNvSpPr/>
          <p:nvPr/>
        </p:nvSpPr>
        <p:spPr>
          <a:xfrm>
            <a:off x="2916360" y="5589720"/>
            <a:ext cx="5327640" cy="103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Times New Roman CE"/>
                <a:ea typeface="Times New Roman CE"/>
              </a:rPr>
              <a:t>jaw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budżet powinien być jawny jako dokument oraz czytelny pod względem merytoryczny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276720" y="1773000"/>
            <a:ext cx="49672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o wszelkie dochody uzyskiwane przez podmioty należące do sektora finansów publicznych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34" name="Grupa 7"/>
          <p:cNvGrpSpPr/>
          <p:nvPr/>
        </p:nvGrpSpPr>
        <p:grpSpPr>
          <a:xfrm>
            <a:off x="0" y="333360"/>
            <a:ext cx="8388360" cy="3995640"/>
            <a:chOff x="0" y="333360"/>
            <a:chExt cx="8388360" cy="3995640"/>
          </a:xfrm>
        </p:grpSpPr>
        <p:pic>
          <p:nvPicPr>
            <p:cNvPr id="135" name="Obraz 6" descr="761235248_447d64da59_m.jpg"/>
            <p:cNvPicPr/>
            <p:nvPr/>
          </p:nvPicPr>
          <p:blipFill>
            <a:blip r:embed="rId1"/>
            <a:stretch/>
          </p:blipFill>
          <p:spPr>
            <a:xfrm>
              <a:off x="0" y="615240"/>
              <a:ext cx="3715920" cy="371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Prostokąt 5"/>
            <p:cNvSpPr/>
            <p:nvPr/>
          </p:nvSpPr>
          <p:spPr>
            <a:xfrm>
              <a:off x="5760" y="333360"/>
              <a:ext cx="838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ochody sektora finansów publicznych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rostokąt 9"/>
          <p:cNvSpPr/>
          <p:nvPr/>
        </p:nvSpPr>
        <p:spPr>
          <a:xfrm>
            <a:off x="468360" y="4581360"/>
            <a:ext cx="46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to całość dochodów uzyskiwanych przez państwo, umożliwiających sfinansowanie wydatków sektora finansów publiczny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raz 11" descr="5727382774_f3ebb4bbe0_m.jpg"/>
          <p:cNvPicPr/>
          <p:nvPr/>
        </p:nvPicPr>
        <p:blipFill>
          <a:blip r:embed="rId2"/>
          <a:stretch/>
        </p:blipFill>
        <p:spPr>
          <a:xfrm>
            <a:off x="5292720" y="3402000"/>
            <a:ext cx="2808360" cy="3456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0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9280" y="206064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15768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ody z podatków bezpośrednich: podatku dochodowego od osób fizycznych (PIT), podatku dochodowego od przedsiębiorstw (CIT)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5768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ody z podatków pośrednich: podatku od towarów i usług (VAT), podatku akcyzowego, innych podatków pośrednich (np. od gier losowych, nieruchomości itp.)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5768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ody z opłat celnych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57680" indent="-157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3" name="Prostokąt 5"/>
          <p:cNvSpPr/>
          <p:nvPr/>
        </p:nvSpPr>
        <p:spPr>
          <a:xfrm>
            <a:off x="395280" y="1413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ody sektora finansów dzieli się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rostokąt 6"/>
          <p:cNvSpPr/>
          <p:nvPr/>
        </p:nvSpPr>
        <p:spPr>
          <a:xfrm>
            <a:off x="0" y="47628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ody sektora finansó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upa 10"/>
          <p:cNvGrpSpPr/>
          <p:nvPr/>
        </p:nvGrpSpPr>
        <p:grpSpPr>
          <a:xfrm>
            <a:off x="3708360" y="3222720"/>
            <a:ext cx="4388040" cy="3213000"/>
            <a:chOff x="3708360" y="3222720"/>
            <a:chExt cx="4388040" cy="3213000"/>
          </a:xfrm>
        </p:grpSpPr>
        <p:pic>
          <p:nvPicPr>
            <p:cNvPr id="146" name="Obraz 7" descr="TAX.jpg"/>
            <p:cNvPicPr/>
            <p:nvPr/>
          </p:nvPicPr>
          <p:blipFill>
            <a:blip r:embed="rId1"/>
            <a:srcRect l="0" t="42650" r="0" b="0"/>
            <a:stretch/>
          </p:blipFill>
          <p:spPr>
            <a:xfrm>
              <a:off x="3708360" y="4574520"/>
              <a:ext cx="409320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ole tekstowe 8" descr=""/>
            <p:cNvPicPr/>
            <p:nvPr/>
          </p:nvPicPr>
          <p:blipFill>
            <a:blip r:embed="rId2"/>
            <a:stretch/>
          </p:blipFill>
          <p:spPr>
            <a:xfrm>
              <a:off x="3751920" y="3222720"/>
              <a:ext cx="4344480" cy="198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9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Obraz 11" descr="3653603610_f77684e808_m.jpg"/>
          <p:cNvPicPr/>
          <p:nvPr/>
        </p:nvPicPr>
        <p:blipFill>
          <a:blip r:embed="rId1"/>
          <a:stretch/>
        </p:blipFill>
        <p:spPr>
          <a:xfrm>
            <a:off x="2556000" y="3068640"/>
            <a:ext cx="4752720" cy="3584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323640" y="1916280"/>
            <a:ext cx="777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ne dochody: wpłaty z zysku banku centralnego, dochody jednostek budżetowych (np. opłaty administracyjne), dywidenda z przedsiębiorstw państwowych, dochody kapitałowe, różne transfery (np. wpłaty z budżetu Unii Europejskiej), 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ładki na ubezpieczenia społeczne.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3" name="Prostokąt 5"/>
          <p:cNvSpPr/>
          <p:nvPr/>
        </p:nvSpPr>
        <p:spPr>
          <a:xfrm>
            <a:off x="0" y="549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ody sektora finansó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rostokąt 6"/>
          <p:cNvSpPr/>
          <p:nvPr/>
        </p:nvSpPr>
        <p:spPr>
          <a:xfrm>
            <a:off x="539640" y="1413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ody sektora finansów dzieli się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79280" y="1268280"/>
            <a:ext cx="805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nowią wszelkie wydatki, których dokonują podmioty należące do sektora finansów publicznych. 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datki sektora finansów publicznych oznaczają całość wydatków ponoszonych przez państwo w celu realizacji funkcji państwa w gospodarce. 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59" name="Grupa 6"/>
          <p:cNvGrpSpPr/>
          <p:nvPr/>
        </p:nvGrpSpPr>
        <p:grpSpPr>
          <a:xfrm>
            <a:off x="0" y="476280"/>
            <a:ext cx="8450280" cy="6381720"/>
            <a:chOff x="0" y="476280"/>
            <a:chExt cx="8450280" cy="6381720"/>
          </a:xfrm>
        </p:grpSpPr>
        <p:pic>
          <p:nvPicPr>
            <p:cNvPr id="160" name="Obraz 4" descr="wydatki2.jpg"/>
            <p:cNvPicPr/>
            <p:nvPr/>
          </p:nvPicPr>
          <p:blipFill>
            <a:blip r:embed="rId1"/>
            <a:stretch/>
          </p:blipFill>
          <p:spPr>
            <a:xfrm>
              <a:off x="3420000" y="3525480"/>
              <a:ext cx="5030280" cy="333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rostokąt 5"/>
            <p:cNvSpPr/>
            <p:nvPr/>
          </p:nvSpPr>
          <p:spPr>
            <a:xfrm>
              <a:off x="0" y="476280"/>
              <a:ext cx="838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ydatki sektora finansów publicznych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Obraz 10" descr="1525182668_92bc6c07e4_m.jpg"/>
          <p:cNvPicPr/>
          <p:nvPr/>
        </p:nvPicPr>
        <p:blipFill>
          <a:blip r:embed="rId1"/>
          <a:srcRect l="30167" t="0" r="33612" b="5249"/>
          <a:stretch/>
        </p:blipFill>
        <p:spPr>
          <a:xfrm>
            <a:off x="755640" y="3467160"/>
            <a:ext cx="1728720" cy="3390840"/>
          </a:xfrm>
          <a:prstGeom prst="rect">
            <a:avLst/>
          </a:prstGeom>
          <a:ln w="0">
            <a:noFill/>
          </a:ln>
        </p:spPr>
      </p:pic>
      <p:sp>
        <p:nvSpPr>
          <p:cNvPr id="166" name="Objaśnienie w chmurce 14"/>
          <p:cNvSpPr/>
          <p:nvPr/>
        </p:nvSpPr>
        <p:spPr>
          <a:xfrm>
            <a:off x="3348000" y="1413000"/>
            <a:ext cx="4824360" cy="3384360"/>
          </a:xfrm>
          <a:prstGeom prst="cloudCallout">
            <a:avLst>
              <a:gd name="adj1" fmla="val -73185"/>
              <a:gd name="adj2" fmla="val 23958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95640" y="1916280"/>
            <a:ext cx="4321440" cy="23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datki na płace, </a:t>
            </a:r>
            <a:endParaRPr b="0" lang="en-US" sz="19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datki na towary i usługi,</a:t>
            </a:r>
            <a:endParaRPr b="0" lang="en-US" sz="19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bsługę zadłużenia, </a:t>
            </a:r>
            <a:endParaRPr b="0" lang="en-US" sz="19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ransfery do gospodarstw domowych, </a:t>
            </a:r>
            <a:endParaRPr b="0" lang="en-US" sz="19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tacje i subwencje,</a:t>
            </a:r>
            <a:endParaRPr b="0" lang="en-US" sz="19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datki majątkowe.</a:t>
            </a:r>
            <a:endParaRPr b="0" lang="en-US" sz="19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8" name="Prostokąt 5"/>
          <p:cNvSpPr/>
          <p:nvPr/>
        </p:nvSpPr>
        <p:spPr>
          <a:xfrm>
            <a:off x="0" y="404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datki sektora finansów publiczny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4"/>
          <p:cNvSpPr/>
          <p:nvPr/>
        </p:nvSpPr>
        <p:spPr>
          <a:xfrm>
            <a:off x="395280" y="141300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datki sektora finansów publicznych dzieli się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5:04:21Z</dcterms:created>
  <dc:creator>tfigurska</dc:creator>
  <dc:description/>
  <dc:language>en-US</dc:language>
  <cp:lastModifiedBy>Marta</cp:lastModifiedBy>
  <dcterms:modified xsi:type="dcterms:W3CDTF">2013-01-31T15:47:08Z</dcterms:modified>
  <cp:revision>61</cp:revision>
  <dc:subject/>
  <dc:title>3. Gospodarka</dc:title>
</cp:coreProperties>
</file>