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7CA-E494-416B-86AB-3EDD939C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DCD-237A-4AB4-B11E-0BDB8BB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073-DDB4-4B33-BF6A-23AB9B39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6DE-EFD2-44B9-8A48-2589DE4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AFC-FAE0-4F0A-9D9F-1692069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9A7-088F-4C91-9B1E-4FAC7B6F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599-D7AD-4C35-9FF5-0FADAF8B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791-5E83-4E5B-9F61-EA9C17C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92A-76D2-41CE-A443-2D2BEB0A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BD7-9B0A-4A1D-A001-609C86F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EDD-9DCA-4659-9C17-6AB413D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1C4-44DC-47D1-A394-93757D0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F34E-7ED2-4E7E-8212-848AC9F26B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5313-5BEB-48D1-A518-45FB4FBFBD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611280" y="981000"/>
          <a:ext cx="7273800" cy="576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11280" y="1557360"/>
          <a:ext cx="7273800" cy="244800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24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zy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ozpowszechnianie wielu aspektów technologicznych, które mają na celu ułatwienie życia w każdym kraju, postęp naukowo-techniczny, handel międzynarodowy, łatwość komunikowani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11280" y="4005360"/>
          <a:ext cx="7273800" cy="1368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13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ega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agrożenie niezależności państwa, utrata  tożsamości narodowo-kulturowej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Banku Świat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upa 9"/>
          <p:cNvGrpSpPr/>
          <p:nvPr/>
        </p:nvGrpSpPr>
        <p:grpSpPr>
          <a:xfrm>
            <a:off x="250920" y="1628640"/>
            <a:ext cx="8101080" cy="4362840"/>
            <a:chOff x="250920" y="1628640"/>
            <a:chExt cx="8101080" cy="4362840"/>
          </a:xfrm>
        </p:grpSpPr>
        <p:sp>
          <p:nvSpPr>
            <p:cNvPr id="152" name="pole tekstowe 6"/>
            <p:cNvSpPr/>
            <p:nvPr/>
          </p:nvSpPr>
          <p:spPr>
            <a:xfrm>
              <a:off x="250920" y="1628640"/>
              <a:ext cx="57610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la Banku Światoweg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(kredyty) w celu zmniejszenia ubóst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anie inwestycj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owa dró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lektrown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zkół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starczanie pomocy merytorycznej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doradztwa fachowego przez organizowanie różnego rodzaju szkoleń nauczyciel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gramy wyżywienia oraz poprawy sytuacji dzieci i kobiet w krajach Trzeciego Świa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6155640" y="1988640"/>
              <a:ext cx="216000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3"/>
            <a:stretch/>
          </p:blipFill>
          <p:spPr>
            <a:xfrm>
              <a:off x="6155640" y="3644640"/>
              <a:ext cx="2196360" cy="139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ole tekstowe 7"/>
          <p:cNvSpPr/>
          <p:nvPr/>
        </p:nvSpPr>
        <p:spPr>
          <a:xfrm>
            <a:off x="347040" y="54936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Międzynarodowego Funduszu Walutowego (MF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zaokrąglony 14"/>
          <p:cNvSpPr/>
          <p:nvPr/>
        </p:nvSpPr>
        <p:spPr>
          <a:xfrm>
            <a:off x="395280" y="1341360"/>
            <a:ext cx="7777080" cy="2054160"/>
          </a:xfrm>
          <a:prstGeom prst="roundRect">
            <a:avLst>
              <a:gd name="adj" fmla="val 10000"/>
            </a:avLst>
          </a:pr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upa 23"/>
          <p:cNvGrpSpPr/>
          <p:nvPr/>
        </p:nvGrpSpPr>
        <p:grpSpPr>
          <a:xfrm>
            <a:off x="630360" y="1614600"/>
            <a:ext cx="1699920" cy="4294080"/>
            <a:chOff x="630360" y="1614600"/>
            <a:chExt cx="1699920" cy="4294080"/>
          </a:xfrm>
        </p:grpSpPr>
        <p:sp>
          <p:nvSpPr>
            <p:cNvPr id="163" name="Prostokąt zaokrąglony 15"/>
            <p:cNvSpPr/>
            <p:nvPr/>
          </p:nvSpPr>
          <p:spPr>
            <a:xfrm>
              <a:off x="630360" y="1614600"/>
              <a:ext cx="169992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Dowolny kształt 16"/>
            <p:cNvSpPr/>
            <p:nvPr/>
          </p:nvSpPr>
          <p:spPr>
            <a:xfrm>
              <a:off x="630360" y="3395880"/>
              <a:ext cx="169992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prowadzonej działalności na rynkach świa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upa 24"/>
          <p:cNvGrpSpPr/>
          <p:nvPr/>
        </p:nvGrpSpPr>
        <p:grpSpPr>
          <a:xfrm>
            <a:off x="2500200" y="1614600"/>
            <a:ext cx="1698840" cy="4294080"/>
            <a:chOff x="2500200" y="1614600"/>
            <a:chExt cx="1698840" cy="4294080"/>
          </a:xfrm>
        </p:grpSpPr>
        <p:sp>
          <p:nvSpPr>
            <p:cNvPr id="166" name="Prostokąt zaokrąglony 17"/>
            <p:cNvSpPr/>
            <p:nvPr/>
          </p:nvSpPr>
          <p:spPr>
            <a:xfrm>
              <a:off x="2500200" y="1614600"/>
              <a:ext cx="169884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Dowolny kształt 18"/>
            <p:cNvSpPr/>
            <p:nvPr/>
          </p:nvSpPr>
          <p:spPr>
            <a:xfrm>
              <a:off x="2516040" y="3395880"/>
              <a:ext cx="166716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128160" bIns="17928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łatwienie międzynaro-dowej współpracy finans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upa 25"/>
          <p:cNvGrpSpPr/>
          <p:nvPr/>
        </p:nvGrpSpPr>
        <p:grpSpPr>
          <a:xfrm>
            <a:off x="4368960" y="1614600"/>
            <a:ext cx="1698480" cy="4294080"/>
            <a:chOff x="4368960" y="1614600"/>
            <a:chExt cx="1698480" cy="4294080"/>
          </a:xfrm>
        </p:grpSpPr>
        <p:sp>
          <p:nvSpPr>
            <p:cNvPr id="169" name="Prostokąt zaokrąglony 19"/>
            <p:cNvSpPr/>
            <p:nvPr/>
          </p:nvSpPr>
          <p:spPr>
            <a:xfrm>
              <a:off x="4368960" y="1614600"/>
              <a:ext cx="16984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Dowolny kształt 20"/>
            <p:cNvSpPr/>
            <p:nvPr/>
          </p:nvSpPr>
          <p:spPr>
            <a:xfrm>
              <a:off x="4368960" y="3395880"/>
              <a:ext cx="16984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nitoring stabilności kursów walu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26"/>
          <p:cNvGrpSpPr/>
          <p:nvPr/>
        </p:nvGrpSpPr>
        <p:grpSpPr>
          <a:xfrm>
            <a:off x="6237360" y="1614600"/>
            <a:ext cx="1700280" cy="4294080"/>
            <a:chOff x="6237360" y="1614600"/>
            <a:chExt cx="1700280" cy="4294080"/>
          </a:xfrm>
        </p:grpSpPr>
        <p:sp>
          <p:nvSpPr>
            <p:cNvPr id="172" name="Prostokąt zaokrąglony 21"/>
            <p:cNvSpPr/>
            <p:nvPr/>
          </p:nvSpPr>
          <p:spPr>
            <a:xfrm>
              <a:off x="6237360" y="1614600"/>
              <a:ext cx="17002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Dowolny kształt 22"/>
            <p:cNvSpPr/>
            <p:nvPr/>
          </p:nvSpPr>
          <p:spPr>
            <a:xfrm>
              <a:off x="6237360" y="3395880"/>
              <a:ext cx="17002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ienie pomocy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tuacji zachwiania równowagi finansowej państwa członko-wski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280" y="1628640"/>
          <a:ext cx="7561440" cy="54000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2133720"/>
          <a:ext cx="7561440" cy="136656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Świat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udziela kredytów państwom w celu zmniejszenia ubóstwa oraz finansowania inwestycji przyczyniających się do wzrostu gospodarczego tych kraj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5280" y="3500280"/>
          <a:ext cx="7561440" cy="216072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216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funkcjonuje w ramach ONZ i  zapewnia państwom członkowskim (jest ich ponad 180) wystarczające ilości waluty do dalszego prowadzenia działalności  gospodarczej z resztą świata. W zamian kraje te są zobowiązane do dokonywania reform ekonomicznych i innych działań stabilizując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8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7"/>
          <p:cNvSpPr/>
          <p:nvPr/>
        </p:nvSpPr>
        <p:spPr>
          <a:xfrm>
            <a:off x="282240" y="765000"/>
            <a:ext cx="458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chy współczesnej globalizacj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8"/>
          <p:cNvSpPr/>
          <p:nvPr/>
        </p:nvSpPr>
        <p:spPr>
          <a:xfrm>
            <a:off x="250920" y="1700280"/>
            <a:ext cx="785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snąca mobilność kapitału i dób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obrotów kapitałowych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nowacyj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ternet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sieci światowego systemu transportoweg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beralizacja wielu sfer działal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ywatyzacj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regulacja sektorów gospodarki, które stanowiły własność państwową i były zmonopolizow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0"/>
          <a:stretch/>
        </p:blipFill>
        <p:spPr>
          <a:xfrm>
            <a:off x="5724360" y="692280"/>
            <a:ext cx="245124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:\Users\Marta\Desktop\sowa\sowa_3.png"/>
          <p:cNvPicPr/>
          <p:nvPr/>
        </p:nvPicPr>
        <p:blipFill>
          <a:blip r:embed="rId11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róbuj odpowiedzieć na pytan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6"/>
          <p:cNvSpPr/>
          <p:nvPr/>
        </p:nvSpPr>
        <p:spPr>
          <a:xfrm>
            <a:off x="1258920" y="4437000"/>
            <a:ext cx="40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mień cechy globali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898560" cy="96696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2"/>
          <p:cNvSpPr/>
          <p:nvPr/>
        </p:nvSpPr>
        <p:spPr>
          <a:xfrm>
            <a:off x="1708560" y="2060640"/>
            <a:ext cx="30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m jest globalizac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14"/>
          <p:cNvSpPr/>
          <p:nvPr/>
        </p:nvSpPr>
        <p:spPr>
          <a:xfrm>
            <a:off x="1722240" y="3284640"/>
            <a:ext cx="619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kutki wywiera na współczesną gospodark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ole tekstowe 14"/>
          <p:cNvSpPr/>
          <p:nvPr/>
        </p:nvSpPr>
        <p:spPr>
          <a:xfrm>
            <a:off x="507960" y="476280"/>
            <a:ext cx="615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y globalizacji ujmuje się w wymiarz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23"/>
          <p:cNvGrpSpPr/>
          <p:nvPr/>
        </p:nvGrpSpPr>
        <p:grpSpPr>
          <a:xfrm>
            <a:off x="539640" y="1341360"/>
            <a:ext cx="4969080" cy="1393920"/>
            <a:chOff x="539640" y="1341360"/>
            <a:chExt cx="4969080" cy="1393920"/>
          </a:xfrm>
        </p:grpSpPr>
        <p:sp>
          <p:nvSpPr>
            <p:cNvPr id="53" name="Dowolny kształt 17"/>
            <p:cNvSpPr/>
            <p:nvPr/>
          </p:nvSpPr>
          <p:spPr>
            <a:xfrm>
              <a:off x="539640" y="1341360"/>
              <a:ext cx="4969080" cy="1393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spodarcz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rostokąt zaokrąglony 18"/>
            <p:cNvSpPr/>
            <p:nvPr/>
          </p:nvSpPr>
          <p:spPr>
            <a:xfrm>
              <a:off x="679320" y="1481040"/>
              <a:ext cx="1444680" cy="11145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upa 24"/>
          <p:cNvGrpSpPr/>
          <p:nvPr/>
        </p:nvGrpSpPr>
        <p:grpSpPr>
          <a:xfrm>
            <a:off x="539640" y="2874960"/>
            <a:ext cx="4969080" cy="1395360"/>
            <a:chOff x="539640" y="2874960"/>
            <a:chExt cx="4969080" cy="1395360"/>
          </a:xfrm>
        </p:grpSpPr>
        <p:sp>
          <p:nvSpPr>
            <p:cNvPr id="56" name="Dowolny kształt 19"/>
            <p:cNvSpPr/>
            <p:nvPr/>
          </p:nvSpPr>
          <p:spPr>
            <a:xfrm>
              <a:off x="539640" y="287496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połeczno-kulturow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rostokąt zaokrąglony 20"/>
            <p:cNvSpPr/>
            <p:nvPr/>
          </p:nvSpPr>
          <p:spPr>
            <a:xfrm>
              <a:off x="679320" y="301464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upa 25"/>
          <p:cNvGrpSpPr/>
          <p:nvPr/>
        </p:nvGrpSpPr>
        <p:grpSpPr>
          <a:xfrm>
            <a:off x="539640" y="4410000"/>
            <a:ext cx="4969080" cy="1395360"/>
            <a:chOff x="539640" y="4410000"/>
            <a:chExt cx="4969080" cy="1395360"/>
          </a:xfrm>
        </p:grpSpPr>
        <p:sp>
          <p:nvSpPr>
            <p:cNvPr id="59" name="Dowolny kształt 21"/>
            <p:cNvSpPr/>
            <p:nvPr/>
          </p:nvSpPr>
          <p:spPr>
            <a:xfrm>
              <a:off x="539640" y="441000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czn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zaokrąglony 22"/>
            <p:cNvSpPr/>
            <p:nvPr/>
          </p:nvSpPr>
          <p:spPr>
            <a:xfrm>
              <a:off x="679320" y="454968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5808600" y="1844640"/>
            <a:ext cx="2346480" cy="32400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gospodarcz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zaokrąglony 14"/>
          <p:cNvSpPr/>
          <p:nvPr/>
        </p:nvSpPr>
        <p:spPr>
          <a:xfrm>
            <a:off x="611280" y="1773360"/>
            <a:ext cx="7200720" cy="23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9"/>
          <p:cNvSpPr/>
          <p:nvPr/>
        </p:nvSpPr>
        <p:spPr>
          <a:xfrm>
            <a:off x="755640" y="2133720"/>
            <a:ext cx="6912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ega na ujednoliceniu rynk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lokalnych, regionalnych, krajowych, międzynarodowych) i obracaniu na nich różnymi towara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340000" y="4005360"/>
            <a:ext cx="367200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2090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społeczno-kulturow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upa 8"/>
          <p:cNvGrpSpPr/>
          <p:nvPr/>
        </p:nvGrpSpPr>
        <p:grpSpPr>
          <a:xfrm>
            <a:off x="468360" y="1773360"/>
            <a:ext cx="7469280" cy="3211560"/>
            <a:chOff x="468360" y="1773360"/>
            <a:chExt cx="7469280" cy="3211560"/>
          </a:xfrm>
        </p:grpSpPr>
        <p:sp>
          <p:nvSpPr>
            <p:cNvPr id="78" name="pole tekstowe 6"/>
            <p:cNvSpPr/>
            <p:nvPr/>
          </p:nvSpPr>
          <p:spPr>
            <a:xfrm>
              <a:off x="468360" y="1773360"/>
              <a:ext cx="5472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odzwierciedlon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rzez rozwój turystki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zmożone migrac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komercjalizację produkt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" descr=""/>
            <p:cNvPicPr/>
            <p:nvPr/>
          </p:nvPicPr>
          <p:blipFill>
            <a:blip r:embed="rId2"/>
            <a:stretch/>
          </p:blipFill>
          <p:spPr>
            <a:xfrm>
              <a:off x="5148360" y="3213720"/>
              <a:ext cx="2789280" cy="17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polityczn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6"/>
          <p:cNvSpPr/>
          <p:nvPr/>
        </p:nvSpPr>
        <p:spPr>
          <a:xfrm>
            <a:off x="468360" y="1413000"/>
            <a:ext cx="7377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wierciedlona jest w powstawaniu organizacji międzynarodowych, np. takich ja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Bank Świa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Międzynarodowy Fundusz Walu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a Europejs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27664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9"/>
          <p:cNvGrpSpPr/>
          <p:nvPr/>
        </p:nvGrpSpPr>
        <p:grpSpPr>
          <a:xfrm>
            <a:off x="324000" y="1197000"/>
            <a:ext cx="7561080" cy="4176720"/>
            <a:chOff x="324000" y="1197000"/>
            <a:chExt cx="7561080" cy="41767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2705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zaokrąglony 7"/>
            <p:cNvSpPr/>
            <p:nvPr/>
          </p:nvSpPr>
          <p:spPr>
            <a:xfrm>
              <a:off x="2771640" y="2709720"/>
              <a:ext cx="511344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6"/>
            <p:cNvSpPr/>
            <p:nvPr/>
          </p:nvSpPr>
          <p:spPr>
            <a:xfrm>
              <a:off x="2988360" y="2853360"/>
              <a:ext cx="48247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st zjawiskiem obejmującym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przenikającym wszystkie dziedziny ży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polityczną, ekonomiczną, społeczną, kulturaln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apewnia swobodny przepływ towarów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usług poprzez liberalizację, tj. ułatwia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handlu międzynar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czyny powstania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8"/>
          <p:cNvGrpSpPr/>
          <p:nvPr/>
        </p:nvGrpSpPr>
        <p:grpSpPr>
          <a:xfrm>
            <a:off x="539640" y="1700280"/>
            <a:ext cx="7382160" cy="4255920"/>
            <a:chOff x="539640" y="1700280"/>
            <a:chExt cx="7382160" cy="4255920"/>
          </a:xfrm>
        </p:grpSpPr>
        <p:sp>
          <p:nvSpPr>
            <p:cNvPr id="105" name="pole tekstowe 6"/>
            <p:cNvSpPr/>
            <p:nvPr/>
          </p:nvSpPr>
          <p:spPr>
            <a:xfrm>
              <a:off x="539640" y="1700280"/>
              <a:ext cx="738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śród jednych z ważniejszych przyczyn globalizacji jest m.in. zmiana systemów gospodarczych polegająca na zmianie gospodarki danego kraju z gospodarki centralnie planowanej na wolną gospodarkę oraz powstanie instytucji międzynarodow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" descr=""/>
            <p:cNvPicPr/>
            <p:nvPr/>
          </p:nvPicPr>
          <p:blipFill>
            <a:blip r:embed="rId2"/>
            <a:stretch/>
          </p:blipFill>
          <p:spPr>
            <a:xfrm>
              <a:off x="2412000" y="3212640"/>
              <a:ext cx="4058280" cy="274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23"/>
          <p:cNvGrpSpPr/>
          <p:nvPr/>
        </p:nvGrpSpPr>
        <p:grpSpPr>
          <a:xfrm>
            <a:off x="406440" y="1344600"/>
            <a:ext cx="2713680" cy="4241880"/>
            <a:chOff x="406440" y="1344600"/>
            <a:chExt cx="2713680" cy="4241880"/>
          </a:xfrm>
        </p:grpSpPr>
        <p:sp>
          <p:nvSpPr>
            <p:cNvPr id="115" name="Dowolny kształt 15"/>
            <p:cNvSpPr/>
            <p:nvPr/>
          </p:nvSpPr>
          <p:spPr>
            <a:xfrm>
              <a:off x="406440" y="1344600"/>
              <a:ext cx="1861920" cy="29242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047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gospodarcz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16"/>
            <p:cNvSpPr/>
            <p:nvPr/>
          </p:nvSpPr>
          <p:spPr>
            <a:xfrm>
              <a:off x="684000" y="3429000"/>
              <a:ext cx="2144520" cy="2157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198000" tIns="198000" bIns="19800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jednolicenie rynków i obrót towaram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Dowolny kształt 17"/>
            <p:cNvSpPr/>
            <p:nvPr/>
          </p:nvSpPr>
          <p:spPr>
            <a:xfrm rot="21478800">
              <a:off x="2447640" y="2050560"/>
              <a:ext cx="664920" cy="430200"/>
            </a:xfrm>
            <a:custGeom>
              <a:avLst/>
              <a:gdLst/>
              <a:ahLst/>
              <a:rect l="l" t="t" r="r" b="b"/>
              <a:pathLst>
                <a:path w="665459" h="429761">
                  <a:moveTo>
                    <a:pt x="0" y="85952"/>
                  </a:moveTo>
                  <a:lnTo>
                    <a:pt x="450579" y="85952"/>
                  </a:lnTo>
                  <a:lnTo>
                    <a:pt x="450579" y="0"/>
                  </a:lnTo>
                  <a:lnTo>
                    <a:pt x="665459" y="214881"/>
                  </a:lnTo>
                  <a:lnTo>
                    <a:pt x="450579" y="429761"/>
                  </a:lnTo>
                  <a:lnTo>
                    <a:pt x="450579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24"/>
          <p:cNvGrpSpPr/>
          <p:nvPr/>
        </p:nvGrpSpPr>
        <p:grpSpPr>
          <a:xfrm>
            <a:off x="3389400" y="1530360"/>
            <a:ext cx="2549160" cy="3843360"/>
            <a:chOff x="3389400" y="1530360"/>
            <a:chExt cx="2549160" cy="3843360"/>
          </a:xfrm>
        </p:grpSpPr>
        <p:sp>
          <p:nvSpPr>
            <p:cNvPr id="119" name="Dowolny kształt 18"/>
            <p:cNvSpPr/>
            <p:nvPr/>
          </p:nvSpPr>
          <p:spPr>
            <a:xfrm>
              <a:off x="3389400" y="1530360"/>
              <a:ext cx="1727280" cy="2052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75636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społeczno-kulturow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Dowolny kształt 19"/>
            <p:cNvSpPr/>
            <p:nvPr/>
          </p:nvSpPr>
          <p:spPr>
            <a:xfrm>
              <a:off x="3636720" y="3284640"/>
              <a:ext cx="2230560" cy="20890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5760" rIns="185760" tIns="185760" bIns="1857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wój turystyki, wzmożone migracje, komercjalizacja produktów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Dowolny kształt 20"/>
            <p:cNvSpPr/>
            <p:nvPr/>
          </p:nvSpPr>
          <p:spPr>
            <a:xfrm rot="21600">
              <a:off x="5380200" y="2007720"/>
              <a:ext cx="556920" cy="430200"/>
            </a:xfrm>
            <a:custGeom>
              <a:avLst/>
              <a:gdLst/>
              <a:ahLst/>
              <a:rect l="l" t="t" r="r" b="b"/>
              <a:pathLst>
                <a:path w="557338" h="429761">
                  <a:moveTo>
                    <a:pt x="0" y="85952"/>
                  </a:moveTo>
                  <a:lnTo>
                    <a:pt x="342458" y="85952"/>
                  </a:lnTo>
                  <a:lnTo>
                    <a:pt x="342458" y="0"/>
                  </a:lnTo>
                  <a:lnTo>
                    <a:pt x="557338" y="214881"/>
                  </a:lnTo>
                  <a:lnTo>
                    <a:pt x="342458" y="429761"/>
                  </a:lnTo>
                  <a:lnTo>
                    <a:pt x="342458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upa 25"/>
          <p:cNvGrpSpPr/>
          <p:nvPr/>
        </p:nvGrpSpPr>
        <p:grpSpPr>
          <a:xfrm>
            <a:off x="6168960" y="1415880"/>
            <a:ext cx="2086200" cy="5042160"/>
            <a:chOff x="6168960" y="1415880"/>
            <a:chExt cx="2086200" cy="5042160"/>
          </a:xfrm>
        </p:grpSpPr>
        <p:sp>
          <p:nvSpPr>
            <p:cNvPr id="123" name="Dowolny kształt 21"/>
            <p:cNvSpPr/>
            <p:nvPr/>
          </p:nvSpPr>
          <p:spPr>
            <a:xfrm>
              <a:off x="6168960" y="1415880"/>
              <a:ext cx="1727640" cy="24498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8888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polityczn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Dowolny kształt 22"/>
            <p:cNvSpPr/>
            <p:nvPr/>
          </p:nvSpPr>
          <p:spPr>
            <a:xfrm>
              <a:off x="6445080" y="3286080"/>
              <a:ext cx="1810080" cy="31719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4520" rIns="164520" tIns="164520" bIns="16452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tawanie organizacji międzynarodo-wych, np.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Bank Świa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Międzynaro-dowy Fundusz Walu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nia Europej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6"/>
          <p:cNvGrpSpPr/>
          <p:nvPr/>
        </p:nvGrpSpPr>
        <p:grpSpPr>
          <a:xfrm>
            <a:off x="468360" y="1628640"/>
            <a:ext cx="7416720" cy="1721160"/>
            <a:chOff x="468360" y="1628640"/>
            <a:chExt cx="7416720" cy="1721160"/>
          </a:xfrm>
        </p:grpSpPr>
        <p:sp>
          <p:nvSpPr>
            <p:cNvPr id="132" name="Dowolny kształt 9"/>
            <p:cNvSpPr/>
            <p:nvPr/>
          </p:nvSpPr>
          <p:spPr>
            <a:xfrm>
              <a:off x="468360" y="1628640"/>
              <a:ext cx="741672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zy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pływ informacji, postęp naukowo-techniczny, handel międzynarodowy, łatwość komunikow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rostokąt zaokrąglony 12"/>
            <p:cNvSpPr/>
            <p:nvPr/>
          </p:nvSpPr>
          <p:spPr>
            <a:xfrm>
              <a:off x="639720" y="1800000"/>
              <a:ext cx="1484280" cy="1378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upa 17"/>
          <p:cNvGrpSpPr/>
          <p:nvPr/>
        </p:nvGrpSpPr>
        <p:grpSpPr>
          <a:xfrm>
            <a:off x="468360" y="3522600"/>
            <a:ext cx="7416720" cy="1994040"/>
            <a:chOff x="468360" y="3522600"/>
            <a:chExt cx="7416720" cy="1994040"/>
          </a:xfrm>
        </p:grpSpPr>
        <p:sp>
          <p:nvSpPr>
            <p:cNvPr id="135" name="Dowolny kształt 14"/>
            <p:cNvSpPr/>
            <p:nvPr/>
          </p:nvSpPr>
          <p:spPr>
            <a:xfrm>
              <a:off x="468360" y="3522600"/>
              <a:ext cx="7416720" cy="1994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a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ad państw narodowych, gdyż panuje obecnie przeświadczenie, że procesy globalizacji zagrażają autentyczności i niezależności państw, co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sekwencji może prowadzić do zaniku lokalnej kultury i trady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rostokąt zaokrąglony 15"/>
            <p:cNvSpPr/>
            <p:nvPr/>
          </p:nvSpPr>
          <p:spPr>
            <a:xfrm>
              <a:off x="639720" y="3693960"/>
              <a:ext cx="1484280" cy="13780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21:59:28Z</dcterms:created>
  <dc:creator>x</dc:creator>
  <dc:description/>
  <dc:language>en-US</dc:language>
  <cp:lastModifiedBy>Gosia</cp:lastModifiedBy>
  <dcterms:modified xsi:type="dcterms:W3CDTF">2013-01-31T17:23:21Z</dcterms:modified>
  <cp:revision>30</cp:revision>
  <dc:subject/>
  <dc:title>Slajd 1</dc:title>
</cp:coreProperties>
</file>