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638-F537-4289-B5C3-E0B8CA63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D4D-3DCB-4CD8-9DBA-F208C94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F86-FC1D-4AC2-92DF-3B9DFE11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9F2-FB59-4050-A4E5-D1E54C80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BEEA-A29C-48CF-AD90-EFD7271D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000-6434-4972-AA8F-0D19C56F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A5EF-EC03-4D37-B242-C5DF5A0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139F-19F7-4CCA-9C45-BA3D6D85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D1F7-7D55-4C91-985E-606A15FF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485-528B-4B50-9B8B-E566997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3B1-02A1-4A39-8602-E02D707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560-6BBB-49D7-A8CE-DA4E4F28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6274-5922-4238-A26A-1D63207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8918-0C2E-4824-89BC-1EA8726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B92A-34A7-485B-A0D1-4CE54BCC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8FAB-6FB1-47ED-B26A-3A07BEBD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3077-A051-43A4-82AA-562CA8F1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96A-D7B6-45DF-876F-9C7F8FC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20A-9FD4-413E-91F3-51603E65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FA6-0EAB-4424-9361-96A3ECB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F5C-3C39-4B7B-9832-19407E5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3B0-7330-4841-8E29-2C90ABEF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CD1-5111-427B-967F-4E00868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B41-33B6-4100-8487-C0EA05B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952-5503-43B4-AA2E-671E32732A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6AD9-59F8-426B-A7D4-40F671FADE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931F-0A41-4E84-A1DE-3BA9DF9D7D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89" name="Prostokąt zaokrąglony 13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rostokąt 14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Diagram 16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468360" y="1125360"/>
            <a:ext cx="41749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minimalna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cena ustanowiona przez rząd na poziomie wyższym od ceny równowagi w celu ochrony interesów producentów. Wprowadzenie ceny minimalnej skutkuje powstaniem nadwyżki rynkow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495600" cy="2800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77812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ole tekstowe 7"/>
          <p:cNvSpPr/>
          <p:nvPr/>
        </p:nvSpPr>
        <p:spPr>
          <a:xfrm>
            <a:off x="468360" y="907920"/>
            <a:ext cx="38876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maksymalna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na ustanowiona przez rząd na poziomie niższym od ceny równowagi rynkowej w celu ochrony nabywców. Wprowadzenie ceny maksymalnej skutkuje powstaniem niedoboru ryn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263680" cy="160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3529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Łącznik prosty 52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Łącznik prosty 53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upa 54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221" name="Łącznik prosty 55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Łącznik prosty 56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Łącznik prosty 58"/>
          <p:cNvSpPr/>
          <p:nvPr/>
        </p:nvSpPr>
        <p:spPr>
          <a:xfrm flipH="1">
            <a:off x="899640" y="2924280"/>
            <a:ext cx="604836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Łącznik prosty 59"/>
          <p:cNvSpPr/>
          <p:nvPr/>
        </p:nvSpPr>
        <p:spPr>
          <a:xfrm>
            <a:off x="3851280" y="2924280"/>
            <a:ext cx="0" cy="2592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60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226" name="Łącznik prosty 61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Łącznik prosty 62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upa 63"/>
          <p:cNvGrpSpPr/>
          <p:nvPr/>
        </p:nvGrpSpPr>
        <p:grpSpPr>
          <a:xfrm>
            <a:off x="-73440" y="836640"/>
            <a:ext cx="1570680" cy="5049000"/>
            <a:chOff x="-73440" y="836640"/>
            <a:chExt cx="1570680" cy="5049000"/>
          </a:xfrm>
        </p:grpSpPr>
        <p:cxnSp>
          <p:nvCxnSpPr>
            <p:cNvPr id="229" name="Łącznik prosty ze strzałką 64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230" name="pole tekstowe 65"/>
            <p:cNvSpPr/>
            <p:nvPr/>
          </p:nvSpPr>
          <p:spPr>
            <a:xfrm>
              <a:off x="68544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ole tekstowe 66"/>
            <p:cNvSpPr/>
            <p:nvPr/>
          </p:nvSpPr>
          <p:spPr>
            <a:xfrm>
              <a:off x="-73440" y="1775520"/>
              <a:ext cx="104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inim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ole tekstowe 67"/>
            <p:cNvSpPr/>
            <p:nvPr/>
          </p:nvSpPr>
          <p:spPr>
            <a:xfrm>
              <a:off x="54684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ole tekstowe 68"/>
            <p:cNvSpPr/>
            <p:nvPr/>
          </p:nvSpPr>
          <p:spPr>
            <a:xfrm>
              <a:off x="8640" y="367668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aksym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ole tekstowe 69"/>
            <p:cNvSpPr/>
            <p:nvPr/>
          </p:nvSpPr>
          <p:spPr>
            <a:xfrm>
              <a:off x="539280" y="83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– 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upa 70"/>
          <p:cNvGrpSpPr/>
          <p:nvPr/>
        </p:nvGrpSpPr>
        <p:grpSpPr>
          <a:xfrm>
            <a:off x="899640" y="5516280"/>
            <a:ext cx="7298640" cy="406080"/>
            <a:chOff x="899640" y="5516280"/>
            <a:chExt cx="7298640" cy="406080"/>
          </a:xfrm>
        </p:grpSpPr>
        <p:cxnSp>
          <p:nvCxnSpPr>
            <p:cNvPr id="236" name="Łącznik prosty ze strzałką 71"/>
            <p:cNvCxnSpPr/>
            <p:nvPr/>
          </p:nvCxnSpPr>
          <p:spPr>
            <a:xfrm>
              <a:off x="899640" y="5516280"/>
              <a:ext cx="698436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237" name="pole tekstowe 72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ole tekstowe 73"/>
            <p:cNvSpPr/>
            <p:nvPr/>
          </p:nvSpPr>
          <p:spPr>
            <a:xfrm>
              <a:off x="3643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pole tekstowe 74"/>
            <p:cNvSpPr/>
            <p:nvPr/>
          </p:nvSpPr>
          <p:spPr>
            <a:xfrm>
              <a:off x="5371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pole tekstowe 75"/>
            <p:cNvSpPr/>
            <p:nvPr/>
          </p:nvSpPr>
          <p:spPr>
            <a:xfrm>
              <a:off x="7240320" y="551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76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77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78"/>
          <p:cNvSpPr/>
          <p:nvPr/>
        </p:nvSpPr>
        <p:spPr>
          <a:xfrm>
            <a:off x="3710520" y="24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79"/>
          <p:cNvSpPr/>
          <p:nvPr/>
        </p:nvSpPr>
        <p:spPr>
          <a:xfrm>
            <a:off x="2925720" y="206064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 rynk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80"/>
          <p:cNvSpPr/>
          <p:nvPr/>
        </p:nvSpPr>
        <p:spPr>
          <a:xfrm>
            <a:off x="3068280" y="342900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 rynk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lipsa 86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87"/>
          <p:cNvSpPr/>
          <p:nvPr/>
        </p:nvSpPr>
        <p:spPr>
          <a:xfrm>
            <a:off x="5219640" y="2565360"/>
            <a:ext cx="216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 baseline="-25000">
                <a:solidFill>
                  <a:srgbClr val="c00000"/>
                </a:solidFill>
                <a:latin typeface="Times New Roman ce"/>
                <a:ea typeface="Times New Roman ce"/>
              </a:rPr>
              <a:t>cena równowagi rynkowe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539640" y="836640"/>
          <a:ext cx="7345440" cy="42696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9640" y="1268280"/>
          <a:ext cx="7345440" cy="223200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22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maksymal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cena ustanowiona przez rząd na poziomie niższym od ceny równowagi rynkowej w celu ochrony interesów nabywców. Wprowadzenie ceny maksymalnej skutkuje powstaniem niedoboru rynkoweg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9640" y="3500280"/>
          <a:ext cx="7345440" cy="187344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1873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minimal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cena ustanowiona przez rząd na poziomie wyższym od ceny równowagi </a:t>
                      </a:r>
                      <a:br>
                        <a:rPr sz="2200"/>
                      </a:b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 celu ochrony interesów producentów. Wprowadzenie ceny minimalnej skutkuje powstaniem nadwyżki rynkowej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Łącznik prosty 30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Łącznik prosty 32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76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98" name="Łącznik prosty 34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Łącznik prosty 36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79"/>
          <p:cNvGrpSpPr/>
          <p:nvPr/>
        </p:nvGrpSpPr>
        <p:grpSpPr>
          <a:xfrm>
            <a:off x="900000" y="2924280"/>
            <a:ext cx="2951280" cy="2592360"/>
            <a:chOff x="900000" y="2924280"/>
            <a:chExt cx="2951280" cy="2592360"/>
          </a:xfrm>
        </p:grpSpPr>
        <p:sp>
          <p:nvSpPr>
            <p:cNvPr id="101" name="Łącznik prosty 44"/>
            <p:cNvSpPr/>
            <p:nvPr/>
          </p:nvSpPr>
          <p:spPr>
            <a:xfrm flipH="1">
              <a:off x="900000" y="292428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Łącznik prosty 46"/>
            <p:cNvSpPr/>
            <p:nvPr/>
          </p:nvSpPr>
          <p:spPr>
            <a:xfrm>
              <a:off x="3851280" y="2924280"/>
              <a:ext cx="0" cy="259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78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104" name="Łącznik prosty 48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Łącznik prosty 50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upa 74"/>
          <p:cNvGrpSpPr/>
          <p:nvPr/>
        </p:nvGrpSpPr>
        <p:grpSpPr>
          <a:xfrm>
            <a:off x="540000" y="836640"/>
            <a:ext cx="957960" cy="5049000"/>
            <a:chOff x="540000" y="836640"/>
            <a:chExt cx="957960" cy="5049000"/>
          </a:xfrm>
        </p:grpSpPr>
        <p:cxnSp>
          <p:nvCxnSpPr>
            <p:cNvPr id="107" name="Łącznik prosty ze strzałką 12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08" name="pole tekstowe 53"/>
            <p:cNvSpPr/>
            <p:nvPr/>
          </p:nvSpPr>
          <p:spPr>
            <a:xfrm>
              <a:off x="68652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ole tekstowe 57"/>
            <p:cNvSpPr/>
            <p:nvPr/>
          </p:nvSpPr>
          <p:spPr>
            <a:xfrm>
              <a:off x="547560" y="1844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ole tekstowe 58"/>
            <p:cNvSpPr/>
            <p:nvPr/>
          </p:nvSpPr>
          <p:spPr>
            <a:xfrm>
              <a:off x="54756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ole tekstowe 59"/>
            <p:cNvSpPr/>
            <p:nvPr/>
          </p:nvSpPr>
          <p:spPr>
            <a:xfrm>
              <a:off x="547560" y="3717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ole tekstowe 60"/>
            <p:cNvSpPr/>
            <p:nvPr/>
          </p:nvSpPr>
          <p:spPr>
            <a:xfrm>
              <a:off x="540000" y="83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75"/>
          <p:cNvGrpSpPr/>
          <p:nvPr/>
        </p:nvGrpSpPr>
        <p:grpSpPr>
          <a:xfrm>
            <a:off x="900000" y="5516280"/>
            <a:ext cx="7350120" cy="406080"/>
            <a:chOff x="900000" y="5516280"/>
            <a:chExt cx="7350120" cy="406080"/>
          </a:xfrm>
        </p:grpSpPr>
        <p:cxnSp>
          <p:nvCxnSpPr>
            <p:cNvPr id="114" name="Łącznik prosty ze strzałką 16"/>
            <p:cNvCxnSpPr/>
            <p:nvPr/>
          </p:nvCxnSpPr>
          <p:spPr>
            <a:xfrm>
              <a:off x="900000" y="5516280"/>
              <a:ext cx="69847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15" name="pole tekstowe 54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ole tekstowe 55"/>
            <p:cNvSpPr/>
            <p:nvPr/>
          </p:nvSpPr>
          <p:spPr>
            <a:xfrm>
              <a:off x="364356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56"/>
            <p:cNvSpPr/>
            <p:nvPr/>
          </p:nvSpPr>
          <p:spPr>
            <a:xfrm>
              <a:off x="537192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ole tekstowe 62"/>
            <p:cNvSpPr/>
            <p:nvPr/>
          </p:nvSpPr>
          <p:spPr>
            <a:xfrm>
              <a:off x="7241760" y="5516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ole tekstowe 63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64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65"/>
          <p:cNvSpPr/>
          <p:nvPr/>
        </p:nvSpPr>
        <p:spPr>
          <a:xfrm>
            <a:off x="4081680" y="278136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 – punkt równowagi rynk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66"/>
          <p:cNvSpPr/>
          <p:nvPr/>
        </p:nvSpPr>
        <p:spPr>
          <a:xfrm>
            <a:off x="3282480" y="220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67"/>
          <p:cNvSpPr/>
          <p:nvPr/>
        </p:nvSpPr>
        <p:spPr>
          <a:xfrm>
            <a:off x="3281760" y="3357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Łącznik prosty ze strzałką 69"/>
          <p:cNvCxnSpPr>
            <a:stCxn id="116" idx="3"/>
            <a:endCxn id="117" idx="1"/>
          </p:cNvCxnSpPr>
          <p:nvPr/>
        </p:nvCxnSpPr>
        <p:spPr>
          <a:xfrm>
            <a:off x="4013280" y="5702040"/>
            <a:ext cx="135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Łącznik prosty ze strzałką 71"/>
          <p:cNvCxnSpPr>
            <a:stCxn id="110" idx="2"/>
            <a:endCxn id="111" idx="0"/>
          </p:cNvCxnSpPr>
          <p:nvPr/>
        </p:nvCxnSpPr>
        <p:spPr>
          <a:xfrm>
            <a:off x="734760" y="3077640"/>
            <a:ext cx="10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Elipsa 73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539640" y="907920"/>
          <a:ext cx="7561440" cy="57168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39640" y="1484280"/>
          <a:ext cx="7561440" cy="115092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1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ównowaga rynkow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taka sytuacja na rynku danego dobra, w której wielkość popytu równa jest wielkości podaż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39640" y="2637000"/>
          <a:ext cx="7561440" cy="151272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51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równowa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cena równoważąca rynek danego dobra, przy której wielkość zapotrzebowania na dane dobro równa jest wielkości oferowanej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9640" y="4149720"/>
          <a:ext cx="7561440" cy="122400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ielkość równowa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wielkość transakcji dokonywanych w warunkach, gdy wielkość popytu równa się wielkości podaż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19242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ole tekstowe 7"/>
          <p:cNvSpPr/>
          <p:nvPr/>
        </p:nvSpPr>
        <p:spPr>
          <a:xfrm>
            <a:off x="1979640" y="404640"/>
            <a:ext cx="6264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ena będzie wyższa od ceny równowagi (P1), będziemy mieć do czynienia z sytuacją, w której przedsiębiorcy oferują więcej dobra, niż gospodarstwa domowe chcą kupić. Jest to stan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dwyżki rynkowej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zwanej również nadwyżką podaży lub niedoborem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37576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7"/>
          <p:cNvSpPr/>
          <p:nvPr/>
        </p:nvSpPr>
        <p:spPr>
          <a:xfrm>
            <a:off x="3059280" y="476280"/>
            <a:ext cx="5257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ena będzie niższa od ceny równowagi (P2), będziemy mieć do czynienia z sytuacją, w której przedsiębiorcy zaoferują mniej dobra, niż gospodarstwa domowe chcą kupić. Jest to stan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boru rynkow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zwanego niedoborem podaży lub nadwyżką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552400" cy="20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29149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echanizm rynk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upa 12"/>
          <p:cNvGrpSpPr/>
          <p:nvPr/>
        </p:nvGrpSpPr>
        <p:grpSpPr>
          <a:xfrm>
            <a:off x="395280" y="1341360"/>
            <a:ext cx="7632720" cy="4175280"/>
            <a:chOff x="395280" y="1341360"/>
            <a:chExt cx="7632720" cy="4175280"/>
          </a:xfrm>
        </p:grpSpPr>
        <p:sp>
          <p:nvSpPr>
            <p:cNvPr id="151" name="Prostokąt zaokrąglony 8"/>
            <p:cNvSpPr/>
            <p:nvPr/>
          </p:nvSpPr>
          <p:spPr>
            <a:xfrm>
              <a:off x="1834920" y="3141720"/>
              <a:ext cx="6193080" cy="2374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ole tekstowe 7"/>
            <p:cNvSpPr/>
            <p:nvPr/>
          </p:nvSpPr>
          <p:spPr>
            <a:xfrm>
              <a:off x="2339280" y="3501000"/>
              <a:ext cx="51127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 proces ciągłego dopasowywania się do siebie podaży (S) i popytu (D) celem osiągnięcia równowagi rynkowej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2304000" cy="22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Minus 12"/>
          <p:cNvSpPr/>
          <p:nvPr/>
        </p:nvSpPr>
        <p:spPr>
          <a:xfrm>
            <a:off x="347760" y="2886120"/>
            <a:ext cx="7584840" cy="869760"/>
          </a:xfrm>
          <a:custGeom>
            <a:avLst/>
            <a:gdLst>
              <a:gd name="textAreaLeft" fmla="*/ 1005120 w 7584840"/>
              <a:gd name="textAreaRight" fmla="*/ 6579720 w 7584840"/>
              <a:gd name="textAreaTop" fmla="*/ 332640 h 869760"/>
              <a:gd name="textAreaBottom" fmla="*/ 537120 h 869760"/>
            </a:gdLst>
            <a:ahLst/>
            <a:rect l="textAreaLeft" t="textAreaTop" r="textAreaRight" b="textAreaBottom"/>
            <a:pathLst>
              <a:path w="7585075" h="869950">
                <a:moveTo>
                  <a:pt x="1005401" y="332669"/>
                </a:moveTo>
                <a:lnTo>
                  <a:pt x="6579674" y="332669"/>
                </a:lnTo>
                <a:lnTo>
                  <a:pt x="6579674" y="537281"/>
                </a:lnTo>
                <a:lnTo>
                  <a:pt x="1005401" y="537281"/>
                </a:lnTo>
                <a:close/>
              </a:path>
            </a:pathLst>
          </a:custGeom>
          <a:solidFill>
            <a:srgbClr val="b2c1db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załka w dół 14"/>
          <p:cNvSpPr/>
          <p:nvPr/>
        </p:nvSpPr>
        <p:spPr>
          <a:xfrm>
            <a:off x="1239840" y="955800"/>
            <a:ext cx="2289240" cy="210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olny kształt 15"/>
          <p:cNvSpPr/>
          <p:nvPr/>
        </p:nvSpPr>
        <p:spPr>
          <a:xfrm>
            <a:off x="3924360" y="692280"/>
            <a:ext cx="3672000" cy="220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dwyżka rynkowa (nadwyżka podaży, niedobór popytu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est to taki stan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wielkość podaży jest większa od wielkości popytu, występuje przy cenie większej od ceny równow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załka w górę 16"/>
          <p:cNvSpPr/>
          <p:nvPr/>
        </p:nvSpPr>
        <p:spPr>
          <a:xfrm>
            <a:off x="4749840" y="3584520"/>
            <a:ext cx="2290680" cy="2102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wolny kształt 17"/>
          <p:cNvSpPr/>
          <p:nvPr/>
        </p:nvSpPr>
        <p:spPr>
          <a:xfrm>
            <a:off x="1187280" y="3741840"/>
            <a:ext cx="3024360" cy="220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bór rynk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taki stan na rynku, w którym wielkość popytu będzie większa od wielkości podaży, występuje przy cenie niższej od ceny równow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Łącznik prosty 7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8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9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168" name="Łącznik prosty 12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Łącznik prosty 14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5"/>
          <p:cNvGrpSpPr/>
          <p:nvPr/>
        </p:nvGrpSpPr>
        <p:grpSpPr>
          <a:xfrm>
            <a:off x="900000" y="2924280"/>
            <a:ext cx="2951280" cy="2592360"/>
            <a:chOff x="900000" y="2924280"/>
            <a:chExt cx="2951280" cy="2592360"/>
          </a:xfrm>
        </p:grpSpPr>
        <p:sp>
          <p:nvSpPr>
            <p:cNvPr id="171" name="Łącznik prosty 16"/>
            <p:cNvSpPr/>
            <p:nvPr/>
          </p:nvSpPr>
          <p:spPr>
            <a:xfrm flipH="1">
              <a:off x="900000" y="292428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Łącznik prosty 17"/>
            <p:cNvSpPr/>
            <p:nvPr/>
          </p:nvSpPr>
          <p:spPr>
            <a:xfrm>
              <a:off x="3851280" y="2924280"/>
              <a:ext cx="0" cy="259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upa 18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174" name="Łącznik prosty 19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Łącznik prosty 20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upa 21"/>
          <p:cNvGrpSpPr/>
          <p:nvPr/>
        </p:nvGrpSpPr>
        <p:grpSpPr>
          <a:xfrm>
            <a:off x="539640" y="836640"/>
            <a:ext cx="900000" cy="5049000"/>
            <a:chOff x="539640" y="836640"/>
            <a:chExt cx="900000" cy="5049000"/>
          </a:xfrm>
        </p:grpSpPr>
        <p:cxnSp>
          <p:nvCxnSpPr>
            <p:cNvPr id="177" name="Łącznik prosty ze strzałką 22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78" name="pole tekstowe 23"/>
            <p:cNvSpPr/>
            <p:nvPr/>
          </p:nvSpPr>
          <p:spPr>
            <a:xfrm>
              <a:off x="68580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ole tekstowe 24"/>
            <p:cNvSpPr/>
            <p:nvPr/>
          </p:nvSpPr>
          <p:spPr>
            <a:xfrm>
              <a:off x="547200" y="1844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ole tekstowe 25"/>
            <p:cNvSpPr/>
            <p:nvPr/>
          </p:nvSpPr>
          <p:spPr>
            <a:xfrm>
              <a:off x="54720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ole tekstowe 26"/>
            <p:cNvSpPr/>
            <p:nvPr/>
          </p:nvSpPr>
          <p:spPr>
            <a:xfrm>
              <a:off x="547200" y="3717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ole tekstowe 27"/>
            <p:cNvSpPr/>
            <p:nvPr/>
          </p:nvSpPr>
          <p:spPr>
            <a:xfrm>
              <a:off x="539640" y="836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–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8"/>
          <p:cNvGrpSpPr/>
          <p:nvPr/>
        </p:nvGrpSpPr>
        <p:grpSpPr>
          <a:xfrm>
            <a:off x="899640" y="5516280"/>
            <a:ext cx="7298640" cy="406080"/>
            <a:chOff x="899640" y="5516280"/>
            <a:chExt cx="7298640" cy="406080"/>
          </a:xfrm>
        </p:grpSpPr>
        <p:cxnSp>
          <p:nvCxnSpPr>
            <p:cNvPr id="184" name="Łącznik prosty ze strzałką 29"/>
            <p:cNvCxnSpPr/>
            <p:nvPr/>
          </p:nvCxnSpPr>
          <p:spPr>
            <a:xfrm>
              <a:off x="899640" y="5516280"/>
              <a:ext cx="698436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85" name="pole tekstowe 30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pole tekstowe 31"/>
            <p:cNvSpPr/>
            <p:nvPr/>
          </p:nvSpPr>
          <p:spPr>
            <a:xfrm>
              <a:off x="3643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ole tekstowe 32"/>
            <p:cNvSpPr/>
            <p:nvPr/>
          </p:nvSpPr>
          <p:spPr>
            <a:xfrm>
              <a:off x="5371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pole tekstowe 33"/>
            <p:cNvSpPr/>
            <p:nvPr/>
          </p:nvSpPr>
          <p:spPr>
            <a:xfrm>
              <a:off x="7240320" y="551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ole tekstowe 34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35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36"/>
          <p:cNvSpPr/>
          <p:nvPr/>
        </p:nvSpPr>
        <p:spPr>
          <a:xfrm>
            <a:off x="4081680" y="278136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 – punkt równowagi rynk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7"/>
          <p:cNvSpPr/>
          <p:nvPr/>
        </p:nvSpPr>
        <p:spPr>
          <a:xfrm>
            <a:off x="3282480" y="220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39"/>
          <p:cNvSpPr/>
          <p:nvPr/>
        </p:nvSpPr>
        <p:spPr>
          <a:xfrm>
            <a:off x="3281760" y="3357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Łącznik prosty ze strzałką 40"/>
          <p:cNvCxnSpPr/>
          <p:nvPr/>
        </p:nvCxnSpPr>
        <p:spPr>
          <a:xfrm>
            <a:off x="4013280" y="5702040"/>
            <a:ext cx="135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5" name="Łącznik prosty ze strzałką 41"/>
          <p:cNvCxnSpPr/>
          <p:nvPr/>
        </p:nvCxnSpPr>
        <p:spPr>
          <a:xfrm>
            <a:off x="734760" y="3077640"/>
            <a:ext cx="10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Elipsa 42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468360" y="1197000"/>
          <a:ext cx="7488360" cy="57636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8360" y="1773360"/>
          <a:ext cx="7488360" cy="158436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158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adwyżka rynkow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taki stan, w którym wielkość podaży jest większa od wielkości popytu, występuje przy cenie większej od ceny równowag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68360" y="3357720"/>
          <a:ext cx="7488360" cy="158400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1584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dobór rynkow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taki stan na rynku, w którym wielkość popytu będzie większa od wielkości podaży, występuje przy cenie niższej od ceny równowag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0:13:10Z</dcterms:created>
  <dc:creator>x</dc:creator>
  <dc:description/>
  <dc:language>en-US</dc:language>
  <cp:lastModifiedBy>Marta</cp:lastModifiedBy>
  <dcterms:modified xsi:type="dcterms:W3CDTF">2013-01-31T15:33:42Z</dcterms:modified>
  <cp:revision>49</cp:revision>
  <dc:subject/>
  <dc:title>Slajd 1</dc:title>
</cp:coreProperties>
</file>