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3BC1-16F3-4310-AEF2-A1DA7CCA5A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97AE-894A-4831-85B8-49CCF36E4F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DEA-5147-4B95-A2A0-6597318B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F86-2804-4622-9344-4BEC8688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EE8-4814-47AA-B57E-C491FA3C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5E3-F986-47B1-9020-CBAAEF70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C44-F35D-4637-ABB0-92D9EC10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48E-4EDC-4E9F-A9DB-2B81B462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7D8-639C-48EA-BBA5-5654CBA9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D80-ACA4-4C79-8AD1-2358BF2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59F-1061-4D16-AAA2-7872D2A5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CD5-6658-4772-BB04-11488BAD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B83-CECF-4978-87E9-7AFCC206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BAF-05D9-49C6-8763-1326606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14AA-8101-4C6F-8A8F-53C8E974C0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C0F-C9C9-4CFD-B799-683441D8A5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gram 11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52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3" name="Prostokąt zaokrąglony 13"/>
            <p:cNvSpPr/>
            <p:nvPr/>
          </p:nvSpPr>
          <p:spPr>
            <a:xfrm>
              <a:off x="666720" y="1989000"/>
              <a:ext cx="8964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rostokąt 14" descr=""/>
            <p:cNvPicPr/>
            <p:nvPr/>
          </p:nvPicPr>
          <p:blipFill>
            <a:blip r:embed="rId3"/>
            <a:stretch/>
          </p:blipFill>
          <p:spPr>
            <a:xfrm>
              <a:off x="611280" y="1999080"/>
              <a:ext cx="10080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640872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081160" cy="16668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upa 14"/>
          <p:cNvGrpSpPr/>
          <p:nvPr/>
        </p:nvGrpSpPr>
        <p:grpSpPr>
          <a:xfrm>
            <a:off x="3348000" y="1628640"/>
            <a:ext cx="4464000" cy="1152720"/>
            <a:chOff x="3348000" y="1628640"/>
            <a:chExt cx="4464000" cy="1152720"/>
          </a:xfrm>
        </p:grpSpPr>
        <p:sp>
          <p:nvSpPr>
            <p:cNvPr id="147" name="Prostokąt zaokrąglony 9"/>
            <p:cNvSpPr/>
            <p:nvPr/>
          </p:nvSpPr>
          <p:spPr>
            <a:xfrm>
              <a:off x="3348000" y="1628640"/>
              <a:ext cx="4464000" cy="115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ole tekstowe 6"/>
            <p:cNvSpPr/>
            <p:nvPr/>
          </p:nvSpPr>
          <p:spPr>
            <a:xfrm>
              <a:off x="3420000" y="1772640"/>
              <a:ext cx="42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Bart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miana towaru za tow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metaliz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6"/>
          <p:cNvSpPr/>
          <p:nvPr/>
        </p:nvSpPr>
        <p:spPr>
          <a:xfrm>
            <a:off x="826920" y="1413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Bimetalizm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funkcjonowanie w obieg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wóch kruszców stanowiących środki płatnic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4324680" cy="2885760"/>
          </a:xfrm>
          <a:prstGeom prst="rect">
            <a:avLst/>
          </a:prstGeom>
          <a:ln w="0">
            <a:noFill/>
          </a:ln>
        </p:spPr>
      </p:pic>
      <p:sp>
        <p:nvSpPr>
          <p:cNvPr id="15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nometaliz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upa 9"/>
          <p:cNvGrpSpPr/>
          <p:nvPr/>
        </p:nvGrpSpPr>
        <p:grpSpPr>
          <a:xfrm>
            <a:off x="755640" y="1773360"/>
            <a:ext cx="7129440" cy="3240000"/>
            <a:chOff x="755640" y="1773360"/>
            <a:chExt cx="7129440" cy="3240000"/>
          </a:xfrm>
        </p:grpSpPr>
        <p:sp>
          <p:nvSpPr>
            <p:cNvPr id="164" name="Prostokąt zaokrąglony 8"/>
            <p:cNvSpPr/>
            <p:nvPr/>
          </p:nvSpPr>
          <p:spPr>
            <a:xfrm>
              <a:off x="3276360" y="2925720"/>
              <a:ext cx="4608720" cy="20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ole tekstowe 6"/>
            <p:cNvSpPr/>
            <p:nvPr/>
          </p:nvSpPr>
          <p:spPr>
            <a:xfrm>
              <a:off x="3492000" y="3069360"/>
              <a:ext cx="432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Monometaliz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ystem, 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tórym tylko jeden krusz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środkiem płatniczy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2" descr=""/>
            <p:cNvPicPr/>
            <p:nvPr/>
          </p:nvPicPr>
          <p:blipFill>
            <a:blip r:embed="rId2"/>
            <a:stretch/>
          </p:blipFill>
          <p:spPr>
            <a:xfrm>
              <a:off x="755640" y="1773360"/>
              <a:ext cx="2717640" cy="172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pieniądza kruszcowe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upa 9"/>
          <p:cNvGrpSpPr/>
          <p:nvPr/>
        </p:nvGrpSpPr>
        <p:grpSpPr>
          <a:xfrm>
            <a:off x="755640" y="1773360"/>
            <a:ext cx="6997680" cy="3024000"/>
            <a:chOff x="755640" y="1773360"/>
            <a:chExt cx="6997680" cy="3024000"/>
          </a:xfrm>
        </p:grpSpPr>
        <p:pic>
          <p:nvPicPr>
            <p:cNvPr id="174" name="Picture 2" descr=""/>
            <p:cNvPicPr/>
            <p:nvPr/>
          </p:nvPicPr>
          <p:blipFill>
            <a:blip r:embed="rId2"/>
            <a:stretch/>
          </p:blipFill>
          <p:spPr>
            <a:xfrm>
              <a:off x="4500000" y="2277360"/>
              <a:ext cx="3253320" cy="19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rostokąt zaokrąglony 8"/>
            <p:cNvSpPr/>
            <p:nvPr/>
          </p:nvSpPr>
          <p:spPr>
            <a:xfrm>
              <a:off x="755640" y="1773360"/>
              <a:ext cx="3745080" cy="302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ole tekstowe 6"/>
            <p:cNvSpPr/>
            <p:nvPr/>
          </p:nvSpPr>
          <p:spPr>
            <a:xfrm>
              <a:off x="827640" y="1845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System pieniądza kruszcowego –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ystem, 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tórym rolę pieniądza odgrywa kruszec. Może nim być złoto, sreb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38466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waluty złote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ole tekstowe 6"/>
          <p:cNvSpPr/>
          <p:nvPr/>
        </p:nvSpPr>
        <p:spPr>
          <a:xfrm>
            <a:off x="395280" y="1268280"/>
            <a:ext cx="78487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System waluty złotej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rwszy międzynarodowy system walutowy. Funkcjonowały w nim monety kruszcowe oraz banknoty, które ze względu na ich wygodniejszą obsługę zaczęły wypierać monety kruszcowe. W systemie tym  jednostka pieniądza była odpowiednikiem wartości określonej wagi złota, przy czym emitenci pieniądza gwarantowali, pod określonymi warunkami, wykupienie wydanych pieniędzy za złoto o tej wadze. Banknotom znajdującym się w obiegu, a będącym substytutem pieniądza kruszcowego, odpowiadała odpowiednia ilość złota zdeponowanego w bankach. System wykształcił się w połowie XIX w. i funkcjonował do wybuchu I wojny światowej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7"/>
          <p:cNvSpPr/>
          <p:nvPr/>
        </p:nvSpPr>
        <p:spPr>
          <a:xfrm>
            <a:off x="420840" y="4292640"/>
            <a:ext cx="449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harakterystyczne cechy tego systemu 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8"/>
          <p:cNvSpPr/>
          <p:nvPr/>
        </p:nvSpPr>
        <p:spPr>
          <a:xfrm>
            <a:off x="324000" y="465300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iązanie emisji banknotów z rezerwami złota w danym kraj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iminacja srebra jako równorzędnego pieniądza w stosunku do zło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luta krajowa miała ustalony parytet w zło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fikacja systemów pieniężnych poszczególnych kraj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bilność walu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ursy walutowe – stał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C:\Users\Marta\Desktop\sowa\sowa_3.png"/>
          <p:cNvPicPr/>
          <p:nvPr/>
        </p:nvPicPr>
        <p:blipFill>
          <a:blip r:embed="rId9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z Bretton Wo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upa 22"/>
          <p:cNvGrpSpPr/>
          <p:nvPr/>
        </p:nvGrpSpPr>
        <p:grpSpPr>
          <a:xfrm>
            <a:off x="366840" y="1197000"/>
            <a:ext cx="7777080" cy="577800"/>
            <a:chOff x="366840" y="1197000"/>
            <a:chExt cx="7777080" cy="577800"/>
          </a:xfrm>
        </p:grpSpPr>
        <p:sp>
          <p:nvSpPr>
            <p:cNvPr id="194" name="Prostokąt 8"/>
            <p:cNvSpPr/>
            <p:nvPr/>
          </p:nvSpPr>
          <p:spPr>
            <a:xfrm>
              <a:off x="366840" y="1269720"/>
              <a:ext cx="7777080" cy="4939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Dowolny kształt 9"/>
            <p:cNvSpPr/>
            <p:nvPr/>
          </p:nvSpPr>
          <p:spPr>
            <a:xfrm>
              <a:off x="755640" y="1197000"/>
              <a:ext cx="6380280" cy="5778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ntralną walutą jest dola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upa 23"/>
          <p:cNvGrpSpPr/>
          <p:nvPr/>
        </p:nvGrpSpPr>
        <p:grpSpPr>
          <a:xfrm>
            <a:off x="366840" y="1844640"/>
            <a:ext cx="7777080" cy="577800"/>
            <a:chOff x="366840" y="1844640"/>
            <a:chExt cx="7777080" cy="577800"/>
          </a:xfrm>
        </p:grpSpPr>
        <p:sp>
          <p:nvSpPr>
            <p:cNvPr id="197" name="Prostokąt 12"/>
            <p:cNvSpPr/>
            <p:nvPr/>
          </p:nvSpPr>
          <p:spPr>
            <a:xfrm>
              <a:off x="366840" y="1917360"/>
              <a:ext cx="7777080" cy="4939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Dowolny kształt 14"/>
            <p:cNvSpPr/>
            <p:nvPr/>
          </p:nvSpPr>
          <p:spPr>
            <a:xfrm>
              <a:off x="755640" y="1844640"/>
              <a:ext cx="6380280" cy="57780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urs walutowy jest niezależny od poziomu inflacj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24"/>
          <p:cNvGrpSpPr/>
          <p:nvPr/>
        </p:nvGrpSpPr>
        <p:grpSpPr>
          <a:xfrm>
            <a:off x="366840" y="2484360"/>
            <a:ext cx="7777080" cy="1081080"/>
            <a:chOff x="366840" y="2484360"/>
            <a:chExt cx="7777080" cy="1081080"/>
          </a:xfrm>
        </p:grpSpPr>
        <p:sp>
          <p:nvSpPr>
            <p:cNvPr id="200" name="Prostokąt 15"/>
            <p:cNvSpPr/>
            <p:nvPr/>
          </p:nvSpPr>
          <p:spPr>
            <a:xfrm>
              <a:off x="366840" y="2638080"/>
              <a:ext cx="7777080" cy="922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Dowolny kształt 16"/>
            <p:cNvSpPr/>
            <p:nvPr/>
          </p:nvSpPr>
          <p:spPr>
            <a:xfrm>
              <a:off x="755640" y="2484360"/>
              <a:ext cx="6337440" cy="108108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mienialność walut – czyli gwarancja odkupienia przez władze monetarne od innych banków centralnych własnej waluty za złoto, jeśli nie została ona zakupiona w celu dokonania płatności związanych z transakcjami bieżącym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upa 25"/>
          <p:cNvGrpSpPr/>
          <p:nvPr/>
        </p:nvGrpSpPr>
        <p:grpSpPr>
          <a:xfrm>
            <a:off x="366840" y="3645000"/>
            <a:ext cx="7777080" cy="954000"/>
            <a:chOff x="366840" y="3645000"/>
            <a:chExt cx="7777080" cy="954000"/>
          </a:xfrm>
        </p:grpSpPr>
        <p:sp>
          <p:nvSpPr>
            <p:cNvPr id="203" name="Prostokąt 17"/>
            <p:cNvSpPr/>
            <p:nvPr/>
          </p:nvSpPr>
          <p:spPr>
            <a:xfrm>
              <a:off x="366840" y="3717720"/>
              <a:ext cx="7777080" cy="814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Dowolny kształt 18"/>
            <p:cNvSpPr/>
            <p:nvPr/>
          </p:nvSpPr>
          <p:spPr>
            <a:xfrm>
              <a:off x="755640" y="3645000"/>
              <a:ext cx="6308640" cy="954000"/>
            </a:xfrm>
            <a:prstGeom prst="pi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tabilność walutowa – polegająca na tym, że kursy walut narodowych mogły podlegać odchyleniom jedynie w przedziale +/- 1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upa 26"/>
          <p:cNvGrpSpPr/>
          <p:nvPr/>
        </p:nvGrpSpPr>
        <p:grpSpPr>
          <a:xfrm>
            <a:off x="366840" y="4724280"/>
            <a:ext cx="7777080" cy="649440"/>
            <a:chOff x="366840" y="4724280"/>
            <a:chExt cx="7777080" cy="649440"/>
          </a:xfrm>
        </p:grpSpPr>
        <p:sp>
          <p:nvSpPr>
            <p:cNvPr id="206" name="Prostokąt 19"/>
            <p:cNvSpPr/>
            <p:nvPr/>
          </p:nvSpPr>
          <p:spPr>
            <a:xfrm>
              <a:off x="366840" y="4797360"/>
              <a:ext cx="7777080" cy="55584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Dowolny kształt 20"/>
            <p:cNvSpPr/>
            <p:nvPr/>
          </p:nvSpPr>
          <p:spPr>
            <a:xfrm>
              <a:off x="755640" y="4724280"/>
              <a:ext cx="6337440" cy="649440"/>
            </a:xfrm>
            <a:prstGeom prst="pie">
              <a:avLst/>
            </a:prstGeom>
            <a:solidFill>
              <a:srgbClr val="376092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Brak ryzyka kursoweg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ole tekstowe 21"/>
          <p:cNvSpPr/>
          <p:nvPr/>
        </p:nvSpPr>
        <p:spPr>
          <a:xfrm>
            <a:off x="900000" y="57326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z Bretton Woods można nazwać </a:t>
            </a:r>
            <a:br>
              <a:rPr sz="2200"/>
            </a:br>
            <a:r>
              <a:rPr b="1" lang="pl-PL" sz="22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systemem stałego kursu walutowego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upa 15"/>
          <p:cNvGrpSpPr/>
          <p:nvPr/>
        </p:nvGrpSpPr>
        <p:grpSpPr>
          <a:xfrm>
            <a:off x="468360" y="476280"/>
            <a:ext cx="7632720" cy="2232000"/>
            <a:chOff x="468360" y="476280"/>
            <a:chExt cx="7632720" cy="2232000"/>
          </a:xfrm>
        </p:grpSpPr>
        <p:sp>
          <p:nvSpPr>
            <p:cNvPr id="215" name="Prostokąt zaokrąglony 12"/>
            <p:cNvSpPr/>
            <p:nvPr/>
          </p:nvSpPr>
          <p:spPr>
            <a:xfrm>
              <a:off x="3492360" y="691920"/>
              <a:ext cx="4608720" cy="187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pole tekstowe 7"/>
            <p:cNvSpPr/>
            <p:nvPr/>
          </p:nvSpPr>
          <p:spPr>
            <a:xfrm>
              <a:off x="3564720" y="764280"/>
              <a:ext cx="439236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Deficyt płatniczy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nadwyżka wydatków danego kraju np. z tytułu importu dóbr i usług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308664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upa 16"/>
          <p:cNvGrpSpPr/>
          <p:nvPr/>
        </p:nvGrpSpPr>
        <p:grpSpPr>
          <a:xfrm>
            <a:off x="324000" y="3213000"/>
            <a:ext cx="7899120" cy="2678760"/>
            <a:chOff x="324000" y="3213000"/>
            <a:chExt cx="7899120" cy="2678760"/>
          </a:xfrm>
        </p:grpSpPr>
        <p:sp>
          <p:nvSpPr>
            <p:cNvPr id="219" name="Prostokąt zaokrąglony 14"/>
            <p:cNvSpPr/>
            <p:nvPr/>
          </p:nvSpPr>
          <p:spPr>
            <a:xfrm>
              <a:off x="324000" y="3213000"/>
              <a:ext cx="4751280" cy="266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ole tekstowe 8"/>
            <p:cNvSpPr/>
            <p:nvPr/>
          </p:nvSpPr>
          <p:spPr>
            <a:xfrm>
              <a:off x="396000" y="3285000"/>
              <a:ext cx="468000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Stały kurs walutowy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kurs określany przez władze monetarne danego kraju,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podlega zmianom w czasie lub zmiany te, czyli odchylenia, są nieznaczne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3" descr=""/>
            <p:cNvPicPr/>
            <p:nvPr/>
          </p:nvPicPr>
          <p:blipFill>
            <a:blip r:embed="rId3"/>
            <a:stretch/>
          </p:blipFill>
          <p:spPr>
            <a:xfrm>
              <a:off x="4932000" y="3573000"/>
              <a:ext cx="3291120" cy="208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ole tekstowe 7"/>
          <p:cNvSpPr/>
          <p:nvPr/>
        </p:nvSpPr>
        <p:spPr>
          <a:xfrm>
            <a:off x="395280" y="33336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 koniec lat 80. XX w. po upadku porozumienia z Bretton Woods wykształciły się trzy podstawowe systemy kurso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24"/>
          <p:cNvGrpSpPr/>
          <p:nvPr/>
        </p:nvGrpSpPr>
        <p:grpSpPr>
          <a:xfrm>
            <a:off x="6156360" y="1484280"/>
            <a:ext cx="2087640" cy="4681440"/>
            <a:chOff x="6156360" y="1484280"/>
            <a:chExt cx="2087640" cy="4681440"/>
          </a:xfrm>
        </p:grpSpPr>
        <p:sp>
          <p:nvSpPr>
            <p:cNvPr id="229" name="Dowolny kształt 18"/>
            <p:cNvSpPr/>
            <p:nvPr/>
          </p:nvSpPr>
          <p:spPr>
            <a:xfrm rot="16200000">
              <a:off x="4861080" y="2842560"/>
              <a:ext cx="4615200" cy="2024640"/>
            </a:xfrm>
            <a:custGeom>
              <a:avLst/>
              <a:gdLst/>
              <a:ahLst/>
              <a:rect l="l" t="t" r="r" b="b"/>
              <a:pathLst>
                <a:path w="2532797" h="3039356">
                  <a:moveTo>
                    <a:pt x="2427263" y="1"/>
                  </a:moveTo>
                  <a:cubicBezTo>
                    <a:pt x="2455252" y="1"/>
                    <a:pt x="2482095" y="16011"/>
                    <a:pt x="2501887" y="44511"/>
                  </a:cubicBezTo>
                  <a:cubicBezTo>
                    <a:pt x="2521678" y="73011"/>
                    <a:pt x="2532797" y="111664"/>
                    <a:pt x="2532797" y="151969"/>
                  </a:cubicBezTo>
                  <a:lnTo>
                    <a:pt x="2532797" y="2887387"/>
                  </a:lnTo>
                  <a:cubicBezTo>
                    <a:pt x="2532797" y="2927692"/>
                    <a:pt x="2521678" y="2966345"/>
                    <a:pt x="2501887" y="2994845"/>
                  </a:cubicBezTo>
                  <a:cubicBezTo>
                    <a:pt x="2482095" y="3023345"/>
                    <a:pt x="2455252" y="3039355"/>
                    <a:pt x="2427263" y="3039355"/>
                  </a:cubicBezTo>
                  <a:lnTo>
                    <a:pt x="105534" y="3039355"/>
                  </a:lnTo>
                  <a:cubicBezTo>
                    <a:pt x="77545" y="3039355"/>
                    <a:pt x="50702" y="3023345"/>
                    <a:pt x="30910" y="2994845"/>
                  </a:cubicBezTo>
                  <a:cubicBezTo>
                    <a:pt x="11119" y="2966345"/>
                    <a:pt x="0" y="2927692"/>
                    <a:pt x="0" y="2887387"/>
                  </a:cubicBezTo>
                  <a:lnTo>
                    <a:pt x="0" y="151969"/>
                  </a:lnTo>
                  <a:cubicBezTo>
                    <a:pt x="0" y="111664"/>
                    <a:pt x="11119" y="73011"/>
                    <a:pt x="30910" y="44511"/>
                  </a:cubicBezTo>
                  <a:cubicBezTo>
                    <a:pt x="50702" y="16011"/>
                    <a:pt x="77545" y="1"/>
                    <a:pt x="105534" y="1"/>
                  </a:cubicBezTo>
                  <a:lnTo>
                    <a:pt x="2427263" y="1"/>
                  </a:lnTo>
                  <a:close/>
                </a:path>
              </a:pathLst>
            </a:custGeom>
            <a:solidFill>
              <a:srgbClr val="77933c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46840" rIns="70920" tIns="-1440" bIns="1969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Dowolny kształt 20" descr=""/>
            <p:cNvPicPr/>
            <p:nvPr/>
          </p:nvPicPr>
          <p:blipFill>
            <a:blip r:embed="rId2"/>
            <a:stretch/>
          </p:blipFill>
          <p:spPr>
            <a:xfrm>
              <a:off x="6162840" y="1484280"/>
              <a:ext cx="2081160" cy="46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upa 23"/>
          <p:cNvGrpSpPr/>
          <p:nvPr/>
        </p:nvGrpSpPr>
        <p:grpSpPr>
          <a:xfrm>
            <a:off x="2700360" y="1484280"/>
            <a:ext cx="3692520" cy="4681440"/>
            <a:chOff x="2700360" y="1484280"/>
            <a:chExt cx="3692520" cy="4681440"/>
          </a:xfrm>
        </p:grpSpPr>
        <p:grpSp>
          <p:nvGrpSpPr>
            <p:cNvPr id="232" name="Grupa 22"/>
            <p:cNvGrpSpPr/>
            <p:nvPr/>
          </p:nvGrpSpPr>
          <p:grpSpPr>
            <a:xfrm>
              <a:off x="2700360" y="1484280"/>
              <a:ext cx="3384720" cy="4681440"/>
              <a:chOff x="2700360" y="1484280"/>
              <a:chExt cx="3384720" cy="4681440"/>
            </a:xfrm>
          </p:grpSpPr>
          <p:sp>
            <p:nvSpPr>
              <p:cNvPr id="233" name="Dowolny kształt 15"/>
              <p:cNvSpPr/>
              <p:nvPr/>
            </p:nvSpPr>
            <p:spPr>
              <a:xfrm rot="16200000">
                <a:off x="2067480" y="2179800"/>
                <a:ext cx="4615200" cy="3349800"/>
              </a:xfrm>
              <a:custGeom>
                <a:avLst/>
                <a:gdLst/>
                <a:ahLst/>
                <a:rect l="l" t="t" r="r" b="b"/>
                <a:pathLst>
                  <a:path w="2532797" h="3039356">
                    <a:moveTo>
                      <a:pt x="2427263" y="1"/>
                    </a:moveTo>
                    <a:cubicBezTo>
                      <a:pt x="2455252" y="1"/>
                      <a:pt x="2482095" y="16011"/>
                      <a:pt x="2501887" y="44511"/>
                    </a:cubicBezTo>
                    <a:cubicBezTo>
                      <a:pt x="2521678" y="73011"/>
                      <a:pt x="2532797" y="111664"/>
                      <a:pt x="2532797" y="151969"/>
                    </a:cubicBezTo>
                    <a:lnTo>
                      <a:pt x="2532797" y="2887387"/>
                    </a:lnTo>
                    <a:cubicBezTo>
                      <a:pt x="2532797" y="2927692"/>
                      <a:pt x="2521678" y="2966345"/>
                      <a:pt x="2501887" y="2994845"/>
                    </a:cubicBezTo>
                    <a:cubicBezTo>
                      <a:pt x="2482095" y="3023345"/>
                      <a:pt x="2455252" y="3039355"/>
                      <a:pt x="2427263" y="3039355"/>
                    </a:cubicBezTo>
                    <a:lnTo>
                      <a:pt x="105534" y="3039355"/>
                    </a:lnTo>
                    <a:cubicBezTo>
                      <a:pt x="77545" y="3039355"/>
                      <a:pt x="50702" y="3023345"/>
                      <a:pt x="30910" y="2994845"/>
                    </a:cubicBezTo>
                    <a:cubicBezTo>
                      <a:pt x="11119" y="2966345"/>
                      <a:pt x="0" y="2927692"/>
                      <a:pt x="0" y="2887387"/>
                    </a:cubicBezTo>
                    <a:lnTo>
                      <a:pt x="0" y="151969"/>
                    </a:lnTo>
                    <a:cubicBezTo>
                      <a:pt x="0" y="111664"/>
                      <a:pt x="11119" y="73011"/>
                      <a:pt x="30910" y="44511"/>
                    </a:cubicBezTo>
                    <a:cubicBezTo>
                      <a:pt x="50702" y="16011"/>
                      <a:pt x="77545" y="1"/>
                      <a:pt x="105534" y="1"/>
                    </a:cubicBezTo>
                    <a:lnTo>
                      <a:pt x="2427263" y="1"/>
                    </a:lnTo>
                    <a:close/>
                  </a:path>
                </a:pathLst>
              </a:custGeom>
              <a:solidFill>
                <a:srgbClr val="604a7b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6840" rIns="70920" tIns="54720" bIns="202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Dowolny kształt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2480" y="1484280"/>
                <a:ext cx="3342600" cy="468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" name="Schemat blokowy: wyodrębnianie 19"/>
            <p:cNvSpPr/>
            <p:nvPr/>
          </p:nvSpPr>
          <p:spPr>
            <a:xfrm rot="5400000">
              <a:off x="5979240" y="5407560"/>
              <a:ext cx="447480" cy="379440"/>
            </a:xfrm>
            <a:prstGeom prst="flowChartExtract">
              <a:avLst/>
            </a:prstGeom>
            <a:solidFill>
              <a:srgbClr val="fcd5b5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upa 21"/>
          <p:cNvGrpSpPr/>
          <p:nvPr/>
        </p:nvGrpSpPr>
        <p:grpSpPr>
          <a:xfrm>
            <a:off x="468360" y="1484280"/>
            <a:ext cx="2395440" cy="4681440"/>
            <a:chOff x="468360" y="1484280"/>
            <a:chExt cx="2395440" cy="4681440"/>
          </a:xfrm>
        </p:grpSpPr>
        <p:sp>
          <p:nvSpPr>
            <p:cNvPr id="237" name="Dowolny kształt 12"/>
            <p:cNvSpPr/>
            <p:nvPr/>
          </p:nvSpPr>
          <p:spPr>
            <a:xfrm rot="16200000">
              <a:off x="-759600" y="2775240"/>
              <a:ext cx="4615200" cy="2158920"/>
            </a:xfrm>
            <a:custGeom>
              <a:avLst/>
              <a:gdLst/>
              <a:ahLst/>
              <a:rect l="l" t="t" r="r" b="b"/>
              <a:pathLst>
                <a:path w="2532797" h="3039356">
                  <a:moveTo>
                    <a:pt x="2427263" y="1"/>
                  </a:moveTo>
                  <a:cubicBezTo>
                    <a:pt x="2455252" y="1"/>
                    <a:pt x="2482095" y="16011"/>
                    <a:pt x="2501887" y="44511"/>
                  </a:cubicBezTo>
                  <a:cubicBezTo>
                    <a:pt x="2521678" y="73011"/>
                    <a:pt x="2532797" y="111664"/>
                    <a:pt x="2532797" y="151969"/>
                  </a:cubicBezTo>
                  <a:lnTo>
                    <a:pt x="2532797" y="2887387"/>
                  </a:lnTo>
                  <a:cubicBezTo>
                    <a:pt x="2532797" y="2927692"/>
                    <a:pt x="2521678" y="2966345"/>
                    <a:pt x="2501887" y="2994845"/>
                  </a:cubicBezTo>
                  <a:cubicBezTo>
                    <a:pt x="2482095" y="3023345"/>
                    <a:pt x="2455252" y="3039355"/>
                    <a:pt x="2427263" y="3039355"/>
                  </a:cubicBezTo>
                  <a:lnTo>
                    <a:pt x="105534" y="3039355"/>
                  </a:lnTo>
                  <a:cubicBezTo>
                    <a:pt x="77545" y="3039355"/>
                    <a:pt x="50702" y="3023345"/>
                    <a:pt x="30910" y="2994845"/>
                  </a:cubicBezTo>
                  <a:cubicBezTo>
                    <a:pt x="11119" y="2966345"/>
                    <a:pt x="0" y="2927692"/>
                    <a:pt x="0" y="2887387"/>
                  </a:cubicBezTo>
                  <a:lnTo>
                    <a:pt x="0" y="151969"/>
                  </a:lnTo>
                  <a:cubicBezTo>
                    <a:pt x="0" y="111664"/>
                    <a:pt x="11119" y="73011"/>
                    <a:pt x="30910" y="44511"/>
                  </a:cubicBezTo>
                  <a:cubicBezTo>
                    <a:pt x="50702" y="16011"/>
                    <a:pt x="77545" y="1"/>
                    <a:pt x="105534" y="1"/>
                  </a:cubicBezTo>
                  <a:lnTo>
                    <a:pt x="2427263" y="1"/>
                  </a:lnTo>
                  <a:close/>
                </a:path>
              </a:pathLst>
            </a:custGeom>
            <a:solidFill>
              <a:srgbClr val="95373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46840" rIns="70920" tIns="54720" bIns="202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Dowolny kształt 14" descr=""/>
            <p:cNvPicPr/>
            <p:nvPr/>
          </p:nvPicPr>
          <p:blipFill>
            <a:blip r:embed="rId4"/>
            <a:stretch/>
          </p:blipFill>
          <p:spPr>
            <a:xfrm>
              <a:off x="481320" y="1484280"/>
              <a:ext cx="218844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Schemat blokowy: wyodrębnianie 16"/>
            <p:cNvSpPr/>
            <p:nvPr/>
          </p:nvSpPr>
          <p:spPr>
            <a:xfrm rot="5400000">
              <a:off x="2454120" y="5340960"/>
              <a:ext cx="439560" cy="379440"/>
            </a:xfrm>
            <a:prstGeom prst="flowChartExtract">
              <a:avLst/>
            </a:prstGeom>
            <a:solidFill>
              <a:srgbClr val="fcd5b5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ice kursow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ole tekstowe 6"/>
          <p:cNvSpPr/>
          <p:nvPr/>
        </p:nvSpPr>
        <p:spPr>
          <a:xfrm>
            <a:off x="2195640" y="1341360"/>
            <a:ext cx="59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Różnice kursow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owstają, kiedy kurs waluty obcej zastosowany do przeliczenia wartości zdarzenia gospodarczego wyrażonego w walucie jest inny niż kurs z dnia faktycznej spłaty zobowiązania bądź należności. Różnice kursowe mogą być dodatnie lub ujem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1743120" cy="1514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3914640" cy="2400480"/>
          </a:xfrm>
          <a:prstGeom prst="rect">
            <a:avLst/>
          </a:prstGeom>
          <a:ln w="0">
            <a:noFill/>
          </a:ln>
        </p:spPr>
      </p:pic>
      <p:sp>
        <p:nvSpPr>
          <p:cNvPr id="249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Dowolny kształt 16"/>
          <p:cNvSpPr/>
          <p:nvPr/>
        </p:nvSpPr>
        <p:spPr>
          <a:xfrm>
            <a:off x="468360" y="550800"/>
            <a:ext cx="2590920" cy="2747880"/>
          </a:xfrm>
          <a:prstGeom prst="pi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0" rIns="493200" tIns="699480" bIns="699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 wewnętrzne wartości waluty danego kra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owolny kształt 17"/>
          <p:cNvSpPr/>
          <p:nvPr/>
        </p:nvSpPr>
        <p:spPr>
          <a:xfrm>
            <a:off x="3059280" y="550800"/>
            <a:ext cx="4968720" cy="2662200"/>
          </a:xfrm>
          <a:prstGeom prst="pie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01160" tIns="101160" bIns="10116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iom bezroboci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lityczn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bilność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gospodarcz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ód narod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ficyt budżet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 bilansu handlow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Dowolny kształt 12"/>
          <p:cNvSpPr/>
          <p:nvPr/>
        </p:nvSpPr>
        <p:spPr>
          <a:xfrm>
            <a:off x="468360" y="3575160"/>
            <a:ext cx="2590920" cy="2603520"/>
          </a:xfrm>
          <a:prstGeom prst="pi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6920" rIns="466920" tIns="662040" bIns="66204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 zewnętrzne wartości waluty danego k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owolny kształt 14"/>
          <p:cNvSpPr/>
          <p:nvPr/>
        </p:nvSpPr>
        <p:spPr>
          <a:xfrm>
            <a:off x="3059280" y="4076640"/>
            <a:ext cx="4968720" cy="1693800"/>
          </a:xfrm>
          <a:prstGeom prst="pie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96480" tIns="96480" bIns="9648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iom cen surowców na świecie – rop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tuacja polityczna na świe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ynek walut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upa 17"/>
          <p:cNvGrpSpPr/>
          <p:nvPr/>
        </p:nvGrpSpPr>
        <p:grpSpPr>
          <a:xfrm>
            <a:off x="611280" y="1773360"/>
            <a:ext cx="3816360" cy="2016000"/>
            <a:chOff x="611280" y="1773360"/>
            <a:chExt cx="3816360" cy="2016000"/>
          </a:xfrm>
        </p:grpSpPr>
        <p:sp>
          <p:nvSpPr>
            <p:cNvPr id="60" name="Prostokąt zaokrąglony 15"/>
            <p:cNvSpPr/>
            <p:nvPr/>
          </p:nvSpPr>
          <p:spPr>
            <a:xfrm>
              <a:off x="611280" y="1773360"/>
              <a:ext cx="3816360" cy="2016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ole tekstowe 12"/>
            <p:cNvSpPr/>
            <p:nvPr/>
          </p:nvSpPr>
          <p:spPr>
            <a:xfrm>
              <a:off x="683280" y="1845360"/>
              <a:ext cx="367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ynek walutow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– </a:t>
              </a:r>
              <a:r>
                <a:rPr b="0" lang="pl-PL" sz="24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to miejsce (lub proces) związane z wymianą walu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32400" cy="2306880"/>
          </a:xfrm>
          <a:prstGeom prst="rect">
            <a:avLst/>
          </a:prstGeom>
          <a:ln w="0">
            <a:noFill/>
          </a:ln>
        </p:spPr>
      </p:pic>
      <p:sp>
        <p:nvSpPr>
          <p:cNvPr id="63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arny rynek walut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ole tekstowe 6"/>
          <p:cNvSpPr/>
          <p:nvPr/>
        </p:nvSpPr>
        <p:spPr>
          <a:xfrm>
            <a:off x="684360" y="1557360"/>
            <a:ext cx="7056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Czarny rynek walutowy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 okresie PRL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dozwolona forma wymiany walut obcy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392720" cy="3213000"/>
          </a:xfrm>
          <a:prstGeom prst="rect">
            <a:avLst/>
          </a:prstGeom>
          <a:ln w="0">
            <a:noFill/>
          </a:ln>
        </p:spPr>
      </p:pic>
      <p:sp>
        <p:nvSpPr>
          <p:cNvPr id="266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ldo handlowe kraj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ole tekstowe 6"/>
          <p:cNvSpPr/>
          <p:nvPr/>
        </p:nvSpPr>
        <p:spPr>
          <a:xfrm>
            <a:off x="539640" y="3860640"/>
            <a:ext cx="756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śli eksport jest wyższy od importu, to saldo jest dodatnie i jest nazywane </a:t>
            </a: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nadwyżką w handlu zagranicznym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nadwyżką bilansu handloweg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import przewyższa eksport, to ujemne saldo nazywa się </a:t>
            </a: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deficytem (niedoborem) bilansu handloweg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owolny kształt 9"/>
          <p:cNvSpPr/>
          <p:nvPr/>
        </p:nvSpPr>
        <p:spPr>
          <a:xfrm>
            <a:off x="541440" y="1609560"/>
            <a:ext cx="1652400" cy="165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8920" rIns="268920" tIns="268920" bIns="268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port towarów i usłu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owolny kształt 12"/>
          <p:cNvSpPr/>
          <p:nvPr/>
        </p:nvSpPr>
        <p:spPr>
          <a:xfrm>
            <a:off x="2328840" y="1957320"/>
            <a:ext cx="959040" cy="959040"/>
          </a:xfrm>
          <a:custGeom>
            <a:avLst/>
            <a:gdLst/>
            <a:ahLst/>
            <a:rect l="l" t="t" r="r" b="b"/>
            <a:pathLst>
              <a:path w="958863" h="958863">
                <a:moveTo>
                  <a:pt x="127097" y="366669"/>
                </a:moveTo>
                <a:lnTo>
                  <a:pt x="831766" y="366669"/>
                </a:lnTo>
                <a:lnTo>
                  <a:pt x="831766" y="592194"/>
                </a:lnTo>
                <a:lnTo>
                  <a:pt x="127097" y="592194"/>
                </a:lnTo>
                <a:lnTo>
                  <a:pt x="127097" y="366669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366480" bIns="36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olny kształt 14"/>
          <p:cNvSpPr/>
          <p:nvPr/>
        </p:nvSpPr>
        <p:spPr>
          <a:xfrm>
            <a:off x="3421080" y="1609560"/>
            <a:ext cx="1654200" cy="165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8920" rIns="268920" tIns="268920" bIns="268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mport towarów i usłu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olny kształt 15"/>
          <p:cNvSpPr/>
          <p:nvPr/>
        </p:nvSpPr>
        <p:spPr>
          <a:xfrm>
            <a:off x="5208480" y="1957320"/>
            <a:ext cx="959040" cy="959040"/>
          </a:xfrm>
          <a:custGeom>
            <a:avLst/>
            <a:gdLst/>
            <a:ahLst/>
            <a:rect l="l" t="t" r="r" b="b"/>
            <a:pathLst>
              <a:path w="958863" h="958863">
                <a:moveTo>
                  <a:pt x="127097" y="197526"/>
                </a:moveTo>
                <a:lnTo>
                  <a:pt x="831766" y="197526"/>
                </a:lnTo>
                <a:lnTo>
                  <a:pt x="831766" y="423050"/>
                </a:lnTo>
                <a:lnTo>
                  <a:pt x="127097" y="423050"/>
                </a:lnTo>
                <a:lnTo>
                  <a:pt x="127097" y="197526"/>
                </a:lnTo>
                <a:close/>
                <a:moveTo>
                  <a:pt x="127097" y="535813"/>
                </a:moveTo>
                <a:lnTo>
                  <a:pt x="831766" y="535813"/>
                </a:lnTo>
                <a:lnTo>
                  <a:pt x="831766" y="761337"/>
                </a:lnTo>
                <a:lnTo>
                  <a:pt x="127097" y="761337"/>
                </a:lnTo>
                <a:lnTo>
                  <a:pt x="127097" y="535813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197280" bIns="19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olny kształt 16"/>
          <p:cNvSpPr/>
          <p:nvPr/>
        </p:nvSpPr>
        <p:spPr>
          <a:xfrm>
            <a:off x="6302520" y="1609560"/>
            <a:ext cx="1652400" cy="165420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8920" rIns="268920" tIns="268920" bIns="2689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ldo handlowe k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wnowaga bilansu płatnicze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ole tekstowe 6"/>
          <p:cNvSpPr/>
          <p:nvPr/>
        </p:nvSpPr>
        <p:spPr>
          <a:xfrm>
            <a:off x="4211640" y="1484280"/>
            <a:ext cx="40323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Równowaga bilansu płatniczeg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bilans płatniczy przedstawia napływ (odpływ) netto środków pieniężnych do danego kraju. Nadwyżka obrotów bieżących musi zostać zrównoważona przez deficyt obrotów kapitałowych i/lub wzrost rezerw dewizowych. Deficyt obrotów bieżących musi zostać zrównoważony przez nadwyżkę obrotów kapitałowych i/lub zmniejszenie rezerw dewizowych.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łuższej perspektywie niezbędna jest równowaga obrotów bieżących.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eciwnym wypadku dojdzie do wyczerpania poziomu rezerw lub wzrostu zadłużenia kraju u innych państ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733920" cy="403236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obowiązania denominowane w walutach obcyc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ole tekstowe 6"/>
          <p:cNvSpPr/>
          <p:nvPr/>
        </p:nvSpPr>
        <p:spPr>
          <a:xfrm>
            <a:off x="395280" y="1413000"/>
            <a:ext cx="78487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obowiązania denominowane w walutach obcych –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zobowiązanie finansowe oznacza, że mamy wobec kogoś dług. Przykładem zobowiązania jest kredyt albo przyjęcie od kogoś faktury za wykonaną pracę. Kredyt denominowany to kredyt rozliczany w walucie obcej. Umowa kredytowa określa wysokość kredytu w walucie obcej, w niej są wyrażane wysokości rat i w niej prowadzone są wszelkie obliczenia związane z kredytem. Rozliczenia między bankiem a klientem nie są prowadzone w walucie obcej. Bank wypłaca transze kredytu w złotówkach. Również klient spłaca kredyt w złotówkach. W obu wypadkach stosowany jest bieżący kurs danej waluty względem złotówk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3517920" cy="223344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urs walut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le tekstowe 6"/>
          <p:cNvSpPr/>
          <p:nvPr/>
        </p:nvSpPr>
        <p:spPr>
          <a:xfrm>
            <a:off x="684360" y="1557360"/>
            <a:ext cx="5616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Kurs walutowy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szechnie rozumie się jako stosunek, w jakim dokonuje się wymiany określonej ilości danej waluty na jednostkę innej walu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3639960" cy="231156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kcja informacyj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ole tekstowe 6"/>
          <p:cNvSpPr/>
          <p:nvPr/>
        </p:nvSpPr>
        <p:spPr>
          <a:xfrm>
            <a:off x="3851280" y="1557360"/>
            <a:ext cx="439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Funkcja informacyjn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jawia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, że kurs waluty służy do przeliczania cen zagranicznych na ceny krajowe i odwrotnie. Kurs walutowy informuje o sile danej gospodarki. Im ta gospodarka silniejsza, tym mocniejsza jest waluta. Wiąże się to z postrzeganiem danego kraju jako stabiln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stwarzającego szansę na dalszy rozwój gospod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433680" cy="2172960"/>
          </a:xfrm>
          <a:prstGeom prst="rect">
            <a:avLst/>
          </a:prstGeom>
          <a:ln w="0">
            <a:noFill/>
          </a:ln>
        </p:spPr>
      </p:pic>
      <p:sp>
        <p:nvSpPr>
          <p:cNvPr id="7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kcja cenotwórcz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ole tekstowe 6"/>
          <p:cNvSpPr/>
          <p:nvPr/>
        </p:nvSpPr>
        <p:spPr>
          <a:xfrm>
            <a:off x="468360" y="141300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Funkcja cenotwórcz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kurs waluty wpływa bezpośrednio na ceny towarów w handlu zagranicznym oraz pośrednio na ceny towarów przeznaczonych na rynek wewnętrz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2376360" cy="1508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940360" y="4724280"/>
            <a:ext cx="194328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3564000" y="3573360"/>
            <a:ext cx="1879560" cy="211608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ole tekstowe 7"/>
          <p:cNvSpPr/>
          <p:nvPr/>
        </p:nvSpPr>
        <p:spPr>
          <a:xfrm>
            <a:off x="395280" y="47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olsce ceny obowiązujące danego dnia za daną walutę ustalane są i publikowane przez Narodowy Bank Pol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ole tekstowe 8"/>
          <p:cNvSpPr/>
          <p:nvPr/>
        </p:nvSpPr>
        <p:spPr>
          <a:xfrm>
            <a:off x="401400" y="256536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bela kursów to porównanie złotego z innym pieniąd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9"/>
          <p:cNvSpPr/>
          <p:nvPr/>
        </p:nvSpPr>
        <p:spPr>
          <a:xfrm>
            <a:off x="395280" y="3284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stronie internetowej NBP (www.nbp.pl) znajdzies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5724360" y="476280"/>
            <a:ext cx="2502000" cy="1589040"/>
          </a:xfrm>
          <a:prstGeom prst="rect">
            <a:avLst/>
          </a:prstGeom>
          <a:ln w="0">
            <a:noFill/>
          </a:ln>
        </p:spPr>
      </p:pic>
      <p:grpSp>
        <p:nvGrpSpPr>
          <p:cNvPr id="98" name="Grupa 19"/>
          <p:cNvGrpSpPr/>
          <p:nvPr/>
        </p:nvGrpSpPr>
        <p:grpSpPr>
          <a:xfrm>
            <a:off x="611280" y="3933720"/>
            <a:ext cx="6278400" cy="990720"/>
            <a:chOff x="611280" y="3933720"/>
            <a:chExt cx="6278400" cy="990720"/>
          </a:xfrm>
        </p:grpSpPr>
        <p:sp>
          <p:nvSpPr>
            <p:cNvPr id="99" name="Dowolny kształt 15"/>
            <p:cNvSpPr/>
            <p:nvPr/>
          </p:nvSpPr>
          <p:spPr>
            <a:xfrm>
              <a:off x="1957320" y="3933720"/>
              <a:ext cx="4932360" cy="990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544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tabele kursów średnic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rostokąt 16"/>
            <p:cNvSpPr/>
            <p:nvPr/>
          </p:nvSpPr>
          <p:spPr>
            <a:xfrm>
              <a:off x="611280" y="3933720"/>
              <a:ext cx="1841400" cy="990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upa 20"/>
          <p:cNvGrpSpPr/>
          <p:nvPr/>
        </p:nvGrpSpPr>
        <p:grpSpPr>
          <a:xfrm>
            <a:off x="611280" y="5173560"/>
            <a:ext cx="6278400" cy="990720"/>
            <a:chOff x="611280" y="5173560"/>
            <a:chExt cx="6278400" cy="990720"/>
          </a:xfrm>
        </p:grpSpPr>
        <p:sp>
          <p:nvSpPr>
            <p:cNvPr id="102" name="Dowolny kształt 17"/>
            <p:cNvSpPr/>
            <p:nvPr/>
          </p:nvSpPr>
          <p:spPr>
            <a:xfrm>
              <a:off x="1957320" y="5173560"/>
              <a:ext cx="4932360" cy="990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544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tabele kursów kupna </a:t>
              </a:r>
              <a:br>
                <a:rPr sz="2500"/>
              </a:b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sprzedaż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Prostokąt 18"/>
            <p:cNvSpPr/>
            <p:nvPr/>
          </p:nvSpPr>
          <p:spPr>
            <a:xfrm>
              <a:off x="611280" y="5173560"/>
              <a:ext cx="1841400" cy="990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ole tekstowe 1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ole tekstowe 9"/>
          <p:cNvSpPr/>
          <p:nvPr/>
        </p:nvSpPr>
        <p:spPr>
          <a:xfrm>
            <a:off x="1131480" y="5445000"/>
            <a:ext cx="671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urs kupna JEST ZAWSZE niższy niż kurs sprze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Minus 15"/>
          <p:cNvSpPr/>
          <p:nvPr/>
        </p:nvSpPr>
        <p:spPr>
          <a:xfrm rot="21300000">
            <a:off x="490680" y="2506680"/>
            <a:ext cx="7586640" cy="868320"/>
          </a:xfrm>
          <a:custGeom>
            <a:avLst/>
            <a:gdLst>
              <a:gd name="textAreaLeft" fmla="*/ 1005480 w 7586640"/>
              <a:gd name="textAreaRight" fmla="*/ 6581160 w 7586640"/>
              <a:gd name="textAreaTop" fmla="*/ 331920 h 868320"/>
              <a:gd name="textAreaBottom" fmla="*/ 536400 h 868320"/>
            </a:gdLst>
            <a:ahLst/>
            <a:rect l="textAreaLeft" t="textAreaTop" r="textAreaRight" b="textAreaBottom"/>
            <a:pathLst>
              <a:path w="7586662" h="868362">
                <a:moveTo>
                  <a:pt x="1005612" y="332062"/>
                </a:moveTo>
                <a:lnTo>
                  <a:pt x="6581050" y="332062"/>
                </a:lnTo>
                <a:lnTo>
                  <a:pt x="6581050" y="536300"/>
                </a:lnTo>
                <a:lnTo>
                  <a:pt x="1005612" y="536300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załka w dół 16"/>
          <p:cNvSpPr/>
          <p:nvPr/>
        </p:nvSpPr>
        <p:spPr>
          <a:xfrm>
            <a:off x="1382760" y="1111320"/>
            <a:ext cx="2290680" cy="1625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owolny kształt 17"/>
          <p:cNvSpPr/>
          <p:nvPr/>
        </p:nvSpPr>
        <p:spPr>
          <a:xfrm>
            <a:off x="4513320" y="907920"/>
            <a:ext cx="2441520" cy="170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149400" bIns="1494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Kurs sprzedaży waluty </a:t>
            </a: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kurs, po jakim bank (kantor) sprzedaje klientom walut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załka w górę 18"/>
          <p:cNvSpPr/>
          <p:nvPr/>
        </p:nvSpPr>
        <p:spPr>
          <a:xfrm>
            <a:off x="4894200" y="3143160"/>
            <a:ext cx="2290680" cy="1625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ac7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19"/>
          <p:cNvSpPr/>
          <p:nvPr/>
        </p:nvSpPr>
        <p:spPr>
          <a:xfrm>
            <a:off x="1612800" y="3265560"/>
            <a:ext cx="2441520" cy="17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149400" bIns="1494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Kurs kupna waluty </a:t>
            </a: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kurs, po jakim bank (kantor) kupuje od klientów walut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ole tekstowe 7"/>
          <p:cNvSpPr/>
          <p:nvPr/>
        </p:nvSpPr>
        <p:spPr>
          <a:xfrm>
            <a:off x="1619280" y="2060640"/>
            <a:ext cx="66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Aprecjacja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wartości waluty krajowej względem waluty zagranicznej w systemie płynnych kursów walut; oznacza  wzrost siły nabywczej danego pieniądz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ozliczeniach międzynarod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ole tekstowe 8"/>
          <p:cNvSpPr/>
          <p:nvPr/>
        </p:nvSpPr>
        <p:spPr>
          <a:xfrm>
            <a:off x="395280" y="422100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Deprecjacja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li spadek wartości waluty krajowej względem waluty zagranicznej w systemie płynnych kursów walut. Deprecjacja (dewaluacja) oznacza obniżenie siły nabywczej danego pieniądza w rozliczeniach międzynarod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655164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Strzałka w górę 12"/>
          <p:cNvSpPr/>
          <p:nvPr/>
        </p:nvSpPr>
        <p:spPr>
          <a:xfrm>
            <a:off x="395280" y="2060640"/>
            <a:ext cx="1224000" cy="194472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załka w górę 14"/>
          <p:cNvSpPr/>
          <p:nvPr/>
        </p:nvSpPr>
        <p:spPr>
          <a:xfrm rot="10800000">
            <a:off x="7093080" y="4292640"/>
            <a:ext cx="1224000" cy="194472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324000" y="404640"/>
          <a:ext cx="7848360" cy="37152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4000" y="765000"/>
          <a:ext cx="7848360" cy="50508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50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Rynek walut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miejsce (lub proces) związane z wymianą wal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24000" y="1268280"/>
          <a:ext cx="7848360" cy="57636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walut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jednej waluty wyrażona w drugiej waluci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24000" y="1844640"/>
          <a:ext cx="7848360" cy="647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ieżący kurs walut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ustalany przez NBP na bieżąco, nie jest to kurs stały, określany na kilka tygodni, miesięcy czy l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4000" y="2492280"/>
          <a:ext cx="7848360" cy="863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kupna wal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artość waluty obcej obowiązująca nas, kiedy sprzedajemy walutę obcego kraju, np. w kantorze walutowym. Kurs kupna oznacza zatem gotowość kantoru do kupienia od nas waluty za określoną kwot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24000" y="4221000"/>
          <a:ext cx="7848360" cy="863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Aprecja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zrost wartości waluty krajowej względem waluty zagranicznej w systemie płynnych kursów walut; oznacza wzrost siły nabywczej danego pieniądza w rozliczeniach międzynarodowy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24000" y="3357720"/>
          <a:ext cx="7848360" cy="86328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sprzedaży wal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artość waluty obcej obowiązująca nas, kiedy kupujemy walutę obcego kraju, np. w kantorze walutowym. Kurs sprzedaży oznacza zatem gotowość kantoru do sprzedania nam waluty za określoną kwot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5084640"/>
          <a:ext cx="7848360" cy="863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Deprecja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padek wartości waluty krajowej względem waluty zagranicznej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 systemie płynnych kursów walut; oznacza obniżenie siły nabywczej danego pieniądza w rozliczeniach międzynarodowy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38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20:02:44Z</dcterms:created>
  <dc:creator>x</dc:creator>
  <dc:description/>
  <dc:language>en-US</dc:language>
  <cp:lastModifiedBy>Gosia</cp:lastModifiedBy>
  <dcterms:modified xsi:type="dcterms:W3CDTF">2013-01-31T17:20:32Z</dcterms:modified>
  <cp:revision>42</cp:revision>
  <dc:subject/>
  <dc:title>Slajd 1</dc:title>
</cp:coreProperties>
</file>