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C7EE-C48F-4DBE-9979-B5CF7E231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758B-7E23-45B4-A52D-58B01412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6B5F-E039-4200-8AD0-AA52CEBDF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958C-E37A-4494-9430-C4D52EC97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2B18-932A-4BFC-9788-7A316E75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C5E7-C54F-4B26-B397-E309DD17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C7DD-A013-4C11-8DD0-82059D21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040B-8741-467D-A25E-EE7CDC2E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638A-7AB1-473C-9DC4-19A65141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17DF-4D91-48CE-94AD-7399632C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FA93-DDA8-42A0-97E6-7CD144CB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BB47-0215-4744-8DAD-6F6C182A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6F2B9-905F-456F-BE83-B2248EACDBD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Kapitał ludzki"/>
          <p:cNvPicPr/>
          <p:nvPr/>
        </p:nvPicPr>
        <p:blipFill>
          <a:blip r:embed="rId1"/>
          <a:stretch/>
        </p:blipFill>
        <p:spPr>
          <a:xfrm>
            <a:off x="971640" y="5589720"/>
            <a:ext cx="7134120" cy="1114200"/>
          </a:xfrm>
          <a:prstGeom prst="rect">
            <a:avLst/>
          </a:prstGeom>
          <a:ln w="0">
            <a:noFill/>
          </a:ln>
        </p:spPr>
      </p:pic>
      <p:sp>
        <p:nvSpPr>
          <p:cNvPr id="42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67CB-76F0-419F-A613-FD0B1DFD430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ole tekstowe 8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Diagram 9" descr=""/>
          <p:cNvPicPr/>
          <p:nvPr/>
        </p:nvPicPr>
        <p:blipFill>
          <a:blip r:embed="rId2"/>
          <a:stretch/>
        </p:blipFill>
        <p:spPr>
          <a:xfrm>
            <a:off x="1852560" y="1981080"/>
            <a:ext cx="6639120" cy="2481480"/>
          </a:xfrm>
          <a:prstGeom prst="rect">
            <a:avLst/>
          </a:prstGeom>
          <a:ln w="0">
            <a:noFill/>
          </a:ln>
        </p:spPr>
      </p:pic>
      <p:grpSp>
        <p:nvGrpSpPr>
          <p:cNvPr id="45" name="Grupa 9"/>
          <p:cNvGrpSpPr/>
          <p:nvPr/>
        </p:nvGrpSpPr>
        <p:grpSpPr>
          <a:xfrm>
            <a:off x="611280" y="1989000"/>
            <a:ext cx="1008000" cy="711360"/>
            <a:chOff x="611280" y="1989000"/>
            <a:chExt cx="1008000" cy="711360"/>
          </a:xfrm>
        </p:grpSpPr>
        <p:sp>
          <p:nvSpPr>
            <p:cNvPr id="46" name="Prostokąt zaokrąglony 11"/>
            <p:cNvSpPr/>
            <p:nvPr/>
          </p:nvSpPr>
          <p:spPr>
            <a:xfrm>
              <a:off x="671040" y="1989000"/>
              <a:ext cx="882000" cy="71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rostokąt 12" descr=""/>
            <p:cNvPicPr/>
            <p:nvPr/>
          </p:nvPicPr>
          <p:blipFill>
            <a:blip r:embed="rId3"/>
            <a:stretch/>
          </p:blipFill>
          <p:spPr>
            <a:xfrm>
              <a:off x="611280" y="1999080"/>
              <a:ext cx="1008000" cy="6710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2" name=""/>
          <p:cNvGraphicFramePr/>
          <p:nvPr/>
        </p:nvGraphicFramePr>
        <p:xfrm>
          <a:off x="611280" y="981000"/>
          <a:ext cx="7273800" cy="576360"/>
        </p:xfrm>
        <a:graphic>
          <a:graphicData uri="http://schemas.openxmlformats.org/drawingml/2006/table">
            <a:tbl>
              <a:tblPr/>
              <a:tblGrid>
                <a:gridCol w="2736720"/>
                <a:gridCol w="4537080"/>
              </a:tblGrid>
              <a:tr h="576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Pojęc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Definicj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611280" y="1557360"/>
          <a:ext cx="7273800" cy="2448000"/>
        </p:xfrm>
        <a:graphic>
          <a:graphicData uri="http://schemas.openxmlformats.org/drawingml/2006/table">
            <a:tbl>
              <a:tblPr/>
              <a:tblGrid>
                <a:gridCol w="2736720"/>
                <a:gridCol w="4537080"/>
              </a:tblGrid>
              <a:tr h="2448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Pozytywne aspekty globalizacji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Rozpowszechnianie wielu aspektów technologicznych, które mają na celu ułatwienie życia w każdym kraju, postęp naukowo-techniczny, handel międzynarodowy, łatwość komunikowania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611280" y="4005360"/>
          <a:ext cx="7273800" cy="1368360"/>
        </p:xfrm>
        <a:graphic>
          <a:graphicData uri="http://schemas.openxmlformats.org/drawingml/2006/table">
            <a:tbl>
              <a:tblPr/>
              <a:tblGrid>
                <a:gridCol w="2736720"/>
                <a:gridCol w="4537080"/>
              </a:tblGrid>
              <a:tr h="13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Negatywne aspekty globalizacji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Zagrożenie niezależności państwa, utrata  tożsamości narodowo-kulturowej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145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C:\Users\Marta\Desktop\sowa\sowa_3.png"/>
          <p:cNvPicPr/>
          <p:nvPr/>
        </p:nvPicPr>
        <p:blipFill>
          <a:blip r:embed="rId2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la Banku Światoweg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" name="Grupa 9"/>
          <p:cNvGrpSpPr/>
          <p:nvPr/>
        </p:nvGrpSpPr>
        <p:grpSpPr>
          <a:xfrm>
            <a:off x="250920" y="1628640"/>
            <a:ext cx="8101080" cy="4362840"/>
            <a:chOff x="250920" y="1628640"/>
            <a:chExt cx="8101080" cy="4362840"/>
          </a:xfrm>
        </p:grpSpPr>
        <p:sp>
          <p:nvSpPr>
            <p:cNvPr id="152" name="pole tekstowe 6"/>
            <p:cNvSpPr/>
            <p:nvPr/>
          </p:nvSpPr>
          <p:spPr>
            <a:xfrm>
              <a:off x="250920" y="1628640"/>
              <a:ext cx="5761080" cy="43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Rola Banku Światowego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 CE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Wsparcie finansowe (kredyty) w celu zmniejszenia ubóstw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 CE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 CE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Finansowanie inwestycji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budowa dróg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elektrowni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szkół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ostarczanie pomocy merytorycznej </a:t>
              </a:r>
              <a:br>
                <a:rPr sz="2000"/>
              </a:b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i doradztwa fachowego przez organizowanie różnego rodzaju szkoleń nauczycieli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rogramy wyżywienia oraz poprawy sytuacji dzieci i kobiet w krajach Trzeciego Świat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Picture 2" descr=""/>
            <p:cNvPicPr/>
            <p:nvPr/>
          </p:nvPicPr>
          <p:blipFill>
            <a:blip r:embed="rId2"/>
            <a:stretch/>
          </p:blipFill>
          <p:spPr>
            <a:xfrm>
              <a:off x="6155640" y="1988640"/>
              <a:ext cx="2160000" cy="137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3" descr=""/>
            <p:cNvPicPr/>
            <p:nvPr/>
          </p:nvPicPr>
          <p:blipFill>
            <a:blip r:embed="rId3"/>
            <a:stretch/>
          </p:blipFill>
          <p:spPr>
            <a:xfrm>
              <a:off x="6155640" y="3644640"/>
              <a:ext cx="2196360" cy="139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C:\Users\Marta\Desktop\sowa\sowa_3.png"/>
          <p:cNvPicPr/>
          <p:nvPr/>
        </p:nvPicPr>
        <p:blipFill>
          <a:blip r:embed="rId4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pole tekstowe 7"/>
          <p:cNvSpPr/>
          <p:nvPr/>
        </p:nvSpPr>
        <p:spPr>
          <a:xfrm>
            <a:off x="347040" y="549360"/>
            <a:ext cx="76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la Międzynarodowego Funduszu Walutowego (MFW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rostokąt zaokrąglony 14"/>
          <p:cNvSpPr/>
          <p:nvPr/>
        </p:nvSpPr>
        <p:spPr>
          <a:xfrm>
            <a:off x="395280" y="1341360"/>
            <a:ext cx="7777080" cy="2054160"/>
          </a:xfrm>
          <a:prstGeom prst="roundRect">
            <a:avLst>
              <a:gd name="adj" fmla="val 10000"/>
            </a:avLst>
          </a:prstGeom>
          <a:solidFill>
            <a:srgbClr val="d0d8e8">
              <a:alpha val="90000"/>
            </a:srgbClr>
          </a:solidFill>
          <a:ln w="25560">
            <a:solidFill>
              <a:srgbClr val="d0d8e8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upa 23"/>
          <p:cNvGrpSpPr/>
          <p:nvPr/>
        </p:nvGrpSpPr>
        <p:grpSpPr>
          <a:xfrm>
            <a:off x="630360" y="1614600"/>
            <a:ext cx="1699920" cy="4294080"/>
            <a:chOff x="630360" y="1614600"/>
            <a:chExt cx="1699920" cy="4294080"/>
          </a:xfrm>
        </p:grpSpPr>
        <p:sp>
          <p:nvSpPr>
            <p:cNvPr id="163" name="Prostokąt zaokrąglony 15"/>
            <p:cNvSpPr/>
            <p:nvPr/>
          </p:nvSpPr>
          <p:spPr>
            <a:xfrm>
              <a:off x="630360" y="1614600"/>
              <a:ext cx="1699920" cy="1508040"/>
            </a:xfrm>
            <a:prstGeom prst="roundRect">
              <a:avLst>
                <a:gd name="adj" fmla="val 10000"/>
              </a:avLst>
            </a:prstGeom>
            <a:blipFill rotWithShape="0">
              <a:blip r:embed="rId2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Dowolny kształt 16"/>
            <p:cNvSpPr/>
            <p:nvPr/>
          </p:nvSpPr>
          <p:spPr>
            <a:xfrm>
              <a:off x="630360" y="3395880"/>
              <a:ext cx="1699920" cy="25128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360" rIns="180360" tIns="128160" bIns="180360" anchor="t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Wsparcie finansowe prowadzonej działalności na rynkach światowy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upa 24"/>
          <p:cNvGrpSpPr/>
          <p:nvPr/>
        </p:nvGrpSpPr>
        <p:grpSpPr>
          <a:xfrm>
            <a:off x="2500200" y="1614600"/>
            <a:ext cx="1698840" cy="4294080"/>
            <a:chOff x="2500200" y="1614600"/>
            <a:chExt cx="1698840" cy="4294080"/>
          </a:xfrm>
        </p:grpSpPr>
        <p:sp>
          <p:nvSpPr>
            <p:cNvPr id="166" name="Prostokąt zaokrąglony 17"/>
            <p:cNvSpPr/>
            <p:nvPr/>
          </p:nvSpPr>
          <p:spPr>
            <a:xfrm>
              <a:off x="2500200" y="1614600"/>
              <a:ext cx="1698840" cy="1508040"/>
            </a:xfrm>
            <a:prstGeom prst="roundRect">
              <a:avLst>
                <a:gd name="adj" fmla="val 10000"/>
              </a:avLst>
            </a:prstGeom>
            <a:blipFill rotWithShape="0">
              <a:blip r:embed="rId3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Dowolny kształt 18"/>
            <p:cNvSpPr/>
            <p:nvPr/>
          </p:nvSpPr>
          <p:spPr>
            <a:xfrm>
              <a:off x="2516040" y="3395880"/>
              <a:ext cx="1667160" cy="25128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9280" rIns="179280" tIns="128160" bIns="179280" anchor="t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Ułatwienie międzynaro-dowej współpracy finansowe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upa 25"/>
          <p:cNvGrpSpPr/>
          <p:nvPr/>
        </p:nvGrpSpPr>
        <p:grpSpPr>
          <a:xfrm>
            <a:off x="4368960" y="1614600"/>
            <a:ext cx="1698480" cy="4294080"/>
            <a:chOff x="4368960" y="1614600"/>
            <a:chExt cx="1698480" cy="4294080"/>
          </a:xfrm>
        </p:grpSpPr>
        <p:sp>
          <p:nvSpPr>
            <p:cNvPr id="169" name="Prostokąt zaokrąglony 19"/>
            <p:cNvSpPr/>
            <p:nvPr/>
          </p:nvSpPr>
          <p:spPr>
            <a:xfrm>
              <a:off x="4368960" y="1614600"/>
              <a:ext cx="1698480" cy="1508040"/>
            </a:xfrm>
            <a:prstGeom prst="roundRect">
              <a:avLst>
                <a:gd name="adj" fmla="val 10000"/>
              </a:avLst>
            </a:prstGeom>
            <a:blipFill rotWithShape="0">
              <a:blip r:embed="rId4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Dowolny kształt 20"/>
            <p:cNvSpPr/>
            <p:nvPr/>
          </p:nvSpPr>
          <p:spPr>
            <a:xfrm>
              <a:off x="4368960" y="3395880"/>
              <a:ext cx="1698480" cy="25128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360" rIns="180360" tIns="128160" bIns="180360" anchor="t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Monitoring stabilności kursów walutowy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upa 26"/>
          <p:cNvGrpSpPr/>
          <p:nvPr/>
        </p:nvGrpSpPr>
        <p:grpSpPr>
          <a:xfrm>
            <a:off x="6237360" y="1614600"/>
            <a:ext cx="1700280" cy="4294080"/>
            <a:chOff x="6237360" y="1614600"/>
            <a:chExt cx="1700280" cy="4294080"/>
          </a:xfrm>
        </p:grpSpPr>
        <p:sp>
          <p:nvSpPr>
            <p:cNvPr id="172" name="Prostokąt zaokrąglony 21"/>
            <p:cNvSpPr/>
            <p:nvPr/>
          </p:nvSpPr>
          <p:spPr>
            <a:xfrm>
              <a:off x="6237360" y="1614600"/>
              <a:ext cx="1700280" cy="1508040"/>
            </a:xfrm>
            <a:prstGeom prst="roundRect">
              <a:avLst>
                <a:gd name="adj" fmla="val 10000"/>
              </a:avLst>
            </a:prstGeom>
            <a:blipFill rotWithShape="0">
              <a:blip r:embed="rId5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Dowolny kształt 22"/>
            <p:cNvSpPr/>
            <p:nvPr/>
          </p:nvSpPr>
          <p:spPr>
            <a:xfrm>
              <a:off x="6237360" y="3395880"/>
              <a:ext cx="1700280" cy="25128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360" rIns="180360" tIns="128160" bIns="180360" anchor="t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iesienie pomocy </a:t>
              </a:r>
              <a:br>
                <a:rPr sz="1800"/>
              </a:b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w sytuacji zachwiania równowagi finansowej państwa członko-wskie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pole tekstowe 23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3" descr="C:\Users\Marta\Desktop\sowa\sowa_3.png"/>
          <p:cNvPicPr/>
          <p:nvPr/>
        </p:nvPicPr>
        <p:blipFill>
          <a:blip r:embed="rId6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7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Obraz 6" descr="wykrzyknik.jpg"/>
          <p:cNvPicPr/>
          <p:nvPr/>
        </p:nvPicPr>
        <p:blipFill>
          <a:blip r:embed="rId2"/>
          <a:stretch/>
        </p:blipFill>
        <p:spPr>
          <a:xfrm>
            <a:off x="5219640" y="0"/>
            <a:ext cx="1152720" cy="11523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4088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PAMIĘTAJ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95280" y="1628640"/>
          <a:ext cx="7561440" cy="540000"/>
        </p:xfrm>
        <a:graphic>
          <a:graphicData uri="http://schemas.openxmlformats.org/drawingml/2006/table">
            <a:tbl>
              <a:tblPr/>
              <a:tblGrid>
                <a:gridCol w="2448000"/>
                <a:gridCol w="5113440"/>
              </a:tblGrid>
              <a:tr h="540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 CE"/>
                        </a:rPr>
                        <a:t>Pojęc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 CE"/>
                        </a:rPr>
                        <a:t>Defini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95280" y="2133720"/>
          <a:ext cx="7561440" cy="1366560"/>
        </p:xfrm>
        <a:graphic>
          <a:graphicData uri="http://schemas.openxmlformats.org/drawingml/2006/table">
            <a:tbl>
              <a:tblPr/>
              <a:tblGrid>
                <a:gridCol w="2448000"/>
                <a:gridCol w="5113440"/>
              </a:tblGrid>
              <a:tr h="1366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Bank Światow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Bank udziela kredytów państwom w celu zmniejszenia ubóstwa oraz finansowania inwestycji przyczyniających się do wzrostu gospodarczego tych krajów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395280" y="3500280"/>
          <a:ext cx="7561440" cy="2160720"/>
        </p:xfrm>
        <a:graphic>
          <a:graphicData uri="http://schemas.openxmlformats.org/drawingml/2006/table">
            <a:tbl>
              <a:tblPr/>
              <a:tblGrid>
                <a:gridCol w="2448000"/>
                <a:gridCol w="5113440"/>
              </a:tblGrid>
              <a:tr h="2160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Międzynarodowy Fundusz Walutow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Międzynarodowy Fundusz Walutowy funkcjonuje w ramach ONZ i  zapewnia państwom członkowskim (jest ich ponad 180) wystarczające ilości waluty do dalszego prowadzenia działalności  gospodarczej z resztą świata. W zamian kraje te są zobowiązane do dokonywania reform ekonomicznych i innych działań stabilizujących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184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8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pole tekstowe 7"/>
          <p:cNvSpPr/>
          <p:nvPr/>
        </p:nvSpPr>
        <p:spPr>
          <a:xfrm>
            <a:off x="282240" y="765000"/>
            <a:ext cx="4580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echy współczesnej globalizacji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ole tekstowe 8"/>
          <p:cNvSpPr/>
          <p:nvPr/>
        </p:nvSpPr>
        <p:spPr>
          <a:xfrm>
            <a:off x="250920" y="1700280"/>
            <a:ext cx="78501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snąca mobilność kapitału i dóbr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zwój obrotów kapitałowych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zwój innowacyjności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zwój Internetu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zwój sieci światowego systemu transportowego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liberalizacja wielu sfer działalności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ywatyzacj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eregulacja sektorów gospodarki, które stanowiły własność państwową i były zmonopolizowa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0"/>
          <a:stretch/>
        </p:blipFill>
        <p:spPr>
          <a:xfrm>
            <a:off x="5724360" y="692280"/>
            <a:ext cx="2451240" cy="2376360"/>
          </a:xfrm>
          <a:prstGeom prst="rect">
            <a:avLst/>
          </a:prstGeom>
          <a:ln w="0">
            <a:noFill/>
          </a:ln>
        </p:spPr>
      </p:pic>
      <p:sp>
        <p:nvSpPr>
          <p:cNvPr id="192" name="pole tekstowe 9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C:\Users\Marta\Desktop\sowa\sowa_3.png"/>
          <p:cNvPicPr/>
          <p:nvPr/>
        </p:nvPicPr>
        <p:blipFill>
          <a:blip r:embed="rId11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próbuj odpowiedzieć na pytani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rostokąt 6"/>
          <p:cNvSpPr/>
          <p:nvPr/>
        </p:nvSpPr>
        <p:spPr>
          <a:xfrm>
            <a:off x="1258920" y="4437000"/>
            <a:ext cx="401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ymień cechy globalizacj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669600" cy="1008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"/>
          <p:cNvPicPr/>
          <p:nvPr/>
        </p:nvPicPr>
        <p:blipFill>
          <a:blip r:embed="rId3"/>
          <a:stretch/>
        </p:blipFill>
        <p:spPr>
          <a:xfrm>
            <a:off x="684360" y="2997360"/>
            <a:ext cx="669600" cy="1008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"/>
          <p:cNvPicPr/>
          <p:nvPr/>
        </p:nvPicPr>
        <p:blipFill>
          <a:blip r:embed="rId4"/>
          <a:stretch/>
        </p:blipFill>
        <p:spPr>
          <a:xfrm>
            <a:off x="539640" y="4149720"/>
            <a:ext cx="898560" cy="966960"/>
          </a:xfrm>
          <a:prstGeom prst="rect">
            <a:avLst/>
          </a:prstGeom>
          <a:ln w="0">
            <a:noFill/>
          </a:ln>
        </p:spPr>
      </p:pic>
      <p:sp>
        <p:nvSpPr>
          <p:cNvPr id="202" name="pole tekstowe 12"/>
          <p:cNvSpPr/>
          <p:nvPr/>
        </p:nvSpPr>
        <p:spPr>
          <a:xfrm>
            <a:off x="1708560" y="2060640"/>
            <a:ext cx="3004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ym jest globalizacj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ole tekstowe 14"/>
          <p:cNvSpPr/>
          <p:nvPr/>
        </p:nvSpPr>
        <p:spPr>
          <a:xfrm>
            <a:off x="1722240" y="3284640"/>
            <a:ext cx="6195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akie skutki wywiera na współczesną gospodarkę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ole tekstowe 13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3" descr="C:\Users\Marta\Desktop\sowa\sowa_3.png"/>
          <p:cNvPicPr/>
          <p:nvPr/>
        </p:nvPicPr>
        <p:blipFill>
          <a:blip r:embed="rId5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4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ole tekstowe 14"/>
          <p:cNvSpPr/>
          <p:nvPr/>
        </p:nvSpPr>
        <p:spPr>
          <a:xfrm>
            <a:off x="507960" y="476280"/>
            <a:ext cx="6153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ocesy globalizacji ujmuje się w wymiarz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upa 23"/>
          <p:cNvGrpSpPr/>
          <p:nvPr/>
        </p:nvGrpSpPr>
        <p:grpSpPr>
          <a:xfrm>
            <a:off x="539640" y="1341360"/>
            <a:ext cx="4969080" cy="1393920"/>
            <a:chOff x="539640" y="1341360"/>
            <a:chExt cx="4969080" cy="1393920"/>
          </a:xfrm>
        </p:grpSpPr>
        <p:sp>
          <p:nvSpPr>
            <p:cNvPr id="53" name="Dowolny kształt 17"/>
            <p:cNvSpPr/>
            <p:nvPr/>
          </p:nvSpPr>
          <p:spPr>
            <a:xfrm>
              <a:off x="539640" y="1341360"/>
              <a:ext cx="4969080" cy="139392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85120" rIns="95400" tIns="95400" bIns="95400" anchor="ctr">
              <a:noAutofit/>
            </a:bodyPr>
            <a:p>
              <a:pPr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      </a:t>
              </a:r>
              <a:r>
                <a:rPr b="1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gospodarczy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Prostokąt zaokrąglony 18"/>
            <p:cNvSpPr/>
            <p:nvPr/>
          </p:nvSpPr>
          <p:spPr>
            <a:xfrm>
              <a:off x="679320" y="1481040"/>
              <a:ext cx="1444680" cy="1114560"/>
            </a:xfrm>
            <a:prstGeom prst="roundRect">
              <a:avLst>
                <a:gd name="adj" fmla="val 10000"/>
              </a:avLst>
            </a:prstGeom>
            <a:blipFill rotWithShape="0">
              <a:blip r:embed="rId2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upa 24"/>
          <p:cNvGrpSpPr/>
          <p:nvPr/>
        </p:nvGrpSpPr>
        <p:grpSpPr>
          <a:xfrm>
            <a:off x="539640" y="2874960"/>
            <a:ext cx="4969080" cy="1395360"/>
            <a:chOff x="539640" y="2874960"/>
            <a:chExt cx="4969080" cy="1395360"/>
          </a:xfrm>
        </p:grpSpPr>
        <p:sp>
          <p:nvSpPr>
            <p:cNvPr id="56" name="Dowolny kształt 19"/>
            <p:cNvSpPr/>
            <p:nvPr/>
          </p:nvSpPr>
          <p:spPr>
            <a:xfrm>
              <a:off x="539640" y="2874960"/>
              <a:ext cx="4969080" cy="139536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85120" rIns="95400" tIns="95400" bIns="95400" anchor="ctr">
              <a:noAutofit/>
            </a:bodyPr>
            <a:p>
              <a:pPr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      </a:t>
              </a:r>
              <a:r>
                <a:rPr b="1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społeczno-kulturowy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Prostokąt zaokrąglony 20"/>
            <p:cNvSpPr/>
            <p:nvPr/>
          </p:nvSpPr>
          <p:spPr>
            <a:xfrm>
              <a:off x="679320" y="3014640"/>
              <a:ext cx="1444680" cy="1116000"/>
            </a:xfrm>
            <a:prstGeom prst="roundRect">
              <a:avLst>
                <a:gd name="adj" fmla="val 10000"/>
              </a:avLst>
            </a:prstGeom>
            <a:blipFill rotWithShape="0">
              <a:blip r:embed="rId3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upa 25"/>
          <p:cNvGrpSpPr/>
          <p:nvPr/>
        </p:nvGrpSpPr>
        <p:grpSpPr>
          <a:xfrm>
            <a:off x="539640" y="4410000"/>
            <a:ext cx="4969080" cy="1395360"/>
            <a:chOff x="539640" y="4410000"/>
            <a:chExt cx="4969080" cy="1395360"/>
          </a:xfrm>
        </p:grpSpPr>
        <p:sp>
          <p:nvSpPr>
            <p:cNvPr id="59" name="Dowolny kształt 21"/>
            <p:cNvSpPr/>
            <p:nvPr/>
          </p:nvSpPr>
          <p:spPr>
            <a:xfrm>
              <a:off x="539640" y="4410000"/>
              <a:ext cx="4969080" cy="139536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85120" rIns="95400" tIns="95400" bIns="95400" anchor="ctr">
              <a:noAutofit/>
            </a:bodyPr>
            <a:p>
              <a:pPr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      </a:t>
              </a:r>
              <a:r>
                <a:rPr b="1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olityczny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Prostokąt zaokrąglony 22"/>
            <p:cNvSpPr/>
            <p:nvPr/>
          </p:nvSpPr>
          <p:spPr>
            <a:xfrm>
              <a:off x="679320" y="4549680"/>
              <a:ext cx="1444680" cy="1116000"/>
            </a:xfrm>
            <a:prstGeom prst="roundRect">
              <a:avLst>
                <a:gd name="adj" fmla="val 10000"/>
              </a:avLst>
            </a:prstGeom>
            <a:blipFill rotWithShape="0">
              <a:blip r:embed="rId4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Picture 2" descr=""/>
          <p:cNvPicPr/>
          <p:nvPr/>
        </p:nvPicPr>
        <p:blipFill>
          <a:blip r:embed="rId5"/>
          <a:stretch/>
        </p:blipFill>
        <p:spPr>
          <a:xfrm>
            <a:off x="5808600" y="1844640"/>
            <a:ext cx="2346480" cy="3240000"/>
          </a:xfrm>
          <a:prstGeom prst="rect">
            <a:avLst/>
          </a:prstGeom>
          <a:ln w="0">
            <a:noFill/>
          </a:ln>
        </p:spPr>
      </p:pic>
      <p:sp>
        <p:nvSpPr>
          <p:cNvPr id="62" name="pole tekstowe 16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C:\Users\Marta\Desktop\sowa\sowa_3.png"/>
          <p:cNvPicPr/>
          <p:nvPr/>
        </p:nvPicPr>
        <p:blipFill>
          <a:blip r:embed="rId6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6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Globalizacja w wymiarze gospodarczy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rostokąt zaokrąglony 14"/>
          <p:cNvSpPr/>
          <p:nvPr/>
        </p:nvSpPr>
        <p:spPr>
          <a:xfrm>
            <a:off x="611280" y="1773360"/>
            <a:ext cx="7200720" cy="23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ole tekstowe 9"/>
          <p:cNvSpPr/>
          <p:nvPr/>
        </p:nvSpPr>
        <p:spPr>
          <a:xfrm>
            <a:off x="755640" y="2133720"/>
            <a:ext cx="691200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lega na ujednoliceniu rynków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(lokalnych, regionalnych, krajowych, międzynarodowych) i obracaniu na nich różnymi towaram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2340000" y="4005360"/>
            <a:ext cx="3672000" cy="2527200"/>
          </a:xfrm>
          <a:prstGeom prst="rect">
            <a:avLst/>
          </a:prstGeom>
          <a:ln w="0">
            <a:noFill/>
          </a:ln>
        </p:spPr>
      </p:pic>
      <p:sp>
        <p:nvSpPr>
          <p:cNvPr id="71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7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20908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Globalizacja w wymiarze społeczno-kulturowy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Grupa 8"/>
          <p:cNvGrpSpPr/>
          <p:nvPr/>
        </p:nvGrpSpPr>
        <p:grpSpPr>
          <a:xfrm>
            <a:off x="468360" y="1773360"/>
            <a:ext cx="7469280" cy="3211560"/>
            <a:chOff x="468360" y="1773360"/>
            <a:chExt cx="7469280" cy="3211560"/>
          </a:xfrm>
        </p:grpSpPr>
        <p:sp>
          <p:nvSpPr>
            <p:cNvPr id="78" name="pole tekstowe 6"/>
            <p:cNvSpPr/>
            <p:nvPr/>
          </p:nvSpPr>
          <p:spPr>
            <a:xfrm>
              <a:off x="468360" y="1773360"/>
              <a:ext cx="54720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Jest odzwierciedlona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oprzez rozwój turystki,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wzmożone migracje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i komercjalizację produktów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Picture 2" descr=""/>
            <p:cNvPicPr/>
            <p:nvPr/>
          </p:nvPicPr>
          <p:blipFill>
            <a:blip r:embed="rId2"/>
            <a:stretch/>
          </p:blipFill>
          <p:spPr>
            <a:xfrm>
              <a:off x="5148360" y="3213720"/>
              <a:ext cx="2789280" cy="177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pole tekstowe 9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8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Globalizacja w wymiarze polityczny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ole tekstowe 6"/>
          <p:cNvSpPr/>
          <p:nvPr/>
        </p:nvSpPr>
        <p:spPr>
          <a:xfrm>
            <a:off x="468360" y="1413000"/>
            <a:ext cx="73771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dzwierciedlona jest w powstawaniu organizacji międzynarodowych, np. takich ja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d0d0d"/>
                </a:solidFill>
                <a:latin typeface="Times New Roman CE"/>
                <a:ea typeface="Times New Roman CE"/>
              </a:rPr>
              <a:t> </a:t>
            </a:r>
            <a:r>
              <a:rPr b="0" lang="pl-PL" sz="2200" spc="-1" strike="noStrike">
                <a:solidFill>
                  <a:srgbClr val="0d0d0d"/>
                </a:solidFill>
                <a:latin typeface="Times New Roman CE"/>
                <a:ea typeface="Times New Roman CE"/>
              </a:rPr>
              <a:t>Bank Światowy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d0d0d"/>
                </a:solidFill>
                <a:latin typeface="Times New Roman CE"/>
                <a:ea typeface="Times New Roman CE"/>
              </a:rPr>
              <a:t> </a:t>
            </a:r>
            <a:r>
              <a:rPr b="0" lang="pl-PL" sz="2200" spc="-1" strike="noStrike">
                <a:solidFill>
                  <a:srgbClr val="0d0d0d"/>
                </a:solidFill>
                <a:latin typeface="Times New Roman CE"/>
                <a:ea typeface="Times New Roman CE"/>
              </a:rPr>
              <a:t>Międzynarodowy Fundusz Walutowy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Unia Europejsk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5292720" y="2997360"/>
            <a:ext cx="2276640" cy="2828880"/>
          </a:xfrm>
          <a:prstGeom prst="rect">
            <a:avLst/>
          </a:prstGeom>
          <a:ln w="0">
            <a:noFill/>
          </a:ln>
        </p:spPr>
      </p:pic>
      <p:sp>
        <p:nvSpPr>
          <p:cNvPr id="88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9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Globalizacj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Grupa 9"/>
          <p:cNvGrpSpPr/>
          <p:nvPr/>
        </p:nvGrpSpPr>
        <p:grpSpPr>
          <a:xfrm>
            <a:off x="324000" y="1197000"/>
            <a:ext cx="7561080" cy="4176720"/>
            <a:chOff x="324000" y="1197000"/>
            <a:chExt cx="7561080" cy="4176720"/>
          </a:xfrm>
        </p:grpSpPr>
        <p:pic>
          <p:nvPicPr>
            <p:cNvPr id="95" name="Picture 2" descr=""/>
            <p:cNvPicPr/>
            <p:nvPr/>
          </p:nvPicPr>
          <p:blipFill>
            <a:blip r:embed="rId2"/>
            <a:stretch/>
          </p:blipFill>
          <p:spPr>
            <a:xfrm>
              <a:off x="324000" y="1197000"/>
              <a:ext cx="2705040" cy="18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Prostokąt zaokrąglony 7"/>
            <p:cNvSpPr/>
            <p:nvPr/>
          </p:nvSpPr>
          <p:spPr>
            <a:xfrm>
              <a:off x="2771640" y="2709720"/>
              <a:ext cx="5113440" cy="2664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pole tekstowe 6"/>
            <p:cNvSpPr/>
            <p:nvPr/>
          </p:nvSpPr>
          <p:spPr>
            <a:xfrm>
              <a:off x="2988360" y="2853360"/>
              <a:ext cx="482472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Jest zjawiskiem obejmującym </a:t>
              </a:r>
              <a:br>
                <a:rPr sz="2000"/>
              </a:b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i przenikającym wszystkie dziedziny życia </a:t>
              </a:r>
              <a:br>
                <a:rPr sz="2000"/>
              </a:b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– polityczną, ekonomiczną, społeczną, kulturalną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Zapewnia swobodny przepływ towarów </a:t>
              </a:r>
              <a:br>
                <a:rPr sz="2000"/>
              </a:b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i usług poprzez liberalizację, tj. ułatwianie </a:t>
              </a:r>
              <a:br>
                <a:rPr sz="2000"/>
              </a:b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w handlu międzynarodowym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zyczyny powstania globalizacj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Grupa 8"/>
          <p:cNvGrpSpPr/>
          <p:nvPr/>
        </p:nvGrpSpPr>
        <p:grpSpPr>
          <a:xfrm>
            <a:off x="539640" y="1700280"/>
            <a:ext cx="7382160" cy="4255920"/>
            <a:chOff x="539640" y="1700280"/>
            <a:chExt cx="7382160" cy="4255920"/>
          </a:xfrm>
        </p:grpSpPr>
        <p:sp>
          <p:nvSpPr>
            <p:cNvPr id="105" name="pole tekstowe 6"/>
            <p:cNvSpPr/>
            <p:nvPr/>
          </p:nvSpPr>
          <p:spPr>
            <a:xfrm>
              <a:off x="539640" y="1700280"/>
              <a:ext cx="73821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Wśród jednych z ważniejszych przyczyn globalizacji jest m.in. zmiana systemów gospodarczych polegająca na zmianie gospodarki danego kraju z gospodarki centralnie planowanej na wolną gospodarkę oraz powstanie instytucji międzynarodowych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Picture 2" descr=""/>
            <p:cNvPicPr/>
            <p:nvPr/>
          </p:nvPicPr>
          <p:blipFill>
            <a:blip r:embed="rId2"/>
            <a:stretch/>
          </p:blipFill>
          <p:spPr>
            <a:xfrm>
              <a:off x="2412000" y="3212640"/>
              <a:ext cx="4058280" cy="274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pole tekstowe 9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1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Obraz 6" descr="wykrzyknik.jpg"/>
          <p:cNvPicPr/>
          <p:nvPr/>
        </p:nvPicPr>
        <p:blipFill>
          <a:blip r:embed="rId2"/>
          <a:stretch/>
        </p:blipFill>
        <p:spPr>
          <a:xfrm>
            <a:off x="5219640" y="0"/>
            <a:ext cx="1152720" cy="11523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4088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PAMIĘTAJ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Grupa 23"/>
          <p:cNvGrpSpPr/>
          <p:nvPr/>
        </p:nvGrpSpPr>
        <p:grpSpPr>
          <a:xfrm>
            <a:off x="406440" y="1344600"/>
            <a:ext cx="2713680" cy="4241880"/>
            <a:chOff x="406440" y="1344600"/>
            <a:chExt cx="2713680" cy="4241880"/>
          </a:xfrm>
        </p:grpSpPr>
        <p:sp>
          <p:nvSpPr>
            <p:cNvPr id="115" name="Dowolny kształt 15"/>
            <p:cNvSpPr/>
            <p:nvPr/>
          </p:nvSpPr>
          <p:spPr>
            <a:xfrm>
              <a:off x="406440" y="1344600"/>
              <a:ext cx="1861920" cy="292428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5000" rIns="135000" tIns="135000" bIns="1047240" anchor="t">
              <a:noAutofit/>
            </a:bodyPr>
            <a:p>
              <a:pPr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pl-PL" sz="19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Proces globalizacji </a:t>
              </a:r>
              <a:br>
                <a:rPr sz="1900"/>
              </a:br>
              <a:r>
                <a:rPr b="1" lang="pl-PL" sz="19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w wymiarze gospodarczym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Dowolny kształt 16"/>
            <p:cNvSpPr/>
            <p:nvPr/>
          </p:nvSpPr>
          <p:spPr>
            <a:xfrm>
              <a:off x="684000" y="3429000"/>
              <a:ext cx="2144520" cy="215748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98000" rIns="198000" tIns="198000" bIns="198000" anchor="t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49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ujednolicenie rynków i obrót towaram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Dowolny kształt 17"/>
            <p:cNvSpPr/>
            <p:nvPr/>
          </p:nvSpPr>
          <p:spPr>
            <a:xfrm rot="21478800">
              <a:off x="2447640" y="2050560"/>
              <a:ext cx="664920" cy="430200"/>
            </a:xfrm>
            <a:custGeom>
              <a:avLst/>
              <a:gdLst/>
              <a:ahLst/>
              <a:rect l="l" t="t" r="r" b="b"/>
              <a:pathLst>
                <a:path w="665459" h="429761">
                  <a:moveTo>
                    <a:pt x="0" y="85952"/>
                  </a:moveTo>
                  <a:lnTo>
                    <a:pt x="450579" y="85952"/>
                  </a:lnTo>
                  <a:lnTo>
                    <a:pt x="450579" y="0"/>
                  </a:lnTo>
                  <a:lnTo>
                    <a:pt x="665459" y="214881"/>
                  </a:lnTo>
                  <a:lnTo>
                    <a:pt x="450579" y="429761"/>
                  </a:lnTo>
                  <a:lnTo>
                    <a:pt x="450579" y="343809"/>
                  </a:lnTo>
                  <a:lnTo>
                    <a:pt x="0" y="343809"/>
                  </a:lnTo>
                  <a:lnTo>
                    <a:pt x="0" y="85952"/>
                  </a:lnTo>
                  <a:close/>
                </a:path>
              </a:pathLst>
            </a:custGeom>
            <a:solidFill>
              <a:srgbClr val="b2c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294967040" rIns="128880" tIns="85680" bIns="85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upa 24"/>
          <p:cNvGrpSpPr/>
          <p:nvPr/>
        </p:nvGrpSpPr>
        <p:grpSpPr>
          <a:xfrm>
            <a:off x="3389400" y="1530360"/>
            <a:ext cx="2549160" cy="3843360"/>
            <a:chOff x="3389400" y="1530360"/>
            <a:chExt cx="2549160" cy="3843360"/>
          </a:xfrm>
        </p:grpSpPr>
        <p:sp>
          <p:nvSpPr>
            <p:cNvPr id="119" name="Dowolny kształt 18"/>
            <p:cNvSpPr/>
            <p:nvPr/>
          </p:nvSpPr>
          <p:spPr>
            <a:xfrm>
              <a:off x="3389400" y="1530360"/>
              <a:ext cx="1727280" cy="205272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5000" rIns="135000" tIns="135000" bIns="756360" anchor="t">
              <a:noAutofit/>
            </a:bodyPr>
            <a:p>
              <a:pPr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pl-PL" sz="19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Proces globalizacji </a:t>
              </a:r>
              <a:br>
                <a:rPr sz="1900"/>
              </a:br>
              <a:r>
                <a:rPr b="1" lang="pl-PL" sz="19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w wymiarze społeczno-kulturowym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Dowolny kształt 19"/>
            <p:cNvSpPr/>
            <p:nvPr/>
          </p:nvSpPr>
          <p:spPr>
            <a:xfrm>
              <a:off x="3636720" y="3284640"/>
              <a:ext cx="2230560" cy="208908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5760" rIns="185760" tIns="185760" bIns="185760" anchor="t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49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rozwój turystyki, wzmożone migracje, komercjalizacja produktów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Dowolny kształt 20"/>
            <p:cNvSpPr/>
            <p:nvPr/>
          </p:nvSpPr>
          <p:spPr>
            <a:xfrm rot="21600">
              <a:off x="5380200" y="2007720"/>
              <a:ext cx="556920" cy="430200"/>
            </a:xfrm>
            <a:custGeom>
              <a:avLst/>
              <a:gdLst/>
              <a:ahLst/>
              <a:rect l="l" t="t" r="r" b="b"/>
              <a:pathLst>
                <a:path w="557338" h="429761">
                  <a:moveTo>
                    <a:pt x="0" y="85952"/>
                  </a:moveTo>
                  <a:lnTo>
                    <a:pt x="342458" y="85952"/>
                  </a:lnTo>
                  <a:lnTo>
                    <a:pt x="342458" y="0"/>
                  </a:lnTo>
                  <a:lnTo>
                    <a:pt x="557338" y="214881"/>
                  </a:lnTo>
                  <a:lnTo>
                    <a:pt x="342458" y="429761"/>
                  </a:lnTo>
                  <a:lnTo>
                    <a:pt x="342458" y="343809"/>
                  </a:lnTo>
                  <a:lnTo>
                    <a:pt x="0" y="343809"/>
                  </a:lnTo>
                  <a:lnTo>
                    <a:pt x="0" y="85952"/>
                  </a:lnTo>
                  <a:close/>
                </a:path>
              </a:pathLst>
            </a:custGeom>
            <a:solidFill>
              <a:srgbClr val="b2c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294967040" rIns="128880" tIns="85680" bIns="85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upa 25"/>
          <p:cNvGrpSpPr/>
          <p:nvPr/>
        </p:nvGrpSpPr>
        <p:grpSpPr>
          <a:xfrm>
            <a:off x="6168960" y="1415880"/>
            <a:ext cx="2086200" cy="5042160"/>
            <a:chOff x="6168960" y="1415880"/>
            <a:chExt cx="2086200" cy="5042160"/>
          </a:xfrm>
        </p:grpSpPr>
        <p:sp>
          <p:nvSpPr>
            <p:cNvPr id="123" name="Dowolny kształt 21"/>
            <p:cNvSpPr/>
            <p:nvPr/>
          </p:nvSpPr>
          <p:spPr>
            <a:xfrm>
              <a:off x="6168960" y="1415880"/>
              <a:ext cx="1727640" cy="244980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5000" rIns="135000" tIns="135000" bIns="888840" anchor="t">
              <a:noAutofit/>
            </a:bodyPr>
            <a:p>
              <a:pPr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pl-PL" sz="19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Proces globalizacji </a:t>
              </a:r>
              <a:br>
                <a:rPr sz="1900"/>
              </a:br>
              <a:r>
                <a:rPr b="1" lang="pl-PL" sz="19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w wymiarze politycznym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Dowolny kształt 22"/>
            <p:cNvSpPr/>
            <p:nvPr/>
          </p:nvSpPr>
          <p:spPr>
            <a:xfrm>
              <a:off x="6445080" y="3286080"/>
              <a:ext cx="1810080" cy="317196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4520" rIns="164520" tIns="164520" bIns="164520" anchor="t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owstawanie organizacji międzynarodo-wych, np.: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343080" indent="-171720">
                <a:lnSpc>
                  <a:spcPct val="90000"/>
                </a:lnSpc>
                <a:spcAft>
                  <a:spcPts val="300"/>
                </a:spcAft>
                <a:buClr>
                  <a:srgbClr val="0d0d0d"/>
                </a:buClr>
                <a:buFont typeface="Times New Roman CE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pl-PL" sz="1600" spc="-1" strike="noStrike">
                  <a:solidFill>
                    <a:srgbClr val="0d0d0d"/>
                  </a:solidFill>
                  <a:latin typeface="Times New Roman CE"/>
                  <a:ea typeface="Times New Roman CE"/>
                </a:rPr>
                <a:t>Bank Światow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343080" indent="-171720">
                <a:lnSpc>
                  <a:spcPct val="90000"/>
                </a:lnSpc>
                <a:spcAft>
                  <a:spcPts val="300"/>
                </a:spcAft>
                <a:buClr>
                  <a:srgbClr val="0d0d0d"/>
                </a:buClr>
                <a:buFont typeface="Times New Roman CE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pl-PL" sz="1600" spc="-1" strike="noStrike">
                  <a:solidFill>
                    <a:srgbClr val="0d0d0d"/>
                  </a:solidFill>
                  <a:latin typeface="Times New Roman CE"/>
                  <a:ea typeface="Times New Roman CE"/>
                </a:rPr>
                <a:t>Międzynaro-dowy Fundusz Walutow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343080" indent="-17172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Unia Europejsk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ole tekstowe 23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2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kutki globalizacj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Grupa 16"/>
          <p:cNvGrpSpPr/>
          <p:nvPr/>
        </p:nvGrpSpPr>
        <p:grpSpPr>
          <a:xfrm>
            <a:off x="468360" y="1628640"/>
            <a:ext cx="7416720" cy="1721160"/>
            <a:chOff x="468360" y="1628640"/>
            <a:chExt cx="7416720" cy="1721160"/>
          </a:xfrm>
        </p:grpSpPr>
        <p:sp>
          <p:nvSpPr>
            <p:cNvPr id="132" name="Dowolny kształt 9"/>
            <p:cNvSpPr/>
            <p:nvPr/>
          </p:nvSpPr>
          <p:spPr>
            <a:xfrm>
              <a:off x="468360" y="1628640"/>
              <a:ext cx="7416720" cy="172116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31600" rIns="76320" tIns="76320" bIns="76320" anchor="t">
              <a:noAutofit/>
            </a:bodyPr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ozytyw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 algn="just">
                <a:lnSpc>
                  <a:spcPct val="90000"/>
                </a:lnSpc>
                <a:spcAft>
                  <a:spcPts val="374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rzepływ informacji, postęp naukowo-techniczny, handel międzynarodowy, łatwość komunikowani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Prostokąt zaokrąglony 12"/>
            <p:cNvSpPr/>
            <p:nvPr/>
          </p:nvSpPr>
          <p:spPr>
            <a:xfrm>
              <a:off x="639720" y="1800000"/>
              <a:ext cx="1484280" cy="1378440"/>
            </a:xfrm>
            <a:prstGeom prst="roundRect">
              <a:avLst>
                <a:gd name="adj" fmla="val 10000"/>
              </a:avLst>
            </a:prstGeom>
            <a:blipFill rotWithShape="0">
              <a:blip r:embed="rId2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upa 17"/>
          <p:cNvGrpSpPr/>
          <p:nvPr/>
        </p:nvGrpSpPr>
        <p:grpSpPr>
          <a:xfrm>
            <a:off x="468360" y="3522600"/>
            <a:ext cx="7416720" cy="1994040"/>
            <a:chOff x="468360" y="3522600"/>
            <a:chExt cx="7416720" cy="1994040"/>
          </a:xfrm>
        </p:grpSpPr>
        <p:sp>
          <p:nvSpPr>
            <p:cNvPr id="135" name="Dowolny kształt 14"/>
            <p:cNvSpPr/>
            <p:nvPr/>
          </p:nvSpPr>
          <p:spPr>
            <a:xfrm>
              <a:off x="468360" y="3522600"/>
              <a:ext cx="7416720" cy="199404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31600" rIns="76320" tIns="76320" bIns="76320" anchor="t">
              <a:noAutofit/>
            </a:bodyPr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egatyw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 algn="just">
                <a:lnSpc>
                  <a:spcPct val="90000"/>
                </a:lnSpc>
                <a:spcAft>
                  <a:spcPts val="374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Rozpad państw narodowych, gdyż panuje obecnie przeświadczenie, że procesy globalizacji zagrażają autentyczności i niezależności państw, co </a:t>
              </a:r>
              <a:br>
                <a:rPr sz="2000"/>
              </a:b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w konsekwencji może prowadzić do zaniku lokalnej kultury i tradycji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Prostokąt zaokrąglony 15"/>
            <p:cNvSpPr/>
            <p:nvPr/>
          </p:nvSpPr>
          <p:spPr>
            <a:xfrm>
              <a:off x="639720" y="3693960"/>
              <a:ext cx="1484280" cy="1378080"/>
            </a:xfrm>
            <a:prstGeom prst="roundRect">
              <a:avLst>
                <a:gd name="adj" fmla="val 10000"/>
              </a:avLst>
            </a:prstGeom>
            <a:blipFill rotWithShape="0">
              <a:blip r:embed="rId3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ole tekstowe 13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C:\Users\Marta\Desktop\sowa\sowa_3.png"/>
          <p:cNvPicPr/>
          <p:nvPr/>
        </p:nvPicPr>
        <p:blipFill>
          <a:blip r:embed="rId4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21:59:28Z</dcterms:created>
  <dc:creator>x</dc:creator>
  <dc:description/>
  <dc:language>en-US</dc:language>
  <cp:lastModifiedBy>Gosia</cp:lastModifiedBy>
  <dcterms:modified xsi:type="dcterms:W3CDTF">2013-01-31T17:23:21Z</dcterms:modified>
  <cp:revision>30</cp:revision>
  <dc:subject/>
  <dc:title>Slajd 1</dc:title>
</cp:coreProperties>
</file>