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60.png" ContentType="image/png"/>
  <Override PartName="/ppt/media/image35.jpeg" ContentType="image/jpeg"/>
  <Override PartName="/ppt/media/image47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38.jpeg" ContentType="image/jpeg"/>
  <Override PartName="/ppt/media/image28.png" ContentType="image/png"/>
  <Override PartName="/ppt/media/image49.jpeg" ContentType="image/jpeg"/>
  <Override PartName="/ppt/media/image1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48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B3FA-2DFA-49CA-A408-42873A88E6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E002-BF17-49E0-9C73-8313594DF5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C8C-E1F3-4DF8-866F-6B141486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0FF-ABCF-4485-A3F1-C36AE2AE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874-26B3-4983-AB49-17C52991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B8A-3445-460B-8CD8-3E69DE18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6E6-A82E-4910-9215-FC9129C2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784-E103-4906-8FDF-3F7D7727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54C-AF08-41A1-9A1B-DB2F1238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904-F7BD-4279-AC88-26E2530E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948-0A0E-4F9B-92B0-A45A09B7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584-F7CF-415C-9BAD-5896725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81D-74E9-4EA2-89A3-EFCDFADF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04B-5C6B-46C2-9987-A121E5E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CDE2-4E24-42D5-9BF6-A7301B1107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png"/><Relationship Id="rId3" Type="http://schemas.openxmlformats.org/officeDocument/2006/relationships/image" Target="../media/image3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.png"/><Relationship Id="rId3" Type="http://schemas.openxmlformats.org/officeDocument/2006/relationships/image" Target="../media/image3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image" Target="../media/image4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png"/><Relationship Id="rId3" Type="http://schemas.openxmlformats.org/officeDocument/2006/relationships/image" Target="../media/image4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.png"/><Relationship Id="rId3" Type="http://schemas.openxmlformats.org/officeDocument/2006/relationships/image" Target="../media/image4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Kapitał ludzki"/>
          <p:cNvPicPr/>
          <p:nvPr/>
        </p:nvPicPr>
        <p:blipFill>
          <a:blip r:embed="rId2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50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E99E-3CB1-424F-BF90-1B34F70FEA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Diagram 9" descr=""/>
          <p:cNvPicPr/>
          <p:nvPr/>
        </p:nvPicPr>
        <p:blipFill>
          <a:blip r:embed="rId3"/>
          <a:stretch/>
        </p:blipFill>
        <p:spPr>
          <a:xfrm>
            <a:off x="1962000" y="1968480"/>
            <a:ext cx="6591600" cy="2481120"/>
          </a:xfrm>
          <a:prstGeom prst="rect">
            <a:avLst/>
          </a:prstGeom>
          <a:ln w="0">
            <a:noFill/>
          </a:ln>
        </p:spPr>
      </p:pic>
      <p:pic>
        <p:nvPicPr>
          <p:cNvPr id="53" name="Diagram 10" descr=""/>
          <p:cNvPicPr/>
          <p:nvPr/>
        </p:nvPicPr>
        <p:blipFill>
          <a:blip r:embed="rId4"/>
          <a:stretch/>
        </p:blipFill>
        <p:spPr>
          <a:xfrm>
            <a:off x="579600" y="2103480"/>
            <a:ext cx="107784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ole tekstowe 24"/>
          <p:cNvSpPr/>
          <p:nvPr/>
        </p:nvSpPr>
        <p:spPr>
          <a:xfrm>
            <a:off x="395280" y="333360"/>
            <a:ext cx="78487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aktyce zarządzania zasobami ludzkimi występują różne techniki rekrutacji kandydatów do pracy. Zalicza się do nich m.in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prasie  (np. dzienniki, fachowe czasopism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radiu i telewiz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głoszenia pisemne wewnątrz firmy, zamieszczane np. na tablicach ogłosz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rzystanie z pośrednictwa urzędów pra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rzystanie z usług firm rekrutacyjnych/agencji doradztwa personaln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mieszczanie ogłoszeń w Internec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raz wiele in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3780000" y="4005360"/>
            <a:ext cx="1935000" cy="223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1403280" y="4437000"/>
            <a:ext cx="1656000" cy="2163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6300720" y="3500280"/>
            <a:ext cx="1733760" cy="2943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638440" cy="286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6227640" y="3500280"/>
            <a:ext cx="1952640" cy="306720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20"/>
          <p:cNvSpPr/>
          <p:nvPr/>
        </p:nvSpPr>
        <p:spPr>
          <a:xfrm>
            <a:off x="2484360" y="1916280"/>
            <a:ext cx="525636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ór pracowników uzupełniony jest przez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elekcj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następuje po rekrutacji. Do metod selekcji zalicza si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aliza dokument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wi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sty selek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entrum oce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konwencjonalne metody selek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281240" cy="223848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"/>
          <p:cNvPicPr/>
          <p:nvPr/>
        </p:nvPicPr>
        <p:blipFill>
          <a:blip r:embed="rId5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ole tekstowe 19"/>
          <p:cNvSpPr/>
          <p:nvPr/>
        </p:nvSpPr>
        <p:spPr>
          <a:xfrm>
            <a:off x="539640" y="404640"/>
            <a:ext cx="76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lejnym elementem procesu rekrutacji jest proces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daptac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acownika. Jest to proces, który polega na przystosowaniu pracownika do stanowiska i środowiska w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y nowy pracownik zajmuje nowe dla siebie miejsce pracy, to potrzebuje on czasu na przystosowanie się do nowej sytu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951280" cy="187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3059280" y="4653000"/>
            <a:ext cx="288108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az 8" descr="worke4.jpg"/>
          <p:cNvPicPr/>
          <p:nvPr/>
        </p:nvPicPr>
        <p:blipFill>
          <a:blip r:embed="rId1"/>
          <a:stretch/>
        </p:blipFill>
        <p:spPr>
          <a:xfrm>
            <a:off x="5897520" y="3860640"/>
            <a:ext cx="2344680" cy="2760840"/>
          </a:xfrm>
          <a:prstGeom prst="rect">
            <a:avLst/>
          </a:prstGeom>
          <a:ln w="0">
            <a:noFill/>
          </a:ln>
        </p:spPr>
      </p:pic>
      <p:grpSp>
        <p:nvGrpSpPr>
          <p:cNvPr id="1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rostokąt 7"/>
          <p:cNvSpPr/>
          <p:nvPr/>
        </p:nvSpPr>
        <p:spPr>
          <a:xfrm>
            <a:off x="1979640" y="16286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k, który rozpoczyna pracę, nawiązuje tz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osunek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czyli „zobowiązuje się do wykonywania pracy określonego rodzaju na rzecz pracodawcy i pod jego kierownictwem oraz w miejs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czasie wyznaczonym przez pracodawcę, a pracodawca – do zatrudniania pracownika za wynagrodzeniem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9" descr="4094410301_8785bcc1a2_m.jpg"/>
          <p:cNvPicPr/>
          <p:nvPr/>
        </p:nvPicPr>
        <p:blipFill>
          <a:blip r:embed="rId3"/>
          <a:srcRect l="0" t="3150" r="0" b="0"/>
          <a:stretch/>
        </p:blipFill>
        <p:spPr>
          <a:xfrm>
            <a:off x="42840" y="260280"/>
            <a:ext cx="1960560" cy="2016360"/>
          </a:xfrm>
          <a:prstGeom prst="rect">
            <a:avLst/>
          </a:prstGeom>
          <a:ln w="0">
            <a:noFill/>
          </a:ln>
        </p:spPr>
      </p:pic>
      <p:sp>
        <p:nvSpPr>
          <p:cNvPr id="172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Obraz 12" descr="4189301060_b97514bca5_m.jpg"/>
          <p:cNvPicPr/>
          <p:nvPr/>
        </p:nvPicPr>
        <p:blipFill>
          <a:blip r:embed="rId1"/>
          <a:stretch/>
        </p:blipFill>
        <p:spPr>
          <a:xfrm>
            <a:off x="5302080" y="4869000"/>
            <a:ext cx="3002040" cy="1989000"/>
          </a:xfrm>
          <a:prstGeom prst="rect">
            <a:avLst/>
          </a:prstGeom>
          <a:ln w="0">
            <a:noFill/>
          </a:ln>
        </p:spPr>
      </p:pic>
      <p:pic>
        <p:nvPicPr>
          <p:cNvPr id="175" name="Obraz 11" descr="4431759542_a81fef43e0_m.jpg"/>
          <p:cNvPicPr/>
          <p:nvPr/>
        </p:nvPicPr>
        <p:blipFill>
          <a:blip r:embed="rId2"/>
          <a:stretch/>
        </p:blipFill>
        <p:spPr>
          <a:xfrm>
            <a:off x="0" y="126828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17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1"/>
          <p:cNvSpPr/>
          <p:nvPr/>
        </p:nvSpPr>
        <p:spPr>
          <a:xfrm>
            <a:off x="0" y="62100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konywanie pracy ma kilka ważnych cech. Należą do ni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rostokąt 8"/>
          <p:cNvSpPr/>
          <p:nvPr/>
        </p:nvSpPr>
        <p:spPr>
          <a:xfrm>
            <a:off x="3059280" y="1484280"/>
            <a:ext cx="518472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porządkowanie pracownika kierownictwu pracodaw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wykonywana osobiście przez pracow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powtarzana w codziennych lub dłuższych odstępach czas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a jest wykonywana w miejscu i czasie, które są wyznaczone przez pracodawc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cę wykonuje się na ryzyko pracodaw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rostokąt 10"/>
          <p:cNvSpPr/>
          <p:nvPr/>
        </p:nvSpPr>
        <p:spPr>
          <a:xfrm>
            <a:off x="684360" y="515772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leży pamiętać, że praca jest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odpłatn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 oznacza, że pracownik za swoją pracę otrzyma wynagrodze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Obraz 25" descr="6516496691_3386a72618_m.jpg"/>
          <p:cNvPicPr/>
          <p:nvPr/>
        </p:nvPicPr>
        <p:blipFill>
          <a:blip r:embed="rId1"/>
          <a:stretch/>
        </p:blipFill>
        <p:spPr>
          <a:xfrm>
            <a:off x="2340000" y="4073400"/>
            <a:ext cx="4176720" cy="27846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rostokąt 10"/>
          <p:cNvSpPr/>
          <p:nvPr/>
        </p:nvSpPr>
        <p:spPr>
          <a:xfrm>
            <a:off x="2268360" y="549360"/>
            <a:ext cx="55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deks pracy (art. 25) definiuje następujące rodzaje umów o prac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az 11" descr="6543358253_2578ae2928_m.jpg"/>
          <p:cNvPicPr/>
          <p:nvPr/>
        </p:nvPicPr>
        <p:blipFill>
          <a:blip r:embed="rId3"/>
          <a:stretch/>
        </p:blipFill>
        <p:spPr>
          <a:xfrm>
            <a:off x="0" y="0"/>
            <a:ext cx="1944720" cy="205596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a 12"/>
          <p:cNvGrpSpPr/>
          <p:nvPr/>
        </p:nvGrpSpPr>
        <p:grpSpPr>
          <a:xfrm>
            <a:off x="2484360" y="1628640"/>
            <a:ext cx="4714920" cy="505080"/>
            <a:chOff x="2484360" y="1628640"/>
            <a:chExt cx="4714920" cy="505080"/>
          </a:xfrm>
        </p:grpSpPr>
        <p:sp>
          <p:nvSpPr>
            <p:cNvPr id="191" name="Prostokąt zaokrąglony 13"/>
            <p:cNvSpPr/>
            <p:nvPr/>
          </p:nvSpPr>
          <p:spPr>
            <a:xfrm>
              <a:off x="2484360" y="1628640"/>
              <a:ext cx="4714920" cy="50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pole tekstowe 14"/>
            <p:cNvSpPr/>
            <p:nvPr/>
          </p:nvSpPr>
          <p:spPr>
            <a:xfrm>
              <a:off x="2484360" y="162864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okres prób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upa 16"/>
          <p:cNvGrpSpPr/>
          <p:nvPr/>
        </p:nvGrpSpPr>
        <p:grpSpPr>
          <a:xfrm>
            <a:off x="2484360" y="2276640"/>
            <a:ext cx="4714920" cy="504720"/>
            <a:chOff x="2484360" y="2276640"/>
            <a:chExt cx="4714920" cy="504720"/>
          </a:xfrm>
        </p:grpSpPr>
        <p:sp>
          <p:nvSpPr>
            <p:cNvPr id="194" name="Prostokąt zaokrąglony 17"/>
            <p:cNvSpPr/>
            <p:nvPr/>
          </p:nvSpPr>
          <p:spPr>
            <a:xfrm>
              <a:off x="2484360" y="2276640"/>
              <a:ext cx="4714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pole tekstowe 18"/>
            <p:cNvSpPr/>
            <p:nvPr/>
          </p:nvSpPr>
          <p:spPr>
            <a:xfrm>
              <a:off x="2484360" y="227664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określo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upa 19"/>
          <p:cNvGrpSpPr/>
          <p:nvPr/>
        </p:nvGrpSpPr>
        <p:grpSpPr>
          <a:xfrm>
            <a:off x="2484360" y="2924280"/>
            <a:ext cx="4714920" cy="504720"/>
            <a:chOff x="2484360" y="2924280"/>
            <a:chExt cx="4714920" cy="504720"/>
          </a:xfrm>
        </p:grpSpPr>
        <p:sp>
          <p:nvSpPr>
            <p:cNvPr id="197" name="Prostokąt zaokrąglony 20"/>
            <p:cNvSpPr/>
            <p:nvPr/>
          </p:nvSpPr>
          <p:spPr>
            <a:xfrm>
              <a:off x="2484360" y="2924280"/>
              <a:ext cx="471492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pole tekstowe 21"/>
            <p:cNvSpPr/>
            <p:nvPr/>
          </p:nvSpPr>
          <p:spPr>
            <a:xfrm>
              <a:off x="2484360" y="292428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wykonania określonej pr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22"/>
          <p:cNvGrpSpPr/>
          <p:nvPr/>
        </p:nvGrpSpPr>
        <p:grpSpPr>
          <a:xfrm>
            <a:off x="2484360" y="3573360"/>
            <a:ext cx="4714920" cy="503280"/>
            <a:chOff x="2484360" y="3573360"/>
            <a:chExt cx="4714920" cy="503280"/>
          </a:xfrm>
        </p:grpSpPr>
        <p:sp>
          <p:nvSpPr>
            <p:cNvPr id="200" name="Prostokąt zaokrąglony 23"/>
            <p:cNvSpPr/>
            <p:nvPr/>
          </p:nvSpPr>
          <p:spPr>
            <a:xfrm>
              <a:off x="2484360" y="3573360"/>
              <a:ext cx="471492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ole tekstowe 24"/>
            <p:cNvSpPr/>
            <p:nvPr/>
          </p:nvSpPr>
          <p:spPr>
            <a:xfrm>
              <a:off x="2484360" y="3573360"/>
              <a:ext cx="47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mowa na czas nieokreślo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ole tekstowe 2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732720" y="3884760"/>
            <a:ext cx="1631880" cy="2973240"/>
          </a:xfrm>
          <a:prstGeom prst="rect">
            <a:avLst/>
          </a:prstGeom>
          <a:ln w="0">
            <a:noFill/>
          </a:ln>
        </p:spPr>
      </p:pic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rostokąt 8"/>
          <p:cNvSpPr/>
          <p:nvPr/>
        </p:nvSpPr>
        <p:spPr>
          <a:xfrm>
            <a:off x="2411280" y="1916280"/>
            <a:ext cx="489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, której przedmiotem jest wykonywanie pewnej pracy, nie zawsze jednak musi mieć charakter umowy o pracę. Strony umowy decydują, jaki charakter prawny będzie mieć zatrudnienie. Do najważniejszych umów cywilnoprawnych, które dotyczą zatrudnienia, należ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 o dzieł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mowa-zlece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9760" cy="2376360"/>
          </a:xfrm>
          <a:prstGeom prst="rect">
            <a:avLst/>
          </a:prstGeom>
          <a:ln w="0">
            <a:noFill/>
          </a:ln>
        </p:spPr>
      </p:pic>
      <p:sp>
        <p:nvSpPr>
          <p:cNvPr id="210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57400" cy="2997000"/>
          </a:xfrm>
          <a:prstGeom prst="rect">
            <a:avLst/>
          </a:prstGeom>
          <a:ln w="0">
            <a:noFill/>
          </a:ln>
        </p:spPr>
      </p:pic>
      <p:sp>
        <p:nvSpPr>
          <p:cNvPr id="216" name="Prostokąt 7"/>
          <p:cNvSpPr/>
          <p:nvPr/>
        </p:nvSpPr>
        <p:spPr>
          <a:xfrm>
            <a:off x="755640" y="907920"/>
            <a:ext cx="70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każdą formą wykonywania pracy związane jest wynagrodzenie pracownika. Pojęcie wynagrodzenia „obejmuje ogół wydatków pieniężnych oraz innych świadczeń wypłacanych pracowniko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tytułu zatrudnienia w podmiocie gospodarczym, obliczanych według zasad statystyki zatrudnienia i wynagrodzeń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1943280" cy="3672000"/>
          </a:xfrm>
          <a:prstGeom prst="rect">
            <a:avLst/>
          </a:prstGeom>
          <a:ln w="0">
            <a:noFill/>
          </a:ln>
        </p:spPr>
      </p:pic>
      <p:sp>
        <p:nvSpPr>
          <p:cNvPr id="223" name="Prostokąt 7"/>
          <p:cNvSpPr/>
          <p:nvPr/>
        </p:nvSpPr>
        <p:spPr>
          <a:xfrm>
            <a:off x="755640" y="1197000"/>
            <a:ext cx="482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łaca zasadnic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em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niki gwarantowane kodeksem pracy (m. in. warunki szkodliwe lub godziny nadliczbow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e składniki (np. nagrody z zysku, okolicznościowe, dodatki stażowe i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hody odroczo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udziały w zysku lub np. akcje (dotyczy to głównie stanowisk kierowniczych, lecz nie zawsz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świadczenia dodatkowe (samochód, telefon, ubezpieczenia itd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feterie – swobodny wybór możliwych odmian wynagrodzenia pozapłacow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świadczenia socjal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rostokąt 9"/>
          <p:cNvSpPr/>
          <p:nvPr/>
        </p:nvSpPr>
        <p:spPr>
          <a:xfrm>
            <a:off x="250920" y="47628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nagrodzenie za pracę może zawierać następujące ele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580000" y="3860640"/>
            <a:ext cx="2629080" cy="27720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00360" cy="3071880"/>
          </a:xfrm>
          <a:prstGeom prst="rect">
            <a:avLst/>
          </a:prstGeom>
          <a:ln w="0">
            <a:noFill/>
          </a:ln>
        </p:spPr>
      </p:pic>
      <p:sp>
        <p:nvSpPr>
          <p:cNvPr id="232" name="Prostokąt 7"/>
          <p:cNvSpPr/>
          <p:nvPr/>
        </p:nvSpPr>
        <p:spPr>
          <a:xfrm>
            <a:off x="2340000" y="1700280"/>
            <a:ext cx="511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 wynagrodzenia każdy musi odprowadzać podatki oraz odpowiednie składki na ubezpieczenia społeczne i zdrowotne. Pierwszym krokiem, który należy wykona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celu obliczenia wynagrodzenia brutto, jest odliczenie składek na ubezpieczenia społe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500720" y="3789360"/>
            <a:ext cx="3289320" cy="2087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upa 17"/>
          <p:cNvGrpSpPr/>
          <p:nvPr/>
        </p:nvGrpSpPr>
        <p:grpSpPr>
          <a:xfrm>
            <a:off x="611280" y="907920"/>
            <a:ext cx="7345440" cy="2376720"/>
            <a:chOff x="611280" y="907920"/>
            <a:chExt cx="7345440" cy="2376720"/>
          </a:xfrm>
        </p:grpSpPr>
        <p:sp>
          <p:nvSpPr>
            <p:cNvPr id="59" name="Prostokąt zaokrąglony 12"/>
            <p:cNvSpPr/>
            <p:nvPr/>
          </p:nvSpPr>
          <p:spPr>
            <a:xfrm>
              <a:off x="611280" y="907920"/>
              <a:ext cx="7345440" cy="237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pole tekstowe 11"/>
            <p:cNvSpPr/>
            <p:nvPr/>
          </p:nvSpPr>
          <p:spPr>
            <a:xfrm>
              <a:off x="611280" y="1411920"/>
              <a:ext cx="734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ityka personalna to pewien zespół celów, zasad i środków wynikających ze strategii personalnej i mających służyć do jej realizacji, zmierzających do optymalnego gospodarowania zasobami ludzkim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10" descr="5757389658_4b713b1510_m.jpg"/>
          <p:cNvPicPr/>
          <p:nvPr/>
        </p:nvPicPr>
        <p:blipFill>
          <a:blip r:embed="rId1"/>
          <a:stretch/>
        </p:blipFill>
        <p:spPr>
          <a:xfrm>
            <a:off x="5076720" y="4476600"/>
            <a:ext cx="3191040" cy="23814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913040" cy="1727280"/>
          </a:xfrm>
          <a:prstGeom prst="rect">
            <a:avLst/>
          </a:prstGeom>
          <a:ln w="0">
            <a:noFill/>
          </a:ln>
        </p:spPr>
      </p:pic>
      <p:sp>
        <p:nvSpPr>
          <p:cNvPr id="240" name="Prostokąt 7"/>
          <p:cNvSpPr/>
          <p:nvPr/>
        </p:nvSpPr>
        <p:spPr>
          <a:xfrm>
            <a:off x="1908000" y="1413000"/>
            <a:ext cx="58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stępnie należy obliczyć składkę na ubezpieczenie zdrowotne, której podstawa wymiaru to wynagrodzenie pomniejszone o składki na ubezpieczenia społeczne finansowane ze środków pracow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dy składka na ubezpieczenie zdrowotne okaże się wyższa od zaliczki na podatek dochodowy (ustalonej z uwzględnieniem przysługujących kosztów uzyskania przychodów i kwoty zmniejszającej podatek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kę należy obniżyć do wysokości zalicz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upa 13"/>
          <p:cNvGrpSpPr/>
          <p:nvPr/>
        </p:nvGrpSpPr>
        <p:grpSpPr>
          <a:xfrm>
            <a:off x="2124000" y="3933720"/>
            <a:ext cx="4751640" cy="2924280"/>
            <a:chOff x="2124000" y="3933720"/>
            <a:chExt cx="4751640" cy="2924280"/>
          </a:xfrm>
        </p:grpSpPr>
        <p:pic>
          <p:nvPicPr>
            <p:cNvPr id="244" name="Obraz 11" descr="3000043467_c78979545e_m.jpg"/>
            <p:cNvPicPr/>
            <p:nvPr/>
          </p:nvPicPr>
          <p:blipFill>
            <a:blip r:embed="rId1"/>
            <a:stretch/>
          </p:blipFill>
          <p:spPr>
            <a:xfrm>
              <a:off x="2124000" y="3933720"/>
              <a:ext cx="475164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rostokąt 12"/>
            <p:cNvSpPr/>
            <p:nvPr/>
          </p:nvSpPr>
          <p:spPr>
            <a:xfrm>
              <a:off x="5758200" y="6567480"/>
              <a:ext cx="1023840" cy="8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Obraz 9" descr="5187314534_09d29656e8_m.jpg"/>
          <p:cNvPicPr/>
          <p:nvPr/>
        </p:nvPicPr>
        <p:blipFill>
          <a:blip r:embed="rId3"/>
          <a:srcRect l="10618" t="0" r="0" b="0"/>
          <a:stretch/>
        </p:blipFill>
        <p:spPr>
          <a:xfrm>
            <a:off x="0" y="260280"/>
            <a:ext cx="2724120" cy="3048120"/>
          </a:xfrm>
          <a:prstGeom prst="rect">
            <a:avLst/>
          </a:prstGeom>
          <a:ln w="0">
            <a:noFill/>
          </a:ln>
        </p:spPr>
      </p:pic>
      <p:sp>
        <p:nvSpPr>
          <p:cNvPr id="250" name="Prostokąt 7"/>
          <p:cNvSpPr/>
          <p:nvPr/>
        </p:nvSpPr>
        <p:spPr>
          <a:xfrm>
            <a:off x="2411280" y="1125360"/>
            <a:ext cx="511344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kład obliczenia wynagrodzenia net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którym zakłada się, ż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wnik korzysta z podstawowych kosztów uzyskania przycho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 upoważniony jest do odprowadzania zaliczki na podatek dochodowy o 1/12 kwoty zmniejszającej podatek – 46,63 zł, wynagrodzenie brutto jest równe 2000 z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abela 11" descr=""/>
          <p:cNvPicPr/>
          <p:nvPr/>
        </p:nvPicPr>
        <p:blipFill>
          <a:blip r:embed="rId1"/>
          <a:stretch/>
        </p:blipFill>
        <p:spPr>
          <a:xfrm>
            <a:off x="176040" y="115920"/>
            <a:ext cx="8072640" cy="433440"/>
          </a:xfrm>
          <a:prstGeom prst="rect">
            <a:avLst/>
          </a:prstGeom>
          <a:ln w="0">
            <a:noFill/>
          </a:ln>
        </p:spPr>
      </p:pic>
      <p:pic>
        <p:nvPicPr>
          <p:cNvPr id="254" name="Tabela 12" descr=""/>
          <p:cNvPicPr/>
          <p:nvPr/>
        </p:nvPicPr>
        <p:blipFill>
          <a:blip r:embed="rId2"/>
          <a:stretch/>
        </p:blipFill>
        <p:spPr>
          <a:xfrm>
            <a:off x="176040" y="401760"/>
            <a:ext cx="8072640" cy="439560"/>
          </a:xfrm>
          <a:prstGeom prst="rect">
            <a:avLst/>
          </a:prstGeom>
          <a:ln w="0">
            <a:noFill/>
          </a:ln>
        </p:spPr>
      </p:pic>
      <p:pic>
        <p:nvPicPr>
          <p:cNvPr id="255" name="Tabela 14" descr=""/>
          <p:cNvPicPr/>
          <p:nvPr/>
        </p:nvPicPr>
        <p:blipFill>
          <a:blip r:embed="rId3"/>
          <a:stretch/>
        </p:blipFill>
        <p:spPr>
          <a:xfrm>
            <a:off x="176040" y="689040"/>
            <a:ext cx="8072640" cy="1560600"/>
          </a:xfrm>
          <a:prstGeom prst="rect">
            <a:avLst/>
          </a:prstGeom>
          <a:ln w="0">
            <a:noFill/>
          </a:ln>
        </p:spPr>
      </p:pic>
      <p:pic>
        <p:nvPicPr>
          <p:cNvPr id="256" name="Tabela 16" descr=""/>
          <p:cNvPicPr/>
          <p:nvPr/>
        </p:nvPicPr>
        <p:blipFill>
          <a:blip r:embed="rId4"/>
          <a:stretch/>
        </p:blipFill>
        <p:spPr>
          <a:xfrm>
            <a:off x="176040" y="2060640"/>
            <a:ext cx="8072640" cy="433440"/>
          </a:xfrm>
          <a:prstGeom prst="rect">
            <a:avLst/>
          </a:prstGeom>
          <a:ln w="0">
            <a:noFill/>
          </a:ln>
        </p:spPr>
      </p:pic>
      <p:pic>
        <p:nvPicPr>
          <p:cNvPr id="257" name="Tabela 17" descr=""/>
          <p:cNvPicPr/>
          <p:nvPr/>
        </p:nvPicPr>
        <p:blipFill>
          <a:blip r:embed="rId5"/>
          <a:stretch/>
        </p:blipFill>
        <p:spPr>
          <a:xfrm>
            <a:off x="176040" y="2346480"/>
            <a:ext cx="8072640" cy="720720"/>
          </a:xfrm>
          <a:prstGeom prst="rect">
            <a:avLst/>
          </a:prstGeom>
          <a:ln w="0">
            <a:noFill/>
          </a:ln>
        </p:spPr>
      </p:pic>
      <p:pic>
        <p:nvPicPr>
          <p:cNvPr id="258" name="Tabela 18" descr=""/>
          <p:cNvPicPr/>
          <p:nvPr/>
        </p:nvPicPr>
        <p:blipFill>
          <a:blip r:embed="rId6"/>
          <a:stretch/>
        </p:blipFill>
        <p:spPr>
          <a:xfrm>
            <a:off x="176040" y="2925720"/>
            <a:ext cx="8072640" cy="712800"/>
          </a:xfrm>
          <a:prstGeom prst="rect">
            <a:avLst/>
          </a:prstGeom>
          <a:ln w="0">
            <a:noFill/>
          </a:ln>
        </p:spPr>
      </p:pic>
      <p:pic>
        <p:nvPicPr>
          <p:cNvPr id="259" name="Tabela 19" descr=""/>
          <p:cNvPicPr/>
          <p:nvPr/>
        </p:nvPicPr>
        <p:blipFill>
          <a:blip r:embed="rId7"/>
          <a:stretch/>
        </p:blipFill>
        <p:spPr>
          <a:xfrm>
            <a:off x="176040" y="3498840"/>
            <a:ext cx="8072640" cy="439920"/>
          </a:xfrm>
          <a:prstGeom prst="rect">
            <a:avLst/>
          </a:prstGeom>
          <a:ln w="0">
            <a:noFill/>
          </a:ln>
        </p:spPr>
      </p:pic>
      <p:pic>
        <p:nvPicPr>
          <p:cNvPr id="260" name="Tabela 20" descr=""/>
          <p:cNvPicPr/>
          <p:nvPr/>
        </p:nvPicPr>
        <p:blipFill>
          <a:blip r:embed="rId8"/>
          <a:stretch/>
        </p:blipFill>
        <p:spPr>
          <a:xfrm>
            <a:off x="176040" y="3786120"/>
            <a:ext cx="8072640" cy="719280"/>
          </a:xfrm>
          <a:prstGeom prst="rect">
            <a:avLst/>
          </a:prstGeom>
          <a:ln w="0">
            <a:noFill/>
          </a:ln>
        </p:spPr>
      </p:pic>
      <p:pic>
        <p:nvPicPr>
          <p:cNvPr id="261" name="Tabela 21" descr=""/>
          <p:cNvPicPr/>
          <p:nvPr/>
        </p:nvPicPr>
        <p:blipFill>
          <a:blip r:embed="rId9"/>
          <a:stretch/>
        </p:blipFill>
        <p:spPr>
          <a:xfrm>
            <a:off x="176040" y="4363920"/>
            <a:ext cx="8072640" cy="714600"/>
          </a:xfrm>
          <a:prstGeom prst="rect">
            <a:avLst/>
          </a:prstGeom>
          <a:ln w="0">
            <a:noFill/>
          </a:ln>
        </p:spPr>
      </p:pic>
      <p:pic>
        <p:nvPicPr>
          <p:cNvPr id="262" name="Tabela 22" descr=""/>
          <p:cNvPicPr/>
          <p:nvPr/>
        </p:nvPicPr>
        <p:blipFill>
          <a:blip r:embed="rId10"/>
          <a:stretch/>
        </p:blipFill>
        <p:spPr>
          <a:xfrm>
            <a:off x="176040" y="4937040"/>
            <a:ext cx="807264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Tabela 23" descr=""/>
          <p:cNvPicPr/>
          <p:nvPr/>
        </p:nvPicPr>
        <p:blipFill>
          <a:blip r:embed="rId11"/>
          <a:stretch/>
        </p:blipFill>
        <p:spPr>
          <a:xfrm>
            <a:off x="176040" y="5516640"/>
            <a:ext cx="80726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5" name="Picture 8" descr=""/>
            <p:cNvPicPr/>
            <p:nvPr/>
          </p:nvPicPr>
          <p:blipFill>
            <a:blip r:embed="rId1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ole tekstowe 2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"/>
          <p:cNvPicPr/>
          <p:nvPr/>
        </p:nvPicPr>
        <p:blipFill>
          <a:blip r:embed="rId1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a 32"/>
          <p:cNvGrpSpPr/>
          <p:nvPr/>
        </p:nvGrpSpPr>
        <p:grpSpPr>
          <a:xfrm>
            <a:off x="4427640" y="2133360"/>
            <a:ext cx="1873080" cy="4003920"/>
            <a:chOff x="4427640" y="2133360"/>
            <a:chExt cx="1873080" cy="4003920"/>
          </a:xfrm>
        </p:grpSpPr>
        <p:sp>
          <p:nvSpPr>
            <p:cNvPr id="64" name="Dowolny kształt 24"/>
            <p:cNvSpPr/>
            <p:nvPr/>
          </p:nvSpPr>
          <p:spPr>
            <a:xfrm rot="16200000">
              <a:off x="3766320" y="2801880"/>
              <a:ext cx="3192840" cy="185544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Dowolny kształt 26" descr=""/>
            <p:cNvPicPr/>
            <p:nvPr/>
          </p:nvPicPr>
          <p:blipFill>
            <a:blip r:embed="rId1"/>
            <a:stretch/>
          </p:blipFill>
          <p:spPr>
            <a:xfrm>
              <a:off x="4427640" y="2930760"/>
              <a:ext cx="1873080" cy="32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"/>
            <p:cNvPicPr/>
            <p:nvPr/>
          </p:nvPicPr>
          <p:blipFill>
            <a:blip r:embed="rId2"/>
            <a:stretch/>
          </p:blipFill>
          <p:spPr>
            <a:xfrm>
              <a:off x="4533840" y="2205360"/>
              <a:ext cx="1749240" cy="14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upa 31"/>
          <p:cNvGrpSpPr/>
          <p:nvPr/>
        </p:nvGrpSpPr>
        <p:grpSpPr>
          <a:xfrm>
            <a:off x="2484360" y="2133360"/>
            <a:ext cx="1871640" cy="4003920"/>
            <a:chOff x="2484360" y="2133360"/>
            <a:chExt cx="1871640" cy="4003920"/>
          </a:xfrm>
        </p:grpSpPr>
        <p:sp>
          <p:nvSpPr>
            <p:cNvPr id="68" name="Dowolny kształt 21"/>
            <p:cNvSpPr/>
            <p:nvPr/>
          </p:nvSpPr>
          <p:spPr>
            <a:xfrm rot="16200000">
              <a:off x="1802520" y="2818080"/>
              <a:ext cx="3192840" cy="182304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Dowolny kształt 23" descr=""/>
            <p:cNvPicPr/>
            <p:nvPr/>
          </p:nvPicPr>
          <p:blipFill>
            <a:blip r:embed="rId3"/>
            <a:stretch/>
          </p:blipFill>
          <p:spPr>
            <a:xfrm>
              <a:off x="2484360" y="2930760"/>
              <a:ext cx="1871640" cy="320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upa 33"/>
          <p:cNvGrpSpPr/>
          <p:nvPr/>
        </p:nvGrpSpPr>
        <p:grpSpPr>
          <a:xfrm>
            <a:off x="539640" y="2133360"/>
            <a:ext cx="1871640" cy="4003920"/>
            <a:chOff x="539640" y="2133360"/>
            <a:chExt cx="1871640" cy="4003920"/>
          </a:xfrm>
        </p:grpSpPr>
        <p:sp>
          <p:nvSpPr>
            <p:cNvPr id="71" name="Dowolny kształt 19"/>
            <p:cNvSpPr/>
            <p:nvPr/>
          </p:nvSpPr>
          <p:spPr>
            <a:xfrm rot="16200000">
              <a:off x="-120960" y="2843640"/>
              <a:ext cx="3192840" cy="1772280"/>
            </a:xfrm>
            <a:custGeom>
              <a:avLst/>
              <a:gdLst/>
              <a:ahLst/>
              <a:rect l="l" t="t" r="r" b="b"/>
              <a:pathLst>
                <a:path w="1985367" h="3199903">
                  <a:moveTo>
                    <a:pt x="1923776" y="2"/>
                  </a:moveTo>
                  <a:cubicBezTo>
                    <a:pt x="1940111" y="2"/>
                    <a:pt x="1955777" y="16859"/>
                    <a:pt x="1967327" y="46863"/>
                  </a:cubicBezTo>
                  <a:cubicBezTo>
                    <a:pt x="1978877" y="76867"/>
                    <a:pt x="1985367" y="117564"/>
                    <a:pt x="1985367" y="159996"/>
                  </a:cubicBezTo>
                  <a:lnTo>
                    <a:pt x="1985367" y="3039907"/>
                  </a:lnTo>
                  <a:cubicBezTo>
                    <a:pt x="1985367" y="3082341"/>
                    <a:pt x="1978877" y="3123036"/>
                    <a:pt x="1967327" y="3153040"/>
                  </a:cubicBezTo>
                  <a:cubicBezTo>
                    <a:pt x="1955777" y="3183044"/>
                    <a:pt x="1940111" y="3199901"/>
                    <a:pt x="1923776" y="3199901"/>
                  </a:cubicBezTo>
                  <a:lnTo>
                    <a:pt x="61591" y="3199901"/>
                  </a:lnTo>
                  <a:cubicBezTo>
                    <a:pt x="45256" y="3199901"/>
                    <a:pt x="29590" y="3183044"/>
                    <a:pt x="18040" y="3153040"/>
                  </a:cubicBezTo>
                  <a:cubicBezTo>
                    <a:pt x="6490" y="3123036"/>
                    <a:pt x="0" y="3082339"/>
                    <a:pt x="0" y="3039907"/>
                  </a:cubicBezTo>
                  <a:lnTo>
                    <a:pt x="0" y="159996"/>
                  </a:lnTo>
                  <a:cubicBezTo>
                    <a:pt x="0" y="117562"/>
                    <a:pt x="6490" y="76867"/>
                    <a:pt x="18040" y="46863"/>
                  </a:cubicBezTo>
                  <a:cubicBezTo>
                    <a:pt x="29590" y="16859"/>
                    <a:pt x="45256" y="2"/>
                    <a:pt x="61591" y="2"/>
                  </a:cubicBezTo>
                  <a:lnTo>
                    <a:pt x="1923776" y="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575640" rIns="97560" tIns="75240" bIns="1587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Dowolny kształt 20" descr=""/>
            <p:cNvPicPr/>
            <p:nvPr/>
          </p:nvPicPr>
          <p:blipFill>
            <a:blip r:embed="rId4"/>
            <a:stretch/>
          </p:blipFill>
          <p:spPr>
            <a:xfrm>
              <a:off x="539640" y="2930760"/>
              <a:ext cx="1871640" cy="32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" descr=""/>
            <p:cNvPicPr/>
            <p:nvPr/>
          </p:nvPicPr>
          <p:blipFill>
            <a:blip r:embed="rId5"/>
            <a:stretch/>
          </p:blipFill>
          <p:spPr>
            <a:xfrm>
              <a:off x="687600" y="2205360"/>
              <a:ext cx="1606680" cy="143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5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ole tekstowe 28"/>
          <p:cNvSpPr/>
          <p:nvPr/>
        </p:nvSpPr>
        <p:spPr>
          <a:xfrm>
            <a:off x="468360" y="47628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ityka personalna dostarcza wielu wskazówek menedżerom i określa reguły traktowania pracowników w sposób sprawiedliwy i właściwy. Jest to powód, dla którego polityka personalna powinna uwzględnić następujące wart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upa 36"/>
          <p:cNvGrpSpPr/>
          <p:nvPr/>
        </p:nvGrpSpPr>
        <p:grpSpPr>
          <a:xfrm>
            <a:off x="6372360" y="2133360"/>
            <a:ext cx="1871640" cy="4003920"/>
            <a:chOff x="6372360" y="2133360"/>
            <a:chExt cx="1871640" cy="4003920"/>
          </a:xfrm>
        </p:grpSpPr>
        <p:grpSp>
          <p:nvGrpSpPr>
            <p:cNvPr id="79" name="Grupa 29"/>
            <p:cNvGrpSpPr/>
            <p:nvPr/>
          </p:nvGrpSpPr>
          <p:grpSpPr>
            <a:xfrm>
              <a:off x="6372360" y="2133360"/>
              <a:ext cx="1871640" cy="4003920"/>
              <a:chOff x="6372360" y="2133360"/>
              <a:chExt cx="1871640" cy="4003920"/>
            </a:xfrm>
          </p:grpSpPr>
          <p:sp>
            <p:nvSpPr>
              <p:cNvPr id="80" name="Dowolny kształt 30"/>
              <p:cNvSpPr/>
              <p:nvPr/>
            </p:nvSpPr>
            <p:spPr>
              <a:xfrm rot="16200000">
                <a:off x="5712840" y="2818080"/>
                <a:ext cx="3192840" cy="1823040"/>
              </a:xfrm>
              <a:custGeom>
                <a:avLst/>
                <a:gdLst/>
                <a:ahLst/>
                <a:rect l="l" t="t" r="r" b="b"/>
                <a:pathLst>
                  <a:path w="1985367" h="3199903">
                    <a:moveTo>
                      <a:pt x="1923776" y="2"/>
                    </a:moveTo>
                    <a:cubicBezTo>
                      <a:pt x="1940111" y="2"/>
                      <a:pt x="1955777" y="16859"/>
                      <a:pt x="1967327" y="46863"/>
                    </a:cubicBezTo>
                    <a:cubicBezTo>
                      <a:pt x="1978877" y="76867"/>
                      <a:pt x="1985367" y="117564"/>
                      <a:pt x="1985367" y="159996"/>
                    </a:cubicBezTo>
                    <a:lnTo>
                      <a:pt x="1985367" y="3039907"/>
                    </a:lnTo>
                    <a:cubicBezTo>
                      <a:pt x="1985367" y="3082341"/>
                      <a:pt x="1978877" y="3123036"/>
                      <a:pt x="1967327" y="3153040"/>
                    </a:cubicBezTo>
                    <a:cubicBezTo>
                      <a:pt x="1955777" y="3183044"/>
                      <a:pt x="1940111" y="3199901"/>
                      <a:pt x="1923776" y="3199901"/>
                    </a:cubicBezTo>
                    <a:lnTo>
                      <a:pt x="61591" y="3199901"/>
                    </a:lnTo>
                    <a:cubicBezTo>
                      <a:pt x="45256" y="3199901"/>
                      <a:pt x="29590" y="3183044"/>
                      <a:pt x="18040" y="3153040"/>
                    </a:cubicBezTo>
                    <a:cubicBezTo>
                      <a:pt x="6490" y="3123036"/>
                      <a:pt x="0" y="3082339"/>
                      <a:pt x="0" y="3039907"/>
                    </a:cubicBezTo>
                    <a:lnTo>
                      <a:pt x="0" y="159996"/>
                    </a:lnTo>
                    <a:cubicBezTo>
                      <a:pt x="0" y="117562"/>
                      <a:pt x="6490" y="76867"/>
                      <a:pt x="18040" y="46863"/>
                    </a:cubicBezTo>
                    <a:cubicBezTo>
                      <a:pt x="29590" y="16859"/>
                      <a:pt x="45256" y="2"/>
                      <a:pt x="61591" y="2"/>
                    </a:cubicBezTo>
                    <a:lnTo>
                      <a:pt x="1923776" y="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9bbb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5640" rIns="97560" tIns="75240" bIns="1587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Dowolny kształt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372360" y="2930760"/>
                <a:ext cx="1871640" cy="32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" descr=""/>
              <p:cNvPicPr/>
              <p:nvPr/>
            </p:nvPicPr>
            <p:blipFill>
              <a:blip r:embed="rId8"/>
              <a:stretch/>
            </p:blipFill>
            <p:spPr>
              <a:xfrm>
                <a:off x="6499440" y="2205360"/>
                <a:ext cx="1652760" cy="1436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3" name="Picture 2" descr=""/>
            <p:cNvPicPr/>
            <p:nvPr/>
          </p:nvPicPr>
          <p:blipFill>
            <a:blip r:embed="rId9"/>
            <a:stretch/>
          </p:blipFill>
          <p:spPr>
            <a:xfrm>
              <a:off x="6444000" y="2205360"/>
              <a:ext cx="1727640" cy="14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25" descr=""/>
          <p:cNvPicPr/>
          <p:nvPr/>
        </p:nvPicPr>
        <p:blipFill>
          <a:blip r:embed="rId10"/>
          <a:stretch/>
        </p:blipFill>
        <p:spPr>
          <a:xfrm>
            <a:off x="2556000" y="2205000"/>
            <a:ext cx="172872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2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11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340000" y="4221000"/>
            <a:ext cx="3876480" cy="1695600"/>
          </a:xfrm>
          <a:prstGeom prst="rect">
            <a:avLst/>
          </a:prstGeom>
          <a:ln w="0">
            <a:noFill/>
          </a:ln>
        </p:spPr>
      </p:pic>
      <p:grpSp>
        <p:nvGrpSpPr>
          <p:cNvPr id="91" name="Grupa 12"/>
          <p:cNvGrpSpPr/>
          <p:nvPr/>
        </p:nvGrpSpPr>
        <p:grpSpPr>
          <a:xfrm>
            <a:off x="611280" y="765000"/>
            <a:ext cx="7129440" cy="2951280"/>
            <a:chOff x="611280" y="765000"/>
            <a:chExt cx="7129440" cy="2951280"/>
          </a:xfrm>
        </p:grpSpPr>
        <p:sp>
          <p:nvSpPr>
            <p:cNvPr id="92" name="Prostokąt zaokrąglony 11"/>
            <p:cNvSpPr/>
            <p:nvPr/>
          </p:nvSpPr>
          <p:spPr>
            <a:xfrm>
              <a:off x="611280" y="765000"/>
              <a:ext cx="7129440" cy="295128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ole tekstowe 10"/>
            <p:cNvSpPr/>
            <p:nvPr/>
          </p:nvSpPr>
          <p:spPr>
            <a:xfrm>
              <a:off x="755280" y="1124640"/>
              <a:ext cx="68414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rządzanie zasobami ludzkim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- proces składający się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logicznie ze sobą powiązanych czynności, ukierunkowanych na zapewnienie organizacji w określonym czasie i miejscu wymaganej liczby pracowników o odpowiednich kwalifikacjach, oraz tworzenie warunków stymulujących efektywne zachowania zatrudnionego personelu zgodnie z nadrzędnym celem organizacj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ole tekstowe 22"/>
          <p:cNvSpPr/>
          <p:nvPr/>
        </p:nvSpPr>
        <p:spPr>
          <a:xfrm>
            <a:off x="4067280" y="836640"/>
            <a:ext cx="417672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lityka personalna jest wielowymiarowa.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iędzy innymi dotycz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lanowania personel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potrzebowania na persone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krut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konywania oceny pracy pracow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noszenia kwalifikacji 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tywowania pracow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nawet redukcji zatrudni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8"/>
          <a:stretch/>
        </p:blipFill>
        <p:spPr>
          <a:xfrm>
            <a:off x="4859280" y="5157720"/>
            <a:ext cx="2214720" cy="14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9"/>
          <a:stretch/>
        </p:blipFill>
        <p:spPr>
          <a:xfrm>
            <a:off x="250920" y="692280"/>
            <a:ext cx="340344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10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ole tekstowe 22"/>
          <p:cNvSpPr/>
          <p:nvPr/>
        </p:nvSpPr>
        <p:spPr>
          <a:xfrm>
            <a:off x="684360" y="3068640"/>
            <a:ext cx="74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olsce istnieje wiele aktów prawnych, które są bardzo istotne dla polityki personalnej. Niektóre zagadnienia dotyczące pracy występują już w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stytucji Rzeczypospolitej Polskie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Jednak najbardziej istotnym aktem prawnym, który określa prawa i obowiązki pracownika i pracodawcy,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deks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Inne ustaw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rządzenia regulują m.in. funkcjonowanie konkretnych zaw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3562560" cy="225756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ole tekstowe 12"/>
          <p:cNvSpPr/>
          <p:nvPr/>
        </p:nvSpPr>
        <p:spPr>
          <a:xfrm>
            <a:off x="489240" y="476280"/>
            <a:ext cx="62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różnia się dwa modele polityki personaln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upa 27"/>
          <p:cNvGrpSpPr/>
          <p:nvPr/>
        </p:nvGrpSpPr>
        <p:grpSpPr>
          <a:xfrm>
            <a:off x="4500720" y="3389400"/>
            <a:ext cx="3322440" cy="2265120"/>
            <a:chOff x="4500720" y="3389400"/>
            <a:chExt cx="3322440" cy="2265120"/>
          </a:xfrm>
        </p:grpSpPr>
        <p:sp>
          <p:nvSpPr>
            <p:cNvPr id="116" name="Dowolny kształt 20"/>
            <p:cNvSpPr/>
            <p:nvPr/>
          </p:nvSpPr>
          <p:spPr>
            <a:xfrm>
              <a:off x="4500720" y="3389400"/>
              <a:ext cx="3322440" cy="2265120"/>
            </a:xfrm>
            <a:custGeom>
              <a:avLst/>
              <a:gdLst/>
              <a:ahLst/>
              <a:rect l="l" t="t" r="r" b="b"/>
              <a:pathLst>
                <a:path w="3323071" h="2264730">
                  <a:moveTo>
                    <a:pt x="0" y="0"/>
                  </a:moveTo>
                  <a:lnTo>
                    <a:pt x="3323071" y="0"/>
                  </a:lnTo>
                  <a:lnTo>
                    <a:pt x="3323071" y="2264730"/>
                  </a:lnTo>
                  <a:lnTo>
                    <a:pt x="0" y="22647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ca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10069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ole tekstowe 22"/>
            <p:cNvSpPr/>
            <p:nvPr/>
          </p:nvSpPr>
          <p:spPr>
            <a:xfrm>
              <a:off x="4500720" y="3645000"/>
              <a:ext cx="331200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del kapitału ludzkiego</a:t>
              </a: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br>
                <a:rPr sz="1900"/>
              </a:b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model oparty jest na założeniu, że człowiek zmienia i uczy się przez całe swoje życie, także inwestycje w jego rozwój są wskazan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130560" cy="198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upa 26"/>
          <p:cNvGrpSpPr/>
          <p:nvPr/>
        </p:nvGrpSpPr>
        <p:grpSpPr>
          <a:xfrm>
            <a:off x="611280" y="3386160"/>
            <a:ext cx="3325680" cy="2268360"/>
            <a:chOff x="611280" y="3386160"/>
            <a:chExt cx="3325680" cy="2268360"/>
          </a:xfrm>
        </p:grpSpPr>
        <p:sp>
          <p:nvSpPr>
            <p:cNvPr id="120" name="Dowolny kształt 17"/>
            <p:cNvSpPr/>
            <p:nvPr/>
          </p:nvSpPr>
          <p:spPr>
            <a:xfrm>
              <a:off x="614160" y="3386160"/>
              <a:ext cx="3322800" cy="2268360"/>
            </a:xfrm>
            <a:custGeom>
              <a:avLst/>
              <a:gdLst/>
              <a:ahLst/>
              <a:rect l="l" t="t" r="r" b="b"/>
              <a:pathLst>
                <a:path w="3323071" h="2267941">
                  <a:moveTo>
                    <a:pt x="0" y="0"/>
                  </a:moveTo>
                  <a:lnTo>
                    <a:pt x="3323071" y="0"/>
                  </a:lnTo>
                  <a:lnTo>
                    <a:pt x="3323071" y="2267941"/>
                  </a:lnTo>
                  <a:lnTo>
                    <a:pt x="0" y="2267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8ca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100692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pole tekstowe 24"/>
            <p:cNvSpPr/>
            <p:nvPr/>
          </p:nvSpPr>
          <p:spPr>
            <a:xfrm>
              <a:off x="611280" y="4004280"/>
              <a:ext cx="33120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del sita</a:t>
              </a: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model oparty na konkurencji oraz rywalizacji między pracownikami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4643280" y="1268280"/>
            <a:ext cx="3024360" cy="20163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ole tekstowe 10"/>
          <p:cNvSpPr/>
          <p:nvPr/>
        </p:nvSpPr>
        <p:spPr>
          <a:xfrm>
            <a:off x="611280" y="3213000"/>
            <a:ext cx="7561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ostki gospodarcze realizują politykę personalną, powołując odpowiednie komórki, które są do tego celu przeznaczone. Nazywa się je często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ałami personalnymi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 Te jednostki koncentrują swoje działania na tworzeniu kadr oraz ich doskonaleni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2500200" cy="23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2376360" cy="2097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4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ole tekstowe 14"/>
          <p:cNvSpPr/>
          <p:nvPr/>
        </p:nvSpPr>
        <p:spPr>
          <a:xfrm>
            <a:off x="539640" y="112536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ór pracownik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to zespół skoordynowanych oraz celowych działań, które są związane z obsadzaniem stanowisk organizacyjnych, przez osoby mające odpowiednie i pożądane cechy psychologicz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kwalifikacje zawodowe.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ekrutacj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pierwszy etap pozyskiwania pracowników, który poprzedzony jest planowaniem zasobów ludzk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3365280" cy="213660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Y BIZN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3"/>
          <a:stretch/>
        </p:blipFill>
        <p:spPr>
          <a:xfrm>
            <a:off x="8710560" y="476280"/>
            <a:ext cx="43344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4:43:10Z</dcterms:created>
  <dc:creator>x</dc:creator>
  <dc:description/>
  <dc:language>en-US</dc:language>
  <cp:lastModifiedBy>Gosia</cp:lastModifiedBy>
  <dcterms:modified xsi:type="dcterms:W3CDTF">2013-01-31T16:58:03Z</dcterms:modified>
  <cp:revision>107</cp:revision>
  <dc:subject/>
  <dc:title>Slajd 1</dc:title>
</cp:coreProperties>
</file>