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22.jpeg" ContentType="image/jpeg"/>
  <Override PartName="/ppt/media/image14.jpeg" ContentType="image/jpeg"/>
  <Override PartName="/ppt/media/image8.png" ContentType="image/png"/>
  <Override PartName="/ppt/media/image39.jpeg" ContentType="image/jpeg"/>
  <Override PartName="/ppt/media/image35.jpeg" ContentType="image/jpeg"/>
  <Override PartName="/ppt/media/image10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40.jpeg" ContentType="image/jpeg"/>
  <Override PartName="/ppt/media/image28.png" ContentType="image/png"/>
  <Override PartName="/ppt/media/image38.jpeg" ContentType="image/jpeg"/>
  <Override PartName="/ppt/media/image36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3.png" ContentType="image/png"/>
  <Override PartName="/ppt/media/image26.png" ContentType="image/png"/>
  <Override PartName="/ppt/media/image1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8F6F-E6A6-4A27-BE8F-F96BC57469A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92BC-574B-4CA0-9FA7-D56659D68B4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893C-6308-434D-B2B1-2293E0CF576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1997-0A8F-46EC-A70A-14CB6FC6DF4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17E1-F15C-4E07-A984-439950E1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B264-CB48-4291-97B2-B70109F4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99C0-30A9-4992-99CB-190B30DD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4CC7-D065-4E3F-9A71-384FC96D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41F4-D469-47D3-80DF-25166592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9A26-7ECA-44B7-AC1A-DE18F4C4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880A-F0D1-4A53-B311-AB633B78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B895-5B01-4218-B9C7-F0F093DA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A036-A6B2-4108-93AF-B2452721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E84A-ECA6-41F5-B51C-F2344B78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E310-D2C7-463E-B34A-8AD2C155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81A0-CF0E-48E1-BD5F-588D1789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1F5B-8FBA-4FAC-91FB-010E52F482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agram 6" descr=""/>
          <p:cNvPicPr/>
          <p:nvPr/>
        </p:nvPicPr>
        <p:blipFill>
          <a:blip r:embed="rId1"/>
          <a:stretch/>
        </p:blipFill>
        <p:spPr>
          <a:xfrm>
            <a:off x="1974960" y="1981080"/>
            <a:ext cx="6565680" cy="2462400"/>
          </a:xfrm>
          <a:prstGeom prst="rect">
            <a:avLst/>
          </a:prstGeom>
          <a:ln w="0">
            <a:noFill/>
          </a:ln>
        </p:spPr>
      </p:pic>
      <p:sp>
        <p:nvSpPr>
          <p:cNvPr id="49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ED3A-91E5-4A57-86DA-AF1666F4B7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0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alibri"/>
              </a:rPr>
              <a:t>KOMUNIKOWANIE SIĘ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51" name="Diagram 9" descr=""/>
          <p:cNvPicPr/>
          <p:nvPr/>
        </p:nvPicPr>
        <p:blipFill>
          <a:blip r:embed="rId2"/>
          <a:stretch/>
        </p:blipFill>
        <p:spPr>
          <a:xfrm>
            <a:off x="1841400" y="1981080"/>
            <a:ext cx="6589800" cy="2487600"/>
          </a:xfrm>
          <a:prstGeom prst="rect">
            <a:avLst/>
          </a:prstGeom>
          <a:ln w="0">
            <a:noFill/>
          </a:ln>
        </p:spPr>
      </p:pic>
      <p:pic>
        <p:nvPicPr>
          <p:cNvPr id="52" name="Diagram 11" descr=""/>
          <p:cNvPicPr/>
          <p:nvPr/>
        </p:nvPicPr>
        <p:blipFill>
          <a:blip r:embed="rId3"/>
          <a:stretch/>
        </p:blipFill>
        <p:spPr>
          <a:xfrm>
            <a:off x="542880" y="1968480"/>
            <a:ext cx="1073160" cy="781200"/>
          </a:xfrm>
          <a:prstGeom prst="rect">
            <a:avLst/>
          </a:prstGeom>
          <a:ln w="0">
            <a:noFill/>
          </a:ln>
        </p:spPr>
      </p:pic>
      <p:pic>
        <p:nvPicPr>
          <p:cNvPr id="53" name="Obraz 8" descr="naglowek_obowiazujacy_usw kolor"/>
          <p:cNvPicPr/>
          <p:nvPr/>
        </p:nvPicPr>
        <p:blipFill>
          <a:blip r:embed="rId4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Obraz 13" descr="4642108981_0639928a4f_m.jpg"/>
          <p:cNvPicPr/>
          <p:nvPr/>
        </p:nvPicPr>
        <p:blipFill>
          <a:blip r:embed="rId1"/>
          <a:stretch/>
        </p:blipFill>
        <p:spPr>
          <a:xfrm>
            <a:off x="0" y="836640"/>
            <a:ext cx="304812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4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4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46" name="Prostokąt 6"/>
          <p:cNvSpPr/>
          <p:nvPr/>
        </p:nvSpPr>
        <p:spPr>
          <a:xfrm>
            <a:off x="0" y="54936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yk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ad podstawowych celów reklamy us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ug bankowych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47" name="Prostokąt zaokrąglony 7"/>
          <p:cNvSpPr/>
          <p:nvPr/>
        </p:nvSpPr>
        <p:spPr>
          <a:xfrm>
            <a:off x="3276720" y="1557360"/>
            <a:ext cx="482436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wiadomienie klientowi, na czym polega ró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nica w ofercie danego banku w porównaniu z innymi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48" name="Prostokąt zaokrąglony 8"/>
          <p:cNvSpPr/>
          <p:nvPr/>
        </p:nvSpPr>
        <p:spPr>
          <a:xfrm>
            <a:off x="3203640" y="2852640"/>
            <a:ext cx="489744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ekonanie klienta,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e bank dysponuje nie jednym, ale c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gam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us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ug, które mog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zaspoko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otrzeby klienta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49" name="Prostokąt zaokrąglony 9"/>
          <p:cNvSpPr/>
          <p:nvPr/>
        </p:nvSpPr>
        <p:spPr>
          <a:xfrm>
            <a:off x="324000" y="4149720"/>
            <a:ext cx="777708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achęcanie klientów do nawiązania bezpośredniego kontaktu z oddziałem banku (osobiście lub telefonicznie)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0" name="Prostokąt zaokrąglony 10"/>
          <p:cNvSpPr/>
          <p:nvPr/>
        </p:nvSpPr>
        <p:spPr>
          <a:xfrm>
            <a:off x="971640" y="5445000"/>
            <a:ext cx="7129440" cy="100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Uświadomienie klientom, że załatwienie w banku formalności związanych z nabyciem produktu nie będzie kłopotliwe ani trudne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51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52" name="pole tekstowe 12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53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395280" y="1204920"/>
            <a:ext cx="7632720" cy="17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tworzyć unikatową markę mleka Łaciate, rozpoznawalną, która wyraźnie różniłaby się od produktów konkurencji,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spowodow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, aby skrót UHT przest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strasz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konsumentów,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spowodow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, aby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aciate b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o postrzegane jako polski produkt, smaczny, naturalny, zdrowy, bez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adnych dodatków konserwu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cych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5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58" name="Prostokąt 6"/>
          <p:cNvSpPr/>
          <p:nvPr/>
        </p:nvSpPr>
        <p:spPr>
          <a:xfrm>
            <a:off x="0" y="40464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yk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ad celów kampanii reklamowej mleka 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aciate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59" name="Grupa 9"/>
          <p:cNvGrpSpPr/>
          <p:nvPr/>
        </p:nvGrpSpPr>
        <p:grpSpPr>
          <a:xfrm>
            <a:off x="4427640" y="3941640"/>
            <a:ext cx="3889440" cy="2916360"/>
            <a:chOff x="4427640" y="3941640"/>
            <a:chExt cx="3889440" cy="2916360"/>
          </a:xfrm>
        </p:grpSpPr>
        <p:pic>
          <p:nvPicPr>
            <p:cNvPr id="160" name="Obraz 7" descr="5280659516_ee185656bb_m.jpg"/>
            <p:cNvPicPr/>
            <p:nvPr/>
          </p:nvPicPr>
          <p:blipFill>
            <a:blip r:embed="rId2"/>
            <a:stretch/>
          </p:blipFill>
          <p:spPr>
            <a:xfrm>
              <a:off x="4427640" y="3941640"/>
              <a:ext cx="3889440" cy="29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Prostokąt 8"/>
            <p:cNvSpPr/>
            <p:nvPr/>
          </p:nvSpPr>
          <p:spPr>
            <a:xfrm>
              <a:off x="6948720" y="3995280"/>
              <a:ext cx="136836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62" name="Prostokąt 10"/>
          <p:cNvSpPr/>
          <p:nvPr/>
        </p:nvSpPr>
        <p:spPr>
          <a:xfrm>
            <a:off x="179280" y="3645000"/>
            <a:ext cx="4572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Cele reklamy powinny bezpośrednio wypływać z celów marketingowych przedsiębiorstwa i powinny być najlepiej wyrażone w kategoriach mierzalnych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63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64" name="pole tekstowe 12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65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Obraz 9" descr="6333555347_c15d171122_m.jpg"/>
          <p:cNvPicPr/>
          <p:nvPr/>
        </p:nvPicPr>
        <p:blipFill>
          <a:blip r:embed="rId1"/>
          <a:stretch/>
        </p:blipFill>
        <p:spPr>
          <a:xfrm>
            <a:off x="4211640" y="4470480"/>
            <a:ext cx="3408480" cy="23875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"/>
          <p:cNvSpPr/>
          <p:nvPr/>
        </p:nvSpPr>
        <p:spPr>
          <a:xfrm>
            <a:off x="250920" y="1429920"/>
            <a:ext cx="792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telewizyjna – plansze reklamowe, filmy (spoty) reklamowe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radiowa – audycje, konkursy, og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oszenia, piosenki reklamowe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prasowa – og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oszenia, wrzutki, artyku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 reklamowe, pachn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e stron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zewn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trzna (tzw. outdoor) – tablice przydr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e, szyldy, plansze na stadionach, neony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wietlne, reklama na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odkach transportu, banner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internetowa – bannery reklamowe, mailing, linki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wydawnicza – foldery, ulotki, plakaty, kalendarze, katalogi, informator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pocztowa (tzw. direct mail) – listy reklamowe, ulotki, katalog, kartka reklamowa – bezadresowe przesy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ki pocztowe wrzucane do k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dej skrzynki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kinowa – filmy reklamowe, plansze reklamowe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w miejscu sprzed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 – stojaki reklamowe, ulotki, plakaty, foldery, ekspozycje w oknie wystawowym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pozost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e media – reklama przez telefon, szata graficzna opakowania, stoiska wystawowe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6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71" name="Prostokąt 6"/>
          <p:cNvSpPr/>
          <p:nvPr/>
        </p:nvSpPr>
        <p:spPr>
          <a:xfrm>
            <a:off x="0" y="40464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Typy reklamy 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ze wzgl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du na wybór 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rodka masowej komunikacji 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72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73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74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az 10" descr="4642719656_921f941afd_m.jpg"/>
          <p:cNvPicPr/>
          <p:nvPr/>
        </p:nvPicPr>
        <p:blipFill>
          <a:blip r:embed="rId1"/>
          <a:srcRect l="0" t="7868" r="0" b="3498"/>
          <a:stretch/>
        </p:blipFill>
        <p:spPr>
          <a:xfrm>
            <a:off x="2124000" y="0"/>
            <a:ext cx="6431040" cy="48690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79" name="Prostokąt 9"/>
          <p:cNvSpPr/>
          <p:nvPr/>
        </p:nvSpPr>
        <p:spPr>
          <a:xfrm>
            <a:off x="314280" y="1773360"/>
            <a:ext cx="492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Pozytywny wp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ł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yw reklamy na konsumenta: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250920" y="2152440"/>
            <a:ext cx="5689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p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i funkc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edukacyjn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– dz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ki niej klienci dowiadu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 si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o  now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ach  rynkowych, o promocjach cenowych i pozacenowych, o ró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ych sposobach zaspokojenia swoich potrzeb i ewentualnych korzy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ach, o nowych technologiach i sprz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e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p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i funkc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ekonomiczn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– pozwala klientom na dokonywanie ekonomicznych wyborów w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ód tys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a produktów na rynku, zgodnie ze swoimi potrzebami i zawart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ortfela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powoduje,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e produkty nieakceptowane przez klientów szybciej znika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z rynku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dz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ki reklamie przeprowadza s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skuteczne kampanie sp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eczne np.: z zakresu profilaktyki AIDS i u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wania narkotyków, przeciwko przemocy w rodzinie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81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82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83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87" name="Rectangle 1"/>
          <p:cNvSpPr/>
          <p:nvPr/>
        </p:nvSpPr>
        <p:spPr>
          <a:xfrm>
            <a:off x="395280" y="2217960"/>
            <a:ext cx="561672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bardzo silne jest wnikanie reklamy w nasze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cie, nadawane reklamy przerywa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nam ogl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danie ulubionych programów,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y zwykle s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nadawane gł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iej n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tr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ć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filmu, wywołu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w nas rozdr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ienie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ogl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danie reklam zw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ksza ch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ć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zakupu towarów, a tym samym pog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bia konsumpcyjny styl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cia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s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reklamy, które wprowadza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klientów w b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d, poda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 nieprawdziwe informacje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88" name="Prostokąt 8"/>
          <p:cNvSpPr/>
          <p:nvPr/>
        </p:nvSpPr>
        <p:spPr>
          <a:xfrm>
            <a:off x="345600" y="1773360"/>
            <a:ext cx="49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Negatywny wp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ł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yw reklamy na konsumenta: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189" name="Obraz 10" descr="3026027962_94e4413b08_m.jpg"/>
          <p:cNvPicPr/>
          <p:nvPr/>
        </p:nvPicPr>
        <p:blipFill>
          <a:blip r:embed="rId2"/>
          <a:stretch/>
        </p:blipFill>
        <p:spPr>
          <a:xfrm>
            <a:off x="5940360" y="836640"/>
            <a:ext cx="2030400" cy="4351320"/>
          </a:xfrm>
          <a:prstGeom prst="rect">
            <a:avLst/>
          </a:prstGeom>
          <a:ln w="0">
            <a:noFill/>
          </a:ln>
        </p:spPr>
      </p:pic>
      <p:grpSp>
        <p:nvGrpSpPr>
          <p:cNvPr id="190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91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92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upa 12"/>
          <p:cNvGrpSpPr/>
          <p:nvPr/>
        </p:nvGrpSpPr>
        <p:grpSpPr>
          <a:xfrm>
            <a:off x="0" y="1197000"/>
            <a:ext cx="3138480" cy="4206960"/>
            <a:chOff x="0" y="1197000"/>
            <a:chExt cx="3138480" cy="4206960"/>
          </a:xfrm>
        </p:grpSpPr>
        <p:pic>
          <p:nvPicPr>
            <p:cNvPr id="194" name="Obraz 7" descr="5592937266_0b9c27eb4f_m.jpg"/>
            <p:cNvPicPr/>
            <p:nvPr/>
          </p:nvPicPr>
          <p:blipFill>
            <a:blip r:embed="rId1"/>
            <a:stretch/>
          </p:blipFill>
          <p:spPr>
            <a:xfrm>
              <a:off x="0" y="1197000"/>
              <a:ext cx="3138480" cy="420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Prostokąt 11"/>
            <p:cNvSpPr/>
            <p:nvPr/>
          </p:nvSpPr>
          <p:spPr>
            <a:xfrm>
              <a:off x="2449440" y="4365720"/>
              <a:ext cx="431640" cy="35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grpSp>
        <p:nvGrpSpPr>
          <p:cNvPr id="196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99" name="Prostokąt 6"/>
          <p:cNvSpPr/>
          <p:nvPr/>
        </p:nvSpPr>
        <p:spPr>
          <a:xfrm>
            <a:off x="3348000" y="1197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7030a0"/>
                </a:solidFill>
                <a:latin typeface="Times New Roman CE"/>
                <a:ea typeface="SimSun"/>
              </a:rPr>
              <a:t>Efekt perswazyjny (nak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  <a:ea typeface="SimSun"/>
              </a:rPr>
              <a:t>aniaj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</a:rPr>
              <a:t>ą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  <a:ea typeface="SimSun"/>
              </a:rPr>
              <a:t>cy) w reklamie mo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</a:rPr>
              <a:t>ż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  <a:ea typeface="SimSun"/>
              </a:rPr>
              <a:t>na osi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</a:rPr>
              <a:t>ą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  <a:ea typeface="SimSun"/>
              </a:rPr>
              <a:t>gn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</a:rPr>
              <a:t>ąć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  <a:ea typeface="SimSun"/>
              </a:rPr>
              <a:t> poprzez: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0" name="Prostokąt zaokrąglony 9"/>
          <p:cNvSpPr/>
          <p:nvPr/>
        </p:nvSpPr>
        <p:spPr>
          <a:xfrm>
            <a:off x="3276720" y="2924280"/>
            <a:ext cx="4824360" cy="100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79280"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wykorzystanie w reklamie wiarygodnego i atrakcyjnego nadawcy przekazu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1" name="Prostokąt zaokrąglony 10"/>
          <p:cNvSpPr/>
          <p:nvPr/>
        </p:nvSpPr>
        <p:spPr>
          <a:xfrm>
            <a:off x="3276720" y="4221000"/>
            <a:ext cx="4824360" cy="100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uż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yty w reklamie 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zyk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02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03" name="pole tekstowe 13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04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208" name="Prostokąt 6"/>
          <p:cNvSpPr/>
          <p:nvPr/>
        </p:nvSpPr>
        <p:spPr>
          <a:xfrm>
            <a:off x="179280" y="189000"/>
            <a:ext cx="80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Odpowiednio 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dobrany nadawca</a:t>
            </a:r>
            <a:r>
              <a:rPr b="0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w reklamie m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e w istotny sposób wpłyn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na jej skuteczn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. Bohater reklamy powinien wzbudz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zaufanie, b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wiarygodny i akceptowany przez odbiorc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9" name="Prostokąt 7"/>
          <p:cNvSpPr/>
          <p:nvPr/>
        </p:nvSpPr>
        <p:spPr>
          <a:xfrm>
            <a:off x="1547640" y="1484280"/>
            <a:ext cx="58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W reklamach zazwyczaj w roli nadawcy wyst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ę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pują: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210" name="Diagram 8" descr=""/>
          <p:cNvPicPr/>
          <p:nvPr/>
        </p:nvPicPr>
        <p:blipFill>
          <a:blip r:embed="rId2"/>
          <a:stretch/>
        </p:blipFill>
        <p:spPr>
          <a:xfrm>
            <a:off x="2011320" y="4834080"/>
            <a:ext cx="5810400" cy="828360"/>
          </a:xfrm>
          <a:prstGeom prst="rect">
            <a:avLst/>
          </a:prstGeom>
          <a:ln w="0">
            <a:noFill/>
          </a:ln>
        </p:spPr>
      </p:pic>
      <p:pic>
        <p:nvPicPr>
          <p:cNvPr id="211" name="Diagram 9" descr=""/>
          <p:cNvPicPr/>
          <p:nvPr/>
        </p:nvPicPr>
        <p:blipFill>
          <a:blip r:embed="rId3"/>
          <a:stretch/>
        </p:blipFill>
        <p:spPr>
          <a:xfrm>
            <a:off x="-6480" y="2243160"/>
            <a:ext cx="5810400" cy="828720"/>
          </a:xfrm>
          <a:prstGeom prst="rect">
            <a:avLst/>
          </a:prstGeom>
          <a:ln w="0">
            <a:noFill/>
          </a:ln>
        </p:spPr>
      </p:pic>
      <p:pic>
        <p:nvPicPr>
          <p:cNvPr id="212" name="Diagram 10" descr=""/>
          <p:cNvPicPr/>
          <p:nvPr/>
        </p:nvPicPr>
        <p:blipFill>
          <a:blip r:embed="rId4"/>
          <a:stretch/>
        </p:blipFill>
        <p:spPr>
          <a:xfrm>
            <a:off x="785880" y="3103560"/>
            <a:ext cx="5810040" cy="828720"/>
          </a:xfrm>
          <a:prstGeom prst="rect">
            <a:avLst/>
          </a:prstGeom>
          <a:ln w="0">
            <a:noFill/>
          </a:ln>
        </p:spPr>
      </p:pic>
      <p:pic>
        <p:nvPicPr>
          <p:cNvPr id="213" name="Diagram 11" descr=""/>
          <p:cNvPicPr/>
          <p:nvPr/>
        </p:nvPicPr>
        <p:blipFill>
          <a:blip r:embed="rId5"/>
          <a:stretch/>
        </p:blipFill>
        <p:spPr>
          <a:xfrm>
            <a:off x="1504800" y="3968640"/>
            <a:ext cx="5810400" cy="828720"/>
          </a:xfrm>
          <a:prstGeom prst="rect">
            <a:avLst/>
          </a:prstGeom>
          <a:ln w="0">
            <a:noFill/>
          </a:ln>
        </p:spPr>
      </p:pic>
      <p:pic>
        <p:nvPicPr>
          <p:cNvPr id="214" name="Diagram 12" descr=""/>
          <p:cNvPicPr/>
          <p:nvPr/>
        </p:nvPicPr>
        <p:blipFill>
          <a:blip r:embed="rId6"/>
          <a:stretch/>
        </p:blipFill>
        <p:spPr>
          <a:xfrm>
            <a:off x="2730600" y="5694480"/>
            <a:ext cx="5810040" cy="834840"/>
          </a:xfrm>
          <a:prstGeom prst="rect">
            <a:avLst/>
          </a:prstGeom>
          <a:ln w="0">
            <a:noFill/>
          </a:ln>
        </p:spPr>
      </p:pic>
      <p:grpSp>
        <p:nvGrpSpPr>
          <p:cNvPr id="215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16" name="pole tekstowe 14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17" name="Obraz 10" descr="sowa_1-komunikowanie sie.png"/>
            <p:cNvPicPr/>
            <p:nvPr/>
          </p:nvPicPr>
          <p:blipFill>
            <a:blip r:embed="rId7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rostokąt 6"/>
          <p:cNvSpPr/>
          <p:nvPr/>
        </p:nvSpPr>
        <p:spPr>
          <a:xfrm>
            <a:off x="0" y="476280"/>
            <a:ext cx="83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Elementy perswazyjne j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ę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zyka reklamy: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19" name="Grupa 9"/>
          <p:cNvGrpSpPr/>
          <p:nvPr/>
        </p:nvGrpSpPr>
        <p:grpSpPr>
          <a:xfrm>
            <a:off x="3851280" y="4361040"/>
            <a:ext cx="3816360" cy="2496960"/>
            <a:chOff x="3851280" y="4361040"/>
            <a:chExt cx="3816360" cy="2496960"/>
          </a:xfrm>
        </p:grpSpPr>
        <p:pic>
          <p:nvPicPr>
            <p:cNvPr id="220" name="Obraz 7" descr="6359992413_f7c193108d_m.jpg"/>
            <p:cNvPicPr/>
            <p:nvPr/>
          </p:nvPicPr>
          <p:blipFill>
            <a:blip r:embed="rId1"/>
            <a:stretch/>
          </p:blipFill>
          <p:spPr>
            <a:xfrm>
              <a:off x="3851280" y="4361040"/>
              <a:ext cx="3816360" cy="24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Prostokąt 8"/>
            <p:cNvSpPr/>
            <p:nvPr/>
          </p:nvSpPr>
          <p:spPr>
            <a:xfrm>
              <a:off x="6875640" y="6669360"/>
              <a:ext cx="792000" cy="188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222" name="Rectangle 1"/>
          <p:cNvSpPr/>
          <p:nvPr/>
        </p:nvSpPr>
        <p:spPr>
          <a:xfrm>
            <a:off x="582120" y="997200"/>
            <a:ext cx="723672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wykorzystanie w reklamie tzw. s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ów mocy: darmowy, unikatow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u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wanie perswazyjnych zwrotów wzywa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ych do działania: „kup teraz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wzbudzenie u klienta obaw: „oferta w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a do…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u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wanie pyt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ń: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„Czy czujesz s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czasem jakby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kn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a balon?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podkr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lanie mnog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 i pojedyncz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 s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ów: „jeden i tylko jeden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stosowanie partyku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wzmacnia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ych i os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abia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ych: „tylko u nas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stosowanie rymów: „do wyboru, do koloru”, „Z Wart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warto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wykorzystanie liczby 2 w reklamie: „tylko 2 kalorie”, „dwa w jednym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stosowanie przedrostka NAJ: „najlepsze dla m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zyzny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wykorzystanie s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 perswazyjnej sloganu: „Zawsze Coca-Cola”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23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4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grpSp>
        <p:nvGrpSpPr>
          <p:cNvPr id="226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27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28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"/>
          <p:cNvSpPr/>
          <p:nvPr/>
        </p:nvSpPr>
        <p:spPr>
          <a:xfrm>
            <a:off x="3348000" y="2506680"/>
            <a:ext cx="4753080" cy="32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powoływanie s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na wyniki testów, bad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ń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, opinie zadowolonych klientów,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edstawianie cech produktu,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ywanie naukowych nazw i terminów, które wyw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u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rzekonanie o kompetencji nadawcy i walorach reklamowanego produktu,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podawanie danych teleadresowych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30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233" name="Prostokąt 6"/>
          <p:cNvSpPr/>
          <p:nvPr/>
        </p:nvSpPr>
        <p:spPr>
          <a:xfrm>
            <a:off x="468360" y="47628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Odpowiednio 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dobrane informacyjne i perswazyjn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aspekty 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zyka reklamy mog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w istotny sposób wp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yn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na jej skuteczn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4" name="Prostokąt 7"/>
          <p:cNvSpPr/>
          <p:nvPr/>
        </p:nvSpPr>
        <p:spPr>
          <a:xfrm>
            <a:off x="3339360" y="1989000"/>
            <a:ext cx="45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Elementy informacyjne j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ę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zyka reklamy: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235" name="Obraz 9" descr="3722352128_808a0a6b63_m.jpg"/>
          <p:cNvPicPr/>
          <p:nvPr/>
        </p:nvPicPr>
        <p:blipFill>
          <a:blip r:embed="rId2"/>
          <a:stretch/>
        </p:blipFill>
        <p:spPr>
          <a:xfrm>
            <a:off x="0" y="1413000"/>
            <a:ext cx="3284640" cy="3960720"/>
          </a:xfrm>
          <a:prstGeom prst="rect">
            <a:avLst/>
          </a:prstGeom>
          <a:ln w="0">
            <a:noFill/>
          </a:ln>
        </p:spPr>
      </p:pic>
      <p:grpSp>
        <p:nvGrpSpPr>
          <p:cNvPr id="236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37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38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Obraz 9" descr="3638958864_05933b10f6_m.jpg"/>
          <p:cNvPicPr/>
          <p:nvPr/>
        </p:nvPicPr>
        <p:blipFill>
          <a:blip r:embed="rId1"/>
          <a:srcRect l="8652" t="9448" r="8652" b="10228"/>
          <a:stretch/>
        </p:blipFill>
        <p:spPr>
          <a:xfrm>
            <a:off x="3276720" y="2276640"/>
            <a:ext cx="1800000" cy="2447640"/>
          </a:xfrm>
          <a:prstGeom prst="rect">
            <a:avLst/>
          </a:prstGeom>
          <a:ln w="0">
            <a:noFill/>
          </a:ln>
        </p:spPr>
      </p:pic>
      <p:grpSp>
        <p:nvGrpSpPr>
          <p:cNvPr id="24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243" name="Prostokąt 6"/>
          <p:cNvSpPr/>
          <p:nvPr/>
        </p:nvSpPr>
        <p:spPr>
          <a:xfrm>
            <a:off x="324000" y="476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ekaz reklamowy prezentuje zazwyczaj cechy i korzy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 produktu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4" name="Prostokąt zaokrąglony 7"/>
          <p:cNvSpPr/>
          <p:nvPr/>
        </p:nvSpPr>
        <p:spPr>
          <a:xfrm>
            <a:off x="179280" y="1773360"/>
            <a:ext cx="3097440" cy="3887640"/>
          </a:xfrm>
          <a:custGeom>
            <a:avLst/>
            <a:gdLst>
              <a:gd name="textAreaLeft" fmla="*/ 151200 w 3097440"/>
              <a:gd name="textAreaRight" fmla="*/ 2946240 w 3097440"/>
              <a:gd name="textAreaTop" fmla="*/ 151200 h 3887640"/>
              <a:gd name="textAreaBottom" fmla="*/ 3736440 h 3887640"/>
            </a:gdLst>
            <a:ahLst/>
            <a:rect l="textAreaLeft" t="textAreaTop" r="textAreaRight" b="textAreaBottom"/>
            <a:pathLst>
              <a:path w="21600" h="27110">
                <a:moveTo>
                  <a:pt x="3600" y="0"/>
                </a:moveTo>
                <a:arcTo wR="3600" hR="3600" stAng="16200000" swAng="-5400000"/>
                <a:lnTo>
                  <a:pt x="0" y="23510"/>
                </a:lnTo>
                <a:arcTo wR="3600" hR="3600" stAng="10800000" swAng="-5400000"/>
                <a:lnTo>
                  <a:pt x="18000" y="271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Cech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to właściwości produktu lub usługi, które sprawiają, że dana potrzeba może być zaspokojona (w przypadku artykułów spożywczych mogą to być: brak konserwantów, niska zawartość tłuszczu, zawartość witamin, wygodne opakowanie)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5" name="Prostokąt zaokrąglony 8"/>
          <p:cNvSpPr/>
          <p:nvPr/>
        </p:nvSpPr>
        <p:spPr>
          <a:xfrm>
            <a:off x="5076720" y="1844640"/>
            <a:ext cx="3095640" cy="3888000"/>
          </a:xfrm>
          <a:custGeom>
            <a:avLst/>
            <a:gdLst>
              <a:gd name="textAreaLeft" fmla="*/ 150840 w 3095640"/>
              <a:gd name="textAreaRight" fmla="*/ 2944800 w 3095640"/>
              <a:gd name="textAreaTop" fmla="*/ 150840 h 3888000"/>
              <a:gd name="textAreaBottom" fmla="*/ 3737160 h 3888000"/>
            </a:gdLst>
            <a:ahLst/>
            <a:rect l="textAreaLeft" t="textAreaTop" r="textAreaRight" b="textAreaBottom"/>
            <a:pathLst>
              <a:path w="21600" h="27128">
                <a:moveTo>
                  <a:pt x="3600" y="0"/>
                </a:moveTo>
                <a:arcTo wR="3600" hR="3600" stAng="16200000" swAng="-5400000"/>
                <a:lnTo>
                  <a:pt x="0" y="23528"/>
                </a:lnTo>
                <a:arcTo wR="3600" hR="3600" stAng="10800000" swAng="-5400000"/>
                <a:lnTo>
                  <a:pt x="18000" y="271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Korzy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ś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c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to wymierne zyski dla klienta wynikające z faktu,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e produkt ma określone cechy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(np. zdrowie, odporność, piękna sylwetka, oszczędność, funkcjonalność).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46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47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48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raz 15" descr="5519761651_84ca1d3d07_m.jpg"/>
          <p:cNvPicPr/>
          <p:nvPr/>
        </p:nvPicPr>
        <p:blipFill>
          <a:blip r:embed="rId1"/>
          <a:srcRect l="0" t="0" r="0" b="8317"/>
          <a:stretch/>
        </p:blipFill>
        <p:spPr>
          <a:xfrm>
            <a:off x="5292720" y="2924280"/>
            <a:ext cx="3216240" cy="3933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0" y="361080"/>
            <a:ext cx="83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5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59" name="Prostokąt zaokrąglony 12"/>
          <p:cNvSpPr/>
          <p:nvPr/>
        </p:nvSpPr>
        <p:spPr>
          <a:xfrm>
            <a:off x="250920" y="1413000"/>
            <a:ext cx="547344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Jest informac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czon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z komunikatem perswazyjnym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0" name="Prostokąt zaokrąglony 13"/>
          <p:cNvSpPr/>
          <p:nvPr/>
        </p:nvSpPr>
        <p:spPr>
          <a:xfrm>
            <a:off x="250920" y="2637000"/>
            <a:ext cx="5473440" cy="121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Jej celem jest przekazanie odbiorcy istotnych informacji o produktach, ale równi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nak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onienie go do zakupu reklamowanych dóbr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1" name="Prostokąt zaokrąglony 14"/>
          <p:cNvSpPr/>
          <p:nvPr/>
        </p:nvSpPr>
        <p:spPr>
          <a:xfrm>
            <a:off x="250920" y="4292640"/>
            <a:ext cx="5473440" cy="13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Podstawowym jej zadaniem jest wzbudzenie w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wiadom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 odbiorcy okr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lonych potrzeb, które m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na zaspoko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rzez nabycie reklamowanych produktów lub us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ug.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62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63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64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"/>
          <p:cNvSpPr/>
          <p:nvPr/>
        </p:nvSpPr>
        <p:spPr>
          <a:xfrm>
            <a:off x="0" y="-4356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yk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ady cech i korzy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0" name="Prostokąt zaokrąglony 8"/>
          <p:cNvSpPr/>
          <p:nvPr/>
        </p:nvSpPr>
        <p:spPr>
          <a:xfrm>
            <a:off x="179280" y="549360"/>
            <a:ext cx="396108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Cech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1" name="Prostokąt zaokrąglony 9"/>
          <p:cNvSpPr/>
          <p:nvPr/>
        </p:nvSpPr>
        <p:spPr>
          <a:xfrm>
            <a:off x="4211640" y="549360"/>
            <a:ext cx="39607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Korzy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ś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c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79280" y="1052640"/>
          <a:ext cx="7993080" cy="287280"/>
        </p:xfrm>
        <a:graphic>
          <a:graphicData uri="http://schemas.openxmlformats.org/drawingml/2006/table">
            <a:tbl>
              <a:tblPr/>
              <a:tblGrid>
                <a:gridCol w="3996000"/>
                <a:gridCol w="3997080"/>
              </a:tblGrid>
              <a:tr h="287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leko jest pasteryzow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leko można dłużej przechowywa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179280" y="1413000"/>
          <a:ext cx="7993080" cy="1096920"/>
        </p:xfrm>
        <a:graphic>
          <a:graphicData uri="http://schemas.openxmlformats.org/drawingml/2006/table">
            <a:tbl>
              <a:tblPr/>
              <a:tblGrid>
                <a:gridCol w="3996000"/>
                <a:gridCol w="3997080"/>
              </a:tblGrid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Rower posiada 24 przerzutk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Taka liczba przerzutek umożliwia łatwy wjazd nawet na najbardziej strome zbocze, daje możliwość pokonania dużych odległości bez zmęczen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179280" y="2565360"/>
          <a:ext cx="7993080" cy="549360"/>
        </p:xfrm>
        <a:graphic>
          <a:graphicData uri="http://schemas.openxmlformats.org/drawingml/2006/table">
            <a:tbl>
              <a:tblPr/>
              <a:tblGrid>
                <a:gridCol w="3996000"/>
                <a:gridCol w="3997080"/>
              </a:tblGrid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Krem do twarzy zawiera wyciąg z argani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kóra odzyskuje jędrność, promienn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 zdrowy wyglą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179280" y="3213000"/>
          <a:ext cx="7993080" cy="549360"/>
        </p:xfrm>
        <a:graphic>
          <a:graphicData uri="http://schemas.openxmlformats.org/drawingml/2006/table">
            <a:tbl>
              <a:tblPr/>
              <a:tblGrid>
                <a:gridCol w="3996000"/>
                <a:gridCol w="3997080"/>
              </a:tblGrid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Nowa lokata – 15% w skali rok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Większy zarobek na lokacie niż dotychcz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79280" y="3860640"/>
          <a:ext cx="7993080" cy="549360"/>
        </p:xfrm>
        <a:graphic>
          <a:graphicData uri="http://schemas.openxmlformats.org/drawingml/2006/table">
            <a:tbl>
              <a:tblPr/>
              <a:tblGrid>
                <a:gridCol w="3996000"/>
                <a:gridCol w="3997080"/>
              </a:tblGrid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ralka ma wmontowany sygnał dźwiękowy zakończenia pran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ranie bez zagniece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179280" y="4508640"/>
          <a:ext cx="7993080" cy="549000"/>
        </p:xfrm>
        <a:graphic>
          <a:graphicData uri="http://schemas.openxmlformats.org/drawingml/2006/table">
            <a:tbl>
              <a:tblPr/>
              <a:tblGrid>
                <a:gridCol w="3996000"/>
                <a:gridCol w="3997080"/>
              </a:tblGrid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zampon zawiera witalizujące protein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Włosy właściwie odżywione i wzmocnion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179280" y="5157720"/>
          <a:ext cx="7993080" cy="1371600"/>
        </p:xfrm>
        <a:graphic>
          <a:graphicData uri="http://schemas.openxmlformats.org/drawingml/2006/table">
            <a:tbl>
              <a:tblPr/>
              <a:tblGrid>
                <a:gridCol w="3996000"/>
                <a:gridCol w="3997080"/>
              </a:tblGrid>
              <a:tr h="1371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asta do zębów zawiera triclogard, który stanowi skuteczną tarczę ochronną przed bakteriami przez 12 godz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asta zapewnia długotrwałą ochronę przed próchnicą, kamieniem nazębnym i chorobami dziąseł, opóźnia rozwój paradontozy. Gwarantuje zdrowy uśmiech na długie lat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  <p:grpSp>
        <p:nvGrpSpPr>
          <p:cNvPr id="259" name="Grupa 13"/>
          <p:cNvGrpSpPr/>
          <p:nvPr/>
        </p:nvGrpSpPr>
        <p:grpSpPr>
          <a:xfrm>
            <a:off x="0" y="5950080"/>
            <a:ext cx="755640" cy="907920"/>
            <a:chOff x="0" y="5950080"/>
            <a:chExt cx="755640" cy="907920"/>
          </a:xfrm>
        </p:grpSpPr>
        <p:pic>
          <p:nvPicPr>
            <p:cNvPr id="2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50080"/>
              <a:ext cx="7556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pole tekstowe 8"/>
            <p:cNvSpPr/>
            <p:nvPr/>
          </p:nvSpPr>
          <p:spPr>
            <a:xfrm>
              <a:off x="116640" y="6229080"/>
              <a:ext cx="58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grpSp>
        <p:nvGrpSpPr>
          <p:cNvPr id="262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63" name="pole tekstowe 17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64" name="Obraz 10" descr="sowa_1-komunikowanie sie.png"/>
            <p:cNvPicPr/>
            <p:nvPr/>
          </p:nvPicPr>
          <p:blipFill>
            <a:blip r:embed="rId2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0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Obraz 10" descr="5520340612_608d9e1ddd_m.jpg"/>
          <p:cNvPicPr/>
          <p:nvPr/>
        </p:nvPicPr>
        <p:blipFill>
          <a:blip r:embed="rId1"/>
          <a:stretch/>
        </p:blipFill>
        <p:spPr>
          <a:xfrm>
            <a:off x="755640" y="314172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266" name="Obraz 11" descr="5187314534_09d29656e8_m.jpg"/>
          <p:cNvPicPr/>
          <p:nvPr/>
        </p:nvPicPr>
        <p:blipFill>
          <a:blip r:embed="rId2"/>
          <a:stretch/>
        </p:blipFill>
        <p:spPr>
          <a:xfrm>
            <a:off x="6012000" y="1125360"/>
            <a:ext cx="2039760" cy="2038680"/>
          </a:xfrm>
          <a:prstGeom prst="rect">
            <a:avLst/>
          </a:prstGeom>
          <a:ln w="0">
            <a:noFill/>
          </a:ln>
        </p:spPr>
      </p:pic>
      <p:grpSp>
        <p:nvGrpSpPr>
          <p:cNvPr id="26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8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270" name="Prostokąt 6"/>
          <p:cNvSpPr/>
          <p:nvPr/>
        </p:nvSpPr>
        <p:spPr>
          <a:xfrm>
            <a:off x="0" y="54936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oddzia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uje poprzez: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1" name="Prostokąt 7"/>
          <p:cNvSpPr/>
          <p:nvPr/>
        </p:nvSpPr>
        <p:spPr>
          <a:xfrm>
            <a:off x="900000" y="1844640"/>
            <a:ext cx="51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Apele racjonalne</a:t>
            </a:r>
            <a:r>
              <a:rPr b="0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 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odw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u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s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do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wiadom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 odbiorcy, jego rozumu, m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lenia racjonalnego,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np. „Codziennie niskie ceny” (Biedronka)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2" name="Prostokąt 9"/>
          <p:cNvSpPr/>
          <p:nvPr/>
        </p:nvSpPr>
        <p:spPr>
          <a:xfrm>
            <a:off x="2484360" y="5013360"/>
            <a:ext cx="51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Apele emocjonalne</a:t>
            </a:r>
            <a:r>
              <a:rPr b="0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 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odw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u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s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do emocji, ucz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, ukazu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rad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z posiadanego produktu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73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74" name="pole tekstowe 13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75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0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Obraz 8" descr="4642721856_72be156c84_m.jpg"/>
          <p:cNvPicPr/>
          <p:nvPr/>
        </p:nvPicPr>
        <p:blipFill>
          <a:blip r:embed="rId1"/>
          <a:stretch/>
        </p:blipFill>
        <p:spPr>
          <a:xfrm>
            <a:off x="5508720" y="380988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"/>
          <p:cNvSpPr/>
          <p:nvPr/>
        </p:nvSpPr>
        <p:spPr>
          <a:xfrm>
            <a:off x="250920" y="1567080"/>
            <a:ext cx="785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zadowolenie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–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„Zdrowe jogurty – szczęście Twojej rodziny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lnSpc>
                <a:spcPct val="100000"/>
              </a:lnSpc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miłość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– „Czekoladki X wyrazem Twojej miłości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lnSpc>
                <a:spcPct val="100000"/>
              </a:lnSpc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zdziwieni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–  „Tniemy cenę o połowę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lnSpc>
                <a:spcPct val="100000"/>
              </a:lnSpc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złość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– „Jak długo możesz płacić wysokie rachunki za prąd – tylko do momentu zakupu żarówek energooszczędnych firmy X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lnSpc>
                <a:spcPct val="100000"/>
              </a:lnSpc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smutek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–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„Szaruga za oknem każdego może zniechęcić. Jest na to sposób, oferujemy Ci wyjazdy do ciepłych krajów po atrakcyjnych cenach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lnSpc>
                <a:spcPct val="100000"/>
              </a:lnSpc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strach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– „ Spokojną przyszłość zapewni Ci tylko lokata w banku X”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7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7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281" name="Prostokąt 6"/>
          <p:cNvSpPr/>
          <p:nvPr/>
        </p:nvSpPr>
        <p:spPr>
          <a:xfrm>
            <a:off x="1187280" y="26028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rzekazy reklamowe bazują w szczególności na następujących emocjach: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2" name="Prostokąt 7"/>
          <p:cNvSpPr/>
          <p:nvPr/>
        </p:nvSpPr>
        <p:spPr>
          <a:xfrm>
            <a:off x="1258920" y="4797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W przekazach reklamowych apele racjonalne najczęściej przeplatają się z apelami emocjonalnymi, co zdecydowanie zwiększa atrakcyjność i skuteczność reklam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83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84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85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0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Obraz 13" descr="crash.jpg"/>
          <p:cNvPicPr/>
          <p:nvPr/>
        </p:nvPicPr>
        <p:blipFill>
          <a:blip r:embed="rId1"/>
          <a:stretch/>
        </p:blipFill>
        <p:spPr>
          <a:xfrm>
            <a:off x="611280" y="3933720"/>
            <a:ext cx="2195280" cy="2130480"/>
          </a:xfrm>
          <a:prstGeom prst="rect">
            <a:avLst/>
          </a:prstGeom>
          <a:ln w="0">
            <a:noFill/>
          </a:ln>
        </p:spPr>
      </p:pic>
      <p:pic>
        <p:nvPicPr>
          <p:cNvPr id="287" name="Obraz 12" descr="4470471286_25f82657ab_m.jpg"/>
          <p:cNvPicPr/>
          <p:nvPr/>
        </p:nvPicPr>
        <p:blipFill>
          <a:blip r:embed="rId2"/>
          <a:stretch/>
        </p:blipFill>
        <p:spPr>
          <a:xfrm>
            <a:off x="611280" y="1989000"/>
            <a:ext cx="2941560" cy="17161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"/>
          <p:cNvSpPr/>
          <p:nvPr/>
        </p:nvSpPr>
        <p:spPr>
          <a:xfrm>
            <a:off x="539640" y="5936760"/>
            <a:ext cx="77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Reklamy zazwyczaj na początku odwołują się do negatywnych emocji, a pozytywne emocje pojawiają się dopiero w końcowej części komunikatu reklamowego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8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90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292" name="Prostokąt 6"/>
          <p:cNvSpPr/>
          <p:nvPr/>
        </p:nvSpPr>
        <p:spPr>
          <a:xfrm>
            <a:off x="324000" y="33336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mocje w reklamie mogą przybierać charakter pozytywny i negatywny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93" name="Prostokąt 7"/>
          <p:cNvSpPr/>
          <p:nvPr/>
        </p:nvSpPr>
        <p:spPr>
          <a:xfrm>
            <a:off x="179280" y="1341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Komunikaty perswazyjne pozytywne</a:t>
            </a:r>
            <a:r>
              <a:rPr b="0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wywołują dodatnie emocje u odbiorcy reklamy (ulga, optymizm, radość itp.). Bazują na obietnicach nadawcy reklamy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94" name="Prostokąt 8"/>
          <p:cNvSpPr/>
          <p:nvPr/>
        </p:nvSpPr>
        <p:spPr>
          <a:xfrm>
            <a:off x="3348000" y="213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Przykład:</a:t>
            </a:r>
            <a:r>
              <a:rPr b="0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w reklamie herbatki „SlimFigura 30+” firma Herbapol obiecuje idealną figurę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95" name="Prostokąt 9"/>
          <p:cNvSpPr/>
          <p:nvPr/>
        </p:nvSpPr>
        <p:spPr>
          <a:xfrm>
            <a:off x="179280" y="3860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Komunikaty perswazyjne negatywne</a:t>
            </a:r>
            <a:r>
              <a:rPr b="0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odwołują się do strachu, niepokoju, zagrożenia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96" name="Prostokąt 10"/>
          <p:cNvSpPr/>
          <p:nvPr/>
        </p:nvSpPr>
        <p:spPr>
          <a:xfrm>
            <a:off x="2771640" y="4508640"/>
            <a:ext cx="53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Przykład:</a:t>
            </a:r>
            <a:r>
              <a:rPr b="0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firmy ubezpieczeniowe uświadamiają odbiorcom reklam zagrożenia wynikające z braku ubezpieczenia mieszkania lub samochodu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97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98" name="pole tekstowe 15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99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0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raz 8" descr="Obraz2.png"/>
          <p:cNvPicPr/>
          <p:nvPr/>
        </p:nvPicPr>
        <p:blipFill>
          <a:blip r:embed="rId1"/>
          <a:srcRect l="0" t="2521" r="0" b="4800"/>
          <a:stretch/>
        </p:blipFill>
        <p:spPr>
          <a:xfrm>
            <a:off x="4303800" y="3213000"/>
            <a:ext cx="4084560" cy="3645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0" y="2499120"/>
            <a:ext cx="63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Gdyby nie reklama, nie d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oby s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wypromow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nowego produktu, usługi ani marki. Reklama informuje o now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ach rynkowych, o ulepszeniach dokonanych na produktach, przez co 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atwia konsumentom podejmowanie decyzji zakupowych. 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6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8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70" name="Prostokąt 6"/>
          <p:cNvSpPr/>
          <p:nvPr/>
        </p:nvSpPr>
        <p:spPr>
          <a:xfrm>
            <a:off x="539640" y="981000"/>
            <a:ext cx="698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Reklama stanowi masow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ą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, odp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ł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atn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ą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 i bezosobow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ą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 form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ę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 prezentowania oferty sprzeda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ż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y przez okre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ś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lonego sprzedawc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ę</a:t>
            </a:r>
            <a:r>
              <a:rPr b="1" i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(wg Ameryk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ń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skiego Stowarzyszenia Marketingu)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71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72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73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raz 6" descr="sowa.jpg"/>
          <p:cNvPicPr/>
          <p:nvPr/>
        </p:nvPicPr>
        <p:blipFill>
          <a:blip r:embed="rId1"/>
          <a:stretch/>
        </p:blipFill>
        <p:spPr>
          <a:xfrm>
            <a:off x="4716360" y="3038400"/>
            <a:ext cx="3314880" cy="38196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>
            <a:off x="395280" y="913320"/>
            <a:ext cx="568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la przedsiębiorców reklama jest jednym ze sposobów komunikowania się z klientem na rynku, aby go poinformować o swojej ofercie i zachęcić do wyboru jego produktów na rynku. Reklama ma za zadanie zwrócić uwagę na dany towar (zachwalając jego zalety), na jego producenta, a niekiedy również na miejsce sprzedaży, a przede wszystkim ma za zadanie nakłonić klientów do kupna danych towarów bądź skorzystania z określonych usług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7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grpSp>
        <p:nvGrpSpPr>
          <p:cNvPr id="79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80" name="pole tekstowe 8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81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raz 12" descr="6543357357_01a6fa0fee_m.jpg"/>
          <p:cNvPicPr/>
          <p:nvPr/>
        </p:nvPicPr>
        <p:blipFill>
          <a:blip r:embed="rId1"/>
          <a:srcRect l="14822" t="6284" r="14822" b="16139"/>
          <a:stretch/>
        </p:blipFill>
        <p:spPr>
          <a:xfrm>
            <a:off x="5003640" y="3716280"/>
            <a:ext cx="2737080" cy="2665440"/>
          </a:xfrm>
          <a:prstGeom prst="rect">
            <a:avLst/>
          </a:prstGeom>
          <a:ln w="0">
            <a:noFill/>
          </a:ln>
        </p:spPr>
      </p:pic>
      <p:grpSp>
        <p:nvGrpSpPr>
          <p:cNvPr id="8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4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pic>
        <p:nvPicPr>
          <p:cNvPr id="86" name="Obraz 10" descr="6543357357_01a6fa0fee_m.jpg"/>
          <p:cNvPicPr/>
          <p:nvPr/>
        </p:nvPicPr>
        <p:blipFill>
          <a:blip r:embed="rId3"/>
          <a:srcRect l="17586" t="10483" r="19464" b="12742"/>
          <a:stretch/>
        </p:blipFill>
        <p:spPr>
          <a:xfrm>
            <a:off x="1187280" y="3933720"/>
            <a:ext cx="2448000" cy="2637000"/>
          </a:xfrm>
          <a:prstGeom prst="rect">
            <a:avLst/>
          </a:prstGeom>
          <a:ln w="0">
            <a:noFill/>
          </a:ln>
        </p:spPr>
      </p:pic>
      <p:sp>
        <p:nvSpPr>
          <p:cNvPr id="87" name="Prostokąt 11"/>
          <p:cNvSpPr/>
          <p:nvPr/>
        </p:nvSpPr>
        <p:spPr>
          <a:xfrm rot="1560600">
            <a:off x="1200960" y="48132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KOMUNIKAT INFORMACYJNY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88" name="Obraz 8" descr="3561901440_1e0277c2ac_m.jpg"/>
          <p:cNvPicPr/>
          <p:nvPr/>
        </p:nvPicPr>
        <p:blipFill>
          <a:blip r:embed="rId4"/>
          <a:stretch/>
        </p:blipFill>
        <p:spPr>
          <a:xfrm>
            <a:off x="2548080" y="755640"/>
            <a:ext cx="3651120" cy="3402000"/>
          </a:xfrm>
          <a:prstGeom prst="rect">
            <a:avLst/>
          </a:prstGeom>
          <a:ln w="0">
            <a:noFill/>
          </a:ln>
        </p:spPr>
      </p:pic>
      <p:sp>
        <p:nvSpPr>
          <p:cNvPr id="89" name="Prostokąt 6"/>
          <p:cNvSpPr/>
          <p:nvPr/>
        </p:nvSpPr>
        <p:spPr>
          <a:xfrm>
            <a:off x="684360" y="549360"/>
            <a:ext cx="691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nie opiera s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tylko na przekazie informacji o danym towarze lub usłudze. Skuteczna reklama to taka, która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czy informac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z komunikatem perswazyjnym.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0" name="Prostokąt 7"/>
          <p:cNvSpPr/>
          <p:nvPr/>
        </p:nvSpPr>
        <p:spPr>
          <a:xfrm rot="1017000">
            <a:off x="3914280" y="201888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Komunikat reklamowy powinien zawiera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</a:rPr>
              <a:t>ć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1" name="Prostokąt 13"/>
          <p:cNvSpPr/>
          <p:nvPr/>
        </p:nvSpPr>
        <p:spPr>
          <a:xfrm rot="1560600">
            <a:off x="5162040" y="488484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KOMUNIKAT PERSWAZYJNY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2" name="Prostokąt 14"/>
          <p:cNvSpPr/>
          <p:nvPr/>
        </p:nvSpPr>
        <p:spPr>
          <a:xfrm>
            <a:off x="3925800" y="4437000"/>
            <a:ext cx="101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7030a0"/>
                </a:solidFill>
                <a:latin typeface="Times New Roman CE"/>
                <a:ea typeface="SimSun"/>
              </a:rPr>
              <a:t>+ </a:t>
            </a:r>
            <a:endParaRPr b="0" lang="en-US" sz="8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93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94" name="pole tekstowe 16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95" name="Obraz 10" descr="sowa_1-komunikowanie sie.png"/>
            <p:cNvPicPr/>
            <p:nvPr/>
          </p:nvPicPr>
          <p:blipFill>
            <a:blip r:embed="rId5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raz 9" descr="megafon2.jpg"/>
          <p:cNvPicPr/>
          <p:nvPr/>
        </p:nvPicPr>
        <p:blipFill>
          <a:blip r:embed="rId1"/>
          <a:srcRect l="8759" t="0" r="0" b="0"/>
          <a:stretch/>
        </p:blipFill>
        <p:spPr>
          <a:xfrm>
            <a:off x="0" y="0"/>
            <a:ext cx="3419640" cy="3456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"/>
          <p:cNvSpPr/>
          <p:nvPr/>
        </p:nvSpPr>
        <p:spPr>
          <a:xfrm>
            <a:off x="468360" y="508284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Komunikat perswazyjny</a:t>
            </a:r>
            <a:r>
              <a:rPr b="0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–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ma na celu nakłonić klienta do kupna danego towaru lub usługi, wzbudzić potrzebę posiadania reklamowanego dobra, którą można zaspokoić poprzez jego nabycie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9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01" name="Prostokąt 6"/>
          <p:cNvSpPr/>
          <p:nvPr/>
        </p:nvSpPr>
        <p:spPr>
          <a:xfrm>
            <a:off x="2124000" y="234936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Komunikat informacyjny</a:t>
            </a:r>
            <a:r>
              <a:rPr b="0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– zadaniem reklamy jest poinformowanie klientów o tym, co firma sprzedaje, do czego s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u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jej produkty, jakie ma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cechy i zalety, czym produkty jednej firmy ró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s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od produktów konkurencji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2" name="Prostokąt 7"/>
          <p:cNvSpPr/>
          <p:nvPr/>
        </p:nvSpPr>
        <p:spPr>
          <a:xfrm>
            <a:off x="539640" y="3860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Perswazja</a:t>
            </a: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–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przekonanie, nakłonienie kogoś do czegoś za pomocą argumentów potwierdzających słuszność stwierdzeń użytych w procesie nakłaniania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03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04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05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raz 15" descr="megafon3.jpg"/>
          <p:cNvPicPr/>
          <p:nvPr/>
        </p:nvPicPr>
        <p:blipFill>
          <a:blip r:embed="rId1"/>
          <a:stretch/>
        </p:blipFill>
        <p:spPr>
          <a:xfrm>
            <a:off x="5435640" y="38098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"/>
          <p:cNvSpPr/>
          <p:nvPr/>
        </p:nvSpPr>
        <p:spPr>
          <a:xfrm>
            <a:off x="395280" y="3795840"/>
            <a:ext cx="55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zauw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jego reklam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w g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szczu innych reklam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zainteresow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s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tr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reklam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zrozumi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wł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wie komunikat reklamow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poczu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otrzeb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osiadania reklamowego obiektu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był sk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onny do dzi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ania, skorzystania z oferty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0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11" name="Prostokąt 7"/>
          <p:cNvSpPr/>
          <p:nvPr/>
        </p:nvSpPr>
        <p:spPr>
          <a:xfrm>
            <a:off x="250920" y="31417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Nadawca reklamy stara si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</a:rPr>
              <a:t>ę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 wp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</a:rPr>
              <a:t>ł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yn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</a:rPr>
              <a:t>ąć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 perswazyjnie na odbiorc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</a:rPr>
              <a:t>ę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 tak, aby on: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112" name="Obraz 13" descr="nutki.jpg"/>
          <p:cNvPicPr/>
          <p:nvPr/>
        </p:nvPicPr>
        <p:blipFill>
          <a:blip r:embed="rId3"/>
          <a:stretch/>
        </p:blipFill>
        <p:spPr>
          <a:xfrm>
            <a:off x="6732720" y="1341360"/>
            <a:ext cx="1269720" cy="1270080"/>
          </a:xfrm>
          <a:prstGeom prst="rect">
            <a:avLst/>
          </a:prstGeom>
          <a:ln w="0">
            <a:noFill/>
          </a:ln>
        </p:spPr>
      </p:pic>
      <p:pic>
        <p:nvPicPr>
          <p:cNvPr id="113" name="Obraz 14" descr="5711410874_9904985dfc_m.jpg"/>
          <p:cNvPicPr/>
          <p:nvPr/>
        </p:nvPicPr>
        <p:blipFill>
          <a:blip r:embed="rId4"/>
          <a:srcRect l="20177" t="0" r="0" b="0"/>
          <a:stretch/>
        </p:blipFill>
        <p:spPr>
          <a:xfrm>
            <a:off x="0" y="0"/>
            <a:ext cx="2417760" cy="1893960"/>
          </a:xfrm>
          <a:prstGeom prst="rect">
            <a:avLst/>
          </a:prstGeom>
          <a:ln w="0">
            <a:noFill/>
          </a:ln>
        </p:spPr>
      </p:pic>
      <p:sp>
        <p:nvSpPr>
          <p:cNvPr id="114" name="Prostokąt 6"/>
          <p:cNvSpPr/>
          <p:nvPr/>
        </p:nvSpPr>
        <p:spPr>
          <a:xfrm>
            <a:off x="1835280" y="692280"/>
            <a:ext cx="56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Reklama posługuje się różnymi środkami perswazji, aby nakłonić odbiorcę do wyboru danego produktu na rynku (środki językowe, fotografie, kolor, muzyka)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15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16" name="pole tekstowe 12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17" name="Obraz 10" descr="sowa_1-komunikowanie sie.png"/>
            <p:cNvPicPr/>
            <p:nvPr/>
          </p:nvPicPr>
          <p:blipFill>
            <a:blip r:embed="rId5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21" name="Prostokąt 7"/>
          <p:cNvSpPr/>
          <p:nvPr/>
        </p:nvSpPr>
        <p:spPr>
          <a:xfrm>
            <a:off x="0" y="26028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Rodzaje reklam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122" name="Diagram 10" descr=""/>
          <p:cNvPicPr/>
          <p:nvPr/>
        </p:nvPicPr>
        <p:blipFill>
          <a:blip r:embed="rId2"/>
          <a:stretch/>
        </p:blipFill>
        <p:spPr>
          <a:xfrm>
            <a:off x="171360" y="944640"/>
            <a:ext cx="8369280" cy="1834920"/>
          </a:xfrm>
          <a:prstGeom prst="rect">
            <a:avLst/>
          </a:prstGeom>
          <a:ln w="0">
            <a:noFill/>
          </a:ln>
        </p:spPr>
      </p:pic>
      <p:pic>
        <p:nvPicPr>
          <p:cNvPr id="123" name="Diagram 11" descr=""/>
          <p:cNvPicPr/>
          <p:nvPr/>
        </p:nvPicPr>
        <p:blipFill>
          <a:blip r:embed="rId3"/>
          <a:stretch/>
        </p:blipFill>
        <p:spPr>
          <a:xfrm>
            <a:off x="171360" y="2816280"/>
            <a:ext cx="8369280" cy="18349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12" descr=""/>
          <p:cNvPicPr/>
          <p:nvPr/>
        </p:nvPicPr>
        <p:blipFill>
          <a:blip r:embed="rId4"/>
          <a:stretch/>
        </p:blipFill>
        <p:spPr>
          <a:xfrm>
            <a:off x="244440" y="4687920"/>
            <a:ext cx="8363160" cy="1841400"/>
          </a:xfrm>
          <a:prstGeom prst="rect">
            <a:avLst/>
          </a:prstGeom>
          <a:ln w="0">
            <a:noFill/>
          </a:ln>
        </p:spPr>
      </p:pic>
      <p:grpSp>
        <p:nvGrpSpPr>
          <p:cNvPr id="125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26" name="pole tekstowe 13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27" name="Obraz 10" descr="sowa_1-komunikowanie sie.png"/>
            <p:cNvPicPr/>
            <p:nvPr/>
          </p:nvPicPr>
          <p:blipFill>
            <a:blip r:embed="rId5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0" y="701280"/>
            <a:ext cx="385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edstawienie nowego produktu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wyj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ienie, jak produkt działa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wyj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ienie udoskonal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ń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roduktu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poinformowanie o zmianie cen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zasugerowanie nowego zastosowania produktu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2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32" name="Prostokąt 6"/>
          <p:cNvSpPr/>
          <p:nvPr/>
        </p:nvSpPr>
        <p:spPr>
          <a:xfrm>
            <a:off x="0" y="404640"/>
            <a:ext cx="34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Cele reklamy informacyjnej: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33" name="Prostokąt 7"/>
          <p:cNvSpPr/>
          <p:nvPr/>
        </p:nvSpPr>
        <p:spPr>
          <a:xfrm>
            <a:off x="4067280" y="2637000"/>
            <a:ext cx="42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budowanie lojaln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 wobec firm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yc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gn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e klientów kupu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ych marki   konkurencyjne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zach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enie hurtowników i detalistów do sprzed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 produktów konkretnej firm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ekonywanie konsumentów do zmiany nastawienia wobec danej marki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34" name="Prostokąt 8"/>
          <p:cNvSpPr/>
          <p:nvPr/>
        </p:nvSpPr>
        <p:spPr>
          <a:xfrm>
            <a:off x="4285080" y="227664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Cele reklamy konkurencyjnej: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35" name="Prostokąt 9"/>
          <p:cNvSpPr/>
          <p:nvPr/>
        </p:nvSpPr>
        <p:spPr>
          <a:xfrm>
            <a:off x="0" y="3357720"/>
            <a:ext cx="378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utrzymanie obecnych klientów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zw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kszenie cz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stotliw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 zakupu danej marki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ypomnienie i podkr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lanie historii produktu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utrzymywanie dominacji marki w danej kategorii produktu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36" name="Prostokąt 10"/>
          <p:cNvSpPr/>
          <p:nvPr/>
        </p:nvSpPr>
        <p:spPr>
          <a:xfrm>
            <a:off x="178560" y="2997360"/>
            <a:ext cx="32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Cele reklamy przypominaj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</a:rPr>
              <a:t>ą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cej: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37" name="Dowolny kształt 12"/>
          <p:cNvSpPr/>
          <p:nvPr/>
        </p:nvSpPr>
        <p:spPr>
          <a:xfrm>
            <a:off x="1258920" y="5516640"/>
            <a:ext cx="6553080" cy="925560"/>
          </a:xfrm>
          <a:prstGeom prst="pie">
            <a:avLst/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135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1240" rIns="111240" tIns="111240" bIns="11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Celem g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ównym dzia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a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ń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 reklamowych jest zwi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kszenie sprzeda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y.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138" name="Obraz 14" descr="cell.jpg"/>
          <p:cNvPicPr/>
          <p:nvPr/>
        </p:nvPicPr>
        <p:blipFill>
          <a:blip r:embed="rId2"/>
          <a:srcRect l="0" t="0" r="2116" b="0"/>
          <a:stretch/>
        </p:blipFill>
        <p:spPr>
          <a:xfrm>
            <a:off x="4356000" y="0"/>
            <a:ext cx="3600720" cy="22068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40" name="pole tekstowe 15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41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9:23:04Z</dcterms:created>
  <dc:creator>x</dc:creator>
  <dc:description/>
  <dc:language>en-US</dc:language>
  <cp:lastModifiedBy>Marta</cp:lastModifiedBy>
  <dcterms:modified xsi:type="dcterms:W3CDTF">2013-01-31T14:49:55Z</dcterms:modified>
  <cp:revision>60</cp:revision>
  <dc:subject/>
  <dc:title>Slajd 1</dc:title>
</cp:coreProperties>
</file>