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6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761-F743-4A5C-BDCB-1DF92C96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360-1FF4-4E1B-9918-20F459FF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D58-4044-46D9-9715-EF226273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C4E-5116-4BF1-8AC5-F9A39B2D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2D8-A8DF-44E8-A073-FC21FF52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C6B-0C7D-4135-83BD-506C6881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9D8-E485-4178-82FD-CDF5EE0D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F0A-D4E8-4A34-9B7B-E3015C15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316-E2F3-4DAC-93F8-17DEB8B3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A35-E11D-46E8-8897-CAED48FA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DD9-C536-4512-85D7-83E8062A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3A1-98F5-40B7-85D6-956200B3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B23B-343F-4CB8-9461-E99D9E200482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5C6A-03EE-43A5-97CD-6904711DEFCC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5" name="Prostokąt zaokrąglony 10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rostokąt 11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Diagram 13" descr=""/>
          <p:cNvPicPr/>
          <p:nvPr/>
        </p:nvPicPr>
        <p:blipFill>
          <a:blip r:embed="rId3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48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a 19"/>
          <p:cNvGrpSpPr/>
          <p:nvPr/>
        </p:nvGrpSpPr>
        <p:grpSpPr>
          <a:xfrm>
            <a:off x="0" y="260280"/>
            <a:ext cx="8317080" cy="6597720"/>
            <a:chOff x="0" y="260280"/>
            <a:chExt cx="8317080" cy="6597720"/>
          </a:xfrm>
        </p:grpSpPr>
        <p:pic>
          <p:nvPicPr>
            <p:cNvPr id="156" name="Obraz 14" descr="body.jpg"/>
            <p:cNvPicPr/>
            <p:nvPr/>
          </p:nvPicPr>
          <p:blipFill>
            <a:blip r:embed="rId2"/>
            <a:stretch/>
          </p:blipFill>
          <p:spPr>
            <a:xfrm>
              <a:off x="5572080" y="2704320"/>
              <a:ext cx="2535840" cy="41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rostokąt 12"/>
            <p:cNvSpPr/>
            <p:nvPr/>
          </p:nvSpPr>
          <p:spPr>
            <a:xfrm>
              <a:off x="0" y="260280"/>
              <a:ext cx="83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ozpoznać zachowania uległe?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rostokąt zaokrąglony 17"/>
          <p:cNvSpPr/>
          <p:nvPr/>
        </p:nvSpPr>
        <p:spPr>
          <a:xfrm>
            <a:off x="250920" y="3141720"/>
            <a:ext cx="5005440" cy="208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uległe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 wszystkie prośby odpowiadają: „tak”, „OK”, „nie ma sprawy”, i starają się podawać najbliższe termi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 pytanie: „co o tym myślisz?”, odpowiadają: „to nieważne”, „ważne, co ty myślisz”. W rozmowie używają sformułowań typu: „wiesz, to znacz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rostokąt zaokrąglony 18"/>
          <p:cNvSpPr/>
          <p:nvPr/>
        </p:nvSpPr>
        <p:spPr>
          <a:xfrm>
            <a:off x="324000" y="907920"/>
            <a:ext cx="777708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uległe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gą przyjmować postawę przygarbioną z ramionami wysuniętymi do przodu lub niedbałą, opierając się o coś. Mówią cicho, ze spuszczoną głową, uciekając wzrokiem, często mówią niezrozumiale albo milczą. Zachowują wobec innych duży dystans. Uścisk dłoni szybki z wycofaniem. Przyjmują postawę zamkniętą ze skrzyżowanymi nogami i ręk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1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rostokąt 14"/>
          <p:cNvSpPr/>
          <p:nvPr/>
        </p:nvSpPr>
        <p:spPr>
          <a:xfrm>
            <a:off x="0" y="4046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k rozpoznać zachowania agresywne?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21"/>
          <p:cNvGrpSpPr/>
          <p:nvPr/>
        </p:nvGrpSpPr>
        <p:grpSpPr>
          <a:xfrm>
            <a:off x="324000" y="1341360"/>
            <a:ext cx="7416720" cy="4751640"/>
            <a:chOff x="324000" y="1341360"/>
            <a:chExt cx="7416720" cy="4751640"/>
          </a:xfrm>
        </p:grpSpPr>
        <p:pic>
          <p:nvPicPr>
            <p:cNvPr id="168" name="Obraz 19" descr="angry.jpg"/>
            <p:cNvPicPr/>
            <p:nvPr/>
          </p:nvPicPr>
          <p:blipFill>
            <a:blip r:embed="rId2"/>
            <a:stretch/>
          </p:blipFill>
          <p:spPr>
            <a:xfrm>
              <a:off x="324000" y="2273760"/>
              <a:ext cx="2314080" cy="29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rostokąt zaokrąglony 20"/>
            <p:cNvSpPr/>
            <p:nvPr/>
          </p:nvSpPr>
          <p:spPr>
            <a:xfrm>
              <a:off x="2705040" y="1341360"/>
              <a:ext cx="5035680" cy="475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soby, które przyjmują </a:t>
              </a:r>
              <a:r>
                <a:rPr b="1" lang="pl-PL" sz="18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postawę agresywną,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manifestują siłę i przewagę nad ludźmi, stosując sarkazm, krzyk, chłodny stosunek i dystans. Aby podnosić swoją wartość, poniżają innych i wzbudzają w nich poczucie winy. Nie odnoszą się do konkretnych sytuacji, ale używają uogólnień typu: nigdy, zawsze. Fizycznie gesty i ruchy ciała osób agresywnych są sztywne i nagłe bądź nonszalanckie i obojętne. Siedząc, przyjmują pozycję z rozstawionymi stopami. Wyrażając opinie, ręce opierają o biodra albo machają zaciśniętą ręką lub sztywną otwartą dłonią. Mówiąc, mają często zaciśnięte szczęki i przymrużone powiek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1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raz 28" descr="6494392133_6b5eee558d_m.jpg"/>
          <p:cNvPicPr/>
          <p:nvPr/>
        </p:nvPicPr>
        <p:blipFill>
          <a:blip r:embed="rId1"/>
          <a:stretch/>
        </p:blipFill>
        <p:spPr>
          <a:xfrm>
            <a:off x="5867280" y="2565360"/>
            <a:ext cx="2952720" cy="2951280"/>
          </a:xfrm>
          <a:prstGeom prst="rect">
            <a:avLst/>
          </a:prstGeom>
          <a:ln w="0">
            <a:noFill/>
          </a:ln>
        </p:spPr>
      </p:pic>
      <p:sp>
        <p:nvSpPr>
          <p:cNvPr id="174" name="Prostokąt 15"/>
          <p:cNvSpPr/>
          <p:nvPr/>
        </p:nvSpPr>
        <p:spPr>
          <a:xfrm>
            <a:off x="25092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laczego zachowanie asertywne jest dobre?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upa 32"/>
          <p:cNvGrpSpPr/>
          <p:nvPr/>
        </p:nvGrpSpPr>
        <p:grpSpPr>
          <a:xfrm>
            <a:off x="324000" y="1052640"/>
            <a:ext cx="7488000" cy="504720"/>
            <a:chOff x="324000" y="1052640"/>
            <a:chExt cx="7488000" cy="504720"/>
          </a:xfrm>
        </p:grpSpPr>
        <p:pic>
          <p:nvPicPr>
            <p:cNvPr id="179" name="Objaśnienie prostokątne zaokrąglone 16" descr=""/>
            <p:cNvPicPr/>
            <p:nvPr/>
          </p:nvPicPr>
          <p:blipFill>
            <a:blip r:embed="rId3"/>
            <a:stretch/>
          </p:blipFill>
          <p:spPr>
            <a:xfrm>
              <a:off x="324000" y="1052640"/>
              <a:ext cx="7488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Prostokąt 17"/>
            <p:cNvSpPr/>
            <p:nvPr/>
          </p:nvSpPr>
          <p:spPr>
            <a:xfrm>
              <a:off x="426240" y="1090800"/>
              <a:ext cx="72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jest sobą i nie pozwala innym kierować swoim życi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upa 35"/>
          <p:cNvGrpSpPr/>
          <p:nvPr/>
        </p:nvGrpSpPr>
        <p:grpSpPr>
          <a:xfrm>
            <a:off x="324000" y="4581360"/>
            <a:ext cx="5256000" cy="1015560"/>
            <a:chOff x="324000" y="4581360"/>
            <a:chExt cx="5256000" cy="1015560"/>
          </a:xfrm>
        </p:grpSpPr>
        <p:pic>
          <p:nvPicPr>
            <p:cNvPr id="182" name="Objaśnienie prostokątne zaokrąglone 18" descr=""/>
            <p:cNvPicPr/>
            <p:nvPr/>
          </p:nvPicPr>
          <p:blipFill>
            <a:blip r:embed="rId4"/>
            <a:stretch/>
          </p:blipFill>
          <p:spPr>
            <a:xfrm>
              <a:off x="324000" y="4581360"/>
              <a:ext cx="52560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Prostokąt 19"/>
            <p:cNvSpPr/>
            <p:nvPr/>
          </p:nvSpPr>
          <p:spPr>
            <a:xfrm>
              <a:off x="412200" y="4680000"/>
              <a:ext cx="438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dokonuje wyborów zgodnie z własnymi potrzebami, nie ulegając presji otoczen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upa 33"/>
          <p:cNvGrpSpPr/>
          <p:nvPr/>
        </p:nvGrpSpPr>
        <p:grpSpPr>
          <a:xfrm>
            <a:off x="250920" y="2205000"/>
            <a:ext cx="5545080" cy="941040"/>
            <a:chOff x="250920" y="2205000"/>
            <a:chExt cx="5545080" cy="941040"/>
          </a:xfrm>
        </p:grpSpPr>
        <p:pic>
          <p:nvPicPr>
            <p:cNvPr id="185" name="Objaśnienie prostokątne zaokrąglone 20" descr=""/>
            <p:cNvPicPr/>
            <p:nvPr/>
          </p:nvPicPr>
          <p:blipFill>
            <a:blip r:embed="rId5"/>
            <a:stretch/>
          </p:blipFill>
          <p:spPr>
            <a:xfrm>
              <a:off x="250920" y="2205000"/>
              <a:ext cx="55450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Prostokąt 21"/>
            <p:cNvSpPr/>
            <p:nvPr/>
          </p:nvSpPr>
          <p:spPr>
            <a:xfrm>
              <a:off x="406080" y="2229120"/>
              <a:ext cx="459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ma świadomość swoich wad i zalet, a w związku z tym  podejmuje wyzwania, którym jest w stanie sprostać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upa 34"/>
          <p:cNvGrpSpPr/>
          <p:nvPr/>
        </p:nvGrpSpPr>
        <p:grpSpPr>
          <a:xfrm>
            <a:off x="250920" y="3573360"/>
            <a:ext cx="5329080" cy="946080"/>
            <a:chOff x="250920" y="3573360"/>
            <a:chExt cx="5329080" cy="946080"/>
          </a:xfrm>
        </p:grpSpPr>
        <p:pic>
          <p:nvPicPr>
            <p:cNvPr id="188" name="Objaśnienie prostokątne zaokrąglone 23" descr=""/>
            <p:cNvPicPr/>
            <p:nvPr/>
          </p:nvPicPr>
          <p:blipFill>
            <a:blip r:embed="rId6"/>
            <a:stretch/>
          </p:blipFill>
          <p:spPr>
            <a:xfrm>
              <a:off x="280800" y="3573360"/>
              <a:ext cx="5299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rostokąt 24"/>
            <p:cNvSpPr/>
            <p:nvPr/>
          </p:nvSpPr>
          <p:spPr>
            <a:xfrm>
              <a:off x="250920" y="3602520"/>
              <a:ext cx="4488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akceptuje siebie takim, jakim jest, i bierze odpowiedzialność za swoje życ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upa 36"/>
          <p:cNvGrpSpPr/>
          <p:nvPr/>
        </p:nvGrpSpPr>
        <p:grpSpPr>
          <a:xfrm>
            <a:off x="2771640" y="5950080"/>
            <a:ext cx="4572000" cy="980640"/>
            <a:chOff x="2771640" y="5950080"/>
            <a:chExt cx="4572000" cy="980640"/>
          </a:xfrm>
        </p:grpSpPr>
        <p:pic>
          <p:nvPicPr>
            <p:cNvPr id="191" name="Objaśnienie prostokątne zaokrąglone 26" descr=""/>
            <p:cNvPicPr/>
            <p:nvPr/>
          </p:nvPicPr>
          <p:blipFill>
            <a:blip r:embed="rId7"/>
            <a:stretch/>
          </p:blipFill>
          <p:spPr>
            <a:xfrm>
              <a:off x="2883240" y="5950080"/>
              <a:ext cx="4309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Prostokąt 27"/>
            <p:cNvSpPr/>
            <p:nvPr/>
          </p:nvSpPr>
          <p:spPr>
            <a:xfrm>
              <a:off x="2771640" y="62881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rozwija swoje zdolności i stara się walczyć z wadam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94" name="pole tekstowe 2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Obraz 10" descr="sowa_1-komunikowanie sie.png"/>
            <p:cNvPicPr/>
            <p:nvPr/>
          </p:nvPicPr>
          <p:blipFill>
            <a:blip r:embed="rId8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rostokąt 11"/>
          <p:cNvSpPr/>
          <p:nvPr/>
        </p:nvSpPr>
        <p:spPr>
          <a:xfrm>
            <a:off x="468360" y="33336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chowania asertywne, uległe i agresywne różnią się przede wszystkim w zakresie poszanowania praw naszych i innych ludz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rostokąt 12"/>
          <p:cNvSpPr/>
          <p:nvPr/>
        </p:nvSpPr>
        <p:spPr>
          <a:xfrm>
            <a:off x="900000" y="1773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agresywna – nie szanuję praw in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3"/>
          <p:cNvSpPr/>
          <p:nvPr/>
        </p:nvSpPr>
        <p:spPr>
          <a:xfrm>
            <a:off x="900000" y="105264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asertywna – szanuję prawa swoje i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14"/>
          <p:cNvSpPr/>
          <p:nvPr/>
        </p:nvSpPr>
        <p:spPr>
          <a:xfrm>
            <a:off x="900000" y="1413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uległa – nie szanuję własnych pr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upa 26"/>
          <p:cNvGrpSpPr/>
          <p:nvPr/>
        </p:nvGrpSpPr>
        <p:grpSpPr>
          <a:xfrm>
            <a:off x="0" y="2421000"/>
            <a:ext cx="4140360" cy="1728720"/>
            <a:chOff x="0" y="2421000"/>
            <a:chExt cx="4140360" cy="1728720"/>
          </a:xfrm>
        </p:grpSpPr>
        <p:grpSp>
          <p:nvGrpSpPr>
            <p:cNvPr id="204" name="Grupa 25"/>
            <p:cNvGrpSpPr/>
            <p:nvPr/>
          </p:nvGrpSpPr>
          <p:grpSpPr>
            <a:xfrm>
              <a:off x="329040" y="2421000"/>
              <a:ext cx="3591000" cy="1113840"/>
              <a:chOff x="329040" y="2421000"/>
              <a:chExt cx="3591000" cy="1113840"/>
            </a:xfrm>
          </p:grpSpPr>
          <p:sp>
            <p:nvSpPr>
              <p:cNvPr id="205" name="Prostokąt zaokrąglony 19"/>
              <p:cNvSpPr/>
              <p:nvPr/>
            </p:nvSpPr>
            <p:spPr>
              <a:xfrm>
                <a:off x="329040" y="2421000"/>
                <a:ext cx="3591000" cy="1113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Prostokąt 21"/>
              <p:cNvSpPr/>
              <p:nvPr/>
            </p:nvSpPr>
            <p:spPr>
              <a:xfrm>
                <a:off x="329400" y="2489760"/>
                <a:ext cx="348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potrafią odmawiać oraz nie ulegają presji otoczenia.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Diagram 23" descr=""/>
            <p:cNvPicPr/>
            <p:nvPr/>
          </p:nvPicPr>
          <p:blipFill>
            <a:blip r:embed="rId2"/>
            <a:stretch/>
          </p:blipFill>
          <p:spPr>
            <a:xfrm>
              <a:off x="0" y="3489480"/>
              <a:ext cx="4140360" cy="66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upa 27"/>
          <p:cNvGrpSpPr/>
          <p:nvPr/>
        </p:nvGrpSpPr>
        <p:grpSpPr>
          <a:xfrm>
            <a:off x="1547640" y="4941720"/>
            <a:ext cx="4140360" cy="1727280"/>
            <a:chOff x="1547640" y="4941720"/>
            <a:chExt cx="4140360" cy="1727280"/>
          </a:xfrm>
        </p:grpSpPr>
        <p:grpSp>
          <p:nvGrpSpPr>
            <p:cNvPr id="209" name="Grupa 25"/>
            <p:cNvGrpSpPr/>
            <p:nvPr/>
          </p:nvGrpSpPr>
          <p:grpSpPr>
            <a:xfrm>
              <a:off x="1876680" y="4941720"/>
              <a:ext cx="3590640" cy="1113480"/>
              <a:chOff x="1876680" y="4941720"/>
              <a:chExt cx="3590640" cy="1113480"/>
            </a:xfrm>
          </p:grpSpPr>
          <p:sp>
            <p:nvSpPr>
              <p:cNvPr id="210" name="Prostokąt zaokrąglony 30"/>
              <p:cNvSpPr/>
              <p:nvPr/>
            </p:nvSpPr>
            <p:spPr>
              <a:xfrm>
                <a:off x="1876680" y="4941720"/>
                <a:ext cx="3590640" cy="1113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Prostokąt 31"/>
              <p:cNvSpPr/>
              <p:nvPr/>
            </p:nvSpPr>
            <p:spPr>
              <a:xfrm>
                <a:off x="1877040" y="5010480"/>
                <a:ext cx="348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ciągle drżą o swoją reputację i akceptację otocze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2" name="Diagram 29" descr=""/>
            <p:cNvPicPr/>
            <p:nvPr/>
          </p:nvPicPr>
          <p:blipFill>
            <a:blip r:embed="rId3"/>
            <a:stretch/>
          </p:blipFill>
          <p:spPr>
            <a:xfrm>
              <a:off x="1547640" y="6013800"/>
              <a:ext cx="4140360" cy="65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upa 32"/>
          <p:cNvGrpSpPr/>
          <p:nvPr/>
        </p:nvGrpSpPr>
        <p:grpSpPr>
          <a:xfrm>
            <a:off x="3995640" y="2997360"/>
            <a:ext cx="4140360" cy="1726920"/>
            <a:chOff x="3995640" y="2997360"/>
            <a:chExt cx="4140360" cy="1726920"/>
          </a:xfrm>
        </p:grpSpPr>
        <p:grpSp>
          <p:nvGrpSpPr>
            <p:cNvPr id="214" name="Grupa 25"/>
            <p:cNvGrpSpPr/>
            <p:nvPr/>
          </p:nvGrpSpPr>
          <p:grpSpPr>
            <a:xfrm>
              <a:off x="4326840" y="2997360"/>
              <a:ext cx="3585600" cy="1113120"/>
              <a:chOff x="4326840" y="2997360"/>
              <a:chExt cx="3585600" cy="1113120"/>
            </a:xfrm>
          </p:grpSpPr>
          <p:sp>
            <p:nvSpPr>
              <p:cNvPr id="215" name="Prostokąt zaokrąglony 35"/>
              <p:cNvSpPr/>
              <p:nvPr/>
            </p:nvSpPr>
            <p:spPr>
              <a:xfrm>
                <a:off x="4326840" y="2997360"/>
                <a:ext cx="3585600" cy="1113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Prostokąt 36"/>
              <p:cNvSpPr/>
              <p:nvPr/>
            </p:nvSpPr>
            <p:spPr>
              <a:xfrm>
                <a:off x="4327200" y="3066120"/>
                <a:ext cx="347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są w fazie ciągłego udowadniania sobie i innym, jakie są dobre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7" name="Diagram 34" descr=""/>
            <p:cNvPicPr/>
            <p:nvPr/>
          </p:nvPicPr>
          <p:blipFill>
            <a:blip r:embed="rId4"/>
            <a:stretch/>
          </p:blipFill>
          <p:spPr>
            <a:xfrm>
              <a:off x="3995640" y="4069440"/>
              <a:ext cx="4140360" cy="65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9" name="pole tekstowe 2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1"/>
          <p:cNvSpPr/>
          <p:nvPr/>
        </p:nvSpPr>
        <p:spPr>
          <a:xfrm>
            <a:off x="395280" y="1304640"/>
            <a:ext cx="4897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dnym z ważniejszych elementów asertywności jest prawo do odmowy. Dlaczego tak trudno jest odmawiać innym? Często czujemy dyskomfort, zwracając się z prośbą do innych osób, a jeszcze większe zakłopotanie wzbudza w nas odmowa. Odmowa często powoduje u innych wybuch agresji czy żalu. Wypowiadanie słowa „nie” jest trudne i wymaga uruchomienia postawy asertyw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upa 21"/>
          <p:cNvGrpSpPr/>
          <p:nvPr/>
        </p:nvGrpSpPr>
        <p:grpSpPr>
          <a:xfrm>
            <a:off x="5435640" y="765000"/>
            <a:ext cx="2881440" cy="4967640"/>
            <a:chOff x="5435640" y="765000"/>
            <a:chExt cx="2881440" cy="4967640"/>
          </a:xfrm>
        </p:grpSpPr>
        <p:pic>
          <p:nvPicPr>
            <p:cNvPr id="226" name="Obraz 19" descr="5520346692_70effdda6c_m.jpg"/>
            <p:cNvPicPr/>
            <p:nvPr/>
          </p:nvPicPr>
          <p:blipFill>
            <a:blip r:embed="rId2"/>
            <a:srcRect l="20276" t="0" r="21752" b="0"/>
            <a:stretch/>
          </p:blipFill>
          <p:spPr>
            <a:xfrm>
              <a:off x="5435640" y="765000"/>
              <a:ext cx="2881440" cy="49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ole tekstowe 20" descr=""/>
            <p:cNvPicPr/>
            <p:nvPr/>
          </p:nvPicPr>
          <p:blipFill>
            <a:blip r:embed="rId3"/>
            <a:stretch/>
          </p:blipFill>
          <p:spPr>
            <a:xfrm>
              <a:off x="6272640" y="877320"/>
              <a:ext cx="182268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Prostokąt 22"/>
          <p:cNvSpPr/>
          <p:nvPr/>
        </p:nvSpPr>
        <p:spPr>
          <a:xfrm>
            <a:off x="0" y="47628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miejętność mówienia „n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30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rostokąt 11"/>
          <p:cNvSpPr/>
          <p:nvPr/>
        </p:nvSpPr>
        <p:spPr>
          <a:xfrm>
            <a:off x="0" y="26028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k odmawiać, żeby nie urazić inny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upa 25"/>
          <p:cNvGrpSpPr/>
          <p:nvPr/>
        </p:nvGrpSpPr>
        <p:grpSpPr>
          <a:xfrm>
            <a:off x="324000" y="2205000"/>
            <a:ext cx="3600360" cy="1870200"/>
            <a:chOff x="324000" y="2205000"/>
            <a:chExt cx="3600360" cy="1870200"/>
          </a:xfrm>
        </p:grpSpPr>
        <p:sp>
          <p:nvSpPr>
            <p:cNvPr id="237" name="Prostokąt zaokrąglony 16"/>
            <p:cNvSpPr/>
            <p:nvPr/>
          </p:nvSpPr>
          <p:spPr>
            <a:xfrm>
              <a:off x="324000" y="2205000"/>
              <a:ext cx="3600360" cy="187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Prostokąt 17"/>
            <p:cNvSpPr/>
            <p:nvPr/>
          </p:nvSpPr>
          <p:spPr>
            <a:xfrm>
              <a:off x="396000" y="2349000"/>
              <a:ext cx="3490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ażne jest, aby tak sformułować odmowę, żeby wskazywała, że nie spełniamy prośby, a nie negatywnie odnosimy się do osoby formułującej prośbę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upa 25"/>
          <p:cNvGrpSpPr/>
          <p:nvPr/>
        </p:nvGrpSpPr>
        <p:grpSpPr>
          <a:xfrm>
            <a:off x="1476360" y="4508640"/>
            <a:ext cx="4022640" cy="2089080"/>
            <a:chOff x="1476360" y="4508640"/>
            <a:chExt cx="4022640" cy="2089080"/>
          </a:xfrm>
        </p:grpSpPr>
        <p:sp>
          <p:nvSpPr>
            <p:cNvPr id="240" name="Prostokąt zaokrąglony 19"/>
            <p:cNvSpPr/>
            <p:nvPr/>
          </p:nvSpPr>
          <p:spPr>
            <a:xfrm>
              <a:off x="1476360" y="4508640"/>
              <a:ext cx="4022640" cy="208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Prostokąt 20"/>
            <p:cNvSpPr/>
            <p:nvPr/>
          </p:nvSpPr>
          <p:spPr>
            <a:xfrm>
              <a:off x="1548360" y="4652640"/>
              <a:ext cx="3900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ie mów „nie mogę”, kiedy tak naprawdę nie chcesz. Po pierwsze to nieuczciwe, a po drugie nadużywanie zwrotu „nie mogę” może w dłuższej perspektywie obniżyć naszą samoocenę – słowa mają ogromną mo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upa 22"/>
          <p:cNvGrpSpPr/>
          <p:nvPr/>
        </p:nvGrpSpPr>
        <p:grpSpPr>
          <a:xfrm>
            <a:off x="468360" y="765000"/>
            <a:ext cx="7367400" cy="3624480"/>
            <a:chOff x="468360" y="765000"/>
            <a:chExt cx="7367400" cy="3624480"/>
          </a:xfrm>
        </p:grpSpPr>
        <p:sp>
          <p:nvSpPr>
            <p:cNvPr id="243" name="Prostokąt 12"/>
            <p:cNvSpPr/>
            <p:nvPr/>
          </p:nvSpPr>
          <p:spPr>
            <a:xfrm>
              <a:off x="468360" y="765000"/>
              <a:ext cx="683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kuteczna odmowa powinna zawierać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łowo „nie”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formację, czego nie zrobim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formację, dlaczego tego nie zrobimy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Obraz 21" descr="3467933395_823a6f6836_m.jpg"/>
            <p:cNvPicPr/>
            <p:nvPr/>
          </p:nvPicPr>
          <p:blipFill>
            <a:blip r:embed="rId2"/>
            <a:stretch/>
          </p:blipFill>
          <p:spPr>
            <a:xfrm>
              <a:off x="4777200" y="1333800"/>
              <a:ext cx="3058560" cy="30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6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upa 21"/>
          <p:cNvGrpSpPr/>
          <p:nvPr/>
        </p:nvGrpSpPr>
        <p:grpSpPr>
          <a:xfrm>
            <a:off x="179280" y="189000"/>
            <a:ext cx="8317080" cy="6669000"/>
            <a:chOff x="179280" y="189000"/>
            <a:chExt cx="8317080" cy="6669000"/>
          </a:xfrm>
        </p:grpSpPr>
        <p:pic>
          <p:nvPicPr>
            <p:cNvPr id="249" name="Obraz 17" descr="sad4.jpg"/>
            <p:cNvPicPr/>
            <p:nvPr/>
          </p:nvPicPr>
          <p:blipFill>
            <a:blip r:embed="rId1"/>
            <a:srcRect l="3380" t="1102" r="3513" b="0"/>
            <a:stretch/>
          </p:blipFill>
          <p:spPr>
            <a:xfrm>
              <a:off x="4500000" y="2565000"/>
              <a:ext cx="3816720" cy="429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rostokąt 14"/>
            <p:cNvSpPr/>
            <p:nvPr/>
          </p:nvSpPr>
          <p:spPr>
            <a:xfrm>
              <a:off x="179280" y="189000"/>
              <a:ext cx="83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Radzenie sobie z krytyk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1"/>
          <p:cNvSpPr/>
          <p:nvPr/>
        </p:nvSpPr>
        <p:spPr>
          <a:xfrm>
            <a:off x="179280" y="7441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kt nie lubi być krytykowany, ponieważ utożsamiamy krytykę z odrzuceniem. Słysząc krytykę, jedni z nas spuszczają głowę i milczą (postawa uległa), inni wybuchają gniewem, odpowiadają krytyką, sarkazmem lub złośliwością (postawa agresyw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rostokąt 18"/>
          <p:cNvSpPr/>
          <p:nvPr/>
        </p:nvSpPr>
        <p:spPr>
          <a:xfrm>
            <a:off x="179280" y="2708280"/>
            <a:ext cx="446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pierwszym przypadku tłumimy w sobie emocje, co prowadzi do narastających pretensji i w efekcie sprawia, że ograniczamy nasze kontakty z inną osobą. W drugim przypadku to najprawdopodobniej ta druga osoba zacznie nas unika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5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250920" y="3590280"/>
            <a:ext cx="76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usłyszysz krytykę, która jest zasadna, po prostu zgódź się z osobą krytykującą. Nie szukaj wymówek, usprawiedliwiaj się tylko wtedy, gdy sytuacja tego wymaga ( np. gdy spóźnisz się do szkoły). Konstruktywna krytyka może pomóc ci w samodoskonaleniu się, nie warto więc jej zaprzeczać. Jeżeli natomiast ktoś po prostu, z sobie znanego tylko powodu, postanowił wytknąć nam błąd, nasza zgoda ucina rozmow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rostokąt 15"/>
          <p:cNvSpPr/>
          <p:nvPr/>
        </p:nvSpPr>
        <p:spPr>
          <a:xfrm>
            <a:off x="250920" y="12682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jważniejszą, ale też najtrudniejszą kwestią jest powstrzymanie swoich emocji. Skup się, skoncentruj na treści przekazu, obiektywnie oceń, czy krytyka nie jest zasadna, zastanów się nad intencjami osoby krytykującej się i oczywiście zachowaj spokó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upa 17"/>
          <p:cNvGrpSpPr/>
          <p:nvPr/>
        </p:nvGrpSpPr>
        <p:grpSpPr>
          <a:xfrm>
            <a:off x="0" y="404640"/>
            <a:ext cx="8317080" cy="2971800"/>
            <a:chOff x="0" y="404640"/>
            <a:chExt cx="8317080" cy="2971800"/>
          </a:xfrm>
        </p:grpSpPr>
        <p:sp>
          <p:nvSpPr>
            <p:cNvPr id="265" name="Prostokąt 14"/>
            <p:cNvSpPr/>
            <p:nvPr/>
          </p:nvSpPr>
          <p:spPr>
            <a:xfrm>
              <a:off x="0" y="404640"/>
              <a:ext cx="83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adzić sobie asertywnie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 krytyk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Obraz 16" descr="gesty33.jpg"/>
            <p:cNvPicPr/>
            <p:nvPr/>
          </p:nvPicPr>
          <p:blipFill>
            <a:blip r:embed="rId2"/>
            <a:stretch/>
          </p:blipFill>
          <p:spPr>
            <a:xfrm>
              <a:off x="4852440" y="1263240"/>
              <a:ext cx="3328560" cy="211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8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rostokąt 15"/>
          <p:cNvSpPr/>
          <p:nvPr/>
        </p:nvSpPr>
        <p:spPr>
          <a:xfrm>
            <a:off x="250920" y="14842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kład: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„Nigdy się nie uczysz, więc na pewno nie zdasz egzamin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rostokąt 16"/>
          <p:cNvSpPr/>
          <p:nvPr/>
        </p:nvSpPr>
        <p:spPr>
          <a:xfrm rot="16200000">
            <a:off x="-1742040" y="36946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żliwe asertywne odpowiedz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a 25"/>
          <p:cNvGrpSpPr/>
          <p:nvPr/>
        </p:nvGrpSpPr>
        <p:grpSpPr>
          <a:xfrm>
            <a:off x="179280" y="260280"/>
            <a:ext cx="7993080" cy="936720"/>
            <a:chOff x="179280" y="260280"/>
            <a:chExt cx="7993080" cy="936720"/>
          </a:xfrm>
        </p:grpSpPr>
        <p:sp>
          <p:nvSpPr>
            <p:cNvPr id="276" name="Prostokąt zaokrąglony 18"/>
            <p:cNvSpPr/>
            <p:nvPr/>
          </p:nvSpPr>
          <p:spPr>
            <a:xfrm>
              <a:off x="271080" y="260280"/>
              <a:ext cx="790128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Prostokąt 19"/>
            <p:cNvSpPr/>
            <p:nvPr/>
          </p:nvSpPr>
          <p:spPr>
            <a:xfrm>
              <a:off x="179280" y="260280"/>
              <a:ext cx="771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Technika zamglenia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zgodzeniu się z jakimś elementem stwierdzenia (takim, który uznajemy za prawdziwy) oraz zignorowaniu elementów pozostały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Grupa 23" descr=""/>
          <p:cNvPicPr/>
          <p:nvPr/>
        </p:nvPicPr>
        <p:blipFill>
          <a:blip r:embed="rId2"/>
          <a:stretch/>
        </p:blipFill>
        <p:spPr>
          <a:xfrm>
            <a:off x="950760" y="3267000"/>
            <a:ext cx="7169400" cy="1328760"/>
          </a:xfrm>
          <a:prstGeom prst="rect">
            <a:avLst/>
          </a:prstGeom>
          <a:ln w="0">
            <a:noFill/>
          </a:ln>
        </p:spPr>
      </p:pic>
      <p:pic>
        <p:nvPicPr>
          <p:cNvPr id="279" name="Grupa 24" descr=""/>
          <p:cNvPicPr/>
          <p:nvPr/>
        </p:nvPicPr>
        <p:blipFill>
          <a:blip r:embed="rId3"/>
          <a:stretch/>
        </p:blipFill>
        <p:spPr>
          <a:xfrm>
            <a:off x="950760" y="2041560"/>
            <a:ext cx="7193160" cy="1042920"/>
          </a:xfrm>
          <a:prstGeom prst="rect">
            <a:avLst/>
          </a:prstGeom>
          <a:ln w="0">
            <a:noFill/>
          </a:ln>
        </p:spPr>
      </p:pic>
      <p:pic>
        <p:nvPicPr>
          <p:cNvPr id="280" name="Grupa 27" descr=""/>
          <p:cNvPicPr/>
          <p:nvPr/>
        </p:nvPicPr>
        <p:blipFill>
          <a:blip r:embed="rId4"/>
          <a:stretch/>
        </p:blipFill>
        <p:spPr>
          <a:xfrm>
            <a:off x="950760" y="4780080"/>
            <a:ext cx="7169400" cy="1334880"/>
          </a:xfrm>
          <a:prstGeom prst="rect">
            <a:avLst/>
          </a:prstGeom>
          <a:ln w="0">
            <a:noFill/>
          </a:ln>
        </p:spPr>
      </p:pic>
      <p:grpSp>
        <p:nvGrpSpPr>
          <p:cNvPr id="28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82" name="pole tekstowe 2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upa 31"/>
          <p:cNvGrpSpPr/>
          <p:nvPr/>
        </p:nvGrpSpPr>
        <p:grpSpPr>
          <a:xfrm>
            <a:off x="468360" y="1557360"/>
            <a:ext cx="8064360" cy="5064120"/>
            <a:chOff x="468360" y="1557360"/>
            <a:chExt cx="8064360" cy="5064120"/>
          </a:xfrm>
        </p:grpSpPr>
        <p:pic>
          <p:nvPicPr>
            <p:cNvPr id="285" name="Obraz 30" descr="3588562936_ae6f4c98dd_m.jpg"/>
            <p:cNvPicPr/>
            <p:nvPr/>
          </p:nvPicPr>
          <p:blipFill>
            <a:blip r:embed="rId1"/>
            <a:srcRect l="21259" t="0" r="24401" b="0"/>
            <a:stretch/>
          </p:blipFill>
          <p:spPr>
            <a:xfrm>
              <a:off x="6228720" y="2411640"/>
              <a:ext cx="2304000" cy="42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rostokąt 15"/>
            <p:cNvSpPr/>
            <p:nvPr/>
          </p:nvSpPr>
          <p:spPr>
            <a:xfrm>
              <a:off x="468360" y="1557360"/>
              <a:ext cx="65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takiej sytuacji zareaguj spokojnie, nie podnosząc głosu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rostokąt 14"/>
          <p:cNvSpPr/>
          <p:nvPr/>
        </p:nvSpPr>
        <p:spPr>
          <a:xfrm>
            <a:off x="250920" y="33336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o zrobić w sytuacji agresywnej krytyki (osoba krytykująca wrzeszczy, używa obraźliwych słów, robi sarkastyczne uwagi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upa 25"/>
          <p:cNvGrpSpPr/>
          <p:nvPr/>
        </p:nvGrpSpPr>
        <p:grpSpPr>
          <a:xfrm>
            <a:off x="971640" y="2205000"/>
            <a:ext cx="5329080" cy="370800"/>
            <a:chOff x="971640" y="2205000"/>
            <a:chExt cx="5329080" cy="370800"/>
          </a:xfrm>
        </p:grpSpPr>
        <p:sp>
          <p:nvSpPr>
            <p:cNvPr id="292" name="Prostokąt zaokrąglony 17"/>
            <p:cNvSpPr/>
            <p:nvPr/>
          </p:nvSpPr>
          <p:spPr>
            <a:xfrm>
              <a:off x="971640" y="2205000"/>
              <a:ext cx="5329080" cy="35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Prostokąt 18"/>
            <p:cNvSpPr/>
            <p:nvPr/>
          </p:nvSpPr>
          <p:spPr>
            <a:xfrm>
              <a:off x="971640" y="220752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ie życzę sobie abyś na mnie krzyczał(a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upa 25"/>
          <p:cNvGrpSpPr/>
          <p:nvPr/>
        </p:nvGrpSpPr>
        <p:grpSpPr>
          <a:xfrm>
            <a:off x="971640" y="2924280"/>
            <a:ext cx="5329080" cy="370800"/>
            <a:chOff x="971640" y="2924280"/>
            <a:chExt cx="5329080" cy="370800"/>
          </a:xfrm>
        </p:grpSpPr>
        <p:sp>
          <p:nvSpPr>
            <p:cNvPr id="295" name="Prostokąt zaokrąglony 20"/>
            <p:cNvSpPr/>
            <p:nvPr/>
          </p:nvSpPr>
          <p:spPr>
            <a:xfrm>
              <a:off x="971640" y="2924280"/>
              <a:ext cx="532908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Prostokąt 21"/>
            <p:cNvSpPr/>
            <p:nvPr/>
          </p:nvSpPr>
          <p:spPr>
            <a:xfrm>
              <a:off x="971640" y="292680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łowa, których używasz, obrażają mn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upa 25"/>
          <p:cNvGrpSpPr/>
          <p:nvPr/>
        </p:nvGrpSpPr>
        <p:grpSpPr>
          <a:xfrm>
            <a:off x="971640" y="3645000"/>
            <a:ext cx="5329080" cy="370800"/>
            <a:chOff x="971640" y="3645000"/>
            <a:chExt cx="5329080" cy="370800"/>
          </a:xfrm>
        </p:grpSpPr>
        <p:sp>
          <p:nvSpPr>
            <p:cNvPr id="298" name="Prostokąt zaokrąglony 23"/>
            <p:cNvSpPr/>
            <p:nvPr/>
          </p:nvSpPr>
          <p:spPr>
            <a:xfrm>
              <a:off x="971640" y="3645000"/>
              <a:ext cx="5329080" cy="35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Prostokąt 24"/>
            <p:cNvSpPr/>
            <p:nvPr/>
          </p:nvSpPr>
          <p:spPr>
            <a:xfrm>
              <a:off x="971640" y="364752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wiedz wprost, co masz mi do powiedzen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upa 25"/>
          <p:cNvGrpSpPr/>
          <p:nvPr/>
        </p:nvGrpSpPr>
        <p:grpSpPr>
          <a:xfrm>
            <a:off x="971640" y="4292640"/>
            <a:ext cx="5329080" cy="718920"/>
            <a:chOff x="971640" y="4292640"/>
            <a:chExt cx="5329080" cy="718920"/>
          </a:xfrm>
        </p:grpSpPr>
        <p:sp>
          <p:nvSpPr>
            <p:cNvPr id="301" name="Prostokąt zaokrąglony 27"/>
            <p:cNvSpPr/>
            <p:nvPr/>
          </p:nvSpPr>
          <p:spPr>
            <a:xfrm>
              <a:off x="971640" y="4292640"/>
              <a:ext cx="5329080" cy="71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Prostokąt 28"/>
            <p:cNvSpPr/>
            <p:nvPr/>
          </p:nvSpPr>
          <p:spPr>
            <a:xfrm>
              <a:off x="971640" y="4298040"/>
              <a:ext cx="51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dejdź, jeżeli nie jesteś w stanie wpłynąć na zmianę zachowania takiej osob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04" name="pole tekstowe 2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Obraz 15" descr="megafon3.jpg"/>
          <p:cNvPicPr/>
          <p:nvPr/>
        </p:nvPicPr>
        <p:blipFill>
          <a:blip r:embed="rId2"/>
          <a:stretch/>
        </p:blipFill>
        <p:spPr>
          <a:xfrm>
            <a:off x="5292720" y="328464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3" name="Grupa 8"/>
          <p:cNvGrpSpPr/>
          <p:nvPr/>
        </p:nvGrpSpPr>
        <p:grpSpPr>
          <a:xfrm>
            <a:off x="250920" y="404640"/>
            <a:ext cx="4537080" cy="4048200"/>
            <a:chOff x="250920" y="404640"/>
            <a:chExt cx="4537080" cy="4048200"/>
          </a:xfrm>
        </p:grpSpPr>
        <p:grpSp>
          <p:nvGrpSpPr>
            <p:cNvPr id="54" name="Objaśnienie owalne 16"/>
            <p:cNvGrpSpPr/>
            <p:nvPr/>
          </p:nvGrpSpPr>
          <p:grpSpPr>
            <a:xfrm>
              <a:off x="250920" y="404640"/>
              <a:ext cx="4537080" cy="3961080"/>
              <a:chOff x="250920" y="404640"/>
              <a:chExt cx="4537080" cy="3961080"/>
            </a:xfrm>
          </p:grpSpPr>
          <p:pic>
            <p:nvPicPr>
              <p:cNvPr id="55" name="Objaśnienie owaln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404640"/>
                <a:ext cx="4537080" cy="39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783720" y="1009080"/>
                <a:ext cx="2456640" cy="27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Prostokąt 11"/>
            <p:cNvGrpSpPr/>
            <p:nvPr/>
          </p:nvGrpSpPr>
          <p:grpSpPr>
            <a:xfrm>
              <a:off x="647640" y="987480"/>
              <a:ext cx="2670120" cy="3465360"/>
              <a:chOff x="647640" y="987480"/>
              <a:chExt cx="2670120" cy="3465360"/>
            </a:xfrm>
          </p:grpSpPr>
          <p:pic>
            <p:nvPicPr>
              <p:cNvPr id="58" name="Prostokąt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47640" y="987480"/>
                <a:ext cx="2670120" cy="254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660600" y="1004760"/>
                <a:ext cx="2647080" cy="344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7d60a0"/>
                    </a:solidFill>
                    <a:latin typeface="Times New Roman CE"/>
                    <a:ea typeface="Times New Roman CE"/>
                  </a:rPr>
                  <a:t>Asertywność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 to umiejętność, której można się nauczyć i która zawiera w sobie również zdolność do rozpoznawania sytuacji, w których powinniśmy zachować się w sposób asertywny, a w których w sposób uległy lub agresywny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1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971640" y="480096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ma prawo do własnego zdania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 mam inne zdanie na swój temat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oja opinia na mój temat diametralnie różni się od mojej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upa 18"/>
          <p:cNvGrpSpPr/>
          <p:nvPr/>
        </p:nvGrpSpPr>
        <p:grpSpPr>
          <a:xfrm>
            <a:off x="324000" y="476280"/>
            <a:ext cx="7875360" cy="4199040"/>
            <a:chOff x="324000" y="476280"/>
            <a:chExt cx="7875360" cy="4199040"/>
          </a:xfrm>
        </p:grpSpPr>
        <p:pic>
          <p:nvPicPr>
            <p:cNvPr id="311" name="Obraz 17" descr="idiot3.jpg"/>
            <p:cNvPicPr/>
            <p:nvPr/>
          </p:nvPicPr>
          <p:blipFill>
            <a:blip r:embed="rId2"/>
            <a:stretch/>
          </p:blipFill>
          <p:spPr>
            <a:xfrm>
              <a:off x="4428360" y="1484640"/>
              <a:ext cx="377100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Prostokąt 14"/>
            <p:cNvSpPr/>
            <p:nvPr/>
          </p:nvSpPr>
          <p:spPr>
            <a:xfrm>
              <a:off x="324000" y="476280"/>
              <a:ext cx="777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eżeli krytyka jest personalna (zmienia się w obrażanie), zastosuj jedną z technik asertywnego radzenia sobie z krytyk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rostokąt 15"/>
          <p:cNvSpPr/>
          <p:nvPr/>
        </p:nvSpPr>
        <p:spPr>
          <a:xfrm>
            <a:off x="324000" y="198900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kład: kiedy ktoś mów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eś idiotą”, możesz odpowiedzie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15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Obraz 12" descr="sen4.jpg"/>
          <p:cNvPicPr/>
          <p:nvPr/>
        </p:nvPicPr>
        <p:blipFill>
          <a:blip r:embed="rId1"/>
          <a:stretch/>
        </p:blipFill>
        <p:spPr>
          <a:xfrm>
            <a:off x="0" y="2762280"/>
            <a:ext cx="5256360" cy="4095720"/>
          </a:xfrm>
          <a:prstGeom prst="rect">
            <a:avLst/>
          </a:prstGeom>
          <a:ln w="0">
            <a:noFill/>
          </a:ln>
        </p:spPr>
      </p:pic>
      <p:grpSp>
        <p:nvGrpSpPr>
          <p:cNvPr id="31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upa 14"/>
          <p:cNvGrpSpPr/>
          <p:nvPr/>
        </p:nvGrpSpPr>
        <p:grpSpPr>
          <a:xfrm>
            <a:off x="3419640" y="260280"/>
            <a:ext cx="4824360" cy="3240000"/>
            <a:chOff x="3419640" y="260280"/>
            <a:chExt cx="4824360" cy="3240000"/>
          </a:xfrm>
        </p:grpSpPr>
        <p:sp>
          <p:nvSpPr>
            <p:cNvPr id="322" name="Objaśnienie w chmurce 13"/>
            <p:cNvSpPr/>
            <p:nvPr/>
          </p:nvSpPr>
          <p:spPr>
            <a:xfrm>
              <a:off x="3419640" y="260280"/>
              <a:ext cx="4824360" cy="3240000"/>
            </a:xfrm>
            <a:prstGeom prst="cloudCallout">
              <a:avLst>
                <a:gd name="adj1" fmla="val -99449"/>
                <a:gd name="adj2" fmla="val 32041"/>
              </a:avLst>
            </a:prstGeom>
            <a:solidFill>
              <a:srgbClr val="cc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"/>
            <p:cNvSpPr/>
            <p:nvPr/>
          </p:nvSpPr>
          <p:spPr>
            <a:xfrm>
              <a:off x="3923640" y="924120"/>
              <a:ext cx="4032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sertywność to umiejętność, o której marzy większość z nas. Niestety, jej nabycie wymaga wielu ćwiczeń i determinacji. Nie jest to łatwe, ale warto spróbowa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25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upa 12"/>
          <p:cNvGrpSpPr/>
          <p:nvPr/>
        </p:nvGrpSpPr>
        <p:grpSpPr>
          <a:xfrm>
            <a:off x="179280" y="260280"/>
            <a:ext cx="7848720" cy="6372360"/>
            <a:chOff x="179280" y="260280"/>
            <a:chExt cx="7848720" cy="6372360"/>
          </a:xfrm>
        </p:grpSpPr>
        <p:sp>
          <p:nvSpPr>
            <p:cNvPr id="67" name="Prostokąt 5"/>
            <p:cNvSpPr/>
            <p:nvPr/>
          </p:nvSpPr>
          <p:spPr>
            <a:xfrm>
              <a:off x="179280" y="260280"/>
              <a:ext cx="7842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7d60a0"/>
                  </a:solidFill>
                  <a:latin typeface="Times New Roman CE"/>
                  <a:ea typeface="Times New Roman CE"/>
                </a:rPr>
                <a:t>Postawa asertywna</a:t>
              </a:r>
              <a:r>
                <a:rPr b="0" lang="pl-PL" sz="2000" spc="-1" strike="noStrike">
                  <a:solidFill>
                    <a:srgbClr val="7d60a0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umiejętność dochodzenia swoich praw oraz zdolność do wyrażania własnych myśli, uczuć i poglądów w sposób otwarty, szczery i adekwatny, nienaruszający prawa innych ludzi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Obraz 8" descr="6338155470_45225d28f6_m.jpg"/>
            <p:cNvPicPr/>
            <p:nvPr/>
          </p:nvPicPr>
          <p:blipFill>
            <a:blip r:embed="rId2"/>
            <a:stretch/>
          </p:blipFill>
          <p:spPr>
            <a:xfrm>
              <a:off x="5061600" y="4281840"/>
              <a:ext cx="2966400" cy="23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rostokąt 9"/>
          <p:cNvSpPr/>
          <p:nvPr/>
        </p:nvSpPr>
        <p:spPr>
          <a:xfrm>
            <a:off x="1547640" y="26370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upa 13"/>
          <p:cNvGrpSpPr/>
          <p:nvPr/>
        </p:nvGrpSpPr>
        <p:grpSpPr>
          <a:xfrm>
            <a:off x="395280" y="2205000"/>
            <a:ext cx="5256360" cy="2683080"/>
            <a:chOff x="395280" y="2205000"/>
            <a:chExt cx="5256360" cy="2683080"/>
          </a:xfrm>
        </p:grpSpPr>
        <p:sp>
          <p:nvSpPr>
            <p:cNvPr id="71" name="Prostokąt zaokrąglony 10"/>
            <p:cNvSpPr/>
            <p:nvPr/>
          </p:nvSpPr>
          <p:spPr>
            <a:xfrm>
              <a:off x="395280" y="2205000"/>
              <a:ext cx="5256360" cy="189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pole tekstowe 11"/>
            <p:cNvGrpSpPr/>
            <p:nvPr/>
          </p:nvGrpSpPr>
          <p:grpSpPr>
            <a:xfrm>
              <a:off x="1206720" y="4010400"/>
              <a:ext cx="4127040" cy="877680"/>
              <a:chOff x="1206720" y="4010400"/>
              <a:chExt cx="4127040" cy="877680"/>
            </a:xfrm>
          </p:grpSpPr>
          <p:pic>
            <p:nvPicPr>
              <p:cNvPr id="73" name="pole tekstow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06720" y="4010400"/>
                <a:ext cx="4127040" cy="87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258920" y="4101120"/>
                <a:ext cx="370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 </a:t>
                </a:r>
                <a:r>
                  <a:rPr b="1" lang="pl-PL" sz="28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Osoba asertyw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rostokąt 14"/>
          <p:cNvSpPr/>
          <p:nvPr/>
        </p:nvSpPr>
        <p:spPr>
          <a:xfrm>
            <a:off x="684360" y="2276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cie i stosownie do okoliczności   wyraża własne myśli, opinie i uczu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erze odpowiedzialność za swoje słowa i dział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anuje siebie i innych ludz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łucha tego, co mają do powiedzenia inni ludz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7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raz 10" descr="4961461045_6215e09694_m.jpg"/>
          <p:cNvPicPr/>
          <p:nvPr/>
        </p:nvPicPr>
        <p:blipFill>
          <a:blip r:embed="rId1"/>
          <a:stretch/>
        </p:blipFill>
        <p:spPr>
          <a:xfrm>
            <a:off x="5508720" y="2637000"/>
            <a:ext cx="3003480" cy="4005000"/>
          </a:xfrm>
          <a:prstGeom prst="rect">
            <a:avLst/>
          </a:prstGeom>
          <a:ln w="0">
            <a:noFill/>
          </a:ln>
        </p:spPr>
      </p:pic>
      <p:grpSp>
        <p:nvGrpSpPr>
          <p:cNvPr id="8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250920" y="185796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miany zdania bez konieczności nadmiernego usprawiedliwiania si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pełniania błęd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ówienia „nie wiem”, „nie rozumiem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szenia o to, na czym jej zależ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ówienia „nie” bez poczucia wi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acunku innych ludz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go, żeby ją wysłuchano i traktowano poważ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zależn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ążenia do sukcesu i odnoszenia sukces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bania o własne potrz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8"/>
          <p:cNvSpPr/>
          <p:nvPr/>
        </p:nvSpPr>
        <p:spPr>
          <a:xfrm>
            <a:off x="0" y="1890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wa asertyw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rostokąt 9"/>
          <p:cNvSpPr/>
          <p:nvPr/>
        </p:nvSpPr>
        <p:spPr>
          <a:xfrm>
            <a:off x="0" y="1052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a asertywna ma świadomość swoich praw, a w szczególności prawa 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8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6"/>
          <p:cNvGrpSpPr/>
          <p:nvPr/>
        </p:nvGrpSpPr>
        <p:grpSpPr>
          <a:xfrm>
            <a:off x="1908000" y="3068640"/>
            <a:ext cx="6193080" cy="3024360"/>
            <a:chOff x="1908000" y="3068640"/>
            <a:chExt cx="6193080" cy="3024360"/>
          </a:xfrm>
        </p:grpSpPr>
        <p:sp>
          <p:nvSpPr>
            <p:cNvPr id="93" name="Prostokąt zaokrąglony 8"/>
            <p:cNvSpPr/>
            <p:nvPr/>
          </p:nvSpPr>
          <p:spPr>
            <a:xfrm>
              <a:off x="1908000" y="3068640"/>
              <a:ext cx="6193080" cy="2113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pole tekstowe 9"/>
            <p:cNvGrpSpPr/>
            <p:nvPr/>
          </p:nvGrpSpPr>
          <p:grpSpPr>
            <a:xfrm>
              <a:off x="3078360" y="5114880"/>
              <a:ext cx="4127040" cy="978120"/>
              <a:chOff x="3078360" y="5114880"/>
              <a:chExt cx="4127040" cy="978120"/>
            </a:xfrm>
          </p:grpSpPr>
          <p:pic>
            <p:nvPicPr>
              <p:cNvPr id="95" name="pole tekstow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8360" y="5114880"/>
                <a:ext cx="4127040" cy="97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3132000" y="5182200"/>
                <a:ext cx="370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Osoba uległ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(pasywna, biern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upa 11"/>
          <p:cNvGrpSpPr/>
          <p:nvPr/>
        </p:nvGrpSpPr>
        <p:grpSpPr>
          <a:xfrm>
            <a:off x="179280" y="404640"/>
            <a:ext cx="7705800" cy="4670640"/>
            <a:chOff x="179280" y="404640"/>
            <a:chExt cx="7705800" cy="4670640"/>
          </a:xfrm>
        </p:grpSpPr>
        <p:pic>
          <p:nvPicPr>
            <p:cNvPr id="98" name="Obraz 12" descr="3026027962_94e4413b08_m.jpg"/>
            <p:cNvPicPr/>
            <p:nvPr/>
          </p:nvPicPr>
          <p:blipFill>
            <a:blip r:embed="rId3"/>
            <a:stretch/>
          </p:blipFill>
          <p:spPr>
            <a:xfrm>
              <a:off x="179280" y="1989000"/>
              <a:ext cx="1440000" cy="30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Prostokąt 10"/>
            <p:cNvSpPr/>
            <p:nvPr/>
          </p:nvSpPr>
          <p:spPr>
            <a:xfrm>
              <a:off x="323280" y="404640"/>
              <a:ext cx="756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„</a:t>
              </a:r>
              <a:r>
                <a:rPr b="1" lang="pl-PL" sz="20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Postawa uległa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naruszaniu swoich praw poprzez nieumiejętność wyrażania własnych uczuć, myśli i poglądów i w konsekwencji na pozwalaniu, aby inni te prawa również naruszali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rostokąt 15"/>
          <p:cNvSpPr/>
          <p:nvPr/>
        </p:nvSpPr>
        <p:spPr>
          <a:xfrm>
            <a:off x="1763640" y="2924280"/>
            <a:ext cx="66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21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wyraża własnych myśli, opinii i uczu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rzuca odpowiedzialność za swoje życie na osoby trzec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zanuje sieb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porządkowuje swoje potrzeby potrzebom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potrafi odmawia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 wszystko przepras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niepewna sieb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2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a 8"/>
          <p:cNvGrpSpPr/>
          <p:nvPr/>
        </p:nvGrpSpPr>
        <p:grpSpPr>
          <a:xfrm>
            <a:off x="0" y="256680"/>
            <a:ext cx="8317080" cy="6601320"/>
            <a:chOff x="0" y="256680"/>
            <a:chExt cx="8317080" cy="6601320"/>
          </a:xfrm>
        </p:grpSpPr>
        <p:sp>
          <p:nvSpPr>
            <p:cNvPr id="108" name="Rectangle 1"/>
            <p:cNvSpPr/>
            <p:nvPr/>
          </p:nvSpPr>
          <p:spPr>
            <a:xfrm>
              <a:off x="0" y="256680"/>
              <a:ext cx="83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ległoś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Obraz 13" descr="4642106133_8c9bf67132_m.jpg"/>
            <p:cNvPicPr/>
            <p:nvPr/>
          </p:nvPicPr>
          <p:blipFill>
            <a:blip r:embed="rId2"/>
            <a:stretch/>
          </p:blipFill>
          <p:spPr>
            <a:xfrm>
              <a:off x="5148360" y="3809880"/>
              <a:ext cx="3048120" cy="304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rostokąt zaokrąglony 14"/>
          <p:cNvSpPr/>
          <p:nvPr/>
        </p:nvSpPr>
        <p:spPr>
          <a:xfrm>
            <a:off x="468360" y="1125360"/>
            <a:ext cx="5472000" cy="352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woduje u innych przekonanie, że mogą postępować wobec nas według własnego uznania, bo nie usłyszą sprzeciwu. To inni ludzie dokonują wyborów i podejmują decyzje za osoby uległe. Odbija się to na życiu osobistym i zawodowym osoby pasywnej. Osoby takie są często pomijane przy awansach, łamane są wobec nich prawa pracownicze, obarczane są najgorszymi zadaniami. Wreszcie najczęściej zwalniani z pracy są ludzie ulegli, bo szefowie firm wiedzą, że nie spotkają się ze sprzeciwem i nie będą mieli kłopo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12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1"/>
          <p:cNvSpPr/>
          <p:nvPr/>
        </p:nvSpPr>
        <p:spPr>
          <a:xfrm>
            <a:off x="6948360" y="4786200"/>
            <a:ext cx="56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8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stawa agresyw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upa 13"/>
          <p:cNvGrpSpPr/>
          <p:nvPr/>
        </p:nvGrpSpPr>
        <p:grpSpPr>
          <a:xfrm>
            <a:off x="324000" y="1125360"/>
            <a:ext cx="7127640" cy="5064480"/>
            <a:chOff x="324000" y="1125360"/>
            <a:chExt cx="7127640" cy="5064480"/>
          </a:xfrm>
        </p:grpSpPr>
        <p:sp>
          <p:nvSpPr>
            <p:cNvPr id="120" name="Prostokąt zaokrąglony 9"/>
            <p:cNvSpPr/>
            <p:nvPr/>
          </p:nvSpPr>
          <p:spPr>
            <a:xfrm>
              <a:off x="900000" y="1125360"/>
              <a:ext cx="6551640" cy="1655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„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dochodzeniu swoich praw oraz wyrażaniu własnych myśli, uczuć i przekonań w sposób, który jest często nieuczciwy, na ogół niestosowny i zawsze naruszający prawa innych”. 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Obraz 10" descr="zly.jpg"/>
            <p:cNvPicPr/>
            <p:nvPr/>
          </p:nvPicPr>
          <p:blipFill>
            <a:blip r:embed="rId2"/>
            <a:stretch/>
          </p:blipFill>
          <p:spPr>
            <a:xfrm>
              <a:off x="324000" y="3141720"/>
              <a:ext cx="3047400" cy="304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Prostokąt 14"/>
          <p:cNvSpPr/>
          <p:nvPr/>
        </p:nvSpPr>
        <p:spPr>
          <a:xfrm>
            <a:off x="3980880" y="32130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a agresyw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rostokąt zaokrąglony 15"/>
          <p:cNvSpPr/>
          <p:nvPr/>
        </p:nvSpPr>
        <p:spPr>
          <a:xfrm>
            <a:off x="3851280" y="3789360"/>
            <a:ext cx="280836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wsze mówi, co myś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rostokąt zaokrąglony 16"/>
          <p:cNvSpPr/>
          <p:nvPr/>
        </p:nvSpPr>
        <p:spPr>
          <a:xfrm>
            <a:off x="3851280" y="4653000"/>
            <a:ext cx="373680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łucha tego, co mówią inni, bo i tak to ona ma zawsze 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rostokąt zaokrąglony 17"/>
          <p:cNvSpPr/>
          <p:nvPr/>
        </p:nvSpPr>
        <p:spPr>
          <a:xfrm>
            <a:off x="3780000" y="5516640"/>
            <a:ext cx="410508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zawraca sobie głowy potrzebami i uczuciami innych osó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7" name="pole tekstowe 1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Obraz 12" descr="megafon4.jpg"/>
          <p:cNvPicPr/>
          <p:nvPr/>
        </p:nvPicPr>
        <p:blipFill>
          <a:blip r:embed="rId2"/>
          <a:srcRect l="0" t="15249" r="0" b="14267"/>
          <a:stretch/>
        </p:blipFill>
        <p:spPr>
          <a:xfrm>
            <a:off x="1835280" y="4724280"/>
            <a:ext cx="51688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33" name="Grupa 13"/>
          <p:cNvGrpSpPr/>
          <p:nvPr/>
        </p:nvGrpSpPr>
        <p:grpSpPr>
          <a:xfrm>
            <a:off x="539640" y="549360"/>
            <a:ext cx="7272360" cy="3897360"/>
            <a:chOff x="539640" y="549360"/>
            <a:chExt cx="7272360" cy="3897360"/>
          </a:xfrm>
        </p:grpSpPr>
        <p:grpSp>
          <p:nvGrpSpPr>
            <p:cNvPr id="134" name="pole tekstowe 8"/>
            <p:cNvGrpSpPr/>
            <p:nvPr/>
          </p:nvGrpSpPr>
          <p:grpSpPr>
            <a:xfrm>
              <a:off x="2499120" y="3706200"/>
              <a:ext cx="4133160" cy="740520"/>
              <a:chOff x="2499120" y="3706200"/>
              <a:chExt cx="4133160" cy="740520"/>
            </a:xfrm>
          </p:grpSpPr>
          <p:pic>
            <p:nvPicPr>
              <p:cNvPr id="135" name="pole tekstow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499120" y="3706200"/>
                <a:ext cx="4133160" cy="74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2555280" y="3772080"/>
                <a:ext cx="370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Osoba agresyw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Prostokąt zaokrąglony 9"/>
            <p:cNvSpPr/>
            <p:nvPr/>
          </p:nvSpPr>
          <p:spPr>
            <a:xfrm>
              <a:off x="539640" y="549360"/>
              <a:ext cx="7272360" cy="322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rostokąt 10"/>
          <p:cNvSpPr/>
          <p:nvPr/>
        </p:nvSpPr>
        <p:spPr>
          <a:xfrm>
            <a:off x="611280" y="76500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y agresywne nastawione są na własne korzyści, nawet jeśli dzieje się to kosztem innych ludzi. Osoby agresywne idą po trupach do celu i często zmuszają innych do zmiany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yśli czy życzenia wypowiadają z pewnością siebie i sugerują nieomylność. Są wyniosłe i nie znoszą sprzeciwu. Jeżeli o coś pytają, to i tak mają gotową odpowiedź. Nie interesują ich uczucia i myśli innych ludzi. Często podkreślają własne zasługi. Paradoksalnie agresywne zachowania wynikają najczęściej z braku pewności siebie i niskiej samooceny. Osoba agresywna pragnie doskonałości, nie uznaje błędów, słabości i porażek – dlatego często ma zaniżoną samoocenę, a za własne błędy obwinia inny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0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upa 17"/>
          <p:cNvGrpSpPr/>
          <p:nvPr/>
        </p:nvGrpSpPr>
        <p:grpSpPr>
          <a:xfrm>
            <a:off x="0" y="0"/>
            <a:ext cx="8200080" cy="6858000"/>
            <a:chOff x="0" y="0"/>
            <a:chExt cx="8200080" cy="6858000"/>
          </a:xfrm>
        </p:grpSpPr>
        <p:pic>
          <p:nvPicPr>
            <p:cNvPr id="146" name="Obraz 14" descr="g.jpg"/>
            <p:cNvPicPr/>
            <p:nvPr/>
          </p:nvPicPr>
          <p:blipFill>
            <a:blip r:embed="rId2"/>
            <a:srcRect l="0" t="0" r="21200" b="0"/>
            <a:stretch/>
          </p:blipFill>
          <p:spPr>
            <a:xfrm>
              <a:off x="0" y="0"/>
              <a:ext cx="428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Prostokąt 16"/>
            <p:cNvSpPr/>
            <p:nvPr/>
          </p:nvSpPr>
          <p:spPr>
            <a:xfrm>
              <a:off x="4180320" y="1628640"/>
              <a:ext cx="40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ozpoznać zachowania asertywne?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1"/>
          <p:cNvSpPr/>
          <p:nvPr/>
        </p:nvSpPr>
        <p:spPr>
          <a:xfrm>
            <a:off x="4067280" y="236088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ęzyk ciała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asertywnej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 wyprostowana postawa, szukanie kontaktu wzrokowego, ale nie uporczywe wpatrywanie się.  Ręce i ramiona otwarte. Nie czuje zażenowania, jeśli słyszy komplementy na swój temat. Osoba asertywna mówi otwarcie na temat własnych odczuć, życzeń i potrzeb. Szanuje własne prawa, nie raniąc przy tym innych. Ma poczucie własnej wartości. Potrafi słuchać i jest gotowa do ustępstw, ale potrafi też odmawiać. Innych ludzi traktuje zgodnie z przysłowiem „Nie rób drugiemu, co tobie niemił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0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22:14:24Z</dcterms:created>
  <dc:creator>tfigurska</dc:creator>
  <dc:description/>
  <dc:language>en-US</dc:language>
  <cp:lastModifiedBy>Marta</cp:lastModifiedBy>
  <dcterms:modified xsi:type="dcterms:W3CDTF">2013-01-31T18:32:19Z</dcterms:modified>
  <cp:revision>295</cp:revision>
  <dc:subject/>
  <dc:title>3. Wiedza o gospodarce</dc:title>
</cp:coreProperties>
</file>