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9.jpeg" ContentType="image/jpeg"/>
  <Override PartName="/ppt/media/image35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28.png" ContentType="image/png"/>
  <Override PartName="/ppt/media/image38.jpeg" ContentType="image/jpe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A38B-9BAE-4780-AFE9-9AE90F93BD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642A-C284-4614-90A5-4AC53804F68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EC84-DFE9-4B58-95DB-EA0626125D8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0AA1-B028-4EF4-B7AD-6515EA0AFF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F03-B4F0-4D0F-91D7-0A62E321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4EA-C7F2-46D7-A440-1FAD4DA3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C06-4408-46C3-9ECF-84642EE6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934-2B3C-4ADA-9F10-452CA8DB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276-EACA-465A-A67D-4048884A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D0C-B10B-41B2-A434-21E4A4C5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881-B09A-49CE-A7E6-6243C624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8FC-FB45-483B-935A-B7C0A252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FD0-155F-45EA-BFFE-8B284B84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F3A-526B-41F0-A8A8-BF2F9D92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247-0E23-45E4-B647-85ABB35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41E-BDA7-42E7-99BE-EE25893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FF7C-48C3-4671-8BD4-E6AF21F8B3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C5C3-F9E9-4DF1-92AA-8B8D9CAD80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51" name="Diagram 9" descr=""/>
          <p:cNvPicPr/>
          <p:nvPr/>
        </p:nvPicPr>
        <p:blipFill>
          <a:blip r:embed="rId2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52" name="Diagram 11" descr=""/>
          <p:cNvPicPr/>
          <p:nvPr/>
        </p:nvPicPr>
        <p:blipFill>
          <a:blip r:embed="rId3"/>
          <a:stretch/>
        </p:blipFill>
        <p:spPr>
          <a:xfrm>
            <a:off x="542880" y="1968480"/>
            <a:ext cx="1073160" cy="781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raz 13" descr="4642108981_0639928a4f_m.jpg"/>
          <p:cNvPicPr/>
          <p:nvPr/>
        </p:nvPicPr>
        <p:blipFill>
          <a:blip r:embed="rId1"/>
          <a:stretch/>
        </p:blipFill>
        <p:spPr>
          <a:xfrm>
            <a:off x="0" y="836640"/>
            <a:ext cx="3048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46" name="Prostokąt 6"/>
          <p:cNvSpPr/>
          <p:nvPr/>
        </p:nvSpPr>
        <p:spPr>
          <a:xfrm>
            <a:off x="0" y="5493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 podstawowych celów reklamy us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 bankowych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7" name="Prostokąt zaokrąglony 7"/>
          <p:cNvSpPr/>
          <p:nvPr/>
        </p:nvSpPr>
        <p:spPr>
          <a:xfrm>
            <a:off x="3276720" y="1557360"/>
            <a:ext cx="4824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ienie klientowi, na czym polega ró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ca w ofercie danego banku w porównaniu z innymi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8" name="Prostokąt zaokrąglony 8"/>
          <p:cNvSpPr/>
          <p:nvPr/>
        </p:nvSpPr>
        <p:spPr>
          <a:xfrm>
            <a:off x="3203640" y="2852640"/>
            <a:ext cx="48974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onanie klienta,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bank dysponuje nie jednym, ale c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gam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u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, które mo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spoko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trzeby klienta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9" name="Prostokąt zaokrąglony 9"/>
          <p:cNvSpPr/>
          <p:nvPr/>
        </p:nvSpPr>
        <p:spPr>
          <a:xfrm>
            <a:off x="324000" y="4149720"/>
            <a:ext cx="77770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chęcanie klientów do nawiązania bezpośredniego kontaktu z oddziałem banku (osobiście lub telefonicznie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0" name="Prostokąt zaokrąglony 10"/>
          <p:cNvSpPr/>
          <p:nvPr/>
        </p:nvSpPr>
        <p:spPr>
          <a:xfrm>
            <a:off x="971640" y="5445000"/>
            <a:ext cx="712944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świadomienie klientom, że załatwienie w banku formalności związanych z nabyciem produktu nie będzie kłopotliwe ani trudne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2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5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395280" y="1204920"/>
            <a:ext cx="763272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worzyć unikatową markę mleka Łaciate, rozpoznawalną, która wyraźnie różniłaby się od produktów konkurencji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powod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aby skrót UHT przest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trasz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konsumentów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powod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aby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ciate b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 postrzegane jako polski produkt, smaczny, naturalny, zdrowy, bez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nych dodatków konserw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58" name="Prostokąt 6"/>
          <p:cNvSpPr/>
          <p:nvPr/>
        </p:nvSpPr>
        <p:spPr>
          <a:xfrm>
            <a:off x="0" y="404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 celów kampanii reklamowej mleka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ciate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9" name="Grupa 9"/>
          <p:cNvGrpSpPr/>
          <p:nvPr/>
        </p:nvGrpSpPr>
        <p:grpSpPr>
          <a:xfrm>
            <a:off x="4427640" y="3941640"/>
            <a:ext cx="3889440" cy="2916360"/>
            <a:chOff x="4427640" y="3941640"/>
            <a:chExt cx="3889440" cy="2916360"/>
          </a:xfrm>
        </p:grpSpPr>
        <p:pic>
          <p:nvPicPr>
            <p:cNvPr id="160" name="Obraz 7" descr="5280659516_ee185656bb_m.jpg"/>
            <p:cNvPicPr/>
            <p:nvPr/>
          </p:nvPicPr>
          <p:blipFill>
            <a:blip r:embed="rId2"/>
            <a:stretch/>
          </p:blipFill>
          <p:spPr>
            <a:xfrm>
              <a:off x="4427640" y="3941640"/>
              <a:ext cx="388944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rostokąt 8"/>
            <p:cNvSpPr/>
            <p:nvPr/>
          </p:nvSpPr>
          <p:spPr>
            <a:xfrm>
              <a:off x="6948720" y="3995280"/>
              <a:ext cx="136836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62" name="Prostokąt 10"/>
          <p:cNvSpPr/>
          <p:nvPr/>
        </p:nvSpPr>
        <p:spPr>
          <a:xfrm>
            <a:off x="179280" y="3645000"/>
            <a:ext cx="4572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ele reklamy powinny bezpośrednio wypływać z celów marketingowych przedsiębiorstwa i powinny być najlepiej wyrażone w kategoriach mierzal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4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6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az 9" descr="6333555347_c15d171122_m.jpg"/>
          <p:cNvPicPr/>
          <p:nvPr/>
        </p:nvPicPr>
        <p:blipFill>
          <a:blip r:embed="rId1"/>
          <a:stretch/>
        </p:blipFill>
        <p:spPr>
          <a:xfrm>
            <a:off x="4211640" y="4470480"/>
            <a:ext cx="3408480" cy="2387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250920" y="142992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telewizyjna – plansze reklamowe, filmy (spoty)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radiowa – audycje, konkursy, 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szenia, piosenki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rasowa – 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szenia, wrzutki, artyk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reklamowe, pach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 stron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zew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trzna (tzw. outdoor) – tablice przydr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e, szyldy, plansze na stadionach, neony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etlne, reklama n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kach transportu, banner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internetowa – bannery reklamowe, mailing, lin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wydawnicza – foldery, ulotki, plakaty, kalendarze, katalogi, informator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ocztowa (tzw. direct mail) – listy reklamowe, ulotki, katalog, kartka reklamowa – bezadresowe przes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pocztowe wrzucane do k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ej skrzyn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kinowa – filmy reklamowe, plansze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w miejscu sprzed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– stojaki reklamowe, ulotki, plakaty, foldery, ekspozycje w oknie wystawowym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zost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media – reklama przez telefon, szata graficzna opakowania, stoiska wystawow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71" name="Prostokąt 6"/>
          <p:cNvSpPr/>
          <p:nvPr/>
        </p:nvSpPr>
        <p:spPr>
          <a:xfrm>
            <a:off x="0" y="4046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Typy reklamy 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ze wzgl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du na wybór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ka masowej komunikacji 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7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3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7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az 10" descr="4642719656_921f941afd_m.jpg"/>
          <p:cNvPicPr/>
          <p:nvPr/>
        </p:nvPicPr>
        <p:blipFill>
          <a:blip r:embed="rId1"/>
          <a:srcRect l="0" t="7868" r="0" b="3498"/>
          <a:stretch/>
        </p:blipFill>
        <p:spPr>
          <a:xfrm>
            <a:off x="2124000" y="0"/>
            <a:ext cx="6431040" cy="4869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79" name="Prostokąt 9"/>
          <p:cNvSpPr/>
          <p:nvPr/>
        </p:nvSpPr>
        <p:spPr>
          <a:xfrm>
            <a:off x="314280" y="1773360"/>
            <a:ext cx="49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Pozytywny w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w reklamy na konsumenta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250920" y="2152440"/>
            <a:ext cx="56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 funkc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edukacyj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dz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niej klienci dowiad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 si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o  now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  rynkowych, o promocjach cenowych i pozacenowych, o ró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ych sposobach zaspokojenia swoich potrzeb i ewentualnych korz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, o nowych technologiach i sprz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 funkc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ekonomicz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pozwala klientom na dokonywanie ekonomicznych wyborów w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ód ty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a produktów na rynku, zgodnie ze swoimi potrzebami i zawart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rtfel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owoduje,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produkty nieakceptowane przez klientów szybciej znik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rynk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z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reklamie przeprowadza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kuteczne kampanie sp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czne np.: z zakresu profilaktyki AIDS i 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a narkotyków, przeciwko przemocy w rodzini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8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82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8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87" name="Rectangle 1"/>
          <p:cNvSpPr/>
          <p:nvPr/>
        </p:nvSpPr>
        <p:spPr>
          <a:xfrm>
            <a:off x="395280" y="2217960"/>
            <a:ext cx="56167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ardzo silne jest wnikanie reklamy w nasz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cie, nadawane reklamy przeryw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m og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anie ulubionych programów,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y zwykle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dawane gł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j 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filmu, wywoł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nas rozd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g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anie reklam zw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a 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ć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kupu towarów, a tym samym p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ia konsumpcyjny styl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ci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y, które wprowadz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klientów w b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, pod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 nieprawdziwe informacj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8" name="Prostokąt 8"/>
          <p:cNvSpPr/>
          <p:nvPr/>
        </p:nvSpPr>
        <p:spPr>
          <a:xfrm>
            <a:off x="345600" y="1773360"/>
            <a:ext cx="49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Negatywny w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w reklamy na konsumenta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89" name="Obraz 10" descr="3026027962_94e4413b08_m.jpg"/>
          <p:cNvPicPr/>
          <p:nvPr/>
        </p:nvPicPr>
        <p:blipFill>
          <a:blip r:embed="rId2"/>
          <a:stretch/>
        </p:blipFill>
        <p:spPr>
          <a:xfrm>
            <a:off x="5940360" y="836640"/>
            <a:ext cx="2030400" cy="435132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91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9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upa 12"/>
          <p:cNvGrpSpPr/>
          <p:nvPr/>
        </p:nvGrpSpPr>
        <p:grpSpPr>
          <a:xfrm>
            <a:off x="0" y="1197000"/>
            <a:ext cx="3138480" cy="4206960"/>
            <a:chOff x="0" y="1197000"/>
            <a:chExt cx="3138480" cy="4206960"/>
          </a:xfrm>
        </p:grpSpPr>
        <p:pic>
          <p:nvPicPr>
            <p:cNvPr id="194" name="Obraz 7" descr="5592937266_0b9c27eb4f_m.jpg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3138480" cy="42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Prostokąt 11"/>
            <p:cNvSpPr/>
            <p:nvPr/>
          </p:nvSpPr>
          <p:spPr>
            <a:xfrm>
              <a:off x="2449440" y="4365720"/>
              <a:ext cx="43164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99" name="Prostokąt 6"/>
          <p:cNvSpPr/>
          <p:nvPr/>
        </p:nvSpPr>
        <p:spPr>
          <a:xfrm>
            <a:off x="3348000" y="119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Efekt perswazyjny (nak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aniaj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cy) w reklamie mo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ż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na osi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gn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ć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oprzez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0" name="Prostokąt zaokrąglony 9"/>
          <p:cNvSpPr/>
          <p:nvPr/>
        </p:nvSpPr>
        <p:spPr>
          <a:xfrm>
            <a:off x="3276720" y="2924280"/>
            <a:ext cx="482436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w reklamie wiarygodnego i atrakcyjnego nadawcy przekazu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1" name="Prostokąt zaokrąglony 10"/>
          <p:cNvSpPr/>
          <p:nvPr/>
        </p:nvSpPr>
        <p:spPr>
          <a:xfrm>
            <a:off x="3276720" y="4221000"/>
            <a:ext cx="482436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ty w reklamie 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zyk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0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03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0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08" name="Prostokąt 6"/>
          <p:cNvSpPr/>
          <p:nvPr/>
        </p:nvSpPr>
        <p:spPr>
          <a:xfrm>
            <a:off x="179280" y="18900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powiednio 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dobrany nadawca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 reklamie 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w istotny sposób wpły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jej skuteczn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 Bohater reklamy powinien wzbudz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ufanie, b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iarygodny i akceptowany przez odbiorc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9" name="Prostokąt 7"/>
          <p:cNvSpPr/>
          <p:nvPr/>
        </p:nvSpPr>
        <p:spPr>
          <a:xfrm>
            <a:off x="1547640" y="14842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W reklamach zazwyczaj w roli nadawcy wyst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pują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10" name="Diagram 8" descr=""/>
          <p:cNvPicPr/>
          <p:nvPr/>
        </p:nvPicPr>
        <p:blipFill>
          <a:blip r:embed="rId2"/>
          <a:stretch/>
        </p:blipFill>
        <p:spPr>
          <a:xfrm>
            <a:off x="2011320" y="4834080"/>
            <a:ext cx="5810400" cy="828360"/>
          </a:xfrm>
          <a:prstGeom prst="rect">
            <a:avLst/>
          </a:prstGeom>
          <a:ln w="0">
            <a:noFill/>
          </a:ln>
        </p:spPr>
      </p:pic>
      <p:pic>
        <p:nvPicPr>
          <p:cNvPr id="211" name="Diagram 9" descr=""/>
          <p:cNvPicPr/>
          <p:nvPr/>
        </p:nvPicPr>
        <p:blipFill>
          <a:blip r:embed="rId3"/>
          <a:stretch/>
        </p:blipFill>
        <p:spPr>
          <a:xfrm>
            <a:off x="-6480" y="2243160"/>
            <a:ext cx="5810400" cy="828720"/>
          </a:xfrm>
          <a:prstGeom prst="rect">
            <a:avLst/>
          </a:prstGeom>
          <a:ln w="0">
            <a:noFill/>
          </a:ln>
        </p:spPr>
      </p:pic>
      <p:pic>
        <p:nvPicPr>
          <p:cNvPr id="212" name="Diagram 10" descr=""/>
          <p:cNvPicPr/>
          <p:nvPr/>
        </p:nvPicPr>
        <p:blipFill>
          <a:blip r:embed="rId4"/>
          <a:stretch/>
        </p:blipFill>
        <p:spPr>
          <a:xfrm>
            <a:off x="785880" y="3103560"/>
            <a:ext cx="581004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Diagram 11" descr=""/>
          <p:cNvPicPr/>
          <p:nvPr/>
        </p:nvPicPr>
        <p:blipFill>
          <a:blip r:embed="rId5"/>
          <a:stretch/>
        </p:blipFill>
        <p:spPr>
          <a:xfrm>
            <a:off x="1504800" y="3968640"/>
            <a:ext cx="5810400" cy="82872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12" descr=""/>
          <p:cNvPicPr/>
          <p:nvPr/>
        </p:nvPicPr>
        <p:blipFill>
          <a:blip r:embed="rId6"/>
          <a:stretch/>
        </p:blipFill>
        <p:spPr>
          <a:xfrm>
            <a:off x="2730600" y="5694480"/>
            <a:ext cx="5810040" cy="834840"/>
          </a:xfrm>
          <a:prstGeom prst="rect">
            <a:avLst/>
          </a:prstGeom>
          <a:ln w="0">
            <a:noFill/>
          </a:ln>
        </p:spPr>
      </p:pic>
      <p:grpSp>
        <p:nvGrpSpPr>
          <p:cNvPr id="21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6" name="pole tekstowe 1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17" name="Obraz 10" descr="sowa_1-komunikowanie sie.png"/>
            <p:cNvPicPr/>
            <p:nvPr/>
          </p:nvPicPr>
          <p:blipFill>
            <a:blip r:embed="rId7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rostokąt 6"/>
          <p:cNvSpPr/>
          <p:nvPr/>
        </p:nvSpPr>
        <p:spPr>
          <a:xfrm>
            <a:off x="0" y="47628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Elementy perswazyjne j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zyka reklamy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19" name="Grupa 9"/>
          <p:cNvGrpSpPr/>
          <p:nvPr/>
        </p:nvGrpSpPr>
        <p:grpSpPr>
          <a:xfrm>
            <a:off x="3851280" y="4361040"/>
            <a:ext cx="3816360" cy="2496960"/>
            <a:chOff x="3851280" y="4361040"/>
            <a:chExt cx="3816360" cy="2496960"/>
          </a:xfrm>
        </p:grpSpPr>
        <p:pic>
          <p:nvPicPr>
            <p:cNvPr id="220" name="Obraz 7" descr="6359992413_f7c193108d_m.jpg"/>
            <p:cNvPicPr/>
            <p:nvPr/>
          </p:nvPicPr>
          <p:blipFill>
            <a:blip r:embed="rId1"/>
            <a:stretch/>
          </p:blipFill>
          <p:spPr>
            <a:xfrm>
              <a:off x="3851280" y="4361040"/>
              <a:ext cx="381636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rostokąt 8"/>
            <p:cNvSpPr/>
            <p:nvPr/>
          </p:nvSpPr>
          <p:spPr>
            <a:xfrm>
              <a:off x="6875640" y="6669360"/>
              <a:ext cx="792000" cy="188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22" name="Rectangle 1"/>
          <p:cNvSpPr/>
          <p:nvPr/>
        </p:nvSpPr>
        <p:spPr>
          <a:xfrm>
            <a:off x="582120" y="997200"/>
            <a:ext cx="7236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w reklamie tzw.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 mocy: darmowy, unikatow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perswazyjnych zwrotów wzyw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do działania: „kup teraz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zbudzenie u klienta obaw: „oferta 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a do…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pyt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ń: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„Czy czujesz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czasem jakb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 balon?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k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lanie mnog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i pojedyncz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: „jeden i tylko jeden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partyk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zmacni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i o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bi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: „tylko u nas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rymów: „do wyboru, do koloru”, „Z Wart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arto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liczby 2 w reklamie: „tylko 2 kalorie”, „dwa w jednym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przedrostka NAJ: „najlepsze dla 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yzny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perswazyjnej sloganu: „Zawsze Coca-Cola”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2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22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2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2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3348000" y="2506680"/>
            <a:ext cx="475308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woływanie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wyniki testów, bad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opinie zadowolonych klientów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dstawianie cech produktu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naukowych nazw i terminów, które wy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zekonanie o kompetencji nadawcy i walorach reklamowanego produktu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awanie danych teleadresow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33" name="Prostokąt 6"/>
          <p:cNvSpPr/>
          <p:nvPr/>
        </p:nvSpPr>
        <p:spPr>
          <a:xfrm>
            <a:off x="468360" y="47628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powiednio 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dobrane informacyjne i perswazyj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aspekty 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zyka reklamy mo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istotny sposób wp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jej skuteczn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4" name="Prostokąt 7"/>
          <p:cNvSpPr/>
          <p:nvPr/>
        </p:nvSpPr>
        <p:spPr>
          <a:xfrm>
            <a:off x="3339360" y="1989000"/>
            <a:ext cx="45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Elementy informacyjne j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zyka reklamy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35" name="Obraz 9" descr="3722352128_808a0a6b63_m.jpg"/>
          <p:cNvPicPr/>
          <p:nvPr/>
        </p:nvPicPr>
        <p:blipFill>
          <a:blip r:embed="rId2"/>
          <a:stretch/>
        </p:blipFill>
        <p:spPr>
          <a:xfrm>
            <a:off x="0" y="1413000"/>
            <a:ext cx="3284640" cy="3960720"/>
          </a:xfrm>
          <a:prstGeom prst="rect">
            <a:avLst/>
          </a:prstGeom>
          <a:ln w="0">
            <a:noFill/>
          </a:ln>
        </p:spPr>
      </p:pic>
      <p:grpSp>
        <p:nvGrpSpPr>
          <p:cNvPr id="23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3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3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Obraz 9" descr="3638958864_05933b10f6_m.jpg"/>
          <p:cNvPicPr/>
          <p:nvPr/>
        </p:nvPicPr>
        <p:blipFill>
          <a:blip r:embed="rId1"/>
          <a:srcRect l="8652" t="9448" r="8652" b="10228"/>
          <a:stretch/>
        </p:blipFill>
        <p:spPr>
          <a:xfrm>
            <a:off x="3276720" y="2276640"/>
            <a:ext cx="1800000" cy="244764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43" name="Prostokąt 6"/>
          <p:cNvSpPr/>
          <p:nvPr/>
        </p:nvSpPr>
        <p:spPr>
          <a:xfrm>
            <a:off x="324000" y="476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az reklamowy prezentuje zazwyczaj cechy i korzy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produktu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4" name="Prostokąt zaokrąglony 7"/>
          <p:cNvSpPr/>
          <p:nvPr/>
        </p:nvSpPr>
        <p:spPr>
          <a:xfrm>
            <a:off x="179280" y="1773360"/>
            <a:ext cx="3097440" cy="3887640"/>
          </a:xfrm>
          <a:custGeom>
            <a:avLst/>
            <a:gdLst>
              <a:gd name="textAreaLeft" fmla="*/ 151200 w 3097440"/>
              <a:gd name="textAreaRight" fmla="*/ 2946240 w 3097440"/>
              <a:gd name="textAreaTop" fmla="*/ 151200 h 3887640"/>
              <a:gd name="textAreaBottom" fmla="*/ 3736440 h 3887640"/>
            </a:gdLst>
            <a:ahLst/>
            <a:rect l="textAreaLeft" t="textAreaTop" r="textAreaRight" b="textAreaBottom"/>
            <a:pathLst>
              <a:path w="21600" h="27110">
                <a:moveTo>
                  <a:pt x="3600" y="0"/>
                </a:moveTo>
                <a:arcTo wR="3600" hR="3600" stAng="16200000" swAng="-5400000"/>
                <a:lnTo>
                  <a:pt x="0" y="23510"/>
                </a:lnTo>
                <a:arcTo wR="3600" hR="3600" stAng="10800000" swAng="-5400000"/>
                <a:lnTo>
                  <a:pt x="18000" y="271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ch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o właściwości produktu lub usługi, które sprawiają, że dana potrzeba może być zaspokojona (w przypadku artykułów spożywczych mogą to być: brak konserwantów, niska zawartość tłuszczu, zawartość witamin, wygodne opakowanie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5" name="Prostokąt zaokrąglony 8"/>
          <p:cNvSpPr/>
          <p:nvPr/>
        </p:nvSpPr>
        <p:spPr>
          <a:xfrm>
            <a:off x="5076720" y="1844640"/>
            <a:ext cx="3095640" cy="3888000"/>
          </a:xfrm>
          <a:custGeom>
            <a:avLst/>
            <a:gdLst>
              <a:gd name="textAreaLeft" fmla="*/ 150840 w 3095640"/>
              <a:gd name="textAreaRight" fmla="*/ 2944800 w 3095640"/>
              <a:gd name="textAreaTop" fmla="*/ 150840 h 3888000"/>
              <a:gd name="textAreaBottom" fmla="*/ 3737160 h 3888000"/>
            </a:gdLst>
            <a:ahLst/>
            <a:rect l="textAreaLeft" t="textAreaTop" r="textAreaRight" b="textAreaBottom"/>
            <a:pathLst>
              <a:path w="21600" h="27128">
                <a:moveTo>
                  <a:pt x="3600" y="0"/>
                </a:moveTo>
                <a:arcTo wR="3600" hR="3600" stAng="16200000" swAng="-5400000"/>
                <a:lnTo>
                  <a:pt x="0" y="23528"/>
                </a:lnTo>
                <a:arcTo wR="3600" hR="3600" stAng="10800000" swAng="-5400000"/>
                <a:lnTo>
                  <a:pt x="18000" y="27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rzy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o wymierne zyski dla klienta wynikające z faktu,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e produkt ma określone cechy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np. zdrowie, odporność, piękna sylwetka, oszczędność, funkcjonalność)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4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4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raz 15" descr="5519761651_84ca1d3d07_m.jpg"/>
          <p:cNvPicPr/>
          <p:nvPr/>
        </p:nvPicPr>
        <p:blipFill>
          <a:blip r:embed="rId1"/>
          <a:srcRect l="0" t="0" r="0" b="8317"/>
          <a:stretch/>
        </p:blipFill>
        <p:spPr>
          <a:xfrm>
            <a:off x="5292720" y="2924280"/>
            <a:ext cx="3216240" cy="393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361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59" name="Prostokąt zaokrąglony 12"/>
          <p:cNvSpPr/>
          <p:nvPr/>
        </p:nvSpPr>
        <p:spPr>
          <a:xfrm>
            <a:off x="250920" y="1413000"/>
            <a:ext cx="54734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Jest informac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o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komunikatem perswazyjnym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rostokąt zaokrąglony 13"/>
          <p:cNvSpPr/>
          <p:nvPr/>
        </p:nvSpPr>
        <p:spPr>
          <a:xfrm>
            <a:off x="250920" y="2637000"/>
            <a:ext cx="547344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Jej celem jest przekazanie odbiorcy istotnych informacji o produktach, ale r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k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nienie go do zakupu reklamowanych dóbr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rostokąt zaokrąglony 14"/>
          <p:cNvSpPr/>
          <p:nvPr/>
        </p:nvSpPr>
        <p:spPr>
          <a:xfrm>
            <a:off x="250920" y="4292640"/>
            <a:ext cx="547344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stawowym jej zadaniem jest wzbudzenie w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odbiorcy okr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lonych potrzeb, które 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a zaspoko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zez nabycie reklamowanych produktów lub u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3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6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0" y="-435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y cech i korzy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0" name="Prostokąt zaokrąglony 8"/>
          <p:cNvSpPr/>
          <p:nvPr/>
        </p:nvSpPr>
        <p:spPr>
          <a:xfrm>
            <a:off x="179280" y="549360"/>
            <a:ext cx="39610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ch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1" name="Prostokąt zaokrąglony 9"/>
          <p:cNvSpPr/>
          <p:nvPr/>
        </p:nvSpPr>
        <p:spPr>
          <a:xfrm>
            <a:off x="4211640" y="549360"/>
            <a:ext cx="39607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rzy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052640"/>
          <a:ext cx="7993080" cy="28728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leko jest pasteryzow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leko można dłużej przechowywa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79280" y="1413000"/>
          <a:ext cx="7993080" cy="109692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ower posiada 24 przerzutk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Taka liczba przerzutek umożliwia łatwy wjazd nawet na najbardziej strome zbocze, daje możliwość pokonania dużych odległości bez zmęcze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79280" y="256536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Krem do twarzy zawiera wyciąg z argan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óra odzyskuje jędrność, promienn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 zdrowy wyglą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321300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owa lokata – 15% w skali rok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iększy zarobek na lokacie niż dotychcz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79280" y="386064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alka ma wmontowany sygnał dźwiękowy zakończenia pra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anie bez zagniece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4508640"/>
          <a:ext cx="7993080" cy="54900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zampon zawiera witalizujące protein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łosy właściwie odżywione i wzmocni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79280" y="5157720"/>
          <a:ext cx="7993080" cy="137160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137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sta do zębów zawiera triclogard, który stanowi skuteczną tarczę ochronną przed bakteriami przez 12 godz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sta zapewnia długotrwałą ochronę przed próchnicą, kamieniem nazębnym i chorobami dziąseł, opóźnia rozwój paradontozy. Gwarantuje zdrowy uśmiech na długie la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pSp>
        <p:nvGrpSpPr>
          <p:cNvPr id="259" name="Grupa 13"/>
          <p:cNvGrpSpPr/>
          <p:nvPr/>
        </p:nvGrpSpPr>
        <p:grpSpPr>
          <a:xfrm>
            <a:off x="0" y="5950080"/>
            <a:ext cx="755640" cy="907920"/>
            <a:chOff x="0" y="5950080"/>
            <a:chExt cx="755640" cy="907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50080"/>
              <a:ext cx="755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16640" y="6229080"/>
              <a:ext cx="58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26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3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64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Obraz 10" descr="5520340612_608d9e1ddd_m.jpg"/>
          <p:cNvPicPr/>
          <p:nvPr/>
        </p:nvPicPr>
        <p:blipFill>
          <a:blip r:embed="rId1"/>
          <a:stretch/>
        </p:blipFill>
        <p:spPr>
          <a:xfrm>
            <a:off x="755640" y="31417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66" name="Obraz 11" descr="5187314534_09d29656e8_m.jpg"/>
          <p:cNvPicPr/>
          <p:nvPr/>
        </p:nvPicPr>
        <p:blipFill>
          <a:blip r:embed="rId2"/>
          <a:stretch/>
        </p:blipFill>
        <p:spPr>
          <a:xfrm>
            <a:off x="6012000" y="1125360"/>
            <a:ext cx="2039760" cy="2038680"/>
          </a:xfrm>
          <a:prstGeom prst="rect">
            <a:avLst/>
          </a:prstGeom>
          <a:ln w="0">
            <a:noFill/>
          </a:ln>
        </p:spPr>
      </p:pic>
      <p:grpSp>
        <p:nvGrpSpPr>
          <p:cNvPr id="2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70" name="Prostokąt 6"/>
          <p:cNvSpPr/>
          <p:nvPr/>
        </p:nvSpPr>
        <p:spPr>
          <a:xfrm>
            <a:off x="0" y="5493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oddzi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e poprzez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1" name="Prostokąt 7"/>
          <p:cNvSpPr/>
          <p:nvPr/>
        </p:nvSpPr>
        <p:spPr>
          <a:xfrm>
            <a:off x="900000" y="184464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pele racjonalne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do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odbiorcy, jego rozumu, m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lenia racjonalnego,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p. „Codziennie niskie ceny” (Biedronka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2" name="Prostokąt 9"/>
          <p:cNvSpPr/>
          <p:nvPr/>
        </p:nvSpPr>
        <p:spPr>
          <a:xfrm>
            <a:off x="2484360" y="501336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pele emocjonalne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do emocji, ucz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ukaz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ad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posiadanego produktu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74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75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Obraz 8" descr="4642721856_72be156c84_m.jpg"/>
          <p:cNvPicPr/>
          <p:nvPr/>
        </p:nvPicPr>
        <p:blipFill>
          <a:blip r:embed="rId1"/>
          <a:stretch/>
        </p:blipFill>
        <p:spPr>
          <a:xfrm>
            <a:off x="5508720" y="380988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250920" y="156708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adowole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„Zdrowe jogurty – szczęście Twojej rodziny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mił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Czekoladki X wyrazem Twojej miłości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dziwie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 „Tniemy cenę o połowę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ł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Jak długo możesz płacić wysokie rachunki za prąd – tylko do momentu zakupu żarówek energooszczędnych firmy X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smutek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„Szaruga za oknem każdego może zniechęcić. Jest na to sposób, oferujemy Ci wyjazdy do ciepłych krajów po atrakcyjnych cenach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stra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 Spokojną przyszłość zapewni Ci tylko lokata w banku X”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81" name="Prostokąt 6"/>
          <p:cNvSpPr/>
          <p:nvPr/>
        </p:nvSpPr>
        <p:spPr>
          <a:xfrm>
            <a:off x="1187280" y="260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zekazy reklamowe bazują w szczególności na następujących emocjach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2" name="Prostokąt 7"/>
          <p:cNvSpPr/>
          <p:nvPr/>
        </p:nvSpPr>
        <p:spPr>
          <a:xfrm>
            <a:off x="1258920" y="47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 przekazach reklamowych apele racjonalne najczęściej przeplatają się z apelami emocjonalnymi, co zdecydowanie zwiększa atrakcyjność i skuteczność reklam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84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8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0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Obraz 13" descr="crash.jpg"/>
          <p:cNvPicPr/>
          <p:nvPr/>
        </p:nvPicPr>
        <p:blipFill>
          <a:blip r:embed="rId1"/>
          <a:stretch/>
        </p:blipFill>
        <p:spPr>
          <a:xfrm>
            <a:off x="611280" y="3933720"/>
            <a:ext cx="2195280" cy="2130480"/>
          </a:xfrm>
          <a:prstGeom prst="rect">
            <a:avLst/>
          </a:prstGeom>
          <a:ln w="0">
            <a:noFill/>
          </a:ln>
        </p:spPr>
      </p:pic>
      <p:pic>
        <p:nvPicPr>
          <p:cNvPr id="287" name="Obraz 12" descr="4470471286_25f82657ab_m.jpg"/>
          <p:cNvPicPr/>
          <p:nvPr/>
        </p:nvPicPr>
        <p:blipFill>
          <a:blip r:embed="rId2"/>
          <a:stretch/>
        </p:blipFill>
        <p:spPr>
          <a:xfrm>
            <a:off x="611280" y="1989000"/>
            <a:ext cx="2941560" cy="1716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"/>
          <p:cNvSpPr/>
          <p:nvPr/>
        </p:nvSpPr>
        <p:spPr>
          <a:xfrm>
            <a:off x="539640" y="59367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Reklamy zazwyczaj na początku odwołują się do negatywnych emocji, a pozytywne emocje pojawiają się dopiero w końcowej części komunikatu reklamowego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92" name="Prostokąt 6"/>
          <p:cNvSpPr/>
          <p:nvPr/>
        </p:nvSpPr>
        <p:spPr>
          <a:xfrm>
            <a:off x="324000" y="33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mocje w reklamie mogą przybierać charakter pozytywny i negatywny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3" name="Prostokąt 7"/>
          <p:cNvSpPr/>
          <p:nvPr/>
        </p:nvSpPr>
        <p:spPr>
          <a:xfrm>
            <a:off x="179280" y="1341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Komunikaty perswazyjne pozytywne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ywołują dodatnie emocje u odbiorcy reklamy (ulga, optymizm, radość itp.). Bazują na obietnicach nadawcy reklam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4" name="Prostokąt 8"/>
          <p:cNvSpPr/>
          <p:nvPr/>
        </p:nvSpPr>
        <p:spPr>
          <a:xfrm>
            <a:off x="3348000" y="21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Przykład: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 reklamie herbatki „SlimFigura 30+” firma Herbapol obiecuje idealną figurę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5" name="Prostokąt 9"/>
          <p:cNvSpPr/>
          <p:nvPr/>
        </p:nvSpPr>
        <p:spPr>
          <a:xfrm>
            <a:off x="179280" y="386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Komunikaty perswazyjne negatywne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dwołują się do strachu, niepokoju, zagrożeni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6" name="Prostokąt 10"/>
          <p:cNvSpPr/>
          <p:nvPr/>
        </p:nvSpPr>
        <p:spPr>
          <a:xfrm>
            <a:off x="2771640" y="4508640"/>
            <a:ext cx="53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Przykład: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irmy ubezpieczeniowe uświadamiają odbiorcom reklam zagrożenia wynikające z braku ubezpieczenia mieszkania lub samochodu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97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98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99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8" descr="Obraz2.png"/>
          <p:cNvPicPr/>
          <p:nvPr/>
        </p:nvPicPr>
        <p:blipFill>
          <a:blip r:embed="rId1"/>
          <a:srcRect l="0" t="2521" r="0" b="4800"/>
          <a:stretch/>
        </p:blipFill>
        <p:spPr>
          <a:xfrm>
            <a:off x="4303800" y="3213000"/>
            <a:ext cx="4084560" cy="3645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2499120"/>
            <a:ext cx="63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Gdyby nie reklama, nie d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by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yprom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owego produktu, usługi ani marki. Reklama informuje o n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 rynkowych, o ulepszeniach dokonanych na produktach, przez co 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twia konsumentom podejmowanie decyzji zakupowych. 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70" name="Prostokąt 6"/>
          <p:cNvSpPr/>
          <p:nvPr/>
        </p:nvSpPr>
        <p:spPr>
          <a:xfrm>
            <a:off x="539640" y="98100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Reklama stanowi masow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, od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tn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i bezosobow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form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rezentowania oferty sprzeda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ż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 przez okre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lonego sprzedawc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i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(wg Amer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kiego Stowarzyszenia Marketingu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2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7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az 6" descr="sowa.jpg"/>
          <p:cNvPicPr/>
          <p:nvPr/>
        </p:nvPicPr>
        <p:blipFill>
          <a:blip r:embed="rId1"/>
          <a:stretch/>
        </p:blipFill>
        <p:spPr>
          <a:xfrm>
            <a:off x="4716360" y="3038400"/>
            <a:ext cx="3314880" cy="3819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395280" y="913320"/>
            <a:ext cx="56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la przedsiębiorców reklama jest jednym ze sposobów komunikowania się z klientem na rynku, aby go poinformować o swojej ofercie i zachęcić do wyboru jego produktów na rynku. Reklama ma za zadanie zwrócić uwagę na dany towar (zachwalając jego zalety), na jego producenta, a niekiedy również na miejsce sprzedaży, a przede wszystkim ma za zadanie nakłonić klientów do kupna danych towarów bądź skorzystania z określonych usług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79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80" name="pole tekstowe 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8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12" descr="6543357357_01a6fa0fee_m.jpg"/>
          <p:cNvPicPr/>
          <p:nvPr/>
        </p:nvPicPr>
        <p:blipFill>
          <a:blip r:embed="rId1"/>
          <a:srcRect l="14822" t="6284" r="14822" b="16139"/>
          <a:stretch/>
        </p:blipFill>
        <p:spPr>
          <a:xfrm>
            <a:off x="5003640" y="3716280"/>
            <a:ext cx="2737080" cy="2665440"/>
          </a:xfrm>
          <a:prstGeom prst="rect">
            <a:avLst/>
          </a:prstGeom>
          <a:ln w="0">
            <a:noFill/>
          </a:ln>
        </p:spPr>
      </p:pic>
      <p:grpSp>
        <p:nvGrpSpPr>
          <p:cNvPr id="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pic>
        <p:nvPicPr>
          <p:cNvPr id="86" name="Obraz 10" descr="6543357357_01a6fa0fee_m.jpg"/>
          <p:cNvPicPr/>
          <p:nvPr/>
        </p:nvPicPr>
        <p:blipFill>
          <a:blip r:embed="rId3"/>
          <a:srcRect l="17586" t="10483" r="19464" b="12742"/>
          <a:stretch/>
        </p:blipFill>
        <p:spPr>
          <a:xfrm>
            <a:off x="1187280" y="3933720"/>
            <a:ext cx="2448000" cy="2637000"/>
          </a:xfrm>
          <a:prstGeom prst="rect">
            <a:avLst/>
          </a:prstGeom>
          <a:ln w="0">
            <a:noFill/>
          </a:ln>
        </p:spPr>
      </p:pic>
      <p:sp>
        <p:nvSpPr>
          <p:cNvPr id="87" name="Prostokąt 11"/>
          <p:cNvSpPr/>
          <p:nvPr/>
        </p:nvSpPr>
        <p:spPr>
          <a:xfrm rot="1560600">
            <a:off x="1200960" y="48132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INFORMACYJNY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88" name="Obraz 8" descr="3561901440_1e0277c2ac_m.jpg"/>
          <p:cNvPicPr/>
          <p:nvPr/>
        </p:nvPicPr>
        <p:blipFill>
          <a:blip r:embed="rId4"/>
          <a:stretch/>
        </p:blipFill>
        <p:spPr>
          <a:xfrm>
            <a:off x="2548080" y="755640"/>
            <a:ext cx="3651120" cy="3402000"/>
          </a:xfrm>
          <a:prstGeom prst="rect">
            <a:avLst/>
          </a:prstGeom>
          <a:ln w="0">
            <a:noFill/>
          </a:ln>
        </p:spPr>
      </p:pic>
      <p:sp>
        <p:nvSpPr>
          <p:cNvPr id="89" name="Prostokąt 6"/>
          <p:cNvSpPr/>
          <p:nvPr/>
        </p:nvSpPr>
        <p:spPr>
          <a:xfrm>
            <a:off x="684360" y="54936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nie opiera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ylko na przekazie informacji o danym towarze lub usłudze. Skuteczna reklama to taka, któr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y informac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komunikatem perswazyjnym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" name="Prostokąt 7"/>
          <p:cNvSpPr/>
          <p:nvPr/>
        </p:nvSpPr>
        <p:spPr>
          <a:xfrm rot="1017000">
            <a:off x="3914280" y="20188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reklamowy powinien zawiera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ć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" name="Prostokąt 13"/>
          <p:cNvSpPr/>
          <p:nvPr/>
        </p:nvSpPr>
        <p:spPr>
          <a:xfrm rot="1560600">
            <a:off x="5162040" y="48848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PERSWAZYJN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" name="Prostokąt 14"/>
          <p:cNvSpPr/>
          <p:nvPr/>
        </p:nvSpPr>
        <p:spPr>
          <a:xfrm>
            <a:off x="3925800" y="4437000"/>
            <a:ext cx="10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7030a0"/>
                </a:solidFill>
                <a:latin typeface="Times New Roman CE"/>
                <a:ea typeface="SimSun"/>
              </a:rPr>
              <a:t>+ </a:t>
            </a:r>
            <a:endParaRPr b="0" lang="en-US" sz="8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94" name="pole tekstowe 16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95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az 9" descr="megafon2.jpg"/>
          <p:cNvPicPr/>
          <p:nvPr/>
        </p:nvPicPr>
        <p:blipFill>
          <a:blip r:embed="rId1"/>
          <a:srcRect l="8759" t="0" r="0" b="0"/>
          <a:stretch/>
        </p:blipFill>
        <p:spPr>
          <a:xfrm>
            <a:off x="0" y="0"/>
            <a:ext cx="3419640" cy="3456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468360" y="50828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perswazyjny</a:t>
            </a:r>
            <a:r>
              <a:rPr b="0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ma na celu nakłonić klienta do kupna danego towaru lub usługi, wzbudzić potrzebę posiadania reklamowanego dobra, którą można zaspokoić poprzez jego nabyci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01" name="Prostokąt 6"/>
          <p:cNvSpPr/>
          <p:nvPr/>
        </p:nvSpPr>
        <p:spPr>
          <a:xfrm>
            <a:off x="2124000" y="2349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informacyjny</a:t>
            </a:r>
            <a:r>
              <a:rPr b="0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– zadaniem reklamy jest poinformowanie klientów o tym, co firma sprzedaje, do czego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jej produkty, jakie m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cechy i zalety, czym produkty jednej firmy ró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od produktów konkurencji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2" name="Prostokąt 7"/>
          <p:cNvSpPr/>
          <p:nvPr/>
        </p:nvSpPr>
        <p:spPr>
          <a:xfrm>
            <a:off x="539640" y="3860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Perswazj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zekonanie, nakłonienie kogoś do czegoś za pomocą argumentów potwierdzających słuszność stwierdzeń użytych w procesie nakłaniani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4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0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raz 15" descr="megafon3.jpg"/>
          <p:cNvPicPr/>
          <p:nvPr/>
        </p:nvPicPr>
        <p:blipFill>
          <a:blip r:embed="rId1"/>
          <a:stretch/>
        </p:blipFill>
        <p:spPr>
          <a:xfrm>
            <a:off x="543564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395280" y="37958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u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jego rekla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zczu innych reklam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intereso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rozum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ł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wie komunikat reklamow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cz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trzeb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siadania reklamowego obie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ył sk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nny do dz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nia, skorzystania z ofert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11" name="Prostokąt 7"/>
          <p:cNvSpPr/>
          <p:nvPr/>
        </p:nvSpPr>
        <p:spPr>
          <a:xfrm>
            <a:off x="250920" y="31417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Nadawca reklamy stara si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wp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yn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ąć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erswazyjnie na odbiorc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tak, aby on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2" name="Obraz 13" descr="nutki.jpg"/>
          <p:cNvPicPr/>
          <p:nvPr/>
        </p:nvPicPr>
        <p:blipFill>
          <a:blip r:embed="rId3"/>
          <a:stretch/>
        </p:blipFill>
        <p:spPr>
          <a:xfrm>
            <a:off x="6732720" y="134136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13" name="Obraz 14" descr="5711410874_9904985dfc_m.jpg"/>
          <p:cNvPicPr/>
          <p:nvPr/>
        </p:nvPicPr>
        <p:blipFill>
          <a:blip r:embed="rId4"/>
          <a:srcRect l="20177" t="0" r="0" b="0"/>
          <a:stretch/>
        </p:blipFill>
        <p:spPr>
          <a:xfrm>
            <a:off x="0" y="0"/>
            <a:ext cx="2417760" cy="189396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6"/>
          <p:cNvSpPr/>
          <p:nvPr/>
        </p:nvSpPr>
        <p:spPr>
          <a:xfrm>
            <a:off x="1835280" y="6922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Reklama posługuje się różnymi środkami perswazji, aby nakłonić odbiorcę do wyboru danego produktu na rynku (środki językowe, fotografie, kolor, muzyka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1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16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17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21" name="Prostokąt 7"/>
          <p:cNvSpPr/>
          <p:nvPr/>
        </p:nvSpPr>
        <p:spPr>
          <a:xfrm>
            <a:off x="0" y="26028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zaje reklam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22" name="Diagram 10" descr=""/>
          <p:cNvPicPr/>
          <p:nvPr/>
        </p:nvPicPr>
        <p:blipFill>
          <a:blip r:embed="rId2"/>
          <a:stretch/>
        </p:blipFill>
        <p:spPr>
          <a:xfrm>
            <a:off x="171360" y="944640"/>
            <a:ext cx="8369280" cy="1834920"/>
          </a:xfrm>
          <a:prstGeom prst="rect">
            <a:avLst/>
          </a:prstGeom>
          <a:ln w="0">
            <a:noFill/>
          </a:ln>
        </p:spPr>
      </p:pic>
      <p:pic>
        <p:nvPicPr>
          <p:cNvPr id="123" name="Diagram 11" descr=""/>
          <p:cNvPicPr/>
          <p:nvPr/>
        </p:nvPicPr>
        <p:blipFill>
          <a:blip r:embed="rId3"/>
          <a:stretch/>
        </p:blipFill>
        <p:spPr>
          <a:xfrm>
            <a:off x="171360" y="2816280"/>
            <a:ext cx="8369280" cy="18349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12" descr=""/>
          <p:cNvPicPr/>
          <p:nvPr/>
        </p:nvPicPr>
        <p:blipFill>
          <a:blip r:embed="rId4"/>
          <a:stretch/>
        </p:blipFill>
        <p:spPr>
          <a:xfrm>
            <a:off x="244440" y="4687920"/>
            <a:ext cx="83631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6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27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701280"/>
            <a:ext cx="385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dstawienie nowego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j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, jak produkt dział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j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 udoskonal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informowanie o zmianie cen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sugerowanie nowego zastosowania produkt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2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32" name="Prostokąt 6"/>
          <p:cNvSpPr/>
          <p:nvPr/>
        </p:nvSpPr>
        <p:spPr>
          <a:xfrm>
            <a:off x="0" y="40464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informacyjn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4067280" y="263700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udowanie lojaln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wobec fir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g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e klientów kup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marki   konkurencyjn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nie hurtowników i detalistów do sprzed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produktów konkretnej fir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onywanie konsumentów do zmiany nastawienia wobec danej marki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4285080" y="22766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konkurencyjn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5" name="Prostokąt 9"/>
          <p:cNvSpPr/>
          <p:nvPr/>
        </p:nvSpPr>
        <p:spPr>
          <a:xfrm>
            <a:off x="0" y="3357720"/>
            <a:ext cx="37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trzymanie obecnych klientów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w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enie cz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tliw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zakupu danej mar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pomnienie i podk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lanie historii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trzymywanie dominacji marki w danej kategorii produkt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6" name="Prostokąt 10"/>
          <p:cNvSpPr/>
          <p:nvPr/>
        </p:nvSpPr>
        <p:spPr>
          <a:xfrm>
            <a:off x="178560" y="2997360"/>
            <a:ext cx="32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przypominaj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7" name="Dowolny kształt 12"/>
          <p:cNvSpPr/>
          <p:nvPr/>
        </p:nvSpPr>
        <p:spPr>
          <a:xfrm>
            <a:off x="1258920" y="5516640"/>
            <a:ext cx="6553080" cy="925560"/>
          </a:xfrm>
          <a:prstGeom prst="pi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240" rIns="111240" tIns="111240" bIns="11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lem g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nym dzi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owych jest zwi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enie sprzed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38" name="Obraz 14" descr="cell.jpg"/>
          <p:cNvPicPr/>
          <p:nvPr/>
        </p:nvPicPr>
        <p:blipFill>
          <a:blip r:embed="rId2"/>
          <a:srcRect l="0" t="0" r="2116" b="0"/>
          <a:stretch/>
        </p:blipFill>
        <p:spPr>
          <a:xfrm>
            <a:off x="4356000" y="0"/>
            <a:ext cx="3600720" cy="2206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0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4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9:23:04Z</dcterms:created>
  <dc:creator>x</dc:creator>
  <dc:description/>
  <dc:language>en-US</dc:language>
  <cp:lastModifiedBy>Marta</cp:lastModifiedBy>
  <dcterms:modified xsi:type="dcterms:W3CDTF">2013-01-31T14:49:55Z</dcterms:modified>
  <cp:revision>60</cp:revision>
  <dc:subject/>
  <dc:title>Slajd 1</dc:title>
</cp:coreProperties>
</file>