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56.png" ContentType="image/png"/>
  <Override PartName="/ppt/media/image55.png" ContentType="image/png"/>
  <Override PartName="/ppt/media/image58.jpeg" ContentType="image/jpeg"/>
  <Override PartName="/ppt/media/image28.png" ContentType="image/png"/>
  <Override PartName="/ppt/media/image20.png" ContentType="image/png"/>
  <Override PartName="/ppt/media/image57.png" ContentType="image/png"/>
  <Override PartName="/ppt/media/image13.jpeg" ContentType="image/jpeg"/>
  <Override PartName="/ppt/media/image23.png" ContentType="image/png"/>
  <Override PartName="/ppt/media/image33.jpeg" ContentType="image/jpeg"/>
  <Override PartName="/ppt/media/image27.png" ContentType="image/png"/>
  <Override PartName="/ppt/media/image10.jpeg" ContentType="image/jpeg"/>
  <Override PartName="/ppt/media/image63.jpeg" ContentType="image/jpeg"/>
  <Override PartName="/ppt/media/image61.jpeg" ContentType="image/jpeg"/>
  <Override PartName="/ppt/media/image40.png" ContentType="image/png"/>
  <Override PartName="/ppt/media/image4.png" ContentType="image/png"/>
  <Override PartName="/ppt/media/image7.jpeg" ContentType="image/jpeg"/>
  <Override PartName="/ppt/media/image16.png" ContentType="image/png"/>
  <Override PartName="/ppt/media/image60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21.png" ContentType="image/png"/>
  <Override PartName="/ppt/media/image62.jpeg" ContentType="image/jpeg"/>
  <Override PartName="/ppt/media/image19.png" ContentType="image/png"/>
  <Override PartName="/ppt/media/image1.png" ContentType="image/png"/>
  <Override PartName="/ppt/media/image32.jpeg" ContentType="image/jpeg"/>
  <Override PartName="/ppt/media/image12.jpeg" ContentType="image/jpeg"/>
  <Override PartName="/ppt/media/image29.jpeg" ContentType="image/jpeg"/>
  <Override PartName="/ppt/media/image65.png" ContentType="image/png"/>
  <Override PartName="/ppt/media/image26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47.png" ContentType="image/png"/>
  <Override PartName="/ppt/media/image64.jpeg" ContentType="image/jpeg"/>
  <Override PartName="/ppt/media/image39.png" ContentType="image/png"/>
  <Override PartName="/ppt/media/image41.jpeg" ContentType="image/jpeg"/>
  <Override PartName="/ppt/media/image54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9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5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ACF-D4A1-4F6D-855A-CD41F51B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BFE-CE5F-4F04-B439-B4089070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EA0-2F20-4F02-9CD1-512A407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A80-B10C-477E-A5BB-F2F299A3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744-9747-4FE3-813A-54A6B4F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325-3B81-4E8E-B41F-5E1F0AC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E67-2862-42F8-9059-F718379A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7D5-6151-45DC-AFCC-043FB23B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7B8-F3D6-410D-BF2A-C8A6E49D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4B4-8CDB-496C-BCF4-F401723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B52-C259-406B-AFBA-1BFE82F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F7A-48C1-4B4F-B824-55D9F7F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DFFA-B255-4E5E-8601-1C15FC094904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4.png"/><Relationship Id="rId7" Type="http://schemas.openxmlformats.org/officeDocument/2006/relationships/image" Target="../media/image34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3.png"/><Relationship Id="rId10" Type="http://schemas.openxmlformats.org/officeDocument/2006/relationships/image" Target="../media/image5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.png"/><Relationship Id="rId3" Type="http://schemas.openxmlformats.org/officeDocument/2006/relationships/image" Target="../media/image6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apitał ludzki"/>
          <p:cNvPicPr/>
          <p:nvPr/>
        </p:nvPicPr>
        <p:blipFill>
          <a:blip r:embed="rId1"/>
          <a:stretch/>
        </p:blipFill>
        <p:spPr>
          <a:xfrm>
            <a:off x="971640" y="5589720"/>
            <a:ext cx="7134120" cy="11142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93AA-FDF4-459A-8F40-D81F6394E160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Diagram 9" descr=""/>
          <p:cNvPicPr/>
          <p:nvPr/>
        </p:nvPicPr>
        <p:blipFill>
          <a:blip r:embed="rId2"/>
          <a:stretch/>
        </p:blipFill>
        <p:spPr>
          <a:xfrm>
            <a:off x="1852560" y="1981080"/>
            <a:ext cx="66391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12" descr="ok1.jpg"/>
          <p:cNvPicPr/>
          <p:nvPr/>
        </p:nvPicPr>
        <p:blipFill>
          <a:blip r:embed="rId1"/>
          <a:stretch/>
        </p:blipFill>
        <p:spPr>
          <a:xfrm>
            <a:off x="244440" y="2273400"/>
            <a:ext cx="3089160" cy="3798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upa 9"/>
          <p:cNvGrpSpPr/>
          <p:nvPr/>
        </p:nvGrpSpPr>
        <p:grpSpPr>
          <a:xfrm>
            <a:off x="0" y="5923080"/>
            <a:ext cx="676440" cy="934920"/>
            <a:chOff x="0" y="5923080"/>
            <a:chExt cx="67644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6764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04400" y="6210360"/>
              <a:ext cx="520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wzmacniające motywacj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7"/>
          <p:cNvSpPr/>
          <p:nvPr/>
        </p:nvSpPr>
        <p:spPr>
          <a:xfrm>
            <a:off x="179280" y="981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 i nagrody jest okupione sporym wysiłkiem i trud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długiej perspektywie czasu. Intuicyjnie stosujemy wówczas mechanizmy podtrzymujące motywację. n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Prostokąt zaokrąglony 8"/>
          <p:cNvGrpSpPr/>
          <p:nvPr/>
        </p:nvGrpSpPr>
        <p:grpSpPr>
          <a:xfrm>
            <a:off x="2955960" y="2389320"/>
            <a:ext cx="5383080" cy="920520"/>
            <a:chOff x="2955960" y="2389320"/>
            <a:chExt cx="5383080" cy="920520"/>
          </a:xfrm>
        </p:grpSpPr>
        <p:pic>
          <p:nvPicPr>
            <p:cNvPr id="155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2955960" y="238932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30480" y="2463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działaniu, a nie na cel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z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Prostokąt zaokrąglony 9"/>
          <p:cNvGrpSpPr/>
          <p:nvPr/>
        </p:nvGrpSpPr>
        <p:grpSpPr>
          <a:xfrm>
            <a:off x="2955960" y="3395520"/>
            <a:ext cx="5383080" cy="920880"/>
            <a:chOff x="2955960" y="3395520"/>
            <a:chExt cx="5383080" cy="920880"/>
          </a:xfrm>
        </p:grpSpPr>
        <p:pic>
          <p:nvPicPr>
            <p:cNvPr id="158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2955960" y="3395520"/>
              <a:ext cx="5383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030480" y="3471840"/>
              <a:ext cx="52434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centracja na aspekcie poznawczym – wiedzy i umiejętności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Prostokąt zaokrąglony 10"/>
          <p:cNvGrpSpPr/>
          <p:nvPr/>
        </p:nvGrpSpPr>
        <p:grpSpPr>
          <a:xfrm>
            <a:off x="2955960" y="4406760"/>
            <a:ext cx="5383080" cy="1281240"/>
            <a:chOff x="2955960" y="4406760"/>
            <a:chExt cx="5383080" cy="1281240"/>
          </a:xfrm>
        </p:grpSpPr>
        <p:pic>
          <p:nvPicPr>
            <p:cNvPr id="161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2955960" y="4406760"/>
              <a:ext cx="53830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48120" y="4497480"/>
              <a:ext cx="52084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zw. mechanizm drugiej połowy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„O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łowa już za mną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eraz będzie już z górki”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Prostokąt zaokrąglony 11"/>
          <p:cNvGrpSpPr/>
          <p:nvPr/>
        </p:nvGrpSpPr>
        <p:grpSpPr>
          <a:xfrm>
            <a:off x="2955960" y="5772240"/>
            <a:ext cx="5383080" cy="920520"/>
            <a:chOff x="2955960" y="5772240"/>
            <a:chExt cx="5383080" cy="920520"/>
          </a:xfrm>
        </p:grpSpPr>
        <p:pic>
          <p:nvPicPr>
            <p:cNvPr id="164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2955960" y="5772240"/>
              <a:ext cx="53830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030480" y="5846760"/>
              <a:ext cx="524340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agrody cząstkowe – za etapy wykonanej prac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upa 12"/>
          <p:cNvGrpSpPr/>
          <p:nvPr/>
        </p:nvGrpSpPr>
        <p:grpSpPr>
          <a:xfrm>
            <a:off x="0" y="476280"/>
            <a:ext cx="8796240" cy="5257800"/>
            <a:chOff x="0" y="476280"/>
            <a:chExt cx="8796240" cy="5257800"/>
          </a:xfrm>
        </p:grpSpPr>
        <p:pic>
          <p:nvPicPr>
            <p:cNvPr id="169" name="Obraz 13" descr="down.jpg"/>
            <p:cNvPicPr/>
            <p:nvPr/>
          </p:nvPicPr>
          <p:blipFill>
            <a:blip r:embed="rId1"/>
            <a:srcRect l="0" t="0" r="0" b="22047"/>
            <a:stretch/>
          </p:blipFill>
          <p:spPr>
            <a:xfrm>
              <a:off x="4572000" y="764280"/>
              <a:ext cx="4224240" cy="49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rostokąt 6"/>
            <p:cNvSpPr/>
            <p:nvPr/>
          </p:nvSpPr>
          <p:spPr>
            <a:xfrm>
              <a:off x="0" y="476280"/>
              <a:ext cx="83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ynniki osłabiające motywacj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rostokąt 7"/>
          <p:cNvSpPr/>
          <p:nvPr/>
        </p:nvSpPr>
        <p:spPr>
          <a:xfrm>
            <a:off x="179280" y="2492280"/>
            <a:ext cx="57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łabienie lub zanik motywacji może powod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Prostokąt zaokrąglony 8"/>
          <p:cNvGrpSpPr/>
          <p:nvPr/>
        </p:nvGrpSpPr>
        <p:grpSpPr>
          <a:xfrm>
            <a:off x="146160" y="3108240"/>
            <a:ext cx="5821200" cy="635040"/>
            <a:chOff x="146160" y="3108240"/>
            <a:chExt cx="5821200" cy="635040"/>
          </a:xfrm>
        </p:grpSpPr>
        <p:pic>
          <p:nvPicPr>
            <p:cNvPr id="176" name="Prostokąt zaokrąglony 8" descr=""/>
            <p:cNvPicPr/>
            <p:nvPr/>
          </p:nvPicPr>
          <p:blipFill>
            <a:blip r:embed="rId3"/>
            <a:stretch/>
          </p:blipFill>
          <p:spPr>
            <a:xfrm>
              <a:off x="146160" y="3108240"/>
              <a:ext cx="58212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08080" y="3168720"/>
              <a:ext cx="570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rak nagrody w sytuacji, kiedy cel osiąga się dłu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Prostokąt zaokrąglony 9"/>
          <p:cNvGrpSpPr/>
          <p:nvPr/>
        </p:nvGrpSpPr>
        <p:grpSpPr>
          <a:xfrm>
            <a:off x="146160" y="3828960"/>
            <a:ext cx="5821200" cy="633600"/>
            <a:chOff x="146160" y="3828960"/>
            <a:chExt cx="5821200" cy="633600"/>
          </a:xfrm>
        </p:grpSpPr>
        <p:pic>
          <p:nvPicPr>
            <p:cNvPr id="179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146160" y="3828960"/>
              <a:ext cx="582120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08080" y="3889440"/>
              <a:ext cx="57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dużo nagród przy mało ambitnych osiągnięci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Prostokąt zaokrąglony 10"/>
          <p:cNvGrpSpPr/>
          <p:nvPr/>
        </p:nvGrpSpPr>
        <p:grpSpPr>
          <a:xfrm>
            <a:off x="146160" y="4548240"/>
            <a:ext cx="5821200" cy="633240"/>
            <a:chOff x="146160" y="4548240"/>
            <a:chExt cx="5821200" cy="633240"/>
          </a:xfrm>
        </p:grpSpPr>
        <p:pic>
          <p:nvPicPr>
            <p:cNvPr id="182" name="Prostokąt zaokrąglony 10" descr=""/>
            <p:cNvPicPr/>
            <p:nvPr/>
          </p:nvPicPr>
          <p:blipFill>
            <a:blip r:embed="rId5"/>
            <a:stretch/>
          </p:blipFill>
          <p:spPr>
            <a:xfrm>
              <a:off x="146160" y="4548240"/>
              <a:ext cx="5821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08080" y="460836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byt wysoka motywacja przy podejmowaniu dział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Prostokąt zaokrąglony 11"/>
          <p:cNvGrpSpPr/>
          <p:nvPr/>
        </p:nvGrpSpPr>
        <p:grpSpPr>
          <a:xfrm>
            <a:off x="146160" y="5273640"/>
            <a:ext cx="5821200" cy="627120"/>
            <a:chOff x="146160" y="5273640"/>
            <a:chExt cx="5821200" cy="627120"/>
          </a:xfrm>
        </p:grpSpPr>
        <p:pic>
          <p:nvPicPr>
            <p:cNvPr id="185" name="Prostokąt zaokrąglony 11" descr=""/>
            <p:cNvPicPr/>
            <p:nvPr/>
          </p:nvPicPr>
          <p:blipFill>
            <a:blip r:embed="rId6"/>
            <a:stretch/>
          </p:blipFill>
          <p:spPr>
            <a:xfrm>
              <a:off x="146160" y="5273640"/>
              <a:ext cx="58212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08080" y="5329080"/>
              <a:ext cx="57038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nudzenie monotonnością działa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88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Obraz 16" descr="4642104431_6300613d18_m.jpg"/>
          <p:cNvPicPr/>
          <p:nvPr/>
        </p:nvPicPr>
        <p:blipFill>
          <a:blip r:embed="rId1"/>
          <a:stretch/>
        </p:blipFill>
        <p:spPr>
          <a:xfrm>
            <a:off x="2195640" y="4797360"/>
            <a:ext cx="3047760" cy="1803600"/>
          </a:xfrm>
          <a:prstGeom prst="rect">
            <a:avLst/>
          </a:prstGeom>
          <a:ln w="0">
            <a:noFill/>
          </a:ln>
        </p:spPr>
      </p:pic>
      <p:pic>
        <p:nvPicPr>
          <p:cNvPr id="190" name="Obraz 18" descr="3114842583_88351ea988_m.jpg"/>
          <p:cNvPicPr/>
          <p:nvPr/>
        </p:nvPicPr>
        <p:blipFill>
          <a:blip r:embed="rId2"/>
          <a:stretch/>
        </p:blipFill>
        <p:spPr>
          <a:xfrm>
            <a:off x="0" y="3789360"/>
            <a:ext cx="2104920" cy="2273400"/>
          </a:xfrm>
          <a:prstGeom prst="rect">
            <a:avLst/>
          </a:prstGeom>
          <a:ln w="0">
            <a:noFill/>
          </a:ln>
        </p:spPr>
      </p:pic>
      <p:pic>
        <p:nvPicPr>
          <p:cNvPr id="191" name="Obraz 15" descr="6494392133_6b5eee558d_m.jpg"/>
          <p:cNvPicPr/>
          <p:nvPr/>
        </p:nvPicPr>
        <p:blipFill>
          <a:blip r:embed="rId3"/>
          <a:stretch/>
        </p:blipFill>
        <p:spPr>
          <a:xfrm>
            <a:off x="6948360" y="3716280"/>
            <a:ext cx="1451160" cy="1452600"/>
          </a:xfrm>
          <a:prstGeom prst="rect">
            <a:avLst/>
          </a:prstGeom>
          <a:ln w="0">
            <a:noFill/>
          </a:ln>
        </p:spPr>
      </p:pic>
      <p:pic>
        <p:nvPicPr>
          <p:cNvPr id="192" name="Obraz 8" descr="5519745815_a1ff338481_m.jpg"/>
          <p:cNvPicPr/>
          <p:nvPr/>
        </p:nvPicPr>
        <p:blipFill>
          <a:blip r:embed="rId4"/>
          <a:stretch/>
        </p:blipFill>
        <p:spPr>
          <a:xfrm>
            <a:off x="5219640" y="4221000"/>
            <a:ext cx="2040120" cy="2040120"/>
          </a:xfrm>
          <a:prstGeom prst="rect">
            <a:avLst/>
          </a:prstGeom>
          <a:ln w="0">
            <a:noFill/>
          </a:ln>
        </p:spPr>
      </p:pic>
      <p:pic>
        <p:nvPicPr>
          <p:cNvPr id="193" name="Obraz 14" descr="4642109441_15521ec92d_m.jpg"/>
          <p:cNvPicPr/>
          <p:nvPr/>
        </p:nvPicPr>
        <p:blipFill>
          <a:blip r:embed="rId5"/>
          <a:stretch/>
        </p:blipFill>
        <p:spPr>
          <a:xfrm>
            <a:off x="6443640" y="5657760"/>
            <a:ext cx="1800360" cy="12002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250920" y="1064520"/>
            <a:ext cx="7993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ujemy w siebie, aby podnieść swoją wartość jako człowieka, zyskać więcej wiary w siebie i swoje możliwości oraz podnieść poczucie własnej wart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lepszą i przynoszącą najwięcej korzyści w dłuższej perspektywie czasu inwestycją jest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eduk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szkolna i pozaszkolna oraz samokształcenie. Liczy się również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rakt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gdyż to ona przygotowuje do podjęcia w przyszłości zadań zawodowych. Korzyści przynosi inwestycja w rozwijanie własnych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ainteresowa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pasj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i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alen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 Inwestując w siebie, należy również zadbać o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własn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zdrowie, o regenerację sil witalnych i relak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6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nwestowanie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raz 10" descr="5711410874_9904985dfc_m.jpg"/>
          <p:cNvPicPr/>
          <p:nvPr/>
        </p:nvPicPr>
        <p:blipFill>
          <a:blip r:embed="rId7"/>
          <a:stretch/>
        </p:blipFill>
        <p:spPr>
          <a:xfrm>
            <a:off x="3635280" y="3860640"/>
            <a:ext cx="1728720" cy="1081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3" descr=""/>
          <p:cNvPicPr/>
          <p:nvPr/>
        </p:nvPicPr>
        <p:blipFill>
          <a:blip r:embed="rId8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1" name="pole tekstowe 17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az 7" descr="plamm.jpg"/>
          <p:cNvPicPr/>
          <p:nvPr/>
        </p:nvPicPr>
        <p:blipFill>
          <a:blip r:embed="rId1"/>
          <a:srcRect l="2772" t="994" r="0" b="0"/>
          <a:stretch/>
        </p:blipFill>
        <p:spPr>
          <a:xfrm>
            <a:off x="2340000" y="3952800"/>
            <a:ext cx="3527280" cy="2905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0" y="1637640"/>
            <a:ext cx="83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iadanie pragnień, marzeń i celów sprawia, że motywacja rośnie i zaczynamy planować, jak osiągnąć swoje cele. Dzięki temu koncentrujemy się na tym, co ważne. Jeśli plan działania jest dobry, przemyślany, dokładnie opisujący efekt, jaki chcemy osiągnąć, a do tego realistyczny, to jest duża szansa, że będziemy doświadczać wysokiego poziomu motywacji do działania. Planowanie działań jest przydatne i pożyteczne, choć wcielenie planu w życie wymaga konsekwencji i czasem silnej w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rostokąt 6"/>
          <p:cNvSpPr/>
          <p:nvPr/>
        </p:nvSpPr>
        <p:spPr>
          <a:xfrm>
            <a:off x="0" y="40464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orzyści z planowania własnych działań i inwestowania w sie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0" y="112608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cel powinien być określony i zapisany tak, aby by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rostokąt 6"/>
          <p:cNvSpPr/>
          <p:nvPr/>
        </p:nvSpPr>
        <p:spPr>
          <a:xfrm>
            <a:off x="0" y="549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sada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Diagram 7" descr=""/>
          <p:cNvPicPr/>
          <p:nvPr/>
        </p:nvPicPr>
        <p:blipFill>
          <a:blip r:embed="rId2"/>
          <a:stretch/>
        </p:blipFill>
        <p:spPr>
          <a:xfrm>
            <a:off x="317520" y="167004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8" descr=""/>
          <p:cNvPicPr/>
          <p:nvPr/>
        </p:nvPicPr>
        <p:blipFill>
          <a:blip r:embed="rId3"/>
          <a:stretch/>
        </p:blipFill>
        <p:spPr>
          <a:xfrm>
            <a:off x="390600" y="2676600"/>
            <a:ext cx="8076960" cy="95724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9" descr=""/>
          <p:cNvPicPr/>
          <p:nvPr/>
        </p:nvPicPr>
        <p:blipFill>
          <a:blip r:embed="rId4"/>
          <a:stretch/>
        </p:blipFill>
        <p:spPr>
          <a:xfrm>
            <a:off x="317520" y="569916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10" descr=""/>
          <p:cNvPicPr/>
          <p:nvPr/>
        </p:nvPicPr>
        <p:blipFill>
          <a:blip r:embed="rId5"/>
          <a:stretch/>
        </p:blipFill>
        <p:spPr>
          <a:xfrm>
            <a:off x="317520" y="3687840"/>
            <a:ext cx="8077320" cy="95076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11" descr=""/>
          <p:cNvPicPr/>
          <p:nvPr/>
        </p:nvPicPr>
        <p:blipFill>
          <a:blip r:embed="rId6"/>
          <a:stretch/>
        </p:blipFill>
        <p:spPr>
          <a:xfrm>
            <a:off x="317520" y="4694400"/>
            <a:ext cx="8077320" cy="957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7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Obraz 15" descr="pen3.jpg"/>
          <p:cNvPicPr/>
          <p:nvPr/>
        </p:nvPicPr>
        <p:blipFill>
          <a:blip r:embed="rId1"/>
          <a:srcRect l="40557" t="0" r="0" b="24410"/>
          <a:stretch/>
        </p:blipFill>
        <p:spPr>
          <a:xfrm>
            <a:off x="5651640" y="4697280"/>
            <a:ext cx="2736720" cy="2160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395280" y="49431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pisywanie postępów wykonanych działań w kalendarz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anie daty końcowej na wykonanie zadania/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rostokąt 9"/>
          <p:cNvSpPr/>
          <p:nvPr/>
        </p:nvSpPr>
        <p:spPr>
          <a:xfrm>
            <a:off x="0" y="189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10"/>
          <p:cNvSpPr/>
          <p:nvPr/>
        </p:nvSpPr>
        <p:spPr>
          <a:xfrm>
            <a:off x="324000" y="90792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waluacja własnych działań polega na zbadaniu, na ile osiągnęliśmy zamierzone cele, na ile się do nich zbliżyliśmy, na jakim etapie jesteśmy poprzez tworzenie i sprawdzanie wykon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1"/>
          <p:cNvSpPr/>
          <p:nvPr/>
        </p:nvSpPr>
        <p:spPr>
          <a:xfrm>
            <a:off x="3492360" y="2565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miesięcz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tygodniow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lanów dziennych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12"/>
          <p:cNvSpPr/>
          <p:nvPr/>
        </p:nvSpPr>
        <p:spPr>
          <a:xfrm>
            <a:off x="395280" y="4508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ewaluacji własnych działań pomaga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az 14" descr="2496956264_1819136d2d_m.jpg"/>
          <p:cNvPicPr/>
          <p:nvPr/>
        </p:nvPicPr>
        <p:blipFill>
          <a:blip r:embed="rId3"/>
          <a:stretch/>
        </p:blipFill>
        <p:spPr>
          <a:xfrm>
            <a:off x="536400" y="2054160"/>
            <a:ext cx="2889360" cy="2170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Obraz 7" descr="4430990433_aea9b89de6_m.jpg"/>
          <p:cNvPicPr/>
          <p:nvPr/>
        </p:nvPicPr>
        <p:blipFill>
          <a:blip r:embed="rId1"/>
          <a:stretch/>
        </p:blipFill>
        <p:spPr>
          <a:xfrm>
            <a:off x="5357880" y="2200320"/>
            <a:ext cx="3554280" cy="35542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395280" y="1571760"/>
            <a:ext cx="561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ole zawodowe staramy się godzić z rolami społecznymi, rodzinnymi, zarówno przypisanymi nam przez innych ludzi, jak i tymi, które sami wybieramy. To wyraz naszej naturalnej tenden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rozwoju, do samodoskonalenia. W ten sposób chcemy osiągnąć satysfakcję, którą każdy z nas definiuje w sposób bardzo indywidualny. Każ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nas jest inny, mamy inne priorytety i inne cechy, predyspozycje, preferencje zawodowe i pasje życiowe, dlatego co innego będzie rozumiał przez pojęcie sukces i szczęśc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y aktywności zawodow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41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rostokąt 7"/>
          <p:cNvSpPr/>
          <p:nvPr/>
        </p:nvSpPr>
        <p:spPr>
          <a:xfrm>
            <a:off x="468360" y="90792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cech i czynnika Parsonsa-Hollanda zakłada, że każdy człowiek jest inny, posiada unikalne cechy (zestaw cech) i aby je w pełni wykorzystać powinien pracować w środowisku odpowiadającym tym cechom, aby być usatysfakcjonowanym życiem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rostokąt 8"/>
          <p:cNvSpPr/>
          <p:nvPr/>
        </p:nvSpPr>
        <p:spPr>
          <a:xfrm>
            <a:off x="0" y="234936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6 typów osobowości i sześć typów środowisk prac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az 10" descr="4425101358_0f2f80857a_m.jpg"/>
          <p:cNvPicPr/>
          <p:nvPr/>
        </p:nvPicPr>
        <p:blipFill>
          <a:blip r:embed="rId2"/>
          <a:stretch/>
        </p:blipFill>
        <p:spPr>
          <a:xfrm>
            <a:off x="2195640" y="4327560"/>
            <a:ext cx="4464000" cy="2530440"/>
          </a:xfrm>
          <a:prstGeom prst="rect">
            <a:avLst/>
          </a:prstGeom>
          <a:ln w="0">
            <a:noFill/>
          </a:ln>
        </p:spPr>
      </p:pic>
      <p:grpSp>
        <p:nvGrpSpPr>
          <p:cNvPr id="249" name="Prostokąt zaokrąglony 15"/>
          <p:cNvGrpSpPr/>
          <p:nvPr/>
        </p:nvGrpSpPr>
        <p:grpSpPr>
          <a:xfrm>
            <a:off x="5694480" y="3687840"/>
            <a:ext cx="2577960" cy="487440"/>
            <a:chOff x="5694480" y="3687840"/>
            <a:chExt cx="2577960" cy="487440"/>
          </a:xfrm>
        </p:grpSpPr>
        <p:pic>
          <p:nvPicPr>
            <p:cNvPr id="250" name="Prostokąt zaokrąglony 15" descr=""/>
            <p:cNvPicPr/>
            <p:nvPr/>
          </p:nvPicPr>
          <p:blipFill>
            <a:blip r:embed="rId3"/>
            <a:stretch/>
          </p:blipFill>
          <p:spPr>
            <a:xfrm>
              <a:off x="5694480" y="3687840"/>
              <a:ext cx="25779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745240" y="3738600"/>
              <a:ext cx="2477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eali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Prostokąt zaokrąglony 16"/>
          <p:cNvGrpSpPr/>
          <p:nvPr/>
        </p:nvGrpSpPr>
        <p:grpSpPr>
          <a:xfrm>
            <a:off x="2955960" y="3687840"/>
            <a:ext cx="2579760" cy="487440"/>
            <a:chOff x="2955960" y="3687840"/>
            <a:chExt cx="2579760" cy="487440"/>
          </a:xfrm>
        </p:grpSpPr>
        <p:pic>
          <p:nvPicPr>
            <p:cNvPr id="253" name="Prostokąt zaokrąglony 16" descr=""/>
            <p:cNvPicPr/>
            <p:nvPr/>
          </p:nvPicPr>
          <p:blipFill>
            <a:blip r:embed="rId4"/>
            <a:stretch/>
          </p:blipFill>
          <p:spPr>
            <a:xfrm>
              <a:off x="2955960" y="3687840"/>
              <a:ext cx="25797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00816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konwencjonal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Prostokąt zaokrąglony 17"/>
          <p:cNvGrpSpPr/>
          <p:nvPr/>
        </p:nvGrpSpPr>
        <p:grpSpPr>
          <a:xfrm>
            <a:off x="219240" y="3670200"/>
            <a:ext cx="2579400" cy="517680"/>
            <a:chOff x="219240" y="3670200"/>
            <a:chExt cx="2579400" cy="517680"/>
          </a:xfrm>
        </p:grpSpPr>
        <p:pic>
          <p:nvPicPr>
            <p:cNvPr id="256" name="Prostokąt zaokrąglony 17" descr=""/>
            <p:cNvPicPr/>
            <p:nvPr/>
          </p:nvPicPr>
          <p:blipFill>
            <a:blip r:embed="rId5"/>
            <a:stretch/>
          </p:blipFill>
          <p:spPr>
            <a:xfrm>
              <a:off x="219240" y="3670200"/>
              <a:ext cx="257940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72880" y="3738600"/>
              <a:ext cx="2478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rzedsiębior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Prostokąt zaokrąglony 18"/>
          <p:cNvGrpSpPr/>
          <p:nvPr/>
        </p:nvGrpSpPr>
        <p:grpSpPr>
          <a:xfrm>
            <a:off x="219240" y="3024360"/>
            <a:ext cx="2579400" cy="517320"/>
            <a:chOff x="219240" y="3024360"/>
            <a:chExt cx="2579400" cy="517320"/>
          </a:xfrm>
        </p:grpSpPr>
        <p:pic>
          <p:nvPicPr>
            <p:cNvPr id="259" name="Prostokąt zaokrąglony 18" descr=""/>
            <p:cNvPicPr/>
            <p:nvPr/>
          </p:nvPicPr>
          <p:blipFill>
            <a:blip r:embed="rId6"/>
            <a:stretch/>
          </p:blipFill>
          <p:spPr>
            <a:xfrm>
              <a:off x="219240" y="3024360"/>
              <a:ext cx="25794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7288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rtysty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Prostokąt zaokrąglony 19"/>
          <p:cNvGrpSpPr/>
          <p:nvPr/>
        </p:nvGrpSpPr>
        <p:grpSpPr>
          <a:xfrm>
            <a:off x="2955960" y="3035160"/>
            <a:ext cx="2579760" cy="489240"/>
            <a:chOff x="2955960" y="3035160"/>
            <a:chExt cx="2579760" cy="489240"/>
          </a:xfrm>
        </p:grpSpPr>
        <p:pic>
          <p:nvPicPr>
            <p:cNvPr id="262" name="Prostokąt zaokrąglony 19" descr=""/>
            <p:cNvPicPr/>
            <p:nvPr/>
          </p:nvPicPr>
          <p:blipFill>
            <a:blip r:embed="rId7"/>
            <a:stretch/>
          </p:blipFill>
          <p:spPr>
            <a:xfrm>
              <a:off x="2955960" y="3035160"/>
              <a:ext cx="25797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008160" y="3089160"/>
              <a:ext cx="2478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badawc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Prostokąt zaokrąglony 20"/>
          <p:cNvGrpSpPr/>
          <p:nvPr/>
        </p:nvGrpSpPr>
        <p:grpSpPr>
          <a:xfrm>
            <a:off x="5694480" y="3035160"/>
            <a:ext cx="2577960" cy="489240"/>
            <a:chOff x="5694480" y="3035160"/>
            <a:chExt cx="2577960" cy="489240"/>
          </a:xfrm>
        </p:grpSpPr>
        <p:pic>
          <p:nvPicPr>
            <p:cNvPr id="265" name="Prostokąt zaokrąglony 20" descr=""/>
            <p:cNvPicPr/>
            <p:nvPr/>
          </p:nvPicPr>
          <p:blipFill>
            <a:blip r:embed="rId8"/>
            <a:stretch/>
          </p:blipFill>
          <p:spPr>
            <a:xfrm>
              <a:off x="5694480" y="3035160"/>
              <a:ext cx="2577960" cy="4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745240" y="3089160"/>
              <a:ext cx="2477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połecz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3" descr=""/>
          <p:cNvPicPr/>
          <p:nvPr/>
        </p:nvPicPr>
        <p:blipFill>
          <a:blip r:embed="rId9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68" name="pole tekstowe 2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395280" y="2167200"/>
            <a:ext cx="838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7"/>
          <p:cNvSpPr/>
          <p:nvPr/>
        </p:nvSpPr>
        <p:spPr>
          <a:xfrm>
            <a:off x="250920" y="907920"/>
            <a:ext cx="785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psychodynamiczna wyjaśnia, skąd biorą się preferencje zawodow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łada występowanie 8 podstawowych grup zawodów, spośród których wybieramy nasz przyszły zawó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rostokąt 8"/>
          <p:cNvSpPr/>
          <p:nvPr/>
        </p:nvSpPr>
        <p:spPr>
          <a:xfrm>
            <a:off x="324000" y="2133720"/>
            <a:ext cx="799308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usług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doradcy, pracownicy opieki społecznej i ochrona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ontakty biznesow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sprzedawcy nieruchomości, ubezpieczeń, samochodów, doradcy PR, menedżerowie średniego szczebla, przedstawiciele handlow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organizacja</a:t>
            </a:r>
            <a:r>
              <a:rPr b="1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urzędnicy, pracownicy bi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technologi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projektanci, inżynierowie, konstruktorzy, pracownicy naukow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tu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– zawody związane z rolnictwem, leśnictwem, rybactwem, górnictwem, ochroną środowiska, ogrodnictw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n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matematyk, fizyk, chemi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kultur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edukacją, prawem, dziennikarstwem, polityk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sztuka i rozrywk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– zawody związane z muzyką, kinematografią, malarstwem, tańcem, choreografi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277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24000" y="1707120"/>
            <a:ext cx="9142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rostokąt 6"/>
          <p:cNvSpPr/>
          <p:nvPr/>
        </p:nvSpPr>
        <p:spPr>
          <a:xfrm>
            <a:off x="0" y="47628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do wyboru zaw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rostokąt 7"/>
          <p:cNvSpPr/>
          <p:nvPr/>
        </p:nvSpPr>
        <p:spPr>
          <a:xfrm>
            <a:off x="395280" y="1413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zdobycia zawodu, pracy i rozwijania kariery w określonym obszarze, rynku, branży itp. mogą nas motyw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raz 11" descr="4188972536_3afea8bebe_m.jpg"/>
          <p:cNvPicPr/>
          <p:nvPr/>
        </p:nvPicPr>
        <p:blipFill>
          <a:blip r:embed="rId2"/>
          <a:stretch/>
        </p:blipFill>
        <p:spPr>
          <a:xfrm>
            <a:off x="0" y="2625840"/>
            <a:ext cx="3564000" cy="3324240"/>
          </a:xfrm>
          <a:prstGeom prst="rect">
            <a:avLst/>
          </a:prstGeom>
          <a:ln w="0">
            <a:noFill/>
          </a:ln>
        </p:spPr>
      </p:pic>
      <p:grpSp>
        <p:nvGrpSpPr>
          <p:cNvPr id="285" name="Prostokąt zaokrąglony 10"/>
          <p:cNvGrpSpPr/>
          <p:nvPr/>
        </p:nvGrpSpPr>
        <p:grpSpPr>
          <a:xfrm>
            <a:off x="4614840" y="2316240"/>
            <a:ext cx="2644920" cy="487440"/>
            <a:chOff x="4614840" y="2316240"/>
            <a:chExt cx="2644920" cy="487440"/>
          </a:xfrm>
        </p:grpSpPr>
        <p:pic>
          <p:nvPicPr>
            <p:cNvPr id="286" name="Prostokąt zaokrąglony 10" descr=""/>
            <p:cNvPicPr/>
            <p:nvPr/>
          </p:nvPicPr>
          <p:blipFill>
            <a:blip r:embed="rId3"/>
            <a:stretch/>
          </p:blipFill>
          <p:spPr>
            <a:xfrm>
              <a:off x="4614840" y="231624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65600" y="237024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ieniądz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Prostokąt zaokrąglony 12"/>
          <p:cNvGrpSpPr/>
          <p:nvPr/>
        </p:nvGrpSpPr>
        <p:grpSpPr>
          <a:xfrm>
            <a:off x="4614840" y="2822400"/>
            <a:ext cx="2644920" cy="487440"/>
            <a:chOff x="4614840" y="2822400"/>
            <a:chExt cx="2644920" cy="487440"/>
          </a:xfrm>
        </p:grpSpPr>
        <p:pic>
          <p:nvPicPr>
            <p:cNvPr id="289" name="Prostokąt zaokrąglony 12" descr=""/>
            <p:cNvPicPr/>
            <p:nvPr/>
          </p:nvPicPr>
          <p:blipFill>
            <a:blip r:embed="rId4"/>
            <a:stretch/>
          </p:blipFill>
          <p:spPr>
            <a:xfrm>
              <a:off x="4614840" y="282240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665600" y="2873520"/>
              <a:ext cx="25495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tyl ży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Prostokąt zaokrąglony 13"/>
          <p:cNvGrpSpPr/>
          <p:nvPr/>
        </p:nvGrpSpPr>
        <p:grpSpPr>
          <a:xfrm>
            <a:off x="4614840" y="3328920"/>
            <a:ext cx="2644920" cy="487440"/>
            <a:chOff x="4614840" y="3328920"/>
            <a:chExt cx="2644920" cy="487440"/>
          </a:xfrm>
        </p:grpSpPr>
        <p:pic>
          <p:nvPicPr>
            <p:cNvPr id="292" name="Prostokąt zaokrąglony 13" descr=""/>
            <p:cNvPicPr/>
            <p:nvPr/>
          </p:nvPicPr>
          <p:blipFill>
            <a:blip r:embed="rId5"/>
            <a:stretch/>
          </p:blipFill>
          <p:spPr>
            <a:xfrm>
              <a:off x="4614840" y="332892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65600" y="337824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uk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Prostokąt zaokrąglony 14"/>
          <p:cNvGrpSpPr/>
          <p:nvPr/>
        </p:nvGrpSpPr>
        <p:grpSpPr>
          <a:xfrm>
            <a:off x="4614840" y="3828960"/>
            <a:ext cx="2644920" cy="846360"/>
            <a:chOff x="4614840" y="3828960"/>
            <a:chExt cx="2644920" cy="846360"/>
          </a:xfrm>
        </p:grpSpPr>
        <p:pic>
          <p:nvPicPr>
            <p:cNvPr id="295" name="Prostokąt zaokrąglony 14" descr=""/>
            <p:cNvPicPr/>
            <p:nvPr/>
          </p:nvPicPr>
          <p:blipFill>
            <a:blip r:embed="rId6"/>
            <a:stretch/>
          </p:blipFill>
          <p:spPr>
            <a:xfrm>
              <a:off x="4614840" y="3828960"/>
              <a:ext cx="26449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4683240" y="3900600"/>
              <a:ext cx="25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0920" algn="ctr">
                <a:lnSpc>
                  <a:spcPct val="100000"/>
                </a:lnSpc>
                <a:tabLst>
                  <a:tab algn="l" pos="0"/>
                  <a:tab algn="l" pos="571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ni ludzie, znajomi, rodzina, osoby znaczące (autorytet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Prostokąt zaokrąglony 15"/>
          <p:cNvGrpSpPr/>
          <p:nvPr/>
        </p:nvGrpSpPr>
        <p:grpSpPr>
          <a:xfrm>
            <a:off x="4614840" y="4694400"/>
            <a:ext cx="2644920" cy="487080"/>
            <a:chOff x="4614840" y="4694400"/>
            <a:chExt cx="2644920" cy="487080"/>
          </a:xfrm>
        </p:grpSpPr>
        <p:pic>
          <p:nvPicPr>
            <p:cNvPr id="298" name="Prostokąt zaokrąglony 15" descr=""/>
            <p:cNvPicPr/>
            <p:nvPr/>
          </p:nvPicPr>
          <p:blipFill>
            <a:blip r:embed="rId7"/>
            <a:stretch/>
          </p:blipFill>
          <p:spPr>
            <a:xfrm>
              <a:off x="4614840" y="469440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665600" y="4746600"/>
              <a:ext cx="25495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bowiąz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Prostokąt zaokrąglony 16"/>
          <p:cNvGrpSpPr/>
          <p:nvPr/>
        </p:nvGrpSpPr>
        <p:grpSpPr>
          <a:xfrm>
            <a:off x="4614840" y="5200560"/>
            <a:ext cx="2644920" cy="487440"/>
            <a:chOff x="4614840" y="5200560"/>
            <a:chExt cx="2644920" cy="487440"/>
          </a:xfrm>
        </p:grpSpPr>
        <p:pic>
          <p:nvPicPr>
            <p:cNvPr id="301" name="Prostokąt zaokrąglony 16" descr=""/>
            <p:cNvPicPr/>
            <p:nvPr/>
          </p:nvPicPr>
          <p:blipFill>
            <a:blip r:embed="rId8"/>
            <a:stretch/>
          </p:blipFill>
          <p:spPr>
            <a:xfrm>
              <a:off x="4614840" y="5200560"/>
              <a:ext cx="26449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65600" y="5249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ład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Prostokąt zaokrąglony 17"/>
          <p:cNvGrpSpPr/>
          <p:nvPr/>
        </p:nvGrpSpPr>
        <p:grpSpPr>
          <a:xfrm>
            <a:off x="4614840" y="5699160"/>
            <a:ext cx="2644920" cy="488880"/>
            <a:chOff x="4614840" y="5699160"/>
            <a:chExt cx="2644920" cy="488880"/>
          </a:xfrm>
        </p:grpSpPr>
        <p:pic>
          <p:nvPicPr>
            <p:cNvPr id="304" name="Prostokąt zaokrąglony 17" descr=""/>
            <p:cNvPicPr/>
            <p:nvPr/>
          </p:nvPicPr>
          <p:blipFill>
            <a:blip r:embed="rId9"/>
            <a:stretch/>
          </p:blipFill>
          <p:spPr>
            <a:xfrm>
              <a:off x="4614840" y="5699160"/>
              <a:ext cx="26449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665600" y="5754600"/>
              <a:ext cx="254952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zacun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Prostokąt zaokrąglony 18"/>
          <p:cNvGrpSpPr/>
          <p:nvPr/>
        </p:nvGrpSpPr>
        <p:grpSpPr>
          <a:xfrm>
            <a:off x="4614840" y="6205680"/>
            <a:ext cx="2644920" cy="487080"/>
            <a:chOff x="4614840" y="6205680"/>
            <a:chExt cx="2644920" cy="487080"/>
          </a:xfrm>
        </p:grpSpPr>
        <p:pic>
          <p:nvPicPr>
            <p:cNvPr id="307" name="Prostokąt zaokrąglony 18" descr=""/>
            <p:cNvPicPr/>
            <p:nvPr/>
          </p:nvPicPr>
          <p:blipFill>
            <a:blip r:embed="rId10"/>
            <a:stretch/>
          </p:blipFill>
          <p:spPr>
            <a:xfrm>
              <a:off x="4614840" y="6205680"/>
              <a:ext cx="264492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4665600" y="6257880"/>
              <a:ext cx="2549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du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3" descr=""/>
          <p:cNvPicPr/>
          <p:nvPr/>
        </p:nvPicPr>
        <p:blipFill>
          <a:blip r:embed="rId11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10" name="pole tekstowe 2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352880"/>
            <a:ext cx="83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to potrzeba, chęć, pragnienie, impuls do wykonania jakiegoś zadania lub osiągnięcia postawionego przed sobą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rostokąt 11"/>
          <p:cNvSpPr/>
          <p:nvPr/>
        </p:nvSpPr>
        <p:spPr>
          <a:xfrm>
            <a:off x="0" y="40464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efinicj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227844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63300"/>
                </a:solidFill>
                <a:latin typeface="Times New Roman CE"/>
                <a:ea typeface="Times New Roman"/>
              </a:rPr>
              <a:t>Motywacj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to mechanizm, który uruchamia i porządkuje ludzkie działanie oraz kieruje je na osiągnięcie upragnionego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4305600" cy="318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Obraz 9" descr="4642715118_efae83edca_m.jpg"/>
          <p:cNvPicPr/>
          <p:nvPr/>
        </p:nvPicPr>
        <p:blipFill>
          <a:blip r:embed="rId1"/>
          <a:stretch/>
        </p:blipFill>
        <p:spPr>
          <a:xfrm>
            <a:off x="565164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395280" y="2427480"/>
            <a:ext cx="729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jęliśmy decyz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myśleliśmy ją dokład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znaczyliśmy cel, do którego chcemy dążyć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staliliśmy etapy niezbędne do jego osiągnię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kreśliliśmy horyzont czasu, konkretną datę osiągnięcia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sny wybór a obowią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rostokąt 7"/>
          <p:cNvSpPr/>
          <p:nvPr/>
        </p:nvSpPr>
        <p:spPr>
          <a:xfrm>
            <a:off x="250920" y="907920"/>
            <a:ext cx="806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by poznać, co nas motywuje do działania, warto zastanowić się, jakie czynności i zadania wykonujemy na co dzień (w szkole, w pracy, w domu) z ochotą, a które wykonujemy z obowiąz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ma szanse na długo być impulsem do działania wtedy, gdy s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rostokąt 8"/>
          <p:cNvSpPr/>
          <p:nvPr/>
        </p:nvSpPr>
        <p:spPr>
          <a:xfrm>
            <a:off x="611280" y="4653000"/>
            <a:ext cx="536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iągnięcie celu, podniesie poziomu naszej samooceny i wiary we własne siły przyczyni się do wzrostu motywacji do działania  oraz pozytywnego myślenia w przyszł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0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780000" y="1859400"/>
            <a:ext cx="446400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lubią, boją się, lekceważą planowa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konsekwentne w dążeniu do cel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ierzą w sieb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ą przekonane, że osiągnięcie celu da  im  sukces, szczęście, satysfa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6560" indent="-323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niosły wcześniej porażk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6"/>
          <p:cNvSpPr/>
          <p:nvPr/>
        </p:nvSpPr>
        <p:spPr>
          <a:xfrm>
            <a:off x="0" y="18900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rostokąt 7"/>
          <p:cNvSpPr/>
          <p:nvPr/>
        </p:nvSpPr>
        <p:spPr>
          <a:xfrm>
            <a:off x="0" y="836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blemy z motywacją do działania mogą mieć osoby, któ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raz 8" descr="afraid.jpg"/>
          <p:cNvPicPr/>
          <p:nvPr/>
        </p:nvPicPr>
        <p:blipFill>
          <a:blip r:embed="rId2"/>
          <a:srcRect l="0" t="5917" r="0" b="0"/>
          <a:stretch/>
        </p:blipFill>
        <p:spPr>
          <a:xfrm>
            <a:off x="0" y="1341360"/>
            <a:ext cx="3754440" cy="4583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29" name="pole tekstowe 10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raz 9" descr="cry.jpg"/>
          <p:cNvPicPr/>
          <p:nvPr/>
        </p:nvPicPr>
        <p:blipFill>
          <a:blip r:embed="rId1"/>
          <a:stretch/>
        </p:blipFill>
        <p:spPr>
          <a:xfrm>
            <a:off x="5364000" y="3902040"/>
            <a:ext cx="2968920" cy="2955960"/>
          </a:xfrm>
          <a:prstGeom prst="rect">
            <a:avLst/>
          </a:prstGeom>
          <a:ln w="0">
            <a:noFill/>
          </a:ln>
        </p:spPr>
      </p:pic>
      <p:pic>
        <p:nvPicPr>
          <p:cNvPr id="331" name="Obraz 8" descr="happy3.jpg"/>
          <p:cNvPicPr/>
          <p:nvPr/>
        </p:nvPicPr>
        <p:blipFill>
          <a:blip r:embed="rId2"/>
          <a:srcRect l="6994" t="2582" r="6179" b="5902"/>
          <a:stretch/>
        </p:blipFill>
        <p:spPr>
          <a:xfrm>
            <a:off x="0" y="0"/>
            <a:ext cx="2448000" cy="27097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1547640" y="1852920"/>
            <a:ext cx="65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bardziej pozytywne emocje, tym lepsze rezultaty działania. Im bardziej chcemy, tym bardziej nam zależy na wyniku, czyli motywacja rośnie i tym bardziej się staramy. Postawa „chcę” zakłada poniesienie pełnej odpowiedzialności za swoje czyny, działania i wszelką aktywność, tak samo jak przyjęcie postawy asertyw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rostokąt 6"/>
          <p:cNvSpPr/>
          <p:nvPr/>
        </p:nvSpPr>
        <p:spPr>
          <a:xfrm>
            <a:off x="1547640" y="476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rostokąt 7"/>
          <p:cNvSpPr/>
          <p:nvPr/>
        </p:nvSpPr>
        <p:spPr>
          <a:xfrm>
            <a:off x="179280" y="4221000"/>
            <a:ext cx="576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Emocje negatywne związane z postawą „muszę” dopuszczają przyjęcie postawy roszczeniowej, możliwość obwiniania innych, jeśli poniesiemy porażkę, Postawa „muszę” wynika często z poczucia obowiązku, że należy czy wręcz trzeba coś wykonać, nawet jeśli nie bardzo chce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3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"/>
          <p:cNvSpPr/>
          <p:nvPr/>
        </p:nvSpPr>
        <p:spPr>
          <a:xfrm>
            <a:off x="324000" y="163368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e ciekawi świata, chcący zgłębić mechanizmy działania, poznać kultury, innych ludzi i ich poglądy odznaczają się wysokim poziomem motywacji wewnętrzn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trach przed nowością może spowodować zaniechanie dział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rostokąt 6"/>
          <p:cNvSpPr/>
          <p:nvPr/>
        </p:nvSpPr>
        <p:spPr>
          <a:xfrm>
            <a:off x="0" y="69228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iekawość poznawcza a motywac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Obraz 6" descr="wykrzyknik.jpg"/>
          <p:cNvPicPr/>
          <p:nvPr/>
        </p:nvPicPr>
        <p:blipFill>
          <a:blip r:embed="rId2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46" name="Tytuł 1"/>
          <p:cNvSpPr/>
          <p:nvPr/>
        </p:nvSpPr>
        <p:spPr>
          <a:xfrm>
            <a:off x="0" y="407664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rostokąt 9"/>
          <p:cNvSpPr/>
          <p:nvPr/>
        </p:nvSpPr>
        <p:spPr>
          <a:xfrm>
            <a:off x="324000" y="501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sza wytrwałość w dążeniu do celu w pewnym sensie zależy pośrednio także od tego, na ile jesteśmy ciekawi poznawania nowych rzeczy i świ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49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Obraz 8" descr="march2.jpg"/>
          <p:cNvPicPr/>
          <p:nvPr/>
        </p:nvPicPr>
        <p:blipFill>
          <a:blip r:embed="rId1"/>
          <a:stretch/>
        </p:blipFill>
        <p:spPr>
          <a:xfrm>
            <a:off x="5724360" y="0"/>
            <a:ext cx="2646360" cy="1984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395280" y="1702800"/>
            <a:ext cx="770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Ludzi można motywować karą (kijem) albo nagrodą (marchewk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związku z tym, że każdy z nas jest inny, na niektórych bardziej motywująco będzie działać wizja otrzymania nagrody, na innych bardziej motywująco będzie działać chęć uniknięcia kary lub poraż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obnie jest w życiu zawodowym, niektórzy pracodawcy wychodz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ałożenia, że na pracowników działa pozytywnie i motywująco nagroda pieniężna lub słowna pochwała, a na innych upomnienie lub kara wpisana do akt osobowych albo zabranie prowizji, czyli zmniejszenie doch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rostokąt 6"/>
          <p:cNvSpPr/>
          <p:nvPr/>
        </p:nvSpPr>
        <p:spPr>
          <a:xfrm>
            <a:off x="0" y="765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j czy marchew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raz 9" descr="marchewka.jpg"/>
          <p:cNvPicPr/>
          <p:nvPr/>
        </p:nvPicPr>
        <p:blipFill>
          <a:blip r:embed="rId3"/>
          <a:stretch/>
        </p:blipFill>
        <p:spPr>
          <a:xfrm>
            <a:off x="2771640" y="4888080"/>
            <a:ext cx="2952720" cy="1538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5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0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raz 7" descr="5605508431_7435fc10a4_m.jpg"/>
          <p:cNvPicPr/>
          <p:nvPr/>
        </p:nvPicPr>
        <p:blipFill>
          <a:blip r:embed="rId1"/>
          <a:stretch/>
        </p:blipFill>
        <p:spPr>
          <a:xfrm>
            <a:off x="5076720" y="1773360"/>
            <a:ext cx="3251160" cy="31683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24000" y="14148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istotna dla uruchomienia, ukierunkowania, podtrzym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akończenia bądź zaniechania dział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62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rostokąt 6"/>
          <p:cNvSpPr/>
          <p:nvPr/>
        </p:nvSpPr>
        <p:spPr>
          <a:xfrm>
            <a:off x="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rostokąt 8"/>
          <p:cNvSpPr/>
          <p:nvPr/>
        </p:nvSpPr>
        <p:spPr>
          <a:xfrm>
            <a:off x="684360" y="3141720"/>
            <a:ext cx="47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puls do działania może pochodz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 zewnątrz lub z wewnątr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rostokąt 9"/>
          <p:cNvSpPr/>
          <p:nvPr/>
        </p:nvSpPr>
        <p:spPr>
          <a:xfrm>
            <a:off x="395280" y="486900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działania motywuje nas sytuacja braku zaspokojenia naszych potrz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amy naturalną tendencję do osiągania sukcesów oraz obawę przed porażk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68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0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rostokąt 6"/>
          <p:cNvSpPr/>
          <p:nvPr/>
        </p:nvSpPr>
        <p:spPr>
          <a:xfrm>
            <a:off x="0" y="404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sumowa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7"/>
          <p:cNvSpPr/>
          <p:nvPr/>
        </p:nvSpPr>
        <p:spPr>
          <a:xfrm>
            <a:off x="324000" y="1341360"/>
            <a:ext cx="770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jest procesem niezwykle złożonym, skomplikowa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zmienny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inaczej określa i definiuje siebie, swoje życiowe i zawodowe cele. Każdy z nas inaczej zamierza, planuje (albo i nie) do nich dotrzeć, osiągnąć je. Robimy to dla kogoś z naszego najbliższego otoczenia albo dla samego siebie. A biorąc pod uwagę fakt, że jesteśmy różni, odmienn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mamy inne doświadczenia życiowe i zawodowe, co innego będzie nas motywowało do działania lub do powstrzymania się od określonej aktyw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3436920" cy="2181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376" name="pole tekstowe 9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987640" y="1279800"/>
            <a:ext cx="525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z nas jest inny, inaczej postrzega świat, inaczej go pojmuje, inaczej myśli, zachowuje się, uczy, odpoczywa, ma inne talenty, predyspozycje, preferencje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ego z nas co innego pcha do działania, zachęca do ponoszenia trudu i wysiłku, poświęcania czasu czy rezygnowania z wyg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bierności na rzecz aktywnego zach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osiągnięcia cel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naczenie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6" descr="wykrzyknik.jpg"/>
          <p:cNvPicPr/>
          <p:nvPr/>
        </p:nvPicPr>
        <p:blipFill>
          <a:blip r:embed="rId2"/>
          <a:stretch/>
        </p:blipFill>
        <p:spPr>
          <a:xfrm>
            <a:off x="5219640" y="436572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63" name="Tytuł 1"/>
          <p:cNvSpPr/>
          <p:nvPr/>
        </p:nvSpPr>
        <p:spPr>
          <a:xfrm>
            <a:off x="0" y="450864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rostokąt 9"/>
          <p:cNvSpPr/>
          <p:nvPr/>
        </p:nvSpPr>
        <p:spPr>
          <a:xfrm>
            <a:off x="611280" y="5516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ażne, aby spróbować odkryć i nazwać to, co jest naszym czynnikiem motywującym, gdyż jest to podstawa naszego dział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 funkcjonowania w świecie społecznym i zawodow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az 10" descr="5977975656_c27a11a092_m.jpg"/>
          <p:cNvPicPr/>
          <p:nvPr/>
        </p:nvPicPr>
        <p:blipFill>
          <a:blip r:embed="rId3"/>
          <a:stretch/>
        </p:blipFill>
        <p:spPr>
          <a:xfrm>
            <a:off x="0" y="141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67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az 9" descr="5188796921_49eab4609a_m.jpg"/>
          <p:cNvPicPr/>
          <p:nvPr/>
        </p:nvPicPr>
        <p:blipFill>
          <a:blip r:embed="rId1"/>
          <a:stretch/>
        </p:blipFill>
        <p:spPr>
          <a:xfrm>
            <a:off x="0" y="1484280"/>
            <a:ext cx="4608360" cy="4608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4284720" y="958320"/>
            <a:ext cx="48592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0" rIns="900000" tIns="900000" bIns="9000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ieniądz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ładz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zdrość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u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bowiąz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uk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dzie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e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rywalizac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atriotyz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i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zynniki motywujące – źródła motyw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rostokąt 7"/>
          <p:cNvSpPr/>
          <p:nvPr/>
        </p:nvSpPr>
        <p:spPr>
          <a:xfrm>
            <a:off x="693000" y="1197000"/>
            <a:ext cx="33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Źródłem motywacji mogą by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3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11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7"/>
          <p:cNvSpPr/>
          <p:nvPr/>
        </p:nvSpPr>
        <p:spPr>
          <a:xfrm>
            <a:off x="179280" y="1125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dług A. Maslowa człowiek jest motywowany chęcią zaspokojenia potrze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ójkąt równoramienny 9"/>
          <p:cNvSpPr/>
          <p:nvPr/>
        </p:nvSpPr>
        <p:spPr>
          <a:xfrm>
            <a:off x="755640" y="1844640"/>
            <a:ext cx="4495680" cy="449568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upa 10"/>
          <p:cNvGrpSpPr/>
          <p:nvPr/>
        </p:nvGrpSpPr>
        <p:grpSpPr>
          <a:xfrm>
            <a:off x="2916360" y="2205000"/>
            <a:ext cx="4959360" cy="530280"/>
            <a:chOff x="2916360" y="2205000"/>
            <a:chExt cx="4959360" cy="530280"/>
          </a:xfrm>
        </p:grpSpPr>
        <p:sp>
          <p:nvSpPr>
            <p:cNvPr id="84" name="Prostokąt zaokrąglony 11"/>
            <p:cNvSpPr/>
            <p:nvPr/>
          </p:nvSpPr>
          <p:spPr>
            <a:xfrm>
              <a:off x="2916360" y="2205000"/>
              <a:ext cx="4959360" cy="530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12"/>
            <p:cNvSpPr/>
            <p:nvPr/>
          </p:nvSpPr>
          <p:spPr>
            <a:xfrm>
              <a:off x="2941560" y="2230200"/>
              <a:ext cx="490860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5</a:t>
              </a:r>
              <a:r>
                <a:rPr b="1" lang="pl-PL" sz="18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. samorealizacji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spełnienia, rozwoj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3"/>
          <p:cNvGrpSpPr/>
          <p:nvPr/>
        </p:nvGrpSpPr>
        <p:grpSpPr>
          <a:xfrm>
            <a:off x="2916360" y="2997360"/>
            <a:ext cx="4967280" cy="610920"/>
            <a:chOff x="2916360" y="2997360"/>
            <a:chExt cx="4967280" cy="610920"/>
          </a:xfrm>
        </p:grpSpPr>
        <p:sp>
          <p:nvSpPr>
            <p:cNvPr id="87" name="Prostokąt zaokrąglony 14"/>
            <p:cNvSpPr/>
            <p:nvPr/>
          </p:nvSpPr>
          <p:spPr>
            <a:xfrm>
              <a:off x="2916360" y="2997360"/>
              <a:ext cx="495936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5"/>
            <p:cNvSpPr/>
            <p:nvPr/>
          </p:nvSpPr>
          <p:spPr>
            <a:xfrm>
              <a:off x="2987640" y="3068640"/>
              <a:ext cx="4896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4. szacunku i uznania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ze strony szefa, kolegów, rodz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siebie sameg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6"/>
          <p:cNvGrpSpPr/>
          <p:nvPr/>
        </p:nvGrpSpPr>
        <p:grpSpPr>
          <a:xfrm>
            <a:off x="2916360" y="3860640"/>
            <a:ext cx="4959360" cy="613080"/>
            <a:chOff x="2916360" y="3860640"/>
            <a:chExt cx="4959360" cy="613080"/>
          </a:xfrm>
        </p:grpSpPr>
        <p:sp>
          <p:nvSpPr>
            <p:cNvPr id="90" name="Prostokąt zaokrąglony 17"/>
            <p:cNvSpPr/>
            <p:nvPr/>
          </p:nvSpPr>
          <p:spPr>
            <a:xfrm>
              <a:off x="2916360" y="3860640"/>
              <a:ext cx="4959360" cy="6130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8"/>
            <p:cNvSpPr/>
            <p:nvPr/>
          </p:nvSpPr>
          <p:spPr>
            <a:xfrm>
              <a:off x="2959200" y="3890520"/>
              <a:ext cx="4873680" cy="55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3. przynależności i miłości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przyjaźni, rodziny, akceptacji grup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9"/>
          <p:cNvGrpSpPr/>
          <p:nvPr/>
        </p:nvGrpSpPr>
        <p:grpSpPr>
          <a:xfrm>
            <a:off x="2916360" y="4724280"/>
            <a:ext cx="4959360" cy="612720"/>
            <a:chOff x="2916360" y="4724280"/>
            <a:chExt cx="4959360" cy="612720"/>
          </a:xfrm>
        </p:grpSpPr>
        <p:sp>
          <p:nvSpPr>
            <p:cNvPr id="93" name="Prostokąt zaokrąglony 20"/>
            <p:cNvSpPr/>
            <p:nvPr/>
          </p:nvSpPr>
          <p:spPr>
            <a:xfrm>
              <a:off x="2916360" y="4724280"/>
              <a:ext cx="4959360" cy="612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rostokąt 21"/>
            <p:cNvSpPr/>
            <p:nvPr/>
          </p:nvSpPr>
          <p:spPr>
            <a:xfrm>
              <a:off x="2977920" y="4754160"/>
              <a:ext cx="48358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2. bezpieczeństwa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- fizycznego (dachu nad głow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emocjonalnego (ochrona przed przemocą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upa 22"/>
          <p:cNvGrpSpPr/>
          <p:nvPr/>
        </p:nvGrpSpPr>
        <p:grpSpPr>
          <a:xfrm>
            <a:off x="2843280" y="5589720"/>
            <a:ext cx="4960800" cy="610920"/>
            <a:chOff x="2843280" y="5589720"/>
            <a:chExt cx="4960800" cy="610920"/>
          </a:xfrm>
        </p:grpSpPr>
        <p:sp>
          <p:nvSpPr>
            <p:cNvPr id="96" name="Prostokąt zaokrąglony 23"/>
            <p:cNvSpPr/>
            <p:nvPr/>
          </p:nvSpPr>
          <p:spPr>
            <a:xfrm>
              <a:off x="2843280" y="5589720"/>
              <a:ext cx="4960800" cy="610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rostokąt 24"/>
            <p:cNvSpPr/>
            <p:nvPr/>
          </p:nvSpPr>
          <p:spPr>
            <a:xfrm>
              <a:off x="2904840" y="5619600"/>
              <a:ext cx="483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pl-PL" sz="16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1. fizjologicznych </a:t>
              </a: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- snu, głodu, pragnieni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3" descr=""/>
          <p:cNvPicPr/>
          <p:nvPr/>
        </p:nvPicPr>
        <p:blipFill>
          <a:blip r:embed="rId2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26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916360" y="1804320"/>
            <a:ext cx="52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4 to potrzeby deficytu/niedobo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5 – to potrzeby rozwoju/wzro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1-2 to potrzeby niższe (egzystencj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trzeby 3-5 to potrzeby wyższe (emocjonal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rostokąt 6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hierarchii potrzeb Abrahama Maslow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az 6" descr="wykrzyknik.jpg"/>
          <p:cNvPicPr/>
          <p:nvPr/>
        </p:nvPicPr>
        <p:blipFill>
          <a:blip r:embed="rId2"/>
          <a:stretch/>
        </p:blipFill>
        <p:spPr>
          <a:xfrm>
            <a:off x="5219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Tytuł 1"/>
          <p:cNvSpPr/>
          <p:nvPr/>
        </p:nvSpPr>
        <p:spPr>
          <a:xfrm>
            <a:off x="0" y="4221000"/>
            <a:ext cx="8408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rostokąt 9"/>
          <p:cNvSpPr/>
          <p:nvPr/>
        </p:nvSpPr>
        <p:spPr>
          <a:xfrm>
            <a:off x="179280" y="508464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Bez zaspokojenia potrzeb niższych trudno oczekiwać, że jako motywator do działania zadziałają potrzeby wyższe. Nasze potrzeby zmieniają się w zależności od wieku, sytuacji, otoczenia it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ch hierarchia jest zależna od tego, jaką osobą jesteś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raz 10" descr="3825384260_c6ab3d62a6_m.jpg"/>
          <p:cNvPicPr/>
          <p:nvPr/>
        </p:nvPicPr>
        <p:blipFill>
          <a:blip r:embed="rId3"/>
          <a:stretch/>
        </p:blipFill>
        <p:spPr>
          <a:xfrm>
            <a:off x="468360" y="1268280"/>
            <a:ext cx="2352600" cy="324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12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2"/>
          <p:cNvGrpSpPr/>
          <p:nvPr/>
        </p:nvGrpSpPr>
        <p:grpSpPr>
          <a:xfrm>
            <a:off x="0" y="907920"/>
            <a:ext cx="8739360" cy="3257640"/>
            <a:chOff x="0" y="907920"/>
            <a:chExt cx="8739360" cy="3257640"/>
          </a:xfrm>
        </p:grpSpPr>
        <p:pic>
          <p:nvPicPr>
            <p:cNvPr id="112" name="Obraz 8" descr="4094399747_a1c6a5fe54_m.jpg"/>
            <p:cNvPicPr/>
            <p:nvPr/>
          </p:nvPicPr>
          <p:blipFill>
            <a:blip r:embed="rId1"/>
            <a:srcRect l="1969" t="3455" r="0" b="0"/>
            <a:stretch/>
          </p:blipFill>
          <p:spPr>
            <a:xfrm>
              <a:off x="5148000" y="907920"/>
              <a:ext cx="3591360" cy="32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rostokąt 7"/>
            <p:cNvSpPr/>
            <p:nvPr/>
          </p:nvSpPr>
          <p:spPr>
            <a:xfrm>
              <a:off x="0" y="1483920"/>
              <a:ext cx="529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 wewnątrzsterowny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am motywuje się do działania i wyznacza cele. Nie zniechęca go otoczenie, jest niezależny od akceptacji jego działań przez innych ludzi. Potrafi sam się nagrodzić „emocjonalnie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dowartościować w dłuższej perspektywie czasu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upa 11"/>
          <p:cNvGrpSpPr/>
          <p:nvPr/>
        </p:nvGrpSpPr>
        <p:grpSpPr>
          <a:xfrm>
            <a:off x="900000" y="3809880"/>
            <a:ext cx="7344000" cy="3048120"/>
            <a:chOff x="900000" y="3809880"/>
            <a:chExt cx="7344000" cy="3048120"/>
          </a:xfrm>
        </p:grpSpPr>
        <p:pic>
          <p:nvPicPr>
            <p:cNvPr id="115" name="Obraz 10" descr="q1.jpg"/>
            <p:cNvPicPr/>
            <p:nvPr/>
          </p:nvPicPr>
          <p:blipFill>
            <a:blip r:embed="rId2"/>
            <a:stretch/>
          </p:blipFill>
          <p:spPr>
            <a:xfrm>
              <a:off x="900000" y="3809880"/>
              <a:ext cx="1866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1"/>
            <p:cNvSpPr/>
            <p:nvPr/>
          </p:nvSpPr>
          <p:spPr>
            <a:xfrm>
              <a:off x="2412000" y="4446360"/>
              <a:ext cx="5832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Człowieka zewnątrzsterownego</a:t>
              </a:r>
              <a:r>
                <a:rPr b="0" lang="pl-PL" sz="2000" spc="-1" strike="noStrike">
                  <a:solidFill>
                    <a:srgbClr val="6633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motywuje do działania to, co jest na zewnątrz – otoczenie. Osiąga swoje cele dla innych, a tylko po części dla siebie. Liczy się dla niego zdanie i pochwała innych ludzi. Istotne jest poczucie bycia doceniony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akceptowanym przez innych poprzez pieniądz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 nagrody material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rostokąt 6"/>
          <p:cNvSpPr/>
          <p:nvPr/>
        </p:nvSpPr>
        <p:spPr>
          <a:xfrm>
            <a:off x="0" y="40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ewnątrzsterowność i zewnątrzsterow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1"/>
          <p:cNvGrpSpPr/>
          <p:nvPr/>
        </p:nvGrpSpPr>
        <p:grpSpPr>
          <a:xfrm>
            <a:off x="0" y="1052640"/>
            <a:ext cx="8244000" cy="2903400"/>
            <a:chOff x="0" y="1052640"/>
            <a:chExt cx="8244000" cy="2903400"/>
          </a:xfrm>
        </p:grpSpPr>
        <p:pic>
          <p:nvPicPr>
            <p:cNvPr id="124" name="Obraz 10" descr="5520320362_fc1796b6a0_m.jpg"/>
            <p:cNvPicPr/>
            <p:nvPr/>
          </p:nvPicPr>
          <p:blipFill>
            <a:blip r:embed="rId1"/>
            <a:stretch/>
          </p:blipFill>
          <p:spPr>
            <a:xfrm>
              <a:off x="0" y="1052640"/>
              <a:ext cx="3291480" cy="28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1"/>
            <p:cNvSpPr/>
            <p:nvPr/>
          </p:nvSpPr>
          <p:spPr>
            <a:xfrm>
              <a:off x="2771640" y="1422720"/>
              <a:ext cx="5472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Ludzie mają tendencję do osiągania sukcesu i do unikania porażki. Sukces to odczuwanie pozytywnych emocji w sytuacjach zadaniowych, spostrzeganych jako wyzwani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czucie sukcesu jest najwyższe, gdy zadanie nie jest ani zbyt łatwe, ani zbyt trudne. Przy zadaniach postrzeganych jako zbyt trudne, motywacja jest nisk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rostokąt 6"/>
          <p:cNvSpPr/>
          <p:nvPr/>
        </p:nvSpPr>
        <p:spPr>
          <a:xfrm>
            <a:off x="0" y="33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oria motywacji osiągnięć Johna W. Atkinso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6" descr="wykrzyknik.jpg"/>
          <p:cNvPicPr/>
          <p:nvPr/>
        </p:nvPicPr>
        <p:blipFill>
          <a:blip r:embed="rId3"/>
          <a:stretch/>
        </p:blipFill>
        <p:spPr>
          <a:xfrm>
            <a:off x="5003640" y="407664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31" name="Tytuł 1"/>
          <p:cNvSpPr/>
          <p:nvPr/>
        </p:nvSpPr>
        <p:spPr>
          <a:xfrm>
            <a:off x="0" y="4365720"/>
            <a:ext cx="8408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pamięt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9"/>
          <p:cNvSpPr/>
          <p:nvPr/>
        </p:nvSpPr>
        <p:spPr>
          <a:xfrm>
            <a:off x="395280" y="515772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Im łatwiejsze zadanie do wykonania, tym gorzej będzie się czuł ktoś, kto go nie wykona. Jeśli zadanie było trudne, to niepowodzenie możemy uznać za „uzasadnione”. Największa tendencj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nikan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rażki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ystępu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 zadaniach średniotrud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"/>
          <p:cNvPicPr/>
          <p:nvPr/>
        </p:nvPicPr>
        <p:blipFill>
          <a:blip r:embed="rId4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13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258920" y="27936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Arial CE"/>
                  <a:ea typeface="Arial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rostokąt 6"/>
          <p:cNvSpPr/>
          <p:nvPr/>
        </p:nvSpPr>
        <p:spPr>
          <a:xfrm>
            <a:off x="0" y="260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Funkcje procesu motywacyj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7"/>
          <p:cNvSpPr/>
          <p:nvPr/>
        </p:nvSpPr>
        <p:spPr>
          <a:xfrm>
            <a:off x="266400" y="9079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tywacja to mechanizmy odpowiedzialne 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rostokąt 8"/>
          <p:cNvSpPr/>
          <p:nvPr/>
        </p:nvSpPr>
        <p:spPr>
          <a:xfrm>
            <a:off x="539640" y="522612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kończenie działania czynników motywujących następuje wówcza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, kiedy stan aktualny, w który się znajdujemy, jest zbieżny z tym stanem, który chcieliśmy osiągnąć, z celem, który założyliśmy. O tym, że osiągnęliśmy sukces, możemy dowiedzieć się również od innych ludzi, kiedy otrzymamy od nich informację zwrot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Diagram 9" descr=""/>
          <p:cNvPicPr/>
          <p:nvPr/>
        </p:nvPicPr>
        <p:blipFill>
          <a:blip r:embed="rId2"/>
          <a:stretch/>
        </p:blipFill>
        <p:spPr>
          <a:xfrm>
            <a:off x="-6480" y="1444680"/>
            <a:ext cx="5553360" cy="841320"/>
          </a:xfrm>
          <a:prstGeom prst="rect">
            <a:avLst/>
          </a:prstGeom>
          <a:ln w="0">
            <a:noFill/>
          </a:ln>
        </p:spPr>
      </p:pic>
      <p:pic>
        <p:nvPicPr>
          <p:cNvPr id="143" name="Diagram 10" descr=""/>
          <p:cNvPicPr/>
          <p:nvPr/>
        </p:nvPicPr>
        <p:blipFill>
          <a:blip r:embed="rId3"/>
          <a:stretch/>
        </p:blipFill>
        <p:spPr>
          <a:xfrm>
            <a:off x="2114640" y="3316320"/>
            <a:ext cx="5560920" cy="841320"/>
          </a:xfrm>
          <a:prstGeom prst="rect">
            <a:avLst/>
          </a:prstGeom>
          <a:ln w="0">
            <a:noFill/>
          </a:ln>
        </p:spPr>
      </p:pic>
      <p:pic>
        <p:nvPicPr>
          <p:cNvPr id="144" name="Diagram 11" descr=""/>
          <p:cNvPicPr/>
          <p:nvPr/>
        </p:nvPicPr>
        <p:blipFill>
          <a:blip r:embed="rId4"/>
          <a:stretch/>
        </p:blipFill>
        <p:spPr>
          <a:xfrm>
            <a:off x="895320" y="2378160"/>
            <a:ext cx="5554800" cy="841320"/>
          </a:xfrm>
          <a:prstGeom prst="rect">
            <a:avLst/>
          </a:prstGeom>
          <a:ln w="0">
            <a:noFill/>
          </a:ln>
        </p:spPr>
      </p:pic>
      <p:pic>
        <p:nvPicPr>
          <p:cNvPr id="145" name="Diagram 12" descr=""/>
          <p:cNvPicPr/>
          <p:nvPr/>
        </p:nvPicPr>
        <p:blipFill>
          <a:blip r:embed="rId5"/>
          <a:stretch/>
        </p:blipFill>
        <p:spPr>
          <a:xfrm>
            <a:off x="2981160" y="4181400"/>
            <a:ext cx="5559480" cy="908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"/>
          <p:cNvPicPr/>
          <p:nvPr/>
        </p:nvPicPr>
        <p:blipFill>
          <a:blip r:embed="rId6"/>
          <a:stretch/>
        </p:blipFill>
        <p:spPr>
          <a:xfrm>
            <a:off x="8667720" y="476280"/>
            <a:ext cx="476280" cy="54936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4"/>
          <p:cNvSpPr/>
          <p:nvPr/>
        </p:nvSpPr>
        <p:spPr>
          <a:xfrm rot="5400000">
            <a:off x="6015240" y="372960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KARIERA ZAWOD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16:18:17Z</dcterms:created>
  <dc:creator>x</dc:creator>
  <dc:description/>
  <dc:language>en-US</dc:language>
  <cp:lastModifiedBy>Gosia</cp:lastModifiedBy>
  <dcterms:modified xsi:type="dcterms:W3CDTF">2013-01-31T18:27:06Z</dcterms:modified>
  <cp:revision>89</cp:revision>
  <dc:subject/>
  <dc:title>Slajd 1</dc:title>
</cp:coreProperties>
</file>