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13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5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976-1BB7-4537-A150-C0B38C9B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D8F-9A62-4D0D-8AE9-6FAB829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5416-F81D-4517-922D-BD2C3AF4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5B8-FA6F-48DB-B678-81F9B508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999-8CD8-412F-8F7F-4F36D548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902-3C80-41C4-9B44-CE7377D2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3F5-D908-4457-ABFC-79621B4D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136-00A9-43C2-ABE5-08236B7B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482-5767-42C3-992D-922318AC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AFCC-C07F-4EBE-AA4B-7F6F3690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FBBF-DC22-4C38-950B-6BD782C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CDC-B51C-47FD-AD68-E320347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B2D-DC93-4630-A0EF-E4FEF5FD5D2A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png"/><Relationship Id="rId3" Type="http://schemas.openxmlformats.org/officeDocument/2006/relationships/image" Target="../media/image2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Kapitał ludzki"/>
          <p:cNvPicPr/>
          <p:nvPr/>
        </p:nvPicPr>
        <p:blipFill>
          <a:blip r:embed="rId2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3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CCD-1E7F-4084-B327-4E82FB68097F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Diagram 9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6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7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agram 5" descr=""/>
          <p:cNvPicPr/>
          <p:nvPr/>
        </p:nvPicPr>
        <p:blipFill>
          <a:blip r:embed="rId1"/>
          <a:stretch/>
        </p:blipFill>
        <p:spPr>
          <a:xfrm>
            <a:off x="-1047600" y="2597040"/>
            <a:ext cx="1034388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8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11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agram 6" descr=""/>
          <p:cNvPicPr/>
          <p:nvPr/>
        </p:nvPicPr>
        <p:blipFill>
          <a:blip r:embed="rId1"/>
          <a:stretch/>
        </p:blipFill>
        <p:spPr>
          <a:xfrm>
            <a:off x="-1268280" y="2444760"/>
            <a:ext cx="10204200" cy="257796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7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ole tekstowe 10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7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rostokąt 6"/>
          <p:cNvSpPr/>
          <p:nvPr/>
        </p:nvSpPr>
        <p:spPr>
          <a:xfrm>
            <a:off x="395280" y="404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brew stereotypowym przekonaniom stres nie niesie ze sobą tylko aspektu negatywn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8" descr="5128693306_df87f7d087_m.jpg"/>
          <p:cNvPicPr/>
          <p:nvPr/>
        </p:nvPicPr>
        <p:blipFill>
          <a:blip r:embed="rId2"/>
          <a:stretch/>
        </p:blipFill>
        <p:spPr>
          <a:xfrm>
            <a:off x="-6480" y="1335240"/>
            <a:ext cx="2206800" cy="2176200"/>
          </a:xfrm>
          <a:prstGeom prst="rect">
            <a:avLst/>
          </a:prstGeom>
          <a:ln w="0">
            <a:noFill/>
          </a:ln>
        </p:spPr>
      </p:pic>
      <p:pic>
        <p:nvPicPr>
          <p:cNvPr id="143" name="Obraz 9" descr="4480803194_11e14bf640_m.jpg"/>
          <p:cNvPicPr/>
          <p:nvPr/>
        </p:nvPicPr>
        <p:blipFill>
          <a:blip r:embed="rId3"/>
          <a:srcRect l="0" t="0" r="0" b="14698"/>
          <a:stretch/>
        </p:blipFill>
        <p:spPr>
          <a:xfrm>
            <a:off x="5796000" y="3716280"/>
            <a:ext cx="2531880" cy="2160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179280" y="3800160"/>
            <a:ext cx="59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powoduje dezorganizację naszych działań. Może się okazać, że nawet najprostsze zadania są niewykonalne, przerastają nasze możliwości. Taki nadmierny i szkodliwy stres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ystrese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Jeśli jego nasilenie jest zbyt mocne i utrzymuje się w czasie, może prowadzić w rezultacie do chorób psychosomatycznych (np. nadciśnienie, choroba wrzodowa, cukrzy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rostokąt 7"/>
          <p:cNvSpPr/>
          <p:nvPr/>
        </p:nvSpPr>
        <p:spPr>
          <a:xfrm>
            <a:off x="2050920" y="1341360"/>
            <a:ext cx="626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struktywny stres, niezbędny dla efektywnego funkcjonowania nazywamy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eustresem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uje on do pracy, nauki, wyzwala chęć do podejmowania trudnych zadań, zwiększa szybk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skuteczność działania. Mobilizuje w określonym czasie nasz organizm do wysiłku, powoduje, że czujemy, że jesteśmy w stanie przenosić góry. Kiedy zostaje już rozładowane napięcie emocjonalne towarzyszące stresowi, powraca spokój i pojaw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ię satysfakc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9" descr="sen2.jpg"/>
          <p:cNvPicPr/>
          <p:nvPr/>
        </p:nvPicPr>
        <p:blipFill>
          <a:blip r:embed="rId1"/>
          <a:stretch/>
        </p:blipFill>
        <p:spPr>
          <a:xfrm>
            <a:off x="4211640" y="1268280"/>
            <a:ext cx="3745080" cy="263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2411280" y="455940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izyczne napięcie ciał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ęk i zamęt w głow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wolnienie reflek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koncentracją i zdolnością normalnego myśle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burzenia koordynacji ruch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omin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ustanne zmęcz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czerp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3"/>
          <p:cNvSpPr/>
          <p:nvPr/>
        </p:nvSpPr>
        <p:spPr>
          <a:xfrm>
            <a:off x="250920" y="18900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potrzebuje do poprawnego funkcjonowania optymalnego poziomu stresu.  Optymalny poziom stresu to taki, w którym najlepiej nam się pracuje, kiedy czujemy się pełni energii i chęci do działania. Natomiast zbyt niski i wysoki poziom jest stanem zakłócającym i utrudniającym funkcjonowan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ostokąt 4"/>
          <p:cNvSpPr/>
          <p:nvPr/>
        </p:nvSpPr>
        <p:spPr>
          <a:xfrm>
            <a:off x="179280" y="1844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jętność, zniechęcenie, apat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udzenie, poczucie bezużyteczności, brak zainteres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chęć do działania i niską sprawnoś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mawianie sobie, że wszystko jest bezsensow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wierdzenie, że proste prace mają wartość bardzo wysokich zada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5"/>
          <p:cNvSpPr/>
          <p:nvPr/>
        </p:nvSpPr>
        <p:spPr>
          <a:xfrm>
            <a:off x="196560" y="14842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niski poziom stresu może wywoł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6"/>
          <p:cNvSpPr/>
          <p:nvPr/>
        </p:nvSpPr>
        <p:spPr>
          <a:xfrm>
            <a:off x="2502000" y="4221000"/>
            <a:ext cx="38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yt wysoki poziom stresu powod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Obraz 13" descr="5621211843_5c6d5d8735_m.jpg"/>
          <p:cNvPicPr/>
          <p:nvPr/>
        </p:nvPicPr>
        <p:blipFill>
          <a:blip r:embed="rId3"/>
          <a:stretch/>
        </p:blipFill>
        <p:spPr>
          <a:xfrm>
            <a:off x="755640" y="4292640"/>
            <a:ext cx="1773360" cy="2565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raz 5" descr="teamwork.jpg"/>
          <p:cNvPicPr/>
          <p:nvPr/>
        </p:nvPicPr>
        <p:blipFill>
          <a:blip r:embed="rId1"/>
          <a:stretch/>
        </p:blipFill>
        <p:spPr>
          <a:xfrm>
            <a:off x="3132000" y="3389400"/>
            <a:ext cx="5267520" cy="3468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990720" y="1856520"/>
            <a:ext cx="69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świadomość dobrej formy i dobrego funkcjon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rężenie fizy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ybki refleks w podejmowaniu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okie zaangażowanie w pracę, łatwość w realizowaniu zad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strzona uwaga i wiara we własne moż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i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ntuzjaz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taln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3"/>
          <p:cNvSpPr/>
          <p:nvPr/>
        </p:nvSpPr>
        <p:spPr>
          <a:xfrm>
            <a:off x="1979640" y="476280"/>
            <a:ext cx="48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ptymalny poziom stresu wywołuje pozytywne skutki, takie j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3"/>
          <p:cNvSpPr/>
          <p:nvPr/>
        </p:nvSpPr>
        <p:spPr>
          <a:xfrm>
            <a:off x="0" y="260280"/>
            <a:ext cx="83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Typ osobowośc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anego człowieka ma bezpośredni wpływ na to, w jaki sposób radzi on sobie z sytuacjami stresowymi oraz jaki rodzaj stresu może wyrządzić największe szko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4"/>
          <p:cNvSpPr/>
          <p:nvPr/>
        </p:nvSpPr>
        <p:spPr>
          <a:xfrm>
            <a:off x="971640" y="602136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A narażony jest na choroby kardiologicz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yp C na choroby nowotwor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agram 10" descr=""/>
          <p:cNvPicPr/>
          <p:nvPr/>
        </p:nvPicPr>
        <p:blipFill>
          <a:blip r:embed="rId1"/>
          <a:stretch/>
        </p:blipFill>
        <p:spPr>
          <a:xfrm>
            <a:off x="-981000" y="1225440"/>
            <a:ext cx="10490040" cy="1994040"/>
          </a:xfrm>
          <a:prstGeom prst="rect">
            <a:avLst/>
          </a:prstGeom>
          <a:ln w="0">
            <a:noFill/>
          </a:ln>
        </p:spPr>
      </p:pic>
      <p:pic>
        <p:nvPicPr>
          <p:cNvPr id="171" name="Diagram 11" descr=""/>
          <p:cNvPicPr/>
          <p:nvPr/>
        </p:nvPicPr>
        <p:blipFill>
          <a:blip r:embed="rId2"/>
          <a:stretch/>
        </p:blipFill>
        <p:spPr>
          <a:xfrm>
            <a:off x="-835200" y="3243240"/>
            <a:ext cx="10491840" cy="1566720"/>
          </a:xfrm>
          <a:prstGeom prst="rect">
            <a:avLst/>
          </a:prstGeom>
          <a:ln w="0">
            <a:noFill/>
          </a:ln>
        </p:spPr>
      </p:pic>
      <p:pic>
        <p:nvPicPr>
          <p:cNvPr id="172" name="Diagram 12" descr=""/>
          <p:cNvPicPr/>
          <p:nvPr/>
        </p:nvPicPr>
        <p:blipFill>
          <a:blip r:embed="rId3"/>
          <a:stretch/>
        </p:blipFill>
        <p:spPr>
          <a:xfrm>
            <a:off x="-615960" y="4900680"/>
            <a:ext cx="1048536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7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4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Obraz 5" descr="4770491776_d845cb072a_m.jpg"/>
          <p:cNvPicPr/>
          <p:nvPr/>
        </p:nvPicPr>
        <p:blipFill>
          <a:blip r:embed="rId1"/>
          <a:stretch/>
        </p:blipFill>
        <p:spPr>
          <a:xfrm>
            <a:off x="5796000" y="4386240"/>
            <a:ext cx="247176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923120" y="5163120"/>
            <a:ext cx="4438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kłonność do poświęc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wykle uprzej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ierna w obliczu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ustępliwa i skrywa emocji, szczegól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 negatywne, np. zł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az 6" descr="5631752624_ebd917278c_m.jpg"/>
          <p:cNvPicPr/>
          <p:nvPr/>
        </p:nvPicPr>
        <p:blipFill>
          <a:blip r:embed="rId2"/>
          <a:stretch/>
        </p:blipFill>
        <p:spPr>
          <a:xfrm>
            <a:off x="5435640" y="476280"/>
            <a:ext cx="2808360" cy="196524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7"/>
          <p:cNvSpPr/>
          <p:nvPr/>
        </p:nvSpPr>
        <p:spPr>
          <a:xfrm>
            <a:off x="179280" y="47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ągle dąży do perfekcj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silną chęć rywalizacji, wysokie ambicje, potrzebę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agresywna, niecierpliw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 dużą potrzebę niezależnoś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echuje się chronicznym brakiem zadowolenia ze swoich poczynań i osiągnię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a sobie cele i terminy trudne do osiągnię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8"/>
          <p:cNvSpPr/>
          <p:nvPr/>
        </p:nvSpPr>
        <p:spPr>
          <a:xfrm>
            <a:off x="1692360" y="357336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trwale i konsekwentnie dąży do realizacji wyznaczonych cel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niej się ekscyt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nie ocenia swoje szanse i możliwości, pracuje w swoim temp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9"/>
          <p:cNvSpPr/>
          <p:nvPr/>
        </p:nvSpPr>
        <p:spPr>
          <a:xfrm>
            <a:off x="69840" y="189000"/>
            <a:ext cx="32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 typu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0"/>
          <p:cNvSpPr/>
          <p:nvPr/>
        </p:nvSpPr>
        <p:spPr>
          <a:xfrm>
            <a:off x="1707120" y="328464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1"/>
          <p:cNvSpPr/>
          <p:nvPr/>
        </p:nvSpPr>
        <p:spPr>
          <a:xfrm>
            <a:off x="1851120" y="4869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soba o osobowości typu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7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15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1368360" cy="1566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91" name="pole tekstowe 15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Obraz 5" descr="4430991499_403c8e8bcd_m.jpg"/>
          <p:cNvPicPr/>
          <p:nvPr/>
        </p:nvPicPr>
        <p:blipFill>
          <a:blip r:embed="rId1"/>
          <a:stretch/>
        </p:blipFill>
        <p:spPr>
          <a:xfrm>
            <a:off x="179280" y="1989000"/>
            <a:ext cx="2438640" cy="3932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2411280" y="1850040"/>
            <a:ext cx="58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analizę logiczną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w sposób tak realistyczny, jak tylko jest to możli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nowną ocenę lub przeformułow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strzeganie sytuacji z innego punktu widzenia i próba dostrzeżenia jej dobrych str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zyjmowanie odpowiedzialności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zejmowanie kontroli i znajdowanie własnego miejsc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szukiwanie pomocy i wsparci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szenie o pomoc np. specjalis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rozwiązywanie problemów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pracowywanie alternatyw, dokonywanie wyborów i ocena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bieranie informa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bieranie dodatkowych informacji o stresorach w celu łatwiejszego radzenia sobie z ni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rostokąt 3"/>
          <p:cNvSpPr/>
          <p:nvPr/>
        </p:nvSpPr>
        <p:spPr>
          <a:xfrm>
            <a:off x="324000" y="333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ększość psychologów dzieli metody radzenia sobie ze stresem na dwie kategorie: </a:t>
            </a:r>
            <a:r>
              <a:rPr b="1" lang="pl-PL" sz="20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rocesy zbliżania i procesy unika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rostokąt 4"/>
          <p:cNvSpPr/>
          <p:nvPr/>
        </p:nvSpPr>
        <p:spPr>
          <a:xfrm>
            <a:off x="259560" y="1413000"/>
            <a:ext cx="35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zbliżeniowe obejmu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kąt 3"/>
          <p:cNvSpPr/>
          <p:nvPr/>
        </p:nvSpPr>
        <p:spPr>
          <a:xfrm>
            <a:off x="179280" y="4762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nie wymagają od nas takiej aktywności, polegają bardzi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radzeniu sobie w sposób bardziej pośred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4"/>
          <p:cNvSpPr/>
          <p:nvPr/>
        </p:nvSpPr>
        <p:spPr>
          <a:xfrm>
            <a:off x="220680" y="1557360"/>
            <a:ext cx="27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cesy unikania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raz 6" descr="4431759542_a81fef43e0_m.jpg"/>
          <p:cNvPicPr/>
          <p:nvPr/>
        </p:nvPicPr>
        <p:blipFill>
          <a:blip r:embed="rId1"/>
          <a:stretch/>
        </p:blipFill>
        <p:spPr>
          <a:xfrm>
            <a:off x="0" y="1989000"/>
            <a:ext cx="3328920" cy="33292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"/>
          <p:cNvSpPr/>
          <p:nvPr/>
        </p:nvSpPr>
        <p:spPr>
          <a:xfrm>
            <a:off x="3203640" y="2334600"/>
            <a:ext cx="51116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przecz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odmowa przyznania tego, że problem istnie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nikanie potencjalnego źródła stres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wrócenie uwagi lub poszukiwanie metod zastępcz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óba znalezienia satysfakcji w inny sposób, jak np. odreagowanie stresu związan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pracą poprzez obejrzenie dobrej komedii czy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ntylowanie emocj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krzyki, depresja, zamartwianie się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spokoje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mniejszenie poczucia napięcia poprzez narkotyki, alkohol, seks, przejadanie się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32857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osobów radzenia sobie ze stresem jest wiele, dlatego między ludźmi istnieje dość duże zróżnicowanie w ich wykorzystywaniu. Niektórzy podejmują działania, które mają za zadanie zwalczyć stres, uporać się z trudnościami, inni natomiast ograniczają się do obrony, tzn. do poprawienia swojego samopoczucia, opanowania objawów stresu. Pierwszą z postaw można nazwać walczącą, drugą obronn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az 3" descr="5328008843_b770e7d995_m.jpg"/>
          <p:cNvPicPr/>
          <p:nvPr/>
        </p:nvPicPr>
        <p:blipFill>
          <a:blip r:embed="rId1"/>
          <a:stretch/>
        </p:blipFill>
        <p:spPr>
          <a:xfrm>
            <a:off x="0" y="0"/>
            <a:ext cx="3048120" cy="3035160"/>
          </a:xfrm>
          <a:prstGeom prst="rect">
            <a:avLst/>
          </a:prstGeom>
          <a:ln w="0">
            <a:noFill/>
          </a:ln>
        </p:spPr>
      </p:pic>
      <p:sp>
        <p:nvSpPr>
          <p:cNvPr id="212" name="Prostokąt 5"/>
          <p:cNvSpPr/>
          <p:nvPr/>
        </p:nvSpPr>
        <p:spPr>
          <a:xfrm>
            <a:off x="270036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reaguje na stres. Jedni miotają się bezładnie, inni stają się agresywni, a jeszcze inni wycofują się i zamykają w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leży pamiętać, że zdolność pokonywania stresu zmienia się w miarę rozwoju zawodowego. Wykonując coraz trudniejsze zadania w sytuacjach stresujących, uczymy się wykonywać zadania jeszcze lepiej i tym samym nabywamy odporności na stres. Jednym słowem nie można uodpornić się na stres, unikając sytuacji stresując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rostokąt 6"/>
          <p:cNvSpPr/>
          <p:nvPr/>
        </p:nvSpPr>
        <p:spPr>
          <a:xfrm>
            <a:off x="971640" y="486900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hcąc poradzić sobie ze stresem, powinniśmy przede wszystkim ustalić własny poziom stresu, a więc to, co dla nas jest przyjemne lub nie, co stanowi zagrożenie lub przeszkodę. Powinniśmy również poznać, które aspekty naszej osobowości są szczególnie podatne na zranienie – brak sukcesów lub nadmierna ambicja, samoocena, oczekiwanie aprobaty czy np. deficyt w zakresie komunikowania si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18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755640" y="847080"/>
            <a:ext cx="720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e życie jest pełne pośpiechu i zmian, wyzwań i zagrożeń. Aby normalnie funkcjonować, musimy zrozumieć i przetworzyć tysiące informacji. Zmuszeni do nieustannej aktywności codziennie otrzymujemy znaczną dawkę stresu – w domu, szkole i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jest nieuniknioną częścią naszego życia. Aby móc radzić sobie w trudnych sytuacjach i umieć korzystać z tego, co w stresie jest pozytywne, warto wiedzieć o tym zjawisku jak najwięc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a 9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pole tekstowe 7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3267000" cy="339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5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Obraz 7" descr="6111973715_5478784772_m.jpg"/>
          <p:cNvPicPr/>
          <p:nvPr/>
        </p:nvPicPr>
        <p:blipFill>
          <a:blip r:embed="rId1"/>
          <a:stretch/>
        </p:blipFill>
        <p:spPr>
          <a:xfrm>
            <a:off x="0" y="2133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2843280" y="1542600"/>
            <a:ext cx="5329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owtarz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uczestnicząc w pewnym zdarzeniu wiele razy, np. rozmowie kwalifikacyjnej, publicznym wystąpieniu, możemy osiągnąć określony poziom swobody, pewności siebie, który pozwoli na pełną ekspresję naszych możliwośc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planowa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konując analizy wyimaginowanych przyczyn wywołujących stres, możemy dokonać również analizy możliwych sposobów odpowiedzi, reakcji na te zdarzenia, np. przygotowując się do rozmowy kwalifikacyjnej, rozmowy z pracodawc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 podwyż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unikani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jeśli określone zdarzenie będzie miało dla nas na pewno nieprzyjemny przebieg, a jednocześnie nie przyniesie żdnych korzyści, próba uniknięcia go jest optymalnym rozwiązani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rostokąt 6"/>
          <p:cNvSpPr/>
          <p:nvPr/>
        </p:nvSpPr>
        <p:spPr>
          <a:xfrm>
            <a:off x="0" y="7650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ntrolę poziomu stresu możemy osiągnąć m.in. po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900000" y="4802760"/>
            <a:ext cx="727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społecz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tóre zapewniają nam wsparcie, informacje i sugestie dotyczące rozwiązania problemu, zaliczymy m.in. członków rodziny, przyjaciół, partnerów, współpracow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radzeniu sobie ze stresem należy również uwzględnić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zasoby środowiskow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ieniądze, schronienie, opiekę zdrowotną, 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rostokąt 6"/>
          <p:cNvSpPr/>
          <p:nvPr/>
        </p:nvSpPr>
        <p:spPr>
          <a:xfrm>
            <a:off x="0" y="333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dzenie sobie ze stres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rostokąt 7"/>
          <p:cNvSpPr/>
          <p:nvPr/>
        </p:nvSpPr>
        <p:spPr>
          <a:xfrm>
            <a:off x="179280" y="90792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dolność, jaką posiadamy do radzenia sobie ze stresem, określimy mianem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dpornoś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Nasza odporność jest wynikiem interakcji pomiędzy naszymi osobistymi i społecznymi zasobami a naszymi próbami radzenia sob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rostokąt 8"/>
          <p:cNvSpPr/>
          <p:nvPr/>
        </p:nvSpPr>
        <p:spPr>
          <a:xfrm>
            <a:off x="179280" y="2349360"/>
            <a:ext cx="306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o zasobów osobistych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emy zaliczyć m.in. stałe cechy osobowości oraz poglądy i podejście do życia, które mogą pomóc nam w zwalczaniu wpływu stresu. Istotne również s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rostokąt 9"/>
          <p:cNvSpPr/>
          <p:nvPr/>
        </p:nvSpPr>
        <p:spPr>
          <a:xfrm>
            <a:off x="3348000" y="2421000"/>
            <a:ext cx="4896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amoocen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oparta na doświadczeniu wiara, że będziemy w stanie podołać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optymiz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pełne nadziei spoglądanie w przyszłość i oczekiwanie pozytywnych wynik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c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wewnętrzne umiejscowienie kontroli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ogląd, że pewne rzeczy są pod naszą kontrol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Obraz 11" descr="4095172484_9430062b54_m.jpg"/>
          <p:cNvPicPr/>
          <p:nvPr/>
        </p:nvPicPr>
        <p:blipFill>
          <a:blip r:embed="rId1"/>
          <a:stretch/>
        </p:blipFill>
        <p:spPr>
          <a:xfrm>
            <a:off x="4780080" y="3565440"/>
            <a:ext cx="3614760" cy="3299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250920" y="2355480"/>
            <a:ext cx="78850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olbrzymiamy znaczenie sytua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ążemy z danym wydarzeniem nieproporcjonalnie duże nadzieje na sukces, awans, korzyści finansow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anga wydarzenia wzrasta z powodu obecności ważnych dla nas osób, rodziny, przyjaciół i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rostokąt 7"/>
          <p:cNvSpPr/>
          <p:nvPr/>
        </p:nvSpPr>
        <p:spPr>
          <a:xfrm>
            <a:off x="0" y="5493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niżanie rangi zdar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rostokąt 8"/>
          <p:cNvSpPr/>
          <p:nvPr/>
        </p:nvSpPr>
        <p:spPr>
          <a:xfrm>
            <a:off x="179280" y="1197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elokrotnie zdarza się, że z powodu pewnych czynników nadajemy określonej sprawie niewspółmiernie dużą rangę, powodując tym samym wzrost poziomu str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rostokąt 9"/>
          <p:cNvSpPr/>
          <p:nvPr/>
        </p:nvSpPr>
        <p:spPr>
          <a:xfrm>
            <a:off x="826920" y="436572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ma jednej uniwersalnej recepty na skuteczne poradzenie sobie ze stresem. Specjaliści proponują nam kilka sposobów radzenia sobie z napięciem wywołanym stresem, są to m.in. ćwiczenia fizyczne, techniki relaksacyjne oraz konstruktywne postrzeganie rzeczywist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rostokąt 10"/>
          <p:cNvSpPr/>
          <p:nvPr/>
        </p:nvSpPr>
        <p:spPr>
          <a:xfrm>
            <a:off x="265320" y="206064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Dzieje się tak wówczas, kie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7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raz 7" descr="6073497112_b682fbcda2_m.jpg"/>
          <p:cNvPicPr/>
          <p:nvPr/>
        </p:nvPicPr>
        <p:blipFill>
          <a:blip r:embed="rId1"/>
          <a:srcRect l="24902" t="0" r="0" b="0"/>
          <a:stretch/>
        </p:blipFill>
        <p:spPr>
          <a:xfrm>
            <a:off x="0" y="1989000"/>
            <a:ext cx="2712960" cy="35974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2340000" y="1219320"/>
            <a:ext cx="608328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bywanie na świeżym powietr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prawianie sobie co jakiś czas małych przyjemności – poprawia to nastrój i relaks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zmowa z bliską osobą, psychologiem – z kimś, kto okaże nam wsparcie i zrozumie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ktywny styl życia, uprawianie spor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ze myślenie, które powoduje, że przyjmujemy twórczą postawę wobec siebi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humor – rozładowuje napięcie, obniża lę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dpowiednie odżywianie się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e zarządzanie sobą w czas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ealizm życiowy, stawianie sobie wysokich, ale możliwych do wykonania zad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zytywne myślenie o so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bienie rzeczy, które sprawiają nam przyjemnoś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pole tekstowe 5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rostokąt 6"/>
          <p:cNvSpPr/>
          <p:nvPr/>
        </p:nvSpPr>
        <p:spPr>
          <a:xfrm>
            <a:off x="250920" y="333360"/>
            <a:ext cx="78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ne metody, które sprawią, że poprawi się nam samopoczucie psychiczne i fizyczne, np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55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314424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jednak stres pojawia się zbyt często i jest długotrwały, może stanowić zagrożenie dla naszego życia zawodowego i osobistego, a nawet dla zdrowia. Dlatego warto nauczyć się radzić sobie ze stres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2"/>
          <p:cNvSpPr/>
          <p:nvPr/>
        </p:nvSpPr>
        <p:spPr>
          <a:xfrm>
            <a:off x="2124000" y="549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koń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6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Obraz 8" descr="3410853297_8108a63d75_m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62" name="Prostokąt 9"/>
          <p:cNvSpPr/>
          <p:nvPr/>
        </p:nvSpPr>
        <p:spPr>
          <a:xfrm>
            <a:off x="2987640" y="141300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es nie jest zjawiskiem wyłącznie negatywnym. Każdy z nas potrzebuje do poprawnego funkcjonowania optymalnego poziomu stresu, czyli takiego, w którym najlepiej nam się pracuje, kiedy czujemy się pełni energii i chęci do działa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0"/>
          <p:cNvSpPr/>
          <p:nvPr/>
        </p:nvSpPr>
        <p:spPr>
          <a:xfrm>
            <a:off x="179280" y="4365720"/>
            <a:ext cx="53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miętaj jednak, że każdy jest inny, inne sytuacje są dla nas stresujące, różna jest nasza odporność na stres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różne metody radzenia sobie z nim mogą być dla każdego z nas skutecz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3"/>
          <a:stretch/>
        </p:blipFill>
        <p:spPr>
          <a:xfrm>
            <a:off x="5867280" y="3933720"/>
            <a:ext cx="1687680" cy="274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6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rostokąt 7"/>
          <p:cNvSpPr/>
          <p:nvPr/>
        </p:nvSpPr>
        <p:spPr>
          <a:xfrm>
            <a:off x="250920" y="26028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szyscy doświadczyliśmy stresu, tego nieprzyjemnego uczucia, gdy wydawało się nam, że sytuacja nas przerasta, że nie podołamy jakiemuś wyzwaniu lub zadaniu, że coś jest po prostu dla nas zbyt tr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8"/>
          <p:cNvSpPr/>
          <p:nvPr/>
        </p:nvSpPr>
        <p:spPr>
          <a:xfrm>
            <a:off x="468360" y="35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, czy uznamy dane zdarzenie za stresujące, w większości przypadków zależy od naszego indywidualnego podejścia, od naszego przekonania, czy poradzimy sobie z daną sytuacj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a nowa sytuacja w naszym życiu to potencjalne źródło stresów, wszystko, co niecodzienne, nienaturalne, nieznane sprawia, że serce szybciej nam bije, pocą nam się dłonie, drży głos, nasz organizm wydziela adrenalin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Życie bez stresu jest nie tylko niemożliwe, ale też wcale nie jest zdrowe dla naszego organiz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ewna dawka stresu jest nam potrzebna, to on stymuluje nas do działania, sprawia, że nasze życie nie jest nu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upa 9"/>
          <p:cNvGrpSpPr/>
          <p:nvPr/>
        </p:nvGrpSpPr>
        <p:grpSpPr>
          <a:xfrm>
            <a:off x="971640" y="1557360"/>
            <a:ext cx="6624720" cy="1520640"/>
            <a:chOff x="971640" y="1557360"/>
            <a:chExt cx="6624720" cy="1520640"/>
          </a:xfrm>
        </p:grpSpPr>
        <p:sp>
          <p:nvSpPr>
            <p:cNvPr id="62" name="Prostokąt zaokrąglony 10"/>
            <p:cNvSpPr/>
            <p:nvPr/>
          </p:nvSpPr>
          <p:spPr>
            <a:xfrm>
              <a:off x="971640" y="1557360"/>
              <a:ext cx="6624720" cy="1520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pole tekstowe 11"/>
            <p:cNvSpPr/>
            <p:nvPr/>
          </p:nvSpPr>
          <p:spPr>
            <a:xfrm>
              <a:off x="971640" y="1658520"/>
              <a:ext cx="66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jest odpowiedzią naszego organizmu na jakieś zdarzenie (stresor), ale nie wynika wyłącznie z obiektywnych warunków otoczenia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rostokąt 11"/>
          <p:cNvSpPr/>
          <p:nvPr/>
        </p:nvSpPr>
        <p:spPr>
          <a:xfrm>
            <a:off x="179280" y="26028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sychologii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</a:t>
            </a:r>
            <a:r>
              <a:rPr b="0" lang="pl-PL" sz="1800" spc="-1" strike="noStrike">
                <a:solidFill>
                  <a:srgbClr val="ff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to stan ogólnej mobilizacji naszego organizmu oraz jego odpowiedź na silny bodziec fizyczny lub psychiczny (stre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órcą pojęcia stresu jest kanadyjski fizjolog Hans Selye, który nazwał tak nieswoistą reakcję organizmu na działanie szkodliwych bodźców zwanych stresor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12"/>
          <p:cNvSpPr/>
          <p:nvPr/>
        </p:nvSpPr>
        <p:spPr>
          <a:xfrm>
            <a:off x="324000" y="170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teorii Selye’a kiedy stykamy się z sytuacją zagrażającą naszej cielesnej lub umysłowej równowadze, przechodzimy serię zmian, na którą składają się następujące faz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13" descr=""/>
          <p:cNvPicPr/>
          <p:nvPr/>
        </p:nvPicPr>
        <p:blipFill>
          <a:blip r:embed="rId2"/>
          <a:stretch/>
        </p:blipFill>
        <p:spPr>
          <a:xfrm>
            <a:off x="-255600" y="2736720"/>
            <a:ext cx="9588600" cy="1305000"/>
          </a:xfrm>
          <a:prstGeom prst="rect">
            <a:avLst/>
          </a:prstGeom>
          <a:ln w="0">
            <a:noFill/>
          </a:ln>
        </p:spPr>
      </p:pic>
      <p:pic>
        <p:nvPicPr>
          <p:cNvPr id="72" name="Diagram 14" descr=""/>
          <p:cNvPicPr/>
          <p:nvPr/>
        </p:nvPicPr>
        <p:blipFill>
          <a:blip r:embed="rId3"/>
          <a:stretch/>
        </p:blipFill>
        <p:spPr>
          <a:xfrm>
            <a:off x="-255600" y="403560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15" descr=""/>
          <p:cNvPicPr/>
          <p:nvPr/>
        </p:nvPicPr>
        <p:blipFill>
          <a:blip r:embed="rId4"/>
          <a:stretch/>
        </p:blipFill>
        <p:spPr>
          <a:xfrm>
            <a:off x="-255600" y="5376960"/>
            <a:ext cx="9588600" cy="129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6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0" y="9097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916280"/>
          <a:ext cx="7488360" cy="468000"/>
        </p:xfrm>
        <a:graphic>
          <a:graphicData uri="http://schemas.openxmlformats.org/drawingml/2006/table">
            <a:tbl>
              <a:tblPr/>
              <a:tblGrid>
                <a:gridCol w="1944720"/>
                <a:gridCol w="5543640"/>
              </a:tblGrid>
              <a:tr h="468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Poję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 CE"/>
                        </a:rPr>
                        <a:t>Defini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8360" y="2349360"/>
          <a:ext cx="7488360" cy="122400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224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spół specyficznych i niespecyficznych reakcji organizmu na zdarzenia bodźcowe, które zakłócają jego równowagę i wystawiają na próbę lub przekraczają jego zdolności do radzenia sobi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68360" y="3573360"/>
          <a:ext cx="7488360" cy="1000080"/>
        </p:xfrm>
        <a:graphic>
          <a:graphicData uri="http://schemas.openxmlformats.org/drawingml/2006/table">
            <a:tbl>
              <a:tblPr/>
              <a:tblGrid>
                <a:gridCol w="1942920"/>
                <a:gridCol w="5545440"/>
              </a:tblGrid>
              <a:tr h="100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wnętrzne lub zewnętrzne wydarzenie, bodziec wywołujący str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pic>
        <p:nvPicPr>
          <p:cNvPr id="83" name="Obraz 6" descr="wykrzyknik.jpg"/>
          <p:cNvPicPr/>
          <p:nvPr/>
        </p:nvPicPr>
        <p:blipFill>
          <a:blip r:embed="rId2"/>
          <a:stretch/>
        </p:blipFill>
        <p:spPr>
          <a:xfrm>
            <a:off x="5138640" y="689040"/>
            <a:ext cx="95112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O tym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91" name="Prostokąt 7"/>
          <p:cNvSpPr/>
          <p:nvPr/>
        </p:nvSpPr>
        <p:spPr>
          <a:xfrm>
            <a:off x="684360" y="242100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692360" y="3009600"/>
            <a:ext cx="64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zewnętrz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 (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obiektywne</a:t>
            </a:r>
            <a:r>
              <a:rPr b="0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do nich zaliczymy te czynniki stresogenne, które oddziałują na nasz organizm (ducha i ciało) niezależnie od naszego świadomego postrzegania, np. presja środowiska, przytłaczająca liczba zajęć, zmiana szkoły, mieszkania, złe warunki pracy, niepokój o pracę lub jej utrata, ograniczenie swobody działania, odpowiedzialność za innych, monotonia pracy, hałas, zatłoczenie, zanieczyszczenie środowiska, działanie żywiołów, ekstremalne zimno bądź gorąco, choroba, śmierć, rozwód, nadwa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pole tekstowe 5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rostokąt 6"/>
          <p:cNvSpPr/>
          <p:nvPr/>
        </p:nvSpPr>
        <p:spPr>
          <a:xfrm>
            <a:off x="25092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zisiejszym społeczeństwie źródeł stresu jest wiele. To, czy dana sytuacja jest dla nas  stresująca i jak duży stres ona wywołuje, decyduje przede wszystkim sposób, w jaki ją postrzega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Obraz 8" descr="5520352624_eea85d8d12_m.jpg"/>
          <p:cNvPicPr/>
          <p:nvPr/>
        </p:nvPicPr>
        <p:blipFill>
          <a:blip r:embed="rId2"/>
          <a:srcRect l="7711" t="0" r="0" b="0"/>
          <a:stretch/>
        </p:blipFill>
        <p:spPr>
          <a:xfrm>
            <a:off x="0" y="1989000"/>
            <a:ext cx="2158920" cy="389916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84360" y="227664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stresogenne (źródła stresu) możemy podzielić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692360" y="2654640"/>
            <a:ext cx="648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Czynniki wewnętrzn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(tkwiące w jednostce, </a:t>
            </a:r>
            <a:r>
              <a:rPr b="1" lang="pl-PL" sz="1800" spc="-1" strike="noStrike">
                <a:solidFill>
                  <a:srgbClr val="c00000"/>
                </a:solidFill>
                <a:latin typeface="Times New Roman CE"/>
                <a:ea typeface="Times New Roman"/>
              </a:rPr>
              <a:t>stresory subiektywn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) są to zdarzenia zachodzące w naszym otoczeniu, które odbieramy świadomą częścią umysłu, oraz nasze stany psychiczne, które powodują uruchomienie reakcji stresow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p. frustracja (niespełnienie pragnień, niezaspokojenie potrzeb), depresja (przygnębienie, zniechęcenie, rezygnacja), nadmier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b niedostateczne pobudzenie motywacyjne, nadmiar informacji, przeciążenie aktywnością, niepewność, destabilizacja, presja czasu, brak celu, nuda, rutyna, nadmierne wymagania otoczenia, problemy w kontaktach międzyludzkich (nieśmiałość, upokorzenie, lęk przed kompromitacją, wstyd, trema), relacje społeczne, konflikty interpersonalne, zdarzenia życia codziennego (codzienne uciążliwości i kłopoty), zmiany sytuacji życiowej (momenty krytyczne w naszym życ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raz 5" descr="5839014005_341491e809_m.jpg"/>
          <p:cNvPicPr/>
          <p:nvPr/>
        </p:nvPicPr>
        <p:blipFill>
          <a:blip r:embed="rId1"/>
          <a:stretch/>
        </p:blipFill>
        <p:spPr>
          <a:xfrm>
            <a:off x="0" y="2781360"/>
            <a:ext cx="3370320" cy="28512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116000" y="54493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ługotrwały stres powoduje utratę równowagi psychicznej, obniża zdolność do pracy i prawidłowe funkcjonowanie, oddziałuje na zdrow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 skrajnych przypadkach jest powodem chorób i śmie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Dowolny kształt 3"/>
          <p:cNvGrpSpPr/>
          <p:nvPr/>
        </p:nvGrpSpPr>
        <p:grpSpPr>
          <a:xfrm>
            <a:off x="3906720" y="244440"/>
            <a:ext cx="4140360" cy="4930920"/>
            <a:chOff x="3906720" y="244440"/>
            <a:chExt cx="4140360" cy="4930920"/>
          </a:xfrm>
        </p:grpSpPr>
        <p:pic>
          <p:nvPicPr>
            <p:cNvPr id="107" name="Dowolny kształt 3" descr=""/>
            <p:cNvPicPr/>
            <p:nvPr/>
          </p:nvPicPr>
          <p:blipFill>
            <a:blip r:embed="rId2"/>
            <a:stretch/>
          </p:blipFill>
          <p:spPr>
            <a:xfrm>
              <a:off x="3906720" y="244440"/>
              <a:ext cx="4140360" cy="49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24360" y="260280"/>
              <a:ext cx="4103640" cy="48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su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gą one u niektórych osób w ogóle nie wywoływać reakcji stresowej Na przykład niespełnienie pewnej potrzeby (np. nowy komputer, samochód) dla jednej osoby jest źródłem silnej frustracji i powodem do uznania siebie za osobę nieszczęśliwą, a dla innej może być niemal niezauważalnym drobiazg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res ma ogromny wpływ na ogólną naszą kondycj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2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ezpośrednia reakcja organizmu na stres ma charakter fizyczny i przejawia się wydzielaniem adrenaliny i glukozy, przestaje funkcjonować układ trawienia, serce pompuje krew do istotnych narządów i mięśni.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Dowolny kształt 4"/>
          <p:cNvGrpSpPr/>
          <p:nvPr/>
        </p:nvGrpSpPr>
        <p:grpSpPr>
          <a:xfrm>
            <a:off x="1530360" y="244440"/>
            <a:ext cx="2054160" cy="2773440"/>
            <a:chOff x="1530360" y="244440"/>
            <a:chExt cx="2054160" cy="2773440"/>
          </a:xfrm>
        </p:grpSpPr>
        <p:pic>
          <p:nvPicPr>
            <p:cNvPr id="110" name="Dowolny kształt 4" descr=""/>
            <p:cNvPicPr/>
            <p:nvPr/>
          </p:nvPicPr>
          <p:blipFill>
            <a:blip r:embed="rId3"/>
            <a:stretch/>
          </p:blipFill>
          <p:spPr>
            <a:xfrm>
              <a:off x="1530360" y="244440"/>
              <a:ext cx="205416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547640" y="260280"/>
              <a:ext cx="201636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Stresory obiektywne</a:t>
              </a:r>
              <a:r>
                <a:rPr b="0" lang="pl-PL" sz="1800" spc="-1" strike="noStrike">
                  <a:solidFill>
                    <a:srgbClr val="c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działują na każdego, choć siła tego wpływu może być znacznie zróżnicow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3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rostokąt 3"/>
          <p:cNvSpPr/>
          <p:nvPr/>
        </p:nvSpPr>
        <p:spPr>
          <a:xfrm>
            <a:off x="0" y="1125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jawy stresu  można rozpatrywać na trzech płaszczyzn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Diagram 4" descr=""/>
          <p:cNvPicPr/>
          <p:nvPr/>
        </p:nvPicPr>
        <p:blipFill>
          <a:blip r:embed="rId1"/>
          <a:stretch/>
        </p:blipFill>
        <p:spPr>
          <a:xfrm>
            <a:off x="-1047600" y="2305080"/>
            <a:ext cx="10483560" cy="24256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9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8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9:12:18Z</dcterms:created>
  <dc:creator>x</dc:creator>
  <dc:description/>
  <dc:language>en-US</dc:language>
  <cp:lastModifiedBy>Gosia</cp:lastModifiedBy>
  <dcterms:modified xsi:type="dcterms:W3CDTF">2013-01-31T18:29:01Z</dcterms:modified>
  <cp:revision>50</cp:revision>
  <dc:subject/>
  <dc:title>Slajd 1</dc:title>
</cp:coreProperties>
</file>