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8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45.png" ContentType="image/png"/>
  <Override PartName="/ppt/media/image35.jpeg" ContentType="image/jpeg"/>
  <Override PartName="/ppt/media/image10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13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43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33B-2BCC-4F68-9674-377DC8FC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D94-77B9-49E0-902A-2822657E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DB3-9354-461A-BE87-C22768B5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BD37-2C16-4F62-84B3-0286310F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D378-B29A-4EBD-9775-AE4E46A4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AB64-CED3-4B85-B630-BD77896A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D33E-05B4-4ED6-A425-C9A87784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FBD8-B8A4-4DDE-B535-8A662352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86F6-AF5B-428A-B5DB-A3E883AB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1631-72AD-4B79-B880-6373B648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5E0F-0A36-4D24-B80C-16142A47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926-4619-497D-AD1A-0CE2FE3D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AF62-BE81-4C85-8CE3-7297C0CD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8B50-FE68-44A7-93A8-B5DE48E2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8A85-B1DB-48B0-868D-460B23CB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DC66-31E4-4F1B-9F1C-55069DAC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FE9D-8C35-4B4F-ACF7-0E6CCB43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6BC-C9EA-41B2-A393-2F6DBC46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741-5B3C-45BD-9690-09A83EDD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805-3A9A-4C36-BCDC-C3EA210D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095-A335-4537-88A5-2DBD2F66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807-2B36-44D0-BADD-5E73F3EF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68B-044F-49EC-8373-B400E0C5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B23-2C38-45E2-974A-3F9ACFB9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7C77-9FF4-4AD7-ADE9-84080F170B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5600" y="3756600"/>
              <a:ext cx="585756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2" descr="C:\Users\Marta\Desktop\sowa\sowa_2-autoprezentacja.png"/>
            <p:cNvPicPr/>
            <p:nvPr/>
          </p:nvPicPr>
          <p:blipFill>
            <a:blip r:embed="rId2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AEE8-A3E9-4665-B19C-31623AC72D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Diagram 5" descr=""/>
          <p:cNvPicPr/>
          <p:nvPr/>
        </p:nvPicPr>
        <p:blipFill>
          <a:blip r:embed="rId1"/>
          <a:stretch/>
        </p:blipFill>
        <p:spPr>
          <a:xfrm>
            <a:off x="603360" y="2127240"/>
            <a:ext cx="1023840" cy="731880"/>
          </a:xfrm>
          <a:prstGeom prst="rect">
            <a:avLst/>
          </a:prstGeom>
          <a:ln w="0">
            <a:noFill/>
          </a:ln>
        </p:spPr>
      </p:pic>
      <p:pic>
        <p:nvPicPr>
          <p:cNvPr id="86" name="Diagram 6" descr=""/>
          <p:cNvPicPr/>
          <p:nvPr/>
        </p:nvPicPr>
        <p:blipFill>
          <a:blip r:embed="rId2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87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45F1-3AB7-4938-B778-CEC00A377E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naglowek_obowiazujacy_usw kolor"/>
          <p:cNvPicPr/>
          <p:nvPr/>
        </p:nvPicPr>
        <p:blipFill>
          <a:blip r:embed="rId3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sp>
        <p:nvSpPr>
          <p:cNvPr id="89" name="pole tekstowe 9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UTOPREZENT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1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rostokąt 12" descr=""/>
            <p:cNvPicPr/>
            <p:nvPr/>
          </p:nvPicPr>
          <p:blipFill>
            <a:blip r:embed="rId4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Diagram 14" descr=""/>
          <p:cNvPicPr/>
          <p:nvPr/>
        </p:nvPicPr>
        <p:blipFill>
          <a:blip r:embed="rId5"/>
          <a:stretch/>
        </p:blipFill>
        <p:spPr>
          <a:xfrm>
            <a:off x="1852560" y="1981080"/>
            <a:ext cx="660240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ole tekstowe 7"/>
          <p:cNvSpPr/>
          <p:nvPr/>
        </p:nvSpPr>
        <p:spPr>
          <a:xfrm>
            <a:off x="324000" y="26028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 często mylona jest z dwoma pojęciami pokrewnym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charakterem i temperamen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8"/>
          <p:cNvSpPr/>
          <p:nvPr/>
        </p:nvSpPr>
        <p:spPr>
          <a:xfrm>
            <a:off x="395280" y="1341360"/>
            <a:ext cx="52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harakter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 cechy nabywane w trakcie wychowania, wskazują na pewien stopień konformizmu jednostki wobec obowiązujących standardów społe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10"/>
          <p:cNvSpPr/>
          <p:nvPr/>
        </p:nvSpPr>
        <p:spPr>
          <a:xfrm>
            <a:off x="395280" y="2997360"/>
            <a:ext cx="78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mperament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tomiast nie odnosi się do oddziaływań socjalizacyjnych, lecz do podstawowej biologicznej predyspozycji jednostki do przejawiania określonych zachowań i specyficznych wzorców reakcji emocjonalnych, zmian nastroju oraz wysokiego lub niskiego progu wrażliw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mperament to dynamiczna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rona osobo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charakterystyczna dla każdej jednostki i uwarunkowana biologicznie/genetycznie siła oraz szybkość reagowania. Chodzi tu głównie o reakcje emocjonalne, ich trwałość, siłę i częstotliw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5796000" y="907920"/>
            <a:ext cx="2336760" cy="20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Dowolny kształt 12"/>
          <p:cNvSpPr/>
          <p:nvPr/>
        </p:nvSpPr>
        <p:spPr>
          <a:xfrm>
            <a:off x="1440000" y="2133720"/>
            <a:ext cx="2844720" cy="215892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56600" tIns="156600" bIns="696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melancholi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owolny kształt 13"/>
          <p:cNvSpPr/>
          <p:nvPr/>
        </p:nvSpPr>
        <p:spPr>
          <a:xfrm>
            <a:off x="4284720" y="2133720"/>
            <a:ext cx="2843280" cy="215892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56600" tIns="156600" bIns="696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holery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owolny kształt 14"/>
          <p:cNvSpPr/>
          <p:nvPr/>
        </p:nvSpPr>
        <p:spPr>
          <a:xfrm>
            <a:off x="1440000" y="4292640"/>
            <a:ext cx="2844720" cy="216072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56600" tIns="696600" bIns="156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flegmaty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Dowolny kształt 16"/>
          <p:cNvSpPr/>
          <p:nvPr/>
        </p:nvSpPr>
        <p:spPr>
          <a:xfrm>
            <a:off x="4284720" y="4292640"/>
            <a:ext cx="2843280" cy="2160720"/>
          </a:xfrm>
          <a:prstGeom prst="pie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56600" tIns="696600" bIns="156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angwini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Dowolny kształt 17"/>
          <p:cNvSpPr/>
          <p:nvPr/>
        </p:nvSpPr>
        <p:spPr>
          <a:xfrm>
            <a:off x="3166920" y="3645000"/>
            <a:ext cx="2233800" cy="1296720"/>
          </a:xfrm>
          <a:prstGeom prst="pie">
            <a:avLst/>
          </a:prstGeom>
          <a:solidFill>
            <a:srgbClr val="e8d0d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240" rIns="147240" tIns="147240" bIns="14724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alen wyróżnił cztery typy temperamen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upa 18"/>
          <p:cNvGrpSpPr/>
          <p:nvPr/>
        </p:nvGrpSpPr>
        <p:grpSpPr>
          <a:xfrm>
            <a:off x="539640" y="333360"/>
            <a:ext cx="7632720" cy="1486080"/>
            <a:chOff x="539640" y="333360"/>
            <a:chExt cx="7632720" cy="1486080"/>
          </a:xfrm>
        </p:grpSpPr>
        <p:sp>
          <p:nvSpPr>
            <p:cNvPr id="196" name="pole tekstowe 7"/>
            <p:cNvSpPr/>
            <p:nvPr/>
          </p:nvSpPr>
          <p:spPr>
            <a:xfrm>
              <a:off x="2051640" y="477000"/>
              <a:ext cx="6120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ierwszą i najpopularniejszą teorię temperamentu opracował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ale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, opierając się na koncepcji Hipokratesa o równowadze czterech płynów ustrojowych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rwi, żółci, czarnej żółci i śluzu (flegmy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1440000" cy="1486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ole tekstowe 7"/>
          <p:cNvSpPr/>
          <p:nvPr/>
        </p:nvSpPr>
        <p:spPr>
          <a:xfrm>
            <a:off x="395280" y="549360"/>
            <a:ext cx="77770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choleryczn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rdzo wrażliwy i bardzo impulsyw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onny do zachowań agresywnych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ęsto odczuwa niezadowolenie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niezawodny, nie boi się przeszkód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relacjach z innymi kładzie nacisk na własne „ja”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go doznania emocjonalne są trwałe, a reakcje behawioralne szybkie, silne, nieregular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ole tekstowe 8"/>
          <p:cNvSpPr/>
          <p:nvPr/>
        </p:nvSpPr>
        <p:spPr>
          <a:xfrm>
            <a:off x="395280" y="3716280"/>
            <a:ext cx="7848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sangwiniczn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zbyt wrażliwy i bardzo impulsyw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wesołym i pogodnym oportunistą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rdzo otwarty, dosyć subtel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 niezwykle zmienne zainteresowania – ta niestałość i brak równowagi może być problemem dla otoczeni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jawia nadmierną ekspresję emocjonalną, dlatego inni mogą mniemać o wyjątkowej sile jego uczu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3"/>
          <a:stretch/>
        </p:blipFill>
        <p:spPr>
          <a:xfrm>
            <a:off x="5508720" y="476280"/>
            <a:ext cx="2500200" cy="1589040"/>
          </a:xfrm>
          <a:prstGeom prst="rect">
            <a:avLst/>
          </a:prstGeom>
          <a:ln w="0">
            <a:noFill/>
          </a:ln>
        </p:spPr>
      </p:pic>
      <p:pic>
        <p:nvPicPr>
          <p:cNvPr id="204" name="Obraz 10" descr="ludzie76.jpg"/>
          <p:cNvPicPr/>
          <p:nvPr/>
        </p:nvPicPr>
        <p:blipFill>
          <a:blip r:embed="rId14"/>
          <a:stretch/>
        </p:blipFill>
        <p:spPr>
          <a:xfrm>
            <a:off x="5651640" y="3284640"/>
            <a:ext cx="238572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upa 12"/>
          <p:cNvGrpSpPr/>
          <p:nvPr/>
        </p:nvGrpSpPr>
        <p:grpSpPr>
          <a:xfrm>
            <a:off x="395280" y="3573360"/>
            <a:ext cx="7777080" cy="2633040"/>
            <a:chOff x="395280" y="3573360"/>
            <a:chExt cx="7777080" cy="2633040"/>
          </a:xfrm>
        </p:grpSpPr>
        <p:sp>
          <p:nvSpPr>
            <p:cNvPr id="209" name="pole tekstowe 8"/>
            <p:cNvSpPr/>
            <p:nvPr/>
          </p:nvSpPr>
          <p:spPr>
            <a:xfrm>
              <a:off x="395280" y="3644640"/>
              <a:ext cx="7777080" cy="25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yp flegmatyczny: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zbyt wrażliwy i niezbyt impulsywny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równoważony i niewzruszony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budzają go tylko bardzo silne bodźce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go emocje są selektywne i pogłębione, dotyczą niewielu wybranych obiektów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aczej bierny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ardzo tolerancyjny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"/>
            <p:cNvPicPr/>
            <p:nvPr/>
          </p:nvPicPr>
          <p:blipFill>
            <a:blip r:embed="rId8"/>
            <a:stretch/>
          </p:blipFill>
          <p:spPr>
            <a:xfrm>
              <a:off x="5508000" y="3573360"/>
              <a:ext cx="2194920" cy="139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pole tekstowe 7"/>
          <p:cNvSpPr/>
          <p:nvPr/>
        </p:nvSpPr>
        <p:spPr>
          <a:xfrm>
            <a:off x="324000" y="333360"/>
            <a:ext cx="79930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melancholiczn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rdzo wrażliwy i niezbyt impulsyw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łatwo popada w negatywizm, czarnowidztwo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neurotycz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go zachowania są determinowane przez wysoki poziom odczuwanego lęk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 zaniżoną samoocenę, każda klęska podkopuje jego poczucie własnej wartości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jest towarzyski, nie potrafi sprawnie nawiązywać relacji z innym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Obraz 11" descr="ludzie72.jpg"/>
          <p:cNvPicPr/>
          <p:nvPr/>
        </p:nvPicPr>
        <p:blipFill>
          <a:blip r:embed="rId15"/>
          <a:stretch/>
        </p:blipFill>
        <p:spPr>
          <a:xfrm>
            <a:off x="5580000" y="189000"/>
            <a:ext cx="238464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ilans umiejętności i mocnych str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ole tekstowe 6"/>
          <p:cNvSpPr/>
          <p:nvPr/>
        </p:nvSpPr>
        <p:spPr>
          <a:xfrm>
            <a:off x="395280" y="119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mocnych i słabych stron własnej osobowości polega na dokonaniu zestawienia swoich  pozytywnych i negatywnych c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upa 14"/>
          <p:cNvGrpSpPr/>
          <p:nvPr/>
        </p:nvGrpSpPr>
        <p:grpSpPr>
          <a:xfrm>
            <a:off x="611280" y="2060640"/>
            <a:ext cx="7416720" cy="2016000"/>
            <a:chOff x="611280" y="2060640"/>
            <a:chExt cx="7416720" cy="2016000"/>
          </a:xfrm>
        </p:grpSpPr>
        <p:sp>
          <p:nvSpPr>
            <p:cNvPr id="219" name="Dowolny kształt 10"/>
            <p:cNvSpPr/>
            <p:nvPr/>
          </p:nvSpPr>
          <p:spPr>
            <a:xfrm>
              <a:off x="611280" y="2060640"/>
              <a:ext cx="7416720" cy="2016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ae48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41680" rIns="64800" tIns="64800" bIns="64800" anchor="t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cne stron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akie są zalety twojej osobowości i charakteru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akie są twoje charakterystyczne cechy?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o umiesz robić dobrze?            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 co chwalą cię inni?     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o robisz lepiej od innych?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o lubisz robić?               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Prostokąt zaokrąglony 11"/>
            <p:cNvSpPr/>
            <p:nvPr/>
          </p:nvSpPr>
          <p:spPr>
            <a:xfrm>
              <a:off x="804960" y="2254320"/>
              <a:ext cx="1482480" cy="1547640"/>
            </a:xfrm>
            <a:custGeom>
              <a:avLst/>
              <a:gdLst>
                <a:gd name="textAreaLeft" fmla="*/ 43200 w 1482480"/>
                <a:gd name="textAreaRight" fmla="*/ 1439280 w 1482480"/>
                <a:gd name="textAreaTop" fmla="*/ 43200 h 1547640"/>
                <a:gd name="textAreaBottom" fmla="*/ 1504440 h 1547640"/>
              </a:gdLst>
              <a:ahLst/>
              <a:rect l="textAreaLeft" t="textAreaTop" r="textAreaRight" b="textAreaBottom"/>
              <a:pathLst>
                <a:path w="21600" h="22549">
                  <a:moveTo>
                    <a:pt x="2160" y="0"/>
                  </a:moveTo>
                  <a:arcTo wR="2160" hR="2160" stAng="16200000" swAng="-5400000"/>
                  <a:lnTo>
                    <a:pt x="0" y="20389"/>
                  </a:lnTo>
                  <a:arcTo wR="2160" hR="2160" stAng="10800000" swAng="-5400000"/>
                  <a:lnTo>
                    <a:pt x="19440" y="2254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5560">
              <a:solidFill>
                <a:srgbClr val="ae48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upa 16"/>
          <p:cNvGrpSpPr/>
          <p:nvPr/>
        </p:nvGrpSpPr>
        <p:grpSpPr>
          <a:xfrm>
            <a:off x="611280" y="4189320"/>
            <a:ext cx="7416720" cy="2048040"/>
            <a:chOff x="611280" y="4189320"/>
            <a:chExt cx="7416720" cy="2048040"/>
          </a:xfrm>
        </p:grpSpPr>
        <p:sp>
          <p:nvSpPr>
            <p:cNvPr id="222" name="Dowolny kształt 12"/>
            <p:cNvSpPr/>
            <p:nvPr/>
          </p:nvSpPr>
          <p:spPr>
            <a:xfrm>
              <a:off x="611280" y="4189320"/>
              <a:ext cx="7416720" cy="20480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ae48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41680" rIns="64800" tIns="64800" bIns="64800" anchor="t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łabe stron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akie są wady twojej osobowości i charakteru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akich umiejętności ci brakuje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o robisz niedobrze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zego powinieneś unikać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zy inni spostrzegają twoje słabe strony?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zy twoi rówieśnicy robią coś lepiej od ciebie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Prostokąt zaokrąglony 13"/>
            <p:cNvSpPr/>
            <p:nvPr/>
          </p:nvSpPr>
          <p:spPr>
            <a:xfrm>
              <a:off x="804960" y="4402080"/>
              <a:ext cx="1482480" cy="1695600"/>
            </a:xfrm>
            <a:custGeom>
              <a:avLst/>
              <a:gdLst>
                <a:gd name="textAreaLeft" fmla="*/ 43200 w 1482480"/>
                <a:gd name="textAreaRight" fmla="*/ 1439280 w 1482480"/>
                <a:gd name="textAreaTop" fmla="*/ 43200 h 1695600"/>
                <a:gd name="textAreaBottom" fmla="*/ 1652400 h 1695600"/>
              </a:gdLst>
              <a:ahLst/>
              <a:rect l="textAreaLeft" t="textAreaTop" r="textAreaRight" b="textAreaBottom"/>
              <a:pathLst>
                <a:path w="21600" h="24704">
                  <a:moveTo>
                    <a:pt x="2160" y="0"/>
                  </a:moveTo>
                  <a:arcTo wR="2160" hR="2160" stAng="16200000" swAng="-5400000"/>
                  <a:lnTo>
                    <a:pt x="0" y="22544"/>
                  </a:lnTo>
                  <a:arcTo wR="2160" hR="2160" stAng="10800000" swAng="-5400000"/>
                  <a:lnTo>
                    <a:pt x="19440" y="24704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5560">
              <a:solidFill>
                <a:srgbClr val="ae48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pcja Eysenc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ole tekstowe 6"/>
          <p:cNvSpPr/>
          <p:nvPr/>
        </p:nvSpPr>
        <p:spPr>
          <a:xfrm>
            <a:off x="539640" y="126828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ą z najbardziej popularnych teorii osobowości jest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pcja Eysenck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która opisuje osobowość człowieka na wymiar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Dowolny kształt 10"/>
          <p:cNvSpPr/>
          <p:nvPr/>
        </p:nvSpPr>
        <p:spPr>
          <a:xfrm>
            <a:off x="2664000" y="2276640"/>
            <a:ext cx="3311280" cy="92232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103320" bIns="1033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sychotyzm vs uspołeczni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owolny kształt 11"/>
          <p:cNvSpPr/>
          <p:nvPr/>
        </p:nvSpPr>
        <p:spPr>
          <a:xfrm>
            <a:off x="4113360" y="3255840"/>
            <a:ext cx="414360" cy="346320"/>
          </a:xfrm>
          <a:custGeom>
            <a:avLst/>
            <a:gdLst/>
            <a:ahLst/>
            <a:rect l="l" t="t" r="r" b="b"/>
            <a:pathLst>
              <a:path w="345767" h="414920">
                <a:moveTo>
                  <a:pt x="276613" y="1"/>
                </a:moveTo>
                <a:lnTo>
                  <a:pt x="276613" y="207461"/>
                </a:lnTo>
                <a:lnTo>
                  <a:pt x="345767" y="207461"/>
                </a:lnTo>
                <a:lnTo>
                  <a:pt x="172884" y="414919"/>
                </a:lnTo>
                <a:lnTo>
                  <a:pt x="0" y="207461"/>
                </a:lnTo>
                <a:lnTo>
                  <a:pt x="69154" y="207461"/>
                </a:lnTo>
                <a:lnTo>
                  <a:pt x="69154" y="1"/>
                </a:lnTo>
                <a:lnTo>
                  <a:pt x="276613" y="1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0" bIns="10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Dowolny kształt 12"/>
          <p:cNvSpPr/>
          <p:nvPr/>
        </p:nvSpPr>
        <p:spPr>
          <a:xfrm>
            <a:off x="2664000" y="3659040"/>
            <a:ext cx="3311280" cy="922320"/>
          </a:xfrm>
          <a:prstGeom prst="pie">
            <a:avLst/>
          </a:prstGeom>
          <a:solidFill>
            <a:srgbClr val="bd9b5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103320" bIns="1033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kstrawersja vs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ntrowers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owolny kształt 13"/>
          <p:cNvSpPr/>
          <p:nvPr/>
        </p:nvSpPr>
        <p:spPr>
          <a:xfrm>
            <a:off x="4113360" y="4640400"/>
            <a:ext cx="414360" cy="344520"/>
          </a:xfrm>
          <a:custGeom>
            <a:avLst/>
            <a:gdLst/>
            <a:ahLst/>
            <a:rect l="l" t="t" r="r" b="b"/>
            <a:pathLst>
              <a:path w="345767" h="414920">
                <a:moveTo>
                  <a:pt x="276613" y="1"/>
                </a:moveTo>
                <a:lnTo>
                  <a:pt x="276613" y="207461"/>
                </a:lnTo>
                <a:lnTo>
                  <a:pt x="345767" y="207461"/>
                </a:lnTo>
                <a:lnTo>
                  <a:pt x="172884" y="414919"/>
                </a:lnTo>
                <a:lnTo>
                  <a:pt x="0" y="207461"/>
                </a:lnTo>
                <a:lnTo>
                  <a:pt x="69154" y="207461"/>
                </a:lnTo>
                <a:lnTo>
                  <a:pt x="69154" y="1"/>
                </a:lnTo>
                <a:lnTo>
                  <a:pt x="276613" y="1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0" bIns="10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owolny kształt 14"/>
          <p:cNvSpPr/>
          <p:nvPr/>
        </p:nvSpPr>
        <p:spPr>
          <a:xfrm>
            <a:off x="2664000" y="5043600"/>
            <a:ext cx="3311280" cy="92232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103320" bIns="1033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eurotyczność vs zrównoważenie emocjon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ole tekstowe 16"/>
          <p:cNvSpPr/>
          <p:nvPr/>
        </p:nvSpPr>
        <p:spPr>
          <a:xfrm>
            <a:off x="2054520" y="242100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ole tekstowe 17"/>
          <p:cNvSpPr/>
          <p:nvPr/>
        </p:nvSpPr>
        <p:spPr>
          <a:xfrm>
            <a:off x="2054520" y="37893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18"/>
          <p:cNvSpPr/>
          <p:nvPr/>
        </p:nvSpPr>
        <p:spPr>
          <a:xfrm>
            <a:off x="2054520" y="515772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Dowolny kształt 11"/>
          <p:cNvSpPr/>
          <p:nvPr/>
        </p:nvSpPr>
        <p:spPr>
          <a:xfrm>
            <a:off x="539640" y="404640"/>
            <a:ext cx="2422800" cy="52563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9680" rIns="139680" tIns="1051200" bIns="1051200" anchor="t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sychotycznoś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gresyw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społecz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hłod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zbawiony empat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gocentrycz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mpulsyw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bezosobo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gruboskór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wórc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owolny kształt 12"/>
          <p:cNvSpPr/>
          <p:nvPr/>
        </p:nvSpPr>
        <p:spPr>
          <a:xfrm>
            <a:off x="3144960" y="404640"/>
            <a:ext cx="2422440" cy="5256360"/>
          </a:xfrm>
          <a:prstGeom prst="pie">
            <a:avLst/>
          </a:prstGeom>
          <a:solidFill>
            <a:srgbClr val="4f622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9680" rIns="139680" tIns="1051200" bIns="1051200" anchor="t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kstrawers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owarzy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beztro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ży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dominują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ktyw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ybucho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sertyw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szukujący dozna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śmia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owolny kształt 13"/>
          <p:cNvSpPr/>
          <p:nvPr/>
        </p:nvSpPr>
        <p:spPr>
          <a:xfrm>
            <a:off x="5748480" y="404640"/>
            <a:ext cx="2422440" cy="525636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9680" rIns="139680" tIns="1051200" bIns="1051200" anchor="t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eurotycznoś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lękli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 niską samoocen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depres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rracjona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 poczuciem w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markot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pię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mocjona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łochli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8"/>
          <p:cNvSpPr/>
          <p:nvPr/>
        </p:nvSpPr>
        <p:spPr>
          <a:xfrm>
            <a:off x="1692360" y="6093000"/>
            <a:ext cx="676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Źródło: J. Strelau, D. Doliński (red</a:t>
            </a:r>
            <a:r>
              <a:rPr b="0" i="1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)</a:t>
            </a: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</a:t>
            </a:r>
            <a:r>
              <a:rPr b="0" i="1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ychologia. Podręcznik akademicki</a:t>
            </a: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t. 1, Gdańskie Wydawnictwo Psychologiczne, Gdańsk 2008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2771640" y="4668840"/>
            <a:ext cx="3441960" cy="2189160"/>
          </a:xfrm>
          <a:prstGeom prst="rect">
            <a:avLst/>
          </a:prstGeom>
          <a:ln w="0">
            <a:noFill/>
          </a:ln>
        </p:spPr>
      </p:pic>
      <p:grpSp>
        <p:nvGrpSpPr>
          <p:cNvPr id="24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ole tekstowe 7"/>
          <p:cNvSpPr/>
          <p:nvPr/>
        </p:nvSpPr>
        <p:spPr>
          <a:xfrm>
            <a:off x="395280" y="404640"/>
            <a:ext cx="7848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urotyczność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hwiejność emocjonalna, łączy się z dużymi napięciami emocjonalnymi, które w zachowaniu mogą objawiać się np. zmiennością nastrojów, nadwrażliwością, skłonnością do popadania w depresję, obniżonym poczuciem własnej wartośc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ole tekstowe 8"/>
          <p:cNvSpPr/>
          <p:nvPr/>
        </p:nvSpPr>
        <p:spPr>
          <a:xfrm>
            <a:off x="395280" y="1773360"/>
            <a:ext cx="78487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kstrawersja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skłonność do kierowania uwagi na świat zewnętrzny, duża aktywność skierowana na zewnątrz, łatwość wyrażania swoich myśli lub uczuć oraz brak zahamowań w nawiązywaniu kontaktów z ludźmi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przeciwległym biegunie znajduje się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rowersja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którą cechuje: brak zainteresowania światem zewnętrznym i praktyczną działalnością, skupianie się na własnych przeżyciach wewnętrznych, powściągliwość w wyrażaniu uczuć  i niechęć do nawiązywania kontaktów z innymi ludźm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ole tekstowe 10"/>
          <p:cNvSpPr/>
          <p:nvPr/>
        </p:nvSpPr>
        <p:spPr>
          <a:xfrm>
            <a:off x="395280" y="400536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ychotyzm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echa ta pozwala na ocenę stopnia uspołecznienia oraz respektowania obowiązujących norm, przepisów prawa i ludz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ło służące do rozpoznania swoich cech i właściwości psychicznych oparte na koncepcji Eysenck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Picture 2" descr="Temperament_eyesenck"/>
          <p:cNvPicPr/>
          <p:nvPr/>
        </p:nvPicPr>
        <p:blipFill>
          <a:blip r:embed="rId2"/>
          <a:stretch/>
        </p:blipFill>
        <p:spPr>
          <a:xfrm>
            <a:off x="1547640" y="1268280"/>
            <a:ext cx="5356440" cy="4897440"/>
          </a:xfrm>
          <a:prstGeom prst="rect">
            <a:avLst/>
          </a:prstGeom>
          <a:ln w="0">
            <a:noFill/>
          </a:ln>
        </p:spPr>
      </p:pic>
      <p:sp>
        <p:nvSpPr>
          <p:cNvPr id="256" name="pole tekstowe 7"/>
          <p:cNvSpPr/>
          <p:nvPr/>
        </p:nvSpPr>
        <p:spPr>
          <a:xfrm>
            <a:off x="1116000" y="6237360"/>
            <a:ext cx="705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Źródło: K. Kmiecik-Baran (red.), </a:t>
            </a:r>
            <a:r>
              <a:rPr b="0" i="1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burzenia zachowania dzieci i młodzieży szkolnej</a:t>
            </a: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Verlag Daschofer, Warszawa 2006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del wielkiej piątk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ole tekstowe 6"/>
          <p:cNvSpPr/>
          <p:nvPr/>
        </p:nvSpPr>
        <p:spPr>
          <a:xfrm>
            <a:off x="324000" y="1125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ą z najbardziej współczesnych i popularnych koncepcji opisujących osobowość jest Model IPK, stworzony na podstawie pięcioczynnikowego modelu osobowości, tzw. Wielkiej Piątki P. Costy i J. McCr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1" descr=""/>
          <p:cNvPicPr/>
          <p:nvPr/>
        </p:nvPicPr>
        <p:blipFill>
          <a:blip r:embed="rId2"/>
          <a:stretch/>
        </p:blipFill>
        <p:spPr>
          <a:xfrm>
            <a:off x="1619280" y="2781360"/>
            <a:ext cx="5383080" cy="3643200"/>
          </a:xfrm>
          <a:prstGeom prst="rect">
            <a:avLst/>
          </a:prstGeom>
          <a:ln w="0">
            <a:noFill/>
          </a:ln>
        </p:spPr>
      </p:pic>
      <p:sp>
        <p:nvSpPr>
          <p:cNvPr id="264" name="pole tekstowe 10"/>
          <p:cNvSpPr/>
          <p:nvPr/>
        </p:nvSpPr>
        <p:spPr>
          <a:xfrm>
            <a:off x="3501000" y="42210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ole tekstowe 11"/>
          <p:cNvSpPr/>
          <p:nvPr/>
        </p:nvSpPr>
        <p:spPr>
          <a:xfrm>
            <a:off x="3640680" y="22766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urotyz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ole tekstowe 12"/>
          <p:cNvSpPr/>
          <p:nvPr/>
        </p:nvSpPr>
        <p:spPr>
          <a:xfrm>
            <a:off x="547560" y="3357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kstrawers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ole tekstowe 13"/>
          <p:cNvSpPr/>
          <p:nvPr/>
        </p:nvSpPr>
        <p:spPr>
          <a:xfrm>
            <a:off x="1483920" y="62373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umien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ole tekstowe 14"/>
          <p:cNvSpPr/>
          <p:nvPr/>
        </p:nvSpPr>
        <p:spPr>
          <a:xfrm>
            <a:off x="6091200" y="616572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twart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ole tekstowe 16"/>
          <p:cNvSpPr/>
          <p:nvPr/>
        </p:nvSpPr>
        <p:spPr>
          <a:xfrm>
            <a:off x="6877800" y="3357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godow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ole tekstowe 17"/>
          <p:cNvSpPr/>
          <p:nvPr/>
        </p:nvSpPr>
        <p:spPr>
          <a:xfrm>
            <a:off x="3213360" y="6534000"/>
            <a:ext cx="239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Źródło: opracowanie włas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ole tekstowe 18"/>
          <p:cNvSpPr/>
          <p:nvPr/>
        </p:nvSpPr>
        <p:spPr>
          <a:xfrm>
            <a:off x="324000" y="4046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poznawanie własnych cech i umiejętności to niezbędna czynność przy planowaniu swojej edukacji oraz kariery zawod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ole tekstowe 19"/>
          <p:cNvSpPr/>
          <p:nvPr/>
        </p:nvSpPr>
        <p:spPr>
          <a:xfrm>
            <a:off x="1557000" y="1844640"/>
            <a:ext cx="513936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zwala odpowiedzieć na pyt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ą twoje charakterystyczne cec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ch umiejętności ci braku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umiesz robić dobrz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robisz niedobrz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 co chwalą cię in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ego powinieneś unika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robisz lepiej od inny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inni spostrzegają twoje słabe stro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lubisz robi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twoi rówieśnicy robią coś lepiej od cieb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2"/>
          <a:stretch/>
        </p:blipFill>
        <p:spPr>
          <a:xfrm>
            <a:off x="6084720" y="2637000"/>
            <a:ext cx="142740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ole tekstowe 6"/>
          <p:cNvSpPr/>
          <p:nvPr/>
        </p:nvSpPr>
        <p:spPr>
          <a:xfrm>
            <a:off x="395280" y="333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del Wielkiej Piątki zakłada istnienie pięciu głównych czynników osobowościowy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owolny kształt 10"/>
          <p:cNvSpPr/>
          <p:nvPr/>
        </p:nvSpPr>
        <p:spPr>
          <a:xfrm>
            <a:off x="382680" y="1397160"/>
            <a:ext cx="6219720" cy="8445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10700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1. Neurotyzm – 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równoważenie emocjonalne lub jego brak, podatność na stres psychologiczny i doświadczanie negatywnych emocji ,tj. gniew, poczucie winy, strac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owolny kształt 11"/>
          <p:cNvSpPr/>
          <p:nvPr/>
        </p:nvSpPr>
        <p:spPr>
          <a:xfrm>
            <a:off x="992160" y="2359080"/>
            <a:ext cx="5877000" cy="84600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07784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2. Ekstrawersja – 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ziom aktywności jednostki, liczba i intensywność jej relacji z innymi, skłonność do zabawy i odczuwanie pozytywnych emocj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owolny kształt 12"/>
          <p:cNvSpPr/>
          <p:nvPr/>
        </p:nvSpPr>
        <p:spPr>
          <a:xfrm>
            <a:off x="1430280" y="3322800"/>
            <a:ext cx="5878440" cy="84456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07784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3. Otwartość – 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topień, w jakim jednostka jest skłonna do poszukiwania nowych doświadczeń, czy jest otwarta na to, co niezna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owolny kształt 13"/>
          <p:cNvSpPr/>
          <p:nvPr/>
        </p:nvSpPr>
        <p:spPr>
          <a:xfrm>
            <a:off x="1870200" y="4284720"/>
            <a:ext cx="5876640" cy="846000"/>
          </a:xfrm>
          <a:prstGeom prst="pie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07784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4. Ugodowość – j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kość relacji z ludźmi, pozytywne lub negatywne nastawienie do innyc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Dowolny kształt 14"/>
          <p:cNvSpPr/>
          <p:nvPr/>
        </p:nvSpPr>
        <p:spPr>
          <a:xfrm>
            <a:off x="2308320" y="5248440"/>
            <a:ext cx="5878440" cy="844560"/>
          </a:xfrm>
          <a:prstGeom prst="pie">
            <a:avLst/>
          </a:prstGeom>
          <a:solidFill>
            <a:srgbClr val="98480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07784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5. Sumienność – s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opień zorganizowania, wytrwałość w dążeniu do celu oraz  motywacja do prac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owolny kształt 16"/>
          <p:cNvSpPr/>
          <p:nvPr/>
        </p:nvSpPr>
        <p:spPr>
          <a:xfrm>
            <a:off x="5881680" y="2014560"/>
            <a:ext cx="549360" cy="549360"/>
          </a:xfrm>
          <a:custGeom>
            <a:avLst/>
            <a:gdLst/>
            <a:ahLst/>
            <a:rect l="l" t="t" r="r" b="b"/>
            <a:pathLst>
              <a:path w="549466" h="549466">
                <a:moveTo>
                  <a:pt x="0" y="302206"/>
                </a:moveTo>
                <a:lnTo>
                  <a:pt x="123630" y="302206"/>
                </a:lnTo>
                <a:lnTo>
                  <a:pt x="123630" y="0"/>
                </a:lnTo>
                <a:lnTo>
                  <a:pt x="425836" y="0"/>
                </a:lnTo>
                <a:lnTo>
                  <a:pt x="425836" y="302206"/>
                </a:lnTo>
                <a:lnTo>
                  <a:pt x="549466" y="302206"/>
                </a:lnTo>
                <a:lnTo>
                  <a:pt x="274733" y="549466"/>
                </a:lnTo>
                <a:lnTo>
                  <a:pt x="0" y="302206"/>
                </a:lnTo>
                <a:close/>
              </a:path>
            </a:pathLst>
          </a:custGeom>
          <a:solidFill>
            <a:srgbClr val="e8d0d0">
              <a:alpha val="90000"/>
            </a:srgbClr>
          </a:solidFill>
          <a:ln w="25560">
            <a:solidFill>
              <a:srgbClr val="e8d0d0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5160" rIns="155160" tIns="31680" bIns="16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owolny kształt 17"/>
          <p:cNvSpPr/>
          <p:nvPr/>
        </p:nvSpPr>
        <p:spPr>
          <a:xfrm>
            <a:off x="6319800" y="2976480"/>
            <a:ext cx="549360" cy="550800"/>
          </a:xfrm>
          <a:custGeom>
            <a:avLst/>
            <a:gdLst/>
            <a:ahLst/>
            <a:rect l="l" t="t" r="r" b="b"/>
            <a:pathLst>
              <a:path w="549466" h="549466">
                <a:moveTo>
                  <a:pt x="0" y="302206"/>
                </a:moveTo>
                <a:lnTo>
                  <a:pt x="123630" y="302206"/>
                </a:lnTo>
                <a:lnTo>
                  <a:pt x="123630" y="0"/>
                </a:lnTo>
                <a:lnTo>
                  <a:pt x="425836" y="0"/>
                </a:lnTo>
                <a:lnTo>
                  <a:pt x="425836" y="302206"/>
                </a:lnTo>
                <a:lnTo>
                  <a:pt x="549466" y="302206"/>
                </a:lnTo>
                <a:lnTo>
                  <a:pt x="274733" y="549466"/>
                </a:lnTo>
                <a:lnTo>
                  <a:pt x="0" y="302206"/>
                </a:lnTo>
                <a:close/>
              </a:path>
            </a:pathLst>
          </a:custGeom>
          <a:solidFill>
            <a:srgbClr val="dee7d1">
              <a:alpha val="90000"/>
            </a:srgbClr>
          </a:solidFill>
          <a:ln w="25560">
            <a:solidFill>
              <a:srgbClr val="dee7d1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5160" rIns="155160" tIns="31680" bIns="16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olny kształt 18"/>
          <p:cNvSpPr/>
          <p:nvPr/>
        </p:nvSpPr>
        <p:spPr>
          <a:xfrm>
            <a:off x="6759720" y="3925800"/>
            <a:ext cx="549000" cy="549360"/>
          </a:xfrm>
          <a:custGeom>
            <a:avLst/>
            <a:gdLst/>
            <a:ahLst/>
            <a:rect l="l" t="t" r="r" b="b"/>
            <a:pathLst>
              <a:path w="549466" h="549466">
                <a:moveTo>
                  <a:pt x="0" y="302206"/>
                </a:moveTo>
                <a:lnTo>
                  <a:pt x="123630" y="302206"/>
                </a:lnTo>
                <a:lnTo>
                  <a:pt x="123630" y="0"/>
                </a:lnTo>
                <a:lnTo>
                  <a:pt x="425836" y="0"/>
                </a:lnTo>
                <a:lnTo>
                  <a:pt x="425836" y="302206"/>
                </a:lnTo>
                <a:lnTo>
                  <a:pt x="549466" y="302206"/>
                </a:lnTo>
                <a:lnTo>
                  <a:pt x="274733" y="549466"/>
                </a:lnTo>
                <a:lnTo>
                  <a:pt x="0" y="302206"/>
                </a:lnTo>
                <a:close/>
              </a:path>
            </a:pathLst>
          </a:custGeom>
          <a:solidFill>
            <a:srgbClr val="d8d3e0">
              <a:alpha val="90000"/>
            </a:srgbClr>
          </a:solidFill>
          <a:ln w="25560">
            <a:solidFill>
              <a:srgbClr val="d8d3e0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5160" rIns="155160" tIns="31680" bIns="16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owolny kształt 19"/>
          <p:cNvSpPr/>
          <p:nvPr/>
        </p:nvSpPr>
        <p:spPr>
          <a:xfrm>
            <a:off x="7197840" y="4897440"/>
            <a:ext cx="549000" cy="550800"/>
          </a:xfrm>
          <a:custGeom>
            <a:avLst/>
            <a:gdLst/>
            <a:ahLst/>
            <a:rect l="l" t="t" r="r" b="b"/>
            <a:pathLst>
              <a:path w="549466" h="549466">
                <a:moveTo>
                  <a:pt x="0" y="302206"/>
                </a:moveTo>
                <a:lnTo>
                  <a:pt x="123630" y="302206"/>
                </a:lnTo>
                <a:lnTo>
                  <a:pt x="123630" y="0"/>
                </a:lnTo>
                <a:lnTo>
                  <a:pt x="425836" y="0"/>
                </a:lnTo>
                <a:lnTo>
                  <a:pt x="425836" y="302206"/>
                </a:lnTo>
                <a:lnTo>
                  <a:pt x="549466" y="302206"/>
                </a:lnTo>
                <a:lnTo>
                  <a:pt x="274733" y="549466"/>
                </a:lnTo>
                <a:lnTo>
                  <a:pt x="0" y="302206"/>
                </a:lnTo>
                <a:close/>
              </a:path>
            </a:pathLst>
          </a:custGeom>
          <a:solidFill>
            <a:srgbClr val="d0e3ea">
              <a:alpha val="90000"/>
            </a:srgbClr>
          </a:solidFill>
          <a:ln w="25560">
            <a:solidFill>
              <a:srgbClr val="d0e3ea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5160" rIns="155160" tIns="31680" bIns="16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ole tekstowe 7"/>
          <p:cNvSpPr/>
          <p:nvPr/>
        </p:nvSpPr>
        <p:spPr>
          <a:xfrm>
            <a:off x="395280" y="476280"/>
            <a:ext cx="374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kstrawertywn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przyjacielskie, rozmowne, skłonne do zabawy i poszukiwania stymulacji oraz wykazują optymizm życiowy i pogodny nastrój, wykazują tendencję do dominowania w kontaktach społe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ole tekstowe 8"/>
          <p:cNvSpPr/>
          <p:nvPr/>
        </p:nvSpPr>
        <p:spPr>
          <a:xfrm>
            <a:off x="4500720" y="476280"/>
            <a:ext cx="36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rowertywn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wykazują rezerwę w kontaktach społecznych, brak optymizmu, który nie musi oznaczać pesymizmu czy braku szczęścia. Ponadto preferują przebywanie w samotności, są nieśmiałe, co nie oznacza lęku społecz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2295360" cy="2705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3"/>
          <a:stretch/>
        </p:blipFill>
        <p:spPr>
          <a:xfrm>
            <a:off x="5003640" y="3429000"/>
            <a:ext cx="29149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ole tekstowe 7"/>
          <p:cNvSpPr/>
          <p:nvPr/>
        </p:nvSpPr>
        <p:spPr>
          <a:xfrm>
            <a:off x="539640" y="549360"/>
            <a:ext cx="36007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z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soką neurotycznością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mają tendencję do silnego reagowania emocjonalnego nawet w sytuacjach niezbyt skłaniających do takich reakcji. Często wybuchają płaczem lub złością. Nie potrafią przyjmować informacji zwrotnej na swój tema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ole tekstowe 8"/>
          <p:cNvSpPr/>
          <p:nvPr/>
        </p:nvSpPr>
        <p:spPr>
          <a:xfrm>
            <a:off x="4643280" y="620640"/>
            <a:ext cx="36007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z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ską neurotycznością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emocjonalnie stabilne, spokojne, zrelaksowane i zdolne do zmagania się ze stresem, bez doświadczania obaw, napięć i rozdrażnienia. Znacznie skuteczniej kontrolują własne emocj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2849400" cy="2232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3"/>
          <a:stretch/>
        </p:blipFill>
        <p:spPr>
          <a:xfrm>
            <a:off x="4965840" y="3735360"/>
            <a:ext cx="3278160" cy="21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ole tekstowe 7"/>
          <p:cNvSpPr/>
          <p:nvPr/>
        </p:nvSpPr>
        <p:spPr>
          <a:xfrm>
            <a:off x="395280" y="836640"/>
            <a:ext cx="504036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użej ugodow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sympatyczne wobec innych i skłonne do udzielania im pomocy. Są prostolinijne, prostoduszne, szczere, altruistyczne, potulne i łagodne oraz skromne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uczuciowe w stosunku do ludzi. Wysoki poziom ugodowości często jest związany z tendencją do pomagan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ole tekstowe 8"/>
          <p:cNvSpPr/>
          <p:nvPr/>
        </p:nvSpPr>
        <p:spPr>
          <a:xfrm>
            <a:off x="3276720" y="3500280"/>
            <a:ext cx="504036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ło ugodowe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egocentryczne, sceptyczne w opiniach na temat intencji innych ludzi oraz przejawiają raczej nastawienie rywalizacyjne niż kooperatywne, są agresywne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oschłe w kontaktach z innymi ludźmi. Mają nieprzyjemny, a w skrajnych przypadkach wrogi stosunek do ludz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2770200" cy="175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2724120" cy="17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ole tekstowe 7"/>
          <p:cNvSpPr/>
          <p:nvPr/>
        </p:nvSpPr>
        <p:spPr>
          <a:xfrm>
            <a:off x="3564000" y="549360"/>
            <a:ext cx="468000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użej sumienn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wykazują silną wolę, są zmotywowane do działania oraz wytrwałe w realizowaniu swoich celów. Są postrzegane jako skrupulatne, punktualne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rzetelne w pracy. Mogą także przejawiać perfekcjonizm i pracoholizm, a także skłonność do utrzymywania porządk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ole tekstowe 8"/>
          <p:cNvSpPr/>
          <p:nvPr/>
        </p:nvSpPr>
        <p:spPr>
          <a:xfrm>
            <a:off x="395280" y="3068640"/>
            <a:ext cx="47530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łej sumienności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znaczają się mniejszym nasileniem cech poprzednio wymienionych. Wykazują raczej małą skrupulatność w wypełnianiu obowiązków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małą motywację osiągnięć społecznych, hedonistyczne nastawienie do życia, brak jasno sprecyzowanych celów życiowych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rozleniwienie oraz impulsywność przy podejmowaniu decyzji i spontaniczność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działani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002040" cy="1906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3"/>
          <a:stretch/>
        </p:blipFill>
        <p:spPr>
          <a:xfrm>
            <a:off x="539640" y="692280"/>
            <a:ext cx="2933640" cy="186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1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ole tekstowe 7"/>
          <p:cNvSpPr/>
          <p:nvPr/>
        </p:nvSpPr>
        <p:spPr>
          <a:xfrm>
            <a:off x="395280" y="549360"/>
            <a:ext cx="50403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użej otwart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ciekawe zjawisk zarówno świata zewnętrznego, jak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wewnętrznego oraz mają życie bogatsze pod względem liczby doświadczeń i przeżyć. Są kreatywne, mają żywą i twórczą wyobraźnię, wykazują intelektualną ciekawość i dużą wrażliwość estetyczną. Są także niekonwencjonalne, skłonne do kwestionowania autorytetów, niezależne w sądac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ole tekstowe 8"/>
          <p:cNvSpPr/>
          <p:nvPr/>
        </p:nvSpPr>
        <p:spPr>
          <a:xfrm>
            <a:off x="3492360" y="3789360"/>
            <a:ext cx="47516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łej otwart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natomiast konwencjonalne w zachowaniu i konserwatywne w poglądach. Cenią sobie tradycyjne wartości, mają pragmatyczne zainteresowania i preferują uznane społecznie sposoby działan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2789280" cy="1770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295272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pcja Holl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2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ole tekstowe 6"/>
          <p:cNvSpPr/>
          <p:nvPr/>
        </p:nvSpPr>
        <p:spPr>
          <a:xfrm>
            <a:off x="468360" y="134136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del sześciu typów osobowości stworzony przez Hollanda pozwala dokonać rozpoznania cech i umiejętności w zakresie planowania swojej przyszłej kariery zawod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Diagram 7" descr=""/>
          <p:cNvPicPr/>
          <p:nvPr/>
        </p:nvPicPr>
        <p:blipFill>
          <a:blip r:embed="rId2"/>
          <a:stretch/>
        </p:blipFill>
        <p:spPr>
          <a:xfrm>
            <a:off x="523800" y="2620800"/>
            <a:ext cx="4638600" cy="3286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4716360" y="3573360"/>
            <a:ext cx="357048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2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ole tekstowe 7"/>
          <p:cNvSpPr/>
          <p:nvPr/>
        </p:nvSpPr>
        <p:spPr>
          <a:xfrm>
            <a:off x="468360" y="476280"/>
            <a:ext cx="41749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badawcz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dąży do zrozumienia otaczającego świata, poszukując prawideł nim rządzących. Ma zdolności matematyczne i naukowe. Lubi badać zjawiska fizyczne, biologiczne, kulturowe. Nauka stanowi dla niego szczególną wartoś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ole tekstowe 10"/>
          <p:cNvSpPr/>
          <p:nvPr/>
        </p:nvSpPr>
        <p:spPr>
          <a:xfrm>
            <a:off x="3924360" y="3213000"/>
            <a:ext cx="42480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artystyczn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referuje zachowania kreatywne i umożliwiające wyrażanie samego siebie. Cechuje go szczególna wyobraźnia. Ma zdolności artystyczne,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j. pisarstwo, malowanie, szkicowanie, aktorstwo, taniec, muzyka. W celu wytwarzania dzieł sztuki posługuje się materiałem fizycznym, słownym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ludzkim. Estetyka jest dla niego wartością samą w sobi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3295800" cy="2087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365280" cy="213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3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ole tekstowe 7"/>
          <p:cNvSpPr/>
          <p:nvPr/>
        </p:nvSpPr>
        <p:spPr>
          <a:xfrm>
            <a:off x="3492360" y="549360"/>
            <a:ext cx="475164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społeczn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ragnie nade wszystko pomagać ludziom. Chce informować, szkolić, leczyć innych, opiekować się ludźmi, wspierać ich. Takie osoby charakteryzują zdolności interpersonalne, pedagogiczne i postawa prospołeczna. Etyka i moralność stanowią dla nich wielką wartoś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ole tekstowe 8"/>
          <p:cNvSpPr/>
          <p:nvPr/>
        </p:nvSpPr>
        <p:spPr>
          <a:xfrm>
            <a:off x="395280" y="3068640"/>
            <a:ext cx="468144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przedsiębiorcz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lubi pracę z ludźmi, ale ukierunkowaną niejednokrotnie na korzyści materialne. Nastawiony na osiąganie korzyści ekonomicznych, ale także przewodzenie, wpływanie na innych. Charakteryzują go kompetencje przywódcze, sprawdza się w kierowaniu zespołami. Zna się na organizacji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zarządzaniu. Pełen ambicji, dominujący, dopuszczający manipulowanie innymi, jeżeli miałoby to zaważyć na osiągnięciu celó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3005280" cy="1908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3"/>
          <a:stretch/>
        </p:blipFill>
        <p:spPr>
          <a:xfrm>
            <a:off x="5148360" y="3500280"/>
            <a:ext cx="3149640" cy="20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ole tekstowe 7"/>
          <p:cNvSpPr/>
          <p:nvPr/>
        </p:nvSpPr>
        <p:spPr>
          <a:xfrm>
            <a:off x="395280" y="620640"/>
            <a:ext cx="47530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konwencjonaln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referuje pracę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danymi, ich porządkowaniem i strukturą. Jego kompetencje można określić jako „biurowe”. Jest dobrze zorganizowany, wyróżniają go zdolności urzędnicze, arytmetyczne. Jest rozważny, konwencjonalny w swoich działaniach. Wszelka ekstrawagancja jest mu ob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ole tekstowe 8"/>
          <p:cNvSpPr/>
          <p:nvPr/>
        </p:nvSpPr>
        <p:spPr>
          <a:xfrm>
            <a:off x="3780000" y="3500280"/>
            <a:ext cx="4464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realistyczn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reprezentowany jest przez osoby, które lubią pracować z narzędziami, maszynami, roślinami i zwierzętami. Posiada kompetencje manualne, mechaniczne, rolnicze, techniczne. Charakteryzuje go sprawność fizyczn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5219640" y="765000"/>
            <a:ext cx="3024360" cy="1919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329400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ole tekstowe 10"/>
          <p:cNvSpPr/>
          <p:nvPr/>
        </p:nvSpPr>
        <p:spPr>
          <a:xfrm>
            <a:off x="498960" y="3213000"/>
            <a:ext cx="68601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adają się na nieg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starczane nam przez innych ludzi informacje na nasz temat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cena wyników naszych własnych działań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fekty dokonywanych przez nas porównań siebie z innymi ludźm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upa 16"/>
          <p:cNvGrpSpPr/>
          <p:nvPr/>
        </p:nvGrpSpPr>
        <p:grpSpPr>
          <a:xfrm>
            <a:off x="468360" y="5229360"/>
            <a:ext cx="7632720" cy="720720"/>
            <a:chOff x="468360" y="5229360"/>
            <a:chExt cx="7632720" cy="720720"/>
          </a:xfrm>
        </p:grpSpPr>
        <p:sp>
          <p:nvSpPr>
            <p:cNvPr id="105" name="Prostokąt zaokrąglony 12"/>
            <p:cNvSpPr/>
            <p:nvPr/>
          </p:nvSpPr>
          <p:spPr>
            <a:xfrm>
              <a:off x="468360" y="5229360"/>
              <a:ext cx="7632720" cy="72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ole tekstowe 11"/>
            <p:cNvSpPr/>
            <p:nvPr/>
          </p:nvSpPr>
          <p:spPr>
            <a:xfrm>
              <a:off x="468360" y="5373360"/>
              <a:ext cx="76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konanie samooceny wzbogaca wiedzę o nas samy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upa 14"/>
          <p:cNvGrpSpPr/>
          <p:nvPr/>
        </p:nvGrpSpPr>
        <p:grpSpPr>
          <a:xfrm>
            <a:off x="395280" y="404640"/>
            <a:ext cx="7875720" cy="2789640"/>
            <a:chOff x="395280" y="404640"/>
            <a:chExt cx="7875720" cy="2789640"/>
          </a:xfrm>
        </p:grpSpPr>
        <p:sp>
          <p:nvSpPr>
            <p:cNvPr id="108" name="pole tekstowe 7"/>
            <p:cNvSpPr/>
            <p:nvPr/>
          </p:nvSpPr>
          <p:spPr>
            <a:xfrm>
              <a:off x="395280" y="404640"/>
              <a:ext cx="5184360" cy="18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o, co myślimy o sobie, czyli nasz własny obraz samego siebie, ma ogromny wpływ na nasze życie, na to, jak się zachowujemy, jaki mamy stosunek do siebie i do innych ludzi.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2" descr=""/>
            <p:cNvPicPr/>
            <p:nvPr/>
          </p:nvPicPr>
          <p:blipFill>
            <a:blip r:embed="rId5"/>
            <a:stretch/>
          </p:blipFill>
          <p:spPr>
            <a:xfrm>
              <a:off x="5651640" y="548640"/>
              <a:ext cx="261936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pole tekstowe 13"/>
            <p:cNvSpPr/>
            <p:nvPr/>
          </p:nvSpPr>
          <p:spPr>
            <a:xfrm>
              <a:off x="395280" y="227736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braz samego siebie kształtuje się od najmłodszych lat życia. Jest on zawsze bardziej lub mniej subiektywn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ole tekstowe 7"/>
          <p:cNvSpPr/>
          <p:nvPr/>
        </p:nvSpPr>
        <p:spPr>
          <a:xfrm>
            <a:off x="324000" y="189000"/>
            <a:ext cx="7920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łówne czynniki psychologiczne tworzące psychiczny obraz człowiek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upa 17"/>
          <p:cNvGrpSpPr/>
          <p:nvPr/>
        </p:nvGrpSpPr>
        <p:grpSpPr>
          <a:xfrm>
            <a:off x="539640" y="1413000"/>
            <a:ext cx="7345440" cy="1576440"/>
            <a:chOff x="539640" y="1413000"/>
            <a:chExt cx="7345440" cy="1576440"/>
          </a:xfrm>
        </p:grpSpPr>
        <p:sp>
          <p:nvSpPr>
            <p:cNvPr id="116" name="Dowolny kształt 11"/>
            <p:cNvSpPr/>
            <p:nvPr/>
          </p:nvSpPr>
          <p:spPr>
            <a:xfrm>
              <a:off x="539640" y="1413000"/>
              <a:ext cx="7345440" cy="157644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10360" rIns="83880" tIns="83880" bIns="83880" anchor="ctr">
              <a:noAutofit/>
            </a:bodyPr>
            <a:p>
              <a:pPr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cechy wrodzone</a:t>
              </a:r>
              <a:r>
                <a:rPr b="0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: temperament i inteligenc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rostokąt zaokrąglony 12"/>
            <p:cNvSpPr/>
            <p:nvPr/>
          </p:nvSpPr>
          <p:spPr>
            <a:xfrm>
              <a:off x="696600" y="1569960"/>
              <a:ext cx="1931760" cy="126216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upa 18"/>
          <p:cNvGrpSpPr/>
          <p:nvPr/>
        </p:nvGrpSpPr>
        <p:grpSpPr>
          <a:xfrm>
            <a:off x="539640" y="3147840"/>
            <a:ext cx="7345440" cy="1576440"/>
            <a:chOff x="539640" y="3147840"/>
            <a:chExt cx="7345440" cy="1576440"/>
          </a:xfrm>
        </p:grpSpPr>
        <p:sp>
          <p:nvSpPr>
            <p:cNvPr id="119" name="Dowolny kształt 13"/>
            <p:cNvSpPr/>
            <p:nvPr/>
          </p:nvSpPr>
          <p:spPr>
            <a:xfrm>
              <a:off x="539640" y="3147840"/>
              <a:ext cx="7345440" cy="157644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10360" rIns="83880" tIns="83880" bIns="83880" anchor="ctr">
              <a:noAutofit/>
            </a:bodyPr>
            <a:p>
              <a:pPr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cechy nabyte</a:t>
              </a:r>
              <a:r>
                <a:rPr b="0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: charakter, osobowość, system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</a:t>
              </a:r>
              <a:r>
                <a:rPr b="0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artości i motywac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Prostokąt zaokrąglony 14"/>
            <p:cNvSpPr/>
            <p:nvPr/>
          </p:nvSpPr>
          <p:spPr>
            <a:xfrm>
              <a:off x="696600" y="3304800"/>
              <a:ext cx="1931760" cy="126216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ole tekstowe 16"/>
          <p:cNvSpPr/>
          <p:nvPr/>
        </p:nvSpPr>
        <p:spPr>
          <a:xfrm>
            <a:off x="324000" y="501336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 ważnych czynników psychiki wyznaczających nasze zachowania należą również: percepcja, indywidualne zdolności i potrz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Dowolny kształt 10"/>
          <p:cNvSpPr/>
          <p:nvPr/>
        </p:nvSpPr>
        <p:spPr>
          <a:xfrm>
            <a:off x="3276720" y="2349360"/>
            <a:ext cx="2016000" cy="165600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zynniki psycholog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olny kształt 11"/>
          <p:cNvSpPr/>
          <p:nvPr/>
        </p:nvSpPr>
        <p:spPr>
          <a:xfrm rot="16200000">
            <a:off x="4022640" y="2104560"/>
            <a:ext cx="40932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0" y="15653"/>
                </a:moveTo>
                <a:lnTo>
                  <a:pt x="408142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owolny kształt 12"/>
          <p:cNvSpPr/>
          <p:nvPr/>
        </p:nvSpPr>
        <p:spPr>
          <a:xfrm>
            <a:off x="3348000" y="189000"/>
            <a:ext cx="1800360" cy="17319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dolności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 inteligen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wolny kształt 13"/>
          <p:cNvSpPr/>
          <p:nvPr/>
        </p:nvSpPr>
        <p:spPr>
          <a:xfrm rot="19800000">
            <a:off x="5146560" y="2476080"/>
            <a:ext cx="40824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0" y="15653"/>
                </a:moveTo>
                <a:lnTo>
                  <a:pt x="408142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wolny kształt 14"/>
          <p:cNvSpPr/>
          <p:nvPr/>
        </p:nvSpPr>
        <p:spPr>
          <a:xfrm>
            <a:off x="5435640" y="1125360"/>
            <a:ext cx="1816200" cy="1603440"/>
          </a:xfrm>
          <a:prstGeom prst="pie">
            <a:avLst/>
          </a:prstGeom>
          <a:solidFill>
            <a:srgbClr val="bf6f4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ystem potrzeb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 motyw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owolny kształt 16"/>
          <p:cNvSpPr/>
          <p:nvPr/>
        </p:nvSpPr>
        <p:spPr>
          <a:xfrm rot="1800000">
            <a:off x="5200560" y="3528720"/>
            <a:ext cx="40824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0" y="15653"/>
                </a:moveTo>
                <a:lnTo>
                  <a:pt x="408142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owolny kształt 17"/>
          <p:cNvSpPr/>
          <p:nvPr/>
        </p:nvSpPr>
        <p:spPr>
          <a:xfrm>
            <a:off x="5508720" y="3213000"/>
            <a:ext cx="1743120" cy="1563840"/>
          </a:xfrm>
          <a:prstGeom prst="pie">
            <a:avLst/>
          </a:prstGeom>
          <a:solidFill>
            <a:srgbClr val="be8d5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hara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owolny kształt 18"/>
          <p:cNvSpPr/>
          <p:nvPr/>
        </p:nvSpPr>
        <p:spPr>
          <a:xfrm rot="5400000">
            <a:off x="4167720" y="4193280"/>
            <a:ext cx="40788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0" y="15653"/>
                </a:moveTo>
                <a:lnTo>
                  <a:pt x="408142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owolny kształt 19"/>
          <p:cNvSpPr/>
          <p:nvPr/>
        </p:nvSpPr>
        <p:spPr>
          <a:xfrm>
            <a:off x="3564000" y="4437000"/>
            <a:ext cx="1612800" cy="1581120"/>
          </a:xfrm>
          <a:prstGeom prst="pie">
            <a:avLst/>
          </a:prstGeom>
          <a:solidFill>
            <a:srgbClr val="bda95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sobow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wolny kształt 20"/>
          <p:cNvSpPr/>
          <p:nvPr/>
        </p:nvSpPr>
        <p:spPr>
          <a:xfrm rot="19800000">
            <a:off x="2968560" y="3600000"/>
            <a:ext cx="40788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408142" y="15653"/>
                </a:moveTo>
                <a:lnTo>
                  <a:pt x="0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owolny kształt 21"/>
          <p:cNvSpPr/>
          <p:nvPr/>
        </p:nvSpPr>
        <p:spPr>
          <a:xfrm>
            <a:off x="1332000" y="3284640"/>
            <a:ext cx="1815840" cy="1660320"/>
          </a:xfrm>
          <a:prstGeom prst="pie">
            <a:avLst/>
          </a:prstGeom>
          <a:solidFill>
            <a:srgbClr val="b5bc5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emper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owolny kształt 22"/>
          <p:cNvSpPr/>
          <p:nvPr/>
        </p:nvSpPr>
        <p:spPr>
          <a:xfrm rot="1800000">
            <a:off x="3029040" y="2476440"/>
            <a:ext cx="40788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408142" y="15653"/>
                </a:moveTo>
                <a:lnTo>
                  <a:pt x="0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owolny kształt 23"/>
          <p:cNvSpPr/>
          <p:nvPr/>
        </p:nvSpPr>
        <p:spPr>
          <a:xfrm>
            <a:off x="1476360" y="1268280"/>
            <a:ext cx="1671480" cy="165600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ercep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ole tekstowe 24"/>
          <p:cNvSpPr/>
          <p:nvPr/>
        </p:nvSpPr>
        <p:spPr>
          <a:xfrm>
            <a:off x="2762640" y="6308640"/>
            <a:ext cx="5481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Źródło: J.F. Terelak, </a:t>
            </a:r>
            <a:r>
              <a:rPr b="0" i="1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ychologia menedżera</a:t>
            </a: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Difin, Warszawa 1999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ole tekstowe 7"/>
          <p:cNvSpPr/>
          <p:nvPr/>
        </p:nvSpPr>
        <p:spPr>
          <a:xfrm>
            <a:off x="324000" y="333360"/>
            <a:ext cx="7920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(po łacinie </a:t>
            </a:r>
            <a:r>
              <a:rPr b="0" i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ersona)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ierwotnie oznaczało maskę teatralną używaną przez starożytnych aktorów dramatycznyc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a 13"/>
          <p:cNvGrpSpPr/>
          <p:nvPr/>
        </p:nvGrpSpPr>
        <p:grpSpPr>
          <a:xfrm>
            <a:off x="468360" y="1916280"/>
            <a:ext cx="7559640" cy="1873080"/>
            <a:chOff x="468360" y="1916280"/>
            <a:chExt cx="7559640" cy="1873080"/>
          </a:xfrm>
        </p:grpSpPr>
        <p:sp>
          <p:nvSpPr>
            <p:cNvPr id="144" name="Prostokąt zaokrąglony 10"/>
            <p:cNvSpPr/>
            <p:nvPr/>
          </p:nvSpPr>
          <p:spPr>
            <a:xfrm>
              <a:off x="468360" y="1916280"/>
              <a:ext cx="7559640" cy="18730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ole tekstowe 8"/>
            <p:cNvSpPr/>
            <p:nvPr/>
          </p:nvSpPr>
          <p:spPr>
            <a:xfrm>
              <a:off x="612360" y="1916280"/>
              <a:ext cx="7271640" cy="18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Osobowość to złożony wzorzec głęboko zakorzenionych cech psychologicznych, wyrażanych w sposób automatyczny niemal w każdej sferze funkcjonowania psychologicznego i zachowań człowieka</a:t>
              </a:r>
              <a:r>
                <a:rPr b="0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ole tekstowe 11"/>
          <p:cNvSpPr/>
          <p:nvPr/>
        </p:nvSpPr>
        <p:spPr>
          <a:xfrm>
            <a:off x="395280" y="4076640"/>
            <a:ext cx="691344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y zrozumieć istotę czyjejś osobowości, musimy zrozumieć to, co ta osoba ma wspólnego z innymi, ale także i to, co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niej jest jedyne i niepowtarzal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380360" y="3933720"/>
            <a:ext cx="874800" cy="1871640"/>
          </a:xfrm>
          <a:prstGeom prst="rect">
            <a:avLst/>
          </a:prstGeom>
          <a:ln w="0">
            <a:noFill/>
          </a:ln>
        </p:spPr>
      </p:pic>
      <p:sp>
        <p:nvSpPr>
          <p:cNvPr id="148" name="pole tekstowe 12"/>
          <p:cNvSpPr/>
          <p:nvPr/>
        </p:nvSpPr>
        <p:spPr>
          <a:xfrm>
            <a:off x="991080" y="5805360"/>
            <a:ext cx="66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człowieka kształtuje się w pierwszych latach ży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upa 16"/>
          <p:cNvGrpSpPr/>
          <p:nvPr/>
        </p:nvGrpSpPr>
        <p:grpSpPr>
          <a:xfrm>
            <a:off x="471600" y="549360"/>
            <a:ext cx="3755880" cy="5688000"/>
            <a:chOff x="471600" y="549360"/>
            <a:chExt cx="3755880" cy="5688000"/>
          </a:xfrm>
        </p:grpSpPr>
        <p:sp>
          <p:nvSpPr>
            <p:cNvPr id="153" name="Dowolny kształt 10"/>
            <p:cNvSpPr/>
            <p:nvPr/>
          </p:nvSpPr>
          <p:spPr>
            <a:xfrm>
              <a:off x="471600" y="549360"/>
              <a:ext cx="3755880" cy="568800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2417760" bIns="1279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Na proces tworzenia się osobowości ma wpływ szereg czynników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dziedziczność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środowisko rodzinn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specyfika kulturowa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przynależność do grup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społecznej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osobiste doświadczenia itp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rostokąt 11"/>
            <p:cNvSpPr/>
            <p:nvPr/>
          </p:nvSpPr>
          <p:spPr>
            <a:xfrm>
              <a:off x="1401840" y="890640"/>
              <a:ext cx="1895400" cy="18939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upa 17"/>
          <p:cNvGrpSpPr/>
          <p:nvPr/>
        </p:nvGrpSpPr>
        <p:grpSpPr>
          <a:xfrm>
            <a:off x="4340160" y="549360"/>
            <a:ext cx="3757680" cy="5688000"/>
            <a:chOff x="4340160" y="549360"/>
            <a:chExt cx="3757680" cy="5688000"/>
          </a:xfrm>
        </p:grpSpPr>
        <p:sp>
          <p:nvSpPr>
            <p:cNvPr id="156" name="Dowolny kształt 12"/>
            <p:cNvSpPr/>
            <p:nvPr/>
          </p:nvSpPr>
          <p:spPr>
            <a:xfrm>
              <a:off x="4340160" y="549360"/>
              <a:ext cx="3757680" cy="568800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2417760" bIns="1279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nikiem tego wszystkiego jest jednostka, któr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jest trochę taka jak inni ludzi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trochę jak niektórzy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trochę jak ktoś inny, kto usiłuje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osiągnąć samorealizację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integrację ze swoi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środowiski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rostokąt 13"/>
            <p:cNvSpPr/>
            <p:nvPr/>
          </p:nvSpPr>
          <p:spPr>
            <a:xfrm>
              <a:off x="5271840" y="890640"/>
              <a:ext cx="1893960" cy="1893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Strzałka w lewo i prawo 14"/>
          <p:cNvSpPr/>
          <p:nvPr/>
        </p:nvSpPr>
        <p:spPr>
          <a:xfrm>
            <a:off x="3635280" y="5300640"/>
            <a:ext cx="1290600" cy="853920"/>
          </a:xfrm>
          <a:prstGeom prst="leftRightArrow">
            <a:avLst>
              <a:gd name="adj1" fmla="val 50000"/>
              <a:gd name="adj2" fmla="val 50008"/>
            </a:avLst>
          </a:prstGeom>
          <a:solidFill>
            <a:srgbClr val="dcb3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ole tekstowe 7"/>
          <p:cNvSpPr/>
          <p:nvPr/>
        </p:nvSpPr>
        <p:spPr>
          <a:xfrm>
            <a:off x="478440" y="62064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 może być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cn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ub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łab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upa 12"/>
          <p:cNvGrpSpPr/>
          <p:nvPr/>
        </p:nvGrpSpPr>
        <p:grpSpPr>
          <a:xfrm>
            <a:off x="468360" y="1628640"/>
            <a:ext cx="7829640" cy="1923480"/>
            <a:chOff x="468360" y="1628640"/>
            <a:chExt cx="7829640" cy="1923480"/>
          </a:xfrm>
        </p:grpSpPr>
        <p:sp>
          <p:nvSpPr>
            <p:cNvPr id="164" name="pole tekstowe 8"/>
            <p:cNvSpPr/>
            <p:nvPr/>
          </p:nvSpPr>
          <p:spPr>
            <a:xfrm>
              <a:off x="468360" y="1628640"/>
              <a:ext cx="48963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cnej osobowośc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możemy mówić wtedy, gdy jest ona stabilna, względnie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trwale wiążąca struktury i procesy psychiczne człowieka, nie wyczerpuje się szybko i przejawia się siłą przebicia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kontaktach z innym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2" descr=""/>
            <p:cNvPicPr/>
            <p:nvPr/>
          </p:nvPicPr>
          <p:blipFill>
            <a:blip r:embed="rId2"/>
            <a:stretch/>
          </p:blipFill>
          <p:spPr>
            <a:xfrm>
              <a:off x="5436720" y="1628640"/>
              <a:ext cx="2861280" cy="181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upa 13"/>
          <p:cNvGrpSpPr/>
          <p:nvPr/>
        </p:nvGrpSpPr>
        <p:grpSpPr>
          <a:xfrm>
            <a:off x="539640" y="4005360"/>
            <a:ext cx="7704360" cy="1550880"/>
            <a:chOff x="539640" y="4005360"/>
            <a:chExt cx="7704360" cy="1550880"/>
          </a:xfrm>
        </p:grpSpPr>
        <p:sp>
          <p:nvSpPr>
            <p:cNvPr id="167" name="pole tekstowe 10"/>
            <p:cNvSpPr/>
            <p:nvPr/>
          </p:nvSpPr>
          <p:spPr>
            <a:xfrm>
              <a:off x="3059640" y="4293000"/>
              <a:ext cx="5184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Ludzie o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łabej osobowośc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ulegają impulsom, niekontrolowanym emocjom, są bardziej podatni na str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3" descr=""/>
            <p:cNvPicPr/>
            <p:nvPr/>
          </p:nvPicPr>
          <p:blipFill>
            <a:blip r:embed="rId3"/>
            <a:stretch/>
          </p:blipFill>
          <p:spPr>
            <a:xfrm>
              <a:off x="539640" y="4005360"/>
              <a:ext cx="244800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ryteria dojrzałej osobowości według Alport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Dowolny kształt 8"/>
          <p:cNvSpPr/>
          <p:nvPr/>
        </p:nvSpPr>
        <p:spPr>
          <a:xfrm>
            <a:off x="1547640" y="6165720"/>
            <a:ext cx="5616720" cy="36684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12816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7. Umiejętność budowania własnej filozofii życia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wolny kształt 10"/>
          <p:cNvSpPr/>
          <p:nvPr/>
        </p:nvSpPr>
        <p:spPr>
          <a:xfrm>
            <a:off x="468360" y="5373720"/>
            <a:ext cx="7775640" cy="7858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40356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6. Otwartość na opinie innych ludzi – 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la zdrowej osobowości jest to bogate źródło pogłębiające rozumienie samego siebie i własne relacji z innymi ludźm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owolny kształt 11"/>
          <p:cNvSpPr/>
          <p:nvPr/>
        </p:nvSpPr>
        <p:spPr>
          <a:xfrm>
            <a:off x="468360" y="4581360"/>
            <a:ext cx="7775640" cy="7858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40356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5. Potrzeba posiadania kompetencji – 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nabywanie nowych lub doskonalenie już posiadanych umiejętnośc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wolny kształt 12"/>
          <p:cNvSpPr/>
          <p:nvPr/>
        </p:nvSpPr>
        <p:spPr>
          <a:xfrm>
            <a:off x="468360" y="4005360"/>
            <a:ext cx="7775640" cy="5698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40356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4. Realistyczne postrzeganie rzeczywistości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owolny kształt 13"/>
          <p:cNvSpPr/>
          <p:nvPr/>
        </p:nvSpPr>
        <p:spPr>
          <a:xfrm>
            <a:off x="468360" y="2781360"/>
            <a:ext cx="7775640" cy="117792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760" rIns="113760" tIns="113760" bIns="389160" anchor="b">
            <a:no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3. Poczucie emocjonalnego bezpieczeństwa – 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iąże się z realistycznym poziomem samoakceptacji, który obejmuje zarówno umiejętność optymistycznego godzenia się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własnymi słabościami, jak i tolerancją na różnego typu frustrac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wolny kształt 14"/>
          <p:cNvSpPr/>
          <p:nvPr/>
        </p:nvSpPr>
        <p:spPr>
          <a:xfrm>
            <a:off x="468360" y="2276640"/>
            <a:ext cx="7775640" cy="48564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82440" bIns="35784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2. Okazywanie ciepła w relacjach z innymi ludźmi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Dowolny kształt 16"/>
          <p:cNvSpPr/>
          <p:nvPr/>
        </p:nvSpPr>
        <p:spPr>
          <a:xfrm>
            <a:off x="468360" y="1125360"/>
            <a:ext cx="7775640" cy="11512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403560" anchor="b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. Udzielanie się na zewnątrz – 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ngażowanie się w aktywność jest cechą dojrzałej osobowości. Im bardziej człowiek włącza się w różnego typu działania związane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innymi ludźmi, ideami lub zadaniami, tym bardziej dojrzała jest jego osobowość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0:58:22Z</dcterms:created>
  <dc:creator>x</dc:creator>
  <dc:description/>
  <dc:language>en-US</dc:language>
  <cp:lastModifiedBy>Marta</cp:lastModifiedBy>
  <dcterms:modified xsi:type="dcterms:W3CDTF">2013-01-31T15:00:25Z</dcterms:modified>
  <cp:revision>65</cp:revision>
  <dc:subject/>
  <dc:title>Slajd 1</dc:title>
</cp:coreProperties>
</file>