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9.jpeg" ContentType="image/jpeg"/>
  <Override PartName="/ppt/media/image6.png" ContentType="image/png"/>
  <Override PartName="/ppt/media/image36.png" ContentType="image/png"/>
  <Override PartName="/ppt/media/image12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8.jpeg" ContentType="image/jpeg"/>
  <Override PartName="/ppt/media/image18.png" ContentType="image/png"/>
  <Override PartName="/ppt/media/image28.png" ContentType="image/png"/>
  <Override PartName="/ppt/media/image7.jpeg" ContentType="image/jpeg"/>
  <Override PartName="/ppt/media/image31.jpeg" ContentType="image/jpeg"/>
  <Override PartName="/ppt/media/image13.png" ContentType="image/png"/>
  <Override PartName="/ppt/media/image37.png" ContentType="image/pn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20.png" ContentType="image/png"/>
  <Override PartName="/ppt/media/image2.jpeg" ContentType="image/jpe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69B7-BBF8-4C9B-8B5D-28953536BBE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9B9F-B8E0-48DD-93F1-53E07EB095A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F9DC-4695-4FE0-B7F2-5BB993942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D709-EEE9-48AC-B83E-C8930E4C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6C34-4B3B-4FA2-88E9-1FD54025F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D829-8332-411E-8C5F-FDF03F167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E3831-38DA-48E7-BF22-734E7FD68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083D-A6BA-4101-B03B-279AF680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4F7F-E51C-4F65-8844-59DF984D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F9CFE-D9C2-43C4-9AC7-9CD45E03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F9641-605D-49F6-B9F0-A65F6105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3195E-13E6-401B-8E89-E7E30C1B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8A32-4236-4EA0-ABDE-FEE2155F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E90D-67CE-48F1-AA45-71A2A366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3DFC-235E-4C33-8048-F68B0105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E9C7-12BD-4016-85CC-FC7CDC2A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8D7F-E209-4DDE-8227-B1BEC85B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6F00-6277-4A94-B658-F17BD033D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8CDC-23B8-4B1E-A65A-EDE0664DE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56B4-678E-4C4E-913A-5876D5F4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3467-521C-4610-A90C-08BCDAA1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68AB-CF1B-46E9-95ED-7E0A6BC8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D2F6-BF1E-463A-BD22-91182B75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D669-A05F-4E10-9273-08171519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4A09-E7A6-4E2A-93C1-33B5B176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A0FE-058B-4F64-92F8-884A897D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9137-73DE-4219-8748-AFE90204932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upa 6"/>
          <p:cNvGrpSpPr/>
          <p:nvPr/>
        </p:nvGrpSpPr>
        <p:grpSpPr>
          <a:xfrm>
            <a:off x="8720280" y="549360"/>
            <a:ext cx="423720" cy="6335640"/>
            <a:chOff x="8720280" y="549360"/>
            <a:chExt cx="423720" cy="6335640"/>
          </a:xfrm>
        </p:grpSpPr>
        <p:sp>
          <p:nvSpPr>
            <p:cNvPr id="42" name="pole tekstowe 7"/>
            <p:cNvSpPr/>
            <p:nvPr/>
          </p:nvSpPr>
          <p:spPr>
            <a:xfrm rot="5400000">
              <a:off x="6015600" y="3756600"/>
              <a:ext cx="585756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AUTOPREZENTACJ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Picture 2" descr="C:\Users\Marta\Desktop\sowa\sowa_2-autoprezentacja.png"/>
            <p:cNvPicPr/>
            <p:nvPr/>
          </p:nvPicPr>
          <p:blipFill>
            <a:blip r:embed="rId2"/>
            <a:stretch/>
          </p:blipFill>
          <p:spPr>
            <a:xfrm>
              <a:off x="8720280" y="549360"/>
              <a:ext cx="423720" cy="47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01F99-6937-4AA2-81EA-049BB166F46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7295-E64B-4849-AEC4-ABD9DAC3A75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raz 8" descr="naglowek_obowiazujacy_usw kolor"/>
          <p:cNvPicPr/>
          <p:nvPr/>
        </p:nvPicPr>
        <p:blipFill>
          <a:blip r:embed="rId1"/>
          <a:stretch/>
        </p:blipFill>
        <p:spPr>
          <a:xfrm>
            <a:off x="1071720" y="5742000"/>
            <a:ext cx="7135560" cy="1116000"/>
          </a:xfrm>
          <a:prstGeom prst="rect">
            <a:avLst/>
          </a:prstGeom>
          <a:ln w="0">
            <a:noFill/>
          </a:ln>
        </p:spPr>
      </p:pic>
      <p:sp>
        <p:nvSpPr>
          <p:cNvPr id="94" name="pole tekstowe 9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AUTOPREZENTAC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upa 9"/>
          <p:cNvGrpSpPr/>
          <p:nvPr/>
        </p:nvGrpSpPr>
        <p:grpSpPr>
          <a:xfrm>
            <a:off x="611280" y="1989000"/>
            <a:ext cx="1008000" cy="711360"/>
            <a:chOff x="611280" y="1989000"/>
            <a:chExt cx="1008000" cy="711360"/>
          </a:xfrm>
        </p:grpSpPr>
        <p:sp>
          <p:nvSpPr>
            <p:cNvPr id="96" name="Prostokąt zaokrąglony 11"/>
            <p:cNvSpPr/>
            <p:nvPr/>
          </p:nvSpPr>
          <p:spPr>
            <a:xfrm>
              <a:off x="611280" y="1989000"/>
              <a:ext cx="1008000" cy="71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rostokąt 12" descr=""/>
            <p:cNvPicPr/>
            <p:nvPr/>
          </p:nvPicPr>
          <p:blipFill>
            <a:blip r:embed="rId2"/>
            <a:stretch/>
          </p:blipFill>
          <p:spPr>
            <a:xfrm>
              <a:off x="627840" y="1999080"/>
              <a:ext cx="975600" cy="67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8" name="Diagram 17" descr=""/>
          <p:cNvPicPr/>
          <p:nvPr/>
        </p:nvPicPr>
        <p:blipFill>
          <a:blip r:embed="rId3"/>
          <a:stretch/>
        </p:blipFill>
        <p:spPr>
          <a:xfrm>
            <a:off x="1852560" y="1981080"/>
            <a:ext cx="6602400" cy="24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zed rozmową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pole tekstowe 8"/>
          <p:cNvSpPr/>
          <p:nvPr/>
        </p:nvSpPr>
        <p:spPr>
          <a:xfrm>
            <a:off x="3276720" y="1341360"/>
            <a:ext cx="489564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ależy zebrać jak najwięcej informacji o firmie. Podczas rozmowy cenne mogą się okazać informacje na temat wielkości, historii lub pozycji na rynku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ie wiadomo, o co może zapytać osoba rekrutująca, dobrze jest być przygotowanym na różne możliwości, elastycznym i rozluźnionym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zięki temu kandydat wie, dlaczego chce pracować dla danej firmy oraz co ma jej do zaoferowani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2"/>
          <a:stretch/>
        </p:blipFill>
        <p:spPr>
          <a:xfrm>
            <a:off x="250920" y="2492280"/>
            <a:ext cx="2736720" cy="17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7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upa 12"/>
          <p:cNvGrpSpPr/>
          <p:nvPr/>
        </p:nvGrpSpPr>
        <p:grpSpPr>
          <a:xfrm>
            <a:off x="684360" y="260280"/>
            <a:ext cx="7416720" cy="1476360"/>
            <a:chOff x="684360" y="260280"/>
            <a:chExt cx="7416720" cy="1476360"/>
          </a:xfrm>
        </p:grpSpPr>
        <p:sp>
          <p:nvSpPr>
            <p:cNvPr id="175" name="pole tekstowe 7"/>
            <p:cNvSpPr/>
            <p:nvPr/>
          </p:nvSpPr>
          <p:spPr>
            <a:xfrm>
              <a:off x="1908360" y="620280"/>
              <a:ext cx="6192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a rozmowę kwalifikacyjną nie wolno się spóźnić ani przyjść za wcześni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Picture 2" descr=""/>
            <p:cNvPicPr/>
            <p:nvPr/>
          </p:nvPicPr>
          <p:blipFill>
            <a:blip r:embed="rId2"/>
            <a:stretch/>
          </p:blipFill>
          <p:spPr>
            <a:xfrm>
              <a:off x="684360" y="260280"/>
              <a:ext cx="1076040" cy="147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ole tekstowe 8"/>
          <p:cNvSpPr/>
          <p:nvPr/>
        </p:nvSpPr>
        <p:spPr>
          <a:xfrm>
            <a:off x="324000" y="3573360"/>
            <a:ext cx="669600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ależy przeanalizować swoją kandydaturę – usystematyzować wiedzę o sob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brze jest przeanalizować swoje słabe i mocne strony, swoje sukcesy i porażki, sprecyzować plany na przyszłość. Pracodawcy zwykle lubią osoby, które wiedzą, czego chcą i do czego dąż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upa 14"/>
          <p:cNvGrpSpPr/>
          <p:nvPr/>
        </p:nvGrpSpPr>
        <p:grpSpPr>
          <a:xfrm>
            <a:off x="250920" y="2060640"/>
            <a:ext cx="7927920" cy="3903480"/>
            <a:chOff x="250920" y="2060640"/>
            <a:chExt cx="7927920" cy="3903480"/>
          </a:xfrm>
        </p:grpSpPr>
        <p:sp>
          <p:nvSpPr>
            <p:cNvPr id="179" name="pole tekstowe 10"/>
            <p:cNvSpPr/>
            <p:nvPr/>
          </p:nvSpPr>
          <p:spPr>
            <a:xfrm>
              <a:off x="250920" y="2060640"/>
              <a:ext cx="68310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ależy przejrzeć swoje CV – niektóre pytania mogą bazować na życiorysie, jeśli będą w nim jakieś luki, na pewno kandydat zostanie o to zapytany. Kandydat powinien być pewny wszystkich informacji umieszczonych w CV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0" name="Picture 3" descr=""/>
            <p:cNvPicPr/>
            <p:nvPr/>
          </p:nvPicPr>
          <p:blipFill>
            <a:blip r:embed="rId3"/>
            <a:stretch/>
          </p:blipFill>
          <p:spPr>
            <a:xfrm>
              <a:off x="7227360" y="2420640"/>
              <a:ext cx="951480" cy="35434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8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ole tekstowe 7"/>
          <p:cNvSpPr/>
          <p:nvPr/>
        </p:nvSpPr>
        <p:spPr>
          <a:xfrm>
            <a:off x="539640" y="549360"/>
            <a:ext cx="7488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amiętaj, że szczególnie ważne </a:t>
            </a:r>
            <a:br>
              <a:rPr sz="2500"/>
            </a:br>
            <a:r>
              <a:rPr b="1" lang="pl-PL" sz="2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st aby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upa 16"/>
          <p:cNvGrpSpPr/>
          <p:nvPr/>
        </p:nvGrpSpPr>
        <p:grpSpPr>
          <a:xfrm>
            <a:off x="539640" y="1700280"/>
            <a:ext cx="7488360" cy="1935000"/>
            <a:chOff x="539640" y="1700280"/>
            <a:chExt cx="7488360" cy="1935000"/>
          </a:xfrm>
        </p:grpSpPr>
        <p:sp>
          <p:nvSpPr>
            <p:cNvPr id="186" name="Dowolny kształt 11"/>
            <p:cNvSpPr/>
            <p:nvPr/>
          </p:nvSpPr>
          <p:spPr>
            <a:xfrm>
              <a:off x="539640" y="1700280"/>
              <a:ext cx="7488360" cy="19350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75160" rIns="83880" tIns="83880" bIns="83880" anchor="ctr">
              <a:noAutofit/>
            </a:bodyPr>
            <a:p>
              <a:pPr algn="just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rzygotować listę pytań do pracodawcy </a:t>
              </a:r>
              <a:br>
                <a:rPr sz="2200"/>
              </a:b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– dowodzi to, że bierze się czynny udział </a:t>
              </a:r>
              <a:br>
                <a:rPr sz="2200"/>
              </a:b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w rozmowie, nie jest to więc przesłuchanie, ale konstruktywny dialog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Prostokąt zaokrąglony 12"/>
            <p:cNvSpPr/>
            <p:nvPr/>
          </p:nvSpPr>
          <p:spPr>
            <a:xfrm>
              <a:off x="733320" y="1893960"/>
              <a:ext cx="1496880" cy="1547640"/>
            </a:xfrm>
            <a:custGeom>
              <a:avLst/>
              <a:gdLst>
                <a:gd name="textAreaLeft" fmla="*/ 43560 w 1496880"/>
                <a:gd name="textAreaRight" fmla="*/ 1453320 w 1496880"/>
                <a:gd name="textAreaTop" fmla="*/ 43560 h 1547640"/>
                <a:gd name="textAreaBottom" fmla="*/ 1504080 h 1547640"/>
              </a:gdLst>
              <a:ahLst/>
              <a:rect l="textAreaLeft" t="textAreaTop" r="textAreaRight" b="textAreaBottom"/>
              <a:pathLst>
                <a:path w="21600" h="22332">
                  <a:moveTo>
                    <a:pt x="2160" y="0"/>
                  </a:moveTo>
                  <a:arcTo wR="2160" hR="2160" stAng="16200000" swAng="-5400000"/>
                  <a:lnTo>
                    <a:pt x="0" y="20172"/>
                  </a:lnTo>
                  <a:arcTo wR="2160" hR="2160" stAng="10800000" swAng="-5400000"/>
                  <a:lnTo>
                    <a:pt x="19440" y="22332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upa 17"/>
          <p:cNvGrpSpPr/>
          <p:nvPr/>
        </p:nvGrpSpPr>
        <p:grpSpPr>
          <a:xfrm>
            <a:off x="539640" y="3828960"/>
            <a:ext cx="7488360" cy="1935360"/>
            <a:chOff x="539640" y="3828960"/>
            <a:chExt cx="7488360" cy="1935360"/>
          </a:xfrm>
        </p:grpSpPr>
        <p:sp>
          <p:nvSpPr>
            <p:cNvPr id="189" name="Dowolny kształt 13"/>
            <p:cNvSpPr/>
            <p:nvPr/>
          </p:nvSpPr>
          <p:spPr>
            <a:xfrm>
              <a:off x="539640" y="3828960"/>
              <a:ext cx="7488360" cy="193536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75160" rIns="83880" tIns="83880" bIns="83880" anchor="ctr">
              <a:noAutofit/>
            </a:bodyPr>
            <a:p>
              <a:pPr algn="just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rzygotować się do rozmowy o wynagrodzeniu </a:t>
              </a:r>
              <a:br>
                <a:rPr sz="2200"/>
              </a:b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i innych warunkach pracy. Podczas rozmowy nie powinno się pytać pracodawcy o wynagrodzenie. Zwykle to pracodawca pyta kandydata o jego wymagania finansowe, jeżeli uzna go za interesującego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Prostokąt zaokrąglony 14"/>
            <p:cNvSpPr/>
            <p:nvPr/>
          </p:nvSpPr>
          <p:spPr>
            <a:xfrm>
              <a:off x="733320" y="4022640"/>
              <a:ext cx="1496880" cy="1548000"/>
            </a:xfrm>
            <a:custGeom>
              <a:avLst/>
              <a:gdLst>
                <a:gd name="textAreaLeft" fmla="*/ 43560 w 1496880"/>
                <a:gd name="textAreaRight" fmla="*/ 1453320 w 1496880"/>
                <a:gd name="textAreaTop" fmla="*/ 43560 h 1548000"/>
                <a:gd name="textAreaBottom" fmla="*/ 1504440 h 1548000"/>
              </a:gdLst>
              <a:ahLst/>
              <a:rect l="textAreaLeft" t="textAreaTop" r="textAreaRight" b="textAreaBottom"/>
              <a:pathLst>
                <a:path w="21600" h="22337">
                  <a:moveTo>
                    <a:pt x="2160" y="0"/>
                  </a:moveTo>
                  <a:arcTo wR="2160" hR="2160" stAng="16200000" swAng="-5400000"/>
                  <a:lnTo>
                    <a:pt x="0" y="20177"/>
                  </a:lnTo>
                  <a:arcTo wR="2160" hR="2160" stAng="10800000" swAng="-5400000"/>
                  <a:lnTo>
                    <a:pt x="19440" y="22337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pole tekstowe 7"/>
          <p:cNvSpPr/>
          <p:nvPr/>
        </p:nvSpPr>
        <p:spPr>
          <a:xfrm>
            <a:off x="3348000" y="1484280"/>
            <a:ext cx="496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westię pytań na rozmowie kwalifikacyjnej reguluje Kodeks pracy i Kodeks cywilny. Jeśli pracodawca pyta o więcej, niż zezwalają na to przepisy, można zażądać zadośćuczynienia pieniężnego lub zapłaty odpowiedniej sumy pieniężnej na wskazany cel społecz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2"/>
          <a:stretch/>
        </p:blipFill>
        <p:spPr>
          <a:xfrm>
            <a:off x="0" y="260280"/>
            <a:ext cx="3370320" cy="4019760"/>
          </a:xfrm>
          <a:prstGeom prst="rect">
            <a:avLst/>
          </a:prstGeom>
          <a:ln w="0">
            <a:noFill/>
          </a:ln>
        </p:spPr>
      </p:pic>
      <p:sp>
        <p:nvSpPr>
          <p:cNvPr id="196" name="pole tekstowe 8"/>
          <p:cNvSpPr/>
          <p:nvPr/>
        </p:nvSpPr>
        <p:spPr>
          <a:xfrm>
            <a:off x="3059280" y="4076640"/>
            <a:ext cx="482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andydat ma prawo odmówić odpowiedzi na podobne pytania, ale jeśli uzna to za stosowne, może udzielić informac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pole tekstowe 7"/>
          <p:cNvSpPr/>
          <p:nvPr/>
        </p:nvSpPr>
        <p:spPr>
          <a:xfrm>
            <a:off x="2482920" y="620640"/>
            <a:ext cx="336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e pytania nie powinny paść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ole tekstowe 8"/>
          <p:cNvSpPr/>
          <p:nvPr/>
        </p:nvSpPr>
        <p:spPr>
          <a:xfrm>
            <a:off x="2484360" y="1268280"/>
            <a:ext cx="57596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ytania o plany osobiste na przyszłość, np. założenie rodziny lub macierzyństw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ytania o wyznanie religijne, pochodzenie etniczne, orientację seksualną i poglądy polityczne są niedopuszczal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ytania o naszą rodzinę, o wykształcenie naszych rodziców, współmałżonków, stanowiska, na jakich oni pracuj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ytanie kobiety o planowaną ciążę lub zamążpójście (ma znamiona dyskryminacji płciowej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6"/>
          <a:stretch/>
        </p:blipFill>
        <p:spPr>
          <a:xfrm>
            <a:off x="179280" y="260280"/>
            <a:ext cx="2314800" cy="20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0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pole tekstowe 7"/>
          <p:cNvSpPr/>
          <p:nvPr/>
        </p:nvSpPr>
        <p:spPr>
          <a:xfrm>
            <a:off x="2050920" y="549360"/>
            <a:ext cx="597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by rozmowa kwalifikacyjna nie była tylko jednostronnym odpytywaniem, warto również pracodawcy zadać kilka pytań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Dowolny kształt 11"/>
          <p:cNvSpPr/>
          <p:nvPr/>
        </p:nvSpPr>
        <p:spPr>
          <a:xfrm rot="16200000">
            <a:off x="-1020600" y="3526920"/>
            <a:ext cx="3987720" cy="844560"/>
          </a:xfrm>
          <a:custGeom>
            <a:avLst/>
            <a:gdLst/>
            <a:ahLst/>
            <a:rect l="l" t="t" r="r" b="b"/>
            <a:pathLst>
              <a:path w="3987803" h="843573">
                <a:moveTo>
                  <a:pt x="0" y="0"/>
                </a:moveTo>
                <a:lnTo>
                  <a:pt x="3987803" y="0"/>
                </a:lnTo>
                <a:lnTo>
                  <a:pt x="3987803" y="843573"/>
                </a:lnTo>
                <a:lnTo>
                  <a:pt x="0" y="84357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967040" rIns="74376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Dowolny kształt 12"/>
          <p:cNvSpPr/>
          <p:nvPr/>
        </p:nvSpPr>
        <p:spPr>
          <a:xfrm>
            <a:off x="1258920" y="1989000"/>
            <a:ext cx="6549840" cy="3988080"/>
          </a:xfrm>
          <a:prstGeom prst="pie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5040" rIns="185040" tIns="744120" bIns="185040" anchor="t">
            <a:noAutofit/>
          </a:bodyPr>
          <a:p>
            <a:pPr lvl="1" marL="457200" indent="-457200">
              <a:lnSpc>
                <a:spcPct val="90000"/>
              </a:lnSpc>
              <a:spcAft>
                <a:spcPts val="374"/>
              </a:spcAft>
              <a:buClr>
                <a:srgbClr val="000000"/>
              </a:buClr>
              <a:buFont typeface="Times New Roman ce"/>
              <a:buAutoNum type="arabicPeriod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ak wygląda typowy dzień pracy na tym stanowisk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Aft>
                <a:spcPts val="374"/>
              </a:spcAft>
              <a:buClr>
                <a:srgbClr val="000000"/>
              </a:buClr>
              <a:buFont typeface="Times New Roman ce"/>
              <a:buAutoNum type="arabicPeriod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akie możliwości rozwoju zawodowego oferuje firma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Aft>
                <a:spcPts val="374"/>
              </a:spcAft>
              <a:buClr>
                <a:srgbClr val="000000"/>
              </a:buClr>
              <a:buFont typeface="Times New Roman ce"/>
              <a:buAutoNum type="arabicPeriod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aki jest pakiet świadczeń socjalnych dla pracowników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Aft>
                <a:spcPts val="374"/>
              </a:spcAft>
              <a:buClr>
                <a:srgbClr val="000000"/>
              </a:buClr>
              <a:buFont typeface="Times New Roman ce"/>
              <a:buAutoNum type="arabicPeriod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jaki sposób pracownik jest oceniany i awansowany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Aft>
                <a:spcPts val="374"/>
              </a:spcAft>
              <a:buClr>
                <a:srgbClr val="000000"/>
              </a:buClr>
              <a:buFont typeface="Times New Roman ce"/>
              <a:buAutoNum type="arabicPeriod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akie są oczekiwania pracodawcy wobec nowego pracownik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Aft>
                <a:spcPts val="374"/>
              </a:spcAft>
              <a:buClr>
                <a:srgbClr val="000000"/>
              </a:buClr>
              <a:buFont typeface="Times New Roman ce"/>
              <a:buAutoNum type="arabicPeriod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ak wygląda program szkoleń i rozwoju pracownikó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Aft>
                <a:spcPts val="374"/>
              </a:spcAft>
              <a:buClr>
                <a:srgbClr val="000000"/>
              </a:buClr>
              <a:buFont typeface="Times New Roman ce"/>
              <a:buAutoNum type="arabicPeriod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akie są cele firmy na najbliższe 5 i 10 l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Aft>
                <a:spcPts val="374"/>
              </a:spcAft>
              <a:buClr>
                <a:srgbClr val="000000"/>
              </a:buClr>
              <a:buFont typeface="Times New Roman ce"/>
              <a:buAutoNum type="arabicPeriod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iedy i w jaki sposób poznasz wynik rozmow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rostokąt 13"/>
          <p:cNvSpPr/>
          <p:nvPr/>
        </p:nvSpPr>
        <p:spPr>
          <a:xfrm>
            <a:off x="550800" y="843120"/>
            <a:ext cx="1687680" cy="168588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ak się dobrze zaprezentować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1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1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pole tekstowe 7"/>
          <p:cNvSpPr/>
          <p:nvPr/>
        </p:nvSpPr>
        <p:spPr>
          <a:xfrm>
            <a:off x="2124000" y="3789360"/>
            <a:ext cx="4608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stawowa zasada to zadbać o swój wygląd, powinien być schludny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przypadku kobiet – bez przesadnych dekolt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ężczyźni najlepiej zaprezentują się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garniturze i koszuli z krawa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upa 11"/>
          <p:cNvGrpSpPr/>
          <p:nvPr/>
        </p:nvGrpSpPr>
        <p:grpSpPr>
          <a:xfrm>
            <a:off x="250920" y="1197000"/>
            <a:ext cx="7948440" cy="2160720"/>
            <a:chOff x="250920" y="1197000"/>
            <a:chExt cx="7948440" cy="2160720"/>
          </a:xfrm>
        </p:grpSpPr>
        <p:sp>
          <p:nvSpPr>
            <p:cNvPr id="216" name="pole tekstowe 6"/>
            <p:cNvSpPr/>
            <p:nvPr/>
          </p:nvSpPr>
          <p:spPr>
            <a:xfrm>
              <a:off x="250920" y="1557000"/>
              <a:ext cx="48967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Są stanowiska, na których dobre pierwsze wrażenie oraz dobra prezencja są szczególnie ważne (obsługa klienta), dlatego pracodawca nie tylko słucha, ale i obserwuje kandydatów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2" descr=""/>
            <p:cNvPicPr/>
            <p:nvPr/>
          </p:nvPicPr>
          <p:blipFill>
            <a:blip r:embed="rId2"/>
            <a:stretch/>
          </p:blipFill>
          <p:spPr>
            <a:xfrm>
              <a:off x="5580000" y="1197000"/>
              <a:ext cx="2619360" cy="2160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8" name="Picture 3" descr=""/>
          <p:cNvPicPr/>
          <p:nvPr/>
        </p:nvPicPr>
        <p:blipFill>
          <a:blip r:embed="rId3"/>
          <a:stretch/>
        </p:blipFill>
        <p:spPr>
          <a:xfrm>
            <a:off x="6804000" y="4076640"/>
            <a:ext cx="1197000" cy="2576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"/>
          <p:cNvPicPr/>
          <p:nvPr/>
        </p:nvPicPr>
        <p:blipFill>
          <a:blip r:embed="rId4"/>
          <a:stretch/>
        </p:blipFill>
        <p:spPr>
          <a:xfrm>
            <a:off x="468360" y="3357720"/>
            <a:ext cx="1614600" cy="20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ole tekstowe 7"/>
          <p:cNvSpPr/>
          <p:nvPr/>
        </p:nvSpPr>
        <p:spPr>
          <a:xfrm>
            <a:off x="395280" y="40464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ażną rolę odgrywa także komunikacja niewerbalna (ton głosu, postawa, mimika). To, w jaki sposób kandydat zachowuje się podczas rozmowy, jakie gesty wykonuje, czy jest opanowany i pewny tego, co mów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2"/>
          <a:stretch/>
        </p:blipFill>
        <p:spPr>
          <a:xfrm>
            <a:off x="6588000" y="1557360"/>
            <a:ext cx="1175040" cy="1150920"/>
          </a:xfrm>
          <a:prstGeom prst="rect">
            <a:avLst/>
          </a:prstGeom>
          <a:ln w="0">
            <a:noFill/>
          </a:ln>
        </p:spPr>
      </p:pic>
      <p:grpSp>
        <p:nvGrpSpPr>
          <p:cNvPr id="225" name="Grupa 13"/>
          <p:cNvGrpSpPr/>
          <p:nvPr/>
        </p:nvGrpSpPr>
        <p:grpSpPr>
          <a:xfrm>
            <a:off x="395280" y="2637000"/>
            <a:ext cx="7848720" cy="1584000"/>
            <a:chOff x="395280" y="2637000"/>
            <a:chExt cx="7848720" cy="1584000"/>
          </a:xfrm>
        </p:grpSpPr>
        <p:sp>
          <p:nvSpPr>
            <p:cNvPr id="226" name="pole tekstowe 8"/>
            <p:cNvSpPr/>
            <p:nvPr/>
          </p:nvSpPr>
          <p:spPr>
            <a:xfrm>
              <a:off x="2915280" y="2781000"/>
              <a:ext cx="53287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ie należy mijać się z prawdą. Kandydaci podczas rozmowy kwalifikacyjnej często chwalą się rzeczami, których nie robili, dodają pewne fakty lub po prostu kłamią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Picture 3" descr=""/>
            <p:cNvPicPr/>
            <p:nvPr/>
          </p:nvPicPr>
          <p:blipFill>
            <a:blip r:embed="rId3"/>
            <a:stretch/>
          </p:blipFill>
          <p:spPr>
            <a:xfrm>
              <a:off x="395280" y="2637000"/>
              <a:ext cx="2495160" cy="158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8" name="Grupa 14"/>
          <p:cNvGrpSpPr/>
          <p:nvPr/>
        </p:nvGrpSpPr>
        <p:grpSpPr>
          <a:xfrm>
            <a:off x="324000" y="4508640"/>
            <a:ext cx="7902360" cy="1725480"/>
            <a:chOff x="324000" y="4508640"/>
            <a:chExt cx="7902360" cy="1725480"/>
          </a:xfrm>
        </p:grpSpPr>
        <p:sp>
          <p:nvSpPr>
            <p:cNvPr id="229" name="pole tekstowe 10"/>
            <p:cNvSpPr/>
            <p:nvPr/>
          </p:nvSpPr>
          <p:spPr>
            <a:xfrm>
              <a:off x="324000" y="4940640"/>
              <a:ext cx="511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Rozmowa powinna być partnerskim dialogiem, a nie jedynie wymianą oczekiwań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0" name="Picture 4" descr=""/>
            <p:cNvPicPr/>
            <p:nvPr/>
          </p:nvPicPr>
          <p:blipFill>
            <a:blip r:embed="rId4"/>
            <a:stretch/>
          </p:blipFill>
          <p:spPr>
            <a:xfrm>
              <a:off x="5508720" y="4508640"/>
              <a:ext cx="2717640" cy="17254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771640" y="836280"/>
            <a:ext cx="51120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ak się zachowywać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2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3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ole tekstowe 8"/>
          <p:cNvSpPr/>
          <p:nvPr/>
        </p:nvSpPr>
        <p:spPr>
          <a:xfrm>
            <a:off x="324000" y="2276640"/>
            <a:ext cx="7920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Times New Roman 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a początku spotkania przywitaj się zdecydowanym podaniem ręki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uśmiechem. Pamiętaj, że sposób podania ręki często świadcz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 osob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Times New Roman 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Unikaj zapełniaczy typu „aaa”, „wie pan…”, „yyy”. Zwróć uwagę na słownictw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Times New Roman 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Usiądź wygodnie i prosto. Nie twórz bariery między sobą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 rozmówc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Times New Roman 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Unikaj przesadnej gestykulacji i rozpraszających gestów. Staraj się zachować spokój i rzeczowo odpowiadaj pyta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2"/>
          <a:stretch/>
        </p:blipFill>
        <p:spPr>
          <a:xfrm>
            <a:off x="1116000" y="189000"/>
            <a:ext cx="1579680" cy="21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71640" y="836280"/>
            <a:ext cx="51120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ak się zachowywać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3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pole tekstowe 8"/>
          <p:cNvSpPr/>
          <p:nvPr/>
        </p:nvSpPr>
        <p:spPr>
          <a:xfrm>
            <a:off x="324000" y="2276640"/>
            <a:ext cx="7920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Times New Roman ce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amiętaj, rozmowa kwalifikacyjna jest z założenia sytuacją stresującą. Większość kandydatów jest zestresowanych na rozmowi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pracodawcy są tego świadom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Times New Roman ce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ądź uważny, słuchaj każdego pytania i nie przerywaj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Times New Roman ce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śli nie jesteś pewny, o co zostałeś zapytany, powtórz pytani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potwierdź swoje zrozumien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Times New Roman ce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kończ rozmowę krótkim podsumowaniem, poproś o wizytówkę, podziękuj za spotkanie i uściśnij zdecydowanie rękę rozmówcy na pożegnan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2"/>
          <a:stretch/>
        </p:blipFill>
        <p:spPr>
          <a:xfrm>
            <a:off x="1116000" y="189000"/>
            <a:ext cx="1579680" cy="21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zmowa kwalifikacyjn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upa 12"/>
          <p:cNvGrpSpPr/>
          <p:nvPr/>
        </p:nvGrpSpPr>
        <p:grpSpPr>
          <a:xfrm>
            <a:off x="395280" y="1341360"/>
            <a:ext cx="7561440" cy="1079640"/>
            <a:chOff x="395280" y="1341360"/>
            <a:chExt cx="7561440" cy="1079640"/>
          </a:xfrm>
        </p:grpSpPr>
        <p:sp>
          <p:nvSpPr>
            <p:cNvPr id="104" name="Prostokąt zaokrąglony 7"/>
            <p:cNvSpPr/>
            <p:nvPr/>
          </p:nvSpPr>
          <p:spPr>
            <a:xfrm>
              <a:off x="395280" y="1341360"/>
              <a:ext cx="7561440" cy="1079640"/>
            </a:xfrm>
            <a:prstGeom prst="roundRect">
              <a:avLst>
                <a:gd name="adj" fmla="val 16667"/>
              </a:avLst>
            </a:prstGeom>
            <a:solidFill>
              <a:srgbClr val="ffa7a7"/>
            </a:solidFill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pole tekstowe 6"/>
            <p:cNvSpPr/>
            <p:nvPr/>
          </p:nvSpPr>
          <p:spPr>
            <a:xfrm>
              <a:off x="467280" y="1341360"/>
              <a:ext cx="7417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Jest to spotkanie pracodawcy z kandydatem na pracownika. </a:t>
              </a:r>
              <a:br>
                <a:rPr sz="2000"/>
              </a:b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elem tego spotkania jest wymiana informacji pomiędzy kandydatem a pracodawcą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pole tekstowe 8"/>
          <p:cNvSpPr/>
          <p:nvPr/>
        </p:nvSpPr>
        <p:spPr>
          <a:xfrm>
            <a:off x="468360" y="2924280"/>
            <a:ext cx="518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acodawc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– chce rozszerzyć informacje, które zawarte były w dokumentach aplikacyjn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ole tekstowe 10"/>
          <p:cNvSpPr/>
          <p:nvPr/>
        </p:nvSpPr>
        <p:spPr>
          <a:xfrm>
            <a:off x="468360" y="4149720"/>
            <a:ext cx="5183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andydat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– chce zdobyć jak najwięcej informacji na temat oferty pracodawcy oraz zaprezentować się przed pracodawcą z jak najlepszej stron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5940360" y="2852640"/>
            <a:ext cx="1838520" cy="261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ego nie robić podczas rozmow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4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4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Dowolny kształt 8"/>
          <p:cNvSpPr/>
          <p:nvPr/>
        </p:nvSpPr>
        <p:spPr>
          <a:xfrm>
            <a:off x="900000" y="5638680"/>
            <a:ext cx="7128000" cy="739800"/>
          </a:xfrm>
          <a:prstGeom prst="pie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8160" rIns="128160" tIns="128160" bIns="12816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ie oczekuj natychmiastowej odpowied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Dowolny kształt 10"/>
          <p:cNvSpPr/>
          <p:nvPr/>
        </p:nvSpPr>
        <p:spPr>
          <a:xfrm>
            <a:off x="900000" y="4510080"/>
            <a:ext cx="7128000" cy="1139760"/>
          </a:xfrm>
          <a:prstGeom prst="pie">
            <a:avLst/>
          </a:prstGeom>
          <a:solidFill>
            <a:srgbClr val="bf77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8160" rIns="128160" tIns="128160" bIns="52704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ie patrz na zegarek, nie okazuj zniecierpliwienia ani znudz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Dowolny kształt 11"/>
          <p:cNvSpPr/>
          <p:nvPr/>
        </p:nvSpPr>
        <p:spPr>
          <a:xfrm>
            <a:off x="900000" y="3382920"/>
            <a:ext cx="7128000" cy="1138320"/>
          </a:xfrm>
          <a:prstGeom prst="pie">
            <a:avLst/>
          </a:prstGeom>
          <a:solidFill>
            <a:srgbClr val="bd9b5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8160" rIns="128160" tIns="128160" bIns="52704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zeczowo wyjaśniaj nieścisłości w życiorys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Dowolny kształt 12"/>
          <p:cNvSpPr/>
          <p:nvPr/>
        </p:nvSpPr>
        <p:spPr>
          <a:xfrm>
            <a:off x="900000" y="2254320"/>
            <a:ext cx="7128000" cy="1139760"/>
          </a:xfrm>
          <a:prstGeom prst="pie">
            <a:avLst/>
          </a:prstGeom>
          <a:solidFill>
            <a:srgbClr val="bcbc5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8160" rIns="128160" tIns="128160" bIns="52704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ie mów źle o obecnych i poprzednich pracodawcach. Zamiast tego podkreślaj swoje osiągnięcia i jakość p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Dowolny kształt 13"/>
          <p:cNvSpPr/>
          <p:nvPr/>
        </p:nvSpPr>
        <p:spPr>
          <a:xfrm>
            <a:off x="900000" y="1127160"/>
            <a:ext cx="7128000" cy="1138320"/>
          </a:xfrm>
          <a:prstGeom prst="pie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8160" rIns="128160" tIns="128160" bIns="52704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ie przesłuchuj osoby prowadzącej rozmow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zmowa ze strony pracodawc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3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5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pole tekstowe 7"/>
          <p:cNvSpPr/>
          <p:nvPr/>
        </p:nvSpPr>
        <p:spPr>
          <a:xfrm>
            <a:off x="408240" y="2133720"/>
            <a:ext cx="41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acodawca powinien przygotować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Dowolny kształt 14"/>
          <p:cNvSpPr/>
          <p:nvPr/>
        </p:nvSpPr>
        <p:spPr>
          <a:xfrm>
            <a:off x="611280" y="2732040"/>
            <a:ext cx="6095880" cy="617760"/>
          </a:xfrm>
          <a:prstGeom prst="pie">
            <a:avLst/>
          </a:pr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4120" rIns="114120" tIns="114120" bIns="114120" anchor="ctr">
            <a:noAutofit/>
          </a:bodyPr>
          <a:p>
            <a:pPr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nformacje na temat firmy i stanowisk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Dowolny kształt 16"/>
          <p:cNvSpPr/>
          <p:nvPr/>
        </p:nvSpPr>
        <p:spPr>
          <a:xfrm>
            <a:off x="611280" y="3444840"/>
            <a:ext cx="6095880" cy="617400"/>
          </a:xfrm>
          <a:prstGeom prst="pie">
            <a:avLst/>
          </a:prstGeom>
          <a:solidFill>
            <a:srgbClr val="9bbb5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4120" rIns="114120" tIns="114120" bIns="114120" anchor="ctr">
            <a:noAutofit/>
          </a:bodyPr>
          <a:p>
            <a:pPr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stawową ofertę dla kandydat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Dowolny kształt 17"/>
          <p:cNvSpPr/>
          <p:nvPr/>
        </p:nvSpPr>
        <p:spPr>
          <a:xfrm>
            <a:off x="611280" y="4157640"/>
            <a:ext cx="6095880" cy="617400"/>
          </a:xfrm>
          <a:prstGeom prst="pie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4120" rIns="114120" tIns="114120" bIns="114120" anchor="ctr">
            <a:noAutofit/>
          </a:bodyPr>
          <a:p>
            <a:pPr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ytania, jakie zada kandydatow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upa 12"/>
          <p:cNvGrpSpPr/>
          <p:nvPr/>
        </p:nvGrpSpPr>
        <p:grpSpPr>
          <a:xfrm>
            <a:off x="324000" y="1125360"/>
            <a:ext cx="7920000" cy="719280"/>
            <a:chOff x="324000" y="1125360"/>
            <a:chExt cx="7920000" cy="719280"/>
          </a:xfrm>
        </p:grpSpPr>
        <p:sp>
          <p:nvSpPr>
            <p:cNvPr id="261" name="Prostokąt zaokrąglony 11"/>
            <p:cNvSpPr/>
            <p:nvPr/>
          </p:nvSpPr>
          <p:spPr>
            <a:xfrm>
              <a:off x="324000" y="1125360"/>
              <a:ext cx="792000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pole tekstowe 6"/>
            <p:cNvSpPr/>
            <p:nvPr/>
          </p:nvSpPr>
          <p:spPr>
            <a:xfrm>
              <a:off x="396000" y="1125360"/>
              <a:ext cx="777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racodawca powinien również przygotować się do rozmowy kwalifikacyjnej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upa 18"/>
          <p:cNvGrpSpPr/>
          <p:nvPr/>
        </p:nvGrpSpPr>
        <p:grpSpPr>
          <a:xfrm>
            <a:off x="826920" y="5084640"/>
            <a:ext cx="7305840" cy="1313640"/>
            <a:chOff x="826920" y="5084640"/>
            <a:chExt cx="7305840" cy="1313640"/>
          </a:xfrm>
        </p:grpSpPr>
        <p:sp>
          <p:nvSpPr>
            <p:cNvPr id="264" name="pole tekstowe 10"/>
            <p:cNvSpPr/>
            <p:nvPr/>
          </p:nvSpPr>
          <p:spPr>
            <a:xfrm>
              <a:off x="826920" y="5084640"/>
              <a:ext cx="64818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iestety, często się zdarza, że pracodawcy nie wiedzą, w jaki sposób przeprowadzać rozmowy kwalifikacyjne. Kandydaci powinni być przygotowani na różnego rodzaju dziwne </a:t>
              </a:r>
              <a:br>
                <a:rPr sz="2000"/>
              </a:b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i nieprofesjonalne sytuacje podczas rozmowy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5" name="Picture 2" descr=""/>
            <p:cNvPicPr/>
            <p:nvPr/>
          </p:nvPicPr>
          <p:blipFill>
            <a:blip r:embed="rId2"/>
            <a:stretch/>
          </p:blipFill>
          <p:spPr>
            <a:xfrm>
              <a:off x="7308720" y="5156640"/>
              <a:ext cx="824040" cy="1224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6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pole tekstowe 7"/>
          <p:cNvSpPr/>
          <p:nvPr/>
        </p:nvSpPr>
        <p:spPr>
          <a:xfrm>
            <a:off x="179280" y="260280"/>
            <a:ext cx="80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arto zastanowić się nad pytaniami, które mogą nam zostać zadane,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przygotować sobie odpowiedz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upa 16"/>
          <p:cNvGrpSpPr/>
          <p:nvPr/>
        </p:nvGrpSpPr>
        <p:grpSpPr>
          <a:xfrm>
            <a:off x="276120" y="1704960"/>
            <a:ext cx="7763040" cy="4199040"/>
            <a:chOff x="276120" y="1704960"/>
            <a:chExt cx="7763040" cy="4199040"/>
          </a:xfrm>
        </p:grpSpPr>
        <p:grpSp>
          <p:nvGrpSpPr>
            <p:cNvPr id="271" name="Dowolny kształt 12"/>
            <p:cNvGrpSpPr/>
            <p:nvPr/>
          </p:nvGrpSpPr>
          <p:grpSpPr>
            <a:xfrm>
              <a:off x="546480" y="2570040"/>
              <a:ext cx="7492680" cy="3333960"/>
              <a:chOff x="546480" y="2570040"/>
              <a:chExt cx="7492680" cy="3333960"/>
            </a:xfrm>
          </p:grpSpPr>
          <p:pic>
            <p:nvPicPr>
              <p:cNvPr id="272" name="Dowolny kształt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546480" y="2570040"/>
                <a:ext cx="7492680" cy="333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3" name=""/>
              <p:cNvSpPr/>
              <p:nvPr/>
            </p:nvSpPr>
            <p:spPr>
              <a:xfrm>
                <a:off x="608400" y="2606040"/>
                <a:ext cx="7374600" cy="322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3760" rIns="113760" tIns="612360" bIns="113760" anchor="t">
                <a:noAutofit/>
              </a:bodyPr>
              <a:p>
                <a:pPr lvl="1" marL="171360" indent="-171360">
                  <a:lnSpc>
                    <a:spcPct val="90000"/>
                  </a:lnSpc>
                  <a:spcAft>
                    <a:spcPts val="300"/>
                  </a:spcAft>
                  <a:buClr>
                    <a:srgbClr val="ffffff"/>
                  </a:buClr>
                  <a:buFont typeface="Times New Roman ce"/>
                  <a:buChar char="•"/>
                  <a:tabLst>
                    <a:tab algn="l" pos="711360"/>
                    <a:tab algn="l" pos="1422360"/>
                    <a:tab algn="l" pos="2133720"/>
                    <a:tab algn="l" pos="2844720"/>
                    <a:tab algn="l" pos="3556080"/>
                    <a:tab algn="l" pos="4267080"/>
                    <a:tab algn="l" pos="4978440"/>
                    <a:tab algn="l" pos="5689440"/>
                    <a:tab algn="l" pos="6400800"/>
                    <a:tab algn="l" pos="7112160"/>
                    <a:tab algn="l" pos="7823160"/>
                    <a:tab algn="l" pos="8534520"/>
                    <a:tab algn="l" pos="9245520"/>
                    <a:tab algn="l" pos="9956880"/>
                    <a:tab algn="l" pos="10667880"/>
                  </a:tabLst>
                </a:pPr>
                <a:r>
                  <a:rPr b="1" lang="pl-PL" sz="1600" spc="-1" strike="noStrike">
                    <a:solidFill>
                      <a:srgbClr val="ffffff"/>
                    </a:solidFill>
                    <a:latin typeface="Times New Roman ce"/>
                    <a:ea typeface="Times New Roman ce"/>
                  </a:rPr>
                  <a:t>Co może mi pan/pani o sobie powiedzieć?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171360" indent="-171360">
                  <a:lnSpc>
                    <a:spcPct val="90000"/>
                  </a:lnSpc>
                  <a:spcAft>
                    <a:spcPts val="300"/>
                  </a:spcAft>
                  <a:buClr>
                    <a:srgbClr val="ffffff"/>
                  </a:buClr>
                  <a:buFont typeface="Times New Roman ce"/>
                  <a:buChar char="•"/>
                  <a:tabLst>
                    <a:tab algn="l" pos="711360"/>
                    <a:tab algn="l" pos="1422360"/>
                    <a:tab algn="l" pos="2133720"/>
                    <a:tab algn="l" pos="2844720"/>
                    <a:tab algn="l" pos="3556080"/>
                    <a:tab algn="l" pos="4267080"/>
                    <a:tab algn="l" pos="4978440"/>
                    <a:tab algn="l" pos="5689440"/>
                    <a:tab algn="l" pos="6400800"/>
                    <a:tab algn="l" pos="7112160"/>
                    <a:tab algn="l" pos="7823160"/>
                    <a:tab algn="l" pos="8534520"/>
                    <a:tab algn="l" pos="9245520"/>
                    <a:tab algn="l" pos="9956880"/>
                    <a:tab algn="l" pos="10667880"/>
                  </a:tabLst>
                </a:pPr>
                <a:r>
                  <a:rPr b="1" lang="pl-PL" sz="1600" spc="-1" strike="noStrike">
                    <a:solidFill>
                      <a:srgbClr val="ffffff"/>
                    </a:solidFill>
                    <a:latin typeface="Times New Roman ce"/>
                    <a:ea typeface="Times New Roman ce"/>
                  </a:rPr>
                  <a:t>Co jest pana/pani największą zaletą?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171360" indent="-171360">
                  <a:lnSpc>
                    <a:spcPct val="90000"/>
                  </a:lnSpc>
                  <a:spcAft>
                    <a:spcPts val="300"/>
                  </a:spcAft>
                  <a:buClr>
                    <a:srgbClr val="ffffff"/>
                  </a:buClr>
                  <a:buFont typeface="Times New Roman ce"/>
                  <a:buChar char="•"/>
                  <a:tabLst>
                    <a:tab algn="l" pos="711360"/>
                    <a:tab algn="l" pos="1422360"/>
                    <a:tab algn="l" pos="2133720"/>
                    <a:tab algn="l" pos="2844720"/>
                    <a:tab algn="l" pos="3556080"/>
                    <a:tab algn="l" pos="4267080"/>
                    <a:tab algn="l" pos="4978440"/>
                    <a:tab algn="l" pos="5689440"/>
                    <a:tab algn="l" pos="6400800"/>
                    <a:tab algn="l" pos="7112160"/>
                    <a:tab algn="l" pos="7823160"/>
                    <a:tab algn="l" pos="8534520"/>
                    <a:tab algn="l" pos="9245520"/>
                    <a:tab algn="l" pos="9956880"/>
                    <a:tab algn="l" pos="10667880"/>
                  </a:tabLst>
                </a:pPr>
                <a:r>
                  <a:rPr b="1" lang="pl-PL" sz="1600" spc="-1" strike="noStrike">
                    <a:solidFill>
                      <a:srgbClr val="ffffff"/>
                    </a:solidFill>
                    <a:latin typeface="Times New Roman ce"/>
                    <a:ea typeface="Times New Roman ce"/>
                  </a:rPr>
                  <a:t>Jakie ma pan/pani oczekiwania finansowe?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171360" indent="-171360">
                  <a:lnSpc>
                    <a:spcPct val="90000"/>
                  </a:lnSpc>
                  <a:spcAft>
                    <a:spcPts val="300"/>
                  </a:spcAft>
                  <a:buClr>
                    <a:srgbClr val="ffffff"/>
                  </a:buClr>
                  <a:buFont typeface="Times New Roman ce"/>
                  <a:buChar char="•"/>
                  <a:tabLst>
                    <a:tab algn="l" pos="711360"/>
                    <a:tab algn="l" pos="1422360"/>
                    <a:tab algn="l" pos="2133720"/>
                    <a:tab algn="l" pos="2844720"/>
                    <a:tab algn="l" pos="3556080"/>
                    <a:tab algn="l" pos="4267080"/>
                    <a:tab algn="l" pos="4978440"/>
                    <a:tab algn="l" pos="5689440"/>
                    <a:tab algn="l" pos="6400800"/>
                    <a:tab algn="l" pos="7112160"/>
                    <a:tab algn="l" pos="7823160"/>
                    <a:tab algn="l" pos="8534520"/>
                    <a:tab algn="l" pos="9245520"/>
                    <a:tab algn="l" pos="9956880"/>
                    <a:tab algn="l" pos="10667880"/>
                  </a:tabLst>
                </a:pPr>
                <a:r>
                  <a:rPr b="1" lang="pl-PL" sz="1600" spc="-1" strike="noStrike">
                    <a:solidFill>
                      <a:srgbClr val="ffffff"/>
                    </a:solidFill>
                    <a:latin typeface="Times New Roman ce"/>
                    <a:ea typeface="Times New Roman ce"/>
                  </a:rPr>
                  <a:t>Dlaczego właśnie pana/panią powinniśmy zatrudnić?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171360" indent="-171360">
                  <a:lnSpc>
                    <a:spcPct val="90000"/>
                  </a:lnSpc>
                  <a:spcAft>
                    <a:spcPts val="300"/>
                  </a:spcAft>
                  <a:buClr>
                    <a:srgbClr val="ffffff"/>
                  </a:buClr>
                  <a:buFont typeface="Times New Roman ce"/>
                  <a:buChar char="•"/>
                  <a:tabLst>
                    <a:tab algn="l" pos="711360"/>
                    <a:tab algn="l" pos="1422360"/>
                    <a:tab algn="l" pos="2133720"/>
                    <a:tab algn="l" pos="2844720"/>
                    <a:tab algn="l" pos="3556080"/>
                    <a:tab algn="l" pos="4267080"/>
                    <a:tab algn="l" pos="4978440"/>
                    <a:tab algn="l" pos="5689440"/>
                    <a:tab algn="l" pos="6400800"/>
                    <a:tab algn="l" pos="7112160"/>
                    <a:tab algn="l" pos="7823160"/>
                    <a:tab algn="l" pos="8534520"/>
                    <a:tab algn="l" pos="9245520"/>
                    <a:tab algn="l" pos="9956880"/>
                    <a:tab algn="l" pos="10667880"/>
                  </a:tabLst>
                </a:pPr>
                <a:r>
                  <a:rPr b="1" lang="pl-PL" sz="1600" spc="-1" strike="noStrike">
                    <a:solidFill>
                      <a:srgbClr val="ffffff"/>
                    </a:solidFill>
                    <a:latin typeface="Times New Roman ce"/>
                    <a:ea typeface="Times New Roman ce"/>
                  </a:rPr>
                  <a:t>Co jest pani/pana największym sukcesem zawodowym?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171360" indent="-171360">
                  <a:lnSpc>
                    <a:spcPct val="90000"/>
                  </a:lnSpc>
                  <a:spcAft>
                    <a:spcPts val="300"/>
                  </a:spcAft>
                  <a:buClr>
                    <a:srgbClr val="ffffff"/>
                  </a:buClr>
                  <a:buFont typeface="Times New Roman ce"/>
                  <a:buChar char="•"/>
                  <a:tabLst>
                    <a:tab algn="l" pos="711360"/>
                    <a:tab algn="l" pos="1422360"/>
                    <a:tab algn="l" pos="2133720"/>
                    <a:tab algn="l" pos="2844720"/>
                    <a:tab algn="l" pos="3556080"/>
                    <a:tab algn="l" pos="4267080"/>
                    <a:tab algn="l" pos="4978440"/>
                    <a:tab algn="l" pos="5689440"/>
                    <a:tab algn="l" pos="6400800"/>
                    <a:tab algn="l" pos="7112160"/>
                    <a:tab algn="l" pos="7823160"/>
                    <a:tab algn="l" pos="8534520"/>
                    <a:tab algn="l" pos="9245520"/>
                    <a:tab algn="l" pos="9956880"/>
                    <a:tab algn="l" pos="10667880"/>
                  </a:tabLst>
                </a:pPr>
                <a:r>
                  <a:rPr b="1" lang="pl-PL" sz="1600" spc="-1" strike="noStrike">
                    <a:solidFill>
                      <a:srgbClr val="ffffff"/>
                    </a:solidFill>
                    <a:latin typeface="Times New Roman ce"/>
                    <a:ea typeface="Times New Roman ce"/>
                  </a:rPr>
                  <a:t>W jaki sposób mógłbyś przyczynić się do rozwoju naszej firmy?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171360" indent="-171360">
                  <a:lnSpc>
                    <a:spcPct val="90000"/>
                  </a:lnSpc>
                  <a:spcAft>
                    <a:spcPts val="300"/>
                  </a:spcAft>
                  <a:buClr>
                    <a:srgbClr val="ffffff"/>
                  </a:buClr>
                  <a:buFont typeface="Times New Roman ce"/>
                  <a:buChar char="•"/>
                  <a:tabLst>
                    <a:tab algn="l" pos="711360"/>
                    <a:tab algn="l" pos="1422360"/>
                    <a:tab algn="l" pos="2133720"/>
                    <a:tab algn="l" pos="2844720"/>
                    <a:tab algn="l" pos="3556080"/>
                    <a:tab algn="l" pos="4267080"/>
                    <a:tab algn="l" pos="4978440"/>
                    <a:tab algn="l" pos="5689440"/>
                    <a:tab algn="l" pos="6400800"/>
                    <a:tab algn="l" pos="7112160"/>
                    <a:tab algn="l" pos="7823160"/>
                    <a:tab algn="l" pos="8534520"/>
                    <a:tab algn="l" pos="9245520"/>
                    <a:tab algn="l" pos="9956880"/>
                    <a:tab algn="l" pos="10667880"/>
                  </a:tabLst>
                </a:pPr>
                <a:r>
                  <a:rPr b="1" lang="pl-PL" sz="1600" spc="-1" strike="noStrike">
                    <a:solidFill>
                      <a:srgbClr val="ffffff"/>
                    </a:solidFill>
                    <a:latin typeface="Times New Roman ce"/>
                    <a:ea typeface="Times New Roman ce"/>
                  </a:rPr>
                  <a:t>Jakie cechy powinien mieć szef?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171360" indent="-171360">
                  <a:lnSpc>
                    <a:spcPct val="90000"/>
                  </a:lnSpc>
                  <a:spcAft>
                    <a:spcPts val="300"/>
                  </a:spcAft>
                  <a:buClr>
                    <a:srgbClr val="ffffff"/>
                  </a:buClr>
                  <a:buFont typeface="Times New Roman ce"/>
                  <a:buChar char="•"/>
                  <a:tabLst>
                    <a:tab algn="l" pos="711360"/>
                    <a:tab algn="l" pos="1422360"/>
                    <a:tab algn="l" pos="2133720"/>
                    <a:tab algn="l" pos="2844720"/>
                    <a:tab algn="l" pos="3556080"/>
                    <a:tab algn="l" pos="4267080"/>
                    <a:tab algn="l" pos="4978440"/>
                    <a:tab algn="l" pos="5689440"/>
                    <a:tab algn="l" pos="6400800"/>
                    <a:tab algn="l" pos="7112160"/>
                    <a:tab algn="l" pos="7823160"/>
                    <a:tab algn="l" pos="8534520"/>
                    <a:tab algn="l" pos="9245520"/>
                    <a:tab algn="l" pos="9956880"/>
                    <a:tab algn="l" pos="10667880"/>
                  </a:tabLst>
                </a:pPr>
                <a:r>
                  <a:rPr b="1" lang="pl-PL" sz="1600" spc="-1" strike="noStrike">
                    <a:solidFill>
                      <a:srgbClr val="ffffff"/>
                    </a:solidFill>
                    <a:latin typeface="Times New Roman ce"/>
                    <a:ea typeface="Times New Roman ce"/>
                  </a:rPr>
                  <a:t>Jak spędza pan/pani wolny czas?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171360" indent="-171360">
                  <a:lnSpc>
                    <a:spcPct val="90000"/>
                  </a:lnSpc>
                  <a:spcAft>
                    <a:spcPts val="300"/>
                  </a:spcAft>
                  <a:buClr>
                    <a:srgbClr val="ffffff"/>
                  </a:buClr>
                  <a:buFont typeface="Times New Roman ce"/>
                  <a:buChar char="•"/>
                  <a:tabLst>
                    <a:tab algn="l" pos="711360"/>
                    <a:tab algn="l" pos="1422360"/>
                    <a:tab algn="l" pos="2133720"/>
                    <a:tab algn="l" pos="2844720"/>
                    <a:tab algn="l" pos="3556080"/>
                    <a:tab algn="l" pos="4267080"/>
                    <a:tab algn="l" pos="4978440"/>
                    <a:tab algn="l" pos="5689440"/>
                    <a:tab algn="l" pos="6400800"/>
                    <a:tab algn="l" pos="7112160"/>
                    <a:tab algn="l" pos="7823160"/>
                    <a:tab algn="l" pos="8534520"/>
                    <a:tab algn="l" pos="9245520"/>
                    <a:tab algn="l" pos="9956880"/>
                    <a:tab algn="l" pos="10667880"/>
                  </a:tabLst>
                </a:pPr>
                <a:r>
                  <a:rPr b="1" lang="pl-PL" sz="1600" spc="-1" strike="noStrike">
                    <a:solidFill>
                      <a:srgbClr val="ffffff"/>
                    </a:solidFill>
                    <a:latin typeface="Times New Roman ce"/>
                    <a:ea typeface="Times New Roman ce"/>
                  </a:rPr>
                  <a:t>Jakie są twoje długo- i krótkoterminowe cele i jak zamierzasz je osiągnąć?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171360" indent="-171360">
                  <a:lnSpc>
                    <a:spcPct val="90000"/>
                  </a:lnSpc>
                  <a:spcAft>
                    <a:spcPts val="300"/>
                  </a:spcAft>
                  <a:buClr>
                    <a:srgbClr val="ffffff"/>
                  </a:buClr>
                  <a:buFont typeface="Times New Roman ce"/>
                  <a:buChar char="•"/>
                  <a:tabLst>
                    <a:tab algn="l" pos="711360"/>
                    <a:tab algn="l" pos="1422360"/>
                    <a:tab algn="l" pos="2133720"/>
                    <a:tab algn="l" pos="2844720"/>
                    <a:tab algn="l" pos="3556080"/>
                    <a:tab algn="l" pos="4267080"/>
                    <a:tab algn="l" pos="4978440"/>
                    <a:tab algn="l" pos="5689440"/>
                    <a:tab algn="l" pos="6400800"/>
                    <a:tab algn="l" pos="7112160"/>
                    <a:tab algn="l" pos="7823160"/>
                    <a:tab algn="l" pos="8534520"/>
                    <a:tab algn="l" pos="9245520"/>
                    <a:tab algn="l" pos="9956880"/>
                    <a:tab algn="l" pos="10667880"/>
                  </a:tabLst>
                </a:pPr>
                <a:r>
                  <a:rPr b="1" lang="pl-PL" sz="1600" spc="-1" strike="noStrike">
                    <a:solidFill>
                      <a:srgbClr val="ffffff"/>
                    </a:solidFill>
                    <a:latin typeface="Times New Roman ce"/>
                    <a:ea typeface="Times New Roman ce"/>
                  </a:rPr>
                  <a:t>Opisz trudną sytuację ze swojego życia i powiedz, jak sobie z nią poradziłeś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Prostokąt 13"/>
            <p:cNvSpPr/>
            <p:nvPr/>
          </p:nvSpPr>
          <p:spPr>
            <a:xfrm>
              <a:off x="276120" y="1704960"/>
              <a:ext cx="1378800" cy="1366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ole tekstowe 14"/>
          <p:cNvSpPr/>
          <p:nvPr/>
        </p:nvSpPr>
        <p:spPr>
          <a:xfrm>
            <a:off x="2411280" y="1844640"/>
            <a:ext cx="489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Lista kilku podstawowych pytań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1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ole tekstowe 13"/>
          <p:cNvSpPr/>
          <p:nvPr/>
        </p:nvSpPr>
        <p:spPr>
          <a:xfrm>
            <a:off x="179280" y="333360"/>
            <a:ext cx="806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zmowa kwalifikacyjna może być prowadzona przez różne osoby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zależności od zasad obowiązujących w firmi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zmowę może poprowadzić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wolny kształt 19"/>
          <p:cNvSpPr/>
          <p:nvPr/>
        </p:nvSpPr>
        <p:spPr>
          <a:xfrm>
            <a:off x="468360" y="4221000"/>
            <a:ext cx="2270160" cy="1192320"/>
          </a:xfrm>
          <a:prstGeom prst="pi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689400" tIns="0" bIns="0" anchor="ctr">
            <a:noAutofit/>
          </a:bodyPr>
          <a:p>
            <a:pPr algn="r"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pl-PL" sz="19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rzyszły           bezpośredni przełożony kandydat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owolny kształt 22"/>
          <p:cNvSpPr/>
          <p:nvPr/>
        </p:nvSpPr>
        <p:spPr>
          <a:xfrm>
            <a:off x="3132000" y="4221000"/>
            <a:ext cx="2270160" cy="1192320"/>
          </a:xfrm>
          <a:prstGeom prst="pi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689400" tIns="0" bIns="0" anchor="ctr">
            <a:noAutofit/>
          </a:bodyPr>
          <a:p>
            <a:pPr algn="r"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pl-PL" sz="19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racownik działu kad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wolny kształt 25"/>
          <p:cNvSpPr/>
          <p:nvPr/>
        </p:nvSpPr>
        <p:spPr>
          <a:xfrm>
            <a:off x="5796000" y="4221000"/>
            <a:ext cx="2270160" cy="1192320"/>
          </a:xfrm>
          <a:prstGeom prst="pi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689400" tIns="0" bIns="0" anchor="ctr">
            <a:noAutofit/>
          </a:bodyPr>
          <a:p>
            <a:pPr algn="r"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pl-PL" sz="19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dyrektor, właściciel firmy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Obraz 16" descr="ludzie5.jpg"/>
          <p:cNvPicPr/>
          <p:nvPr/>
        </p:nvPicPr>
        <p:blipFill>
          <a:blip r:embed="rId2"/>
          <a:stretch/>
        </p:blipFill>
        <p:spPr>
          <a:xfrm>
            <a:off x="468360" y="2205000"/>
            <a:ext cx="2232000" cy="1944720"/>
          </a:xfrm>
          <a:prstGeom prst="rect">
            <a:avLst/>
          </a:prstGeom>
          <a:ln w="9360">
            <a:solidFill>
              <a:srgbClr val="953735"/>
            </a:solidFill>
            <a:miter/>
          </a:ln>
        </p:spPr>
      </p:pic>
      <p:pic>
        <p:nvPicPr>
          <p:cNvPr id="117" name="Obraz 20" descr="ludzie37.jpg"/>
          <p:cNvPicPr/>
          <p:nvPr/>
        </p:nvPicPr>
        <p:blipFill>
          <a:blip r:embed="rId3"/>
          <a:stretch/>
        </p:blipFill>
        <p:spPr>
          <a:xfrm>
            <a:off x="5796000" y="2205000"/>
            <a:ext cx="2232000" cy="19447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118" name="Obraz 23" descr="ludzie18.jpg"/>
          <p:cNvPicPr/>
          <p:nvPr/>
        </p:nvPicPr>
        <p:blipFill>
          <a:blip r:embed="rId4"/>
          <a:stretch/>
        </p:blipFill>
        <p:spPr>
          <a:xfrm>
            <a:off x="3132000" y="2205000"/>
            <a:ext cx="2232000" cy="19447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2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ole tekstowe 7"/>
          <p:cNvSpPr/>
          <p:nvPr/>
        </p:nvSpPr>
        <p:spPr>
          <a:xfrm>
            <a:off x="324000" y="40464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iedy już pracodawca zaprosi kandydata na rozmowę kwalifikacyjną, może ją przeprowadzić na kilka sposobó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ole tekstowe 8"/>
          <p:cNvSpPr/>
          <p:nvPr/>
        </p:nvSpPr>
        <p:spPr>
          <a:xfrm>
            <a:off x="324000" y="1341360"/>
            <a:ext cx="48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ożna się spotkać zatem z rozmow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ole tekstowe 10"/>
          <p:cNvSpPr/>
          <p:nvPr/>
        </p:nvSpPr>
        <p:spPr>
          <a:xfrm>
            <a:off x="402120" y="1844640"/>
            <a:ext cx="2891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andardow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zesiewową (wstępną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stresi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zed komisj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zez telef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ssessment cen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8"/>
          <a:stretch/>
        </p:blipFill>
        <p:spPr>
          <a:xfrm>
            <a:off x="3276720" y="3357720"/>
            <a:ext cx="4638600" cy="24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2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upa 13"/>
          <p:cNvGrpSpPr/>
          <p:nvPr/>
        </p:nvGrpSpPr>
        <p:grpSpPr>
          <a:xfrm>
            <a:off x="250920" y="260280"/>
            <a:ext cx="8066160" cy="2228400"/>
            <a:chOff x="250920" y="260280"/>
            <a:chExt cx="8066160" cy="2228400"/>
          </a:xfrm>
        </p:grpSpPr>
        <p:sp>
          <p:nvSpPr>
            <p:cNvPr id="130" name="pole tekstowe 7"/>
            <p:cNvSpPr/>
            <p:nvPr/>
          </p:nvSpPr>
          <p:spPr>
            <a:xfrm>
              <a:off x="2915640" y="260280"/>
              <a:ext cx="540144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Rozmowa standardowa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– składa się ze stałych punktów: po krótkim przedstawieniu się pracodawca udziela informacji o firmie oraz </a:t>
              </a:r>
              <a:br>
                <a:rPr sz="2000"/>
              </a:b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o stanowisku i obowiązkach przyszłego pracownika, następnie będzie chciał uzyskać informacje o kandydacie i prosi o wyjaśnienie lub uszczegółowienie informacji zawartych w CV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Picture 2" descr=""/>
            <p:cNvPicPr/>
            <p:nvPr/>
          </p:nvPicPr>
          <p:blipFill>
            <a:blip r:embed="rId2"/>
            <a:stretch/>
          </p:blipFill>
          <p:spPr>
            <a:xfrm>
              <a:off x="250920" y="548280"/>
              <a:ext cx="2608920" cy="165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Grupa 14"/>
          <p:cNvGrpSpPr/>
          <p:nvPr/>
        </p:nvGrpSpPr>
        <p:grpSpPr>
          <a:xfrm>
            <a:off x="250920" y="2637000"/>
            <a:ext cx="7902360" cy="1923480"/>
            <a:chOff x="250920" y="2637000"/>
            <a:chExt cx="7902360" cy="1923480"/>
          </a:xfrm>
        </p:grpSpPr>
        <p:sp>
          <p:nvSpPr>
            <p:cNvPr id="133" name="pole tekstowe 8"/>
            <p:cNvSpPr/>
            <p:nvPr/>
          </p:nvSpPr>
          <p:spPr>
            <a:xfrm>
              <a:off x="250920" y="2637000"/>
              <a:ext cx="525672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Rozmowa przesiewowa (wstępna)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– jej zadaniem jest wyłonienie osób, które nie spełniają wymagań stanowiska, rozmowa ogranicza się do zadawania pytań według wytycznych. Taką rozmowę stosuje się zwykle, gdy jest wielu kandydatów na dane stanowisko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3" descr=""/>
            <p:cNvPicPr/>
            <p:nvPr/>
          </p:nvPicPr>
          <p:blipFill>
            <a:blip r:embed="rId3"/>
            <a:stretch/>
          </p:blipFill>
          <p:spPr>
            <a:xfrm>
              <a:off x="5579640" y="2780640"/>
              <a:ext cx="2573640" cy="163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" name="Grupa 16"/>
          <p:cNvGrpSpPr/>
          <p:nvPr/>
        </p:nvGrpSpPr>
        <p:grpSpPr>
          <a:xfrm>
            <a:off x="1042920" y="4724280"/>
            <a:ext cx="7201080" cy="1923480"/>
            <a:chOff x="1042920" y="4724280"/>
            <a:chExt cx="7201080" cy="1923480"/>
          </a:xfrm>
        </p:grpSpPr>
        <p:sp>
          <p:nvSpPr>
            <p:cNvPr id="136" name="pole tekstowe 10"/>
            <p:cNvSpPr/>
            <p:nvPr/>
          </p:nvSpPr>
          <p:spPr>
            <a:xfrm>
              <a:off x="3707280" y="4724280"/>
              <a:ext cx="453672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Rozmowa w stresie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– pracodawca chce sprawdzić, jak kandydat radzi sobie w trudnych sytuacjach, dlatego zachowuje się np. złośliwie. Tego typu rozmowę stosuje się, gdy kandydat będzie musiał pracować w stresujących warunkach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Picture 4" descr=""/>
            <p:cNvPicPr/>
            <p:nvPr/>
          </p:nvPicPr>
          <p:blipFill>
            <a:blip r:embed="rId4"/>
            <a:stretch/>
          </p:blipFill>
          <p:spPr>
            <a:xfrm>
              <a:off x="1042920" y="4868280"/>
              <a:ext cx="2573640" cy="1634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3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upa 11"/>
          <p:cNvGrpSpPr/>
          <p:nvPr/>
        </p:nvGrpSpPr>
        <p:grpSpPr>
          <a:xfrm>
            <a:off x="250920" y="549360"/>
            <a:ext cx="7777080" cy="2706480"/>
            <a:chOff x="250920" y="549360"/>
            <a:chExt cx="7777080" cy="2706480"/>
          </a:xfrm>
        </p:grpSpPr>
        <p:sp>
          <p:nvSpPr>
            <p:cNvPr id="142" name="pole tekstowe 7"/>
            <p:cNvSpPr/>
            <p:nvPr/>
          </p:nvSpPr>
          <p:spPr>
            <a:xfrm>
              <a:off x="250920" y="549360"/>
              <a:ext cx="7777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Rozmowa przed komisją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– 2–3 osoby, spośród których jedna zadaje pytania, pozostałe przyglądają się i słuchają. Tego typu rozmowy bywają bardzo stresujące dla kandydatów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Picture 2" descr=""/>
            <p:cNvPicPr/>
            <p:nvPr/>
          </p:nvPicPr>
          <p:blipFill>
            <a:blip r:embed="rId2"/>
            <a:stretch/>
          </p:blipFill>
          <p:spPr>
            <a:xfrm>
              <a:off x="4571640" y="1485000"/>
              <a:ext cx="2789640" cy="177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Grupa 12"/>
          <p:cNvGrpSpPr/>
          <p:nvPr/>
        </p:nvGrpSpPr>
        <p:grpSpPr>
          <a:xfrm>
            <a:off x="250920" y="3573360"/>
            <a:ext cx="7705800" cy="2881440"/>
            <a:chOff x="250920" y="3573360"/>
            <a:chExt cx="7705800" cy="2881440"/>
          </a:xfrm>
        </p:grpSpPr>
        <p:sp>
          <p:nvSpPr>
            <p:cNvPr id="145" name="pole tekstowe 8"/>
            <p:cNvSpPr/>
            <p:nvPr/>
          </p:nvSpPr>
          <p:spPr>
            <a:xfrm>
              <a:off x="250920" y="3573360"/>
              <a:ext cx="77058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Rozmowa przez telefon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– jest zbliżona do rozmowy przesiewowej i ma wyjaśnić wątpliwości powstałe w trakcie analizy. Rozmowa telefoniczna pozwala zaoszczędzić czas zarówno kandydata, jak i pracodawcy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6" name="Picture 3" descr=""/>
            <p:cNvPicPr/>
            <p:nvPr/>
          </p:nvPicPr>
          <p:blipFill>
            <a:blip r:embed="rId3"/>
            <a:stretch/>
          </p:blipFill>
          <p:spPr>
            <a:xfrm>
              <a:off x="2411280" y="4725360"/>
              <a:ext cx="2724480" cy="1729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upa 11"/>
          <p:cNvGrpSpPr/>
          <p:nvPr/>
        </p:nvGrpSpPr>
        <p:grpSpPr>
          <a:xfrm>
            <a:off x="324000" y="476280"/>
            <a:ext cx="7848360" cy="5999040"/>
            <a:chOff x="324000" y="476280"/>
            <a:chExt cx="7848360" cy="5999040"/>
          </a:xfrm>
        </p:grpSpPr>
        <p:sp>
          <p:nvSpPr>
            <p:cNvPr id="151" name="pole tekstowe 7"/>
            <p:cNvSpPr/>
            <p:nvPr/>
          </p:nvSpPr>
          <p:spPr>
            <a:xfrm>
              <a:off x="324000" y="476280"/>
              <a:ext cx="784836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Assessment center 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(ośrodek oceny) – jest metodą skutecznej weryfikacji zawodowej, stanowi zbiór testów i narzędzi sprawdzających, które mają na celu umożliwić obsadzenie najlepiej dopasowanych kandydatów na stanowisko pracy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Assessment center stosuje się poprzez powołanie grupy ekspertów, którzy oceniają małą, kilkuosobową grupę kandydatów pod względem kwalifikacji, cech osobowych i zachowań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" name="Picture 2" descr=""/>
            <p:cNvPicPr/>
            <p:nvPr/>
          </p:nvPicPr>
          <p:blipFill>
            <a:blip r:embed="rId2"/>
            <a:stretch/>
          </p:blipFill>
          <p:spPr>
            <a:xfrm>
              <a:off x="2988000" y="4509360"/>
              <a:ext cx="3096000" cy="19659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ole tekstowe 7"/>
          <p:cNvSpPr/>
          <p:nvPr/>
        </p:nvSpPr>
        <p:spPr>
          <a:xfrm>
            <a:off x="324000" y="404640"/>
            <a:ext cx="7848360" cy="58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Grupa wykonuje specjalnie przygotowane ćwiczenia, powiązane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 zadaniami, które wykonywać będą musieli jako pracownicy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a podstawie wyników sesji grupowych i rozmów indywidualnych grupa ekspertów podejmuje decyzję na temat kandydatów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ssessment center  jest o wiele skuteczniejsze niż zwykła rozmowa kwalifikacyjna, ponieważ sprawdza kompetencje kandydatów w praktyce. Jednak wysokie koszty i długi czas przygotowania takiego spotkania sprawiają, że stosuje się je jedynie podczas rekrutacji na wysokie stanowisk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2"/>
          <a:stretch/>
        </p:blipFill>
        <p:spPr>
          <a:xfrm>
            <a:off x="3059280" y="2484360"/>
            <a:ext cx="2662200" cy="18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632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ak się przygotować do rozmowy kwalifikacyjnej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ole tekstowe 6"/>
          <p:cNvSpPr/>
          <p:nvPr/>
        </p:nvSpPr>
        <p:spPr>
          <a:xfrm>
            <a:off x="250920" y="1844640"/>
            <a:ext cx="432108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amiętajmy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, że może to być jedyna okazja, aby spotkać się z pracodawcą, więc liczy się nie tylko wygląd i pierwsze wrażenie, ale także merytoryczne przygotowanie do rozmowy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ole tekstowe 7"/>
          <p:cNvSpPr/>
          <p:nvPr/>
        </p:nvSpPr>
        <p:spPr>
          <a:xfrm>
            <a:off x="250920" y="3860640"/>
            <a:ext cx="439236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zmowa kwalifikacyjna decyduje o tym, czy pracodawca zechce przedstawić kandydatowi ofertę pracy. Kandydat powinien pamiętać, że rozmowa kwalifikacyjna jest zaawansowanym etapem procesu rekrutacj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4643280" y="2133720"/>
            <a:ext cx="3652920" cy="30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4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4T21:38:30Z</dcterms:created>
  <dc:creator>x</dc:creator>
  <dc:description/>
  <dc:language>en-US</dc:language>
  <cp:lastModifiedBy>Marta</cp:lastModifiedBy>
  <dcterms:modified xsi:type="dcterms:W3CDTF">2013-01-31T15:12:16Z</dcterms:modified>
  <cp:revision>68</cp:revision>
  <dc:subject/>
  <dc:title>Slajd 1</dc:title>
</cp:coreProperties>
</file>