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png" ContentType="image/png"/>
  <Override PartName="/ppt/media/image58.jpeg" ContentType="image/jpeg"/>
  <Override PartName="/ppt/media/image30.wmf" ContentType="image/x-wmf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8.png" ContentType="image/png"/>
  <Override PartName="/ppt/media/image11.png" ContentType="image/png"/>
  <Override PartName="/ppt/media/image24.jpeg" ContentType="image/jpeg"/>
  <Override PartName="/ppt/media/image59.png" ContentType="image/png"/>
  <Override PartName="/ppt/media/image16.jpeg" ContentType="image/jpeg"/>
  <Override PartName="/ppt/media/image21.png" ContentType="image/png"/>
  <Override PartName="/ppt/media/image42.png" ContentType="image/png"/>
  <Override PartName="/ppt/media/image26.jpeg" ContentType="image/jpeg"/>
  <Override PartName="/ppt/media/image73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7.jpeg" ContentType="image/jpeg"/>
  <Override PartName="/ppt/media/image38.jpeg" ContentType="image/jpeg"/>
  <Override PartName="/ppt/media/image71.png" ContentType="image/png"/>
  <Override PartName="/ppt/media/image69.png" ContentType="image/png"/>
  <Override PartName="/ppt/media/image25.jpeg" ContentType="image/jpeg"/>
  <Override PartName="/ppt/media/image14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67.png" ContentType="image/png"/>
  <Override PartName="/ppt/media/image66.png" ContentType="image/png"/>
  <Override PartName="/ppt/media/image65.wmf" ContentType="image/x-wmf"/>
  <Override PartName="/ppt/media/image19.jpeg" ContentType="image/jpeg"/>
  <Override PartName="/ppt/media/image64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wmf" ContentType="image/x-wmf"/>
  <Override PartName="/ppt/media/image28.jpeg" ContentType="image/jpeg"/>
  <Override PartName="/ppt/media/image1.png" ContentType="image/png"/>
  <Override PartName="/ppt/media/image61.png" ContentType="image/png"/>
  <Override PartName="/ppt/media/image60.png" ContentType="image/png"/>
  <Override PartName="/ppt/media/image29.jpeg" ContentType="image/jpeg"/>
  <Override PartName="/ppt/media/image35.png" ContentType="image/png"/>
  <Override PartName="/ppt/media/image10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2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74.jpeg" ContentType="image/jpeg"/>
  <Override PartName="/ppt/media/image34.png" ContentType="image/png"/>
  <Override PartName="/ppt/media/image4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A94-3A7A-4FC7-96F1-766CA29894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tyczy sł.: Vit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użą literę V zam. na małą: 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094-5B64-4EC5-BECB-9F2BA59F45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CAE-9BAE-4CC8-ACD9-00C532AD57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1, tytuł –brak przecinka po sł.: przyczy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2, wiersz ostatni - jest: długo, ma być: dłu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3, w. 1 i 3 – jest: ze, ma być: ż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4, w. 1 – brak przecinka po sł.: Zakońc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 2 – jest: Twoim, ma być: two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3 – brak przecinka po sł.: inicjatyw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A19C-2BA4-41A4-A52C-AA409C6DA2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085B-B5AC-422F-ABE0-EC400D5C88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F28-A933-4F0F-8823-48CDBAFE64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D8D-9B5C-4572-AA85-4480311F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3D4-157B-4ED5-B8B5-124F5D9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612-BB3B-4134-B46F-FEEACE2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377-A5DB-42ED-BF5F-B0BCF48C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452B-2CF5-469C-8BAE-0572D1C9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FF7B-4783-4E5F-ADE2-4B0BDB47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A696-BB8E-4431-8AAE-B5A1357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2B6-2293-48F2-852C-D5BCD46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FF84-1FD7-4275-8655-962BD49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8DD2-8141-49B6-95BD-001AB510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950-AD85-433D-9AB6-376B378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474-1D92-4E1D-9066-B3A6EE39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3B2-49F4-4536-883B-EB7BB1B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E0E-592E-410A-A10A-6E30313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719D-AD96-446E-8C97-E1A97F1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A00F-8FC0-4542-BDF2-89CD0045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EA0E-FEFD-4243-951A-1ECEE773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7B2-4776-4A84-8E40-8442C3D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7DE-8ED5-4952-BD30-CBB7BBB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630-0E73-4CDC-8CE2-BC2E839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DEB-2294-4AC1-BDF5-8C2E203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844-180C-41F8-B59A-B482AE4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B11-8A2B-4DEB-A384-14788EE4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226-0E18-4FE7-896C-73CB423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1034-3918-490B-B093-0735F044AA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CCF-F74A-422B-9710-12EAE7901F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mailto:Jan.Kowalski@poczta.pl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5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2.jpeg"/><Relationship Id="rId3" Type="http://schemas.openxmlformats.org/officeDocument/2006/relationships/hyperlink" Target="mailto:abc@xyz.pl" TargetMode="External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94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FAF-F978-49B9-A147-46E2FC932C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8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rostokąt 11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Diagram 13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upa 3"/>
          <p:cNvGrpSpPr/>
          <p:nvPr/>
        </p:nvGrpSpPr>
        <p:grpSpPr>
          <a:xfrm>
            <a:off x="0" y="0"/>
            <a:ext cx="2363400" cy="2448000"/>
            <a:chOff x="0" y="0"/>
            <a:chExt cx="2363400" cy="2448000"/>
          </a:xfrm>
        </p:grpSpPr>
        <p:pic>
          <p:nvPicPr>
            <p:cNvPr id="203" name="Obraz 4" descr="4642715944_d86a1657da_m.jpg"/>
            <p:cNvPicPr/>
            <p:nvPr/>
          </p:nvPicPr>
          <p:blipFill>
            <a:blip r:embed="rId1"/>
            <a:srcRect l="0" t="0" r="11421" b="7866"/>
            <a:stretch/>
          </p:blipFill>
          <p:spPr>
            <a:xfrm>
              <a:off x="0" y="0"/>
              <a:ext cx="23396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ole tekstowe 5"/>
            <p:cNvSpPr/>
            <p:nvPr/>
          </p:nvSpPr>
          <p:spPr>
            <a:xfrm>
              <a:off x="588600" y="1224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4"/>
          <p:cNvGraphicFramePr/>
          <p:nvPr/>
        </p:nvGraphicFramePr>
        <p:xfrm>
          <a:off x="406440" y="263520"/>
          <a:ext cx="8737560" cy="637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263520"/>
                    <a:ext cx="87375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a 18"/>
          <p:cNvGrpSpPr/>
          <p:nvPr/>
        </p:nvGrpSpPr>
        <p:grpSpPr>
          <a:xfrm>
            <a:off x="611280" y="1093680"/>
            <a:ext cx="7954920" cy="4351320"/>
            <a:chOff x="611280" y="1093680"/>
            <a:chExt cx="7954920" cy="4351320"/>
          </a:xfrm>
        </p:grpSpPr>
        <p:pic>
          <p:nvPicPr>
            <p:cNvPr id="211" name="Obraz 5" descr="6308649656_ee34cfb97e_m.jpg"/>
            <p:cNvPicPr/>
            <p:nvPr/>
          </p:nvPicPr>
          <p:blipFill>
            <a:blip r:embed="rId1"/>
            <a:stretch/>
          </p:blipFill>
          <p:spPr>
            <a:xfrm>
              <a:off x="4644000" y="2029680"/>
              <a:ext cx="3922200" cy="341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rostokąt 4"/>
            <p:cNvSpPr/>
            <p:nvPr/>
          </p:nvSpPr>
          <p:spPr>
            <a:xfrm>
              <a:off x="611280" y="1093680"/>
              <a:ext cx="734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Dane teleadres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są to podstawowe dane, które umożliwiają zidentyfikowanie kandydata i skontaktowanie się z nim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rostokąt 7"/>
          <p:cNvSpPr/>
          <p:nvPr/>
        </p:nvSpPr>
        <p:spPr>
          <a:xfrm>
            <a:off x="258120" y="206064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owolny kształt 8"/>
          <p:cNvGrpSpPr/>
          <p:nvPr/>
        </p:nvGrpSpPr>
        <p:grpSpPr>
          <a:xfrm>
            <a:off x="950760" y="2548080"/>
            <a:ext cx="2560680" cy="609480"/>
            <a:chOff x="950760" y="2548080"/>
            <a:chExt cx="2560680" cy="609480"/>
          </a:xfrm>
        </p:grpSpPr>
        <p:pic>
          <p:nvPicPr>
            <p:cNvPr id="21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950760" y="2548080"/>
              <a:ext cx="2560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71640" y="256536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Dowolny kształt 9"/>
          <p:cNvGrpSpPr/>
          <p:nvPr/>
        </p:nvGrpSpPr>
        <p:grpSpPr>
          <a:xfrm>
            <a:off x="950760" y="3193920"/>
            <a:ext cx="2560680" cy="615960"/>
            <a:chOff x="950760" y="3193920"/>
            <a:chExt cx="2560680" cy="615960"/>
          </a:xfrm>
        </p:grpSpPr>
        <p:pic>
          <p:nvPicPr>
            <p:cNvPr id="21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950760" y="3193920"/>
              <a:ext cx="256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321300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ktualny ad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Dowolny kształt 10"/>
          <p:cNvGrpSpPr/>
          <p:nvPr/>
        </p:nvGrpSpPr>
        <p:grpSpPr>
          <a:xfrm>
            <a:off x="950760" y="3840120"/>
            <a:ext cx="2560680" cy="542880"/>
            <a:chOff x="950760" y="3840120"/>
            <a:chExt cx="2560680" cy="542880"/>
          </a:xfrm>
        </p:grpSpPr>
        <p:pic>
          <p:nvPicPr>
            <p:cNvPr id="22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950760" y="3840120"/>
              <a:ext cx="2560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71640" y="3860640"/>
              <a:ext cx="2520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umer telefon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Dowolny kształt 13"/>
          <p:cNvGrpSpPr/>
          <p:nvPr/>
        </p:nvGrpSpPr>
        <p:grpSpPr>
          <a:xfrm>
            <a:off x="950760" y="4419720"/>
            <a:ext cx="3926160" cy="828720"/>
            <a:chOff x="950760" y="4419720"/>
            <a:chExt cx="3926160" cy="828720"/>
          </a:xfrm>
        </p:grpSpPr>
        <p:pic>
          <p:nvPicPr>
            <p:cNvPr id="225" name="Dowolny kształt 13" descr=""/>
            <p:cNvPicPr/>
            <p:nvPr/>
          </p:nvPicPr>
          <p:blipFill>
            <a:blip r:embed="rId5"/>
            <a:stretch/>
          </p:blipFill>
          <p:spPr>
            <a:xfrm>
              <a:off x="950760" y="4419720"/>
              <a:ext cx="3926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1640" y="4437000"/>
              <a:ext cx="3887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e-mailowy (zadbaj, aby był reprezentacyjny, a nie śmiesz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upa 15"/>
          <p:cNvGrpSpPr/>
          <p:nvPr/>
        </p:nvGrpSpPr>
        <p:grpSpPr>
          <a:xfrm>
            <a:off x="1042920" y="5661000"/>
            <a:ext cx="6624720" cy="641520"/>
            <a:chOff x="1042920" y="5661000"/>
            <a:chExt cx="6624720" cy="641520"/>
          </a:xfrm>
        </p:grpSpPr>
        <p:sp>
          <p:nvSpPr>
            <p:cNvPr id="228" name="Prostokąt zaokrąglony 16"/>
            <p:cNvSpPr/>
            <p:nvPr/>
          </p:nvSpPr>
          <p:spPr>
            <a:xfrm>
              <a:off x="1042920" y="5661000"/>
              <a:ext cx="6624720" cy="64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17"/>
            <p:cNvSpPr/>
            <p:nvPr/>
          </p:nvSpPr>
          <p:spPr>
            <a:xfrm>
              <a:off x="1042920" y="5703480"/>
              <a:ext cx="662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wsze należy dokładnie sprawdzić dane teleadresow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upa 11"/>
          <p:cNvGrpSpPr/>
          <p:nvPr/>
        </p:nvGrpSpPr>
        <p:grpSpPr>
          <a:xfrm>
            <a:off x="0" y="1052640"/>
            <a:ext cx="8101080" cy="5599080"/>
            <a:chOff x="0" y="1052640"/>
            <a:chExt cx="8101080" cy="5599080"/>
          </a:xfrm>
        </p:grpSpPr>
        <p:pic>
          <p:nvPicPr>
            <p:cNvPr id="235" name="Obraz 4" descr="5184323085_690e9bd90c_m.jpg"/>
            <p:cNvPicPr/>
            <p:nvPr/>
          </p:nvPicPr>
          <p:blipFill>
            <a:blip r:embed="rId1"/>
            <a:stretch/>
          </p:blipFill>
          <p:spPr>
            <a:xfrm>
              <a:off x="4921560" y="3996360"/>
              <a:ext cx="3179520" cy="26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raz 10" descr="6000810209_eecb1687bd_m.jpg"/>
            <p:cNvPicPr/>
            <p:nvPr/>
          </p:nvPicPr>
          <p:blipFill>
            <a:blip r:embed="rId2"/>
            <a:srcRect l="16145" t="0" r="15342" b="0"/>
            <a:stretch/>
          </p:blipFill>
          <p:spPr>
            <a:xfrm>
              <a:off x="0" y="1772280"/>
              <a:ext cx="208656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Prostokąt 5"/>
            <p:cNvSpPr/>
            <p:nvPr/>
          </p:nvSpPr>
          <p:spPr>
            <a:xfrm>
              <a:off x="539280" y="1052640"/>
              <a:ext cx="726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Doświadczenie zawod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jest szczególnie ważnym elementem CV. Daje ono pracodawcy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obraz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 temat kompetencji i dotychczasowych doświadczeń kandydat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5400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4.2010-09.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i Supermarket Sp. z o.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stanowiska: 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jer-sprzedaw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obowiązki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ługa kasy, dokładanie towaru, dbanie o czystość w skle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raz 7" descr="5520352624_eea85d8d12_m.jpg"/>
          <p:cNvPicPr/>
          <p:nvPr/>
        </p:nvPicPr>
        <p:blipFill>
          <a:blip r:embed="rId1"/>
          <a:srcRect l="7711" t="0" r="0" b="0"/>
          <a:stretch/>
        </p:blipFill>
        <p:spPr>
          <a:xfrm>
            <a:off x="324000" y="2637000"/>
            <a:ext cx="2158920" cy="3898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upa 10"/>
          <p:cNvGrpSpPr/>
          <p:nvPr/>
        </p:nvGrpSpPr>
        <p:grpSpPr>
          <a:xfrm>
            <a:off x="250920" y="692280"/>
            <a:ext cx="8269200" cy="3155760"/>
            <a:chOff x="250920" y="692280"/>
            <a:chExt cx="8269200" cy="3155760"/>
          </a:xfrm>
        </p:grpSpPr>
        <p:pic>
          <p:nvPicPr>
            <p:cNvPr id="244" name="Obraz 9" descr="6494392133_6b5eee558d_m.jpg"/>
            <p:cNvPicPr/>
            <p:nvPr/>
          </p:nvPicPr>
          <p:blipFill>
            <a:blip r:embed="rId2"/>
            <a:stretch/>
          </p:blipFill>
          <p:spPr>
            <a:xfrm>
              <a:off x="5364000" y="692280"/>
              <a:ext cx="315612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4"/>
            <p:cNvSpPr/>
            <p:nvPr/>
          </p:nvSpPr>
          <p:spPr>
            <a:xfrm>
              <a:off x="250920" y="1195200"/>
              <a:ext cx="5761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Wykształcenie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są to informacje na temat szkół, które kandydat do pracy ukończył. Jest to szczególnie istotne w dziedzinach, gdzie niezbędna jest fachowa wiedza techniczna. Należy pamiętać o datach, nazwie szkół, specjalizacjach lub kierunkac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763280" y="4652640"/>
            <a:ext cx="67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6-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kum Mechaniczne nr 1 w Warszaw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 klas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 samochodow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179280" y="1628640"/>
            <a:ext cx="7993080" cy="4969080"/>
            <a:chOff x="179280" y="1628640"/>
            <a:chExt cx="7993080" cy="4969080"/>
          </a:xfrm>
        </p:grpSpPr>
        <p:sp>
          <p:nvSpPr>
            <p:cNvPr id="252" name="Prostokąt 4"/>
            <p:cNvSpPr/>
            <p:nvPr/>
          </p:nvSpPr>
          <p:spPr>
            <a:xfrm>
              <a:off x="323280" y="1628640"/>
              <a:ext cx="784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inien zdefiniować umiejętności, którymi posługiwał się, pracując np. w czasie praktyk, prac wakacyjnych, wolontariacie, w świetlicy, organizacjach młodzieżowych, związkach sportowych it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rostokąt 7"/>
            <p:cNvSpPr/>
            <p:nvPr/>
          </p:nvSpPr>
          <p:spPr>
            <a:xfrm>
              <a:off x="179280" y="5850000"/>
              <a:ext cx="720720" cy="747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zrobić, jeśli kandydat nie ma żadnego doświadczenia zawodow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34920" y="3500280"/>
            <a:ext cx="4465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V powinien skupić się na wykształceniu, szkoleniach i zajęciach dodatkowych oraz potraktować swój potencjał i zapał do pracy jako dodatkowy at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Obraz 12" descr="ludzie201.jpg"/>
          <p:cNvPicPr/>
          <p:nvPr/>
        </p:nvPicPr>
        <p:blipFill>
          <a:blip r:embed="rId2"/>
          <a:stretch/>
        </p:blipFill>
        <p:spPr>
          <a:xfrm>
            <a:off x="179280" y="3068640"/>
            <a:ext cx="352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-360" y="-1717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ymi atutami mogą by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Diagram 4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Diagram 5" descr=""/>
          <p:cNvPicPr/>
          <p:nvPr/>
        </p:nvPicPr>
        <p:blipFill>
          <a:blip r:embed="rId2"/>
          <a:stretch/>
        </p:blipFill>
        <p:spPr>
          <a:xfrm>
            <a:off x="-6480" y="2378160"/>
            <a:ext cx="832824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Diagram 6" descr=""/>
          <p:cNvPicPr/>
          <p:nvPr/>
        </p:nvPicPr>
        <p:blipFill>
          <a:blip r:embed="rId3"/>
          <a:stretch/>
        </p:blipFill>
        <p:spPr>
          <a:xfrm>
            <a:off x="-6480" y="38163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7" descr=""/>
          <p:cNvPicPr/>
          <p:nvPr/>
        </p:nvPicPr>
        <p:blipFill>
          <a:blip r:embed="rId4"/>
          <a:stretch/>
        </p:blipFill>
        <p:spPr>
          <a:xfrm>
            <a:off x="-6480" y="5261040"/>
            <a:ext cx="8328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ole tekstowe 2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uzula o przetwarzaniu da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rostokąt 4"/>
          <p:cNvSpPr/>
          <p:nvPr/>
        </p:nvSpPr>
        <p:spPr>
          <a:xfrm>
            <a:off x="324000" y="98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umenty aplikacyjne to formalne zgłoszenie się do procesu rekru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wierające dane kandydata oraz wiele ważnych informacji, każde CV m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iecznie zawierać klauzulę o przetwarzaniu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formalny wymóg praw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upa 16"/>
          <p:cNvGrpSpPr/>
          <p:nvPr/>
        </p:nvGrpSpPr>
        <p:grpSpPr>
          <a:xfrm>
            <a:off x="1116000" y="2492280"/>
            <a:ext cx="6048360" cy="1839960"/>
            <a:chOff x="1116000" y="2492280"/>
            <a:chExt cx="6048360" cy="1839960"/>
          </a:xfrm>
        </p:grpSpPr>
        <p:pic>
          <p:nvPicPr>
            <p:cNvPr id="272" name="Prostokąt zaokrąglony 6" descr=""/>
            <p:cNvPicPr/>
            <p:nvPr/>
          </p:nvPicPr>
          <p:blipFill>
            <a:blip r:embed="rId1"/>
            <a:stretch/>
          </p:blipFill>
          <p:spPr>
            <a:xfrm>
              <a:off x="1116000" y="2492280"/>
              <a:ext cx="6048360" cy="131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pole tekstowe 7"/>
            <p:cNvGrpSpPr/>
            <p:nvPr/>
          </p:nvGrpSpPr>
          <p:grpSpPr>
            <a:xfrm>
              <a:off x="1700280" y="3662640"/>
              <a:ext cx="5122440" cy="669600"/>
              <a:chOff x="1700280" y="3662640"/>
              <a:chExt cx="5122440" cy="669600"/>
            </a:xfrm>
          </p:grpSpPr>
          <p:pic>
            <p:nvPicPr>
              <p:cNvPr id="274" name="pole tekstow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3662640"/>
                <a:ext cx="512244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750320" y="372060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Klauzula o przetwarzaniu dan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Prostokąt 15"/>
            <p:cNvSpPr/>
            <p:nvPr/>
          </p:nvSpPr>
          <p:spPr>
            <a:xfrm>
              <a:off x="1376640" y="2708280"/>
              <a:ext cx="531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rażam zgodę na przetwarzanie moich danych osobowych w celach rekrutacji, zgodnie z Ustawą z dn. 29 sierpnia 1997 r. o ochronie danych osobowych (DzU z 2002 r., nr 101, poz. 923 z późniejszymi zmianami)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a 9"/>
          <p:cNvGrpSpPr/>
          <p:nvPr/>
        </p:nvGrpSpPr>
        <p:grpSpPr>
          <a:xfrm>
            <a:off x="1042920" y="5516640"/>
            <a:ext cx="6624720" cy="785880"/>
            <a:chOff x="1042920" y="5516640"/>
            <a:chExt cx="6624720" cy="785880"/>
          </a:xfrm>
        </p:grpSpPr>
        <p:sp>
          <p:nvSpPr>
            <p:cNvPr id="278" name="Prostokąt zaokrąglony 10"/>
            <p:cNvSpPr/>
            <p:nvPr/>
          </p:nvSpPr>
          <p:spPr>
            <a:xfrm>
              <a:off x="1042920" y="5516640"/>
              <a:ext cx="662472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c22e3d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ole tekstowe 11"/>
            <p:cNvSpPr/>
            <p:nvPr/>
          </p:nvSpPr>
          <p:spPr>
            <a:xfrm>
              <a:off x="1042920" y="5703480"/>
              <a:ext cx="66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V bez klauzuli jest anonimem i może być zniszcz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az 4" descr="4690464069_1a69dcb400_m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8893080" cy="62373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0"/>
          <p:cNvGrpSpPr/>
          <p:nvPr/>
        </p:nvGrpSpPr>
        <p:grpSpPr>
          <a:xfrm>
            <a:off x="0" y="6165720"/>
            <a:ext cx="611280" cy="692280"/>
            <a:chOff x="0" y="6165720"/>
            <a:chExt cx="611280" cy="692280"/>
          </a:xfrm>
        </p:grpSpPr>
        <p:pic>
          <p:nvPicPr>
            <p:cNvPr id="28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6112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93960" y="6378480"/>
              <a:ext cx="47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wagi odnośnie do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rostokąt 6"/>
          <p:cNvSpPr/>
          <p:nvPr/>
        </p:nvSpPr>
        <p:spPr>
          <a:xfrm rot="785400">
            <a:off x="1346760" y="789120"/>
            <a:ext cx="2878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nie umieszczamy danych osobowych, np. wzrost, waga, kolor oc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rostokąt 7"/>
          <p:cNvSpPr/>
          <p:nvPr/>
        </p:nvSpPr>
        <p:spPr>
          <a:xfrm rot="570600">
            <a:off x="967680" y="1962000"/>
            <a:ext cx="3260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jest naszą wizytówką, powinno być czyste, przejrzyste i schl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8"/>
          <p:cNvSpPr/>
          <p:nvPr/>
        </p:nvSpPr>
        <p:spPr>
          <a:xfrm rot="21325800">
            <a:off x="4353840" y="1249200"/>
            <a:ext cx="335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umieścić zdjęcie, choć nie trzeba. Jeżeli kandydat zdecyduje się na umieszczenie zdjęcia, powinno to być zdjęcie legitymacyjne w prawym górnym rogu (a nie paszportow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rostokąt 9"/>
          <p:cNvSpPr/>
          <p:nvPr/>
        </p:nvSpPr>
        <p:spPr>
          <a:xfrm rot="467400">
            <a:off x="814680" y="3006720"/>
            <a:ext cx="3414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raczej unika się wpisywania oczekiwań co do wynagrod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rostokąt 12"/>
          <p:cNvSpPr/>
          <p:nvPr/>
        </p:nvSpPr>
        <p:spPr>
          <a:xfrm rot="424200">
            <a:off x="961200" y="385092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e-mailowy powinien być reprezentacyjny, np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Jan.Kowalski@poczta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: super.jasio99@poczta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13"/>
          <p:cNvSpPr/>
          <p:nvPr/>
        </p:nvSpPr>
        <p:spPr>
          <a:xfrm rot="21327600">
            <a:off x="4447800" y="3222720"/>
            <a:ext cx="34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item jest, że CV powinno zmieścić się na jednej stronie A4. CV może liczyć nawet kilka s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rostokąt 14"/>
          <p:cNvSpPr/>
          <p:nvPr/>
        </p:nvSpPr>
        <p:spPr>
          <a:xfrm rot="21355200">
            <a:off x="4349160" y="4271760"/>
            <a:ext cx="35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V piszemy na komputerze względnie na maszynie do pisania. Odręcznie napisane CV nie jest błędem, ale raczej nie jest praktykow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upa 15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296" name="pole tekstowe 16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Obraz 5" descr="5656309148_5bc6e96c05_m.jpg"/>
          <p:cNvPicPr/>
          <p:nvPr/>
        </p:nvPicPr>
        <p:blipFill>
          <a:blip r:embed="rId2"/>
          <a:stretch/>
        </p:blipFill>
        <p:spPr>
          <a:xfrm>
            <a:off x="5292720" y="1989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łędy w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Dowolny kształt 7"/>
          <p:cNvGrpSpPr/>
          <p:nvPr/>
        </p:nvGrpSpPr>
        <p:grpSpPr>
          <a:xfrm>
            <a:off x="590400" y="1036800"/>
            <a:ext cx="7383600" cy="609480"/>
            <a:chOff x="590400" y="1036800"/>
            <a:chExt cx="7383600" cy="609480"/>
          </a:xfrm>
        </p:grpSpPr>
        <p:pic>
          <p:nvPicPr>
            <p:cNvPr id="304" name="Dowolny kształt 7" descr=""/>
            <p:cNvPicPr/>
            <p:nvPr/>
          </p:nvPicPr>
          <p:blipFill>
            <a:blip r:embed="rId3"/>
            <a:stretch/>
          </p:blipFill>
          <p:spPr>
            <a:xfrm>
              <a:off x="590400" y="1036800"/>
              <a:ext cx="7383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11280" y="1052640"/>
              <a:ext cx="7345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ędy ortograficzne i stylistyczne są szczególnie rażące dla pracodaw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Dowolny kształt 8"/>
          <p:cNvGrpSpPr/>
          <p:nvPr/>
        </p:nvGrpSpPr>
        <p:grpSpPr>
          <a:xfrm>
            <a:off x="590400" y="1968480"/>
            <a:ext cx="4719960" cy="1116000"/>
            <a:chOff x="590400" y="1968480"/>
            <a:chExt cx="4719960" cy="1116000"/>
          </a:xfrm>
        </p:grpSpPr>
        <p:pic>
          <p:nvPicPr>
            <p:cNvPr id="307" name="Dowolny kształt 8" descr=""/>
            <p:cNvPicPr/>
            <p:nvPr/>
          </p:nvPicPr>
          <p:blipFill>
            <a:blip r:embed="rId4"/>
            <a:stretch/>
          </p:blipFill>
          <p:spPr>
            <a:xfrm>
              <a:off x="590400" y="1968480"/>
              <a:ext cx="4719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11280" y="1989000"/>
              <a:ext cx="4681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50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udne, pogniecione CV – CV wręczane pracodawcy musi wyglądać reprezentacyj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Dowolny kształt 9"/>
          <p:cNvGrpSpPr/>
          <p:nvPr/>
        </p:nvGrpSpPr>
        <p:grpSpPr>
          <a:xfrm>
            <a:off x="665280" y="3481560"/>
            <a:ext cx="4267080" cy="614160"/>
            <a:chOff x="665280" y="3481560"/>
            <a:chExt cx="4267080" cy="614160"/>
          </a:xfrm>
        </p:grpSpPr>
        <p:pic>
          <p:nvPicPr>
            <p:cNvPr id="310" name="Dowolny kształt 9" descr=""/>
            <p:cNvPicPr/>
            <p:nvPr/>
          </p:nvPicPr>
          <p:blipFill>
            <a:blip r:embed="rId5"/>
            <a:stretch/>
          </p:blipFill>
          <p:spPr>
            <a:xfrm>
              <a:off x="665280" y="3481560"/>
              <a:ext cx="42670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4360" y="3500280"/>
              <a:ext cx="423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31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ak klauzuli o przetwarzaniu dan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Dowolny kształt 10"/>
          <p:cNvGrpSpPr/>
          <p:nvPr/>
        </p:nvGrpSpPr>
        <p:grpSpPr>
          <a:xfrm>
            <a:off x="665280" y="4492800"/>
            <a:ext cx="4284720" cy="609480"/>
            <a:chOff x="665280" y="4492800"/>
            <a:chExt cx="4284720" cy="609480"/>
          </a:xfrm>
        </p:grpSpPr>
        <p:pic>
          <p:nvPicPr>
            <p:cNvPr id="313" name="Dowolny kształt 10" descr=""/>
            <p:cNvPicPr/>
            <p:nvPr/>
          </p:nvPicPr>
          <p:blipFill>
            <a:blip r:embed="rId6"/>
            <a:stretch/>
          </p:blipFill>
          <p:spPr>
            <a:xfrm>
              <a:off x="665280" y="4492800"/>
              <a:ext cx="4284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84360" y="4508640"/>
              <a:ext cx="42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16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ezachowanie odwróconej chron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Dowolny kształt 11"/>
          <p:cNvGrpSpPr/>
          <p:nvPr/>
        </p:nvGrpSpPr>
        <p:grpSpPr>
          <a:xfrm>
            <a:off x="665280" y="5499000"/>
            <a:ext cx="7381800" cy="615960"/>
            <a:chOff x="665280" y="5499000"/>
            <a:chExt cx="7381800" cy="615960"/>
          </a:xfrm>
        </p:grpSpPr>
        <p:pic>
          <p:nvPicPr>
            <p:cNvPr id="316" name="Dowolny kształt 11" descr=""/>
            <p:cNvPicPr/>
            <p:nvPr/>
          </p:nvPicPr>
          <p:blipFill>
            <a:blip r:embed="rId7"/>
            <a:stretch/>
          </p:blipFill>
          <p:spPr>
            <a:xfrm>
              <a:off x="665280" y="5499000"/>
              <a:ext cx="738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84360" y="5516640"/>
              <a:ext cx="734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324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óba zmieszczenia się na jednej stronie za wszelką cenę, co powoduje, że CV jest nieczytel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zó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Obraz 4" descr="4786644935_21160799e1_m.jpg"/>
          <p:cNvPicPr/>
          <p:nvPr/>
        </p:nvPicPr>
        <p:blipFill>
          <a:blip r:embed="rId1"/>
          <a:srcRect l="12123" t="0" r="15208" b="0"/>
          <a:stretch/>
        </p:blipFill>
        <p:spPr>
          <a:xfrm>
            <a:off x="5364000" y="549360"/>
            <a:ext cx="3024360" cy="6308640"/>
          </a:xfrm>
          <a:prstGeom prst="rect">
            <a:avLst/>
          </a:prstGeom>
          <a:ln w="0">
            <a:noFill/>
          </a:ln>
        </p:spPr>
      </p:pic>
      <p:grpSp>
        <p:nvGrpSpPr>
          <p:cNvPr id="320" name="Grupa 17"/>
          <p:cNvGrpSpPr/>
          <p:nvPr/>
        </p:nvGrpSpPr>
        <p:grpSpPr>
          <a:xfrm>
            <a:off x="250920" y="1268280"/>
            <a:ext cx="5041800" cy="916920"/>
            <a:chOff x="250920" y="1268280"/>
            <a:chExt cx="5041800" cy="916920"/>
          </a:xfrm>
        </p:grpSpPr>
        <p:pic>
          <p:nvPicPr>
            <p:cNvPr id="321" name="Obraz 10" descr="4786644935_21160799e1_m.jpg"/>
            <p:cNvPicPr/>
            <p:nvPr/>
          </p:nvPicPr>
          <p:blipFill>
            <a:blip r:embed="rId2"/>
            <a:srcRect l="13557" t="51352" r="28481" b="43144"/>
            <a:stretch/>
          </p:blipFill>
          <p:spPr>
            <a:xfrm rot="5400000">
              <a:off x="-7560" y="1598760"/>
              <a:ext cx="80496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rostokąt 11"/>
            <p:cNvSpPr/>
            <p:nvPr/>
          </p:nvSpPr>
          <p:spPr>
            <a:xfrm>
              <a:off x="538920" y="126828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stosuj czcionkę od 10 do 12, Times New Roman, Arial, Bookman Old Style, ale nie więcej niż 2 różn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18"/>
          <p:cNvGrpSpPr/>
          <p:nvPr/>
        </p:nvGrpSpPr>
        <p:grpSpPr>
          <a:xfrm>
            <a:off x="250920" y="2421000"/>
            <a:ext cx="5041800" cy="828720"/>
            <a:chOff x="250920" y="2421000"/>
            <a:chExt cx="5041800" cy="828720"/>
          </a:xfrm>
        </p:grpSpPr>
        <p:pic>
          <p:nvPicPr>
            <p:cNvPr id="324" name="Obraz 9" descr="4786644935_21160799e1_m.jpg"/>
            <p:cNvPicPr/>
            <p:nvPr/>
          </p:nvPicPr>
          <p:blipFill>
            <a:blip r:embed="rId3"/>
            <a:srcRect l="27614" t="41833" r="15541" b="52344"/>
            <a:stretch/>
          </p:blipFill>
          <p:spPr>
            <a:xfrm rot="16200000">
              <a:off x="-19080" y="2691360"/>
              <a:ext cx="82872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Prostokąt 12"/>
            <p:cNvSpPr/>
            <p:nvPr/>
          </p:nvSpPr>
          <p:spPr>
            <a:xfrm>
              <a:off x="538920" y="2493000"/>
              <a:ext cx="47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aj się znaleźć w swoich kompetencjach coś, co wyróżni cię spośród inny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upa 19"/>
          <p:cNvGrpSpPr/>
          <p:nvPr/>
        </p:nvGrpSpPr>
        <p:grpSpPr>
          <a:xfrm>
            <a:off x="250920" y="3428640"/>
            <a:ext cx="4968720" cy="863640"/>
            <a:chOff x="250920" y="3428640"/>
            <a:chExt cx="4968720" cy="863640"/>
          </a:xfrm>
        </p:grpSpPr>
        <p:pic>
          <p:nvPicPr>
            <p:cNvPr id="327" name="Obraz 6" descr="4786644935_21160799e1_m.jpg"/>
            <p:cNvPicPr/>
            <p:nvPr/>
          </p:nvPicPr>
          <p:blipFill>
            <a:blip r:embed="rId4"/>
            <a:srcRect l="24229" t="22428" r="15208" b="71867"/>
            <a:stretch/>
          </p:blipFill>
          <p:spPr>
            <a:xfrm flipH="1" rot="5400000">
              <a:off x="-36720" y="3716280"/>
              <a:ext cx="86364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rostokąt 13"/>
            <p:cNvSpPr/>
            <p:nvPr/>
          </p:nvSpPr>
          <p:spPr>
            <a:xfrm>
              <a:off x="538920" y="357264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ważniejszą informację umieść w pierwszej linijce sekcji – jest ona najczęściej czyt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upa 20"/>
          <p:cNvGrpSpPr/>
          <p:nvPr/>
        </p:nvGrpSpPr>
        <p:grpSpPr>
          <a:xfrm>
            <a:off x="250920" y="4581360"/>
            <a:ext cx="4968720" cy="935280"/>
            <a:chOff x="250920" y="4581360"/>
            <a:chExt cx="4968720" cy="935280"/>
          </a:xfrm>
        </p:grpSpPr>
        <p:pic>
          <p:nvPicPr>
            <p:cNvPr id="330" name="Obraz 5" descr="4786644935_21160799e1_m.jpg"/>
            <p:cNvPicPr/>
            <p:nvPr/>
          </p:nvPicPr>
          <p:blipFill>
            <a:blip r:embed="rId5"/>
            <a:srcRect l="11589" t="13346" r="27547" b="81764"/>
            <a:stretch/>
          </p:blipFill>
          <p:spPr>
            <a:xfrm flipH="1" rot="16200000">
              <a:off x="-72360" y="4905000"/>
              <a:ext cx="93528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Prostokąt 14"/>
            <p:cNvSpPr/>
            <p:nvPr/>
          </p:nvSpPr>
          <p:spPr>
            <a:xfrm>
              <a:off x="538920" y="479700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rzystaj ze wzorów, najlepiej z europejskiego wzoru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upa 21"/>
          <p:cNvGrpSpPr/>
          <p:nvPr/>
        </p:nvGrpSpPr>
        <p:grpSpPr>
          <a:xfrm>
            <a:off x="250920" y="5732280"/>
            <a:ext cx="5041800" cy="917280"/>
            <a:chOff x="250920" y="5732280"/>
            <a:chExt cx="5041800" cy="917280"/>
          </a:xfrm>
        </p:grpSpPr>
        <p:pic>
          <p:nvPicPr>
            <p:cNvPr id="333" name="Obraz 8" descr="4786644935_21160799e1_m.jpg"/>
            <p:cNvPicPr/>
            <p:nvPr/>
          </p:nvPicPr>
          <p:blipFill>
            <a:blip r:embed="rId6"/>
            <a:srcRect l="27864" t="61155" r="15074" b="33152"/>
            <a:stretch/>
          </p:blipFill>
          <p:spPr>
            <a:xfrm rot="16200000">
              <a:off x="-46800" y="6030000"/>
              <a:ext cx="88380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rostokąt 15"/>
            <p:cNvSpPr/>
            <p:nvPr/>
          </p:nvSpPr>
          <p:spPr>
            <a:xfrm>
              <a:off x="538920" y="573264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j swoje CV komuś do przeczytania (rodzina, znajomi), pomoże ci to znaleźć błędy i niedociągnięc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upa 10"/>
          <p:cNvGrpSpPr/>
          <p:nvPr/>
        </p:nvGrpSpPr>
        <p:grpSpPr>
          <a:xfrm>
            <a:off x="0" y="0"/>
            <a:ext cx="934920" cy="934920"/>
            <a:chOff x="0" y="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3640" y="28728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az 4" descr="4873775925_1b92c484f4_m.jpg"/>
          <p:cNvPicPr/>
          <p:nvPr/>
        </p:nvPicPr>
        <p:blipFill>
          <a:blip r:embed="rId1"/>
          <a:stretch/>
        </p:blipFill>
        <p:spPr>
          <a:xfrm>
            <a:off x="2268360" y="765000"/>
            <a:ext cx="3816360" cy="2384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3068280"/>
            <a:ext cx="8315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dokumenty tworzone, gdy kandydat stara się  o pracę. Zadaniem dokumentów aplikacyjnych jest przedstawienie pracodaw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dydata na pracowni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5"/>
          <p:cNvSpPr/>
          <p:nvPr/>
        </p:nvSpPr>
        <p:spPr>
          <a:xfrm>
            <a:off x="395280" y="4724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są swoistą reklamą, wizytówką, która ma pokazać umiejętności kandydata, jego wiedzę i chęć do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braz 7" descr="5846465499_8cbb7863d5_m.jpg"/>
          <p:cNvPicPr/>
          <p:nvPr/>
        </p:nvPicPr>
        <p:blipFill>
          <a:blip r:embed="rId1"/>
          <a:stretch/>
        </p:blipFill>
        <p:spPr>
          <a:xfrm>
            <a:off x="0" y="0"/>
            <a:ext cx="3933720" cy="3933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4"/>
          <p:cNvSpPr/>
          <p:nvPr/>
        </p:nvSpPr>
        <p:spPr>
          <a:xfrm>
            <a:off x="3635280" y="141300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jest uzupełnieniem informacji zawartych w CV.  Je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pisany do pracodawcy, w którym kandydat wskazuje swoje motyw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mpetencje) do zajęcia danego stanowiska pr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5"/>
          <p:cNvSpPr/>
          <p:nvPr/>
        </p:nvSpPr>
        <p:spPr>
          <a:xfrm>
            <a:off x="324000" y="4365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dzo ważne jest, aby do każdej rekrutacji do każdej firmy pisać osobny list motywacyjny. O ile CV zawiera dane o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że być uniwersalne, o tyle każdy list motywacyjny musi być pisany w odniesieniu do konkretnego stanowi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0920" y="1125000"/>
            <a:ext cx="6266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uje pracodawcę o stanowisku, o które kandydat się st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, gdzie kandydat znalazł informację o prowadzonej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ja i uzupełnia cel życior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wala poznać osobowość lepiej niż po przejrzeniu CV w odniesieniu do konkretnego stan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ęca pracodawcę do zapoznania się z życioryse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ę szansę wykazania się wiedzą i umiejętnościam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 sposób, w jaki kandydat się wyraż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Obraz 7" descr="4431760380_42bb12ed8c_m.jpg"/>
          <p:cNvPicPr/>
          <p:nvPr/>
        </p:nvPicPr>
        <p:blipFill>
          <a:blip r:embed="rId1"/>
          <a:stretch/>
        </p:blipFill>
        <p:spPr>
          <a:xfrm>
            <a:off x="244440" y="1262160"/>
            <a:ext cx="1913040" cy="2535120"/>
          </a:xfrm>
          <a:prstGeom prst="rect">
            <a:avLst/>
          </a:prstGeom>
          <a:ln w="0">
            <a:noFill/>
          </a:ln>
        </p:spPr>
      </p:pic>
      <p:grpSp>
        <p:nvGrpSpPr>
          <p:cNvPr id="3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Obraz 17" descr="6111972559_aaae42175d_m.jpg"/>
          <p:cNvPicPr/>
          <p:nvPr/>
        </p:nvPicPr>
        <p:blipFill>
          <a:blip r:embed="rId1"/>
          <a:srcRect l="10004" t="0" r="19180" b="0"/>
          <a:stretch/>
        </p:blipFill>
        <p:spPr>
          <a:xfrm>
            <a:off x="0" y="1341360"/>
            <a:ext cx="3059280" cy="431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listów motyw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upa 16"/>
          <p:cNvGrpSpPr/>
          <p:nvPr/>
        </p:nvGrpSpPr>
        <p:grpSpPr>
          <a:xfrm>
            <a:off x="2717640" y="1152360"/>
            <a:ext cx="2944800" cy="2327400"/>
            <a:chOff x="2717640" y="1152360"/>
            <a:chExt cx="2944800" cy="2327400"/>
          </a:xfrm>
        </p:grpSpPr>
        <p:pic>
          <p:nvPicPr>
            <p:cNvPr id="354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717640" y="1152360"/>
              <a:ext cx="2841480" cy="166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pole tekstowe 6"/>
            <p:cNvGrpSpPr/>
            <p:nvPr/>
          </p:nvGrpSpPr>
          <p:grpSpPr>
            <a:xfrm>
              <a:off x="2936520" y="2633040"/>
              <a:ext cx="2725920" cy="846720"/>
              <a:chOff x="2936520" y="2633040"/>
              <a:chExt cx="2725920" cy="846720"/>
            </a:xfrm>
          </p:grpSpPr>
          <p:pic>
            <p:nvPicPr>
              <p:cNvPr id="356" name="pole tekstow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6520" y="2633040"/>
                <a:ext cx="272592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2990880" y="2707560"/>
                <a:ext cx="23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ie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Prostokąt 15"/>
            <p:cNvSpPr/>
            <p:nvPr/>
          </p:nvSpPr>
          <p:spPr>
            <a:xfrm>
              <a:off x="2847240" y="1340280"/>
              <a:ext cx="254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kandydat wysyła dokumenty do firmy, która nie zamieściła ogłoszenia o prac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upa 16"/>
          <p:cNvGrpSpPr/>
          <p:nvPr/>
        </p:nvGrpSpPr>
        <p:grpSpPr>
          <a:xfrm>
            <a:off x="5435640" y="3213000"/>
            <a:ext cx="2592360" cy="1263600"/>
            <a:chOff x="5435640" y="3213000"/>
            <a:chExt cx="2592360" cy="1263600"/>
          </a:xfrm>
        </p:grpSpPr>
        <p:pic>
          <p:nvPicPr>
            <p:cNvPr id="360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435640" y="3213000"/>
              <a:ext cx="2501280" cy="78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pole tekstowe 10"/>
            <p:cNvGrpSpPr/>
            <p:nvPr/>
          </p:nvGrpSpPr>
          <p:grpSpPr>
            <a:xfrm>
              <a:off x="5623200" y="3866760"/>
              <a:ext cx="2404800" cy="609840"/>
              <a:chOff x="5623200" y="3866760"/>
              <a:chExt cx="2404800" cy="609840"/>
            </a:xfrm>
          </p:grpSpPr>
          <p:pic>
            <p:nvPicPr>
              <p:cNvPr id="362" name="pole tekstow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623200" y="3866760"/>
                <a:ext cx="240480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5672880" y="3918600"/>
                <a:ext cx="202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Prostokąt 15"/>
            <p:cNvSpPr/>
            <p:nvPr/>
          </p:nvSpPr>
          <p:spPr>
            <a:xfrm>
              <a:off x="5546520" y="3344760"/>
              <a:ext cx="224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ysłany w odpowiedzi na ogłos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upa 16"/>
          <p:cNvGrpSpPr/>
          <p:nvPr/>
        </p:nvGrpSpPr>
        <p:grpSpPr>
          <a:xfrm>
            <a:off x="3203640" y="4724280"/>
            <a:ext cx="3672000" cy="1841760"/>
            <a:chOff x="3203640" y="4724280"/>
            <a:chExt cx="3672000" cy="1841760"/>
          </a:xfrm>
        </p:grpSpPr>
        <p:pic>
          <p:nvPicPr>
            <p:cNvPr id="366" name="Prostokąt zaokrąglony 13" descr=""/>
            <p:cNvPicPr/>
            <p:nvPr/>
          </p:nvPicPr>
          <p:blipFill>
            <a:blip r:embed="rId6"/>
            <a:stretch/>
          </p:blipFill>
          <p:spPr>
            <a:xfrm>
              <a:off x="3212280" y="4724280"/>
              <a:ext cx="3663360" cy="13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pole tekstowe 14"/>
            <p:cNvGrpSpPr/>
            <p:nvPr/>
          </p:nvGrpSpPr>
          <p:grpSpPr>
            <a:xfrm>
              <a:off x="3717720" y="5896080"/>
              <a:ext cx="2881440" cy="669960"/>
              <a:chOff x="3717720" y="5896080"/>
              <a:chExt cx="2881440" cy="669960"/>
            </a:xfrm>
          </p:grpSpPr>
          <p:pic>
            <p:nvPicPr>
              <p:cNvPr id="368" name="pole tekstow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7720" y="5896080"/>
                <a:ext cx="288144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3771720" y="5955840"/>
                <a:ext cx="245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z polecen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Prostokąt 15"/>
            <p:cNvSpPr/>
            <p:nvPr/>
          </p:nvSpPr>
          <p:spPr>
            <a:xfrm>
              <a:off x="3203640" y="4872600"/>
              <a:ext cx="362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aplikant powołuje się na osobę, która poleciła mu kontakt z firmą. Zwiększa szansę zaproszenia na rozmow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Object 7"/>
          <p:cNvGraphicFramePr/>
          <p:nvPr/>
        </p:nvGraphicFramePr>
        <p:xfrm>
          <a:off x="2700360" y="150840"/>
          <a:ext cx="5375160" cy="67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0840"/>
                    <a:ext cx="537516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Grupa 3"/>
          <p:cNvGrpSpPr/>
          <p:nvPr/>
        </p:nvGrpSpPr>
        <p:grpSpPr>
          <a:xfrm>
            <a:off x="0" y="0"/>
            <a:ext cx="2340000" cy="2448000"/>
            <a:chOff x="0" y="0"/>
            <a:chExt cx="2340000" cy="2448000"/>
          </a:xfrm>
        </p:grpSpPr>
        <p:pic>
          <p:nvPicPr>
            <p:cNvPr id="377" name="Obraz 4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0"/>
              <a:ext cx="234000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pole tekstowe 5"/>
            <p:cNvSpPr/>
            <p:nvPr/>
          </p:nvSpPr>
          <p:spPr>
            <a:xfrm>
              <a:off x="732240" y="122400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L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motywacyj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Obraz 4" descr="5656309148_5bc6e96c05_m.jpg"/>
          <p:cNvPicPr/>
          <p:nvPr/>
        </p:nvPicPr>
        <p:blipFill>
          <a:blip r:embed="rId2"/>
          <a:stretch/>
        </p:blipFill>
        <p:spPr>
          <a:xfrm>
            <a:off x="5435640" y="191628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y w liście motywacyj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Dowolny kształt 5"/>
          <p:cNvGrpSpPr/>
          <p:nvPr/>
        </p:nvGrpSpPr>
        <p:grpSpPr>
          <a:xfrm>
            <a:off x="158760" y="963720"/>
            <a:ext cx="7527960" cy="682560"/>
            <a:chOff x="158760" y="963720"/>
            <a:chExt cx="7527960" cy="682560"/>
          </a:xfrm>
        </p:grpSpPr>
        <p:pic>
          <p:nvPicPr>
            <p:cNvPr id="389" name="Dowolny kształt 5" descr=""/>
            <p:cNvPicPr/>
            <p:nvPr/>
          </p:nvPicPr>
          <p:blipFill>
            <a:blip r:embed="rId3"/>
            <a:stretch/>
          </p:blipFill>
          <p:spPr>
            <a:xfrm>
              <a:off x="158760" y="963720"/>
              <a:ext cx="752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9280" y="981000"/>
              <a:ext cx="7488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obnie jak CV list motywacyjny jest dokumentem, musi zawierać dane kandydata, dane adresata i podpi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Dowolny kształt 6"/>
          <p:cNvGrpSpPr/>
          <p:nvPr/>
        </p:nvGrpSpPr>
        <p:grpSpPr>
          <a:xfrm>
            <a:off x="158760" y="1828800"/>
            <a:ext cx="5656320" cy="828720"/>
            <a:chOff x="158760" y="1828800"/>
            <a:chExt cx="5656320" cy="828720"/>
          </a:xfrm>
        </p:grpSpPr>
        <p:pic>
          <p:nvPicPr>
            <p:cNvPr id="392" name="Dowolny kształt 6" descr=""/>
            <p:cNvPicPr/>
            <p:nvPr/>
          </p:nvPicPr>
          <p:blipFill>
            <a:blip r:embed="rId4"/>
            <a:stretch/>
          </p:blipFill>
          <p:spPr>
            <a:xfrm>
              <a:off x="158760" y="1828800"/>
              <a:ext cx="5656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79280" y="1844640"/>
              <a:ext cx="561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skupić się na swoich atutach i mocnych stronach, przekonać do siebie pracodawc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Dowolny kształt 7"/>
          <p:cNvGrpSpPr/>
          <p:nvPr/>
        </p:nvGrpSpPr>
        <p:grpSpPr>
          <a:xfrm>
            <a:off x="158760" y="2835360"/>
            <a:ext cx="5656320" cy="1114200"/>
            <a:chOff x="158760" y="2835360"/>
            <a:chExt cx="5656320" cy="1114200"/>
          </a:xfrm>
        </p:grpSpPr>
        <p:pic>
          <p:nvPicPr>
            <p:cNvPr id="395" name="Dowolny kształt 7" descr=""/>
            <p:cNvPicPr/>
            <p:nvPr/>
          </p:nvPicPr>
          <p:blipFill>
            <a:blip r:embed="rId5"/>
            <a:stretch/>
          </p:blipFill>
          <p:spPr>
            <a:xfrm>
              <a:off x="158760" y="2835360"/>
              <a:ext cx="56563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9280" y="2852640"/>
              <a:ext cx="561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ist nie powinien być za długi ani za krótki, żeby nie zanudzić czytającego, zwykle nie dłuższy niż jedna strona A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Dowolny kształt 8"/>
          <p:cNvGrpSpPr/>
          <p:nvPr/>
        </p:nvGrpSpPr>
        <p:grpSpPr>
          <a:xfrm>
            <a:off x="158760" y="4133880"/>
            <a:ext cx="5583240" cy="1114560"/>
            <a:chOff x="158760" y="4133880"/>
            <a:chExt cx="5583240" cy="1114560"/>
          </a:xfrm>
        </p:grpSpPr>
        <p:pic>
          <p:nvPicPr>
            <p:cNvPr id="398" name="Dowolny kształt 8" descr=""/>
            <p:cNvPicPr/>
            <p:nvPr/>
          </p:nvPicPr>
          <p:blipFill>
            <a:blip r:embed="rId6"/>
            <a:stretch/>
          </p:blipFill>
          <p:spPr>
            <a:xfrm>
              <a:off x="158760" y="4133880"/>
              <a:ext cx="5583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9280" y="4149720"/>
              <a:ext cx="5545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winien powtarzać informacji zawartych w CV. List motywacyjnym jest rozwinięciem CV, a nie jego powtórzenie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Dowolny kształt 9"/>
          <p:cNvGrpSpPr/>
          <p:nvPr/>
        </p:nvGrpSpPr>
        <p:grpSpPr>
          <a:xfrm>
            <a:off x="158760" y="5353200"/>
            <a:ext cx="7742160" cy="687240"/>
            <a:chOff x="158760" y="5353200"/>
            <a:chExt cx="7742160" cy="687240"/>
          </a:xfrm>
        </p:grpSpPr>
        <p:pic>
          <p:nvPicPr>
            <p:cNvPr id="401" name="Dowolny kształt 9" descr=""/>
            <p:cNvPicPr/>
            <p:nvPr/>
          </p:nvPicPr>
          <p:blipFill>
            <a:blip r:embed="rId7"/>
            <a:stretch/>
          </p:blipFill>
          <p:spPr>
            <a:xfrm>
              <a:off x="158760" y="5353200"/>
              <a:ext cx="77421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9280" y="5373720"/>
              <a:ext cx="7705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zapominać o podpisaniu listu i zawarciu propozycji spotkani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Dowolny kształt 10"/>
          <p:cNvGrpSpPr/>
          <p:nvPr/>
        </p:nvGrpSpPr>
        <p:grpSpPr>
          <a:xfrm>
            <a:off x="884160" y="6145200"/>
            <a:ext cx="7016760" cy="463680"/>
            <a:chOff x="884160" y="6145200"/>
            <a:chExt cx="7016760" cy="463680"/>
          </a:xfrm>
        </p:grpSpPr>
        <p:pic>
          <p:nvPicPr>
            <p:cNvPr id="404" name="Dowolny kształt 10" descr=""/>
            <p:cNvPicPr/>
            <p:nvPr/>
          </p:nvPicPr>
          <p:blipFill>
            <a:blip r:embed="rId8"/>
            <a:stretch/>
          </p:blipFill>
          <p:spPr>
            <a:xfrm>
              <a:off x="884160" y="6145200"/>
              <a:ext cx="701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900000" y="6165720"/>
              <a:ext cx="698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uważać na błędy ortograficzne i stylistycz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Obraz 4" descr="gazeta.jpg"/>
          <p:cNvPicPr/>
          <p:nvPr/>
        </p:nvPicPr>
        <p:blipFill>
          <a:blip r:embed="rId2"/>
          <a:stretch/>
        </p:blipFill>
        <p:spPr>
          <a:xfrm>
            <a:off x="0" y="0"/>
            <a:ext cx="3038400" cy="3213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388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ogłoszenia o prac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rostokąt 6"/>
          <p:cNvSpPr/>
          <p:nvPr/>
        </p:nvSpPr>
        <p:spPr>
          <a:xfrm>
            <a:off x="2627280" y="90792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Super Konstrukcja.  Jesteśmy liderem w branży budowlanej, specjalizujemy się w projektowaniu i montażu konstrukcji stalowych. Obecnie do swojego zespołu poszukujemy osoby na stanowisko: projektanta konstrukcji stal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rostokąt 7"/>
          <p:cNvSpPr/>
          <p:nvPr/>
        </p:nvSpPr>
        <p:spPr>
          <a:xfrm>
            <a:off x="1187280" y="299736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Wymagan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ształcenie wyższe techniczne (budownictw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rok doświadczenia na podobnym stanowis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jętność obsługi programów komputerowych do projekt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ęć nauki, rozwoju i zaangaż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rostokąt 8"/>
          <p:cNvSpPr/>
          <p:nvPr/>
        </p:nvSpPr>
        <p:spPr>
          <a:xfrm>
            <a:off x="118728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Oferujem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łą atmosferę pra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liwość rozwoju zaw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0" y="59500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ych prosimy o przesłanie dokumentów aplikacyjnych pod adresem e-mailowym: 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bc@xyz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dnia xx.xx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az 7" descr="dok1.jpg"/>
          <p:cNvPicPr/>
          <p:nvPr/>
        </p:nvPicPr>
        <p:blipFill>
          <a:blip r:embed="rId1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powinno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62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wykształc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 doświadcz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ch kompetencja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znajomości języków obc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ia/ ciekawostki/ szczególne osiągnięc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upa 13"/>
          <p:cNvGrpSpPr/>
          <p:nvPr/>
        </p:nvGrpSpPr>
        <p:grpSpPr>
          <a:xfrm>
            <a:off x="7308720" y="5923080"/>
            <a:ext cx="935280" cy="934920"/>
            <a:chOff x="7308720" y="5923080"/>
            <a:chExt cx="935280" cy="934920"/>
          </a:xfrm>
        </p:grpSpPr>
        <p:pic>
          <p:nvPicPr>
            <p:cNvPr id="419" name="Picture 8" descr=""/>
            <p:cNvPicPr/>
            <p:nvPr/>
          </p:nvPicPr>
          <p:blipFill>
            <a:blip r:embed="rId2"/>
            <a:stretch/>
          </p:blipFill>
          <p:spPr>
            <a:xfrm>
              <a:off x="7308720" y="592308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ole tekstowe 8"/>
            <p:cNvSpPr/>
            <p:nvPr/>
          </p:nvSpPr>
          <p:spPr>
            <a:xfrm>
              <a:off x="7452360" y="6210360"/>
              <a:ext cx="72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raz 5" descr="1biueo.jpg"/>
          <p:cNvPicPr/>
          <p:nvPr/>
        </p:nvPicPr>
        <p:blipFill>
          <a:blip r:embed="rId1"/>
          <a:srcRect l="0" t="0" r="0" b="10244"/>
          <a:stretch/>
        </p:blipFill>
        <p:spPr>
          <a:xfrm>
            <a:off x="1476360" y="4792680"/>
            <a:ext cx="2554200" cy="2065320"/>
          </a:xfrm>
          <a:prstGeom prst="rect">
            <a:avLst/>
          </a:prstGeom>
          <a:ln w="0">
            <a:noFill/>
          </a:ln>
        </p:spPr>
      </p:pic>
      <p:pic>
        <p:nvPicPr>
          <p:cNvPr id="422" name="Obraz 4" descr="4236781407_f1e87a8279_m.jpg"/>
          <p:cNvPicPr/>
          <p:nvPr/>
        </p:nvPicPr>
        <p:blipFill>
          <a:blip r:embed="rId2"/>
          <a:stretch/>
        </p:blipFill>
        <p:spPr>
          <a:xfrm>
            <a:off x="6372360" y="549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– powinien 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ę, skąd wiemy o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wykształc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doświadcz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 kompetencja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motywacji kandydata do podjęc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ótki opis cech osobowości, które mogą przydać się w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LM można powtórzyć 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upa 9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9" name="pole tekstowe 10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4"/>
          <p:cNvSpPr/>
          <p:nvPr/>
        </p:nvSpPr>
        <p:spPr>
          <a:xfrm>
            <a:off x="395280" y="1197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zestaw dokumentów wymaga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racodawcę od kandydatów d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upa 14"/>
          <p:cNvGrpSpPr/>
          <p:nvPr/>
        </p:nvGrpSpPr>
        <p:grpSpPr>
          <a:xfrm>
            <a:off x="250920" y="2708280"/>
            <a:ext cx="8005680" cy="3790800"/>
            <a:chOff x="250920" y="2708280"/>
            <a:chExt cx="8005680" cy="3790800"/>
          </a:xfrm>
        </p:grpSpPr>
        <p:pic>
          <p:nvPicPr>
            <p:cNvPr id="111" name="Obraz 5" descr="267333665_4efd36fdc9_m.jpg"/>
            <p:cNvPicPr/>
            <p:nvPr/>
          </p:nvPicPr>
          <p:blipFill>
            <a:blip r:embed="rId1"/>
            <a:srcRect l="0" t="0" r="47644" b="0"/>
            <a:stretch/>
          </p:blipFill>
          <p:spPr>
            <a:xfrm>
              <a:off x="6012360" y="3284280"/>
              <a:ext cx="224424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6"/>
            <p:cNvSpPr/>
            <p:nvPr/>
          </p:nvSpPr>
          <p:spPr>
            <a:xfrm>
              <a:off x="250920" y="2708280"/>
              <a:ext cx="648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bardziej powszechnymi dokumentami aplikacyjnymi s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Dowolny kształt 8"/>
          <p:cNvSpPr/>
          <p:nvPr/>
        </p:nvSpPr>
        <p:spPr>
          <a:xfrm>
            <a:off x="1692360" y="32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(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0"/>
          <p:cNvSpPr/>
          <p:nvPr/>
        </p:nvSpPr>
        <p:spPr>
          <a:xfrm>
            <a:off x="1692360" y="393372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11"/>
          <p:cNvSpPr/>
          <p:nvPr/>
        </p:nvSpPr>
        <p:spPr>
          <a:xfrm>
            <a:off x="260640" y="4508640"/>
            <a:ext cx="305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asem stosuje się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olny kształt 12"/>
          <p:cNvSpPr/>
          <p:nvPr/>
        </p:nvSpPr>
        <p:spPr>
          <a:xfrm>
            <a:off x="1619280" y="50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inten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olny kształt 13"/>
          <p:cNvSpPr/>
          <p:nvPr/>
        </p:nvSpPr>
        <p:spPr>
          <a:xfrm>
            <a:off x="1619280" y="5732640"/>
            <a:ext cx="2808360" cy="5047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rz aplik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15" descr="ludzie52.jpg"/>
          <p:cNvPicPr/>
          <p:nvPr/>
        </p:nvPicPr>
        <p:blipFill>
          <a:blip r:embed="rId1"/>
          <a:stretch/>
        </p:blipFill>
        <p:spPr>
          <a:xfrm>
            <a:off x="3822840" y="2127240"/>
            <a:ext cx="4698720" cy="2981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24000" y="639720"/>
            <a:ext cx="8569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4"/>
          <p:cNvSpPr/>
          <p:nvPr/>
        </p:nvSpPr>
        <p:spPr>
          <a:xfrm>
            <a:off x="0" y="1125360"/>
            <a:ext cx="83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ęsto pracodawca życzy sobie jeszcze dodatkowych dokumentów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Dowolny kształt 8"/>
          <p:cNvGrpSpPr/>
          <p:nvPr/>
        </p:nvGrpSpPr>
        <p:grpSpPr>
          <a:xfrm>
            <a:off x="811080" y="2114640"/>
            <a:ext cx="3741840" cy="609480"/>
            <a:chOff x="811080" y="2114640"/>
            <a:chExt cx="3741840" cy="609480"/>
          </a:xfrm>
        </p:grpSpPr>
        <p:pic>
          <p:nvPicPr>
            <p:cNvPr id="12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811080" y="21146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2133720"/>
              <a:ext cx="37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siążeczka zdrowia (sanepi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Dowolny kształt 9"/>
          <p:cNvGrpSpPr/>
          <p:nvPr/>
        </p:nvGrpSpPr>
        <p:grpSpPr>
          <a:xfrm>
            <a:off x="811080" y="2908440"/>
            <a:ext cx="3741840" cy="609480"/>
            <a:chOff x="811080" y="2908440"/>
            <a:chExt cx="3741840" cy="609480"/>
          </a:xfrm>
        </p:grpSpPr>
        <p:pic>
          <p:nvPicPr>
            <p:cNvPr id="12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811080" y="2908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6920" y="292428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wo jaz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Dowolny kształt 10"/>
          <p:cNvGrpSpPr/>
          <p:nvPr/>
        </p:nvGrpSpPr>
        <p:grpSpPr>
          <a:xfrm>
            <a:off x="811080" y="3700440"/>
            <a:ext cx="3741840" cy="609480"/>
            <a:chOff x="811080" y="3700440"/>
            <a:chExt cx="3741840" cy="609480"/>
          </a:xfrm>
        </p:grpSpPr>
        <p:pic>
          <p:nvPicPr>
            <p:cNvPr id="13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811080" y="3700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6920" y="371628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a o uprawnienia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Dowolny kształt 11"/>
          <p:cNvGrpSpPr/>
          <p:nvPr/>
        </p:nvGrpSpPr>
        <p:grpSpPr>
          <a:xfrm>
            <a:off x="811080" y="4492800"/>
            <a:ext cx="3741840" cy="609480"/>
            <a:chOff x="811080" y="4492800"/>
            <a:chExt cx="3741840" cy="609480"/>
          </a:xfrm>
        </p:grpSpPr>
        <p:pic>
          <p:nvPicPr>
            <p:cNvPr id="135" name="Dowolny kształt 11" descr=""/>
            <p:cNvPicPr/>
            <p:nvPr/>
          </p:nvPicPr>
          <p:blipFill>
            <a:blip r:embed="rId5"/>
            <a:stretch/>
          </p:blipFill>
          <p:spPr>
            <a:xfrm>
              <a:off x="811080" y="4492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6920" y="450864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e o niekaralnośc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Dowolny kształt 12"/>
          <p:cNvGrpSpPr/>
          <p:nvPr/>
        </p:nvGrpSpPr>
        <p:grpSpPr>
          <a:xfrm>
            <a:off x="811080" y="5284800"/>
            <a:ext cx="3741840" cy="609480"/>
            <a:chOff x="811080" y="5284800"/>
            <a:chExt cx="3741840" cy="609480"/>
          </a:xfrm>
        </p:grpSpPr>
        <p:pic>
          <p:nvPicPr>
            <p:cNvPr id="138" name="Dowolny kształt 12" descr=""/>
            <p:cNvPicPr/>
            <p:nvPr/>
          </p:nvPicPr>
          <p:blipFill>
            <a:blip r:embed="rId6"/>
            <a:stretch/>
          </p:blipFill>
          <p:spPr>
            <a:xfrm>
              <a:off x="811080" y="5284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26920" y="530064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je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az 3" descr="4431760072_c9e40d8237_m.jpg"/>
          <p:cNvPicPr/>
          <p:nvPr/>
        </p:nvPicPr>
        <p:blipFill>
          <a:blip r:embed="rId1"/>
          <a:srcRect l="13476" t="0" r="10153" b="0"/>
          <a:stretch/>
        </p:blipFill>
        <p:spPr>
          <a:xfrm>
            <a:off x="0" y="1413000"/>
            <a:ext cx="2448000" cy="3941640"/>
          </a:xfrm>
          <a:prstGeom prst="rect">
            <a:avLst/>
          </a:prstGeom>
          <a:ln w="0">
            <a:noFill/>
          </a:ln>
        </p:spPr>
      </p:pic>
      <p:pic>
        <p:nvPicPr>
          <p:cNvPr id="144" name="Grupa 6" descr=""/>
          <p:cNvPicPr/>
          <p:nvPr/>
        </p:nvPicPr>
        <p:blipFill>
          <a:blip r:embed="rId2"/>
          <a:stretch/>
        </p:blipFill>
        <p:spPr>
          <a:xfrm>
            <a:off x="2266920" y="285840"/>
            <a:ext cx="5956200" cy="1695240"/>
          </a:xfrm>
          <a:prstGeom prst="rect">
            <a:avLst/>
          </a:prstGeom>
          <a:ln w="0">
            <a:noFill/>
          </a:ln>
        </p:spPr>
      </p:pic>
      <p:pic>
        <p:nvPicPr>
          <p:cNvPr id="145" name="Grupa 7" descr=""/>
          <p:cNvPicPr/>
          <p:nvPr/>
        </p:nvPicPr>
        <p:blipFill>
          <a:blip r:embed="rId3"/>
          <a:stretch/>
        </p:blipFill>
        <p:spPr>
          <a:xfrm>
            <a:off x="2346480" y="4114800"/>
            <a:ext cx="601632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0"/>
          <p:cNvGrpSpPr/>
          <p:nvPr/>
        </p:nvGrpSpPr>
        <p:grpSpPr>
          <a:xfrm>
            <a:off x="2916360" y="1989000"/>
            <a:ext cx="5400720" cy="2160720"/>
            <a:chOff x="2916360" y="1989000"/>
            <a:chExt cx="5400720" cy="2160720"/>
          </a:xfrm>
        </p:grpSpPr>
        <p:sp>
          <p:nvSpPr>
            <p:cNvPr id="147" name="Objaśnienie owalne 11"/>
            <p:cNvSpPr/>
            <p:nvPr/>
          </p:nvSpPr>
          <p:spPr>
            <a:xfrm>
              <a:off x="2916360" y="1989000"/>
              <a:ext cx="5400720" cy="2160720"/>
            </a:xfrm>
            <a:prstGeom prst="wedgeEllipseCallout">
              <a:avLst>
                <a:gd name="adj1" fmla="val -60444"/>
                <a:gd name="adj2" fmla="val -2777"/>
              </a:avLst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12"/>
            <p:cNvSpPr/>
            <p:nvPr/>
          </p:nvSpPr>
          <p:spPr>
            <a:xfrm>
              <a:off x="3470040" y="2277000"/>
              <a:ext cx="43963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anie o pracę – kiedyś bardzo popularna forma aplikowania do pracy, dziś raczej niespotykana. Dokument pisany w formie zwykłego pisma nie zawierał żadnych informacji, a jedynie prośbę o zatrudnieni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5" descr="CV.jpg"/>
          <p:cNvPicPr/>
          <p:nvPr/>
        </p:nvPicPr>
        <p:blipFill>
          <a:blip r:embed="rId1"/>
          <a:stretch/>
        </p:blipFill>
        <p:spPr>
          <a:xfrm>
            <a:off x="5580000" y="333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USA i Rosji można się spotkać z dokumentem o nazwie resu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st zbliżony do 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rostokąt 4"/>
          <p:cNvSpPr/>
          <p:nvPr/>
        </p:nvSpPr>
        <p:spPr>
          <a:xfrm>
            <a:off x="250920" y="24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Życiorys zawodowy (łac. curriculum vitae – bieg życia) jest to dokument    przedstawiający  przede wszystkim wykształcenie, doświadczenie zawodowe oraz wszelkie inne kompetencje danej osoby do wykonywania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6"/>
          <p:cNvGrpSpPr/>
          <p:nvPr/>
        </p:nvGrpSpPr>
        <p:grpSpPr>
          <a:xfrm>
            <a:off x="900000" y="5661000"/>
            <a:ext cx="7344000" cy="1197000"/>
            <a:chOff x="900000" y="5661000"/>
            <a:chExt cx="7344000" cy="1197000"/>
          </a:xfrm>
        </p:grpSpPr>
        <p:pic>
          <p:nvPicPr>
            <p:cNvPr id="163" name="Obraz 10" descr="5520335122_2e00abdb92_m.jpg"/>
            <p:cNvPicPr/>
            <p:nvPr/>
          </p:nvPicPr>
          <p:blipFill>
            <a:blip r:embed="rId2"/>
            <a:srcRect l="25901" t="0" r="0" b="0"/>
            <a:stretch/>
          </p:blipFill>
          <p:spPr>
            <a:xfrm>
              <a:off x="900000" y="5747760"/>
              <a:ext cx="1233000" cy="111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Dowolny kształt 8"/>
            <p:cNvGrpSpPr/>
            <p:nvPr/>
          </p:nvGrpSpPr>
          <p:grpSpPr>
            <a:xfrm>
              <a:off x="1601640" y="5661000"/>
              <a:ext cx="6642360" cy="950400"/>
              <a:chOff x="1601640" y="5661000"/>
              <a:chExt cx="6642360" cy="950400"/>
            </a:xfrm>
          </p:grpSpPr>
          <p:pic>
            <p:nvPicPr>
              <p:cNvPr id="165" name="Dowolny kształ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1640" y="5661000"/>
                <a:ext cx="66423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618200" y="5676840"/>
                <a:ext cx="660960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elowe (ukierunkowane)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stawione na konkretne stanowisko, pokazuje umiejętności i doświadczenie związane tylko z tym stanowiskiem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upa 15"/>
          <p:cNvGrpSpPr/>
          <p:nvPr/>
        </p:nvGrpSpPr>
        <p:grpSpPr>
          <a:xfrm>
            <a:off x="179280" y="4437000"/>
            <a:ext cx="8064720" cy="933480"/>
            <a:chOff x="179280" y="4437000"/>
            <a:chExt cx="8064720" cy="933480"/>
          </a:xfrm>
        </p:grpSpPr>
        <p:pic>
          <p:nvPicPr>
            <p:cNvPr id="169" name="Obraz 12" descr="4193330368_b22b644ddd_m.jpg"/>
            <p:cNvPicPr/>
            <p:nvPr/>
          </p:nvPicPr>
          <p:blipFill>
            <a:blip r:embed="rId4"/>
            <a:stretch/>
          </p:blipFill>
          <p:spPr>
            <a:xfrm>
              <a:off x="6735960" y="4523400"/>
              <a:ext cx="1508040" cy="8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Dowolny kształt 7"/>
            <p:cNvGrpSpPr/>
            <p:nvPr/>
          </p:nvGrpSpPr>
          <p:grpSpPr>
            <a:xfrm>
              <a:off x="179280" y="4437000"/>
              <a:ext cx="6572880" cy="933480"/>
              <a:chOff x="179280" y="4437000"/>
              <a:chExt cx="6572880" cy="933480"/>
            </a:xfrm>
          </p:grpSpPr>
          <p:pic>
            <p:nvPicPr>
              <p:cNvPr id="171" name="Dowolny kształt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280" y="4437000"/>
                <a:ext cx="65728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9800" y="4453920"/>
                <a:ext cx="65358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akcentujące możliwości i potencjał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akcentuje się dotychczasowe umiejętności, podkreślając ich związek ze stanowiskiem, o które osoba się ubieg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upa 14"/>
          <p:cNvGrpSpPr/>
          <p:nvPr/>
        </p:nvGrpSpPr>
        <p:grpSpPr>
          <a:xfrm>
            <a:off x="179280" y="2852640"/>
            <a:ext cx="8064720" cy="1368360"/>
            <a:chOff x="179280" y="2852640"/>
            <a:chExt cx="8064720" cy="1368360"/>
          </a:xfrm>
        </p:grpSpPr>
        <p:grpSp>
          <p:nvGrpSpPr>
            <p:cNvPr id="174" name="Dowolny kształt 6"/>
            <p:cNvGrpSpPr/>
            <p:nvPr/>
          </p:nvGrpSpPr>
          <p:grpSpPr>
            <a:xfrm>
              <a:off x="1667160" y="3047760"/>
              <a:ext cx="6576840" cy="1121760"/>
              <a:chOff x="1667160" y="3047760"/>
              <a:chExt cx="6576840" cy="1121760"/>
            </a:xfrm>
          </p:grpSpPr>
          <p:pic>
            <p:nvPicPr>
              <p:cNvPr id="175" name="Dowolny kształ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7160" y="3047760"/>
                <a:ext cx="6576840" cy="112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1688040" y="3068280"/>
                <a:ext cx="6539760" cy="10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funkcjonalne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polecane przy poszukiwaniu pierwszej pracy. Należy wydzielić cel zawodowy, a następnie opisać umiejętności i doświadczenie, które można wykorzystać do jego realizacj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Obraz 11" descr="333.jpg"/>
            <p:cNvPicPr/>
            <p:nvPr/>
          </p:nvPicPr>
          <p:blipFill>
            <a:blip r:embed="rId7"/>
            <a:stretch/>
          </p:blipFill>
          <p:spPr>
            <a:xfrm>
              <a:off x="179280" y="2852640"/>
              <a:ext cx="135720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upa 13"/>
          <p:cNvGrpSpPr/>
          <p:nvPr/>
        </p:nvGrpSpPr>
        <p:grpSpPr>
          <a:xfrm>
            <a:off x="179280" y="981000"/>
            <a:ext cx="8137800" cy="1727280"/>
            <a:chOff x="179280" y="981000"/>
            <a:chExt cx="8137800" cy="1727280"/>
          </a:xfrm>
        </p:grpSpPr>
        <p:grpSp>
          <p:nvGrpSpPr>
            <p:cNvPr id="179" name="Dowolny kształt 4"/>
            <p:cNvGrpSpPr/>
            <p:nvPr/>
          </p:nvGrpSpPr>
          <p:grpSpPr>
            <a:xfrm>
              <a:off x="179280" y="981000"/>
              <a:ext cx="6573240" cy="1727280"/>
              <a:chOff x="179280" y="981000"/>
              <a:chExt cx="6573240" cy="1727280"/>
            </a:xfrm>
          </p:grpSpPr>
          <p:pic>
            <p:nvPicPr>
              <p:cNvPr id="180" name="Dowolny kształt 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280" y="981000"/>
                <a:ext cx="65732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99800" y="998280"/>
                <a:ext cx="6536880" cy="169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hronologiczne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jpopularniejsze i stosunkowo proste do stworzenia. Powinno zawierać przede wszystkim dwie podstawowe ścieżki rozwoju: wykształcenie i doświadczenie zawodow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worząc CV chronologiczne, zaczynamy zawsze od ostatnich wydarzeń i cofamy się w przeszłość, np. pisząc o wykształceniu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Obraz 9" descr="czas2.jpg"/>
            <p:cNvPicPr/>
            <p:nvPr/>
          </p:nvPicPr>
          <p:blipFill>
            <a:blip r:embed="rId9"/>
            <a:stretch/>
          </p:blipFill>
          <p:spPr>
            <a:xfrm>
              <a:off x="6808680" y="1209960"/>
              <a:ext cx="1508400" cy="134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10"/>
          <p:cNvGrpSpPr/>
          <p:nvPr/>
        </p:nvGrpSpPr>
        <p:grpSpPr>
          <a:xfrm>
            <a:off x="1476360" y="3645000"/>
            <a:ext cx="5003640" cy="3213000"/>
            <a:chOff x="1476360" y="3645000"/>
            <a:chExt cx="5003640" cy="3213000"/>
          </a:xfrm>
        </p:grpSpPr>
        <p:pic>
          <p:nvPicPr>
            <p:cNvPr id="184" name="Obraz 6" descr="5960196221_3978fa1683_m.jpg"/>
            <p:cNvPicPr/>
            <p:nvPr/>
          </p:nvPicPr>
          <p:blipFill>
            <a:blip r:embed="rId1"/>
            <a:stretch/>
          </p:blipFill>
          <p:spPr>
            <a:xfrm>
              <a:off x="1476360" y="3645000"/>
              <a:ext cx="50036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7"/>
            <p:cNvSpPr/>
            <p:nvPr/>
          </p:nvSpPr>
          <p:spPr>
            <a:xfrm rot="1229400">
              <a:off x="3249720" y="4716720"/>
              <a:ext cx="293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pobrania ze strony </a:t>
              </a: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ww.europass.cedefop.europa.e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0" y="476280"/>
            <a:ext cx="8745480" cy="3600360"/>
            <a:chOff x="0" y="476280"/>
            <a:chExt cx="8745480" cy="3600360"/>
          </a:xfrm>
        </p:grpSpPr>
        <p:pic>
          <p:nvPicPr>
            <p:cNvPr id="187" name="Obraz 5" descr="4236781407_f1e87a8279_m.jpg"/>
            <p:cNvPicPr/>
            <p:nvPr/>
          </p:nvPicPr>
          <p:blipFill>
            <a:blip r:embed="rId2"/>
            <a:stretch/>
          </p:blipFill>
          <p:spPr>
            <a:xfrm>
              <a:off x="6300360" y="476280"/>
              <a:ext cx="24451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8"/>
            <p:cNvSpPr/>
            <p:nvPr/>
          </p:nvSpPr>
          <p:spPr>
            <a:xfrm>
              <a:off x="0" y="1052280"/>
              <a:ext cx="67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jednolicony wzór CV – formularz ten zawiera wszystkie istotne informacje, dzięki którym można stworzyć poprawne CV. Jest on szczególnie polecany, gdy kandydat stara się o pracę u zagranicznego pracodawcy lub za granic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europejskie – Europass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24000" y="2565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zystanie z ujednoliconego formularza jest ułatwieniem zarówno dla kandydata, jak również dla pracodawcy, który uzyskuje precyzyjne informacje i nie musi rozszyfrowywać wielu różnych formularz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2448000" y="189000"/>
          <a:ext cx="6696000" cy="63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89000"/>
                    <a:ext cx="669600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upa 5"/>
          <p:cNvGrpSpPr/>
          <p:nvPr/>
        </p:nvGrpSpPr>
        <p:grpSpPr>
          <a:xfrm>
            <a:off x="0" y="260280"/>
            <a:ext cx="2700360" cy="2808360"/>
            <a:chOff x="0" y="260280"/>
            <a:chExt cx="2700360" cy="2808360"/>
          </a:xfrm>
        </p:grpSpPr>
        <p:pic>
          <p:nvPicPr>
            <p:cNvPr id="197" name="Obraz 3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260280"/>
              <a:ext cx="2700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4"/>
            <p:cNvSpPr/>
            <p:nvPr/>
          </p:nvSpPr>
          <p:spPr>
            <a:xfrm>
              <a:off x="783000" y="162828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40:06Z</dcterms:created>
  <dc:creator>x</dc:creator>
  <dc:description/>
  <dc:language>en-US</dc:language>
  <cp:lastModifiedBy>Marta</cp:lastModifiedBy>
  <dcterms:modified xsi:type="dcterms:W3CDTF">2013-01-31T15:10:12Z</dcterms:modified>
  <cp:revision>119</cp:revision>
  <dc:subject/>
  <dc:title>Slajd 1</dc:title>
</cp:coreProperties>
</file>