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F002-E491-4636-9B90-6A5C133EB0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6313-DA4C-41A5-BEE3-CD1A28400D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7157-4D27-458A-9DCF-7A56E07117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1E4-255E-4E34-8F91-1B90D32A23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1E3E-9197-4C09-A3D3-8DAC196A79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A71-4595-46AD-8884-280F11230C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07B1-7DEF-498C-B6DE-6CB137DC16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12B-1F79-4C67-9196-A7D650A579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106-E4EB-4EB7-A7DF-88394FCA6F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414-8CFE-4902-8B7F-89FB0F3F6E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01E-5AF0-4393-B6D0-A637235AF7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271-9F91-4D0B-B2C0-ABB47A1692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CDE-832B-4AD4-9232-ECD88C02E1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8CC9-1186-430B-9969-7DB67BFFDD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2B05-0B59-4FD7-8E19-B2EF3373796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0F7-1425-4995-ACF0-83B354F6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AE1-7A6C-46C6-8CB2-7A9B2798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F63-CB4E-484C-9961-BE4D9E09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CC6-000B-4F0C-BD73-84144432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C43-56B5-4454-9661-DEAFDB2D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403-8E7B-4F69-B5C2-9E17A1E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712-748F-4119-9660-811EC3E9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F18-DA0A-4E07-920D-816907E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838-9C4E-455B-B27F-2CF8D3A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687-C59D-48AC-981A-9D67F38B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56A-DC83-43B3-B39E-7433516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935-FA98-49A9-A8CB-125F1CF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392-A2E8-46C6-AF36-5C53DCDD1A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4F3-D7E6-4522-93F2-714ECB3B5A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ryteria wyszukiwania informacji w katalogach biblioteczny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65760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uto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tuł (lub nawet fragmentu tytułu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łowa klucz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symbol UK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dawnictw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rok wyd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hasło przedmiot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umer ISBN lub ISS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Obraz 5" descr="know.jpg"/>
          <p:cNvPicPr/>
          <p:nvPr/>
        </p:nvPicPr>
        <p:blipFill>
          <a:blip r:embed="rId1"/>
          <a:stretch/>
        </p:blipFill>
        <p:spPr>
          <a:xfrm>
            <a:off x="152280" y="2971800"/>
            <a:ext cx="32767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łączenia kryteriów wyszukiwani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51920" y="7621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szczególne kryteria mogą być łączone ze sobą za pomocą operatorów logicznych AND, OR i N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zaokrąglony 5"/>
          <p:cNvSpPr/>
          <p:nvPr/>
        </p:nvSpPr>
        <p:spPr>
          <a:xfrm>
            <a:off x="990720" y="4267080"/>
            <a:ext cx="6629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OT (nie) - „samochód not sportowy” uzyskamy wszystkie rekordy zawierające słowo samochód i jednocześnie nie zawierające słowa sport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zaokrąglony 6"/>
          <p:cNvSpPr/>
          <p:nvPr/>
        </p:nvSpPr>
        <p:spPr>
          <a:xfrm>
            <a:off x="990720" y="3124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AND (i) – „samochód and sportowy” uzyskamy o wiele mniejszą liczbę zwróconych rekordów, takich, w których występują oba podane wy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rostokąt zaokrąglony 7"/>
          <p:cNvSpPr/>
          <p:nvPr/>
        </p:nvSpPr>
        <p:spPr>
          <a:xfrm>
            <a:off x="990720" y="1981080"/>
            <a:ext cx="6553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OR (lub) – „samochód or sportowy” wyszukamy wszystkie rekordy, które zawierają którykolwiek z podanych wyraz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8"/>
          <p:cNvSpPr/>
          <p:nvPr/>
        </p:nvSpPr>
        <p:spPr>
          <a:xfrm>
            <a:off x="990720" y="548640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ane operatory możesz także stosowa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przeglądarkach internet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ezentowan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Istnieje możliwość zaprezentowania tych samych danych i informacji w różny sposób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upa 18"/>
          <p:cNvGrpSpPr/>
          <p:nvPr/>
        </p:nvGrpSpPr>
        <p:grpSpPr>
          <a:xfrm>
            <a:off x="536760" y="1828800"/>
            <a:ext cx="7127280" cy="2568960"/>
            <a:chOff x="536760" y="1828800"/>
            <a:chExt cx="7127280" cy="2568960"/>
          </a:xfrm>
        </p:grpSpPr>
        <p:grpSp>
          <p:nvGrpSpPr>
            <p:cNvPr id="181" name="Grupa 10"/>
            <p:cNvGrpSpPr/>
            <p:nvPr/>
          </p:nvGrpSpPr>
          <p:grpSpPr>
            <a:xfrm>
              <a:off x="5184720" y="2133720"/>
              <a:ext cx="2479320" cy="2264040"/>
              <a:chOff x="5184720" y="2133720"/>
              <a:chExt cx="2479320" cy="2264040"/>
            </a:xfrm>
          </p:grpSpPr>
          <p:pic>
            <p:nvPicPr>
              <p:cNvPr id="182" name="Obraz 8" descr="6543357357_01a6fa0fee_m.jpg"/>
              <p:cNvPicPr/>
              <p:nvPr/>
            </p:nvPicPr>
            <p:blipFill>
              <a:blip r:embed="rId1"/>
              <a:stretch/>
            </p:blipFill>
            <p:spPr>
              <a:xfrm rot="522000">
                <a:off x="5319360" y="2289600"/>
                <a:ext cx="2209680" cy="19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Prostokąt 9"/>
              <p:cNvSpPr/>
              <p:nvPr/>
            </p:nvSpPr>
            <p:spPr>
              <a:xfrm rot="3233400">
                <a:off x="5739480" y="3031560"/>
                <a:ext cx="140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ekst ciągł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upa 14"/>
            <p:cNvGrpSpPr/>
            <p:nvPr/>
          </p:nvGrpSpPr>
          <p:grpSpPr>
            <a:xfrm>
              <a:off x="4042080" y="1828800"/>
              <a:ext cx="1745280" cy="1741320"/>
              <a:chOff x="4042080" y="1828800"/>
              <a:chExt cx="1745280" cy="1741320"/>
            </a:xfrm>
          </p:grpSpPr>
          <p:pic>
            <p:nvPicPr>
              <p:cNvPr id="185" name="Obraz 6" descr="6543357687_7eb2ab49a5_m.jpg"/>
              <p:cNvPicPr/>
              <p:nvPr/>
            </p:nvPicPr>
            <p:blipFill>
              <a:blip r:embed="rId2"/>
              <a:stretch/>
            </p:blipFill>
            <p:spPr>
              <a:xfrm rot="813600">
                <a:off x="4190760" y="1978200"/>
                <a:ext cx="1447560" cy="144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Prostokąt 13"/>
              <p:cNvSpPr/>
              <p:nvPr/>
            </p:nvSpPr>
            <p:spPr>
              <a:xfrm rot="1980000">
                <a:off x="4474080" y="246132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tabel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upa 16"/>
            <p:cNvGrpSpPr/>
            <p:nvPr/>
          </p:nvGrpSpPr>
          <p:grpSpPr>
            <a:xfrm>
              <a:off x="2594160" y="1828800"/>
              <a:ext cx="1678320" cy="1671840"/>
              <a:chOff x="2594160" y="1828800"/>
              <a:chExt cx="1678320" cy="1671840"/>
            </a:xfrm>
          </p:grpSpPr>
          <p:pic>
            <p:nvPicPr>
              <p:cNvPr id="188" name="Obraz 5" descr="6543357527_1d6e373c49_m.jpg"/>
              <p:cNvPicPr/>
              <p:nvPr/>
            </p:nvPicPr>
            <p:blipFill>
              <a:blip r:embed="rId3"/>
              <a:stretch/>
            </p:blipFill>
            <p:spPr>
              <a:xfrm>
                <a:off x="2594160" y="1828800"/>
                <a:ext cx="1678320" cy="167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Prostokąt 15"/>
              <p:cNvSpPr/>
              <p:nvPr/>
            </p:nvSpPr>
            <p:spPr>
              <a:xfrm rot="20635800">
                <a:off x="2921760" y="24591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yk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upa 12"/>
            <p:cNvGrpSpPr/>
            <p:nvPr/>
          </p:nvGrpSpPr>
          <p:grpSpPr>
            <a:xfrm>
              <a:off x="536760" y="1904760"/>
              <a:ext cx="2151360" cy="2351880"/>
              <a:chOff x="536760" y="1904760"/>
              <a:chExt cx="2151360" cy="2351880"/>
            </a:xfrm>
          </p:grpSpPr>
          <p:pic>
            <p:nvPicPr>
              <p:cNvPr id="191" name="Obraz 7" descr="6543357463_46125e643e_m.jpg"/>
              <p:cNvPicPr/>
              <p:nvPr/>
            </p:nvPicPr>
            <p:blipFill>
              <a:blip r:embed="rId4"/>
              <a:stretch/>
            </p:blipFill>
            <p:spPr>
              <a:xfrm rot="21073200">
                <a:off x="685440" y="2033640"/>
                <a:ext cx="1853640" cy="209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Prostokąt 11"/>
              <p:cNvSpPr/>
              <p:nvPr/>
            </p:nvSpPr>
            <p:spPr>
              <a:xfrm rot="18919200">
                <a:off x="813600" y="2565360"/>
                <a:ext cx="1372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unkt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dpunk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2" descr=""/>
          <p:cNvPicPr/>
          <p:nvPr/>
        </p:nvPicPr>
        <p:blipFill>
          <a:blip r:embed="rId6"/>
          <a:stretch/>
        </p:blipFill>
        <p:spPr>
          <a:xfrm>
            <a:off x="2362320" y="4191120"/>
            <a:ext cx="3495600" cy="178092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eryfikacj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rostokąt 4"/>
          <p:cNvSpPr/>
          <p:nvPr/>
        </p:nvSpPr>
        <p:spPr>
          <a:xfrm>
            <a:off x="228600" y="762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chcemy wykorzystać pozyskane informacje, zawsze należy je zweryfikować. Weryfikacja taka powinna dotyczyć zarówno ich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wiarygod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jak i </a:t>
            </a:r>
            <a:r>
              <a:rPr b="1" lang="pl-PL" sz="2000" spc="-1" strike="noStrike">
                <a:solidFill>
                  <a:srgbClr val="0070c0"/>
                </a:solidFill>
                <a:latin typeface="Times New Roman CE"/>
                <a:ea typeface="Times New Roman CE"/>
              </a:rPr>
              <a:t>aktual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9" descr="5656317370_f64e080a68_m.jpg"/>
          <p:cNvPicPr/>
          <p:nvPr/>
        </p:nvPicPr>
        <p:blipFill>
          <a:blip r:embed="rId1"/>
          <a:stretch/>
        </p:blipFill>
        <p:spPr>
          <a:xfrm>
            <a:off x="312408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02" name="Prostokąt zaokrąglony 5"/>
          <p:cNvSpPr/>
          <p:nvPr/>
        </p:nvSpPr>
        <p:spPr>
          <a:xfrm>
            <a:off x="228600" y="1828800"/>
            <a:ext cx="32767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Wiarygod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czyli fachowość i bezstronność informacji, sprawdzana poprzez jakość źródła informacji, tj.: występowanie informacji o pochodzeniu, wydawnictwo, postać autora, doświadczenie autora, organ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rostokąt zaokrąglony 6"/>
          <p:cNvSpPr/>
          <p:nvPr/>
        </p:nvSpPr>
        <p:spPr>
          <a:xfrm>
            <a:off x="5105520" y="36576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ktual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błędogenność, nieścisłości, aktualiza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formal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228240" y="1142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Dane pozyskane w dowolny sposób powinny zostać poddane weryfikacji wstępnej, zwanej także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kontrolą</a:t>
            </a:r>
            <a:r>
              <a:rPr b="1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formalną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Obraz 7" descr="4786644887_ce7e478e99_m.jpg"/>
          <p:cNvPicPr/>
          <p:nvPr/>
        </p:nvPicPr>
        <p:blipFill>
          <a:blip r:embed="rId1"/>
          <a:srcRect l="0" t="1996" r="0" b="34570"/>
          <a:stretch/>
        </p:blipFill>
        <p:spPr>
          <a:xfrm>
            <a:off x="1066680" y="2666880"/>
            <a:ext cx="6019920" cy="3818160"/>
          </a:xfrm>
          <a:prstGeom prst="rect">
            <a:avLst/>
          </a:prstGeom>
          <a:ln w="0">
            <a:noFill/>
          </a:ln>
        </p:spPr>
      </p:pic>
      <p:pic>
        <p:nvPicPr>
          <p:cNvPr id="212" name="Prostokąt 8" descr=""/>
          <p:cNvPicPr/>
          <p:nvPr/>
        </p:nvPicPr>
        <p:blipFill>
          <a:blip r:embed="rId2"/>
          <a:stretch/>
        </p:blipFill>
        <p:spPr>
          <a:xfrm>
            <a:off x="-311040" y="2146320"/>
            <a:ext cx="2719440" cy="2462040"/>
          </a:xfrm>
          <a:prstGeom prst="rect">
            <a:avLst/>
          </a:prstGeom>
          <a:ln w="0">
            <a:noFill/>
          </a:ln>
        </p:spPr>
      </p:pic>
      <p:pic>
        <p:nvPicPr>
          <p:cNvPr id="213" name="Prostokąt 9" descr=""/>
          <p:cNvPicPr/>
          <p:nvPr/>
        </p:nvPicPr>
        <p:blipFill>
          <a:blip r:embed="rId3"/>
          <a:stretch/>
        </p:blipFill>
        <p:spPr>
          <a:xfrm>
            <a:off x="4145040" y="2530440"/>
            <a:ext cx="1914480" cy="1212840"/>
          </a:xfrm>
          <a:prstGeom prst="rect">
            <a:avLst/>
          </a:prstGeom>
          <a:ln w="0">
            <a:noFill/>
          </a:ln>
        </p:spPr>
      </p:pic>
      <p:sp>
        <p:nvSpPr>
          <p:cNvPr id="214" name="Prostokąt 4"/>
          <p:cNvSpPr/>
          <p:nvPr/>
        </p:nvSpPr>
        <p:spPr>
          <a:xfrm rot="1686000">
            <a:off x="5419800" y="4944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rostokąt 17" descr=""/>
          <p:cNvPicPr/>
          <p:nvPr/>
        </p:nvPicPr>
        <p:blipFill>
          <a:blip r:embed="rId4"/>
          <a:stretch/>
        </p:blipFill>
        <p:spPr>
          <a:xfrm>
            <a:off x="6261120" y="3833640"/>
            <a:ext cx="2035080" cy="1555920"/>
          </a:xfrm>
          <a:prstGeom prst="rect">
            <a:avLst/>
          </a:prstGeom>
          <a:ln w="0">
            <a:noFill/>
          </a:ln>
        </p:spPr>
      </p:pic>
      <p:grpSp>
        <p:nvGrpSpPr>
          <p:cNvPr id="21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ntrola merytoryczn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81280" y="198108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licz, czy udział procentowy całości nie przekracza 100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posiadane dane wydają ci się możliwe w świetle posiadanej przez ciebie wiedzy ogólnej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a zasada dziennikarstwa, czyli konieczność posiadania informacji z dwóch niezależnych źródeł (o ile jednym ze źródeł nie jest źródło eksperckie, na które możesz się jawnie powołać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y dane uzyskane z tych dwóch źródeł są spójne? W przypadku rozbieżności znajdź przynajmniej jeszcze jedno niezależne źródło i gdy stwierdzisz zgodność z którymkolwiek z wcześniejszych źródeł, powołaj się na te d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upa 8"/>
          <p:cNvGrpSpPr/>
          <p:nvPr/>
        </p:nvGrpSpPr>
        <p:grpSpPr>
          <a:xfrm>
            <a:off x="225360" y="990720"/>
            <a:ext cx="7699320" cy="3995640"/>
            <a:chOff x="225360" y="990720"/>
            <a:chExt cx="7699320" cy="3995640"/>
          </a:xfrm>
        </p:grpSpPr>
        <p:sp>
          <p:nvSpPr>
            <p:cNvPr id="224" name="Prostokąt 4"/>
            <p:cNvSpPr/>
            <p:nvPr/>
          </p:nvSpPr>
          <p:spPr>
            <a:xfrm>
              <a:off x="234360" y="990720"/>
              <a:ext cx="769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stępnie należy przeprowadzić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weryfikację merytoryczn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w której dokonujesz logicznej kontroli rzetelności przedstawionych dan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Obraz 7" descr="5099166861_884d0b74e6_m.jpg"/>
            <p:cNvPicPr/>
            <p:nvPr/>
          </p:nvPicPr>
          <p:blipFill>
            <a:blip r:embed="rId1"/>
            <a:stretch/>
          </p:blipFill>
          <p:spPr>
            <a:xfrm>
              <a:off x="225360" y="2865240"/>
              <a:ext cx="3173400" cy="21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upa 18"/>
          <p:cNvGrpSpPr/>
          <p:nvPr/>
        </p:nvGrpSpPr>
        <p:grpSpPr>
          <a:xfrm>
            <a:off x="0" y="1828800"/>
            <a:ext cx="8215200" cy="1117440"/>
            <a:chOff x="0" y="1828800"/>
            <a:chExt cx="8215200" cy="1117440"/>
          </a:xfrm>
        </p:grpSpPr>
        <p:pic>
          <p:nvPicPr>
            <p:cNvPr id="60" name="Obraz 11" descr="3200958640_0ddac1ca8c_m.jpg"/>
            <p:cNvPicPr/>
            <p:nvPr/>
          </p:nvPicPr>
          <p:blipFill>
            <a:blip r:embed="rId2"/>
            <a:stretch/>
          </p:blipFill>
          <p:spPr>
            <a:xfrm>
              <a:off x="0" y="1828800"/>
              <a:ext cx="167616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Prostokąt zaokrąglony 5"/>
            <p:cNvSpPr/>
            <p:nvPr/>
          </p:nvSpPr>
          <p:spPr>
            <a:xfrm>
              <a:off x="1828800" y="2133360"/>
              <a:ext cx="63864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Odbiorca wiadomości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obiekt, który odbiera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upa 19"/>
          <p:cNvGrpSpPr/>
          <p:nvPr/>
        </p:nvGrpSpPr>
        <p:grpSpPr>
          <a:xfrm>
            <a:off x="228600" y="3048120"/>
            <a:ext cx="8132760" cy="1295280"/>
            <a:chOff x="228600" y="3048120"/>
            <a:chExt cx="8132760" cy="1295280"/>
          </a:xfrm>
        </p:grpSpPr>
        <p:pic>
          <p:nvPicPr>
            <p:cNvPr id="63" name="Obraz 12" descr="5677419706_3c151b012e_m.jpg"/>
            <p:cNvPicPr/>
            <p:nvPr/>
          </p:nvPicPr>
          <p:blipFill>
            <a:blip r:embed="rId3"/>
            <a:stretch/>
          </p:blipFill>
          <p:spPr>
            <a:xfrm>
              <a:off x="6477120" y="3048120"/>
              <a:ext cx="1884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Prostokąt zaokrąglony 6"/>
            <p:cNvSpPr/>
            <p:nvPr/>
          </p:nvSpPr>
          <p:spPr>
            <a:xfrm>
              <a:off x="228600" y="3200400"/>
              <a:ext cx="609624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adomość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biekt przesyłany między źródłem a odbiorcą wiadomości, może mieć dowolną postać, ale musi zawierać pewną informacj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upa 17"/>
          <p:cNvGrpSpPr/>
          <p:nvPr/>
        </p:nvGrpSpPr>
        <p:grpSpPr>
          <a:xfrm>
            <a:off x="304920" y="762120"/>
            <a:ext cx="7569000" cy="1041120"/>
            <a:chOff x="304920" y="762120"/>
            <a:chExt cx="7569000" cy="1041120"/>
          </a:xfrm>
        </p:grpSpPr>
        <p:sp>
          <p:nvSpPr>
            <p:cNvPr id="66" name="Prostokąt zaokrąglony 4"/>
            <p:cNvSpPr/>
            <p:nvPr/>
          </p:nvSpPr>
          <p:spPr>
            <a:xfrm>
              <a:off x="304920" y="990720"/>
              <a:ext cx="586728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Źródło wiadomości </a:t>
              </a:r>
              <a:r>
                <a:rPr b="1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– 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obiekt, który nadaje wiadomoś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Obraz 10" descr="radio1.jpg"/>
            <p:cNvPicPr/>
            <p:nvPr/>
          </p:nvPicPr>
          <p:blipFill>
            <a:blip r:embed="rId4"/>
            <a:stretch/>
          </p:blipFill>
          <p:spPr>
            <a:xfrm>
              <a:off x="6324840" y="762120"/>
              <a:ext cx="154908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upa 20"/>
          <p:cNvGrpSpPr/>
          <p:nvPr/>
        </p:nvGrpSpPr>
        <p:grpSpPr>
          <a:xfrm>
            <a:off x="304920" y="4419720"/>
            <a:ext cx="7924680" cy="1218960"/>
            <a:chOff x="304920" y="4419720"/>
            <a:chExt cx="7924680" cy="1218960"/>
          </a:xfrm>
        </p:grpSpPr>
        <p:sp>
          <p:nvSpPr>
            <p:cNvPr id="69" name="Prostokąt zaokrąglony 7"/>
            <p:cNvSpPr/>
            <p:nvPr/>
          </p:nvSpPr>
          <p:spPr>
            <a:xfrm>
              <a:off x="1828800" y="4724280"/>
              <a:ext cx="640080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Informacj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właściwość obiektów, której istotą jest zmniejszenie niepewności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4" descr="info.jpg"/>
            <p:cNvPicPr/>
            <p:nvPr/>
          </p:nvPicPr>
          <p:blipFill>
            <a:blip r:embed="rId5"/>
            <a:stretch/>
          </p:blipFill>
          <p:spPr>
            <a:xfrm>
              <a:off x="304920" y="4419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1"/>
          <p:cNvGrpSpPr/>
          <p:nvPr/>
        </p:nvGrpSpPr>
        <p:grpSpPr>
          <a:xfrm>
            <a:off x="838080" y="5562720"/>
            <a:ext cx="6477120" cy="1295280"/>
            <a:chOff x="838080" y="5562720"/>
            <a:chExt cx="6477120" cy="1295280"/>
          </a:xfrm>
        </p:grpSpPr>
        <p:sp>
          <p:nvSpPr>
            <p:cNvPr id="72" name="Prostokąt zaokrąglony 8"/>
            <p:cNvSpPr/>
            <p:nvPr/>
          </p:nvSpPr>
          <p:spPr>
            <a:xfrm>
              <a:off x="838080" y="6095880"/>
              <a:ext cx="505656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Calibri"/>
                  <a:ea typeface="Times New Roman CE"/>
                </a:rPr>
                <a:t>Wiedza</a:t>
              </a:r>
              <a:r>
                <a:rPr b="0" lang="pl-PL" sz="20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 – ogół posiadanych inform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Obraz 16" descr="know.jpg"/>
            <p:cNvPicPr/>
            <p:nvPr/>
          </p:nvPicPr>
          <p:blipFill>
            <a:blip r:embed="rId6"/>
            <a:stretch/>
          </p:blipFill>
          <p:spPr>
            <a:xfrm>
              <a:off x="6118560" y="5562720"/>
              <a:ext cx="11966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7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12"/>
          <p:cNvGrpSpPr/>
          <p:nvPr/>
        </p:nvGrpSpPr>
        <p:grpSpPr>
          <a:xfrm>
            <a:off x="304920" y="228600"/>
            <a:ext cx="7848360" cy="2806560"/>
            <a:chOff x="304920" y="228600"/>
            <a:chExt cx="7848360" cy="2806560"/>
          </a:xfrm>
        </p:grpSpPr>
        <p:pic>
          <p:nvPicPr>
            <p:cNvPr id="77" name="Obraz 6" descr="6189645663_9e725c797a_m.jpg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9047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rostokąt 7"/>
            <p:cNvSpPr/>
            <p:nvPr/>
          </p:nvSpPr>
          <p:spPr>
            <a:xfrm>
              <a:off x="2438280" y="1371240"/>
              <a:ext cx="5715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Inform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przedstawione w postaci, która umożliwia ich przetwarzanie za pomocą programów komputerowych, nazywają się </a:t>
              </a:r>
              <a:r>
                <a:rPr b="1" lang="pl-PL" sz="2000" spc="-1" strike="noStrike">
                  <a:solidFill>
                    <a:srgbClr val="0070c0"/>
                  </a:solidFill>
                  <a:latin typeface="Times New Roman CE"/>
                  <a:ea typeface="Times New Roman CE"/>
                </a:rPr>
                <a:t>dany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Podobnie danymi są informacje, które powstały na skutek przetwarzania danych w komputerz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rostokąt zaokrąglony 8"/>
          <p:cNvSpPr/>
          <p:nvPr/>
        </p:nvSpPr>
        <p:spPr>
          <a:xfrm>
            <a:off x="1905120" y="37339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informacje w postaci zrozumiałej dla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zaokrąglony 9"/>
          <p:cNvSpPr/>
          <p:nvPr/>
        </p:nvSpPr>
        <p:spPr>
          <a:xfrm>
            <a:off x="1905120" y="4800600"/>
            <a:ext cx="58672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e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wprowadzane do komput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zaokrąglony 10"/>
          <p:cNvSpPr/>
          <p:nvPr/>
        </p:nvSpPr>
        <p:spPr>
          <a:xfrm>
            <a:off x="1905120" y="556272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Dane wyjściowe –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dane powstałe wskutek przetwarzania w komputer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Zarządzanie informacj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19" descr="3173188601_1c2119f4bb_m.jpg"/>
          <p:cNvPicPr/>
          <p:nvPr/>
        </p:nvPicPr>
        <p:blipFill>
          <a:blip r:embed="rId1"/>
          <a:stretch/>
        </p:blipFill>
        <p:spPr>
          <a:xfrm>
            <a:off x="2819520" y="3657600"/>
            <a:ext cx="2263680" cy="3017880"/>
          </a:xfrm>
          <a:prstGeom prst="rect">
            <a:avLst/>
          </a:prstGeom>
          <a:ln w="0">
            <a:noFill/>
          </a:ln>
        </p:spPr>
      </p:pic>
      <p:grpSp>
        <p:nvGrpSpPr>
          <p:cNvPr id="89" name="Grupa 21"/>
          <p:cNvGrpSpPr/>
          <p:nvPr/>
        </p:nvGrpSpPr>
        <p:grpSpPr>
          <a:xfrm>
            <a:off x="3962520" y="1219320"/>
            <a:ext cx="3200400" cy="1143000"/>
            <a:chOff x="3962520" y="1219320"/>
            <a:chExt cx="3200400" cy="1143000"/>
          </a:xfrm>
        </p:grpSpPr>
        <p:sp>
          <p:nvSpPr>
            <p:cNvPr id="90" name="Prostokąt 16"/>
            <p:cNvSpPr/>
            <p:nvPr/>
          </p:nvSpPr>
          <p:spPr>
            <a:xfrm>
              <a:off x="4126320" y="1602720"/>
              <a:ext cx="17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twarza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bjaśnienie w chmurce 20"/>
            <p:cNvSpPr/>
            <p:nvPr/>
          </p:nvSpPr>
          <p:spPr>
            <a:xfrm>
              <a:off x="3962520" y="1219320"/>
              <a:ext cx="3200400" cy="1143000"/>
            </a:xfrm>
            <a:prstGeom prst="cloudCallout">
              <a:avLst>
                <a:gd name="adj1" fmla="val -52425"/>
                <a:gd name="adj2" fmla="val 151652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26"/>
          <p:cNvGrpSpPr/>
          <p:nvPr/>
        </p:nvGrpSpPr>
        <p:grpSpPr>
          <a:xfrm>
            <a:off x="4876920" y="2438280"/>
            <a:ext cx="3429000" cy="1219320"/>
            <a:chOff x="4876920" y="2438280"/>
            <a:chExt cx="3429000" cy="1219320"/>
          </a:xfrm>
        </p:grpSpPr>
        <p:pic>
          <p:nvPicPr>
            <p:cNvPr id="93" name="Obraz 5" descr="dok3.jpg"/>
            <p:cNvPicPr/>
            <p:nvPr/>
          </p:nvPicPr>
          <p:blipFill>
            <a:blip r:embed="rId2"/>
            <a:stretch/>
          </p:blipFill>
          <p:spPr>
            <a:xfrm>
              <a:off x="7143480" y="2621160"/>
              <a:ext cx="488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rostokąt 15"/>
            <p:cNvSpPr/>
            <p:nvPr/>
          </p:nvSpPr>
          <p:spPr>
            <a:xfrm>
              <a:off x="5219640" y="27194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chowyw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bjaśnienie w chmurce 25"/>
            <p:cNvSpPr/>
            <p:nvPr/>
          </p:nvSpPr>
          <p:spPr>
            <a:xfrm>
              <a:off x="4876920" y="2438280"/>
              <a:ext cx="3429000" cy="1219320"/>
            </a:xfrm>
            <a:prstGeom prst="cloudCallout">
              <a:avLst>
                <a:gd name="adj1" fmla="val -59685"/>
                <a:gd name="adj2" fmla="val 60041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upa 31"/>
          <p:cNvGrpSpPr/>
          <p:nvPr/>
        </p:nvGrpSpPr>
        <p:grpSpPr>
          <a:xfrm>
            <a:off x="380880" y="914400"/>
            <a:ext cx="3276720" cy="1371600"/>
            <a:chOff x="380880" y="914400"/>
            <a:chExt cx="3276720" cy="1371600"/>
          </a:xfrm>
        </p:grpSpPr>
        <p:pic>
          <p:nvPicPr>
            <p:cNvPr id="97" name="Obraz 4" descr="5328008843_b770e7d995_m.jpg"/>
            <p:cNvPicPr/>
            <p:nvPr/>
          </p:nvPicPr>
          <p:blipFill>
            <a:blip r:embed="rId3"/>
            <a:stretch/>
          </p:blipFill>
          <p:spPr>
            <a:xfrm>
              <a:off x="2269080" y="914400"/>
              <a:ext cx="892080" cy="10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rostokąt 14"/>
            <p:cNvSpPr/>
            <p:nvPr/>
          </p:nvSpPr>
          <p:spPr>
            <a:xfrm>
              <a:off x="676800" y="1257120"/>
              <a:ext cx="180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szukiwani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pozyskiwani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bjaśnienie w chmurce 30"/>
            <p:cNvSpPr/>
            <p:nvPr/>
          </p:nvSpPr>
          <p:spPr>
            <a:xfrm>
              <a:off x="380880" y="914400"/>
              <a:ext cx="3276720" cy="1371600"/>
            </a:xfrm>
            <a:prstGeom prst="cloudCallout">
              <a:avLst>
                <a:gd name="adj1" fmla="val 34898"/>
                <a:gd name="adj2" fmla="val 154300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1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758880" cy="4334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Źródła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24"/>
          <p:cNvGrpSpPr/>
          <p:nvPr/>
        </p:nvGrpSpPr>
        <p:grpSpPr>
          <a:xfrm>
            <a:off x="4648320" y="1143000"/>
            <a:ext cx="3262320" cy="1905120"/>
            <a:chOff x="4648320" y="1143000"/>
            <a:chExt cx="3262320" cy="1905120"/>
          </a:xfrm>
        </p:grpSpPr>
        <p:pic>
          <p:nvPicPr>
            <p:cNvPr id="111" name="Obraz 5" descr="5119948921_8c53aa798d_m.jpg"/>
            <p:cNvPicPr/>
            <p:nvPr/>
          </p:nvPicPr>
          <p:blipFill>
            <a:blip r:embed="rId2"/>
            <a:stretch/>
          </p:blipFill>
          <p:spPr>
            <a:xfrm>
              <a:off x="4648320" y="1143000"/>
              <a:ext cx="3262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zaokrąglony 18"/>
            <p:cNvSpPr/>
            <p:nvPr/>
          </p:nvSpPr>
          <p:spPr>
            <a:xfrm>
              <a:off x="5181480" y="2590920"/>
              <a:ext cx="243864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upa 23"/>
          <p:cNvGrpSpPr/>
          <p:nvPr/>
        </p:nvGrpSpPr>
        <p:grpSpPr>
          <a:xfrm>
            <a:off x="914400" y="838080"/>
            <a:ext cx="2438280" cy="2438640"/>
            <a:chOff x="914400" y="838080"/>
            <a:chExt cx="2438280" cy="2438640"/>
          </a:xfrm>
        </p:grpSpPr>
        <p:pic>
          <p:nvPicPr>
            <p:cNvPr id="114" name="Obraz 6" descr="5520352624_eea85d8d12_m.jpg"/>
            <p:cNvPicPr/>
            <p:nvPr/>
          </p:nvPicPr>
          <p:blipFill>
            <a:blip r:embed="rId3"/>
            <a:stretch/>
          </p:blipFill>
          <p:spPr>
            <a:xfrm>
              <a:off x="1066680" y="838080"/>
              <a:ext cx="1371600" cy="22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rostokąt zaokrąglony 19"/>
            <p:cNvSpPr/>
            <p:nvPr/>
          </p:nvSpPr>
          <p:spPr>
            <a:xfrm>
              <a:off x="914400" y="2819520"/>
              <a:ext cx="24382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książ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upa 26"/>
          <p:cNvGrpSpPr/>
          <p:nvPr/>
        </p:nvGrpSpPr>
        <p:grpSpPr>
          <a:xfrm>
            <a:off x="5181480" y="3733920"/>
            <a:ext cx="2590920" cy="2666880"/>
            <a:chOff x="5181480" y="3733920"/>
            <a:chExt cx="2590920" cy="2666880"/>
          </a:xfrm>
        </p:grpSpPr>
        <p:pic>
          <p:nvPicPr>
            <p:cNvPr id="117" name="Obraz 7" descr="gazeta.jpg"/>
            <p:cNvPicPr/>
            <p:nvPr/>
          </p:nvPicPr>
          <p:blipFill>
            <a:blip r:embed="rId4"/>
            <a:stretch/>
          </p:blipFill>
          <p:spPr>
            <a:xfrm>
              <a:off x="5410080" y="3733920"/>
              <a:ext cx="2286360" cy="241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Prostokąt zaokrąglony 20"/>
            <p:cNvSpPr/>
            <p:nvPr/>
          </p:nvSpPr>
          <p:spPr>
            <a:xfrm>
              <a:off x="5181480" y="5943600"/>
              <a:ext cx="25909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czasopis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upa 25"/>
          <p:cNvGrpSpPr/>
          <p:nvPr/>
        </p:nvGrpSpPr>
        <p:grpSpPr>
          <a:xfrm>
            <a:off x="609480" y="3962520"/>
            <a:ext cx="3048120" cy="2438280"/>
            <a:chOff x="609480" y="3962520"/>
            <a:chExt cx="3048120" cy="2438280"/>
          </a:xfrm>
        </p:grpSpPr>
        <p:pic>
          <p:nvPicPr>
            <p:cNvPr id="120" name="Obraz 10" descr="dom.jpg"/>
            <p:cNvPicPr/>
            <p:nvPr/>
          </p:nvPicPr>
          <p:blipFill>
            <a:blip r:embed="rId5"/>
            <a:stretch/>
          </p:blipFill>
          <p:spPr>
            <a:xfrm>
              <a:off x="609480" y="3962520"/>
              <a:ext cx="304812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rostokąt zaokrąglony 21"/>
            <p:cNvSpPr/>
            <p:nvPr/>
          </p:nvSpPr>
          <p:spPr>
            <a:xfrm>
              <a:off x="914040" y="5943600"/>
              <a:ext cx="274356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alibri"/>
                  <a:ea typeface="Times New Roman CE"/>
                </a:rPr>
                <a:t>bibliote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2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Obraz 4" descr="5960196221_3978fa1683_m.jpg"/>
          <p:cNvPicPr/>
          <p:nvPr/>
        </p:nvPicPr>
        <p:blipFill>
          <a:blip r:embed="rId2"/>
          <a:stretch/>
        </p:blipFill>
        <p:spPr>
          <a:xfrm>
            <a:off x="457200" y="10666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Przechowywanie informacji osobi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zaokrąglony 7"/>
          <p:cNvSpPr/>
          <p:nvPr/>
        </p:nvSpPr>
        <p:spPr>
          <a:xfrm rot="21320400">
            <a:off x="3543480" y="2192040"/>
            <a:ext cx="3352680" cy="106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komputer (odpowiednia struktura przechowywania, programy do zarządz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zaokrąglony 8"/>
          <p:cNvSpPr/>
          <p:nvPr/>
        </p:nvSpPr>
        <p:spPr>
          <a:xfrm rot="21309600">
            <a:off x="3746160" y="3417480"/>
            <a:ext cx="3352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eczki, skoroszy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Analiza tre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(wyciąganie informacji istotnych spośród informacji nieistotnych) – informacje często są podane jawnie w tekście ciągłym, ale nieraz w sposób mało czytelny i są otoczone mniej lub bardziej istotnym dla nas komentarz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3752640" cy="267624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az 4" descr="5736215127_fc6cb9aa72_m.jpg"/>
          <p:cNvPicPr/>
          <p:nvPr/>
        </p:nvPicPr>
        <p:blipFill>
          <a:blip r:embed="rId1"/>
          <a:stretch/>
        </p:blipFill>
        <p:spPr>
          <a:xfrm>
            <a:off x="3200400" y="367020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Uzupełnianie informacji</a:t>
            </a:r>
            <a:r>
              <a:rPr b="0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 –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 ciągu 30 lat liczba ludności na ziemi powiększy się o kolejny miliard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 – zdanie to mówi nam o przyroście (zmianie) liczby ludności w określonym, podanym przedziale czasowym. By uzyskać pełnię informacji z tego zdania, powinniśmy dodatkowo znać obecną liczbę ludnoś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7" descr="4642721856_72be156c84_m.jpg"/>
          <p:cNvPicPr/>
          <p:nvPr/>
        </p:nvPicPr>
        <p:blipFill>
          <a:blip r:embed="rId1"/>
          <a:stretch/>
        </p:blipFill>
        <p:spPr>
          <a:xfrm>
            <a:off x="0" y="22096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 CE"/>
              </a:rPr>
              <a:t>Wyszukiwanie inform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Calibri"/>
                <a:ea typeface="Times New Roman CE"/>
              </a:rPr>
              <a:t>Porównywalność informacji –</a:t>
            </a:r>
            <a:r>
              <a:rPr b="0" lang="pl-PL" sz="2000" spc="-1" strike="noStrike">
                <a:solidFill>
                  <a:srgbClr val="898989"/>
                </a:solidFill>
                <a:latin typeface="Calibri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często przy porównywaniu danych masz do czynienia z liczbami wyrażonymi w różny sposób. Mogą się różni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zaokrąglony 5"/>
          <p:cNvSpPr/>
          <p:nvPr/>
        </p:nvSpPr>
        <p:spPr>
          <a:xfrm>
            <a:off x="2819520" y="243828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nazewnictwem: 1 000 000 000 to amerykański bilion (krótka skala) i nasz miliard (długa ska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zaokrąglony 6"/>
          <p:cNvSpPr/>
          <p:nvPr/>
        </p:nvSpPr>
        <p:spPr>
          <a:xfrm>
            <a:off x="2286000" y="3581280"/>
            <a:ext cx="594360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Times New Roman CE"/>
              </a:rPr>
              <a:t>typografią (czyli sposobem zapisu): w języku polskim możemy oddzielać spacjami grupy trzycyfrowe, czyli 17124 albo 17 124; natomiast w języku angielskim stosujemy przecinki, czyli 17,124. W języku polskim przecinek, dzieli część całkowitą liczby oraz część ułamkową, czyli 17 124,5; w języku angielskim w tym celu stosuje się kropkę, czyli 17,124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55:49Z</dcterms:modified>
  <cp:revision>66</cp:revision>
  <dc:subject/>
  <dc:title>Slajd 1</dc:title>
</cp:coreProperties>
</file>