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56C-8126-42C5-8D5B-397E19D4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762-6634-4840-ADAE-303E2CB0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E20-27FA-482F-8C7D-B1D50994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D90-7910-4821-A30A-6E5AD397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D4A-D54C-45FC-B53F-F3EFC99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C96-92A8-44AF-9040-785852A7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7C3-4AB1-48AB-A810-E4A8DFF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3EB-1531-44B1-9623-15BBA4F0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FB8-FD8B-4E3C-99E4-6E594E65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7DB-7BA5-42F4-A8BC-3CCE5633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250-94CA-4EE0-A7E6-11D99A6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33E-B4E1-40B5-BED0-C3A7F97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CA14-BC54-4CBB-BF02-B9107CFC42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3495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2514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60948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159084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33720" y="4572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 W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ater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and M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nerals 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133720" y="161928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hotosynthes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33720" y="2610000"/>
            <a:ext cx="4190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eproduction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35845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gh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7915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80880" y="6934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0880" y="5029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80880" y="6010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33720" y="48769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W………………………….. and M…………………………….. 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133720" y="60390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133720" y="702936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……………………………………….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133720" y="800424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…………………………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Łącznik prosty ze strzałką 18"/>
          <p:cNvCxnSpPr>
            <a:stCxn id="43" idx="3"/>
            <a:endCxn id="47" idx="1"/>
          </p:cNvCxnSpPr>
          <p:nvPr/>
        </p:nvCxnSpPr>
        <p:spPr>
          <a:xfrm>
            <a:off x="1676520" y="732600"/>
            <a:ext cx="457560" cy="20008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Łącznik prosty ze strzałką 20"/>
          <p:cNvCxnSpPr/>
          <p:nvPr/>
        </p:nvCxnSpPr>
        <p:spPr>
          <a:xfrm>
            <a:off x="1641960" y="2000160"/>
            <a:ext cx="500760" cy="1858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9" name="Łącznik prosty ze strzałką 22"/>
          <p:cNvCxnSpPr>
            <a:endCxn id="46" idx="1"/>
          </p:cNvCxnSpPr>
          <p:nvPr/>
        </p:nvCxnSpPr>
        <p:spPr>
          <a:xfrm flipV="1">
            <a:off x="1642680" y="1818360"/>
            <a:ext cx="491400" cy="10396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0" name="Łącznik prosty ze strzałką 24"/>
          <p:cNvCxnSpPr>
            <a:stCxn id="41" idx="3"/>
          </p:cNvCxnSpPr>
          <p:nvPr/>
        </p:nvCxnSpPr>
        <p:spPr>
          <a:xfrm flipV="1">
            <a:off x="1676520" y="785160"/>
            <a:ext cx="396000" cy="28339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1:22:13Z</dcterms:created>
  <dc:creator>Gemma Young</dc:creator>
  <dc:description/>
  <dc:language>en-US</dc:language>
  <cp:lastModifiedBy>oskar jaskiewicz</cp:lastModifiedBy>
  <dcterms:modified xsi:type="dcterms:W3CDTF">2014-08-20T06:35:57Z</dcterms:modified>
  <cp:revision>5</cp:revision>
  <dc:subject/>
  <dc:title>PowerPoint Presentation</dc:title>
</cp:coreProperties>
</file>